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CDC7-2B58-4ECD-B731-4164125E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79BB-6BC2-4524-8323-B0A55C00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7622-F111-4FF9-8045-925CABB1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2E9C-9087-4851-B98A-AF48CF40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A3F0-52E0-475A-A391-7A597C8C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6ED8-2CEA-45CE-9A08-556477DE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B01E-BF32-4302-BF50-4BCC2A38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95DF-435A-4A58-970E-FE7A7407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7257-0431-400B-B4D6-73D5D78E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1EBC-ECDE-42F6-84BB-7CF31A65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6A0B-3952-4611-B9B6-7F496CE0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56F1-CCEF-40B5-B117-8C0607CA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0237-CFBC-4430-B470-C90AF94A6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054080"/>
            <a:ext cx="77724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obabilistic Roadmaps for Path Planning in High-Dimensional Configuration Spaces (1996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. Kavraki, P. Švestk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J.-C. Latombe, M. Overm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5907240"/>
            <a:ext cx="60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resented by Miler Lee, 15 April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36440"/>
            <a:ext cx="60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CS 326A: Motion Plan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57200" y="1364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M algorithm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1219320"/>
            <a:ext cx="80773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0c0c0"/>
                </a:solidFill>
                <a:latin typeface="Arial"/>
              </a:rPr>
              <a:t>Learning Ph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ruction step: randomly generate nodes and ed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0c0c0"/>
                </a:solidFill>
                <a:latin typeface="Arial"/>
              </a:rPr>
              <a:t>Expansion step: improve graph connectivity in “difficult” reg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0c0c0"/>
                </a:solidFill>
                <a:latin typeface="Arial"/>
              </a:rPr>
              <a:t>Query Ph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57200" y="13644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Learning: construction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219320"/>
            <a:ext cx="807732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R = (N, 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egin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 random free configuration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generated and added to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a. Candidate neighbors t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partitioned from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b. Edges are created between these neighbors and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uch that acyclicity is preser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Repeat 2-3 until “d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13644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Learning: construction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1219320"/>
            <a:ext cx="807732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1. </a:t>
            </a:r>
            <a:r>
              <a:rPr b="1" i="1" lang="en-US" sz="3200" spc="-1" strike="noStrike">
                <a:solidFill>
                  <a:srgbClr val="c0c0c0"/>
                </a:solidFill>
                <a:latin typeface="Arial"/>
              </a:rPr>
              <a:t>R = (N, E)</a:t>
            </a: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  begin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 random free configuration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generated and added to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3a. Candidate neighbors to </a:t>
            </a:r>
            <a:r>
              <a:rPr b="1" i="1" lang="en-US" sz="3200" spc="-1" strike="noStrike">
                <a:solidFill>
                  <a:srgbClr val="c0c0c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 are partitioned from </a:t>
            </a:r>
            <a:r>
              <a:rPr b="1" i="1" lang="en-US" sz="3200" spc="-1" strike="noStrike">
                <a:solidFill>
                  <a:srgbClr val="c0c0c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3b. Edges are created between these neighbors and </a:t>
            </a:r>
            <a:r>
              <a:rPr b="1" i="1" lang="en-US" sz="3200" spc="-1" strike="noStrike">
                <a:solidFill>
                  <a:srgbClr val="c0c0c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, such that acyclicity is preser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4. Repeat 2-3 until “d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57200" y="13644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Generating random configu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12193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2. A random free configuration </a:t>
            </a: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 is generated and added to </a:t>
            </a: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7960" y="2476440"/>
            <a:ext cx="80773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ndom sampling over uniform probability distribution of values for each d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configuration is checked for collision (intersect obstacles, intersect self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57200" y="13644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Learning: construction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219320"/>
            <a:ext cx="807732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1. </a:t>
            </a:r>
            <a:r>
              <a:rPr b="1" i="1" lang="en-US" sz="3200" spc="-1" strike="noStrike">
                <a:solidFill>
                  <a:srgbClr val="c0c0c0"/>
                </a:solidFill>
                <a:latin typeface="Arial"/>
              </a:rPr>
              <a:t>R = (N, E)</a:t>
            </a: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  begin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2. A random free configuration </a:t>
            </a:r>
            <a:r>
              <a:rPr b="1" i="1" lang="en-US" sz="3200" spc="-1" strike="noStrike">
                <a:solidFill>
                  <a:srgbClr val="c0c0c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 is generated and added to </a:t>
            </a:r>
            <a:r>
              <a:rPr b="1" i="1" lang="en-US" sz="3200" spc="-1" strike="noStrike">
                <a:solidFill>
                  <a:srgbClr val="c0c0c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a. Candidate neighbors to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partitioned from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3b. Edges are created between these neighbors and </a:t>
            </a:r>
            <a:r>
              <a:rPr b="1" i="1" lang="en-US" sz="3200" spc="-1" strike="noStrike">
                <a:solidFill>
                  <a:srgbClr val="c0c0c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, such that acyclicity is preser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4. Repeat 2-3 until “d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13644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Neighbor s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1219320"/>
            <a:ext cx="768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3a. Candidate neighbors to </a:t>
            </a: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 are partitioned from </a:t>
            </a: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7960" y="248904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y want to consider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eighbors some maximum distance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maxdi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way from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according to a distance function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5079960"/>
            <a:ext cx="8077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= { c </a:t>
            </a:r>
            <a:r>
              <a:rPr b="1" lang="en-US" sz="36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N | D(c, c) </a:t>
            </a:r>
            <a:r>
              <a:rPr b="1" lang="en-US" sz="36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maxdist 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5079960"/>
            <a:ext cx="330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78440" y="5079960"/>
            <a:ext cx="33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57200" y="13644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Distance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9800" y="123192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hould reflect the chance that the local planner will fail to connect two nodes, e.g.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9040" y="345456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(c, n) = max  </a:t>
            </a: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||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x(n) - x(c) </a:t>
            </a: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98880" y="407664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9040" y="47242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x Euclidean distance between a point on the robot at the two 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57200" y="13644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Learning: construction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1219320"/>
            <a:ext cx="807732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1. </a:t>
            </a:r>
            <a:r>
              <a:rPr b="1" i="1" lang="en-US" sz="3200" spc="-1" strike="noStrike">
                <a:solidFill>
                  <a:srgbClr val="c0c0c0"/>
                </a:solidFill>
                <a:latin typeface="Arial"/>
              </a:rPr>
              <a:t>R = (N, E)</a:t>
            </a: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  begin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2. A random free configuration </a:t>
            </a:r>
            <a:r>
              <a:rPr b="1" i="1" lang="en-US" sz="3200" spc="-1" strike="noStrike">
                <a:solidFill>
                  <a:srgbClr val="c0c0c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 is generated and added to </a:t>
            </a:r>
            <a:r>
              <a:rPr b="1" i="1" lang="en-US" sz="3200" spc="-1" strike="noStrike">
                <a:solidFill>
                  <a:srgbClr val="c0c0c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3a. Candidate neighbors to </a:t>
            </a:r>
            <a:r>
              <a:rPr b="1" i="1" lang="en-US" sz="3200" spc="-1" strike="noStrike">
                <a:solidFill>
                  <a:srgbClr val="c0c0c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 are partitioned from </a:t>
            </a:r>
            <a:r>
              <a:rPr b="1" i="1" lang="en-US" sz="3200" spc="-1" strike="noStrike">
                <a:solidFill>
                  <a:srgbClr val="c0c0c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b. Edges are created between these neighbors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uch that acyclicity is preser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4. Repeat 2-3 until “d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13644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Creating ed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12193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3b. Edges are created between these neighbors and </a:t>
            </a: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, such that acyclicity is preser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7960" y="2260440"/>
            <a:ext cx="80773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ighbors are considered in order of increasing distance from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des that are already in the same connected component of c at the time are igno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cal planner is used to determine whether a local path ex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57200" y="13644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Local plan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07960" y="1206360"/>
            <a:ext cx="80773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st when deterministic and fas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deterministic, then don’t have to store local pat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fast, calls are cheap (fast querying), but need denser graph because higher failure r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364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ath plan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219320"/>
            <a:ext cx="8077320" cy="44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w-dimensionality (= few dof) cases are easy, f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-dof situations problematic, due to computational / space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Solu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sacrifice completeness in favor of perform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57200" y="13644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General local plan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7960" y="1193760"/>
            <a:ext cx="8077320" cy="48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nnect the two configurations in C-space with a straight line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heck the joint 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iscretize the line segment into a sequence of configurations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i="1" lang="en-US" sz="2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, …,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 c</a:t>
            </a:r>
            <a:r>
              <a:rPr b="1" i="1" lang="en-US" sz="2800" spc="-1" strike="noStrike" baseline="-25000">
                <a:solidFill>
                  <a:srgbClr val="000066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for every       (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i="1" lang="en-US" sz="2800" spc="-1" strike="noStrike" baseline="-25000">
                <a:solidFill>
                  <a:srgbClr val="000066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 c</a:t>
            </a:r>
            <a:r>
              <a:rPr b="1" i="1" lang="en-US" sz="2800" spc="-1" strike="noStrike" baseline="-25000">
                <a:solidFill>
                  <a:srgbClr val="000066"/>
                </a:solidFill>
                <a:latin typeface="Arial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no point on the robot at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i="1" lang="en-US" sz="2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es further than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way from its position at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i="1" lang="en-US" sz="2800" spc="-1" strike="noStrike" baseline="-25000">
                <a:solidFill>
                  <a:srgbClr val="000066"/>
                </a:solidFill>
                <a:latin typeface="Arial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or each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i="1" lang="en-US" sz="2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grow robot by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heck for coll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57200" y="136440"/>
            <a:ext cx="654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Construction step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9304400">
            <a:off x="5562360" y="4276440"/>
            <a:ext cx="1752480" cy="838080"/>
          </a:xfrm>
          <a:custGeom>
            <a:avLst/>
            <a:gdLst>
              <a:gd name="textAreaLeft" fmla="*/ 406440 w 1752480"/>
              <a:gd name="textAreaRight" fmla="*/ 1346040 w 1752480"/>
              <a:gd name="textAreaTop" fmla="*/ 194400 h 838080"/>
              <a:gd name="textAreaBottom" fmla="*/ 643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30" y="21600"/>
                </a:lnTo>
                <a:lnTo>
                  <a:pt x="587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2629080"/>
            <a:ext cx="63244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309000">
            <a:off x="2590560" y="4457520"/>
            <a:ext cx="1752480" cy="838080"/>
          </a:xfrm>
          <a:custGeom>
            <a:avLst/>
            <a:gdLst>
              <a:gd name="textAreaLeft" fmla="*/ 141840 w 1752480"/>
              <a:gd name="textAreaRight" fmla="*/ 1610640 w 1752480"/>
              <a:gd name="textAreaTop" fmla="*/ 67680 h 838080"/>
              <a:gd name="textAreaBottom" fmla="*/ 7704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21046200">
            <a:off x="4191120" y="3543120"/>
            <a:ext cx="3047760" cy="304560"/>
          </a:xfrm>
          <a:custGeom>
            <a:avLst/>
            <a:gdLst>
              <a:gd name="textAreaLeft" fmla="*/ 246600 w 3047760"/>
              <a:gd name="textAreaRight" fmla="*/ 2801160 w 3047760"/>
              <a:gd name="textAreaTop" fmla="*/ 24480 h 304560"/>
              <a:gd name="textAreaBottom" fmla="*/ 280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28800" y="308628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81080" y="39243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19720" y="308628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52480" y="52959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72200" y="293364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422928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5880" y="400068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05520" y="544824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9596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544824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5120" y="3238560"/>
            <a:ext cx="152280" cy="6858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828440" y="4076640"/>
            <a:ext cx="228600" cy="12193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5372280"/>
            <a:ext cx="1371600" cy="1522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2133720" y="3467160"/>
            <a:ext cx="1143000" cy="533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00400" y="34290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257800" y="5400720"/>
            <a:ext cx="1695600" cy="133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7039080" y="4371480"/>
            <a:ext cx="333360" cy="9334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343320" y="3191040"/>
            <a:ext cx="1095480" cy="2570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572000" y="3018960"/>
            <a:ext cx="1600200" cy="133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12193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after several iteration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60640" y="412740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40080" y="3571920"/>
            <a:ext cx="549360" cy="600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16400" y="5524560"/>
            <a:ext cx="17272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36440"/>
            <a:ext cx="654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Construction step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9304400">
            <a:off x="5562360" y="4276440"/>
            <a:ext cx="1752480" cy="838080"/>
          </a:xfrm>
          <a:custGeom>
            <a:avLst/>
            <a:gdLst>
              <a:gd name="textAreaLeft" fmla="*/ 406440 w 1752480"/>
              <a:gd name="textAreaRight" fmla="*/ 1346040 w 1752480"/>
              <a:gd name="textAreaTop" fmla="*/ 194400 h 838080"/>
              <a:gd name="textAreaBottom" fmla="*/ 643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30" y="21600"/>
                </a:lnTo>
                <a:lnTo>
                  <a:pt x="587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47920" y="2629080"/>
            <a:ext cx="63244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309000">
            <a:off x="2590560" y="4457520"/>
            <a:ext cx="1752480" cy="838080"/>
          </a:xfrm>
          <a:custGeom>
            <a:avLst/>
            <a:gdLst>
              <a:gd name="textAreaLeft" fmla="*/ 141840 w 1752480"/>
              <a:gd name="textAreaRight" fmla="*/ 1610640 w 1752480"/>
              <a:gd name="textAreaTop" fmla="*/ 67680 h 838080"/>
              <a:gd name="textAreaBottom" fmla="*/ 7704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21046200">
            <a:off x="4191120" y="3543120"/>
            <a:ext cx="3047760" cy="304560"/>
          </a:xfrm>
          <a:custGeom>
            <a:avLst/>
            <a:gdLst>
              <a:gd name="textAreaLeft" fmla="*/ 246600 w 3047760"/>
              <a:gd name="textAreaRight" fmla="*/ 2801160 w 3047760"/>
              <a:gd name="textAreaTop" fmla="*/ 24480 h 304560"/>
              <a:gd name="textAreaBottom" fmla="*/ 280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308628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39243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19720" y="308628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52480" y="52959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72200" y="293364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15200" y="422928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5880" y="400068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05520" y="544824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34320" y="529596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76720" y="544824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3238560"/>
            <a:ext cx="152280" cy="6858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828440" y="4076640"/>
            <a:ext cx="228600" cy="12193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05120" y="5372280"/>
            <a:ext cx="1371600" cy="1522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2133720" y="3467160"/>
            <a:ext cx="1143000" cy="533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34290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257800" y="5400720"/>
            <a:ext cx="1695600" cy="133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7039080" y="4371480"/>
            <a:ext cx="333360" cy="9334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343320" y="3191040"/>
            <a:ext cx="1095480" cy="2570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572000" y="3018960"/>
            <a:ext cx="1600200" cy="133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" y="12193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 random free configuration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generated and added to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60640" y="412740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340080" y="3571920"/>
            <a:ext cx="549360" cy="600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13200" y="4229280"/>
            <a:ext cx="15264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16400" y="5524560"/>
            <a:ext cx="17272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4140360"/>
            <a:ext cx="3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57200" y="136440"/>
            <a:ext cx="654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Construction step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9304400">
            <a:off x="5562360" y="4276440"/>
            <a:ext cx="1752480" cy="838080"/>
          </a:xfrm>
          <a:custGeom>
            <a:avLst/>
            <a:gdLst>
              <a:gd name="textAreaLeft" fmla="*/ 406440 w 1752480"/>
              <a:gd name="textAreaRight" fmla="*/ 1346040 w 1752480"/>
              <a:gd name="textAreaTop" fmla="*/ 194400 h 838080"/>
              <a:gd name="textAreaBottom" fmla="*/ 643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30" y="21600"/>
                </a:lnTo>
                <a:lnTo>
                  <a:pt x="587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47920" y="2629080"/>
            <a:ext cx="63244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309000">
            <a:off x="2590560" y="4457520"/>
            <a:ext cx="1752480" cy="838080"/>
          </a:xfrm>
          <a:custGeom>
            <a:avLst/>
            <a:gdLst>
              <a:gd name="textAreaLeft" fmla="*/ 141840 w 1752480"/>
              <a:gd name="textAreaRight" fmla="*/ 1610640 w 1752480"/>
              <a:gd name="textAreaTop" fmla="*/ 67680 h 838080"/>
              <a:gd name="textAreaBottom" fmla="*/ 7704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21046200">
            <a:off x="4191120" y="3543120"/>
            <a:ext cx="3047760" cy="304560"/>
          </a:xfrm>
          <a:custGeom>
            <a:avLst/>
            <a:gdLst>
              <a:gd name="textAreaLeft" fmla="*/ 246600 w 3047760"/>
              <a:gd name="textAreaRight" fmla="*/ 2801160 w 3047760"/>
              <a:gd name="textAreaTop" fmla="*/ 24480 h 304560"/>
              <a:gd name="textAreaBottom" fmla="*/ 280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308628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981080" y="39243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19720" y="30862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52480" y="52959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293364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15200" y="422928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95880" y="400068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05520" y="54482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529596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76720" y="544824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05120" y="3238560"/>
            <a:ext cx="152280" cy="6858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828440" y="4076640"/>
            <a:ext cx="228600" cy="12193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05120" y="5372280"/>
            <a:ext cx="1371600" cy="1522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2133720" y="3467160"/>
            <a:ext cx="1143000" cy="533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200400" y="34290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5257800" y="5400720"/>
            <a:ext cx="1695600" cy="133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7039080" y="4371480"/>
            <a:ext cx="333360" cy="9334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343320" y="3191040"/>
            <a:ext cx="1095480" cy="2570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572000" y="3018960"/>
            <a:ext cx="1600200" cy="133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" y="1219320"/>
            <a:ext cx="789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. Candidate neighbors to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partitioned from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60640" y="4127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340080" y="3571920"/>
            <a:ext cx="549360" cy="600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813200" y="4229280"/>
            <a:ext cx="15264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16400" y="5524560"/>
            <a:ext cx="17272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479760" y="2857680"/>
            <a:ext cx="2819520" cy="2819160"/>
          </a:xfrm>
          <a:prstGeom prst="ellipse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52880" y="4140360"/>
            <a:ext cx="3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57200" y="136440"/>
            <a:ext cx="654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Construction step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19304400">
            <a:off x="5562360" y="4276440"/>
            <a:ext cx="1752480" cy="838080"/>
          </a:xfrm>
          <a:custGeom>
            <a:avLst/>
            <a:gdLst>
              <a:gd name="textAreaLeft" fmla="*/ 406440 w 1752480"/>
              <a:gd name="textAreaRight" fmla="*/ 1346040 w 1752480"/>
              <a:gd name="textAreaTop" fmla="*/ 194400 h 838080"/>
              <a:gd name="textAreaBottom" fmla="*/ 643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30" y="21600"/>
                </a:lnTo>
                <a:lnTo>
                  <a:pt x="587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47920" y="2629080"/>
            <a:ext cx="63244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309000">
            <a:off x="2590560" y="4457520"/>
            <a:ext cx="1752480" cy="838080"/>
          </a:xfrm>
          <a:custGeom>
            <a:avLst/>
            <a:gdLst>
              <a:gd name="textAreaLeft" fmla="*/ 141840 w 1752480"/>
              <a:gd name="textAreaRight" fmla="*/ 1610640 w 1752480"/>
              <a:gd name="textAreaTop" fmla="*/ 67680 h 838080"/>
              <a:gd name="textAreaBottom" fmla="*/ 7704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21046200">
            <a:off x="4191120" y="3543120"/>
            <a:ext cx="3047760" cy="304560"/>
          </a:xfrm>
          <a:custGeom>
            <a:avLst/>
            <a:gdLst>
              <a:gd name="textAreaLeft" fmla="*/ 246600 w 3047760"/>
              <a:gd name="textAreaRight" fmla="*/ 2801160 w 3047760"/>
              <a:gd name="textAreaTop" fmla="*/ 24480 h 304560"/>
              <a:gd name="textAreaBottom" fmla="*/ 280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28800" y="308628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81080" y="39243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19720" y="30862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752480" y="52959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172200" y="293364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15200" y="422928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5880" y="400068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05520" y="54482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34320" y="529596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76720" y="544824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3238560"/>
            <a:ext cx="152280" cy="6858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828440" y="4076640"/>
            <a:ext cx="228600" cy="12193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05120" y="5372280"/>
            <a:ext cx="1371600" cy="1522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2133720" y="3467160"/>
            <a:ext cx="1143000" cy="533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00400" y="34290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257800" y="5400720"/>
            <a:ext cx="1695600" cy="133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7039080" y="4371480"/>
            <a:ext cx="333360" cy="9334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343320" y="3191040"/>
            <a:ext cx="1095480" cy="2570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4572000" y="3018960"/>
            <a:ext cx="1600200" cy="133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" y="1219320"/>
            <a:ext cx="789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b. Edges are created between these neighbors and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uch that acyclicity is preser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60640" y="4127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40080" y="3571920"/>
            <a:ext cx="549360" cy="600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13200" y="4229280"/>
            <a:ext cx="15264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416400" y="5524560"/>
            <a:ext cx="17272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52880" y="4140360"/>
            <a:ext cx="3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13280" y="4216320"/>
            <a:ext cx="812880" cy="88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457200" y="136440"/>
            <a:ext cx="654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Construction step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19304400">
            <a:off x="5562360" y="4276440"/>
            <a:ext cx="1752480" cy="838080"/>
          </a:xfrm>
          <a:custGeom>
            <a:avLst/>
            <a:gdLst>
              <a:gd name="textAreaLeft" fmla="*/ 406440 w 1752480"/>
              <a:gd name="textAreaRight" fmla="*/ 1346040 w 1752480"/>
              <a:gd name="textAreaTop" fmla="*/ 194400 h 838080"/>
              <a:gd name="textAreaBottom" fmla="*/ 643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30" y="21600"/>
                </a:lnTo>
                <a:lnTo>
                  <a:pt x="587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2629080"/>
            <a:ext cx="63244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309000">
            <a:off x="2590560" y="4457520"/>
            <a:ext cx="1752480" cy="838080"/>
          </a:xfrm>
          <a:custGeom>
            <a:avLst/>
            <a:gdLst>
              <a:gd name="textAreaLeft" fmla="*/ 141840 w 1752480"/>
              <a:gd name="textAreaRight" fmla="*/ 1610640 w 1752480"/>
              <a:gd name="textAreaTop" fmla="*/ 67680 h 838080"/>
              <a:gd name="textAreaBottom" fmla="*/ 7704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1046200">
            <a:off x="4191120" y="3543120"/>
            <a:ext cx="3047760" cy="304560"/>
          </a:xfrm>
          <a:custGeom>
            <a:avLst/>
            <a:gdLst>
              <a:gd name="textAreaLeft" fmla="*/ 246600 w 3047760"/>
              <a:gd name="textAreaRight" fmla="*/ 2801160 w 3047760"/>
              <a:gd name="textAreaTop" fmla="*/ 24480 h 304560"/>
              <a:gd name="textAreaBottom" fmla="*/ 280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28800" y="308628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81080" y="39243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19720" y="30862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752480" y="52959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72200" y="293364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315200" y="422928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5880" y="400068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105520" y="54482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529596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44824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905120" y="3238560"/>
            <a:ext cx="152280" cy="6858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1828440" y="4076640"/>
            <a:ext cx="228600" cy="12193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905120" y="5372280"/>
            <a:ext cx="1371600" cy="1522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2133720" y="3467160"/>
            <a:ext cx="1143000" cy="533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200400" y="34290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5257800" y="5400720"/>
            <a:ext cx="1695600" cy="133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39080" y="4371480"/>
            <a:ext cx="333360" cy="9334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3343320" y="3191040"/>
            <a:ext cx="1095480" cy="2570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4572000" y="3018960"/>
            <a:ext cx="1600200" cy="133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1219320"/>
            <a:ext cx="789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b. Edges are created between these neighbors and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uch that acyclicity is preser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60640" y="4127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40080" y="3571920"/>
            <a:ext cx="549360" cy="600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813200" y="4229280"/>
            <a:ext cx="15264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416400" y="5524560"/>
            <a:ext cx="17272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52880" y="4140360"/>
            <a:ext cx="3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013280" y="4216320"/>
            <a:ext cx="812880" cy="88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4965840" y="4101840"/>
            <a:ext cx="1130040" cy="1904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457200" y="1364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M algorithm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" y="1219320"/>
            <a:ext cx="80773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0c0c0"/>
                </a:solidFill>
                <a:latin typeface="Arial"/>
              </a:rPr>
              <a:t>Learning Ph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0c0c0"/>
                </a:solidFill>
                <a:latin typeface="Arial"/>
              </a:rPr>
              <a:t>Construction step: randomly generate nodes and ed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ansion step: improve graph connectivity in “difficult” reg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0c0c0"/>
                </a:solidFill>
                <a:latin typeface="Arial"/>
              </a:rPr>
              <a:t>Query Ph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457200" y="1364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Expansion st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1117440"/>
            <a:ext cx="817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: construction step generates uniform covering of free C- space, might fail to capture connectivity of narrow pass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9304400">
            <a:off x="5448240" y="5165280"/>
            <a:ext cx="1752840" cy="838440"/>
          </a:xfrm>
          <a:custGeom>
            <a:avLst/>
            <a:gdLst>
              <a:gd name="textAreaLeft" fmla="*/ 406440 w 1752840"/>
              <a:gd name="textAreaRight" fmla="*/ 1346400 w 1752840"/>
              <a:gd name="textAreaTop" fmla="*/ 194400 h 838440"/>
              <a:gd name="textAreaBottom" fmla="*/ 644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30" y="21600"/>
                </a:lnTo>
                <a:lnTo>
                  <a:pt x="587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47920" y="3530520"/>
            <a:ext cx="6324480" cy="3124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921600">
            <a:off x="2831760" y="5460840"/>
            <a:ext cx="1752480" cy="838440"/>
          </a:xfrm>
          <a:custGeom>
            <a:avLst/>
            <a:gdLst>
              <a:gd name="textAreaLeft" fmla="*/ 141840 w 1752480"/>
              <a:gd name="textAreaRight" fmla="*/ 1610640 w 1752480"/>
              <a:gd name="textAreaTop" fmla="*/ 67680 h 838440"/>
              <a:gd name="textAreaBottom" fmla="*/ 77076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21046200">
            <a:off x="4191120" y="4444560"/>
            <a:ext cx="3047760" cy="304920"/>
          </a:xfrm>
          <a:custGeom>
            <a:avLst/>
            <a:gdLst>
              <a:gd name="textAreaLeft" fmla="*/ 246600 w 3047760"/>
              <a:gd name="textAreaRight" fmla="*/ 2801160 w 3047760"/>
              <a:gd name="textAreaTop" fmla="*/ 24480 h 304920"/>
              <a:gd name="textAreaBottom" fmla="*/ 2804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828800" y="398772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48261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19720" y="398772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752480" y="61977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172200" y="383544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315200" y="513072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95880" y="490212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91320" y="612144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934320" y="619776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895480" y="64389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05120" y="4140360"/>
            <a:ext cx="152280" cy="6858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1828440" y="4978440"/>
            <a:ext cx="228600" cy="12193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05120" y="6273720"/>
            <a:ext cx="1015920" cy="2286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133720" y="4368600"/>
            <a:ext cx="1143000" cy="5331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200400" y="43308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956200" y="6232680"/>
            <a:ext cx="997200" cy="698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7039080" y="5273280"/>
            <a:ext cx="333360" cy="9334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3343320" y="4092120"/>
            <a:ext cx="1095480" cy="2574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4572000" y="3921120"/>
            <a:ext cx="1600200" cy="133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813200" y="513072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4956120" y="5019840"/>
            <a:ext cx="1158840" cy="1807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457200" y="1364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Expansion st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" y="1117440"/>
            <a:ext cx="817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ution: improve graph connectivity in “difficult” areas, measured heuristica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19304400">
            <a:off x="5448240" y="5165280"/>
            <a:ext cx="1752840" cy="838440"/>
          </a:xfrm>
          <a:custGeom>
            <a:avLst/>
            <a:gdLst>
              <a:gd name="textAreaLeft" fmla="*/ 406440 w 1752840"/>
              <a:gd name="textAreaRight" fmla="*/ 1346400 w 1752840"/>
              <a:gd name="textAreaTop" fmla="*/ 194400 h 838440"/>
              <a:gd name="textAreaBottom" fmla="*/ 644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30" y="21600"/>
                </a:lnTo>
                <a:lnTo>
                  <a:pt x="587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3530520"/>
            <a:ext cx="6324480" cy="3124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rot="921600">
            <a:off x="2831760" y="5460840"/>
            <a:ext cx="1752480" cy="838440"/>
          </a:xfrm>
          <a:custGeom>
            <a:avLst/>
            <a:gdLst>
              <a:gd name="textAreaLeft" fmla="*/ 141840 w 1752480"/>
              <a:gd name="textAreaRight" fmla="*/ 1610640 w 1752480"/>
              <a:gd name="textAreaTop" fmla="*/ 67680 h 838440"/>
              <a:gd name="textAreaBottom" fmla="*/ 77076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21046200">
            <a:off x="4191120" y="4444560"/>
            <a:ext cx="3047760" cy="304920"/>
          </a:xfrm>
          <a:custGeom>
            <a:avLst/>
            <a:gdLst>
              <a:gd name="textAreaLeft" fmla="*/ 246600 w 3047760"/>
              <a:gd name="textAreaRight" fmla="*/ 2801160 w 3047760"/>
              <a:gd name="textAreaTop" fmla="*/ 24480 h 304920"/>
              <a:gd name="textAreaBottom" fmla="*/ 2804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398772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981080" y="48261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19720" y="398772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752480" y="61977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72200" y="383544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315200" y="513072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95880" y="490212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91320" y="612144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934320" y="619776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95480" y="64389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905120" y="4140360"/>
            <a:ext cx="152280" cy="6858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828440" y="4978440"/>
            <a:ext cx="228600" cy="12193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05120" y="6273720"/>
            <a:ext cx="1015920" cy="2286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133720" y="4368600"/>
            <a:ext cx="1143000" cy="5331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200400" y="43308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56200" y="6232680"/>
            <a:ext cx="997200" cy="698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7039080" y="5273280"/>
            <a:ext cx="333360" cy="9334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343320" y="4092120"/>
            <a:ext cx="1095480" cy="2574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4572000" y="3921120"/>
            <a:ext cx="1600200" cy="133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13200" y="513072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4956120" y="5019840"/>
            <a:ext cx="1158840" cy="1807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715000" y="3708360"/>
            <a:ext cx="2197080" cy="2197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26360" y="4673520"/>
            <a:ext cx="117360" cy="114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2480" y="4597560"/>
            <a:ext cx="117360" cy="114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940440" y="4721400"/>
            <a:ext cx="117720" cy="114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6229440" y="4771800"/>
            <a:ext cx="218880" cy="1616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6543720" y="4667400"/>
            <a:ext cx="171360" cy="47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039080" y="4829040"/>
            <a:ext cx="295200" cy="324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19840" y="4676760"/>
            <a:ext cx="133560" cy="763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57200" y="13644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Expansion st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07960" y="1193760"/>
            <a:ext cx="83566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ssociate each node c with a positive weight w(c), that is a heuristic measure of the “difficulty” of the region around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Normalize all w(c) so they sum to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a. Select c such t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c is selected) = w(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b. “Expand” c using a random-bounce w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Repeat 2-3 until “d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364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babilistic roadma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2193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Ms don’t represent the enti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 configuration space, but rather a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roadma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rough 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9304400">
            <a:off x="5562720" y="5076360"/>
            <a:ext cx="1752480" cy="838440"/>
          </a:xfrm>
          <a:custGeom>
            <a:avLst/>
            <a:gdLst>
              <a:gd name="textAreaLeft" fmla="*/ 406440 w 1752480"/>
              <a:gd name="textAreaRight" fmla="*/ 1346040 w 1752480"/>
              <a:gd name="textAreaTop" fmla="*/ 194400 h 838440"/>
              <a:gd name="textAreaBottom" fmla="*/ 644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30" y="21600"/>
                </a:lnTo>
                <a:lnTo>
                  <a:pt x="587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3429000"/>
            <a:ext cx="63244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309000">
            <a:off x="2590560" y="5257440"/>
            <a:ext cx="1752480" cy="838080"/>
          </a:xfrm>
          <a:custGeom>
            <a:avLst/>
            <a:gdLst>
              <a:gd name="textAreaLeft" fmla="*/ 141840 w 1752480"/>
              <a:gd name="textAreaRight" fmla="*/ 1610640 w 1752480"/>
              <a:gd name="textAreaTop" fmla="*/ 67680 h 838080"/>
              <a:gd name="textAreaBottom" fmla="*/ 7704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1046200">
            <a:off x="4191120" y="4343040"/>
            <a:ext cx="3047760" cy="304920"/>
          </a:xfrm>
          <a:custGeom>
            <a:avLst/>
            <a:gdLst>
              <a:gd name="textAreaLeft" fmla="*/ 246600 w 3047760"/>
              <a:gd name="textAreaRight" fmla="*/ 2801160 w 3047760"/>
              <a:gd name="textAreaTop" fmla="*/ 24480 h 304920"/>
              <a:gd name="textAreaBottom" fmla="*/ 2804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457200" y="13644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Expansion st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07960" y="1193760"/>
            <a:ext cx="83566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ssociate each node c with a positive weight w(c), that is a heuristic measure of the “difficulty” of the region around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2. Normalize all w(c) so they sum to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3a. Select c such that</a:t>
            </a: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P(c is selected) = w(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3b. “Expand” c using a random-bounce w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4. Repeat 2-3 until “d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457200" y="13644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Heuristic weight fun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57200" y="121932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1. Associate each node c with a positive weight w(c), that is a heuristic measure of the “difficulty” of the region arou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07960" y="2679840"/>
            <a:ext cx="7759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nt number of nodes some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istance from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 at distance from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nearest connected sub-graph not connected to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failure rate of local plann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457200" y="13644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Expansion st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7960" y="1193760"/>
            <a:ext cx="83566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1. Associate each node c with a positive weight w(c), that is a heuristic measure of the “difficulty” of the region around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2. Normalize all w(c) so they sum to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3a. Select c such that</a:t>
            </a: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P(c is selected) = w(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b. “Expand” c using a random-bounce w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4. Repeat 2-3 until “d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457200" y="13644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Random-bounce wal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" y="12193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3b. “Expand” c using a random-bounce 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07960" y="1905120"/>
            <a:ext cx="77598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a. Pick a random direction of motion in C-space, move in this direction from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b. If collision occurs, pick a new direction and conti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final configuration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 edge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inserted into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ttempt to connect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other nodes using the construction step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457200" y="13644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Random-bounce wal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7200" y="12193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3b. “Expand” c using a random-bounce 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07960" y="1905120"/>
            <a:ext cx="77598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h between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ust be stored, since process is non-determinist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st case reduces the number of disjoint components of the graph; worst case keeps this number const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457200" y="1364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Expansion step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19304400">
            <a:off x="5447880" y="3946320"/>
            <a:ext cx="1752840" cy="838080"/>
          </a:xfrm>
          <a:custGeom>
            <a:avLst/>
            <a:gdLst>
              <a:gd name="textAreaLeft" fmla="*/ 406440 w 1752840"/>
              <a:gd name="textAreaRight" fmla="*/ 1346400 w 1752840"/>
              <a:gd name="textAreaTop" fmla="*/ 194400 h 838080"/>
              <a:gd name="textAreaBottom" fmla="*/ 643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30" y="21600"/>
                </a:lnTo>
                <a:lnTo>
                  <a:pt x="587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447920" y="2311560"/>
            <a:ext cx="63244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rot="921600">
            <a:off x="2831760" y="4241880"/>
            <a:ext cx="1752480" cy="838080"/>
          </a:xfrm>
          <a:custGeom>
            <a:avLst/>
            <a:gdLst>
              <a:gd name="textAreaLeft" fmla="*/ 141840 w 1752480"/>
              <a:gd name="textAreaRight" fmla="*/ 1610640 w 1752480"/>
              <a:gd name="textAreaTop" fmla="*/ 67680 h 838080"/>
              <a:gd name="textAreaBottom" fmla="*/ 7704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21046200">
            <a:off x="4191120" y="3225600"/>
            <a:ext cx="3047760" cy="304560"/>
          </a:xfrm>
          <a:custGeom>
            <a:avLst/>
            <a:gdLst>
              <a:gd name="textAreaLeft" fmla="*/ 246600 w 3047760"/>
              <a:gd name="textAreaRight" fmla="*/ 2801160 w 3047760"/>
              <a:gd name="textAreaTop" fmla="*/ 24480 h 304560"/>
              <a:gd name="textAreaBottom" fmla="*/ 280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828800" y="276876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81080" y="360684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19720" y="276876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752480" y="497844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61612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15200" y="391176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95880" y="36831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791320" y="490212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934320" y="497844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895480" y="521964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05120" y="2921040"/>
            <a:ext cx="152280" cy="6858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1828440" y="3759120"/>
            <a:ext cx="228600" cy="12193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05120" y="5054760"/>
            <a:ext cx="1015920" cy="2286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133720" y="3149640"/>
            <a:ext cx="1143000" cy="533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200400" y="311148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56200" y="5013360"/>
            <a:ext cx="997200" cy="698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7039080" y="4053960"/>
            <a:ext cx="333360" cy="9334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3343320" y="2873520"/>
            <a:ext cx="1095480" cy="2570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4572000" y="2701440"/>
            <a:ext cx="1600200" cy="133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813200" y="39117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4956120" y="3800160"/>
            <a:ext cx="1158840" cy="1810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57200" y="12193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after construction step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457200" y="1364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Expansion step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rot="19304400">
            <a:off x="5447880" y="3946320"/>
            <a:ext cx="1752840" cy="838080"/>
          </a:xfrm>
          <a:custGeom>
            <a:avLst/>
            <a:gdLst>
              <a:gd name="textAreaLeft" fmla="*/ 406440 w 1752840"/>
              <a:gd name="textAreaRight" fmla="*/ 1346400 w 1752840"/>
              <a:gd name="textAreaTop" fmla="*/ 194400 h 838080"/>
              <a:gd name="textAreaBottom" fmla="*/ 643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30" y="21600"/>
                </a:lnTo>
                <a:lnTo>
                  <a:pt x="587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447920" y="2311560"/>
            <a:ext cx="63244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921600">
            <a:off x="2831760" y="4241880"/>
            <a:ext cx="1752480" cy="838080"/>
          </a:xfrm>
          <a:custGeom>
            <a:avLst/>
            <a:gdLst>
              <a:gd name="textAreaLeft" fmla="*/ 141840 w 1752480"/>
              <a:gd name="textAreaRight" fmla="*/ 1610640 w 1752480"/>
              <a:gd name="textAreaTop" fmla="*/ 67680 h 838080"/>
              <a:gd name="textAreaBottom" fmla="*/ 7704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rot="21046200">
            <a:off x="4191120" y="3225600"/>
            <a:ext cx="3047760" cy="304560"/>
          </a:xfrm>
          <a:custGeom>
            <a:avLst/>
            <a:gdLst>
              <a:gd name="textAreaLeft" fmla="*/ 246600 w 3047760"/>
              <a:gd name="textAreaRight" fmla="*/ 2801160 w 3047760"/>
              <a:gd name="textAreaTop" fmla="*/ 24480 h 304560"/>
              <a:gd name="textAreaBottom" fmla="*/ 280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276876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981080" y="360684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19720" y="276876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752480" y="497844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172200" y="261612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315200" y="391176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095880" y="36831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490212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934320" y="497844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95480" y="521964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05120" y="2921040"/>
            <a:ext cx="152280" cy="6858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1828440" y="3759120"/>
            <a:ext cx="228600" cy="12193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905120" y="5054760"/>
            <a:ext cx="1015920" cy="2286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133720" y="3149640"/>
            <a:ext cx="1143000" cy="533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200400" y="311148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56200" y="5013360"/>
            <a:ext cx="997200" cy="698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039080" y="4053960"/>
            <a:ext cx="333360" cy="9334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3343320" y="2873520"/>
            <a:ext cx="1095480" cy="2570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572000" y="2701440"/>
            <a:ext cx="1600200" cy="133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813200" y="39117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4956120" y="3800160"/>
            <a:ext cx="1158840" cy="1810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57200" y="12193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. Select c 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c is selected) = w(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638360" y="247644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0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587600" y="35812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0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905120" y="481320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0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870280" y="28828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0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086280" y="51688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064040" y="248904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350040" y="254016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112160" y="361944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112160" y="49528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432320" y="383544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651640" y="507996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53160" y="35686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457200" y="1364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Expansion step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rot="19304400">
            <a:off x="5447880" y="3946320"/>
            <a:ext cx="1752840" cy="838080"/>
          </a:xfrm>
          <a:custGeom>
            <a:avLst/>
            <a:gdLst>
              <a:gd name="textAreaLeft" fmla="*/ 406440 w 1752840"/>
              <a:gd name="textAreaRight" fmla="*/ 1346400 w 1752840"/>
              <a:gd name="textAreaTop" fmla="*/ 194400 h 838080"/>
              <a:gd name="textAreaBottom" fmla="*/ 643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30" y="21600"/>
                </a:lnTo>
                <a:lnTo>
                  <a:pt x="587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2311560"/>
            <a:ext cx="63244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921600">
            <a:off x="2831760" y="4241880"/>
            <a:ext cx="1752480" cy="838080"/>
          </a:xfrm>
          <a:custGeom>
            <a:avLst/>
            <a:gdLst>
              <a:gd name="textAreaLeft" fmla="*/ 141840 w 1752480"/>
              <a:gd name="textAreaRight" fmla="*/ 1610640 w 1752480"/>
              <a:gd name="textAreaTop" fmla="*/ 67680 h 838080"/>
              <a:gd name="textAreaBottom" fmla="*/ 7704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rot="21046200">
            <a:off x="4191120" y="3225600"/>
            <a:ext cx="3047760" cy="304560"/>
          </a:xfrm>
          <a:custGeom>
            <a:avLst/>
            <a:gdLst>
              <a:gd name="textAreaLeft" fmla="*/ 246600 w 3047760"/>
              <a:gd name="textAreaRight" fmla="*/ 2801160 w 3047760"/>
              <a:gd name="textAreaTop" fmla="*/ 24480 h 304560"/>
              <a:gd name="textAreaBottom" fmla="*/ 280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828800" y="276876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981080" y="360684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419720" y="276876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52480" y="497844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72200" y="261612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315200" y="391176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095880" y="36831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791320" y="490212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934320" y="497844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895480" y="521964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905120" y="2921040"/>
            <a:ext cx="152280" cy="6858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1828440" y="3759120"/>
            <a:ext cx="228600" cy="12193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054760"/>
            <a:ext cx="1015920" cy="2286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2133720" y="3149640"/>
            <a:ext cx="1143000" cy="533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00400" y="311148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956200" y="5013360"/>
            <a:ext cx="997200" cy="698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7039080" y="4053960"/>
            <a:ext cx="333360" cy="9334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3343320" y="2873520"/>
            <a:ext cx="1095480" cy="2570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4572000" y="2701440"/>
            <a:ext cx="1600200" cy="133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813200" y="39117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4956120" y="3800160"/>
            <a:ext cx="1158840" cy="1810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57200" y="12193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. Select c 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c is selected) = w(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638360" y="247644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87600" y="35812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905120" y="481320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28828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086280" y="51688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64040" y="248904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350040" y="254016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112160" y="361944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112160" y="49528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32320" y="383544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651640" y="507996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753160" y="35686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457200" y="1364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Expansion step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rot="19304400">
            <a:off x="5447880" y="3946320"/>
            <a:ext cx="1752840" cy="838080"/>
          </a:xfrm>
          <a:custGeom>
            <a:avLst/>
            <a:gdLst>
              <a:gd name="textAreaLeft" fmla="*/ 406440 w 1752840"/>
              <a:gd name="textAreaRight" fmla="*/ 1346400 w 1752840"/>
              <a:gd name="textAreaTop" fmla="*/ 194400 h 838080"/>
              <a:gd name="textAreaBottom" fmla="*/ 643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30" y="21600"/>
                </a:lnTo>
                <a:lnTo>
                  <a:pt x="587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447920" y="2311560"/>
            <a:ext cx="63244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rot="921600">
            <a:off x="2831760" y="4241880"/>
            <a:ext cx="1752480" cy="838080"/>
          </a:xfrm>
          <a:custGeom>
            <a:avLst/>
            <a:gdLst>
              <a:gd name="textAreaLeft" fmla="*/ 141840 w 1752480"/>
              <a:gd name="textAreaRight" fmla="*/ 1610640 w 1752480"/>
              <a:gd name="textAreaTop" fmla="*/ 67680 h 838080"/>
              <a:gd name="textAreaBottom" fmla="*/ 7704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rot="21046200">
            <a:off x="4191120" y="3225600"/>
            <a:ext cx="3047760" cy="304560"/>
          </a:xfrm>
          <a:custGeom>
            <a:avLst/>
            <a:gdLst>
              <a:gd name="textAreaLeft" fmla="*/ 246600 w 3047760"/>
              <a:gd name="textAreaRight" fmla="*/ 2801160 w 3047760"/>
              <a:gd name="textAreaTop" fmla="*/ 24480 h 304560"/>
              <a:gd name="textAreaBottom" fmla="*/ 280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828800" y="276876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981080" y="360684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419720" y="276876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752480" y="497844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172200" y="261612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315200" y="391176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095880" y="36831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791320" y="490212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934320" y="497844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895480" y="521964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905120" y="2921040"/>
            <a:ext cx="152280" cy="6858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828440" y="3759120"/>
            <a:ext cx="228600" cy="12193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905120" y="5054760"/>
            <a:ext cx="1015920" cy="2286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2133720" y="3149640"/>
            <a:ext cx="1143000" cy="533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200400" y="311148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956200" y="5013360"/>
            <a:ext cx="997200" cy="698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7039080" y="4053960"/>
            <a:ext cx="333360" cy="9334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3343320" y="2873520"/>
            <a:ext cx="1095480" cy="2570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4572000" y="2701440"/>
            <a:ext cx="1600200" cy="133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813200" y="39117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4956120" y="3800160"/>
            <a:ext cx="1158840" cy="1810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7200" y="12193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b. “Expand” c using a random-bounce 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638360" y="247644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587600" y="35812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905120" y="481320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870280" y="28828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086280" y="51688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064040" y="248904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350040" y="254016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112160" y="361944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112160" y="49528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432320" y="383544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651640" y="507996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753160" y="35686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457200" y="1364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Expansion step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rot="19304400">
            <a:off x="5447880" y="3946320"/>
            <a:ext cx="1752840" cy="838080"/>
          </a:xfrm>
          <a:custGeom>
            <a:avLst/>
            <a:gdLst>
              <a:gd name="textAreaLeft" fmla="*/ 406440 w 1752840"/>
              <a:gd name="textAreaRight" fmla="*/ 1346400 w 1752840"/>
              <a:gd name="textAreaTop" fmla="*/ 194400 h 838080"/>
              <a:gd name="textAreaBottom" fmla="*/ 643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30" y="21600"/>
                </a:lnTo>
                <a:lnTo>
                  <a:pt x="587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447920" y="2311560"/>
            <a:ext cx="63244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rot="921600">
            <a:off x="2831760" y="4241880"/>
            <a:ext cx="1752480" cy="838080"/>
          </a:xfrm>
          <a:custGeom>
            <a:avLst/>
            <a:gdLst>
              <a:gd name="textAreaLeft" fmla="*/ 141840 w 1752480"/>
              <a:gd name="textAreaRight" fmla="*/ 1610640 w 1752480"/>
              <a:gd name="textAreaTop" fmla="*/ 67680 h 838080"/>
              <a:gd name="textAreaBottom" fmla="*/ 7704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rot="21046200">
            <a:off x="4191120" y="3225600"/>
            <a:ext cx="3047760" cy="304560"/>
          </a:xfrm>
          <a:custGeom>
            <a:avLst/>
            <a:gdLst>
              <a:gd name="textAreaLeft" fmla="*/ 246600 w 3047760"/>
              <a:gd name="textAreaRight" fmla="*/ 2801160 w 3047760"/>
              <a:gd name="textAreaTop" fmla="*/ 24480 h 304560"/>
              <a:gd name="textAreaBottom" fmla="*/ 280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28800" y="276876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981080" y="360684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419720" y="276876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752480" y="497844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172200" y="261612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315200" y="391176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95880" y="36831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791320" y="490212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934320" y="497844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895480" y="521964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905120" y="2921040"/>
            <a:ext cx="152280" cy="6858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1828440" y="3759120"/>
            <a:ext cx="228600" cy="12193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905120" y="5054760"/>
            <a:ext cx="1015920" cy="2286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2133720" y="3149640"/>
            <a:ext cx="1143000" cy="533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00400" y="311148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956200" y="5013360"/>
            <a:ext cx="997200" cy="698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7039080" y="4053960"/>
            <a:ext cx="333360" cy="9334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3343320" y="2873520"/>
            <a:ext cx="1095480" cy="2570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4572000" y="2701440"/>
            <a:ext cx="1600200" cy="133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813200" y="39117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956120" y="3800160"/>
            <a:ext cx="1158840" cy="1810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57200" y="12193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b. “Expand” c using a random-bounce 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38360" y="247644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87600" y="35812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905120" y="481320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870280" y="28828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086280" y="51688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064040" y="248904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350040" y="254016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112160" y="361944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112160" y="49528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432320" y="383544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651640" y="507996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53160" y="35686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6181560" y="3448080"/>
            <a:ext cx="88920" cy="241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080040" y="3279600"/>
            <a:ext cx="304920" cy="2732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1364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babilistic roadma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Ms don’t represent the enti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 configuration space, but rather a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roadma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rough 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9304400">
            <a:off x="5562720" y="5076360"/>
            <a:ext cx="1752480" cy="838440"/>
          </a:xfrm>
          <a:custGeom>
            <a:avLst/>
            <a:gdLst>
              <a:gd name="textAreaLeft" fmla="*/ 406440 w 1752480"/>
              <a:gd name="textAreaRight" fmla="*/ 1346040 w 1752480"/>
              <a:gd name="textAreaTop" fmla="*/ 194400 h 838440"/>
              <a:gd name="textAreaBottom" fmla="*/ 644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30" y="21600"/>
                </a:lnTo>
                <a:lnTo>
                  <a:pt x="587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3429000"/>
            <a:ext cx="63244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309000">
            <a:off x="2590560" y="5257440"/>
            <a:ext cx="1752480" cy="838080"/>
          </a:xfrm>
          <a:custGeom>
            <a:avLst/>
            <a:gdLst>
              <a:gd name="textAreaLeft" fmla="*/ 141840 w 1752480"/>
              <a:gd name="textAreaRight" fmla="*/ 1610640 w 1752480"/>
              <a:gd name="textAreaTop" fmla="*/ 67680 h 838080"/>
              <a:gd name="textAreaBottom" fmla="*/ 7704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21046200">
            <a:off x="4191120" y="4343040"/>
            <a:ext cx="3047760" cy="304920"/>
          </a:xfrm>
          <a:custGeom>
            <a:avLst/>
            <a:gdLst>
              <a:gd name="textAreaLeft" fmla="*/ 246600 w 3047760"/>
              <a:gd name="textAreaRight" fmla="*/ 2801160 w 3047760"/>
              <a:gd name="textAreaTop" fmla="*/ 24480 h 304920"/>
              <a:gd name="textAreaBottom" fmla="*/ 2804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38862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472428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38862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8769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52578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56386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609588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37339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50292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5880" y="48006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62485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67480" y="36576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60958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62485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4038480"/>
            <a:ext cx="152280" cy="6858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828440" y="4876920"/>
            <a:ext cx="228600" cy="12189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6172200"/>
            <a:ext cx="1371600" cy="1522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133720" y="4267080"/>
            <a:ext cx="1143000" cy="533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4343400"/>
            <a:ext cx="228600" cy="533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41911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4952880"/>
            <a:ext cx="1524240" cy="3812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05200" y="5772240"/>
            <a:ext cx="409680" cy="5144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705200" y="5400360"/>
            <a:ext cx="438480" cy="2667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257800" y="6200280"/>
            <a:ext cx="1695600" cy="133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248440" y="4933440"/>
            <a:ext cx="876240" cy="3906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7039080" y="5171760"/>
            <a:ext cx="333360" cy="9334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343320" y="3990960"/>
            <a:ext cx="1095480" cy="2570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572000" y="3819600"/>
            <a:ext cx="1600200" cy="133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324480" y="3753000"/>
            <a:ext cx="1143000" cy="47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457200" y="1364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Expansion step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rot="19304400">
            <a:off x="5447880" y="3946320"/>
            <a:ext cx="1752840" cy="838080"/>
          </a:xfrm>
          <a:custGeom>
            <a:avLst/>
            <a:gdLst>
              <a:gd name="textAreaLeft" fmla="*/ 406440 w 1752840"/>
              <a:gd name="textAreaRight" fmla="*/ 1346400 w 1752840"/>
              <a:gd name="textAreaTop" fmla="*/ 194400 h 838080"/>
              <a:gd name="textAreaBottom" fmla="*/ 643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30" y="21600"/>
                </a:lnTo>
                <a:lnTo>
                  <a:pt x="587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447920" y="2311560"/>
            <a:ext cx="63244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rot="921600">
            <a:off x="2831760" y="4241880"/>
            <a:ext cx="1752480" cy="838080"/>
          </a:xfrm>
          <a:custGeom>
            <a:avLst/>
            <a:gdLst>
              <a:gd name="textAreaLeft" fmla="*/ 141840 w 1752480"/>
              <a:gd name="textAreaRight" fmla="*/ 1610640 w 1752480"/>
              <a:gd name="textAreaTop" fmla="*/ 67680 h 838080"/>
              <a:gd name="textAreaBottom" fmla="*/ 7704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rot="21046200">
            <a:off x="4191120" y="3225600"/>
            <a:ext cx="3047760" cy="304560"/>
          </a:xfrm>
          <a:custGeom>
            <a:avLst/>
            <a:gdLst>
              <a:gd name="textAreaLeft" fmla="*/ 246600 w 3047760"/>
              <a:gd name="textAreaRight" fmla="*/ 2801160 w 3047760"/>
              <a:gd name="textAreaTop" fmla="*/ 24480 h 304560"/>
              <a:gd name="textAreaBottom" fmla="*/ 280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828800" y="276876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981080" y="360684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19720" y="276876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752480" y="497844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172200" y="261612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315200" y="391176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095880" y="36831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791320" y="490212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934320" y="497844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895480" y="521964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905120" y="2921040"/>
            <a:ext cx="152280" cy="6858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1828440" y="3759120"/>
            <a:ext cx="228600" cy="12193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905120" y="5054760"/>
            <a:ext cx="1015920" cy="2286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2133720" y="3149640"/>
            <a:ext cx="1143000" cy="533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200400" y="311148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956200" y="5013360"/>
            <a:ext cx="997200" cy="698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7039080" y="4053960"/>
            <a:ext cx="333360" cy="9334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343320" y="2873520"/>
            <a:ext cx="1095480" cy="2570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4572000" y="2701440"/>
            <a:ext cx="1600200" cy="133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813200" y="39117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4956120" y="3800160"/>
            <a:ext cx="1158840" cy="1810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57200" y="12193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b. “Expand” c using a random-bounce 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638360" y="247644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587600" y="35812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05120" y="481320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870280" y="28828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086280" y="51688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064040" y="248904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350040" y="254016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112160" y="361944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112160" y="49528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432320" y="383544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651640" y="507996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753160" y="35686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6181560" y="3448080"/>
            <a:ext cx="88920" cy="241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566040" y="3429000"/>
            <a:ext cx="304560" cy="2728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267600" y="3429000"/>
            <a:ext cx="438120" cy="114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457200" y="1364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Expansion step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rot="19304400">
            <a:off x="5447880" y="3946320"/>
            <a:ext cx="1752840" cy="838080"/>
          </a:xfrm>
          <a:custGeom>
            <a:avLst/>
            <a:gdLst>
              <a:gd name="textAreaLeft" fmla="*/ 406440 w 1752840"/>
              <a:gd name="textAreaRight" fmla="*/ 1346400 w 1752840"/>
              <a:gd name="textAreaTop" fmla="*/ 194400 h 838080"/>
              <a:gd name="textAreaBottom" fmla="*/ 643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30" y="21600"/>
                </a:lnTo>
                <a:lnTo>
                  <a:pt x="587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447920" y="2311560"/>
            <a:ext cx="63244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rot="921600">
            <a:off x="2831760" y="4241880"/>
            <a:ext cx="1752480" cy="838080"/>
          </a:xfrm>
          <a:custGeom>
            <a:avLst/>
            <a:gdLst>
              <a:gd name="textAreaLeft" fmla="*/ 141840 w 1752480"/>
              <a:gd name="textAreaRight" fmla="*/ 1610640 w 1752480"/>
              <a:gd name="textAreaTop" fmla="*/ 67680 h 838080"/>
              <a:gd name="textAreaBottom" fmla="*/ 7704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rot="21046200">
            <a:off x="4191120" y="3225600"/>
            <a:ext cx="3047760" cy="304560"/>
          </a:xfrm>
          <a:custGeom>
            <a:avLst/>
            <a:gdLst>
              <a:gd name="textAreaLeft" fmla="*/ 246600 w 3047760"/>
              <a:gd name="textAreaRight" fmla="*/ 2801160 w 3047760"/>
              <a:gd name="textAreaTop" fmla="*/ 24480 h 304560"/>
              <a:gd name="textAreaBottom" fmla="*/ 280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828800" y="276876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981080" y="360684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419720" y="276876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752480" y="497844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172200" y="261612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315200" y="391176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095880" y="36831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91320" y="490212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934320" y="497844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895480" y="521964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05120" y="2921040"/>
            <a:ext cx="152280" cy="6858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1828440" y="3759120"/>
            <a:ext cx="228600" cy="12193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905120" y="5054760"/>
            <a:ext cx="1015920" cy="2286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2133720" y="3149640"/>
            <a:ext cx="1143000" cy="533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200400" y="311148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956200" y="5013360"/>
            <a:ext cx="997200" cy="698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7039080" y="4053960"/>
            <a:ext cx="333360" cy="9334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3343320" y="2873520"/>
            <a:ext cx="1095480" cy="2570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4572000" y="2701440"/>
            <a:ext cx="1600200" cy="133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813200" y="39117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4956120" y="3800160"/>
            <a:ext cx="1158840" cy="1810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57200" y="12193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b. “Expand” c using a random-bounce 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638360" y="247644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587600" y="35812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905120" y="481320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870280" y="28828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086280" y="51688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64040" y="248904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50040" y="254016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112160" y="361944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112160" y="49528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432320" y="383544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651640" y="507996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753160" y="35686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6181560" y="3448080"/>
            <a:ext cx="88920" cy="241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784920" y="3209760"/>
            <a:ext cx="304920" cy="2732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267600" y="3429000"/>
            <a:ext cx="438120" cy="114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6676920" y="3333240"/>
            <a:ext cx="228600" cy="209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457200" y="1364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Expansion step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rot="19304400">
            <a:off x="5447880" y="3946320"/>
            <a:ext cx="1752840" cy="838080"/>
          </a:xfrm>
          <a:custGeom>
            <a:avLst/>
            <a:gdLst>
              <a:gd name="textAreaLeft" fmla="*/ 406440 w 1752840"/>
              <a:gd name="textAreaRight" fmla="*/ 1346400 w 1752840"/>
              <a:gd name="textAreaTop" fmla="*/ 194400 h 838080"/>
              <a:gd name="textAreaBottom" fmla="*/ 643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30" y="21600"/>
                </a:lnTo>
                <a:lnTo>
                  <a:pt x="587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447920" y="2311560"/>
            <a:ext cx="63244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rot="921600">
            <a:off x="2831760" y="4241880"/>
            <a:ext cx="1752480" cy="838080"/>
          </a:xfrm>
          <a:custGeom>
            <a:avLst/>
            <a:gdLst>
              <a:gd name="textAreaLeft" fmla="*/ 141840 w 1752480"/>
              <a:gd name="textAreaRight" fmla="*/ 1610640 w 1752480"/>
              <a:gd name="textAreaTop" fmla="*/ 67680 h 838080"/>
              <a:gd name="textAreaBottom" fmla="*/ 7704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rot="21046200">
            <a:off x="4191120" y="3225600"/>
            <a:ext cx="3047760" cy="304560"/>
          </a:xfrm>
          <a:custGeom>
            <a:avLst/>
            <a:gdLst>
              <a:gd name="textAreaLeft" fmla="*/ 246600 w 3047760"/>
              <a:gd name="textAreaRight" fmla="*/ 2801160 w 3047760"/>
              <a:gd name="textAreaTop" fmla="*/ 24480 h 304560"/>
              <a:gd name="textAreaBottom" fmla="*/ 280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828800" y="276876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981080" y="360684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419720" y="276876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752480" y="497844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172200" y="261612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315200" y="391176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5880" y="36831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791320" y="490212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934320" y="497844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895480" y="521964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905120" y="2921040"/>
            <a:ext cx="152280" cy="6858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1828440" y="3759120"/>
            <a:ext cx="228600" cy="12193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905120" y="5054760"/>
            <a:ext cx="1015920" cy="2286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2133720" y="3149640"/>
            <a:ext cx="1143000" cy="533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200400" y="311148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956200" y="5013360"/>
            <a:ext cx="997200" cy="698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7039080" y="4053960"/>
            <a:ext cx="333360" cy="9334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3343320" y="2873520"/>
            <a:ext cx="1095480" cy="2570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4572000" y="2701440"/>
            <a:ext cx="1600200" cy="133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813200" y="39117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4956120" y="3800160"/>
            <a:ext cx="1158840" cy="1810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57200" y="12193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b. “Expand” c using a random-bounce 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638360" y="247644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587600" y="35812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905120" y="481320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70280" y="28828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086280" y="51688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064040" y="248904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350040" y="254016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112160" y="361944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112160" y="49528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0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432320" y="383544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651640" y="507996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5d5d5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753160" y="35686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6181560" y="3448080"/>
            <a:ext cx="88920" cy="241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267600" y="3429000"/>
            <a:ext cx="438120" cy="114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6676920" y="3333240"/>
            <a:ext cx="228600" cy="209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981840" y="3429000"/>
            <a:ext cx="352440" cy="495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838920" y="32828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457200" y="13644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Expansion st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07960" y="1193760"/>
            <a:ext cx="8356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ftover disjoint pieces of the graph are discarded if their nodes constitute less than some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mincompon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ercent of the total number of nodes in the 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457200" y="1364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M algorithm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57200" y="1219320"/>
            <a:ext cx="80773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0c0c0"/>
                </a:solidFill>
                <a:latin typeface="Arial"/>
              </a:rPr>
              <a:t>Learning Ph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0c0c0"/>
                </a:solidFill>
                <a:latin typeface="Arial"/>
              </a:rPr>
              <a:t>Construction step: randomly generate nodes and ed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0c0c0"/>
                </a:solidFill>
                <a:latin typeface="Arial"/>
              </a:rPr>
              <a:t>Expansion step: improve graph connectivity in “difficult” reg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ry Ph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457200" y="13644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Query 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07960" y="1193760"/>
            <a:ext cx="8356680" cy="50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Given start configuration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goal configuration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calculate paths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1" i="1" lang="en-US" sz="36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1" i="1" lang="en-US" sz="3600" spc="-1" strike="noStrike" baseline="-25000">
                <a:solidFill>
                  <a:srgbClr val="000066"/>
                </a:solidFill>
                <a:latin typeface="Arial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1" i="1" lang="en-US" sz="36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1" i="1" lang="en-US" sz="3600" spc="-1" strike="noStrike" baseline="-25000">
                <a:solidFill>
                  <a:srgbClr val="000066"/>
                </a:solidFill>
                <a:latin typeface="Arial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nnect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nodes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i="1" lang="en-US" sz="3600" spc="-1" strike="noStrike">
                <a:solidFill>
                  <a:srgbClr val="000066"/>
                </a:solidFill>
                <a:latin typeface="Symbol"/>
                <a:ea typeface="Symbol"/>
              </a:rPr>
              <a:t>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1" i="1" lang="en-US" sz="3600" spc="-1" strike="noStrike">
                <a:solidFill>
                  <a:srgbClr val="000066"/>
                </a:solidFill>
                <a:latin typeface="Symbol"/>
                <a:ea typeface="Symbol"/>
              </a:rPr>
              <a:t>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at are themselves connected in the 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Return the path consisting of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1" i="1" lang="en-US" sz="36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ncated with the path from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i="1" lang="en-US" sz="3600" spc="-1" strike="noStrike">
                <a:solidFill>
                  <a:srgbClr val="000066"/>
                </a:solidFill>
                <a:latin typeface="Symbol"/>
                <a:ea typeface="Symbol"/>
              </a:rPr>
              <a:t>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1" i="1" lang="en-US" sz="3600" spc="-1" strike="noStrike">
                <a:solidFill>
                  <a:srgbClr val="000066"/>
                </a:solidFill>
                <a:latin typeface="Symbol"/>
                <a:ea typeface="Symbol"/>
              </a:rPr>
              <a:t>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ncated with the reverse of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1" i="1" lang="en-US" sz="3600" spc="-1" strike="noStrike" baseline="-25000">
                <a:solidFill>
                  <a:srgbClr val="000066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457200" y="136440"/>
            <a:ext cx="845820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Calculating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1" i="1" lang="en-US" sz="3600" spc="-1" strike="noStrike" baseline="-25000">
                <a:solidFill>
                  <a:srgbClr val="000066"/>
                </a:solidFill>
                <a:latin typeface="Arial"/>
              </a:rPr>
              <a:t>s 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, P</a:t>
            </a:r>
            <a:r>
              <a:rPr b="1" i="1" lang="en-US" sz="3600" spc="-1" strike="noStrike" baseline="-25000">
                <a:solidFill>
                  <a:srgbClr val="000066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7960" y="1193760"/>
            <a:ext cx="835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07960" y="1193760"/>
            <a:ext cx="8356680" cy="40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 nodes in graph in order of increasing distance from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1" i="1" lang="en-US" sz="36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up to a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maxdi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way from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local planner to find conn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random-bounce walk if local planner fai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457200" y="136440"/>
            <a:ext cx="750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Experimental results (briefl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57200" y="1219320"/>
            <a:ext cx="80773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sted with up to 7-dof robot, both free- and fixed-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en enough learning time, able to achieve 100% success, but not unreasonable results even with shorter learning peri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ries are fast (not more than a couple of second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457200" y="1364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Rema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57200" y="1219320"/>
            <a:ext cx="807732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 of comparison is the Randomized Path Planner; PRMs perform comparably or better than RPPs on the scenes te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Ms do not suffer from local minima as RPPs do (narrow pa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PPs have succeeded with up to 31 dof; would be nice to see some PRM experimental results for &gt;&gt; 7 d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457200" y="1364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57200" y="1219320"/>
            <a:ext cx="8077320" cy="55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learning is done, queries can be executed quick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ity reduction over full C-space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: can incrementally build on road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stically complete, which is usually good en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1364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babilistic roadma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2193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Ms don’t represent the enti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 configuration space, but rather a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roadma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rough 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9304400">
            <a:off x="5562720" y="5076360"/>
            <a:ext cx="1752480" cy="838440"/>
          </a:xfrm>
          <a:custGeom>
            <a:avLst/>
            <a:gdLst>
              <a:gd name="textAreaLeft" fmla="*/ 406440 w 1752480"/>
              <a:gd name="textAreaRight" fmla="*/ 1346040 w 1752480"/>
              <a:gd name="textAreaTop" fmla="*/ 194400 h 838440"/>
              <a:gd name="textAreaBottom" fmla="*/ 644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30" y="21600"/>
                </a:lnTo>
                <a:lnTo>
                  <a:pt x="587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3429000"/>
            <a:ext cx="63244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309000">
            <a:off x="2590560" y="5257440"/>
            <a:ext cx="1752480" cy="838080"/>
          </a:xfrm>
          <a:custGeom>
            <a:avLst/>
            <a:gdLst>
              <a:gd name="textAreaLeft" fmla="*/ 141840 w 1752480"/>
              <a:gd name="textAreaRight" fmla="*/ 1610640 w 1752480"/>
              <a:gd name="textAreaTop" fmla="*/ 67680 h 838080"/>
              <a:gd name="textAreaBottom" fmla="*/ 7704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21046200">
            <a:off x="4191120" y="4343040"/>
            <a:ext cx="3047760" cy="304920"/>
          </a:xfrm>
          <a:custGeom>
            <a:avLst/>
            <a:gdLst>
              <a:gd name="textAreaLeft" fmla="*/ 246600 w 3047760"/>
              <a:gd name="textAreaRight" fmla="*/ 2801160 w 3047760"/>
              <a:gd name="textAreaTop" fmla="*/ 24480 h 304920"/>
              <a:gd name="textAreaBottom" fmla="*/ 2804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38862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472428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38862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48769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52578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56386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609588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37339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15200" y="50292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48006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62485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67480" y="36576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4320" y="60958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62485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4038480"/>
            <a:ext cx="152280" cy="6858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828440" y="4876920"/>
            <a:ext cx="228600" cy="12189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5120" y="6172200"/>
            <a:ext cx="1371600" cy="1522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133720" y="4267080"/>
            <a:ext cx="1143000" cy="533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4343400"/>
            <a:ext cx="228600" cy="533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41911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4952880"/>
            <a:ext cx="1524240" cy="3812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05200" y="5772240"/>
            <a:ext cx="409680" cy="5144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705200" y="5400360"/>
            <a:ext cx="438480" cy="2667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257800" y="6200280"/>
            <a:ext cx="1695600" cy="133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248440" y="4933440"/>
            <a:ext cx="876240" cy="3906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039080" y="5171760"/>
            <a:ext cx="333360" cy="9334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343320" y="3990960"/>
            <a:ext cx="1095480" cy="2570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572000" y="3819600"/>
            <a:ext cx="1600200" cy="133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324480" y="3753000"/>
            <a:ext cx="1143000" cy="47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79840" y="394956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78440" y="5803920"/>
            <a:ext cx="15228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55800" y="3594240"/>
            <a:ext cx="3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79960" y="5727600"/>
            <a:ext cx="3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457200" y="1364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" y="1219320"/>
            <a:ext cx="807732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 (?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stically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s are not optimal -- can be long and indirect, depending on how graph was created; can apply smoothing, bu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356000" y="50292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432320" y="5181480"/>
            <a:ext cx="152280" cy="6858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844880" y="510228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267160" y="533700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835440" y="521964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606840" y="57024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975120" y="5359320"/>
            <a:ext cx="520560" cy="4701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4584240" y="5245200"/>
            <a:ext cx="304920" cy="5680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4584600" y="5435640"/>
            <a:ext cx="711360" cy="4096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772080" y="5803920"/>
            <a:ext cx="812520" cy="3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301920" y="4546440"/>
            <a:ext cx="2489400" cy="1879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495680" y="575316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1364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babilistic roadma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2193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Ms don’t represent the enti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 configuration space, but rather a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roadma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rough 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9304400">
            <a:off x="5562720" y="5076360"/>
            <a:ext cx="1752480" cy="838440"/>
          </a:xfrm>
          <a:custGeom>
            <a:avLst/>
            <a:gdLst>
              <a:gd name="textAreaLeft" fmla="*/ 406440 w 1752480"/>
              <a:gd name="textAreaRight" fmla="*/ 1346040 w 1752480"/>
              <a:gd name="textAreaTop" fmla="*/ 194400 h 838440"/>
              <a:gd name="textAreaBottom" fmla="*/ 644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30" y="21600"/>
                </a:lnTo>
                <a:lnTo>
                  <a:pt x="587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3429000"/>
            <a:ext cx="63244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309000">
            <a:off x="2590560" y="5257440"/>
            <a:ext cx="1752480" cy="838080"/>
          </a:xfrm>
          <a:custGeom>
            <a:avLst/>
            <a:gdLst>
              <a:gd name="textAreaLeft" fmla="*/ 141840 w 1752480"/>
              <a:gd name="textAreaRight" fmla="*/ 1610640 w 1752480"/>
              <a:gd name="textAreaTop" fmla="*/ 67680 h 838080"/>
              <a:gd name="textAreaBottom" fmla="*/ 7704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21046200">
            <a:off x="4191120" y="4343040"/>
            <a:ext cx="3047760" cy="304920"/>
          </a:xfrm>
          <a:custGeom>
            <a:avLst/>
            <a:gdLst>
              <a:gd name="textAreaLeft" fmla="*/ 246600 w 3047760"/>
              <a:gd name="textAreaRight" fmla="*/ 2801160 w 3047760"/>
              <a:gd name="textAreaTop" fmla="*/ 24480 h 304920"/>
              <a:gd name="textAreaBottom" fmla="*/ 2804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38862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472428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38862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48769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52578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6386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2480" y="609588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37339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15200" y="50292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48006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62485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36576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34320" y="60958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62485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4038480"/>
            <a:ext cx="152280" cy="6858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828440" y="4876920"/>
            <a:ext cx="228600" cy="12189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6172200"/>
            <a:ext cx="1371600" cy="1522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133720" y="4267080"/>
            <a:ext cx="1143000" cy="533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4343400"/>
            <a:ext cx="228600" cy="533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41911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4952880"/>
            <a:ext cx="1524240" cy="3812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05200" y="5772240"/>
            <a:ext cx="409680" cy="5144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705200" y="5400360"/>
            <a:ext cx="438480" cy="2667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257800" y="6200280"/>
            <a:ext cx="1695600" cy="133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48440" y="4933440"/>
            <a:ext cx="876240" cy="3906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039080" y="5171760"/>
            <a:ext cx="333360" cy="9334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343320" y="3990960"/>
            <a:ext cx="1095480" cy="2570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572000" y="3819600"/>
            <a:ext cx="1600200" cy="133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324480" y="3753000"/>
            <a:ext cx="1143000" cy="47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79840" y="394956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78440" y="5803920"/>
            <a:ext cx="15228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55800" y="3594240"/>
            <a:ext cx="3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79960" y="5727600"/>
            <a:ext cx="3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06560" y="4064040"/>
            <a:ext cx="419400" cy="17784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4724280" y="5740200"/>
            <a:ext cx="279360" cy="1141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1364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babilistic roadma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12193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Ms don’t represent the enti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 configuration space, but rather a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roadma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rough 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9304400">
            <a:off x="5562720" y="5076360"/>
            <a:ext cx="1752480" cy="838440"/>
          </a:xfrm>
          <a:custGeom>
            <a:avLst/>
            <a:gdLst>
              <a:gd name="textAreaLeft" fmla="*/ 406440 w 1752480"/>
              <a:gd name="textAreaRight" fmla="*/ 1346040 w 1752480"/>
              <a:gd name="textAreaTop" fmla="*/ 194400 h 838440"/>
              <a:gd name="textAreaBottom" fmla="*/ 644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30" y="21600"/>
                </a:lnTo>
                <a:lnTo>
                  <a:pt x="587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3429000"/>
            <a:ext cx="63244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309000">
            <a:off x="2590560" y="5257440"/>
            <a:ext cx="1752480" cy="838080"/>
          </a:xfrm>
          <a:custGeom>
            <a:avLst/>
            <a:gdLst>
              <a:gd name="textAreaLeft" fmla="*/ 141840 w 1752480"/>
              <a:gd name="textAreaRight" fmla="*/ 1610640 w 1752480"/>
              <a:gd name="textAreaTop" fmla="*/ 67680 h 838080"/>
              <a:gd name="textAreaBottom" fmla="*/ 7704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21046200">
            <a:off x="4191120" y="4343040"/>
            <a:ext cx="3047760" cy="304920"/>
          </a:xfrm>
          <a:custGeom>
            <a:avLst/>
            <a:gdLst>
              <a:gd name="textAreaLeft" fmla="*/ 246600 w 3047760"/>
              <a:gd name="textAreaRight" fmla="*/ 2801160 w 3047760"/>
              <a:gd name="textAreaTop" fmla="*/ 24480 h 304920"/>
              <a:gd name="textAreaBottom" fmla="*/ 2804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6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38862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38862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4876920"/>
            <a:ext cx="15228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5257800"/>
            <a:ext cx="15228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56386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609588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72200" y="37339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50292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48006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62485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467480" y="36576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34320" y="60958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62485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4038480"/>
            <a:ext cx="152280" cy="6858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828440" y="4876920"/>
            <a:ext cx="228600" cy="12189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6172200"/>
            <a:ext cx="1371600" cy="1522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133720" y="4267080"/>
            <a:ext cx="1143000" cy="533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4343400"/>
            <a:ext cx="228600" cy="5335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4191120"/>
            <a:ext cx="15228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81280" y="4952880"/>
            <a:ext cx="1524240" cy="38124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05200" y="5772240"/>
            <a:ext cx="409680" cy="5144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705200" y="5400360"/>
            <a:ext cx="438480" cy="2667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257800" y="6200280"/>
            <a:ext cx="1695600" cy="133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248440" y="4933440"/>
            <a:ext cx="876240" cy="3906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039080" y="5171760"/>
            <a:ext cx="333360" cy="9334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343320" y="3990960"/>
            <a:ext cx="1095480" cy="2570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572000" y="3819600"/>
            <a:ext cx="1600200" cy="133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324480" y="3753000"/>
            <a:ext cx="1143000" cy="47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79840" y="394956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78440" y="5803920"/>
            <a:ext cx="15228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55800" y="3594240"/>
            <a:ext cx="3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79960" y="5727600"/>
            <a:ext cx="3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06560" y="4064040"/>
            <a:ext cx="419400" cy="17784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724280" y="5740200"/>
            <a:ext cx="279360" cy="1141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57200" y="1364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M algorithm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1219320"/>
            <a:ext cx="80773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admap is an undirected acyclic graph 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R = (N, 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des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re robot configurations in free C-sp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ges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represent local paths between configu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57200" y="1364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M algorithm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7080" y="9144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167040" y="39600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219320"/>
            <a:ext cx="80773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 Ph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ruction step: randomly generate nodes and ed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ansion step: improve graph connectivity in “difficult” reg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ry Ph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1T04:06:23Z</dcterms:created>
  <dc:creator>Miler Lee</dc:creator>
  <dc:description/>
  <dc:language>en-US</dc:language>
  <cp:lastModifiedBy>latombe</cp:lastModifiedBy>
  <dcterms:modified xsi:type="dcterms:W3CDTF">2002-04-15T15:20:57Z</dcterms:modified>
  <cp:revision>20</cp:revision>
  <dc:subject/>
  <dc:title>No Slide Title</dc:title>
</cp:coreProperties>
</file>