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849-CAA4-46B0-9B87-FC24AE5F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45B1-14E6-428E-AC12-42D10C3E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5C49-57A8-4023-91C1-90C9F8DD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3C55-21E4-4E6D-BAA2-A9797D8F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2D55-B90D-44D9-A664-3141CD1D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4C48-2109-4A36-9DFE-46717EBB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18D0-D64F-480F-B39A-E5500805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0518-A04F-4565-8950-E965A2DE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42B8-56D3-404F-A25D-DF9AC9E3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94A8-F9FF-4FAF-9D61-16D12DAE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ECDA-952D-4E91-9119-ACFA4C3B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E86-A190-409F-833F-74C7B793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FC52-4BAA-446D-9822-E4667DF5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195F-CE28-4AAB-AEB9-F6CED21F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BE9B-3F93-4DDF-9430-C85F5002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357C-DDC6-4662-A08D-F2B3CCCF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3C1B-B10D-4B76-AA2D-976BFB1D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B837-3DE1-4F7E-A651-BF9265F4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3CB7-19C7-4FE2-93E6-4DF810C1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990-6416-4ADF-9D2A-7B0EB990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BEB-9034-4445-A740-8691EF52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6568-8A39-49C8-A09E-1B59DD6A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0ED-7055-4E1A-BF2B-A1DFAA61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3C9-71F7-499C-B127-59B071B8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Bookman Old Style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D345-C787-4691-9A53-1E1045A496CE}" type="slidenum"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533520"/>
            <a:ext cx="8076960" cy="5715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Bookman Old Style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Bookman Old Style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E99F-51CF-4AEC-A97E-7D2CED861F30}" type="slidenum"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33520"/>
            <a:ext cx="8076960" cy="5715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10213 Information System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lalongkorn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71E1-76BE-4685-AC1E-65235F3BAEC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BTS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Log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id, pass type, current value, expiration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 travel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id, entered station, entered time, exited station, existed time, far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9A4A-A3C7-40B5-A950-E029A76D55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B1C0-29BC-4A00-BBE3-09D6692895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 of binary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representation of machine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 language / machine indepen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, Basic, FORTRAN, Pascal, COB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30C-7E09-44E6-AEF9-C7F83ADF8D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what to do, not how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, report generation, SPSS, HT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, C++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Basic, HTML (Dreamweav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58E1-0C9A-45A7-BCD2-5AD464BA996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T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ling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nd other ut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DB3-2D09-4726-ADC4-457216C55B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Engine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-Fal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 gathering (S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and tu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ing (deploying, trainin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A6E-792C-435A-9E4B-160D07CC07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work h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er, Application server, Database server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road, an expres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, Intranet, proprietary network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i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security equipment, data encry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93A-F01C-4593-A946-2E670D80640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 (C-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0129-7BFC-4808-9FD5-24849FF87EF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functions for application program to access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, memory,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/ writing / creating / deleting / renaming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/ folder (directory)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loading and start exec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813-EE02-42AC-B396-BCA548186ED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 Input / Output devices (keyboard, display, printer, scann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user interface (text-based or GU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system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A81-E9CA-4300-91B8-624549269C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s of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functional requirements for the syst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the system be develop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ill the system be deploy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system interact with o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4B5-9240-4D63-A2A4-00521BEE3A8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ing System Enviro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multiple programs at the sam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only one program at any given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0E7-1785-42BE-AB42-62953098940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perat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-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95 / 98 / ME / XP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NT / 2000 / XP Professional /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, AIX, HP/UX, SCO-Un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fram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/VSE, MUSIC, MVS, OS/4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1C52-8B0A-4FA2-8411-072ABD38F2C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Network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le, hub, switch, ro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usion Detection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75E-DD58-41AE-B900-373F1B80962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25400" y="1981080"/>
          <a:ext cx="7691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1981080"/>
                    <a:ext cx="7691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3127-AAF6-4A89-8758-B78F1C4B4AA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he system exchange information with other sys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S ticket &amp; BTS accoun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change may across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S ticket &amp; Underground train ti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764-4D30-4A18-9BBD-A536C9B622C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ration : Data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-column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rietary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y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-dependent forma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/ ebX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E83E-5544-47C7-BFBE-AA9A3F7EBFC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ration : Data Deli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enger, fax, snail m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fil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kette, em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 fil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 Uplo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que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774F-0FA3-44C6-81AD-67EB3C53B9C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Com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7025-0617-4867-916B-8503BB4E5CC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Logic: User Interf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Logic: Application Programs and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Logic: Data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6FF-4A80-4258-908E-D0BC22F2BA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Registr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Logic: web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n / Log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/ Drop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s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C7F-D745-43DF-9B69-0AB5C8EC57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Registr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Logic: Module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 a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s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classes, grad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idate class selection (called by add/drop clas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675D-CB0B-4CDB-BEA6-671AD8A056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Registr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se number, title, credit, pre-requisit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availability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, semester, course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-id, password, name,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class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, semester, student-id, course number, g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F18E-835F-43E2-89F9-D1EAA40568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BTS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a pass (ticke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s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t s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passes: student, tourist, refil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1086120" cy="1733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010280" y="1981080"/>
            <a:ext cx="1086120" cy="1733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2093760" cy="205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F538-8D43-4927-9348-0691B17AEC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BTS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Log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 vending mach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ance g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t g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pass system (at the operator boo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E57-D9DD-459F-B2F0-3B0FA904E9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BTS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Log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fare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s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t s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pass hand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e calculation (called by exit sta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e adjustment (called by special pass handlin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awut Nupairoj, Ph.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1E68-A0FC-467E-A3A2-10198CE93D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S Component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07:23:22Z</dcterms:created>
  <dc:creator>Natawut</dc:creator>
  <dc:description/>
  <dc:language>en-US</dc:language>
  <cp:lastModifiedBy>Natawut Nupairoj</cp:lastModifiedBy>
  <dcterms:modified xsi:type="dcterms:W3CDTF">2003-11-04T16:35:59Z</dcterms:modified>
  <cp:revision>45</cp:revision>
  <dc:subject/>
  <dc:title>Net-Centric Computing Overview</dc:title>
</cp:coreProperties>
</file>