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73F-2981-4923-9212-0CD6C0C0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81E-DEB2-4C0F-ADCE-07ECD591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E1F-DF24-4A86-B127-DF3ABFE8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69A-E5EF-41F9-8469-41BD33D3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749D-2880-4C87-8D7F-C462545D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48EC-23B3-430F-9A9C-CC3A57F0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83D3-3C3E-4631-9738-5B42DE5E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2D58-F426-488C-B603-A235BB2C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0041-D1C2-4817-B608-FCA9E003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A2B1-EA48-4A41-BF1A-514CE830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B19C-0F4F-4DE7-8959-9DDEB6AD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448-2021-42CE-835E-C188FF30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D964-F550-4D58-9387-57C37931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6455-1D84-475A-9DE7-05A8FF01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1E98-3CF5-4BBA-ADE7-633128B4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83F7-9E4A-4E47-9250-091E71B4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799-B2B9-4114-9432-D1EC868E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E5A-022B-4F83-97FD-AB126706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08E-7C99-4431-A206-D6D5ABDA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654-3DDA-4874-9C33-9FE0DB91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FD9-6E16-4A3B-82EF-BE4E6830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581-20CC-4414-B169-3C5365C1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EA9-A962-49E3-B0D4-ECE1E2B5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2D2-656C-4464-9352-6FA5C74E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D72F-BFF5-472F-8817-82689E89B93E}" type="slidenum"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533520"/>
            <a:ext cx="8076960" cy="5715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7602-3B3E-4169-B480-72170FD256BB}" type="slidenum"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33520"/>
            <a:ext cx="8076960" cy="5715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Architectur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213 Information Syste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43DE-9778-4E71-AE61-E63232A5585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World Information System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Information System (C-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Information System Architecture (C-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A64-A3CA-42A5-9E8A-2F2958DB56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nformatio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hat pare processed and converted into a form that is useful and meaningful to the decision mak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= Student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(for teacher) = Score of this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281-8BB2-4B83-9AA1-0B14CA0AA2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nformation System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r system that provides information to aid organizational decision mak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egistration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reservation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r logging and repor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5BD-2022-466C-AE68-B4C2C92B39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914400" y="2286000"/>
            <a:ext cx="7111800" cy="2962080"/>
            <a:chOff x="914400" y="2286000"/>
            <a:chExt cx="7111800" cy="2962080"/>
          </a:xfrm>
        </p:grpSpPr>
        <p:sp>
          <p:nvSpPr>
            <p:cNvPr id="93" name=""/>
            <p:cNvSpPr/>
            <p:nvPr/>
          </p:nvSpPr>
          <p:spPr>
            <a:xfrm>
              <a:off x="977400" y="3615480"/>
              <a:ext cx="2700720" cy="1000440"/>
            </a:xfrm>
            <a:prstGeom prst="rect">
              <a:avLst/>
            </a:prstGeom>
            <a:gradFill rotWithShape="0">
              <a:gsLst>
                <a:gs pos="0">
                  <a:srgbClr val="0461d2"/>
                </a:gs>
                <a:gs pos="100000">
                  <a:srgbClr val="4589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atab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ther related compon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7400" y="3365640"/>
              <a:ext cx="2700720" cy="242280"/>
            </a:xfrm>
            <a:prstGeom prst="rect">
              <a:avLst/>
            </a:prstGeom>
            <a:solidFill>
              <a:srgbClr val="c70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3366360"/>
              <a:ext cx="285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FORMATION TECHNOLOG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38280" y="3681360"/>
              <a:ext cx="1630440" cy="447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95760" y="4800600"/>
              <a:ext cx="1630440" cy="44748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ustomer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95760" y="3971160"/>
              <a:ext cx="1630440" cy="44748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rketing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95760" y="3115080"/>
              <a:ext cx="1630440" cy="44784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ventory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95760" y="2286000"/>
              <a:ext cx="1630440" cy="44748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yroll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9160" y="2443680"/>
              <a:ext cx="0" cy="264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9160" y="244368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49160" y="336564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49160" y="418176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9160" y="509040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18400" y="3866040"/>
              <a:ext cx="2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1240" y="3866040"/>
              <a:ext cx="4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vs.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966-BE29-48FA-8692-700F77BCEF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, work-group, enterprise-w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ypes of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, tactical, strate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usiness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, operation, accounting, H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E4E1-F937-4485-A159-E0DCAAABA7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in Com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s (or Present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gram (or Business Log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073-FD38-407C-8146-9441B17C6E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Complexity – FedEx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752480"/>
          <a:ext cx="637056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37056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D7A-8AA2-4A0D-8022-D040F5BC27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Arch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atawut Nupairoj</cp:lastModifiedBy>
  <dcterms:modified xsi:type="dcterms:W3CDTF">2003-11-04T16:48:46Z</dcterms:modified>
  <cp:revision>41</cp:revision>
  <dc:subject/>
  <dc:title>Net-Centric Computing Overview</dc:title>
</cp:coreProperties>
</file>