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ABE-D7D6-497C-AD7A-0C9A158D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485-086D-48BD-ACED-7BB3E644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E4D-4B17-4A62-AEDC-D5AB78AE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AB4-CE11-4D3C-AB0F-7865F44D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3EAE-1103-46C1-9A47-E26CD36C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7902-2BD2-4613-870A-E8752A2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693F-0049-483E-8788-20116EB2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F97-7077-4B91-8112-3FCD794A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94F1-0394-4BF1-8916-CA87E09E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FE4-CC2B-4AB5-90AF-8F37978D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2D42-D8A5-410E-BD3E-31269F33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19D-F77B-40EF-89C9-1DFE39A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969C-7053-4AE2-9B40-52CB9CB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BC3F-C16A-4F80-B5A4-DEEE75FF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7D31-39F3-40AB-96A9-96D59569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5DB6-BBD3-4B56-9937-CA5705E4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A592-B28D-43CA-946D-B72E2C4B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CB2-69A7-4FD9-8793-D494E26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BB1-558E-4B16-BEDF-F31514EC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183-8F23-49FE-931A-ABA07C2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3BA-E9F9-4561-8F4D-1C31266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578-BC9B-4F78-ACB6-A8FABEB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AEB-E856-4256-9313-895C1AA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F0C-E219-45CE-89C1-D51499BA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82D5-6FE7-456A-9E9D-30DF78A9D00F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EA4-D969-4B77-8FEF-B4C3E3BA29AB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of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T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Tier (commonly known as client/serv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N-Tier (commonly known as web-bas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D04-FEB2-413D-A015-00EB21B744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Tier Transact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6214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frame with “dumb” termi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85840" y="3078000"/>
          <a:ext cx="53038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3078000"/>
                    <a:ext cx="53038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1CD-E017-4FCD-BDAA-3765CA6E68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Tier Transact Patter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2057400"/>
            <a:ext cx="3783960" cy="2921040"/>
            <a:chOff x="762120" y="2057400"/>
            <a:chExt cx="3783960" cy="2921040"/>
          </a:xfrm>
        </p:grpSpPr>
        <p:graphicFrame>
          <p:nvGraphicFramePr>
            <p:cNvPr id="91" name=""/>
            <p:cNvGraphicFramePr/>
            <p:nvPr/>
          </p:nvGraphicFramePr>
          <p:xfrm>
            <a:off x="3504960" y="3124440"/>
            <a:ext cx="1041120" cy="711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04960" y="3124440"/>
                      <a:ext cx="104112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2971800" y="2057400"/>
            <a:ext cx="104076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2057400"/>
                      <a:ext cx="104076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2895480" y="4267440"/>
            <a:ext cx="104112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4267440"/>
                      <a:ext cx="104112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 flipV="1">
              <a:off x="2133360" y="2286000"/>
              <a:ext cx="1142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286000" y="335304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209320" y="380988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2590920"/>
              <a:ext cx="532800" cy="1523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2590920"/>
              <a:ext cx="533160" cy="152388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95280" y="2590920"/>
              <a:ext cx="533160" cy="1523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48320" y="2209680"/>
            <a:ext cx="4267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, scalability, and reli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, inflexible, lack of applications, take long time to devel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E40-6154-4A4E-A304-63D5EA2775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Tier Transact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base server with fat cli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B / Developer 2000 client program + SQL datab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ava client program (applet) + JDBC-compatible datab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60640" y="3290760"/>
          <a:ext cx="663876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3290760"/>
                    <a:ext cx="66387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8FD-CCB8-406D-A502-C30DB3097C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Tier Transact Patter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51460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manageability and deploy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95280" y="2514600"/>
            <a:ext cx="3200400" cy="2590920"/>
            <a:chOff x="1295280" y="2514600"/>
            <a:chExt cx="3200400" cy="2590920"/>
          </a:xfrm>
        </p:grpSpPr>
        <p:sp>
          <p:nvSpPr>
            <p:cNvPr id="111" name=""/>
            <p:cNvSpPr/>
            <p:nvPr/>
          </p:nvSpPr>
          <p:spPr>
            <a:xfrm flipV="1">
              <a:off x="1981080" y="274320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133360" y="38102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057400" y="426708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657600" y="3581640"/>
              <a:ext cx="838080" cy="380880"/>
              <a:chOff x="3657600" y="3581640"/>
              <a:chExt cx="838080" cy="38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3962520" y="3581640"/>
                <a:ext cx="53316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657600" y="3581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295280" y="3048120"/>
              <a:ext cx="838080" cy="1523880"/>
              <a:chOff x="1295280" y="3048120"/>
              <a:chExt cx="838080" cy="1523880"/>
            </a:xfrm>
          </p:grpSpPr>
          <p:sp>
            <p:nvSpPr>
              <p:cNvPr id="118" name=""/>
              <p:cNvSpPr/>
              <p:nvPr/>
            </p:nvSpPr>
            <p:spPr>
              <a:xfrm>
                <a:off x="1295280" y="3048120"/>
                <a:ext cx="533160" cy="1523880"/>
              </a:xfrm>
              <a:prstGeom prst="rect">
                <a:avLst/>
              </a:prstGeom>
              <a:solidFill>
                <a:srgbClr val="e4f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8440" y="3048120"/>
                <a:ext cx="304920" cy="1523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24080" y="2514600"/>
              <a:ext cx="838080" cy="380880"/>
              <a:chOff x="3124080" y="2514600"/>
              <a:chExt cx="83808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3429000" y="2514600"/>
                <a:ext cx="53316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24080" y="251460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048120" y="4724640"/>
              <a:ext cx="838080" cy="380880"/>
              <a:chOff x="3048120" y="4724640"/>
              <a:chExt cx="838080" cy="380880"/>
            </a:xfrm>
          </p:grpSpPr>
          <p:sp>
            <p:nvSpPr>
              <p:cNvPr id="124" name=""/>
              <p:cNvSpPr/>
              <p:nvPr/>
            </p:nvSpPr>
            <p:spPr>
              <a:xfrm>
                <a:off x="3353040" y="4724640"/>
                <a:ext cx="53316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8120" y="4724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95A-7FC5-49C3-8265-C336A9BCB8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N-Tier Transact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+ Middleware+ Databas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+ Web server / App server + Browsers (Thin clien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33400" y="3646440"/>
          <a:ext cx="5989680" cy="20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3646440"/>
                    <a:ext cx="598968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961-15E1-43D0-B692-4697CB31DE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N-Tier Transact Patter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480" y="2209680"/>
            <a:ext cx="4267440" cy="3048120"/>
            <a:chOff x="609480" y="2209680"/>
            <a:chExt cx="4267440" cy="3048120"/>
          </a:xfrm>
        </p:grpSpPr>
        <p:sp>
          <p:nvSpPr>
            <p:cNvPr id="132" name=""/>
            <p:cNvSpPr/>
            <p:nvPr/>
          </p:nvSpPr>
          <p:spPr>
            <a:xfrm flipH="1">
              <a:off x="121932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43792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2209680"/>
              <a:ext cx="1143000" cy="30481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666880" y="2590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8191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743200" y="41144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895480"/>
              <a:ext cx="609840" cy="152424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6520" y="2666880"/>
              <a:ext cx="685800" cy="6098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2362320"/>
              <a:ext cx="53352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3400" y="3429000"/>
              <a:ext cx="53352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4648320"/>
              <a:ext cx="53316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6880" y="2895480"/>
              <a:ext cx="533520" cy="15242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342900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6520" y="419112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81480" y="22096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man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for integ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icult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FD8-8072-4598-B646-94B0A81409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Information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IS Archiet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575-B630-4391-AF30-E55E84C428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11-04T16:49:02Z</dcterms:modified>
  <cp:revision>41</cp:revision>
  <dc:subject/>
  <dc:title>Net-Centric Computing Overview</dc:title>
</cp:coreProperties>
</file>