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B19-7E2A-4FF5-BB5C-127A04DD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568-D35F-4799-AE85-FA2A054A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BB8-F4FE-4222-9990-3C456423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F2C-E5FB-462D-9DAF-AD1B7366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5DFB-3488-492F-98A2-6B67F7BA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3290-DC65-40B0-ACB1-61278560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D090-29D8-43A0-9185-515F3B6F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0978-B5F6-4B74-8220-73E90792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0B81-D9F6-4BFF-953E-F89DEF2F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5DAA-EBFA-425A-9381-7A77FDD7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12A9-BE02-4A78-B6BC-CD037530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AD8-17EC-47CD-B9B1-B8CD7CC8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34CD-6872-4E5F-ADBA-B8B9BB18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24CA-B276-4B6A-AA6B-543E61E6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90E6-5880-461C-AFA4-ED35DD0B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5028-F6BC-4D73-B088-5D751C2D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0874-26A8-4B7C-94DE-6D13CB4D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456-7516-4C4B-84B3-4DB8B28A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310-C1E0-40A2-BFF6-53AD8E13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F8C-7786-440E-BFDC-EE709134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4A9-93B9-476B-9B4A-46AA8CBD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DBD-F6F9-47CA-A3AE-F22E3C17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47E-C164-491E-8606-C9241378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C36-07A4-471B-A5C1-3BC383C6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Bookman Old Style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2439-D72E-4D9E-AAD1-AE8FB7029AE9}" type="slidenum"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533520"/>
            <a:ext cx="8076960" cy="5715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Bookman Old Style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8C9D-DA0F-4451-927F-EAD83A4B6D94}" type="slidenum"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33520"/>
            <a:ext cx="8076960" cy="5715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hyperlink" Target="http://www.cp.eng.chula.ac.th/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7.wmf"/><Relationship Id="rId14" Type="http://schemas.openxmlformats.org/officeDocument/2006/relationships/image" Target="../media/image8.wmf"/><Relationship Id="rId15" Type="http://schemas.openxmlformats.org/officeDocument/2006/relationships/image" Target="../media/image7.wmf"/><Relationship Id="rId16" Type="http://schemas.openxmlformats.org/officeDocument/2006/relationships/image" Target="../media/image4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IS 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10213 Information System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8D68-953B-4916-8156-CA96BA3EEBD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– basic protocol to deliver from source host to destination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– reliable (guarantee no-loss) protocol to deliver from application to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 – web-based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TP – mail transmission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P – file transfer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 – domain name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D78-45B7-4362-B108-0C1ADFF600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et Nam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 vs. Domain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600200" y="2895480"/>
          <a:ext cx="585936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85936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2673360" y="4495680"/>
            <a:ext cx="413856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www.cp.eng.chula.ac.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6EB-08A7-4804-915E-6B136E8FD7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-based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 in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68440" y="1752480"/>
            <a:ext cx="4087440" cy="3938400"/>
            <a:chOff x="568440" y="1752480"/>
            <a:chExt cx="4087440" cy="393840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760320" y="1752480"/>
              <a:ext cx="752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68440" y="2347920"/>
              <a:ext cx="1244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C ru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xplor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2"/>
            <a:stretch/>
          </p:blipFill>
          <p:spPr>
            <a:xfrm>
              <a:off x="855720" y="4448160"/>
              <a:ext cx="7524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3382560" y="372888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3746520" y="2617560"/>
              <a:ext cx="504000" cy="1070640"/>
              <a:chOff x="3746520" y="2617560"/>
              <a:chExt cx="504000" cy="1070640"/>
            </a:xfrm>
          </p:grpSpPr>
          <p:sp>
            <p:nvSpPr>
              <p:cNvPr id="403" name=""/>
              <p:cNvSpPr/>
              <p:nvPr/>
            </p:nvSpPr>
            <p:spPr>
              <a:xfrm>
                <a:off x="3746520" y="3440880"/>
                <a:ext cx="504000" cy="247320"/>
              </a:xfrm>
              <a:prstGeom prst="parallelogram">
                <a:avLst>
                  <a:gd name="adj" fmla="val 7850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001760" y="2624400"/>
                <a:ext cx="231840" cy="8226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49400" y="2858040"/>
                <a:ext cx="319680" cy="8233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46520" y="2617560"/>
                <a:ext cx="504000" cy="247320"/>
              </a:xfrm>
              <a:prstGeom prst="parallelogram">
                <a:avLst>
                  <a:gd name="adj" fmla="val 7850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50520" y="2634840"/>
                <a:ext cx="0" cy="80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4069080" y="3440880"/>
                <a:ext cx="181440" cy="24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89720" y="2966400"/>
                <a:ext cx="212040" cy="474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820320" y="3109680"/>
                <a:ext cx="160920" cy="1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1579320" y="2025720"/>
              <a:ext cx="2086200" cy="96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1636200" y="2225520"/>
              <a:ext cx="1971720" cy="90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1569960" y="3397320"/>
              <a:ext cx="2047680" cy="109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1646280" y="3521160"/>
              <a:ext cx="2047680" cy="1133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2880" y="5110200"/>
              <a:ext cx="139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c ru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avig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422000">
              <a:off x="1955160" y="2185920"/>
              <a:ext cx="146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9906800">
              <a:off x="1746000" y="3681000"/>
              <a:ext cx="146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411200">
              <a:off x="1750320" y="2633400"/>
              <a:ext cx="161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9861800">
              <a:off x="1931040" y="4014720"/>
              <a:ext cx="161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572000" y="4191120"/>
            <a:ext cx="3895560" cy="1919160"/>
            <a:chOff x="4572000" y="4191120"/>
            <a:chExt cx="3895560" cy="1919160"/>
          </a:xfrm>
        </p:grpSpPr>
        <p:sp>
          <p:nvSpPr>
            <p:cNvPr id="421" name=""/>
            <p:cNvSpPr/>
            <p:nvPr/>
          </p:nvSpPr>
          <p:spPr>
            <a:xfrm>
              <a:off x="4572000" y="4191120"/>
              <a:ext cx="3895560" cy="191916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21040" y="4343400"/>
              <a:ext cx="34876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GET /somedir/page.html HTTP/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: www.someschool.ed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User-agent: Mozilla/4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nnection: clo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cept-language:f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xtra carriage return, line feed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93E-B877-440E-8146-945A898332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-based format that tells browser what to “display” on the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1&gt;Hello!!!&lt;/H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 is a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114800" y="3048120"/>
          <a:ext cx="4441680" cy="31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048120"/>
                    <a:ext cx="444168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C6C-6CC4-4EDA-A523-00700EEA77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vs. Dynamic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applications consist of 2 pag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ages: HTML, picture, audio, tex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ages: result of search pages, form submiss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erve a static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er grabs a static page from a file in the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28C-4438-4F5B-9E16-D2F2A0EFC8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ng a Static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819520"/>
            <a:ext cx="1523880" cy="15238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828800" y="3048120"/>
          <a:ext cx="90000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9000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2743200" y="342900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2742840" y="380988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45720" y="3048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45000" y="388620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095880" y="320040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5409720" y="358128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80F2-9838-4DE5-A45C-FE34BDFDC26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ng a Dynamic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er will activate designated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Gateway Interface (CG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-sided Java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mostly to connect to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P, ASP, PHP, EXE, Clas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C06-E45A-4A89-A702-30888ADD5A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ng a Dynamic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858000" y="4952880"/>
          <a:ext cx="91440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952880"/>
                    <a:ext cx="9144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3124080" y="2819520"/>
            <a:ext cx="1524240" cy="15238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553080" y="2819520"/>
            <a:ext cx="1524240" cy="1523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3429000"/>
            <a:ext cx="1904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647960" y="3809880"/>
            <a:ext cx="1904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76680" y="297180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arch.jsp - pa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032080" y="38862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391520" y="434340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7238880" y="434304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066680" y="3048120"/>
          <a:ext cx="90036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048120"/>
                    <a:ext cx="9003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1981080" y="342900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980720" y="380988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983600" y="3048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983240" y="388620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200400" y="380988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696080" y="175248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arch.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772040" y="2590920"/>
            <a:ext cx="30492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E86-9F99-41F3-B3CF-360518601C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P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TABLE WIDTH=60% BGCOLOR=lightblue BORDER=1 CELLPADDING=10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TR&gt; &lt;TH&gt; Time &lt;/TH&gt; &lt;TH&gt; Appointment &lt;/TH&gt; &lt;/T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int i=0; i&lt;table.getEntries().getRows(); i++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al.Entry entr = table.getEntries().getEntry(i);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TD&gt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A HREF=cal2.jsp?time=&lt;%= entr.getHour() %&gt;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%= entr.getHour() %&gt; &lt;/A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TD BGCOLOR=&lt;%= entr.getColor() %&gt;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% out.print(util.HTMLFilter.filter(entr.getDescription())); %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TD&gt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75B-1D3B-43A5-9B82-65B639E42F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nd other tech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Internet mech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AE6-2DBF-41DB-8A8B-54FDEC3C6B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and E-Comme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Internet Mech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5E8-9BA8-4C91-9B6D-A406831BB5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Termi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don’t know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ng with external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P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C4B-7D61-43B4-B40F-1F1F3EF29E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everything – Buzz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Commerce: Amazon, eBay, Del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Business: Fedex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Billing: Yahoo! Fi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Government: Thai eGo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898-CA0B-4519-9D59-80958B12A5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B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746760" cy="311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C4D-707A-4493-9C1A-74D71170A9F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2843280" cy="424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838080" y="2133720"/>
          <a:ext cx="4543560" cy="327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4543560" cy="32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B2D-9139-49BD-BA9F-DCCC1A85716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-2-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who To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2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2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2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2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2A0-B275-42F9-89C4-14EB5C5E67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nternet Wor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ons of connected de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f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48320" y="2057400"/>
            <a:ext cx="3677760" cy="3715200"/>
            <a:chOff x="4648320" y="2057400"/>
            <a:chExt cx="3677760" cy="3715200"/>
          </a:xfrm>
        </p:grpSpPr>
        <p:sp>
          <p:nvSpPr>
            <p:cNvPr id="103" name=""/>
            <p:cNvSpPr/>
            <p:nvPr/>
          </p:nvSpPr>
          <p:spPr>
            <a:xfrm>
              <a:off x="6527520" y="2217600"/>
              <a:ext cx="1798560" cy="167508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48320" y="2075040"/>
              <a:ext cx="1866600" cy="158904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16240" y="3525840"/>
              <a:ext cx="2974680" cy="221940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4765680" y="2209680"/>
              <a:ext cx="732600" cy="319320"/>
              <a:chOff x="4765680" y="2209680"/>
              <a:chExt cx="732600" cy="31932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5680" y="2209680"/>
                <a:ext cx="415800" cy="3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18920" y="2327760"/>
                <a:ext cx="279360" cy="18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flipV="1">
                <a:off x="5171760" y="245124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765680" y="2805120"/>
              <a:ext cx="732600" cy="318960"/>
              <a:chOff x="4765680" y="2805120"/>
              <a:chExt cx="732600" cy="318960"/>
            </a:xfrm>
          </p:grpSpPr>
          <p:pic>
            <p:nvPicPr>
              <p:cNvPr id="11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65680" y="2805120"/>
                <a:ext cx="41580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18920" y="292320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flipV="1">
                <a:off x="5171760" y="304668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141880" y="2592360"/>
              <a:ext cx="69120" cy="214200"/>
              <a:chOff x="5141880" y="2592360"/>
              <a:chExt cx="69120" cy="214200"/>
            </a:xfrm>
          </p:grpSpPr>
          <p:sp>
            <p:nvSpPr>
              <p:cNvPr id="115" name=""/>
              <p:cNvSpPr/>
              <p:nvPr/>
            </p:nvSpPr>
            <p:spPr>
              <a:xfrm>
                <a:off x="5141880" y="2592360"/>
                <a:ext cx="63720" cy="6012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144400" y="2669400"/>
                <a:ext cx="63720" cy="6012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47280" y="2746440"/>
                <a:ext cx="63720" cy="6012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611680" y="3095640"/>
              <a:ext cx="209160" cy="394920"/>
              <a:chOff x="5611680" y="3095640"/>
              <a:chExt cx="209160" cy="394920"/>
            </a:xfrm>
          </p:grpSpPr>
          <p:sp>
            <p:nvSpPr>
              <p:cNvPr id="119" name=""/>
              <p:cNvSpPr/>
              <p:nvPr/>
            </p:nvSpPr>
            <p:spPr>
              <a:xfrm>
                <a:off x="5611680" y="3399480"/>
                <a:ext cx="209160" cy="91080"/>
              </a:xfrm>
              <a:prstGeom prst="parallelogram">
                <a:avLst>
                  <a:gd name="adj" fmla="val 8846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17520" y="309816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612760" y="318420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11680" y="3095640"/>
                <a:ext cx="209160" cy="91080"/>
              </a:xfrm>
              <a:prstGeom prst="parallelogram">
                <a:avLst>
                  <a:gd name="adj" fmla="val 8846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20840" y="310176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5744880" y="339948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629680" y="3224160"/>
                <a:ext cx="87840" cy="174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42280" y="327708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848200" y="3249360"/>
              <a:ext cx="232560" cy="81000"/>
              <a:chOff x="5848200" y="3249360"/>
              <a:chExt cx="232560" cy="81000"/>
            </a:xfrm>
          </p:grpSpPr>
          <p:sp>
            <p:nvSpPr>
              <p:cNvPr id="128" name=""/>
              <p:cNvSpPr/>
              <p:nvPr/>
            </p:nvSpPr>
            <p:spPr>
              <a:xfrm rot="16200000">
                <a:off x="5843520" y="3260160"/>
                <a:ext cx="74520" cy="6552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00000">
                <a:off x="5927040" y="3257280"/>
                <a:ext cx="74520" cy="651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6200000">
                <a:off x="6010920" y="3254040"/>
                <a:ext cx="74520" cy="651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5748120" y="3003480"/>
              <a:ext cx="495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51360" y="3000240"/>
              <a:ext cx="108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6720" y="2998800"/>
              <a:ext cx="108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48240" y="2463840"/>
              <a:ext cx="28836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460840" y="2749320"/>
              <a:ext cx="27576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987880" y="2835360"/>
              <a:ext cx="14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107040" y="3073320"/>
              <a:ext cx="209160" cy="394920"/>
              <a:chOff x="6107040" y="3073320"/>
              <a:chExt cx="209160" cy="394920"/>
            </a:xfrm>
          </p:grpSpPr>
          <p:sp>
            <p:nvSpPr>
              <p:cNvPr id="138" name=""/>
              <p:cNvSpPr/>
              <p:nvPr/>
            </p:nvSpPr>
            <p:spPr>
              <a:xfrm>
                <a:off x="6107040" y="3377160"/>
                <a:ext cx="209160" cy="91080"/>
              </a:xfrm>
              <a:prstGeom prst="parallelogram">
                <a:avLst>
                  <a:gd name="adj" fmla="val 8846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12880" y="307584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08120" y="316188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07040" y="3073320"/>
                <a:ext cx="209160" cy="91080"/>
              </a:xfrm>
              <a:prstGeom prst="parallelogram">
                <a:avLst>
                  <a:gd name="adj" fmla="val 8846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316200" y="307944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6240240" y="337716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25040" y="3201840"/>
                <a:ext cx="87840" cy="174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37640" y="325476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149800" y="3692520"/>
              <a:ext cx="478800" cy="925200"/>
              <a:chOff x="5149800" y="3692520"/>
              <a:chExt cx="478800" cy="925200"/>
            </a:xfrm>
          </p:grpSpPr>
          <p:pic>
            <p:nvPicPr>
              <p:cNvPr id="14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49800" y="3692520"/>
                <a:ext cx="41616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 flipV="1">
                <a:off x="5556240" y="393912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149800" y="4287240"/>
                <a:ext cx="41616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flipV="1">
                <a:off x="5556240" y="453744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5275080" y="4033800"/>
                <a:ext cx="70560" cy="222480"/>
                <a:chOff x="5275080" y="4033800"/>
                <a:chExt cx="70560" cy="2224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275080" y="4033800"/>
                  <a:ext cx="65160" cy="62640"/>
                </a:xfrm>
                <a:prstGeom prst="ellips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277600" y="4113720"/>
                  <a:ext cx="65160" cy="62280"/>
                </a:xfrm>
                <a:prstGeom prst="ellips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280480" y="4194000"/>
                  <a:ext cx="65160" cy="62280"/>
                </a:xfrm>
                <a:prstGeom prst="ellipse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5623200" y="3936240"/>
                <a:ext cx="0" cy="60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6" name="" descr=""/>
            <p:cNvPicPr/>
            <p:nvPr/>
          </p:nvPicPr>
          <p:blipFill>
            <a:blip r:embed="rId7"/>
            <a:stretch/>
          </p:blipFill>
          <p:spPr>
            <a:xfrm>
              <a:off x="6018120" y="4702320"/>
              <a:ext cx="4172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8"/>
            <a:stretch/>
          </p:blipFill>
          <p:spPr>
            <a:xfrm>
              <a:off x="5403600" y="4691160"/>
              <a:ext cx="415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6200000">
              <a:off x="5820120" y="4795200"/>
              <a:ext cx="63360" cy="644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5905080" y="4792320"/>
              <a:ext cx="63720" cy="666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5982840" y="4797720"/>
              <a:ext cx="61920" cy="64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271920" y="4647960"/>
              <a:ext cx="144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5648040" y="4637160"/>
              <a:ext cx="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5649480" y="4643280"/>
              <a:ext cx="62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629320" y="4268520"/>
              <a:ext cx="932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30880" y="4314960"/>
              <a:ext cx="30276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25760" y="4311720"/>
              <a:ext cx="27900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9"/>
            <a:stretch/>
          </p:blipFill>
          <p:spPr>
            <a:xfrm>
              <a:off x="7203960" y="3863880"/>
              <a:ext cx="20268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0"/>
            <a:stretch/>
          </p:blipFill>
          <p:spPr>
            <a:xfrm>
              <a:off x="5867280" y="3944880"/>
              <a:ext cx="20268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948280" y="3719520"/>
              <a:ext cx="1353600" cy="30492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6215040" y="5141880"/>
              <a:ext cx="405720" cy="426960"/>
              <a:chOff x="6215040" y="5141880"/>
              <a:chExt cx="405720" cy="42696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15040" y="5141880"/>
                <a:ext cx="37800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274800" y="5253840"/>
                <a:ext cx="34596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"/>
            <p:cNvGrpSpPr/>
            <p:nvPr/>
          </p:nvGrpSpPr>
          <p:grpSpPr>
            <a:xfrm>
              <a:off x="6992640" y="5173560"/>
              <a:ext cx="405720" cy="426960"/>
              <a:chOff x="6992640" y="5173560"/>
              <a:chExt cx="405720" cy="426960"/>
            </a:xfrm>
          </p:grpSpPr>
          <p:pic>
            <p:nvPicPr>
              <p:cNvPr id="17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92640" y="5173560"/>
                <a:ext cx="37800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52400" y="5285520"/>
                <a:ext cx="34596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6" name=""/>
            <p:cNvGrpSpPr/>
            <p:nvPr/>
          </p:nvGrpSpPr>
          <p:grpSpPr>
            <a:xfrm>
              <a:off x="6578640" y="4889520"/>
              <a:ext cx="378720" cy="376200"/>
              <a:chOff x="6578640" y="4889520"/>
              <a:chExt cx="378720" cy="376200"/>
            </a:xfrm>
          </p:grpSpPr>
          <p:pic>
            <p:nvPicPr>
              <p:cNvPr id="177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578640" y="4889520"/>
                <a:ext cx="37872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6688440" y="5021640"/>
                <a:ext cx="26676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6885000" y="47926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7605720" y="4216320"/>
              <a:ext cx="207360" cy="409680"/>
              <a:chOff x="7605720" y="4216320"/>
              <a:chExt cx="207360" cy="409680"/>
            </a:xfrm>
          </p:grpSpPr>
          <p:sp>
            <p:nvSpPr>
              <p:cNvPr id="181" name=""/>
              <p:cNvSpPr/>
              <p:nvPr/>
            </p:nvSpPr>
            <p:spPr>
              <a:xfrm>
                <a:off x="7605720" y="4531320"/>
                <a:ext cx="207360" cy="94680"/>
              </a:xfrm>
              <a:prstGeom prst="parallelogram">
                <a:avLst>
                  <a:gd name="adj" fmla="val 8437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10480" y="4218840"/>
                <a:ext cx="9504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6800" y="4308120"/>
                <a:ext cx="13140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05720" y="4216320"/>
                <a:ext cx="207360" cy="94680"/>
              </a:xfrm>
              <a:prstGeom prst="parallelogram">
                <a:avLst>
                  <a:gd name="adj" fmla="val 8437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813080" y="422280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7737840" y="4531320"/>
                <a:ext cx="7452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623360" y="4349520"/>
                <a:ext cx="87120" cy="18144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635960" y="4404240"/>
                <a:ext cx="6588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592760" y="4660920"/>
              <a:ext cx="207720" cy="409680"/>
              <a:chOff x="7592760" y="4660920"/>
              <a:chExt cx="207720" cy="409680"/>
            </a:xfrm>
          </p:grpSpPr>
          <p:sp>
            <p:nvSpPr>
              <p:cNvPr id="190" name=""/>
              <p:cNvSpPr/>
              <p:nvPr/>
            </p:nvSpPr>
            <p:spPr>
              <a:xfrm>
                <a:off x="7592760" y="4975920"/>
                <a:ext cx="207720" cy="94680"/>
              </a:xfrm>
              <a:prstGeom prst="parallelogram">
                <a:avLst>
                  <a:gd name="adj" fmla="val 8451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697880" y="466344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93840" y="4752720"/>
                <a:ext cx="13140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592760" y="4660920"/>
                <a:ext cx="207720" cy="94680"/>
              </a:xfrm>
              <a:prstGeom prst="parallelogram">
                <a:avLst>
                  <a:gd name="adj" fmla="val 8451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800480" y="466740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7725240" y="4975920"/>
                <a:ext cx="7452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610400" y="4794120"/>
                <a:ext cx="87120" cy="18144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623000" y="484884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V="1">
              <a:off x="7524720" y="4284720"/>
              <a:ext cx="0" cy="6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21480" y="4894200"/>
              <a:ext cx="10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18240" y="441792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242040" y="2514600"/>
              <a:ext cx="45828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76960" y="2498760"/>
              <a:ext cx="48528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695720" y="2835360"/>
              <a:ext cx="240840" cy="6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26040" y="26114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51600" y="3259080"/>
              <a:ext cx="53460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411680" y="3724200"/>
              <a:ext cx="26604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184880" y="2803680"/>
              <a:ext cx="56016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194240" y="2243160"/>
              <a:ext cx="35028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911720" y="2419200"/>
              <a:ext cx="2012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80760" y="2057400"/>
              <a:ext cx="117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ocal IS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30640" y="5068800"/>
              <a:ext cx="1280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9880" y="320976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gional IS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722920" y="2611440"/>
              <a:ext cx="501120" cy="232920"/>
              <a:chOff x="5722920" y="2611440"/>
              <a:chExt cx="501120" cy="232920"/>
            </a:xfrm>
          </p:grpSpPr>
          <p:sp>
            <p:nvSpPr>
              <p:cNvPr id="214" name=""/>
              <p:cNvSpPr/>
              <p:nvPr/>
            </p:nvSpPr>
            <p:spPr>
              <a:xfrm>
                <a:off x="5726880" y="2715480"/>
                <a:ext cx="496800" cy="1288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26880" y="2704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24040" y="2704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26880" y="2704320"/>
                <a:ext cx="492480" cy="788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22920" y="2611440"/>
                <a:ext cx="496440" cy="1504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5842440" y="2644200"/>
                <a:ext cx="245880" cy="88200"/>
                <a:chOff x="5842440" y="2644200"/>
                <a:chExt cx="245880" cy="88200"/>
              </a:xfrm>
            </p:grpSpPr>
            <p:sp>
              <p:nvSpPr>
                <p:cNvPr id="220" name=""/>
                <p:cNvSpPr/>
                <p:nvPr/>
              </p:nvSpPr>
              <p:spPr>
                <a:xfrm flipV="1">
                  <a:off x="5842440" y="26442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010920" y="2732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923440" y="26463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5842440" y="2643480"/>
                <a:ext cx="245880" cy="88200"/>
                <a:chOff x="5842440" y="2643480"/>
                <a:chExt cx="245880" cy="882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842440" y="27298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10920" y="2643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5923440" y="26434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"/>
            <p:cNvGrpSpPr/>
            <p:nvPr/>
          </p:nvGrpSpPr>
          <p:grpSpPr>
            <a:xfrm>
              <a:off x="6675480" y="2382840"/>
              <a:ext cx="501120" cy="232920"/>
              <a:chOff x="6675480" y="2382840"/>
              <a:chExt cx="501120" cy="232920"/>
            </a:xfrm>
          </p:grpSpPr>
          <p:sp>
            <p:nvSpPr>
              <p:cNvPr id="228" name=""/>
              <p:cNvSpPr/>
              <p:nvPr/>
            </p:nvSpPr>
            <p:spPr>
              <a:xfrm>
                <a:off x="6679440" y="2486880"/>
                <a:ext cx="496800" cy="1288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679440" y="24757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76600" y="24757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679440" y="2475720"/>
                <a:ext cx="492480" cy="788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675480" y="2382840"/>
                <a:ext cx="496440" cy="1504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6795000" y="2415600"/>
                <a:ext cx="245880" cy="88200"/>
                <a:chOff x="6795000" y="2415600"/>
                <a:chExt cx="245880" cy="88200"/>
              </a:xfrm>
            </p:grpSpPr>
            <p:sp>
              <p:nvSpPr>
                <p:cNvPr id="234" name=""/>
                <p:cNvSpPr/>
                <p:nvPr/>
              </p:nvSpPr>
              <p:spPr>
                <a:xfrm flipV="1">
                  <a:off x="6795000" y="24156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963480" y="2503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876000" y="24177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6795000" y="2414880"/>
                <a:ext cx="245880" cy="88200"/>
                <a:chOff x="6795000" y="2414880"/>
                <a:chExt cx="245880" cy="882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795000" y="25012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963480" y="2414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6876000" y="24148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"/>
            <p:cNvGrpSpPr/>
            <p:nvPr/>
          </p:nvGrpSpPr>
          <p:grpSpPr>
            <a:xfrm>
              <a:off x="6692760" y="3040200"/>
              <a:ext cx="501480" cy="232920"/>
              <a:chOff x="6692760" y="3040200"/>
              <a:chExt cx="501480" cy="232920"/>
            </a:xfrm>
          </p:grpSpPr>
          <p:sp>
            <p:nvSpPr>
              <p:cNvPr id="242" name=""/>
              <p:cNvSpPr/>
              <p:nvPr/>
            </p:nvSpPr>
            <p:spPr>
              <a:xfrm>
                <a:off x="6696720" y="3144240"/>
                <a:ext cx="497160" cy="1288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96720" y="31330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94240" y="31330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696720" y="3133080"/>
                <a:ext cx="492840" cy="788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692760" y="3040200"/>
                <a:ext cx="496800" cy="1504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6812280" y="3072960"/>
                <a:ext cx="246240" cy="88200"/>
                <a:chOff x="6812280" y="3072960"/>
                <a:chExt cx="246240" cy="88200"/>
              </a:xfrm>
            </p:grpSpPr>
            <p:sp>
              <p:nvSpPr>
                <p:cNvPr id="248" name=""/>
                <p:cNvSpPr/>
                <p:nvPr/>
              </p:nvSpPr>
              <p:spPr>
                <a:xfrm flipV="1">
                  <a:off x="6812280" y="30729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981120" y="3161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93280" y="30751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812280" y="3072240"/>
                <a:ext cx="246240" cy="88200"/>
                <a:chOff x="6812280" y="3072240"/>
                <a:chExt cx="246240" cy="882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812280" y="3158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981120" y="3072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6893280" y="3072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7662600" y="2590920"/>
              <a:ext cx="499680" cy="232920"/>
              <a:chOff x="7662600" y="2590920"/>
              <a:chExt cx="499680" cy="232920"/>
            </a:xfrm>
          </p:grpSpPr>
          <p:sp>
            <p:nvSpPr>
              <p:cNvPr id="256" name=""/>
              <p:cNvSpPr/>
              <p:nvPr/>
            </p:nvSpPr>
            <p:spPr>
              <a:xfrm>
                <a:off x="7666560" y="2694960"/>
                <a:ext cx="495360" cy="1288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66560" y="26838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62280" y="26838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66560" y="2683800"/>
                <a:ext cx="491040" cy="788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62600" y="2590920"/>
                <a:ext cx="495000" cy="1504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7781760" y="2623680"/>
                <a:ext cx="245160" cy="88200"/>
                <a:chOff x="7781760" y="2623680"/>
                <a:chExt cx="245160" cy="88200"/>
              </a:xfrm>
            </p:grpSpPr>
            <p:sp>
              <p:nvSpPr>
                <p:cNvPr id="262" name=""/>
                <p:cNvSpPr/>
                <p:nvPr/>
              </p:nvSpPr>
              <p:spPr>
                <a:xfrm flipV="1">
                  <a:off x="7781760" y="26236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949880" y="27118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862400" y="26258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7781760" y="2622960"/>
                <a:ext cx="245160" cy="88200"/>
                <a:chOff x="7781760" y="2622960"/>
                <a:chExt cx="245160" cy="8820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7781760" y="27093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949880" y="26229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7862400" y="2622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7468920" y="3487680"/>
              <a:ext cx="501480" cy="232920"/>
              <a:chOff x="7468920" y="3487680"/>
              <a:chExt cx="501480" cy="232920"/>
            </a:xfrm>
          </p:grpSpPr>
          <p:sp>
            <p:nvSpPr>
              <p:cNvPr id="270" name=""/>
              <p:cNvSpPr/>
              <p:nvPr/>
            </p:nvSpPr>
            <p:spPr>
              <a:xfrm>
                <a:off x="7472880" y="3591720"/>
                <a:ext cx="497160" cy="1288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72880" y="3580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970400" y="3580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472880" y="3580560"/>
                <a:ext cx="492840" cy="788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468920" y="3487680"/>
                <a:ext cx="496800" cy="1504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7588440" y="3520440"/>
                <a:ext cx="246240" cy="88200"/>
                <a:chOff x="7588440" y="3520440"/>
                <a:chExt cx="246240" cy="88200"/>
              </a:xfrm>
            </p:grpSpPr>
            <p:sp>
              <p:nvSpPr>
                <p:cNvPr id="276" name=""/>
                <p:cNvSpPr/>
                <p:nvPr/>
              </p:nvSpPr>
              <p:spPr>
                <a:xfrm flipV="1">
                  <a:off x="7588440" y="3520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757280" y="3608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669440" y="3522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588440" y="3519720"/>
                <a:ext cx="246240" cy="88200"/>
                <a:chOff x="7588440" y="3519720"/>
                <a:chExt cx="246240" cy="882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588440" y="3606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757280" y="3519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7669440" y="35197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7135560" y="4071960"/>
              <a:ext cx="501480" cy="234720"/>
              <a:chOff x="7135560" y="4071960"/>
              <a:chExt cx="501480" cy="234720"/>
            </a:xfrm>
          </p:grpSpPr>
          <p:sp>
            <p:nvSpPr>
              <p:cNvPr id="284" name=""/>
              <p:cNvSpPr/>
              <p:nvPr/>
            </p:nvSpPr>
            <p:spPr>
              <a:xfrm>
                <a:off x="7139520" y="4176720"/>
                <a:ext cx="497160" cy="12996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139520" y="416556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7040" y="416556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139520" y="4165560"/>
                <a:ext cx="492840" cy="795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135560" y="4071960"/>
                <a:ext cx="496800" cy="15156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7255080" y="4105080"/>
                <a:ext cx="246240" cy="88920"/>
                <a:chOff x="7255080" y="4105080"/>
                <a:chExt cx="246240" cy="88920"/>
              </a:xfrm>
            </p:grpSpPr>
            <p:sp>
              <p:nvSpPr>
                <p:cNvPr id="290" name=""/>
                <p:cNvSpPr/>
                <p:nvPr/>
              </p:nvSpPr>
              <p:spPr>
                <a:xfrm flipV="1">
                  <a:off x="7255080" y="4105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423920" y="4194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336080" y="410724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7255080" y="4104000"/>
                <a:ext cx="246240" cy="88920"/>
                <a:chOff x="7255080" y="4104000"/>
                <a:chExt cx="246240" cy="889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255080" y="4191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423920" y="4104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336080" y="410400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7" name=""/>
            <p:cNvGrpSpPr/>
            <p:nvPr/>
          </p:nvGrpSpPr>
          <p:grpSpPr>
            <a:xfrm>
              <a:off x="6526080" y="4560840"/>
              <a:ext cx="499680" cy="232920"/>
              <a:chOff x="6526080" y="4560840"/>
              <a:chExt cx="499680" cy="232920"/>
            </a:xfrm>
          </p:grpSpPr>
          <p:sp>
            <p:nvSpPr>
              <p:cNvPr id="298" name=""/>
              <p:cNvSpPr/>
              <p:nvPr/>
            </p:nvSpPr>
            <p:spPr>
              <a:xfrm>
                <a:off x="6530040" y="4664880"/>
                <a:ext cx="495360" cy="1288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30040" y="46537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025760" y="46537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530040" y="4653720"/>
                <a:ext cx="491040" cy="788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526080" y="4560840"/>
                <a:ext cx="495000" cy="1504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6645240" y="4593600"/>
                <a:ext cx="245160" cy="88200"/>
                <a:chOff x="6645240" y="4593600"/>
                <a:chExt cx="245160" cy="88200"/>
              </a:xfrm>
            </p:grpSpPr>
            <p:sp>
              <p:nvSpPr>
                <p:cNvPr id="304" name=""/>
                <p:cNvSpPr/>
                <p:nvPr/>
              </p:nvSpPr>
              <p:spPr>
                <a:xfrm flipV="1">
                  <a:off x="6645240" y="45936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813360" y="468180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725880" y="45957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6645240" y="4592880"/>
                <a:ext cx="245160" cy="88200"/>
                <a:chOff x="6645240" y="4592880"/>
                <a:chExt cx="245160" cy="882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6645240" y="46792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813360" y="45928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6725880" y="45928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5722920" y="4184640"/>
              <a:ext cx="501120" cy="232920"/>
              <a:chOff x="5722920" y="4184640"/>
              <a:chExt cx="501120" cy="232920"/>
            </a:xfrm>
          </p:grpSpPr>
          <p:sp>
            <p:nvSpPr>
              <p:cNvPr id="312" name=""/>
              <p:cNvSpPr/>
              <p:nvPr/>
            </p:nvSpPr>
            <p:spPr>
              <a:xfrm>
                <a:off x="5726880" y="4288680"/>
                <a:ext cx="496800" cy="1288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26880" y="4277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224040" y="4277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726880" y="4277520"/>
                <a:ext cx="492480" cy="788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722920" y="4184640"/>
                <a:ext cx="496440" cy="1504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842440" y="4217400"/>
                <a:ext cx="245880" cy="88200"/>
                <a:chOff x="5842440" y="4217400"/>
                <a:chExt cx="245880" cy="88200"/>
              </a:xfrm>
            </p:grpSpPr>
            <p:sp>
              <p:nvSpPr>
                <p:cNvPr id="318" name=""/>
                <p:cNvSpPr/>
                <p:nvPr/>
              </p:nvSpPr>
              <p:spPr>
                <a:xfrm flipV="1">
                  <a:off x="5842440" y="42174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010920" y="430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923440" y="4219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5842440" y="4216680"/>
                <a:ext cx="245880" cy="88200"/>
                <a:chOff x="5842440" y="4216680"/>
                <a:chExt cx="245880" cy="882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5842440" y="4303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010920" y="42166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5923440" y="42166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5" name=""/>
          <p:cNvGrpSpPr/>
          <p:nvPr/>
        </p:nvGrpSpPr>
        <p:grpSpPr>
          <a:xfrm>
            <a:off x="1455480" y="4648320"/>
            <a:ext cx="2792880" cy="1258920"/>
            <a:chOff x="1455480" y="4648320"/>
            <a:chExt cx="2792880" cy="1258920"/>
          </a:xfrm>
        </p:grpSpPr>
        <p:grpSp>
          <p:nvGrpSpPr>
            <p:cNvPr id="326" name=""/>
            <p:cNvGrpSpPr/>
            <p:nvPr/>
          </p:nvGrpSpPr>
          <p:grpSpPr>
            <a:xfrm>
              <a:off x="1495440" y="4648320"/>
              <a:ext cx="501120" cy="232560"/>
              <a:chOff x="1495440" y="4648320"/>
              <a:chExt cx="501120" cy="232560"/>
            </a:xfrm>
          </p:grpSpPr>
          <p:sp>
            <p:nvSpPr>
              <p:cNvPr id="327" name=""/>
              <p:cNvSpPr/>
              <p:nvPr/>
            </p:nvSpPr>
            <p:spPr>
              <a:xfrm>
                <a:off x="1499400" y="4752000"/>
                <a:ext cx="496800" cy="1288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499400" y="4741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996560" y="4741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99400" y="4741200"/>
                <a:ext cx="492480" cy="788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495440" y="4648320"/>
                <a:ext cx="496440" cy="1504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1614960" y="4681080"/>
                <a:ext cx="245880" cy="88200"/>
                <a:chOff x="1614960" y="4681080"/>
                <a:chExt cx="245880" cy="88200"/>
              </a:xfrm>
            </p:grpSpPr>
            <p:sp>
              <p:nvSpPr>
                <p:cNvPr id="333" name=""/>
                <p:cNvSpPr/>
                <p:nvPr/>
              </p:nvSpPr>
              <p:spPr>
                <a:xfrm flipV="1">
                  <a:off x="1614960" y="4681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83440" y="476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695960" y="46832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614960" y="4680000"/>
                <a:ext cx="245880" cy="88200"/>
                <a:chOff x="1614960" y="4680000"/>
                <a:chExt cx="245880" cy="882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614960" y="47664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83440" y="468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1695960" y="46800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1504800" y="5224320"/>
              <a:ext cx="209160" cy="408960"/>
              <a:chOff x="1504800" y="5224320"/>
              <a:chExt cx="209160" cy="408960"/>
            </a:xfrm>
          </p:grpSpPr>
          <p:sp>
            <p:nvSpPr>
              <p:cNvPr id="341" name=""/>
              <p:cNvSpPr/>
              <p:nvPr/>
            </p:nvSpPr>
            <p:spPr>
              <a:xfrm>
                <a:off x="1504800" y="5538960"/>
                <a:ext cx="209160" cy="94320"/>
              </a:xfrm>
              <a:prstGeom prst="parallelogram">
                <a:avLst>
                  <a:gd name="adj" fmla="val 8542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10640" y="5226840"/>
                <a:ext cx="9612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05880" y="5316120"/>
                <a:ext cx="13248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04800" y="5224320"/>
                <a:ext cx="209160" cy="94320"/>
              </a:xfrm>
              <a:prstGeom prst="parallelogram">
                <a:avLst>
                  <a:gd name="adj" fmla="val 8542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13960" y="523080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1638000" y="5538960"/>
                <a:ext cx="7524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22800" y="5357520"/>
                <a:ext cx="87840" cy="1810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35400" y="5412240"/>
                <a:ext cx="6660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9" name="" descr=""/>
            <p:cNvPicPr/>
            <p:nvPr/>
          </p:nvPicPr>
          <p:blipFill>
            <a:blip r:embed="rId16"/>
            <a:stretch/>
          </p:blipFill>
          <p:spPr>
            <a:xfrm>
              <a:off x="2759040" y="4701960"/>
              <a:ext cx="416880" cy="31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0" name=""/>
            <p:cNvGrpSpPr/>
            <p:nvPr/>
          </p:nvGrpSpPr>
          <p:grpSpPr>
            <a:xfrm>
              <a:off x="2697120" y="5308560"/>
              <a:ext cx="405720" cy="426240"/>
              <a:chOff x="2697120" y="5308560"/>
              <a:chExt cx="405720" cy="426240"/>
            </a:xfrm>
          </p:grpSpPr>
          <p:pic>
            <p:nvPicPr>
              <p:cNvPr id="35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697120" y="5308560"/>
                <a:ext cx="378000" cy="37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56880" y="5420160"/>
                <a:ext cx="345960" cy="31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3" name=""/>
            <p:cNvSpPr/>
            <p:nvPr/>
          </p:nvSpPr>
          <p:spPr>
            <a:xfrm>
              <a:off x="1455480" y="48114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u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48880" y="4938480"/>
              <a:ext cx="159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77960" y="5322600"/>
              <a:ext cx="92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14280" y="5508360"/>
              <a:ext cx="10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ob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AF9-3F1C-45E5-BA0E-10ABCDFC77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rotoco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format, order/sequence of communication, and actions when sending or recei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4038480"/>
            <a:ext cx="2743200" cy="188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are you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m fine.  And you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y well, thank you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388280" y="3745080"/>
            <a:ext cx="355320" cy="932400"/>
            <a:chOff x="7388280" y="3745080"/>
            <a:chExt cx="355320" cy="932400"/>
          </a:xfrm>
        </p:grpSpPr>
        <p:sp>
          <p:nvSpPr>
            <p:cNvPr id="361" name=""/>
            <p:cNvSpPr/>
            <p:nvPr/>
          </p:nvSpPr>
          <p:spPr>
            <a:xfrm>
              <a:off x="7388280" y="4462200"/>
              <a:ext cx="355320" cy="215280"/>
            </a:xfrm>
            <a:prstGeom prst="parallelogram">
              <a:avLst>
                <a:gd name="adj" fmla="val 6358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68280" y="375120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90080" y="395424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88280" y="3745080"/>
              <a:ext cx="355320" cy="215280"/>
            </a:xfrm>
            <a:prstGeom prst="parallelogram">
              <a:avLst>
                <a:gd name="adj" fmla="val 63582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743600" y="376020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615080" y="446220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18880" y="4048560"/>
              <a:ext cx="149400" cy="413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40120" y="417348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702320" y="3557520"/>
            <a:ext cx="622080" cy="500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308200" y="3581280"/>
            <a:ext cx="20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CP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102280" y="5573880"/>
            <a:ext cx="2343240" cy="428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78400" y="3906720"/>
            <a:ext cx="17622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054760" y="4402080"/>
            <a:ext cx="2085840" cy="362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289120" y="4334040"/>
            <a:ext cx="2026440" cy="703800"/>
            <a:chOff x="5289120" y="4334040"/>
            <a:chExt cx="2026440" cy="703800"/>
          </a:xfrm>
        </p:grpSpPr>
        <p:sp>
          <p:nvSpPr>
            <p:cNvPr id="375" name=""/>
            <p:cNvSpPr/>
            <p:nvPr/>
          </p:nvSpPr>
          <p:spPr>
            <a:xfrm>
              <a:off x="5407200" y="4402080"/>
              <a:ext cx="143820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89120" y="4334040"/>
              <a:ext cx="202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CP conn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102280" y="5011560"/>
            <a:ext cx="2400120" cy="419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916240" y="5581800"/>
            <a:ext cx="962640" cy="459720"/>
            <a:chOff x="5916240" y="5581800"/>
            <a:chExt cx="962640" cy="459720"/>
          </a:xfrm>
        </p:grpSpPr>
        <p:sp>
          <p:nvSpPr>
            <p:cNvPr id="379" name=""/>
            <p:cNvSpPr/>
            <p:nvPr/>
          </p:nvSpPr>
          <p:spPr>
            <a:xfrm>
              <a:off x="6035400" y="565956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16240" y="558180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&lt;file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4419720" y="3505320"/>
            <a:ext cx="0" cy="2438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957120" y="5181480"/>
            <a:ext cx="826920" cy="459720"/>
            <a:chOff x="3957120" y="5181480"/>
            <a:chExt cx="826920" cy="459720"/>
          </a:xfrm>
        </p:grpSpPr>
        <p:sp>
          <p:nvSpPr>
            <p:cNvPr id="383" name=""/>
            <p:cNvSpPr/>
            <p:nvPr/>
          </p:nvSpPr>
          <p:spPr>
            <a:xfrm>
              <a:off x="4035240" y="5278320"/>
              <a:ext cx="6480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57120" y="5181480"/>
              <a:ext cx="8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29200" y="5105520"/>
            <a:ext cx="3794040" cy="307080"/>
            <a:chOff x="5029200" y="5105520"/>
            <a:chExt cx="3794040" cy="307080"/>
          </a:xfrm>
        </p:grpSpPr>
        <p:sp>
          <p:nvSpPr>
            <p:cNvPr id="386" name=""/>
            <p:cNvSpPr/>
            <p:nvPr/>
          </p:nvSpPr>
          <p:spPr>
            <a:xfrm>
              <a:off x="5092560" y="5154480"/>
              <a:ext cx="3333960" cy="18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29200" y="5105520"/>
              <a:ext cx="37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Get http://www.chula.ac.th/index.htm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28E-F44C-41A1-B495-A61CE8EABD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dern IS Infr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07:23:22Z</dcterms:created>
  <dc:creator>Natawut</dc:creator>
  <dc:description/>
  <dc:language>en-US</dc:language>
  <cp:lastModifiedBy>Natawut Nupairoj</cp:lastModifiedBy>
  <dcterms:modified xsi:type="dcterms:W3CDTF">2003-11-11T13:37:38Z</dcterms:modified>
  <cp:revision>55</cp:revision>
  <dc:subject/>
  <dc:title>Net-Centric Computing Overview</dc:title>
</cp:coreProperties>
</file>