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9A59-400F-4DEB-836F-358E1860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3B61-B2F4-4CF8-AA82-9BF61F0A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9FE9-DC89-4710-A885-DEE4806A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47AD-BF57-4F86-866D-E9E08E3D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091-01CE-42B5-8135-3643DAB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51E1-E370-4E18-AD5D-1999E7D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027-5BAE-4580-9B28-21839C0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E1AA-35E9-4C48-92EF-1205113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BED-93B0-4A65-93A3-D3D4786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9AF-814A-40BF-BADC-8101355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B4C-A480-41A3-9CF5-8980936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D823-7F75-4C07-B624-602FCE1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6917-8713-448A-B5F6-F60ED12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D4F0-873E-41E0-8481-F8A406F1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730-4410-44A5-A0C1-EE9B7EF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CE92-E843-4A9C-9DD1-752450B4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6C2F-733E-4C9B-955C-5E8F711C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2B79-F081-4DDC-B276-0CBC244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4326-A8BD-4071-BA6B-CB493A6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1238-C29B-4F6B-AF21-5BB2611D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19CE-B43F-4368-AB1A-AE595A47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18A3-D2E2-4A36-9A0F-F30FA0E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A4D9-DCEA-4A66-B96A-17BE8C5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DAE8-BCCD-49BF-832E-9143B95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966-EE8B-41A3-B5D3-058B5E574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A678-22D6-4803-B135-11A4DABA0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tion to Language Processing Technolog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19320" y="3505320"/>
            <a:ext cx="1676160" cy="1143000"/>
            <a:chOff x="1219320" y="3505320"/>
            <a:chExt cx="1676160" cy="1143000"/>
          </a:xfrm>
        </p:grpSpPr>
        <p:sp>
          <p:nvSpPr>
            <p:cNvPr id="172" name=""/>
            <p:cNvSpPr/>
            <p:nvPr/>
          </p:nvSpPr>
          <p:spPr>
            <a:xfrm>
              <a:off x="1600200" y="4114800"/>
              <a:ext cx="91440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9320" y="3505320"/>
              <a:ext cx="1676160" cy="6094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S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666880" y="2743200"/>
            <a:ext cx="1752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3856"/>
              <a:gd name="adj5" fmla="val 154166"/>
              <a:gd name="adj6" fmla="val -23458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181480"/>
            <a:ext cx="152388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19689"/>
              <a:gd name="adj5" fmla="val -69967"/>
              <a:gd name="adj6" fmla="val -34375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is written with Languag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410080" y="2666880"/>
            <a:ext cx="1676160" cy="1143000"/>
            <a:chOff x="5410080" y="2666880"/>
            <a:chExt cx="1676160" cy="1143000"/>
          </a:xfrm>
        </p:grpSpPr>
        <p:sp>
          <p:nvSpPr>
            <p:cNvPr id="177" name=""/>
            <p:cNvSpPr/>
            <p:nvPr/>
          </p:nvSpPr>
          <p:spPr>
            <a:xfrm>
              <a:off x="5790960" y="3276360"/>
              <a:ext cx="91440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0080" y="2666880"/>
              <a:ext cx="1676160" cy="6094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Java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4343400"/>
            <a:ext cx="1676160" cy="1143000"/>
            <a:chOff x="4800600" y="4343400"/>
            <a:chExt cx="1676160" cy="1143000"/>
          </a:xfrm>
        </p:grpSpPr>
        <p:sp>
          <p:nvSpPr>
            <p:cNvPr id="180" name=""/>
            <p:cNvSpPr/>
            <p:nvPr/>
          </p:nvSpPr>
          <p:spPr>
            <a:xfrm>
              <a:off x="5181480" y="4952880"/>
              <a:ext cx="91440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4343400"/>
              <a:ext cx="1676160" cy="6094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Java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58000" y="4114800"/>
            <a:ext cx="1676160" cy="1143000"/>
            <a:chOff x="6858000" y="4114800"/>
            <a:chExt cx="1676160" cy="1143000"/>
          </a:xfrm>
        </p:grpSpPr>
        <p:sp>
          <p:nvSpPr>
            <p:cNvPr id="183" name=""/>
            <p:cNvSpPr/>
            <p:nvPr/>
          </p:nvSpPr>
          <p:spPr>
            <a:xfrm>
              <a:off x="7238880" y="4724280"/>
              <a:ext cx="91440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0" y="4114800"/>
              <a:ext cx="1676160" cy="6094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Java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1080" y="3657600"/>
            <a:ext cx="1676160" cy="1752480"/>
            <a:chOff x="1981080" y="3657600"/>
            <a:chExt cx="1676160" cy="1752480"/>
          </a:xfrm>
        </p:grpSpPr>
        <p:grpSp>
          <p:nvGrpSpPr>
            <p:cNvPr id="188" name=""/>
            <p:cNvGrpSpPr/>
            <p:nvPr/>
          </p:nvGrpSpPr>
          <p:grpSpPr>
            <a:xfrm>
              <a:off x="1981080" y="3657600"/>
              <a:ext cx="1676160" cy="1066320"/>
              <a:chOff x="1981080" y="3657600"/>
              <a:chExt cx="1676160" cy="1066320"/>
            </a:xfrm>
          </p:grpSpPr>
          <p:sp>
            <p:nvSpPr>
              <p:cNvPr id="189" name=""/>
              <p:cNvSpPr/>
              <p:nvPr/>
            </p:nvSpPr>
            <p:spPr>
              <a:xfrm>
                <a:off x="2361960" y="4190760"/>
                <a:ext cx="91440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080" y="3657600"/>
                <a:ext cx="167616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362320" y="472428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41911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886200"/>
            <a:ext cx="83808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276720" y="3048120"/>
            <a:ext cx="1600200" cy="1143000"/>
            <a:chOff x="3276720" y="3048120"/>
            <a:chExt cx="1600200" cy="1143000"/>
          </a:xfrm>
        </p:grpSpPr>
        <p:sp>
          <p:nvSpPr>
            <p:cNvPr id="195" name=""/>
            <p:cNvSpPr/>
            <p:nvPr/>
          </p:nvSpPr>
          <p:spPr>
            <a:xfrm>
              <a:off x="3657600" y="36576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30481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5800" y="3048120"/>
            <a:ext cx="1600200" cy="1143000"/>
            <a:chOff x="685800" y="3048120"/>
            <a:chExt cx="1600200" cy="1143000"/>
          </a:xfrm>
        </p:grpSpPr>
        <p:sp>
          <p:nvSpPr>
            <p:cNvPr id="198" name=""/>
            <p:cNvSpPr/>
            <p:nvPr/>
          </p:nvSpPr>
          <p:spPr>
            <a:xfrm>
              <a:off x="1066680" y="3657600"/>
              <a:ext cx="914400" cy="533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3048120"/>
              <a:ext cx="1600200" cy="685800"/>
            </a:xfrm>
            <a:prstGeom prst="ellipse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00800" y="3048120"/>
            <a:ext cx="1600200" cy="1143000"/>
            <a:chOff x="6400800" y="3048120"/>
            <a:chExt cx="1600200" cy="1143000"/>
          </a:xfrm>
        </p:grpSpPr>
        <p:sp>
          <p:nvSpPr>
            <p:cNvPr id="201" name=""/>
            <p:cNvSpPr/>
            <p:nvPr/>
          </p:nvSpPr>
          <p:spPr>
            <a:xfrm>
              <a:off x="6781680" y="36576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0800" y="30481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1080" y="3657600"/>
            <a:ext cx="1676160" cy="1752480"/>
            <a:chOff x="1981080" y="3657600"/>
            <a:chExt cx="1676160" cy="1752480"/>
          </a:xfrm>
        </p:grpSpPr>
        <p:grpSp>
          <p:nvGrpSpPr>
            <p:cNvPr id="206" name=""/>
            <p:cNvGrpSpPr/>
            <p:nvPr/>
          </p:nvGrpSpPr>
          <p:grpSpPr>
            <a:xfrm>
              <a:off x="1981080" y="3657600"/>
              <a:ext cx="1676160" cy="1066320"/>
              <a:chOff x="1981080" y="3657600"/>
              <a:chExt cx="1676160" cy="1066320"/>
            </a:xfrm>
          </p:grpSpPr>
          <p:sp>
            <p:nvSpPr>
              <p:cNvPr id="207" name=""/>
              <p:cNvSpPr/>
              <p:nvPr/>
            </p:nvSpPr>
            <p:spPr>
              <a:xfrm>
                <a:off x="2361960" y="4190760"/>
                <a:ext cx="91440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81080" y="3657600"/>
                <a:ext cx="167616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SPA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362320" y="472428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781680" y="41911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3886200"/>
            <a:ext cx="838080" cy="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3048120"/>
            <a:ext cx="1600200" cy="1143000"/>
            <a:chOff x="3276720" y="3048120"/>
            <a:chExt cx="1600200" cy="1143000"/>
          </a:xfrm>
        </p:grpSpPr>
        <p:sp>
          <p:nvSpPr>
            <p:cNvPr id="213" name=""/>
            <p:cNvSpPr/>
            <p:nvPr/>
          </p:nvSpPr>
          <p:spPr>
            <a:xfrm>
              <a:off x="3657600" y="36576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P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76720" y="30481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00800" y="3048120"/>
            <a:ext cx="1600200" cy="1143000"/>
            <a:chOff x="6400800" y="3048120"/>
            <a:chExt cx="1600200" cy="1143000"/>
          </a:xfrm>
        </p:grpSpPr>
        <p:sp>
          <p:nvSpPr>
            <p:cNvPr id="216" name=""/>
            <p:cNvSpPr/>
            <p:nvPr/>
          </p:nvSpPr>
          <p:spPr>
            <a:xfrm>
              <a:off x="6781680" y="36576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P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30481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800" y="3048120"/>
            <a:ext cx="1600200" cy="1143000"/>
            <a:chOff x="685800" y="3048120"/>
            <a:chExt cx="1600200" cy="1143000"/>
          </a:xfrm>
        </p:grpSpPr>
        <p:sp>
          <p:nvSpPr>
            <p:cNvPr id="219" name=""/>
            <p:cNvSpPr/>
            <p:nvPr/>
          </p:nvSpPr>
          <p:spPr>
            <a:xfrm>
              <a:off x="1066680" y="3657600"/>
              <a:ext cx="914400" cy="533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3048120"/>
              <a:ext cx="1600200" cy="685800"/>
            </a:xfrm>
            <a:prstGeom prst="ellipse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38280" y="3581280"/>
            <a:ext cx="1676160" cy="1752840"/>
            <a:chOff x="2438280" y="3581280"/>
            <a:chExt cx="1676160" cy="1752840"/>
          </a:xfrm>
        </p:grpSpPr>
        <p:grpSp>
          <p:nvGrpSpPr>
            <p:cNvPr id="223" name=""/>
            <p:cNvGrpSpPr/>
            <p:nvPr/>
          </p:nvGrpSpPr>
          <p:grpSpPr>
            <a:xfrm>
              <a:off x="2438280" y="3581280"/>
              <a:ext cx="1676160" cy="1067040"/>
              <a:chOff x="2438280" y="3581280"/>
              <a:chExt cx="1676160" cy="1067040"/>
            </a:xfrm>
          </p:grpSpPr>
          <p:sp>
            <p:nvSpPr>
              <p:cNvPr id="224" name=""/>
              <p:cNvSpPr/>
              <p:nvPr/>
            </p:nvSpPr>
            <p:spPr>
              <a:xfrm>
                <a:off x="2819160" y="4114800"/>
                <a:ext cx="914400" cy="533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38280" y="3581280"/>
                <a:ext cx="1676160" cy="533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Java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819520" y="46483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029200" y="3581280"/>
            <a:ext cx="1676160" cy="1752840"/>
            <a:chOff x="5029200" y="3581280"/>
            <a:chExt cx="1676160" cy="1752840"/>
          </a:xfrm>
        </p:grpSpPr>
        <p:grpSp>
          <p:nvGrpSpPr>
            <p:cNvPr id="228" name=""/>
            <p:cNvGrpSpPr/>
            <p:nvPr/>
          </p:nvGrpSpPr>
          <p:grpSpPr>
            <a:xfrm>
              <a:off x="5029200" y="3581280"/>
              <a:ext cx="1676160" cy="1067040"/>
              <a:chOff x="5029200" y="3581280"/>
              <a:chExt cx="1676160" cy="1067040"/>
            </a:xfrm>
          </p:grpSpPr>
          <p:sp>
            <p:nvSpPr>
              <p:cNvPr id="229" name=""/>
              <p:cNvSpPr/>
              <p:nvPr/>
            </p:nvSpPr>
            <p:spPr>
              <a:xfrm>
                <a:off x="5410080" y="4114800"/>
                <a:ext cx="914400" cy="533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29200" y="3581280"/>
                <a:ext cx="1676160" cy="533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410080" y="46483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stage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33920" y="2971800"/>
            <a:ext cx="1600200" cy="1143000"/>
            <a:chOff x="3733920" y="2971800"/>
            <a:chExt cx="1600200" cy="1143000"/>
          </a:xfrm>
        </p:grpSpPr>
        <p:sp>
          <p:nvSpPr>
            <p:cNvPr id="234" name=""/>
            <p:cNvSpPr/>
            <p:nvPr/>
          </p:nvSpPr>
          <p:spPr>
            <a:xfrm>
              <a:off x="4114800" y="358128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920" y="297180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143000" y="2971800"/>
            <a:ext cx="1600200" cy="1143000"/>
            <a:chOff x="1143000" y="2971800"/>
            <a:chExt cx="1600200" cy="1143000"/>
          </a:xfrm>
        </p:grpSpPr>
        <p:sp>
          <p:nvSpPr>
            <p:cNvPr id="237" name=""/>
            <p:cNvSpPr/>
            <p:nvPr/>
          </p:nvSpPr>
          <p:spPr>
            <a:xfrm>
              <a:off x="1523880" y="3581280"/>
              <a:ext cx="914400" cy="533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3000" y="2971800"/>
              <a:ext cx="1600200" cy="685800"/>
            </a:xfrm>
            <a:prstGeom prst="ellipse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324480" y="2971800"/>
            <a:ext cx="1600200" cy="1143000"/>
            <a:chOff x="6324480" y="2971800"/>
            <a:chExt cx="1600200" cy="1143000"/>
          </a:xfrm>
        </p:grpSpPr>
        <p:sp>
          <p:nvSpPr>
            <p:cNvPr id="240" name=""/>
            <p:cNvSpPr/>
            <p:nvPr/>
          </p:nvSpPr>
          <p:spPr>
            <a:xfrm>
              <a:off x="6705360" y="358128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297180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81280" y="3733920"/>
            <a:ext cx="1676160" cy="1752480"/>
            <a:chOff x="3581280" y="3733920"/>
            <a:chExt cx="1676160" cy="1752480"/>
          </a:xfrm>
        </p:grpSpPr>
        <p:grpSp>
          <p:nvGrpSpPr>
            <p:cNvPr id="244" name=""/>
            <p:cNvGrpSpPr/>
            <p:nvPr/>
          </p:nvGrpSpPr>
          <p:grpSpPr>
            <a:xfrm>
              <a:off x="3581280" y="3733920"/>
              <a:ext cx="1676160" cy="1066320"/>
              <a:chOff x="3581280" y="3733920"/>
              <a:chExt cx="1676160" cy="1066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962160" y="4267080"/>
                <a:ext cx="91440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81280" y="3733920"/>
                <a:ext cx="167616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962520" y="480060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ing a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0" y="3200400"/>
            <a:ext cx="1676160" cy="1066320"/>
            <a:chOff x="2286000" y="3200400"/>
            <a:chExt cx="1676160" cy="1066320"/>
          </a:xfrm>
        </p:grpSpPr>
        <p:sp>
          <p:nvSpPr>
            <p:cNvPr id="250" name=""/>
            <p:cNvSpPr/>
            <p:nvPr/>
          </p:nvSpPr>
          <p:spPr>
            <a:xfrm>
              <a:off x="2666880" y="37335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32004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scal  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x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200400"/>
            <a:ext cx="1676160" cy="1066320"/>
            <a:chOff x="4876920" y="3200400"/>
            <a:chExt cx="1676160" cy="1066320"/>
          </a:xfrm>
        </p:grpSpPr>
        <p:sp>
          <p:nvSpPr>
            <p:cNvPr id="253" name=""/>
            <p:cNvSpPr/>
            <p:nvPr/>
          </p:nvSpPr>
          <p:spPr>
            <a:xfrm>
              <a:off x="5257800" y="373356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320040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scal   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x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3505320"/>
            <a:ext cx="914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895480"/>
            <a:ext cx="13716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708"/>
              <a:gd name="adj5" fmla="val 116666"/>
              <a:gd name="adj6" fmla="val -29976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sourc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48769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952880"/>
            <a:ext cx="13716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856"/>
              <a:gd name="adj5" fmla="val -86199"/>
              <a:gd name="adj6" fmla="val -26273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languag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3809880"/>
            <a:ext cx="914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2590920"/>
            <a:ext cx="914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4495680"/>
            <a:ext cx="914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705720" y="2666880"/>
            <a:ext cx="1600200" cy="1143000"/>
            <a:chOff x="6705720" y="2666880"/>
            <a:chExt cx="1600200" cy="1143000"/>
          </a:xfrm>
        </p:grpSpPr>
        <p:sp>
          <p:nvSpPr>
            <p:cNvPr id="265" name=""/>
            <p:cNvSpPr/>
            <p:nvPr/>
          </p:nvSpPr>
          <p:spPr>
            <a:xfrm>
              <a:off x="7086600" y="327636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5720" y="266688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machine = hardware e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 for low-level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029200" y="3733920"/>
            <a:ext cx="3504960" cy="2286000"/>
            <a:chOff x="5029200" y="3733920"/>
            <a:chExt cx="3504960" cy="2286000"/>
          </a:xfrm>
        </p:grpSpPr>
        <p:grpSp>
          <p:nvGrpSpPr>
            <p:cNvPr id="270" name=""/>
            <p:cNvGrpSpPr/>
            <p:nvPr/>
          </p:nvGrpSpPr>
          <p:grpSpPr>
            <a:xfrm>
              <a:off x="5943600" y="4267440"/>
              <a:ext cx="1676160" cy="1066320"/>
              <a:chOff x="5943600" y="4267440"/>
              <a:chExt cx="1676160" cy="106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6324480" y="4800600"/>
                <a:ext cx="91440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4267440"/>
                <a:ext cx="167616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6324480" y="53341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3733920"/>
              <a:ext cx="9144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19760" y="3733920"/>
              <a:ext cx="9144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66680" y="57150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4648320"/>
            <a:ext cx="914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8160" y="48006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85800" y="3505320"/>
            <a:ext cx="1600200" cy="1143000"/>
            <a:chOff x="685800" y="3505320"/>
            <a:chExt cx="1600200" cy="1143000"/>
          </a:xfrm>
        </p:grpSpPr>
        <p:sp>
          <p:nvSpPr>
            <p:cNvPr id="280" name=""/>
            <p:cNvSpPr/>
            <p:nvPr/>
          </p:nvSpPr>
          <p:spPr>
            <a:xfrm>
              <a:off x="1066680" y="41148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35053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W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743200" y="4191120"/>
            <a:ext cx="1600200" cy="1828800"/>
            <a:chOff x="2743200" y="4191120"/>
            <a:chExt cx="1600200" cy="1828800"/>
          </a:xfrm>
        </p:grpSpPr>
        <p:sp>
          <p:nvSpPr>
            <p:cNvPr id="283" name=""/>
            <p:cNvSpPr/>
            <p:nvPr/>
          </p:nvSpPr>
          <p:spPr>
            <a:xfrm>
              <a:off x="3124080" y="53341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743200" y="4191120"/>
              <a:ext cx="1600200" cy="1143000"/>
              <a:chOff x="2743200" y="4191120"/>
              <a:chExt cx="1600200" cy="1143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124080" y="4800600"/>
                <a:ext cx="914400" cy="533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200" y="4191120"/>
                <a:ext cx="1600200" cy="68580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W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le environment: write-once-run-an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ve compi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52480" y="4114800"/>
            <a:ext cx="1676160" cy="1066320"/>
            <a:chOff x="1752480" y="4114800"/>
            <a:chExt cx="1676160" cy="1066320"/>
          </a:xfrm>
        </p:grpSpPr>
        <p:sp>
          <p:nvSpPr>
            <p:cNvPr id="290" name=""/>
            <p:cNvSpPr/>
            <p:nvPr/>
          </p:nvSpPr>
          <p:spPr>
            <a:xfrm>
              <a:off x="2133360" y="4647960"/>
              <a:ext cx="91440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4114800"/>
              <a:ext cx="167616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ava   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J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943600" y="4114800"/>
            <a:ext cx="914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3429000"/>
            <a:ext cx="190476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34250"/>
              <a:gd name="adj5" fmla="val 199166"/>
              <a:gd name="adj6" fmla="val -64833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VM = Byt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267080" y="4495680"/>
            <a:ext cx="914400" cy="1752840"/>
            <a:chOff x="4267080" y="4495680"/>
            <a:chExt cx="914400" cy="1752840"/>
          </a:xfrm>
        </p:grpSpPr>
        <p:sp>
          <p:nvSpPr>
            <p:cNvPr id="296" name=""/>
            <p:cNvSpPr/>
            <p:nvPr/>
          </p:nvSpPr>
          <p:spPr>
            <a:xfrm>
              <a:off x="4267080" y="55627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4495680"/>
              <a:ext cx="91440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858000" y="4495680"/>
            <a:ext cx="914400" cy="1752840"/>
            <a:chOff x="6858000" y="4495680"/>
            <a:chExt cx="914400" cy="1752840"/>
          </a:xfrm>
        </p:grpSpPr>
        <p:sp>
          <p:nvSpPr>
            <p:cNvPr id="299" name=""/>
            <p:cNvSpPr/>
            <p:nvPr/>
          </p:nvSpPr>
          <p:spPr>
            <a:xfrm>
              <a:off x="6858000" y="556272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58000" y="4495680"/>
              <a:ext cx="91440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886200" y="3352680"/>
            <a:ext cx="1600200" cy="1143000"/>
            <a:chOff x="3886200" y="3352680"/>
            <a:chExt cx="1600200" cy="1143000"/>
          </a:xfrm>
        </p:grpSpPr>
        <p:sp>
          <p:nvSpPr>
            <p:cNvPr id="302" name=""/>
            <p:cNvSpPr/>
            <p:nvPr/>
          </p:nvSpPr>
          <p:spPr>
            <a:xfrm>
              <a:off x="4267080" y="396216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6200" y="335268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477120" y="3352680"/>
            <a:ext cx="1600200" cy="1143000"/>
            <a:chOff x="6477120" y="3352680"/>
            <a:chExt cx="1600200" cy="1143000"/>
          </a:xfrm>
        </p:grpSpPr>
        <p:sp>
          <p:nvSpPr>
            <p:cNvPr id="305" name=""/>
            <p:cNvSpPr/>
            <p:nvPr/>
          </p:nvSpPr>
          <p:spPr>
            <a:xfrm>
              <a:off x="6858000" y="396216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335268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62120" y="2133720"/>
            <a:ext cx="3352320" cy="1828440"/>
            <a:chOff x="762120" y="2133720"/>
            <a:chExt cx="3352320" cy="1828440"/>
          </a:xfrm>
        </p:grpSpPr>
        <p:grpSp>
          <p:nvGrpSpPr>
            <p:cNvPr id="308" name=""/>
            <p:cNvGrpSpPr/>
            <p:nvPr/>
          </p:nvGrpSpPr>
          <p:grpSpPr>
            <a:xfrm>
              <a:off x="1798200" y="2605320"/>
              <a:ext cx="1341000" cy="1356840"/>
              <a:chOff x="1798200" y="2605320"/>
              <a:chExt cx="1341000" cy="13568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798200" y="2605320"/>
                <a:ext cx="1341000" cy="825840"/>
                <a:chOff x="1798200" y="2605320"/>
                <a:chExt cx="1341000" cy="8258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102760" y="3018240"/>
                  <a:ext cx="731520" cy="412920"/>
                </a:xfrm>
                <a:prstGeom prst="rect">
                  <a:avLst/>
                </a:pr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cc3300"/>
                      </a:solidFill>
                      <a:latin typeface="Arial"/>
                    </a:rPr>
                    <a:t>x8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98200" y="2605320"/>
                  <a:ext cx="1341000" cy="412920"/>
                </a:xfrm>
                <a:prstGeom prst="rect">
                  <a:avLst/>
                </a:pr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cc3300"/>
                      </a:solidFill>
                      <a:latin typeface="Arial"/>
                    </a:rPr>
                    <a:t>Java   </a:t>
                  </a:r>
                  <a:r>
                    <a:rPr b="1" lang="en-US" sz="1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1400" spc="-1" strike="noStrike">
                      <a:solidFill>
                        <a:srgbClr val="cc3300"/>
                      </a:solidFill>
                      <a:latin typeface="Arial"/>
                    </a:rPr>
                    <a:t>   JV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2103120" y="3431160"/>
                <a:ext cx="731160" cy="531000"/>
              </a:xfrm>
              <a:prstGeom prst="flowChartOffpageConnector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x8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834640" y="2133720"/>
              <a:ext cx="1279800" cy="884520"/>
              <a:chOff x="2834640" y="2133720"/>
              <a:chExt cx="1279800" cy="884520"/>
            </a:xfrm>
          </p:grpSpPr>
          <p:sp>
            <p:nvSpPr>
              <p:cNvPr id="314" name=""/>
              <p:cNvSpPr/>
              <p:nvPr/>
            </p:nvSpPr>
            <p:spPr>
              <a:xfrm>
                <a:off x="3139200" y="2605320"/>
                <a:ext cx="731160" cy="4129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V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34640" y="2133720"/>
                <a:ext cx="1279800" cy="53064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62120" y="2133720"/>
              <a:ext cx="1279800" cy="884520"/>
              <a:chOff x="762120" y="2133720"/>
              <a:chExt cx="1279800" cy="884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066680" y="2605320"/>
                <a:ext cx="731160" cy="412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2120" y="2133720"/>
                <a:ext cx="1279800" cy="530640"/>
              </a:xfrm>
              <a:prstGeom prst="ellipse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L that is written on L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rom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rom other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324480" y="3733920"/>
            <a:ext cx="1676160" cy="1066320"/>
            <a:chOff x="6324480" y="3733920"/>
            <a:chExt cx="1676160" cy="1066320"/>
          </a:xfrm>
        </p:grpSpPr>
        <p:sp>
          <p:nvSpPr>
            <p:cNvPr id="322" name=""/>
            <p:cNvSpPr/>
            <p:nvPr/>
          </p:nvSpPr>
          <p:spPr>
            <a:xfrm>
              <a:off x="6705360" y="426708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24480" y="373392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rogramming Langu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Proces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bstone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50292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3429000"/>
            <a:ext cx="1676160" cy="1066320"/>
            <a:chOff x="228600" y="3429000"/>
            <a:chExt cx="1676160" cy="1066320"/>
          </a:xfrm>
        </p:grpSpPr>
        <p:sp>
          <p:nvSpPr>
            <p:cNvPr id="328" name=""/>
            <p:cNvSpPr/>
            <p:nvPr/>
          </p:nvSpPr>
          <p:spPr>
            <a:xfrm>
              <a:off x="609480" y="39621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" y="34290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19520" y="3429000"/>
            <a:ext cx="1676160" cy="1066320"/>
            <a:chOff x="2819520" y="3429000"/>
            <a:chExt cx="1676160" cy="1066320"/>
          </a:xfrm>
        </p:grpSpPr>
        <p:sp>
          <p:nvSpPr>
            <p:cNvPr id="331" name=""/>
            <p:cNvSpPr/>
            <p:nvPr/>
          </p:nvSpPr>
          <p:spPr>
            <a:xfrm>
              <a:off x="3200400" y="396216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19520" y="342900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400800" y="50292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724280" y="3429000"/>
            <a:ext cx="1676160" cy="1066320"/>
            <a:chOff x="4724280" y="3429000"/>
            <a:chExt cx="1676160" cy="1066320"/>
          </a:xfrm>
        </p:grpSpPr>
        <p:sp>
          <p:nvSpPr>
            <p:cNvPr id="335" name=""/>
            <p:cNvSpPr/>
            <p:nvPr/>
          </p:nvSpPr>
          <p:spPr>
            <a:xfrm>
              <a:off x="5105160" y="39621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34290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238880" y="3429000"/>
            <a:ext cx="1676160" cy="1066320"/>
            <a:chOff x="7238880" y="3429000"/>
            <a:chExt cx="1676160" cy="1066320"/>
          </a:xfrm>
        </p:grpSpPr>
        <p:sp>
          <p:nvSpPr>
            <p:cNvPr id="338" name=""/>
            <p:cNvSpPr/>
            <p:nvPr/>
          </p:nvSpPr>
          <p:spPr>
            <a:xfrm>
              <a:off x="7619760" y="3962160"/>
              <a:ext cx="914400" cy="533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38880" y="3429000"/>
              <a:ext cx="1676160" cy="533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477120" y="1523880"/>
            <a:ext cx="1676160" cy="1067040"/>
            <a:chOff x="6477120" y="1523880"/>
            <a:chExt cx="1676160" cy="1067040"/>
          </a:xfrm>
        </p:grpSpPr>
        <p:sp>
          <p:nvSpPr>
            <p:cNvPr id="341" name=""/>
            <p:cNvSpPr/>
            <p:nvPr/>
          </p:nvSpPr>
          <p:spPr>
            <a:xfrm>
              <a:off x="6858000" y="2057400"/>
              <a:ext cx="91440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7120" y="1523880"/>
              <a:ext cx="1676160" cy="533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cc3300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523880" y="3962520"/>
            <a:ext cx="1676160" cy="1066320"/>
            <a:chOff x="1523880" y="3962520"/>
            <a:chExt cx="1676160" cy="1066320"/>
          </a:xfrm>
        </p:grpSpPr>
        <p:sp>
          <p:nvSpPr>
            <p:cNvPr id="344" name=""/>
            <p:cNvSpPr/>
            <p:nvPr/>
          </p:nvSpPr>
          <p:spPr>
            <a:xfrm>
              <a:off x="1904760" y="4495680"/>
              <a:ext cx="91440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3880" y="3962520"/>
              <a:ext cx="167616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cc3300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019920" y="3962520"/>
            <a:ext cx="1676160" cy="1066320"/>
            <a:chOff x="6019920" y="3962520"/>
            <a:chExt cx="1676160" cy="1066320"/>
          </a:xfrm>
        </p:grpSpPr>
        <p:sp>
          <p:nvSpPr>
            <p:cNvPr id="347" name=""/>
            <p:cNvSpPr/>
            <p:nvPr/>
          </p:nvSpPr>
          <p:spPr>
            <a:xfrm>
              <a:off x="6400800" y="449568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9920" y="396252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44197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438280" y="2819520"/>
            <a:ext cx="1676160" cy="1066320"/>
            <a:chOff x="2438280" y="2819520"/>
            <a:chExt cx="1676160" cy="1066320"/>
          </a:xfrm>
        </p:grpSpPr>
        <p:sp>
          <p:nvSpPr>
            <p:cNvPr id="352" name=""/>
            <p:cNvSpPr/>
            <p:nvPr/>
          </p:nvSpPr>
          <p:spPr>
            <a:xfrm>
              <a:off x="2819160" y="335268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8280" y="281952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952880" y="2819520"/>
            <a:ext cx="1676160" cy="1066320"/>
            <a:chOff x="4952880" y="2819520"/>
            <a:chExt cx="1676160" cy="1066320"/>
          </a:xfrm>
        </p:grpSpPr>
        <p:sp>
          <p:nvSpPr>
            <p:cNvPr id="355" name=""/>
            <p:cNvSpPr/>
            <p:nvPr/>
          </p:nvSpPr>
          <p:spPr>
            <a:xfrm>
              <a:off x="5333760" y="335268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52880" y="281952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733920" y="3352680"/>
            <a:ext cx="1676160" cy="1067040"/>
            <a:chOff x="3733920" y="3352680"/>
            <a:chExt cx="1676160" cy="1067040"/>
          </a:xfrm>
        </p:grpSpPr>
        <p:sp>
          <p:nvSpPr>
            <p:cNvPr id="358" name=""/>
            <p:cNvSpPr/>
            <p:nvPr/>
          </p:nvSpPr>
          <p:spPr>
            <a:xfrm>
              <a:off x="4114800" y="3886200"/>
              <a:ext cx="914400" cy="533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3920" y="3352680"/>
              <a:ext cx="1676160" cy="533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50292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066680" y="3429000"/>
            <a:ext cx="1676160" cy="1066320"/>
            <a:chOff x="1066680" y="3429000"/>
            <a:chExt cx="1676160" cy="1066320"/>
          </a:xfrm>
        </p:grpSpPr>
        <p:sp>
          <p:nvSpPr>
            <p:cNvPr id="363" name=""/>
            <p:cNvSpPr/>
            <p:nvPr/>
          </p:nvSpPr>
          <p:spPr>
            <a:xfrm>
              <a:off x="1447560" y="39621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6680" y="34290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57600" y="3429000"/>
            <a:ext cx="1676160" cy="1066320"/>
            <a:chOff x="3657600" y="3429000"/>
            <a:chExt cx="1676160" cy="1066320"/>
          </a:xfrm>
        </p:grpSpPr>
        <p:sp>
          <p:nvSpPr>
            <p:cNvPr id="366" name=""/>
            <p:cNvSpPr/>
            <p:nvPr/>
          </p:nvSpPr>
          <p:spPr>
            <a:xfrm>
              <a:off x="4038480" y="396216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342900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038480" y="449568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362320" y="2895480"/>
            <a:ext cx="1676160" cy="1067040"/>
            <a:chOff x="2362320" y="2895480"/>
            <a:chExt cx="1676160" cy="1067040"/>
          </a:xfrm>
        </p:grpSpPr>
        <p:sp>
          <p:nvSpPr>
            <p:cNvPr id="370" name=""/>
            <p:cNvSpPr/>
            <p:nvPr/>
          </p:nvSpPr>
          <p:spPr>
            <a:xfrm>
              <a:off x="2743200" y="3429000"/>
              <a:ext cx="914400" cy="533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2320" y="2895480"/>
              <a:ext cx="1676160" cy="533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952880" y="2895480"/>
            <a:ext cx="1676160" cy="1067040"/>
            <a:chOff x="4952880" y="2895480"/>
            <a:chExt cx="1676160" cy="1067040"/>
          </a:xfrm>
        </p:grpSpPr>
        <p:sp>
          <p:nvSpPr>
            <p:cNvPr id="373" name=""/>
            <p:cNvSpPr/>
            <p:nvPr/>
          </p:nvSpPr>
          <p:spPr>
            <a:xfrm>
              <a:off x="5333760" y="3429000"/>
              <a:ext cx="914400" cy="533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2895480"/>
              <a:ext cx="1676160" cy="533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362320" y="3962520"/>
            <a:ext cx="1676160" cy="1066320"/>
            <a:chOff x="2362320" y="3962520"/>
            <a:chExt cx="1676160" cy="1066320"/>
          </a:xfrm>
        </p:grpSpPr>
        <p:sp>
          <p:nvSpPr>
            <p:cNvPr id="376" name=""/>
            <p:cNvSpPr/>
            <p:nvPr/>
          </p:nvSpPr>
          <p:spPr>
            <a:xfrm>
              <a:off x="2743200" y="4495680"/>
              <a:ext cx="91440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2320" y="3962520"/>
              <a:ext cx="167616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cc3300"/>
                  </a:solidFill>
                  <a:latin typeface="Arial"/>
                </a:rPr>
                <a:t>sub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48520" y="2362320"/>
            <a:ext cx="1676160" cy="1066320"/>
            <a:chOff x="6248520" y="2362320"/>
            <a:chExt cx="1676160" cy="1066320"/>
          </a:xfrm>
        </p:grpSpPr>
        <p:sp>
          <p:nvSpPr>
            <p:cNvPr id="379" name=""/>
            <p:cNvSpPr/>
            <p:nvPr/>
          </p:nvSpPr>
          <p:spPr>
            <a:xfrm>
              <a:off x="6629400" y="2895480"/>
              <a:ext cx="91440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2362320"/>
              <a:ext cx="1676160" cy="53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334120" y="39625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657600" y="2362320"/>
            <a:ext cx="1676160" cy="1066320"/>
            <a:chOff x="3657600" y="2362320"/>
            <a:chExt cx="1676160" cy="1066320"/>
          </a:xfrm>
        </p:grpSpPr>
        <p:sp>
          <p:nvSpPr>
            <p:cNvPr id="383" name=""/>
            <p:cNvSpPr/>
            <p:nvPr/>
          </p:nvSpPr>
          <p:spPr>
            <a:xfrm>
              <a:off x="4038480" y="2895480"/>
              <a:ext cx="914400" cy="5331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600" y="2362320"/>
              <a:ext cx="1676160" cy="5331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600200" y="3962520"/>
            <a:ext cx="1676160" cy="1066320"/>
            <a:chOff x="1600200" y="3962520"/>
            <a:chExt cx="1676160" cy="1066320"/>
          </a:xfrm>
        </p:grpSpPr>
        <p:sp>
          <p:nvSpPr>
            <p:cNvPr id="388" name=""/>
            <p:cNvSpPr/>
            <p:nvPr/>
          </p:nvSpPr>
          <p:spPr>
            <a:xfrm>
              <a:off x="1981080" y="4495680"/>
              <a:ext cx="91440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00200" y="3962520"/>
              <a:ext cx="1676160" cy="533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   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981080" y="50292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4920" y="3429000"/>
            <a:ext cx="1676160" cy="1066320"/>
            <a:chOff x="304920" y="3429000"/>
            <a:chExt cx="1676160" cy="1066320"/>
          </a:xfrm>
        </p:grpSpPr>
        <p:sp>
          <p:nvSpPr>
            <p:cNvPr id="392" name=""/>
            <p:cNvSpPr/>
            <p:nvPr/>
          </p:nvSpPr>
          <p:spPr>
            <a:xfrm>
              <a:off x="685800" y="39621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4920" y="34290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429000"/>
            <a:ext cx="1676160" cy="1066320"/>
            <a:chOff x="2895480" y="3429000"/>
            <a:chExt cx="1676160" cy="1066320"/>
          </a:xfrm>
        </p:grpSpPr>
        <p:sp>
          <p:nvSpPr>
            <p:cNvPr id="395" name=""/>
            <p:cNvSpPr/>
            <p:nvPr/>
          </p:nvSpPr>
          <p:spPr>
            <a:xfrm>
              <a:off x="3276360" y="396216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95480" y="342900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095880" y="3962520"/>
            <a:ext cx="1676160" cy="1066320"/>
            <a:chOff x="6095880" y="3962520"/>
            <a:chExt cx="1676160" cy="1066320"/>
          </a:xfrm>
        </p:grpSpPr>
        <p:sp>
          <p:nvSpPr>
            <p:cNvPr id="398" name=""/>
            <p:cNvSpPr/>
            <p:nvPr/>
          </p:nvSpPr>
          <p:spPr>
            <a:xfrm>
              <a:off x="6476760" y="4495680"/>
              <a:ext cx="91440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5880" y="3962520"/>
              <a:ext cx="1676160" cy="533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477120" y="50292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800600" y="3429000"/>
            <a:ext cx="1676160" cy="1066320"/>
            <a:chOff x="4800600" y="3429000"/>
            <a:chExt cx="1676160" cy="1066320"/>
          </a:xfrm>
        </p:grpSpPr>
        <p:sp>
          <p:nvSpPr>
            <p:cNvPr id="402" name=""/>
            <p:cNvSpPr/>
            <p:nvPr/>
          </p:nvSpPr>
          <p:spPr>
            <a:xfrm>
              <a:off x="5181480" y="3962160"/>
              <a:ext cx="91440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00600" y="3429000"/>
              <a:ext cx="1676160" cy="533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315200" y="3429000"/>
            <a:ext cx="1676160" cy="1066320"/>
            <a:chOff x="7315200" y="3429000"/>
            <a:chExt cx="1676160" cy="1066320"/>
          </a:xfrm>
        </p:grpSpPr>
        <p:sp>
          <p:nvSpPr>
            <p:cNvPr id="405" name=""/>
            <p:cNvSpPr/>
            <p:nvPr/>
          </p:nvSpPr>
          <p:spPr>
            <a:xfrm>
              <a:off x="7696080" y="3962160"/>
              <a:ext cx="914400" cy="533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15200" y="3429000"/>
              <a:ext cx="1676160" cy="533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  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NN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53080" y="990720"/>
            <a:ext cx="1676160" cy="1752480"/>
            <a:chOff x="6553080" y="990720"/>
            <a:chExt cx="1676160" cy="1752480"/>
          </a:xfrm>
        </p:grpSpPr>
        <p:grpSp>
          <p:nvGrpSpPr>
            <p:cNvPr id="408" name=""/>
            <p:cNvGrpSpPr/>
            <p:nvPr/>
          </p:nvGrpSpPr>
          <p:grpSpPr>
            <a:xfrm>
              <a:off x="6553080" y="990720"/>
              <a:ext cx="1676160" cy="1066320"/>
              <a:chOff x="6553080" y="990720"/>
              <a:chExt cx="1676160" cy="1066320"/>
            </a:xfrm>
          </p:grpSpPr>
          <p:sp>
            <p:nvSpPr>
              <p:cNvPr id="409" name=""/>
              <p:cNvSpPr/>
              <p:nvPr/>
            </p:nvSpPr>
            <p:spPr>
              <a:xfrm>
                <a:off x="6933960" y="1523880"/>
                <a:ext cx="91440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990720"/>
                <a:ext cx="1676160" cy="533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C 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   X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934320" y="2057400"/>
              <a:ext cx="914400" cy="685800"/>
            </a:xfrm>
            <a:prstGeom prst="flowChartOffpage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int v[], int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int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= v[k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[k] = v[k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[k+1] 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li $2, $5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$2, $4, 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w   $15, 0($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95288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6576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724280"/>
            <a:ext cx="1752840" cy="533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038480"/>
            <a:ext cx="1752840" cy="533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of Programm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17840" y="3995640"/>
            <a:ext cx="3468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011011011001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011011011001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011011011001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011011011001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2286000"/>
            <a:ext cx="4444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: C / Java /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: Assembly /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Level Languag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 + (c – d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, character, bool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,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tru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Level Languag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can be constant, variable, procedure, function,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on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ps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h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Proce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at manipulates programs express in some programming langu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or / Comp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ranslate a “source” program into an “equivalent”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8160" y="3505320"/>
            <a:ext cx="4845960" cy="1792440"/>
            <a:chOff x="2288160" y="3505320"/>
            <a:chExt cx="4845960" cy="1792440"/>
          </a:xfrm>
        </p:grpSpPr>
        <p:sp>
          <p:nvSpPr>
            <p:cNvPr id="127" name=""/>
            <p:cNvSpPr/>
            <p:nvPr/>
          </p:nvSpPr>
          <p:spPr>
            <a:xfrm>
              <a:off x="3875760" y="3505320"/>
              <a:ext cx="1398960" cy="74664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2560" y="3844440"/>
              <a:ext cx="76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4720" y="3844440"/>
              <a:ext cx="76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8160" y="357156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br>
                <a:rPr sz="1800"/>
              </a:b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04520" y="357156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br>
                <a:rPr sz="1800"/>
              </a:b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4880" y="425196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9360" y="492948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rial"/>
                </a:rPr>
                <a:t>error mess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4280" y="3274920"/>
            <a:ext cx="115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5560" y="3351240"/>
            <a:ext cx="106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p-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971800"/>
            <a:ext cx="13716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17708"/>
              <a:gd name="adj5" fmla="val 176379"/>
              <a:gd name="adj6" fmla="val -29976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181480"/>
            <a:ext cx="152388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19689"/>
              <a:gd name="adj5" fmla="val -93287"/>
              <a:gd name="adj6" fmla="val -34375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with Languag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3505320"/>
            <a:ext cx="1600200" cy="1143000"/>
            <a:chOff x="1219320" y="3505320"/>
            <a:chExt cx="1600200" cy="1143000"/>
          </a:xfrm>
        </p:grpSpPr>
        <p:sp>
          <p:nvSpPr>
            <p:cNvPr id="141" name=""/>
            <p:cNvSpPr/>
            <p:nvPr/>
          </p:nvSpPr>
          <p:spPr>
            <a:xfrm>
              <a:off x="1600200" y="41148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35053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562720" y="2362320"/>
            <a:ext cx="1600200" cy="1143000"/>
            <a:chOff x="5562720" y="2362320"/>
            <a:chExt cx="1600200" cy="1143000"/>
          </a:xfrm>
        </p:grpSpPr>
        <p:sp>
          <p:nvSpPr>
            <p:cNvPr id="144" name=""/>
            <p:cNvSpPr/>
            <p:nvPr/>
          </p:nvSpPr>
          <p:spPr>
            <a:xfrm>
              <a:off x="5943600" y="29718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2720" y="23623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934320" y="3657600"/>
            <a:ext cx="1600200" cy="1143000"/>
            <a:chOff x="6934320" y="3657600"/>
            <a:chExt cx="1600200" cy="1143000"/>
          </a:xfrm>
        </p:grpSpPr>
        <p:sp>
          <p:nvSpPr>
            <p:cNvPr id="147" name=""/>
            <p:cNvSpPr/>
            <p:nvPr/>
          </p:nvSpPr>
          <p:spPr>
            <a:xfrm>
              <a:off x="7315200" y="426708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365760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29200" y="4419720"/>
            <a:ext cx="1600200" cy="1143000"/>
            <a:chOff x="5029200" y="4419720"/>
            <a:chExt cx="1600200" cy="1143000"/>
          </a:xfrm>
        </p:grpSpPr>
        <p:sp>
          <p:nvSpPr>
            <p:cNvPr id="150" name=""/>
            <p:cNvSpPr/>
            <p:nvPr/>
          </p:nvSpPr>
          <p:spPr>
            <a:xfrm>
              <a:off x="5410080" y="50292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44197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6781680" y="3962520"/>
            <a:ext cx="1600200" cy="1143000"/>
            <a:chOff x="6781680" y="3962520"/>
            <a:chExt cx="1600200" cy="1143000"/>
          </a:xfrm>
        </p:grpSpPr>
        <p:sp>
          <p:nvSpPr>
            <p:cNvPr id="153" name=""/>
            <p:cNvSpPr/>
            <p:nvPr/>
          </p:nvSpPr>
          <p:spPr>
            <a:xfrm>
              <a:off x="7162560" y="45720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39625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bston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5053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971800"/>
            <a:ext cx="13716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17708"/>
              <a:gd name="adj5" fmla="val 176379"/>
              <a:gd name="adj6" fmla="val -29976"/>
            </a:avLst>
          </a:prstGeom>
          <a:solidFill>
            <a:srgbClr val="cccce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51055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22860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228600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105520"/>
            <a:ext cx="914400" cy="68580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4876920"/>
            <a:ext cx="533160" cy="380880"/>
            <a:chOff x="7696080" y="4876920"/>
            <a:chExt cx="533160" cy="380880"/>
          </a:xfrm>
        </p:grpSpPr>
        <p:sp>
          <p:nvSpPr>
            <p:cNvPr id="164" name=""/>
            <p:cNvSpPr/>
            <p:nvPr/>
          </p:nvSpPr>
          <p:spPr>
            <a:xfrm>
              <a:off x="7696080" y="4876920"/>
              <a:ext cx="533160" cy="380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696080" y="4876920"/>
              <a:ext cx="533160" cy="380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52880" y="3962520"/>
            <a:ext cx="1600200" cy="1143000"/>
            <a:chOff x="4952880" y="3962520"/>
            <a:chExt cx="1600200" cy="1143000"/>
          </a:xfrm>
        </p:grpSpPr>
        <p:sp>
          <p:nvSpPr>
            <p:cNvPr id="167" name=""/>
            <p:cNvSpPr/>
            <p:nvPr/>
          </p:nvSpPr>
          <p:spPr>
            <a:xfrm>
              <a:off x="5333760" y="4572000"/>
              <a:ext cx="914400" cy="533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3962520"/>
              <a:ext cx="1600200" cy="6858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eb 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13:06Z</dcterms:created>
  <dc:creator>NNP</dc:creator>
  <dc:description/>
  <dc:language>en-US</dc:language>
  <cp:lastModifiedBy>Natawut Nupairoj</cp:lastModifiedBy>
  <dcterms:modified xsi:type="dcterms:W3CDTF">2003-11-10T19:33:07Z</dcterms:modified>
  <cp:revision>13</cp:revision>
  <dc:subject/>
  <dc:title>Introduction to Compilation Technology</dc:title>
</cp:coreProperties>
</file>