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EB9116-042E-42D3-B785-C5E358188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9E19CF-3EF6-435E-891C-74D5E6FE0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3AE778-D946-4A12-B416-CA903EF70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E223D7-A7E2-4714-9C88-65D983DE8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20BED-F0CC-47F6-B877-6C1CA0E02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28657-FECE-4E2D-B3DB-3592A2DD5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80233-D765-480B-ADC6-DF1C2D19C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B8B35-852E-49D1-B194-F4BA1E5E0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ED387-3BB8-44A8-B3C6-5723999E2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0B4CD-350A-4B7B-82C9-B09EFCD4A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041CE-5F9B-4E71-A233-95047C7CD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741A2B-5266-4D91-B743-EDC3B4B24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05D63-501F-491A-8D77-58278738F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43662-6B95-4B15-B246-ABE5538B9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24262-827E-4A3D-8A90-52B3225E5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F7A54-38AD-4C12-BA32-6E960380D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60ACF-746A-4AEC-BF72-B16CC8F0A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F07FD1-ED96-4F23-96ED-C9F089E94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A237F3-0946-4EA3-BD13-4B5604172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F504C7-099C-4910-8E3E-305012B82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98DE5E-0E8C-4B8D-8CFB-9F7F29A58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0DAD38-23A0-42D5-A1B5-E1AFC66B2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41B624-118A-49E7-82AB-DDF6FFF9B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1CD809-EA12-4C27-A821-464DB017B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65D05-6CE5-4CA2-86C8-BB0D404DDFD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E1B5D-93E8-45E1-AA8C-A2971D765FF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The Model of Compilation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atawut Nupairoj, Ph.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partment of Computer Enginee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lalongkorn Univers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400" spc="-1" strike="noStrike">
                <a:solidFill>
                  <a:srgbClr val="000000"/>
                </a:solidFill>
                <a:latin typeface="Arial"/>
              </a:rPr>
              <a:t>Syntax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s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Check if the source is “grammatically” corr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Construct 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ngsana New"/>
              </a:rPr>
              <a:t>d tre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PASCAL Synta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rogra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ROGRA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identifi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identifi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ore_identifie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loc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loc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abels constants types variables subroutin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EG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tat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ore_statemen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ore_identifie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identifi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ore_identifiers  | 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400" spc="-1" strike="noStrike">
                <a:solidFill>
                  <a:srgbClr val="000000"/>
                </a:solidFill>
                <a:latin typeface="Arial"/>
              </a:rPr>
              <a:t>Example: Parse Tr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143000" y="1876320"/>
          <a:ext cx="6867360" cy="437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876320"/>
                    <a:ext cx="6867360" cy="437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1600200" y="457200"/>
            <a:ext cx="588636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400" spc="-1" strike="noStrike">
                <a:solidFill>
                  <a:srgbClr val="000000"/>
                </a:solidFill>
                <a:latin typeface="Arial"/>
              </a:rPr>
              <a:t>Semantic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Make sure that the program is “meaningful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k the parse tree to che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 check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Typ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sion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ngsana New"/>
              </a:rPr>
              <a:t>Other rul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ngsana New"/>
              </a:rPr>
              <a:t>Variables must be declared before being us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ngsana New"/>
              </a:rPr>
              <a:t>Subroutine calls must match number of argu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ngsana New"/>
              </a:rPr>
              <a:t>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400" spc="-1" strike="noStrike">
                <a:solidFill>
                  <a:srgbClr val="000000"/>
                </a:solidFill>
                <a:latin typeface="Arial"/>
              </a:rPr>
              <a:t>Semantic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ate * 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rate is a real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ate * inttoreal(6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te IR (can also done by parser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Arial"/>
              </a:rPr>
              <a:t>Example of IR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bstract Syntax Tree (AST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6098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osition := initial + rate * 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" y="5105520"/>
            <a:ext cx="548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interior node = op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children = arg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leaves = identifiers or const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33720" y="2666880"/>
            <a:ext cx="6629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th-TH" sz="2400" spc="-1" strike="noStrike">
                <a:solidFill>
                  <a:srgbClr val="000000"/>
                </a:solidFill>
                <a:latin typeface="Courier New"/>
              </a:rPr>
              <a:t>: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Courier New"/>
              </a:rPr>
              <a:t>position</a:t>
            </a:r>
            <a:r>
              <a:rPr b="0" lang="th-TH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Courier New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Courier New"/>
              </a:rPr>
              <a:t>initial</a:t>
            </a:r>
            <a:r>
              <a:rPr b="0" lang="th-TH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Courier New"/>
              </a:rPr>
              <a:t>rate</a:t>
            </a:r>
            <a:r>
              <a:rPr b="0" lang="th-TH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Courier New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648320" y="3048120"/>
            <a:ext cx="76176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791320" y="373392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781680" y="449568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6019920" y="4495680"/>
            <a:ext cx="3808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4952880" y="373392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2971800" y="3048120"/>
            <a:ext cx="9144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2133720" y="2362320"/>
            <a:ext cx="4952880" cy="364788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Arial"/>
              </a:rPr>
              <a:t>Example of IR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bstract Syntax Tree (AST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of IR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ree-Address Co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3047760"/>
            <a:ext cx="82296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mp := rate * 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mp := initial + t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osition := t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981080"/>
            <a:ext cx="8229600" cy="6098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osition := initial + rate * 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400" spc="-1" strike="noStrike">
                <a:solidFill>
                  <a:srgbClr val="000000"/>
                </a:solidFill>
                <a:latin typeface="Arial"/>
              </a:rPr>
              <a:t>Back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th-TH" sz="44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Code Optim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improve I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machine-independ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 object code: machine-deped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optimizing compil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widely-us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Code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generat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 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co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assign memory/register locat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 sel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2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2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vie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nt-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al Ana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ntactic Ana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mantic Ana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-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de Gen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de Optimiz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-</a:t>
            </a:r>
            <a:r>
              <a:rPr b="0" lang="th-TH" sz="4400" spc="-1" strike="noStrike">
                <a:solidFill>
                  <a:srgbClr val="000000"/>
                </a:solidFill>
                <a:latin typeface="Arial"/>
              </a:rPr>
              <a:t>End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Compon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657600" y="2438280"/>
            <a:ext cx="1447920" cy="76212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timiz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57200" y="251460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Intermedi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Repres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(file or in memo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666880" y="2895480"/>
            <a:ext cx="99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657600" y="3962520"/>
            <a:ext cx="1447920" cy="76176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95880" y="548640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Object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(assembly or bina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343400" y="320040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657600" y="5410080"/>
            <a:ext cx="1447920" cy="76212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eepho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ptimiz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43400" y="472428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05520" y="5791320"/>
            <a:ext cx="99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3505320" y="1828800"/>
            <a:ext cx="1769040" cy="4495680"/>
            <a:chOff x="3505320" y="1828800"/>
            <a:chExt cx="1769040" cy="4495680"/>
          </a:xfrm>
        </p:grpSpPr>
        <p:sp>
          <p:nvSpPr>
            <p:cNvPr id="251" name=""/>
            <p:cNvSpPr/>
            <p:nvPr/>
          </p:nvSpPr>
          <p:spPr>
            <a:xfrm>
              <a:off x="3505320" y="2133720"/>
              <a:ext cx="1752480" cy="4190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040640" y="1828800"/>
              <a:ext cx="123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ack-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" name=""/>
          <p:cNvSpPr/>
          <p:nvPr/>
        </p:nvSpPr>
        <p:spPr>
          <a:xfrm>
            <a:off x="5638680" y="3581280"/>
            <a:ext cx="2286000" cy="34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375" y="37000"/>
                </a:moveTo>
                <a:lnTo>
                  <a:pt x="-720" y="7200"/>
                </a:lnTo>
              </a:path>
              <a:path w="21600" h="21600">
                <a:moveTo>
                  <a:pt x="-720" y="0"/>
                </a:moveTo>
                <a:lnTo>
                  <a:pt x="-720" y="21600"/>
                </a:lnTo>
              </a:path>
            </a:pathLst>
          </a:custGeom>
          <a:solidFill>
            <a:srgbClr val="ffff99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nerate object cod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638680" y="2209680"/>
            <a:ext cx="22860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315" y="16144"/>
                </a:moveTo>
                <a:lnTo>
                  <a:pt x="-720" y="4000"/>
                </a:lnTo>
              </a:path>
              <a:path w="21600" h="21600">
                <a:moveTo>
                  <a:pt x="-720" y="0"/>
                </a:moveTo>
                <a:lnTo>
                  <a:pt x="-720" y="21600"/>
                </a:lnTo>
              </a:path>
            </a:pathLst>
          </a:custGeom>
          <a:solidFill>
            <a:srgbClr val="ffff99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chine-independent optimization (optional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419720" y="3276720"/>
            <a:ext cx="380880" cy="3070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2514240" y="3048120"/>
            <a:ext cx="1143000" cy="990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27432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 flipV="1">
            <a:off x="2514240" y="4572000"/>
            <a:ext cx="1143000" cy="99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523880" y="3886200"/>
            <a:ext cx="1219320" cy="838080"/>
          </a:xfrm>
          <a:prstGeom prst="ellipse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638680" y="4724280"/>
            <a:ext cx="289584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761" y="28406"/>
                </a:moveTo>
                <a:lnTo>
                  <a:pt x="-568" y="4000"/>
                </a:lnTo>
              </a:path>
              <a:path w="21600" h="21600">
                <a:moveTo>
                  <a:pt x="-568" y="0"/>
                </a:moveTo>
                <a:lnTo>
                  <a:pt x="-568" y="21600"/>
                </a:lnTo>
              </a:path>
            </a:pathLst>
          </a:custGeom>
          <a:solidFill>
            <a:srgbClr val="ffff99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chine-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ation (optiona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419720" y="4800600"/>
            <a:ext cx="1218960" cy="3070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Object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1000"/>
                            </p:stCondLst>
                            <p:childTnLst>
                              <p:par>
                                <p:cTn id="4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1500"/>
                            </p:stCondLst>
                            <p:childTnLst>
                              <p:par>
                                <p:cTn id="4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2500"/>
                            </p:stCondLst>
                            <p:childTnLst>
                              <p:par>
                                <p:cTn id="4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3000"/>
                            </p:stCondLst>
                            <p:childTnLst>
                              <p:par>
                                <p:cTn id="4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1000"/>
                            </p:stCondLst>
                            <p:childTnLst>
                              <p:par>
                                <p:cTn id="4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7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0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500"/>
                            </p:stCondLst>
                            <p:childTnLst>
                              <p:par>
                                <p:cTn id="4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2590920" y="457200"/>
            <a:ext cx="3830400" cy="621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400" spc="-1" strike="noStrike">
                <a:solidFill>
                  <a:srgbClr val="000000"/>
                </a:solidFill>
                <a:latin typeface="Arial"/>
              </a:rPr>
              <a:t>Other Ph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Symbol-Table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information about identifier being-u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sc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nner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 creates an entry into the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Error Hand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what to do when found errors in the sour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400" spc="-1" strike="noStrike">
                <a:solidFill>
                  <a:srgbClr val="000000"/>
                </a:solidFill>
                <a:latin typeface="Arial"/>
              </a:rPr>
              <a:t>Compiler-Construction To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Parser generato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Generate a parser from a CF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Yacc, Bis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Scanner generato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Generate a scanner from regular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Lex, Fl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100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1000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1000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1000"/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Translate a “source” progr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in language S)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 into an “equivalent” 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” progr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in language O)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135880" y="3657600"/>
            <a:ext cx="4844520" cy="1792440"/>
            <a:chOff x="2135880" y="3657600"/>
            <a:chExt cx="4844520" cy="1792440"/>
          </a:xfrm>
        </p:grpSpPr>
        <p:sp>
          <p:nvSpPr>
            <p:cNvPr id="113" name=""/>
            <p:cNvSpPr/>
            <p:nvPr/>
          </p:nvSpPr>
          <p:spPr>
            <a:xfrm>
              <a:off x="3723120" y="3657600"/>
              <a:ext cx="1398600" cy="74664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ransla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960280" y="3996720"/>
              <a:ext cx="76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122080" y="3996720"/>
              <a:ext cx="76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135880" y="3723840"/>
              <a:ext cx="10296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800" spc="-1" strike="noStrike">
                  <a:solidFill>
                    <a:srgbClr val="000000"/>
                  </a:solidFill>
                  <a:latin typeface="Arial"/>
                </a:rPr>
                <a:t>source</a:t>
              </a:r>
              <a:br>
                <a:rPr sz="1800"/>
              </a:br>
              <a:r>
                <a:rPr b="0" lang="th-TH" sz="1800" spc="-1" strike="noStrike">
                  <a:solidFill>
                    <a:srgbClr val="000000"/>
                  </a:solidFill>
                  <a:latin typeface="Arial"/>
                </a:rPr>
                <a:t>progra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50800" y="3723840"/>
              <a:ext cx="10296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bject</a:t>
              </a:r>
              <a:br>
                <a:rPr sz="1800"/>
              </a:br>
              <a:r>
                <a:rPr b="0" lang="th-TH" sz="1800" spc="-1" strike="noStrike">
                  <a:solidFill>
                    <a:srgbClr val="000000"/>
                  </a:solidFill>
                  <a:latin typeface="Arial"/>
                </a:rPr>
                <a:t>progra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O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422600" y="4404240"/>
              <a:ext cx="0" cy="61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727080" y="5081760"/>
              <a:ext cx="176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800" spc="-1" strike="noStrike">
                  <a:solidFill>
                    <a:srgbClr val="000000"/>
                  </a:solidFill>
                  <a:latin typeface="Arial"/>
                </a:rPr>
                <a:t>error messag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400" spc="-1" strike="noStrike">
                <a:solidFill>
                  <a:srgbClr val="000000"/>
                </a:solidFill>
                <a:latin typeface="Arial"/>
              </a:rPr>
              <a:t>The Model of Compi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3429000"/>
            <a:ext cx="817884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Reduce Complex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rce/Targe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ngsana New"/>
              </a:rPr>
              <a:t>Indepen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Plug-able Compi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IR: contain sufficient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tree-like structure the “syntax tree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mbly-like format “three-address code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981080" y="2286000"/>
            <a:ext cx="1447920" cy="76212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rial"/>
              </a:rPr>
              <a:t>(Fro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</a:rPr>
              <a:t>En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562720" y="2286000"/>
            <a:ext cx="1447560" cy="76212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rial"/>
              </a:rPr>
              <a:t>(Bac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</a:rPr>
              <a:t>En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13480" y="2360520"/>
            <a:ext cx="172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rial"/>
              </a:rPr>
              <a:t>Intermediate</a:t>
            </a:r>
            <a:br>
              <a:rPr sz="1800"/>
            </a:br>
            <a:r>
              <a:rPr b="0" lang="th-TH" sz="1800" spc="-1" strike="noStrike">
                <a:solidFill>
                  <a:srgbClr val="000000"/>
                </a:solidFill>
                <a:latin typeface="Arial"/>
              </a:rPr>
              <a:t>Repres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12000" y="243684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622640" y="243684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447920" y="26668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429000" y="2666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257800" y="26668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010280" y="26668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400" spc="-1" strike="noStrike">
                <a:solidFill>
                  <a:srgbClr val="000000"/>
                </a:solidFill>
                <a:latin typeface="Arial"/>
              </a:rPr>
              <a:t>Fron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th-TH" sz="44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Lexical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group the input stream into tok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Synt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tic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see if the source is “valid” or “correc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extual/Semantic 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make sure the program is “meaningful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semantically corr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400" spc="-1" strike="noStrike">
                <a:solidFill>
                  <a:srgbClr val="000000"/>
                </a:solidFill>
                <a:latin typeface="Arial"/>
              </a:rPr>
              <a:t>Fron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th-TH" sz="4400" spc="-1" strike="noStrike">
                <a:solidFill>
                  <a:srgbClr val="000000"/>
                </a:solidFill>
                <a:latin typeface="Arial"/>
              </a:rPr>
              <a:t>End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Compon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657600" y="2438280"/>
            <a:ext cx="1447920" cy="76212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n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" y="2514600"/>
            <a:ext cx="3352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Source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(text strea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666880" y="2895480"/>
            <a:ext cx="99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657600" y="3962520"/>
            <a:ext cx="1447920" cy="76176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095880" y="5410080"/>
            <a:ext cx="2133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Intermedi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Repres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(file or in memo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0" y="320040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657600" y="5410080"/>
            <a:ext cx="1447920" cy="76212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man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alyz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343400" y="472428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4191120" y="320004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5520" y="5791320"/>
            <a:ext cx="99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3505320" y="1828800"/>
            <a:ext cx="1809000" cy="4495680"/>
            <a:chOff x="3505320" y="1828800"/>
            <a:chExt cx="1809000" cy="4495680"/>
          </a:xfrm>
        </p:grpSpPr>
        <p:sp>
          <p:nvSpPr>
            <p:cNvPr id="145" name=""/>
            <p:cNvSpPr/>
            <p:nvPr/>
          </p:nvSpPr>
          <p:spPr>
            <a:xfrm>
              <a:off x="3505320" y="2133720"/>
              <a:ext cx="1752480" cy="4190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039200" y="1828800"/>
              <a:ext cx="127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ront-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5638680" y="3581280"/>
            <a:ext cx="2286000" cy="34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375" y="37000"/>
                </a:moveTo>
                <a:lnTo>
                  <a:pt x="-720" y="7200"/>
                </a:lnTo>
              </a:path>
              <a:path w="21600" h="21600">
                <a:moveTo>
                  <a:pt x="-720" y="0"/>
                </a:moveTo>
                <a:lnTo>
                  <a:pt x="-720" y="21600"/>
                </a:lnTo>
              </a:path>
            </a:pathLst>
          </a:custGeom>
          <a:solidFill>
            <a:srgbClr val="ffff99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struct parse tre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638680" y="2209680"/>
            <a:ext cx="2286000" cy="34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315" y="28700"/>
                </a:moveTo>
                <a:lnTo>
                  <a:pt x="-720" y="7200"/>
                </a:lnTo>
              </a:path>
              <a:path w="21600" h="21600">
                <a:moveTo>
                  <a:pt x="-720" y="0"/>
                </a:moveTo>
                <a:lnTo>
                  <a:pt x="-720" y="21600"/>
                </a:lnTo>
              </a:path>
            </a:pathLst>
          </a:custGeom>
          <a:solidFill>
            <a:srgbClr val="ffff99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oup tok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048120" y="3581280"/>
            <a:ext cx="1077840" cy="520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ext-tok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648320" y="3276720"/>
            <a:ext cx="685800" cy="3070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ok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2514240" y="3048120"/>
            <a:ext cx="1143000" cy="990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27432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 flipV="1">
            <a:off x="2514240" y="4572000"/>
            <a:ext cx="1143000" cy="99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523880" y="3886200"/>
            <a:ext cx="1219320" cy="838080"/>
          </a:xfrm>
          <a:prstGeom prst="ellipse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04920" y="3200400"/>
            <a:ext cx="304560" cy="304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09480" y="3200400"/>
            <a:ext cx="304920" cy="304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914400" y="3200400"/>
            <a:ext cx="304920" cy="304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219320" y="3200400"/>
            <a:ext cx="304560" cy="304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23880" y="3200400"/>
            <a:ext cx="304920" cy="304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828800" y="3200400"/>
            <a:ext cx="304920" cy="304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133720" y="3200400"/>
            <a:ext cx="304560" cy="304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438280" y="3200400"/>
            <a:ext cx="304920" cy="304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5105520"/>
            <a:ext cx="2895840" cy="34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761" y="26500"/>
                </a:moveTo>
                <a:lnTo>
                  <a:pt x="-568" y="7200"/>
                </a:lnTo>
              </a:path>
              <a:path w="21600" h="21600">
                <a:moveTo>
                  <a:pt x="-568" y="0"/>
                </a:moveTo>
                <a:lnTo>
                  <a:pt x="-568" y="21600"/>
                </a:lnTo>
              </a:path>
            </a:pathLst>
          </a:custGeom>
          <a:solidFill>
            <a:srgbClr val="ffff99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eck semantic/contextu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2895480"/>
            <a:ext cx="114300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fi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0" y="2895480"/>
            <a:ext cx="99072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ymb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495680" y="4876920"/>
            <a:ext cx="1078200" cy="3070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arse-tr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500"/>
                            </p:stCondLst>
                            <p:childTnLst>
                              <p:par>
                                <p:cTn id="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5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3000"/>
                            </p:stCondLst>
                            <p:childTnLst>
                              <p:par>
                                <p:cTn id="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000"/>
                            </p:stCondLst>
                            <p:childTnLst>
                              <p:par>
                                <p:cTn id="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5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5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30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400" spc="-1" strike="noStrike">
                <a:solidFill>
                  <a:srgbClr val="000000"/>
                </a:solidFill>
                <a:latin typeface="Arial"/>
              </a:rPr>
              <a:t>Lexical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nn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Group the input stream into tok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identifi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numb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keywor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symbols &amp; sig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xeme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: Character sequence forming a tok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Eliminate all blanks and commen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304920" y="2133720"/>
            <a:ext cx="8178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position := initial + rate * 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2133720"/>
            <a:ext cx="1904760" cy="457200"/>
          </a:xfrm>
          <a:prstGeom prst="rect">
            <a:avLst/>
          </a:prstGeom>
          <a:gradFill rotWithShape="0">
            <a:gsLst>
              <a:gs pos="0">
                <a:srgbClr val="9999ff">
                  <a:alpha val="25098"/>
                </a:srgbClr>
              </a:gs>
              <a:gs pos="100000">
                <a:srgbClr val="a3a3fe">
                  <a:alpha val="2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400" spc="-1" strike="noStrike">
                <a:solidFill>
                  <a:srgbClr val="000000"/>
                </a:solidFill>
                <a:latin typeface="Arial"/>
              </a:rPr>
              <a:t>Example: Toke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1905120" y="2666880"/>
            <a:ext cx="457200" cy="838440"/>
            <a:chOff x="1905120" y="2666880"/>
            <a:chExt cx="457200" cy="838440"/>
          </a:xfrm>
        </p:grpSpPr>
        <p:sp>
          <p:nvSpPr>
            <p:cNvPr id="173" name=""/>
            <p:cNvSpPr/>
            <p:nvPr/>
          </p:nvSpPr>
          <p:spPr>
            <a:xfrm>
              <a:off x="1905120" y="3124080"/>
              <a:ext cx="457200" cy="381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133720" y="26668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6934320" y="2666880"/>
            <a:ext cx="457200" cy="838440"/>
            <a:chOff x="6934320" y="2666880"/>
            <a:chExt cx="457200" cy="838440"/>
          </a:xfrm>
        </p:grpSpPr>
        <p:sp>
          <p:nvSpPr>
            <p:cNvPr id="176" name=""/>
            <p:cNvSpPr/>
            <p:nvPr/>
          </p:nvSpPr>
          <p:spPr>
            <a:xfrm>
              <a:off x="6934320" y="3124080"/>
              <a:ext cx="457200" cy="381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934320" y="2666880"/>
              <a:ext cx="1522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43600" y="2666880"/>
            <a:ext cx="457200" cy="838440"/>
            <a:chOff x="5943600" y="2666880"/>
            <a:chExt cx="457200" cy="838440"/>
          </a:xfrm>
        </p:grpSpPr>
        <p:sp>
          <p:nvSpPr>
            <p:cNvPr id="179" name=""/>
            <p:cNvSpPr/>
            <p:nvPr/>
          </p:nvSpPr>
          <p:spPr>
            <a:xfrm>
              <a:off x="5943600" y="3124080"/>
              <a:ext cx="457200" cy="381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172200" y="26668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4191120" y="2666880"/>
            <a:ext cx="457200" cy="838440"/>
            <a:chOff x="4191120" y="2666880"/>
            <a:chExt cx="457200" cy="838440"/>
          </a:xfrm>
        </p:grpSpPr>
        <p:sp>
          <p:nvSpPr>
            <p:cNvPr id="182" name=""/>
            <p:cNvSpPr/>
            <p:nvPr/>
          </p:nvSpPr>
          <p:spPr>
            <a:xfrm>
              <a:off x="4191120" y="3124080"/>
              <a:ext cx="457200" cy="381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419720" y="26668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5181480" y="2666880"/>
            <a:ext cx="457200" cy="838440"/>
            <a:chOff x="5181480" y="2666880"/>
            <a:chExt cx="457200" cy="838440"/>
          </a:xfrm>
        </p:grpSpPr>
        <p:sp>
          <p:nvSpPr>
            <p:cNvPr id="185" name=""/>
            <p:cNvSpPr/>
            <p:nvPr/>
          </p:nvSpPr>
          <p:spPr>
            <a:xfrm>
              <a:off x="5181480" y="3124080"/>
              <a:ext cx="457200" cy="381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410080" y="26668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3048120" y="2666880"/>
            <a:ext cx="457200" cy="838440"/>
            <a:chOff x="3048120" y="2666880"/>
            <a:chExt cx="457200" cy="838440"/>
          </a:xfrm>
        </p:grpSpPr>
        <p:sp>
          <p:nvSpPr>
            <p:cNvPr id="188" name=""/>
            <p:cNvSpPr/>
            <p:nvPr/>
          </p:nvSpPr>
          <p:spPr>
            <a:xfrm>
              <a:off x="3048120" y="3124080"/>
              <a:ext cx="457200" cy="381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276720" y="26668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7467480" y="2590920"/>
            <a:ext cx="838080" cy="914400"/>
            <a:chOff x="7467480" y="2590920"/>
            <a:chExt cx="838080" cy="914400"/>
          </a:xfrm>
        </p:grpSpPr>
        <p:sp>
          <p:nvSpPr>
            <p:cNvPr id="191" name=""/>
            <p:cNvSpPr/>
            <p:nvPr/>
          </p:nvSpPr>
          <p:spPr>
            <a:xfrm>
              <a:off x="7848360" y="3124080"/>
              <a:ext cx="457200" cy="381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467480" y="2590920"/>
              <a:ext cx="45720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380880" y="3952800"/>
            <a:ext cx="4724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  <a:ea typeface="Angsana New"/>
              </a:rPr>
              <a:t>identifier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 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th-TH" sz="2400" spc="-1" strike="noStrike">
                <a:solidFill>
                  <a:srgbClr val="3333ff"/>
                </a:solidFill>
                <a:latin typeface="Arial"/>
              </a:rPr>
              <a:t>assignment symbol 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: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th-TH" sz="2400" spc="-1" strike="noStrike">
                <a:solidFill>
                  <a:srgbClr val="3333ff"/>
                </a:solidFill>
                <a:latin typeface="Arial"/>
              </a:rPr>
              <a:t>identifier 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ini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plus symbol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 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378320" y="3962520"/>
            <a:ext cx="444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th-TH" sz="2400" spc="-1" strike="noStrike">
                <a:solidFill>
                  <a:srgbClr val="3333ff"/>
                </a:solidFill>
                <a:latin typeface="Arial"/>
              </a:rPr>
              <a:t>identifier</a:t>
            </a:r>
            <a:r>
              <a:rPr b="1" lang="th-TH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muliplication symbol</a:t>
            </a:r>
            <a:r>
              <a:rPr b="1" lang="th-TH" sz="2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integer-literal</a:t>
            </a:r>
            <a:r>
              <a:rPr b="1" lang="th-TH" sz="2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971800" y="2133720"/>
            <a:ext cx="533520" cy="457200"/>
          </a:xfrm>
          <a:prstGeom prst="rect">
            <a:avLst/>
          </a:prstGeom>
          <a:gradFill rotWithShape="0">
            <a:gsLst>
              <a:gs pos="0">
                <a:srgbClr val="9999ff">
                  <a:alpha val="25098"/>
                </a:srgbClr>
              </a:gs>
              <a:gs pos="100000">
                <a:srgbClr val="a3a3fe">
                  <a:alpha val="2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581280" y="2133720"/>
            <a:ext cx="1600200" cy="457200"/>
          </a:xfrm>
          <a:prstGeom prst="rect">
            <a:avLst/>
          </a:prstGeom>
          <a:gradFill rotWithShape="0">
            <a:gsLst>
              <a:gs pos="0">
                <a:srgbClr val="9999ff">
                  <a:alpha val="25098"/>
                </a:srgbClr>
              </a:gs>
              <a:gs pos="100000">
                <a:srgbClr val="a3a3fe">
                  <a:alpha val="2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257800" y="2133720"/>
            <a:ext cx="380880" cy="457200"/>
          </a:xfrm>
          <a:prstGeom prst="rect">
            <a:avLst/>
          </a:prstGeom>
          <a:gradFill rotWithShape="0">
            <a:gsLst>
              <a:gs pos="0">
                <a:srgbClr val="9999ff">
                  <a:alpha val="25098"/>
                </a:srgbClr>
              </a:gs>
              <a:gs pos="100000">
                <a:srgbClr val="a3a3fe">
                  <a:alpha val="2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715000" y="2133720"/>
            <a:ext cx="990720" cy="457200"/>
          </a:xfrm>
          <a:prstGeom prst="rect">
            <a:avLst/>
          </a:prstGeom>
          <a:gradFill rotWithShape="0">
            <a:gsLst>
              <a:gs pos="0">
                <a:srgbClr val="9999ff">
                  <a:alpha val="25098"/>
                </a:srgbClr>
              </a:gs>
              <a:gs pos="100000">
                <a:srgbClr val="a3a3fe">
                  <a:alpha val="2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781680" y="2133720"/>
            <a:ext cx="304920" cy="457200"/>
          </a:xfrm>
          <a:prstGeom prst="rect">
            <a:avLst/>
          </a:prstGeom>
          <a:gradFill rotWithShape="0">
            <a:gsLst>
              <a:gs pos="0">
                <a:srgbClr val="9999ff">
                  <a:alpha val="25098"/>
                </a:srgbClr>
              </a:gs>
              <a:gs pos="100000">
                <a:srgbClr val="a3a3fe">
                  <a:alpha val="2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238880" y="2133720"/>
            <a:ext cx="457200" cy="457200"/>
          </a:xfrm>
          <a:prstGeom prst="rect">
            <a:avLst/>
          </a:prstGeom>
          <a:gradFill rotWithShape="0">
            <a:gsLst>
              <a:gs pos="0">
                <a:srgbClr val="9999ff">
                  <a:alpha val="25098"/>
                </a:srgbClr>
              </a:gs>
              <a:gs pos="100000">
                <a:srgbClr val="a3a3fe">
                  <a:alpha val="2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000"/>
                            </p:stCondLst>
                            <p:childTnLst>
                              <p:par>
                                <p:cTn id="2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500"/>
                            </p:stCondLst>
                            <p:childTnLst>
                              <p:par>
                                <p:cTn id="2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Toke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ogram gcd (input, output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var i, j : intege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ad (i, j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hile i &lt;&gt; j 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 i &gt; j then i:= i –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lse j := j – 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riteln(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57200" y="1981080"/>
            <a:ext cx="1447920" cy="457200"/>
          </a:xfrm>
          <a:prstGeom prst="rect">
            <a:avLst/>
          </a:prstGeom>
          <a:gradFill rotWithShape="0">
            <a:gsLst>
              <a:gs pos="0">
                <a:srgbClr val="9999ff">
                  <a:alpha val="25098"/>
                </a:srgbClr>
              </a:gs>
              <a:gs pos="100000">
                <a:srgbClr val="a3a3fe">
                  <a:alpha val="2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981080" y="1981080"/>
            <a:ext cx="609840" cy="457200"/>
          </a:xfrm>
          <a:prstGeom prst="rect">
            <a:avLst/>
          </a:prstGeom>
          <a:gradFill rotWithShape="0">
            <a:gsLst>
              <a:gs pos="0">
                <a:srgbClr val="9999ff">
                  <a:alpha val="25098"/>
                </a:srgbClr>
              </a:gs>
              <a:gs pos="100000">
                <a:srgbClr val="a3a3fe">
                  <a:alpha val="2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819520" y="1981080"/>
            <a:ext cx="75960" cy="457200"/>
          </a:xfrm>
          <a:prstGeom prst="rect">
            <a:avLst/>
          </a:prstGeom>
          <a:gradFill rotWithShape="0">
            <a:gsLst>
              <a:gs pos="0">
                <a:srgbClr val="9999ff">
                  <a:alpha val="25098"/>
                </a:srgbClr>
              </a:gs>
              <a:gs pos="100000">
                <a:srgbClr val="a3a3fe">
                  <a:alpha val="2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1981080"/>
            <a:ext cx="838080" cy="457200"/>
          </a:xfrm>
          <a:prstGeom prst="rect">
            <a:avLst/>
          </a:prstGeom>
          <a:gradFill rotWithShape="0">
            <a:gsLst>
              <a:gs pos="0">
                <a:srgbClr val="9999ff">
                  <a:alpha val="25098"/>
                </a:srgbClr>
              </a:gs>
              <a:gs pos="100000">
                <a:srgbClr val="a3a3fe">
                  <a:alpha val="2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191120" y="1981080"/>
            <a:ext cx="1066680" cy="457200"/>
          </a:xfrm>
          <a:prstGeom prst="rect">
            <a:avLst/>
          </a:prstGeom>
          <a:gradFill rotWithShape="0">
            <a:gsLst>
              <a:gs pos="0">
                <a:srgbClr val="9999ff">
                  <a:alpha val="25098"/>
                </a:srgbClr>
              </a:gs>
              <a:gs pos="100000">
                <a:srgbClr val="a3a3fe">
                  <a:alpha val="2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1981080"/>
            <a:ext cx="76320" cy="457200"/>
          </a:xfrm>
          <a:prstGeom prst="rect">
            <a:avLst/>
          </a:prstGeom>
          <a:gradFill rotWithShape="0">
            <a:gsLst>
              <a:gs pos="0">
                <a:srgbClr val="9999ff">
                  <a:alpha val="25098"/>
                </a:srgbClr>
              </a:gs>
              <a:gs pos="100000">
                <a:srgbClr val="a3a3fe">
                  <a:alpha val="2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334120" y="1981080"/>
            <a:ext cx="75960" cy="457200"/>
          </a:xfrm>
          <a:prstGeom prst="rect">
            <a:avLst/>
          </a:prstGeom>
          <a:gradFill rotWithShape="0">
            <a:gsLst>
              <a:gs pos="0">
                <a:srgbClr val="9999ff">
                  <a:alpha val="25098"/>
                </a:srgbClr>
              </a:gs>
              <a:gs pos="100000">
                <a:srgbClr val="a3a3fe">
                  <a:alpha val="2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486400" y="1981080"/>
            <a:ext cx="152280" cy="457200"/>
          </a:xfrm>
          <a:prstGeom prst="rect">
            <a:avLst/>
          </a:prstGeom>
          <a:gradFill rotWithShape="0">
            <a:gsLst>
              <a:gs pos="0">
                <a:srgbClr val="9999ff">
                  <a:alpha val="25098"/>
                </a:srgbClr>
              </a:gs>
              <a:gs pos="100000">
                <a:srgbClr val="a3a3fe">
                  <a:alpha val="2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0T14:13:06Z</dcterms:created>
  <dc:creator>NNP</dc:creator>
  <dc:description/>
  <dc:language>en-US</dc:language>
  <cp:lastModifiedBy>Natawut Nupairoj</cp:lastModifiedBy>
  <dcterms:modified xsi:type="dcterms:W3CDTF">2003-11-13T03:32:04Z</dcterms:modified>
  <cp:revision>19</cp:revision>
  <dc:subject/>
  <dc:title>Introduction to Compilation Technology</dc:title>
</cp:coreProperties>
</file>