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8C40-6D4D-4D44-A0D3-D821ED86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0C3F-E749-4CE5-BD9B-9650894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DBD5-F958-49B7-A924-1D9C7256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BF5D-45BE-4833-AE7D-AF1A7771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D362-9AB7-4C99-AF4B-1FD5B42F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3D93-9DBF-4BFE-BEBB-B405C6C5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7CC1-4AA1-4C14-A1E6-31FD900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2EF9-5DBA-4CBB-A9A7-E9B122B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5CE-78CC-466F-A6F6-B5C208E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16E-54CF-412A-8C25-7909853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842F-222D-4707-AAAC-3E043D1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37DD-0B4F-4C65-BEAA-D309A5D3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C5C0-B2E8-4967-8C6D-6216C97C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BD13-D399-4A8C-8788-F0C68B2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975-1782-41A0-B8D5-87C3960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460E-BE40-429F-A251-DA1B7227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E67D-21E7-418E-B8E2-47ED4A8D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61BF-F9C4-42F3-BF9F-93AA5123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A13D-C779-427B-AB26-47725A1D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F9C0-98F3-4DAF-850E-6A741ED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C4C9-18F4-4507-A1A2-18BF3AA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DA51-29CF-47D5-AAF3-F311BEA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E52F-B3BA-49C5-A1B2-3C4255A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A343-7B77-44EC-8D72-5FBF70E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306-9D76-427F-A958-BFEC2588D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4603-3590-42BF-BC0C-BEAB82373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cann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gular expression that denotes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lphabet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gular expression that denotes {a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r and s are regular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|(s) denoting L(r) U L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(s) denoting L(r)L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* denoting (L(r)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of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rece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ene closure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(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perators are left associ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*b | cd* = ((a*)b) | (c(d*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Regular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A sequence of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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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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di is a distinc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i is a regular expression 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ๅ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U {d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, …, d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…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…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…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urier Ne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digi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pt_fra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pt_exp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)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urier New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igi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pt_fra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pt_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819520"/>
            <a:ext cx="8153640" cy="533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572000"/>
            <a:ext cx="815364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Notational Short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+ = rr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or on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? = r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s)? = rs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Za-z] = A | B | … | Z | a | b | … |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t_fra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. digits 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t_ex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E ( + | - )? digits 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 opt_frac opt_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-Za-z][A-Za-z0-9]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733920"/>
            <a:ext cx="8229600" cy="533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572000"/>
            <a:ext cx="8229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Recognition of To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okens from the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FAs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ngsana New"/>
              </a:rPr>
              <a:t>“sneaked peek” with “unread” op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the caller with “token type” and “attribut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Example: Pattern-Token-Attrib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562720" y="167616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Attribute-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90720" y="1676520"/>
            <a:ext cx="22096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676520"/>
            <a:ext cx="2209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ealcons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ngsana New"/>
              </a:rPr>
              <a:t>l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43828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64771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6765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76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Attributes for To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count &gt;= 0 the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id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ymbol tabl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ngsana New"/>
              </a:rPr>
              <a:t>intconst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integer val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438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6041880" cy="6202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87840" y="5819760"/>
            <a:ext cx="6858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7191360" y="5492880"/>
            <a:ext cx="6858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2635200" y="5805360"/>
            <a:ext cx="6858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5442120" y="3019320"/>
            <a:ext cx="6858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4560840" y="3011400"/>
            <a:ext cx="468360" cy="2653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581280"/>
            <a:ext cx="38088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4114800"/>
            <a:ext cx="2286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4114800"/>
            <a:ext cx="22860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4952880"/>
            <a:ext cx="1447920" cy="2286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990880"/>
            <a:ext cx="457200" cy="2858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, Lexeme, and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er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er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for number contains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i-IN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 ( E (+ | -)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, 31.02, 31.02E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get the longest possible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longes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match, try the next possibl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Handl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2743200"/>
          <a:ext cx="805356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805356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4267080" y="3552840"/>
            <a:ext cx="914400" cy="3049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2" name=""/>
          <p:cNvSpPr/>
          <p:nvPr/>
        </p:nvSpPr>
        <p:spPr>
          <a:xfrm>
            <a:off x="7756560" y="3152880"/>
            <a:ext cx="914400" cy="3045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1690560" y="3546360"/>
            <a:ext cx="914400" cy="3049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keywords into an NFA (if, the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NFA (too many sta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mbol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ome tri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666880" y="5029200"/>
          <a:ext cx="60246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029200"/>
                    <a:ext cx="60246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800600" y="6019920"/>
            <a:ext cx="990720" cy="3045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6019920"/>
            <a:ext cx="1066680" cy="3045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table contains both lexeme and token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symbol table with all keywords and corresponding token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eme: 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type: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eme: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type: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eme: 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type: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2971800"/>
            <a:ext cx="1447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2895480"/>
            <a:ext cx="121896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66680" y="3962520"/>
            <a:ext cx="3276360" cy="380880"/>
            <a:chOff x="1066680" y="3962520"/>
            <a:chExt cx="3276360" cy="380880"/>
          </a:xfrm>
        </p:grpSpPr>
        <p:sp>
          <p:nvSpPr>
            <p:cNvPr id="228" name=""/>
            <p:cNvSpPr/>
            <p:nvPr/>
          </p:nvSpPr>
          <p:spPr>
            <a:xfrm>
              <a:off x="1066680" y="3962520"/>
              <a:ext cx="10666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Lexem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360" y="39625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Token Typ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7240" y="3962520"/>
              <a:ext cx="6858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232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236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240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066680" y="5486400"/>
            <a:ext cx="3276360" cy="380880"/>
            <a:chOff x="1066680" y="5486400"/>
            <a:chExt cx="3276360" cy="380880"/>
          </a:xfrm>
        </p:grpSpPr>
        <p:sp>
          <p:nvSpPr>
            <p:cNvPr id="244" name=""/>
            <p:cNvSpPr/>
            <p:nvPr/>
          </p:nvSpPr>
          <p:spPr>
            <a:xfrm>
              <a:off x="1066680" y="5486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33360" y="5486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240" y="5486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66680" y="5867280"/>
            <a:ext cx="3276360" cy="380880"/>
            <a:chOff x="1066680" y="5867280"/>
            <a:chExt cx="3276360" cy="380880"/>
          </a:xfrm>
        </p:grpSpPr>
        <p:sp>
          <p:nvSpPr>
            <p:cNvPr id="248" name=""/>
            <p:cNvSpPr/>
            <p:nvPr/>
          </p:nvSpPr>
          <p:spPr>
            <a:xfrm>
              <a:off x="1066680" y="5867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360" y="5867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7240" y="5867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86920" y="26668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253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257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261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62120" y="4343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4724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10552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5486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867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d pattern is found, use “gettoken()” first to find out if it is already in the symbol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oke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d is not found in the table, return token type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return token type from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581280" y="28195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895480"/>
            <a:ext cx="121896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66680" y="3962520"/>
            <a:ext cx="3276360" cy="380880"/>
            <a:chOff x="1066680" y="3962520"/>
            <a:chExt cx="3276360" cy="380880"/>
          </a:xfrm>
        </p:grpSpPr>
        <p:sp>
          <p:nvSpPr>
            <p:cNvPr id="277" name=""/>
            <p:cNvSpPr/>
            <p:nvPr/>
          </p:nvSpPr>
          <p:spPr>
            <a:xfrm>
              <a:off x="1066680" y="3962520"/>
              <a:ext cx="10666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Lexem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360" y="39625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Token Typ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7240" y="3962520"/>
              <a:ext cx="6858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281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285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289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066680" y="5486400"/>
            <a:ext cx="3276360" cy="380880"/>
            <a:chOff x="1066680" y="5486400"/>
            <a:chExt cx="3276360" cy="380880"/>
          </a:xfrm>
        </p:grpSpPr>
        <p:sp>
          <p:nvSpPr>
            <p:cNvPr id="293" name=""/>
            <p:cNvSpPr/>
            <p:nvPr/>
          </p:nvSpPr>
          <p:spPr>
            <a:xfrm>
              <a:off x="1066680" y="5486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3360" y="5486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57240" y="5486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6680" y="5867280"/>
            <a:ext cx="3276360" cy="380880"/>
            <a:chOff x="1066680" y="5867280"/>
            <a:chExt cx="3276360" cy="380880"/>
          </a:xfrm>
        </p:grpSpPr>
        <p:sp>
          <p:nvSpPr>
            <p:cNvPr id="297" name=""/>
            <p:cNvSpPr/>
            <p:nvPr/>
          </p:nvSpPr>
          <p:spPr>
            <a:xfrm>
              <a:off x="1066680" y="5867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33360" y="5867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57240" y="5867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430440" y="26668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toke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302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306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310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28800" y="2286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2666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"/>
          <p:cNvSpPr/>
          <p:nvPr/>
        </p:nvSpPr>
        <p:spPr>
          <a:xfrm>
            <a:off x="28195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5627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457200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95280" y="3581280"/>
            <a:ext cx="609840" cy="304560"/>
            <a:chOff x="1295280" y="3581280"/>
            <a:chExt cx="609840" cy="304560"/>
          </a:xfrm>
        </p:grpSpPr>
        <p:sp>
          <p:nvSpPr>
            <p:cNvPr id="331" name=""/>
            <p:cNvSpPr/>
            <p:nvPr/>
          </p:nvSpPr>
          <p:spPr>
            <a:xfrm>
              <a:off x="12952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0020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3581280" y="30481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"/>
          <p:cNvSpPr/>
          <p:nvPr/>
        </p:nvSpPr>
        <p:spPr>
          <a:xfrm>
            <a:off x="4573440" y="312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4343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4724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510552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86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867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in the table, use “install_id()” to insert the lexeme into the table (with token type = i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_id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d is not found in the tabl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 new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SERT NEW ID INTO TABLE and return pointer to the new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d is found and its type is ID, return pointer to that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 key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Retur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2120" y="4343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81280" y="28195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2895480"/>
            <a:ext cx="121896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3962520"/>
            <a:ext cx="3276360" cy="380880"/>
            <a:chOff x="1066680" y="3962520"/>
            <a:chExt cx="3276360" cy="380880"/>
          </a:xfrm>
        </p:grpSpPr>
        <p:sp>
          <p:nvSpPr>
            <p:cNvPr id="349" name=""/>
            <p:cNvSpPr/>
            <p:nvPr/>
          </p:nvSpPr>
          <p:spPr>
            <a:xfrm>
              <a:off x="1066680" y="3962520"/>
              <a:ext cx="10666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Lexem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3360" y="39625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Token Typ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7240" y="3962520"/>
              <a:ext cx="6858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353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357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361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066680" y="5486400"/>
            <a:ext cx="3276360" cy="380880"/>
            <a:chOff x="1066680" y="5486400"/>
            <a:chExt cx="3276360" cy="380880"/>
          </a:xfrm>
        </p:grpSpPr>
        <p:sp>
          <p:nvSpPr>
            <p:cNvPr id="365" name=""/>
            <p:cNvSpPr/>
            <p:nvPr/>
          </p:nvSpPr>
          <p:spPr>
            <a:xfrm>
              <a:off x="1066680" y="5486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360" y="5486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240" y="5486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066680" y="5867280"/>
            <a:ext cx="3276360" cy="380880"/>
            <a:chOff x="1066680" y="5867280"/>
            <a:chExt cx="3276360" cy="380880"/>
          </a:xfrm>
        </p:grpSpPr>
        <p:sp>
          <p:nvSpPr>
            <p:cNvPr id="369" name=""/>
            <p:cNvSpPr/>
            <p:nvPr/>
          </p:nvSpPr>
          <p:spPr>
            <a:xfrm>
              <a:off x="1066680" y="5867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360" y="5867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240" y="5867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429720" y="25909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_id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374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378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382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828800" y="2286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2666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5627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3276720"/>
            <a:ext cx="6858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3" name=""/>
          <p:cNvSpPr/>
          <p:nvPr/>
        </p:nvSpPr>
        <p:spPr>
          <a:xfrm>
            <a:off x="6934320" y="3200400"/>
            <a:ext cx="3808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57200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95280" y="3581280"/>
            <a:ext cx="609840" cy="304560"/>
            <a:chOff x="1295280" y="3581280"/>
            <a:chExt cx="609840" cy="304560"/>
          </a:xfrm>
        </p:grpSpPr>
        <p:sp>
          <p:nvSpPr>
            <p:cNvPr id="406" name=""/>
            <p:cNvSpPr/>
            <p:nvPr/>
          </p:nvSpPr>
          <p:spPr>
            <a:xfrm>
              <a:off x="12952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0020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3581280" y="30481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"/>
          <p:cNvSpPr/>
          <p:nvPr/>
        </p:nvSpPr>
        <p:spPr>
          <a:xfrm>
            <a:off x="457380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4724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510552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2" name=""/>
          <p:cNvSpPr/>
          <p:nvPr/>
        </p:nvSpPr>
        <p:spPr>
          <a:xfrm>
            <a:off x="762120" y="5486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5867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581280" y="28195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2895480"/>
            <a:ext cx="121896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066680" y="3962520"/>
            <a:ext cx="3276360" cy="380880"/>
            <a:chOff x="1066680" y="3962520"/>
            <a:chExt cx="3276360" cy="380880"/>
          </a:xfrm>
        </p:grpSpPr>
        <p:sp>
          <p:nvSpPr>
            <p:cNvPr id="420" name=""/>
            <p:cNvSpPr/>
            <p:nvPr/>
          </p:nvSpPr>
          <p:spPr>
            <a:xfrm>
              <a:off x="1066680" y="3962520"/>
              <a:ext cx="10666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Lexem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360" y="39625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Token Typ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240" y="3962520"/>
              <a:ext cx="6858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424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428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432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066680" y="5486400"/>
            <a:ext cx="3276360" cy="380880"/>
            <a:chOff x="1066680" y="5486400"/>
            <a:chExt cx="3276360" cy="380880"/>
          </a:xfrm>
        </p:grpSpPr>
        <p:sp>
          <p:nvSpPr>
            <p:cNvPr id="436" name=""/>
            <p:cNvSpPr/>
            <p:nvPr/>
          </p:nvSpPr>
          <p:spPr>
            <a:xfrm>
              <a:off x="1066680" y="5486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33360" y="5486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57240" y="5486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066680" y="5867280"/>
            <a:ext cx="3276360" cy="380880"/>
            <a:chOff x="1066680" y="5867280"/>
            <a:chExt cx="3276360" cy="380880"/>
          </a:xfrm>
        </p:grpSpPr>
        <p:sp>
          <p:nvSpPr>
            <p:cNvPr id="440" name=""/>
            <p:cNvSpPr/>
            <p:nvPr/>
          </p:nvSpPr>
          <p:spPr>
            <a:xfrm>
              <a:off x="1066680" y="5867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3360" y="5867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57240" y="5867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30440" y="26668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toke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445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449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453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828800" y="2286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2666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9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1" name=""/>
          <p:cNvSpPr/>
          <p:nvPr/>
        </p:nvSpPr>
        <p:spPr>
          <a:xfrm>
            <a:off x="22096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5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5627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581280" y="30481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3" name=""/>
          <p:cNvSpPr/>
          <p:nvPr/>
        </p:nvSpPr>
        <p:spPr>
          <a:xfrm>
            <a:off x="4573080" y="31240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343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4724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510552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5486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5867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1905120"/>
            <a:ext cx="30456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0" name=""/>
          <p:cNvSpPr/>
          <p:nvPr/>
        </p:nvSpPr>
        <p:spPr>
          <a:xfrm>
            <a:off x="22096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1" name=""/>
          <p:cNvSpPr/>
          <p:nvPr/>
        </p:nvSpPr>
        <p:spPr>
          <a:xfrm>
            <a:off x="25146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2" name=""/>
          <p:cNvSpPr/>
          <p:nvPr/>
        </p:nvSpPr>
        <p:spPr>
          <a:xfrm>
            <a:off x="2819520" y="1905120"/>
            <a:ext cx="30456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14400" y="3581280"/>
            <a:ext cx="1523880" cy="304560"/>
            <a:chOff x="914400" y="3581280"/>
            <a:chExt cx="1523880" cy="304560"/>
          </a:xfrm>
        </p:grpSpPr>
        <p:sp>
          <p:nvSpPr>
            <p:cNvPr id="486" name=""/>
            <p:cNvSpPr/>
            <p:nvPr/>
          </p:nvSpPr>
          <p:spPr>
            <a:xfrm>
              <a:off x="91440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1932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238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2880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372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1440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32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38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2880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3372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62480" y="62485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 found!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514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5410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file or in memory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00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54100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anti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724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911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791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05320" y="1828800"/>
            <a:ext cx="1809000" cy="4495680"/>
            <a:chOff x="3505320" y="1828800"/>
            <a:chExt cx="1809000" cy="4495680"/>
          </a:xfrm>
        </p:grpSpPr>
        <p:sp>
          <p:nvSpPr>
            <p:cNvPr id="122" name=""/>
            <p:cNvSpPr/>
            <p:nvPr/>
          </p:nvSpPr>
          <p:spPr>
            <a:xfrm>
              <a:off x="3505320" y="2133720"/>
              <a:ext cx="17524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9200" y="182880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nt-End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638680" y="35812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75" y="370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 parse tree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2096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5" y="287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p token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76720"/>
            <a:ext cx="6858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30481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7432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14240" y="4572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886200"/>
            <a:ext cx="121932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5105520"/>
            <a:ext cx="2895840" cy="3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61" y="26500"/>
                </a:moveTo>
                <a:lnTo>
                  <a:pt x="-568" y="72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semantic/contextual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895480"/>
            <a:ext cx="1143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95480"/>
            <a:ext cx="9907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4876920"/>
            <a:ext cx="10782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se-tree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62120" y="4343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0" name=""/>
          <p:cNvSpPr/>
          <p:nvPr/>
        </p:nvSpPr>
        <p:spPr>
          <a:xfrm>
            <a:off x="50292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581280" y="28195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2" name=""/>
          <p:cNvSpPr/>
          <p:nvPr/>
        </p:nvSpPr>
        <p:spPr>
          <a:xfrm>
            <a:off x="2362320" y="2895480"/>
            <a:ext cx="121896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066680" y="3962520"/>
            <a:ext cx="3276360" cy="380880"/>
            <a:chOff x="1066680" y="3962520"/>
            <a:chExt cx="3276360" cy="380880"/>
          </a:xfrm>
        </p:grpSpPr>
        <p:sp>
          <p:nvSpPr>
            <p:cNvPr id="504" name=""/>
            <p:cNvSpPr/>
            <p:nvPr/>
          </p:nvSpPr>
          <p:spPr>
            <a:xfrm>
              <a:off x="1066680" y="3962520"/>
              <a:ext cx="10666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Lexem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3360" y="3962520"/>
              <a:ext cx="15238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Token Typ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7240" y="3962520"/>
              <a:ext cx="6858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508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512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516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066680" y="5486400"/>
            <a:ext cx="3276360" cy="380880"/>
            <a:chOff x="1066680" y="5486400"/>
            <a:chExt cx="3276360" cy="380880"/>
          </a:xfrm>
        </p:grpSpPr>
        <p:sp>
          <p:nvSpPr>
            <p:cNvPr id="520" name=""/>
            <p:cNvSpPr/>
            <p:nvPr/>
          </p:nvSpPr>
          <p:spPr>
            <a:xfrm>
              <a:off x="1066680" y="5486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33360" y="5486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7240" y="5486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066680" y="5867280"/>
            <a:ext cx="3276360" cy="380880"/>
            <a:chOff x="1066680" y="5867280"/>
            <a:chExt cx="3276360" cy="380880"/>
          </a:xfrm>
        </p:grpSpPr>
        <p:sp>
          <p:nvSpPr>
            <p:cNvPr id="524" name=""/>
            <p:cNvSpPr/>
            <p:nvPr/>
          </p:nvSpPr>
          <p:spPr>
            <a:xfrm>
              <a:off x="1066680" y="5867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33360" y="5867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57240" y="5867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353760" y="2666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_id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066680" y="4343400"/>
            <a:ext cx="3276360" cy="380880"/>
            <a:chOff x="1066680" y="4343400"/>
            <a:chExt cx="3276360" cy="380880"/>
          </a:xfrm>
        </p:grpSpPr>
        <p:sp>
          <p:nvSpPr>
            <p:cNvPr id="529" name=""/>
            <p:cNvSpPr/>
            <p:nvPr/>
          </p:nvSpPr>
          <p:spPr>
            <a:xfrm>
              <a:off x="1066680" y="4343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3360" y="4343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7240" y="4343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066680" y="4724280"/>
            <a:ext cx="3276360" cy="380880"/>
            <a:chOff x="1066680" y="4724280"/>
            <a:chExt cx="3276360" cy="380880"/>
          </a:xfrm>
        </p:grpSpPr>
        <p:sp>
          <p:nvSpPr>
            <p:cNvPr id="533" name=""/>
            <p:cNvSpPr/>
            <p:nvPr/>
          </p:nvSpPr>
          <p:spPr>
            <a:xfrm>
              <a:off x="1066680" y="47242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33360" y="472428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240" y="472428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066680" y="5105520"/>
            <a:ext cx="3276360" cy="380880"/>
            <a:chOff x="1066680" y="5105520"/>
            <a:chExt cx="3276360" cy="380880"/>
          </a:xfrm>
        </p:grpSpPr>
        <p:sp>
          <p:nvSpPr>
            <p:cNvPr id="537" name=""/>
            <p:cNvSpPr/>
            <p:nvPr/>
          </p:nvSpPr>
          <p:spPr>
            <a:xfrm>
              <a:off x="1066680" y="510552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33360" y="5105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7240" y="510552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828800" y="2286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2666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"/>
          <p:cNvSpPr/>
          <p:nvPr/>
        </p:nvSpPr>
        <p:spPr>
          <a:xfrm>
            <a:off x="12952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1905120"/>
            <a:ext cx="30456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5" name=""/>
          <p:cNvSpPr/>
          <p:nvPr/>
        </p:nvSpPr>
        <p:spPr>
          <a:xfrm>
            <a:off x="22096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1905120"/>
            <a:ext cx="30456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9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19051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5627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5" name=""/>
          <p:cNvSpPr/>
          <p:nvPr/>
        </p:nvSpPr>
        <p:spPr>
          <a:xfrm>
            <a:off x="6019920" y="3276720"/>
            <a:ext cx="6858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3200400"/>
            <a:ext cx="3808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5638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581280" y="3048120"/>
            <a:ext cx="1447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9" name=""/>
          <p:cNvSpPr/>
          <p:nvPr/>
        </p:nvSpPr>
        <p:spPr>
          <a:xfrm>
            <a:off x="457380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0" name=""/>
          <p:cNvSpPr/>
          <p:nvPr/>
        </p:nvSpPr>
        <p:spPr>
          <a:xfrm>
            <a:off x="762120" y="4724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510552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5486400"/>
            <a:ext cx="304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5867280"/>
            <a:ext cx="304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38080" y="3581280"/>
            <a:ext cx="1523880" cy="304560"/>
            <a:chOff x="838080" y="3581280"/>
            <a:chExt cx="1523880" cy="304560"/>
          </a:xfrm>
        </p:grpSpPr>
        <p:sp>
          <p:nvSpPr>
            <p:cNvPr id="565" name=""/>
            <p:cNvSpPr/>
            <p:nvPr/>
          </p:nvSpPr>
          <p:spPr>
            <a:xfrm>
              <a:off x="8380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300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756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524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5740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4300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4756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2480" y="3581280"/>
              <a:ext cx="30492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57400" y="3581280"/>
              <a:ext cx="304560" cy="3045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066680" y="5486400"/>
            <a:ext cx="3276360" cy="380880"/>
            <a:chOff x="1066680" y="5486400"/>
            <a:chExt cx="3276360" cy="380880"/>
          </a:xfrm>
        </p:grpSpPr>
        <p:sp>
          <p:nvSpPr>
            <p:cNvPr id="576" name=""/>
            <p:cNvSpPr/>
            <p:nvPr/>
          </p:nvSpPr>
          <p:spPr>
            <a:xfrm>
              <a:off x="1066680" y="548640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3360" y="548640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7240" y="5486400"/>
              <a:ext cx="685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Tasks for Sca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input and group tokens for Par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 comments and white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line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entry in the symbol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ngsana New"/>
              </a:rPr>
              <a:t>Preprocessing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doesn’t worry about comments and white 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the scanning proces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pecialize buffer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standard symbols on different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token =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of characters in the source program matched by the pattern for a t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lexeme =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strings that can belong to a particular token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pattern = letter followed by letters or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A,…,Z,a,…,z}{A,…,Z,a,…,z,0,…,9}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137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0" y="1142640"/>
            <a:ext cx="23623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Lex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, &lt;=, …,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,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53, 1.42E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143000"/>
            <a:ext cx="39625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  <a:ea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ison symbol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ter (letter | digit)*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numeric constan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racters between “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905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143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51460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97180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42900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80988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267080"/>
            <a:ext cx="8001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and  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-format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sider the alignment of a lex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s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served words (or key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PL/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vs. id ? -- complex r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= 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:= else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se := th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2:41:35Z</dcterms:created>
  <dc:creator>Chulalongkorn University</dc:creator>
  <dc:description/>
  <dc:language>en-US</dc:language>
  <cp:lastModifiedBy>Natawut Nupairoj</cp:lastModifiedBy>
  <cp:lastPrinted>1999-11-09T13:31:27Z</cp:lastPrinted>
  <dcterms:modified xsi:type="dcterms:W3CDTF">2003-11-19T16:36:20Z</dcterms:modified>
  <cp:revision>37</cp:revision>
  <dc:subject/>
  <dc:title>No Slide Title</dc:title>
</cp:coreProperties>
</file>