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8C69-62E0-4332-B817-A4DEBB0E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4282-4A68-424F-B9CA-31DA451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EB54-4AB2-487F-8E99-E3C817A0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C06-7BB0-44E7-BFC7-229F38A4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CE82-68FD-4FA0-AFE5-D586F64B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7740-D4FC-4425-A1A5-64C481D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1CF3-76F4-415B-B3D6-835EEF7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A335-C0C1-4390-A237-D3B68FBD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420D-7F10-4D68-8D52-EE68FCC6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8506-552D-422B-A4DB-A5B0A530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F728-7E09-4E0B-8203-E304D82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ED4C-764B-4F08-9CA6-D07C376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0B9-6F63-4775-8B31-997E694C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7FB-9F0E-4CA9-BA0D-42E1F4B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A64B-3921-4BA5-A939-838968B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4803-7C64-42B7-9567-729BCBF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B04-96DC-46CE-A8E6-651B0EB7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44A4-F3FC-4CEC-AEEC-E8B3D64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2502-8BE5-4F39-A56F-37C48DB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ED33-8188-4146-8266-ADC4617C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F7FB-4D88-4862-9F7D-68A96493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1428-4B3B-49F9-B3D5-E1D1B82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F0D6-049E-4455-B1D7-D0A0335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1AA8-B4CD-4527-AFC7-9A06FA4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0E7-84F6-423E-AE83-F56474FA2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9DA-BC96-402F-AA76-03ED2B34A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mple One-P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d_lis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:=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d_list_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d_list_tai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:=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, 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d_list_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d_list_tail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:= </a:t>
            </a:r>
            <a:r>
              <a:rPr b="0" lang="en-US" sz="2800" spc="-1" strike="noStrike">
                <a:solidFill>
                  <a:srgbClr val="ff33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500868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arse tree from star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result terminal string with input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but limit in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rom input token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arse tree from terminal until get star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bu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Down vs.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73160" y="5029200"/>
            <a:ext cx="288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410080"/>
            <a:ext cx="27687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73160" y="2660400"/>
            <a:ext cx="1587600" cy="23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73360" y="2673360"/>
            <a:ext cx="128268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64480" y="2673360"/>
            <a:ext cx="128268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64280" y="2660400"/>
            <a:ext cx="1587240" cy="23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30400" y="5410080"/>
            <a:ext cx="27684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640" y="2112840"/>
            <a:ext cx="147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7040" y="2370240"/>
            <a:ext cx="105336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840" y="455148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16160" y="4808520"/>
            <a:ext cx="4442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160" y="439884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0040" y="4578480"/>
            <a:ext cx="443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400" y="4197240"/>
            <a:ext cx="74916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3280" y="5403960"/>
            <a:ext cx="199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 token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95400" y="5410080"/>
            <a:ext cx="199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 token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61640" y="4398840"/>
            <a:ext cx="147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3800" y="4656240"/>
            <a:ext cx="74916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543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543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19720" y="211284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45880" y="2370240"/>
            <a:ext cx="12052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6200000">
            <a:off x="1948320" y="3625920"/>
            <a:ext cx="1359000" cy="368280"/>
          </a:xfrm>
          <a:prstGeom prst="rightArrow">
            <a:avLst>
              <a:gd name="adj1" fmla="val 50000"/>
              <a:gd name="adj2" fmla="val 184523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6140520" y="3549240"/>
            <a:ext cx="1359000" cy="368280"/>
          </a:xfrm>
          <a:prstGeom prst="rightArrow">
            <a:avLst>
              <a:gd name="adj1" fmla="val 50000"/>
              <a:gd name="adj2" fmla="val 184523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18800" y="5923080"/>
            <a:ext cx="283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45560" y="5923080"/>
            <a:ext cx="292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5029200"/>
            <a:ext cx="288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^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rray 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 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::=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num dotdot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put Toke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[ num dotdot num ] of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-Down Parsing with Left-to-right Scanning of Input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rray [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] o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[ num dotdot num ] of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2880" y="3962520"/>
            <a:ext cx="7137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14600" y="2437920"/>
            <a:ext cx="1593720" cy="762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29000" y="2514240"/>
            <a:ext cx="838080" cy="6858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72000" y="2514240"/>
            <a:ext cx="0" cy="6858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876920" y="2514240"/>
            <a:ext cx="380880" cy="6858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514600"/>
            <a:ext cx="761760" cy="6858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2438280"/>
            <a:ext cx="1523880" cy="762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915080"/>
            <a:ext cx="0" cy="457200"/>
          </a:xfrm>
          <a:prstGeom prst="line">
            <a:avLst/>
          </a:prstGeom>
          <a:ln w="76320">
            <a:solidFill>
              <a:srgbClr val="0000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96600" y="5084640"/>
            <a:ext cx="241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lookahead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track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cursive-Descent Pars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ge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rr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[ num dotdot num ] of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648320"/>
            <a:ext cx="7137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410080"/>
            <a:ext cx="0" cy="45720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96600" y="5694480"/>
            <a:ext cx="241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lookahead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00600" y="1904760"/>
            <a:ext cx="0" cy="68580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124080"/>
            <a:ext cx="1371600" cy="76212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029200" y="3123720"/>
            <a:ext cx="1295280" cy="76212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24280" y="3123720"/>
            <a:ext cx="0" cy="68580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1981080"/>
            <a:ext cx="0" cy="68580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95480" y="3124080"/>
            <a:ext cx="1371600" cy="76212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00400" y="3123720"/>
            <a:ext cx="1295280" cy="762120"/>
          </a:xfrm>
          <a:prstGeom prst="line">
            <a:avLst/>
          </a:prstGeom>
          <a:ln w="38160">
            <a:solidFill>
              <a:srgbClr val="3333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57909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^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rray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impl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]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mple ::=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num dotdot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42900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 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mpl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] 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 num dotdot num ] of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17640" y="4952880"/>
            <a:ext cx="6070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83040" y="5621400"/>
            <a:ext cx="0" cy="45720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7320" y="5791320"/>
            <a:ext cx="241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lookahead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2880" y="3816360"/>
            <a:ext cx="1003320" cy="5968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46400" y="3892680"/>
            <a:ext cx="546120" cy="44424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3892680"/>
            <a:ext cx="0" cy="5205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7440" y="3892680"/>
            <a:ext cx="292320" cy="44424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50080" y="3816360"/>
            <a:ext cx="444240" cy="5205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26040" y="3740040"/>
            <a:ext cx="1054080" cy="67320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429000"/>
            <a:ext cx="7617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981080"/>
            <a:ext cx="7617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2743200"/>
            <a:ext cx="3886200" cy="30492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gram for Predictive Par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2998800"/>
            <a:ext cx="144756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075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456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4522680"/>
            <a:ext cx="144756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76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495680" y="376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903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743200"/>
            <a:ext cx="1752840" cy="27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4141800"/>
            <a:ext cx="145908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ch(‘array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836880"/>
            <a:ext cx="4572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7609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7609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7609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7609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37609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760920"/>
            <a:ext cx="30456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760920"/>
            <a:ext cx="304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gram for Predictiv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token 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er 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:=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xttok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  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 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  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  then 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tdo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in  {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}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  if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‘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^ ‘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‘ ^ ’ )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  if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ahe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ay then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‘ [ ‘ )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‘ ] ‘ )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;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Languages Synt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ng Approa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Stack Mac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de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 Between Production and Parser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ry [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)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7760" y="3587760"/>
            <a:ext cx="1816200" cy="15876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657600"/>
            <a:ext cx="1816200" cy="15876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0520" y="5153040"/>
            <a:ext cx="247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sing (recog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971800"/>
            <a:ext cx="28828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0040" y="263844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2280" y="3581280"/>
            <a:ext cx="36446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498840" y="3587760"/>
            <a:ext cx="851040" cy="1434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54720" y="3552840"/>
            <a:ext cx="9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-Ahead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(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fist token in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from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=  {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(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^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    =  {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 [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=  {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-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-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m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&gt;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_stm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_stmt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mt_list  opt_stmt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Recursion =&gt; Parser loops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-&gt; 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-&gt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 -&gt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 |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expr +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expr -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 | 1 | 2 | ... |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981080"/>
            <a:ext cx="403848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erm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term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 term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 | 1 | 2 | ... |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free Gramma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Semantic A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+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–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84040" y="5943600"/>
            <a:ext cx="30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ting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พ่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3400" y="2743200"/>
            <a:ext cx="29239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 print(‘+’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 print(‘-’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 print(‘0’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 print(‘1’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 print(‘9’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724280" y="358128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029200" y="4876560"/>
            <a:ext cx="9907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34120" y="5714640"/>
            <a:ext cx="4572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1160" y="1579680"/>
            <a:ext cx="848412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+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-’)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2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5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9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02360" y="1987560"/>
            <a:ext cx="74916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03600" y="1987560"/>
            <a:ext cx="5461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73360" y="1898640"/>
            <a:ext cx="303516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0960" y="1911240"/>
            <a:ext cx="82548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318000" y="3435480"/>
            <a:ext cx="54612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69040" y="3435480"/>
            <a:ext cx="520920" cy="368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73360" y="3435480"/>
            <a:ext cx="1511280" cy="44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21080" y="3511440"/>
            <a:ext cx="74916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36360" y="4883040"/>
            <a:ext cx="54612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11440" y="4883040"/>
            <a:ext cx="90180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11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517760" y="3511440"/>
            <a:ext cx="69840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8830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55640" y="5645160"/>
            <a:ext cx="6984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56451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720" y="23623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epth-first tra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514600" y="1828800"/>
            <a:ext cx="312408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447560" y="3505320"/>
            <a:ext cx="60948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85440" y="5638680"/>
            <a:ext cx="60948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57150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914400" y="5791320"/>
            <a:ext cx="53352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52120" y="5638320"/>
            <a:ext cx="38124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8769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76520" y="3581280"/>
            <a:ext cx="6094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6019920"/>
            <a:ext cx="167652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5257800"/>
            <a:ext cx="167652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3886200"/>
            <a:ext cx="167652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3809880"/>
            <a:ext cx="1676520" cy="38124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2362320"/>
            <a:ext cx="167652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6200" y="4952880"/>
            <a:ext cx="26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– 5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504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224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8312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436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4524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of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Actions can be placed anywhere on the R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+’);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 +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-’);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r –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0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0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1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1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9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9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Putting Them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22096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::=  term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  ::=  + term {print(‘+’);}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- term {print(‘-’);}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 ::=  0 {print(‘0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1 {print(‘1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762120"/>
            <a:ext cx="8229600" cy="1904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::=  term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  ::=  + term {print(‘+’);}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- term {print(‘-’);}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 ::=  0 {print(‘0’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191120" y="3048120"/>
            <a:ext cx="44956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ahead = ‘+’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(‘+’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+’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ookahead  =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-’ then 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(‘-’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-’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3048120"/>
            <a:ext cx="4267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ation of Programming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ymbol and structure of th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beyond gram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of the language: scope rules, type ru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of program: its behaviors when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ranslate a sentence S of the language L to a machine code o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Stack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achine with stack only for compu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push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3048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34290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48006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04812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Stack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value from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value to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-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: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+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lvalu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push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urier New"/>
                <a:ea typeface="Courier New"/>
              </a:rPr>
              <a:t>pus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rvalu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addr)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3048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5257800"/>
            <a:ext cx="12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50292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4876920"/>
            <a:ext cx="12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257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6800" y="32004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 :=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k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op of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from top of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al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content of dat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val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address of dat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r-value on top to l-value be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op both from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copy of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of 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 :=  (1461 * y) div 4 + (153 * m + 2) div 5 +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value 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1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14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alue 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alue 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alue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ation Scheme for Simple Ex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add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sub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push 0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push 1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push 9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8080" y="1579680"/>
            <a:ext cx="8803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add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sub’)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push 2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push 5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‘push 9’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1987560"/>
            <a:ext cx="74916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03600" y="1987560"/>
            <a:ext cx="5461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673360" y="1898640"/>
            <a:ext cx="303516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30960" y="1911240"/>
            <a:ext cx="82548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318000" y="3435480"/>
            <a:ext cx="54612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9040" y="3435480"/>
            <a:ext cx="520920" cy="368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73360" y="3435480"/>
            <a:ext cx="1511280" cy="44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21080" y="3511440"/>
            <a:ext cx="74916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736360" y="4883040"/>
            <a:ext cx="54612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11440" y="4883040"/>
            <a:ext cx="901800" cy="444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351144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7760" y="3511440"/>
            <a:ext cx="69840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48830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55640" y="5645160"/>
            <a:ext cx="6984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6680" y="56451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6019920"/>
            <a:ext cx="236196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5257800"/>
            <a:ext cx="228600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2210040" cy="38124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3809880"/>
            <a:ext cx="2362320" cy="38124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2362320"/>
            <a:ext cx="1981080" cy="38088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1120" y="4495680"/>
            <a:ext cx="2675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– 5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ation Scheme for Simple Expression with To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add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sub’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push 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print(number.lexeme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rvalue 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print(id.lexeme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add’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expr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r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sub’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::=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push ’);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rint(number.lexeme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::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rvalue ’); 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print(id.lexeme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+ k –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alu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alu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ation Scheme for Assignment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4130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m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lvalue’); print(id.lexeme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ourier New"/>
                <a:ea typeface="Courier New"/>
              </a:rPr>
              <a:t>{print(‘:=‘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36576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:= k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4114800"/>
            <a:ext cx="306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valu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alu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8769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83800" y="51814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45720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30640" y="5181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457200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487692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601992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632448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op two values and compar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qual push 1 on top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, otherwise push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op two values and compar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tom less than first push 1 on 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, otherwise push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“l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 to l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fa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op; jump if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r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 top; jump if non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-fre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rminals /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being expressed with BNF n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 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mt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{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=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ab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gofalse’); print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m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{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‘label 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3886200"/>
            <a:ext cx="27432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or ex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95680"/>
            <a:ext cx="27432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ofalse lb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800600"/>
            <a:ext cx="2743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or stm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715000"/>
            <a:ext cx="27432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lb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62360" y="3429000"/>
            <a:ext cx="2401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f k+1 &lt; 0 then m :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valu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false lb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valu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 lb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73392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510552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541008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624852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6553080"/>
            <a:ext cx="4114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4191120"/>
            <a:ext cx="2438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4648320"/>
            <a:ext cx="24386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5257800"/>
            <a:ext cx="24386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5867280"/>
            <a:ext cx="2362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9360" y="358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t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NF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s-Naur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production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writte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::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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::=  expr +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::=  expr -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  ::= 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  ::=  0 | 1 | 2 | ... |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9 – 5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Courier New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Courier New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term +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Courier New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term +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 – 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Courier New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 – 5 + 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Courier New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 – 5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most/rightmost de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59840" y="2036880"/>
            <a:ext cx="548496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29200" y="2431800"/>
            <a:ext cx="0" cy="328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34320" y="3498840"/>
            <a:ext cx="0" cy="222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114800" y="464832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00400" y="3498480"/>
            <a:ext cx="0" cy="22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62320" y="525744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45720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68440" y="3498840"/>
            <a:ext cx="82548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6880" y="3511440"/>
            <a:ext cx="9777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82840" y="2432160"/>
            <a:ext cx="173988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5680" y="2444760"/>
            <a:ext cx="189216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t-to-right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t-most derivation with k look-ahead tok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easy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down par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t-to-right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-most derivation with k look-ahead tok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, but more powerful and more comm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par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13:06Z</dcterms:created>
  <dc:creator>NNP</dc:creator>
  <dc:description/>
  <dc:language>en-US</dc:language>
  <cp:lastModifiedBy>Natawut Nupairoj</cp:lastModifiedBy>
  <dcterms:modified xsi:type="dcterms:W3CDTF">2003-11-26T16:33:43Z</dcterms:modified>
  <cp:revision>14</cp:revision>
  <dc:subject/>
  <dc:title>Introduction to Compilation Technology</dc:title>
</cp:coreProperties>
</file>