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C933E-1AA4-46C9-9AC4-715D59B25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2D842-DF5C-4166-B5C2-F0A25210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6B170-29D4-4998-AB58-8A451F55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F1CB6-B543-460F-B6A2-592C4999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293F-98A8-481F-9969-A27CD348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BECE-D4D0-416E-BE6A-063C17DC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B857-0BBB-46CF-8E28-FB4A4040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922A-C416-43BB-AAFF-26E75E23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BC92-9E26-4793-A60F-B8AC9BF8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0B55-27D7-4713-8A9B-4646CA11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6A69-3521-493B-A5BB-567D66BC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E8388-43B1-44AF-BE68-B713F999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7DDB-B60A-484F-BBC8-D5806694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1C86-8A87-44F8-9847-C1D8B8DE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8AB0-33B9-406F-8F4D-B9B12AB5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7600-E297-43C0-B94B-CA782713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B492-B894-4790-A76E-CBB9F1E3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C2BB7-D6E5-43E5-905C-2BC7ECD8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8E80B-233A-4F5D-8B2E-04CEF9C4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C40D2-7AC5-4DFC-96F1-139C30C9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32C3E-B2A5-4B31-9F22-79CF9CD3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476CD-7F5A-44AE-8170-D998132A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F0165-7B1F-4F86-A4EF-9EB034C8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0E824-4ACF-4F13-8946-FDF1D8EE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9C7D-1BB3-490F-A865-7CFE5DC87F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D700-FD7B-4966-A115-ED00B8BE16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Bottom-Up Parsing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atawut Nupairoj, Ph.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partment of Computer Engineer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ulalongkorn Univers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Termin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bstring that matches the right side of a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se reduction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with that production) will eventually lead to the starting symbol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Hand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27672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cs typeface="Symbol"/>
              </a:rPr>
              <a:t>ฎ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 +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cs typeface="Symbol"/>
              </a:rPr>
              <a:t>ฎ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cs typeface="Symbol"/>
              </a:rPr>
              <a:t>ฎ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 *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cs typeface="Symbol"/>
              </a:rPr>
              <a:t>ฎ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cs typeface="Symbol"/>
              </a:rPr>
              <a:t>ฎ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cs typeface="Symbol"/>
              </a:rPr>
              <a:t>ฎ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91120" y="1905120"/>
            <a:ext cx="4495680" cy="41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  <a:ea typeface="Arial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Arial"/>
              </a:rPr>
              <a:t>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urier New"/>
                <a:ea typeface="Arial"/>
              </a:rPr>
              <a:t>+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Arial"/>
              </a:rPr>
              <a:t>  T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  <a:ea typeface="Arial"/>
              </a:rPr>
              <a:t>=&gt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E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Arial"/>
              </a:rPr>
              <a:t>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urier New"/>
                <a:ea typeface="Arial"/>
              </a:rPr>
              <a:t>*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Arial"/>
              </a:rPr>
              <a:t> F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=&gt;  E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*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urier New"/>
                <a:ea typeface="Arial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=&gt;  E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urier New"/>
                <a:ea typeface="Arial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* id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=&gt;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* id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=&gt;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* id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  <a:ea typeface="Arial"/>
              </a:rPr>
              <a:t>=&gt;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urier New"/>
                <a:ea typeface="Arial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id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5410080"/>
            <a:ext cx="7696080" cy="9471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Note: for right-sentential form, the string on the right of a handle contains only terminals.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2819520"/>
            <a:ext cx="533520" cy="380880"/>
          </a:xfrm>
          <a:prstGeom prst="rect">
            <a:avLst/>
          </a:prstGeom>
          <a:noFill/>
          <a:ln cap="rnd" w="381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6629400" y="3200400"/>
            <a:ext cx="99072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7" name=""/>
          <p:cNvSpPr/>
          <p:nvPr/>
        </p:nvSpPr>
        <p:spPr>
          <a:xfrm>
            <a:off x="6555600" y="4038480"/>
            <a:ext cx="219996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Not a handle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3733920"/>
            <a:ext cx="533520" cy="380880"/>
          </a:xfrm>
          <a:prstGeom prst="rect">
            <a:avLst/>
          </a:prstGeom>
          <a:noFill/>
          <a:ln cap="rnd" w="381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9" name=""/>
          <p:cNvSpPr/>
          <p:nvPr/>
        </p:nvSpPr>
        <p:spPr>
          <a:xfrm>
            <a:off x="3127320" y="2438280"/>
            <a:ext cx="130824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andle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0" name=""/>
          <p:cNvSpPr/>
          <p:nvPr/>
        </p:nvSpPr>
        <p:spPr>
          <a:xfrm>
            <a:off x="3886200" y="2895480"/>
            <a:ext cx="1295280" cy="838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hift</a:t>
            </a:r>
            <a:r>
              <a:rPr b="1" i="1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input string on to the st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0000"/>
                </a:solidFill>
                <a:latin typeface="Arial"/>
              </a:rPr>
              <a:t>reduce</a:t>
            </a:r>
            <a:r>
              <a:rPr b="0" lang="th-TH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th-TH" sz="3200" spc="-1" strike="noStrike">
                <a:solidFill>
                  <a:srgbClr val="0000ff"/>
                </a:solidFill>
                <a:latin typeface="Arial"/>
              </a:rPr>
              <a:t>handle</a:t>
            </a:r>
            <a:r>
              <a:rPr b="0" lang="th-TH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on the stack to a non-term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try to reduce input to the starting vari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of </a:t>
            </a: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Shift-Reduce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Stack + input = current right-sentential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Locate the handle during the par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 u="sng">
                <a:solidFill>
                  <a:srgbClr val="000000"/>
                </a:solidFill>
                <a:uFillTx/>
                <a:latin typeface="Arial"/>
              </a:rPr>
              <a:t>shift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zero or more input onto the stack until a handle is 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on top of the st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Replace the handle with a proper non-terminal (Handle Pruning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 u="sng">
                <a:solidFill>
                  <a:srgbClr val="000000"/>
                </a:solidFill>
                <a:uFillTx/>
                <a:latin typeface="Arial"/>
              </a:rPr>
              <a:t>reduce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th-TH" sz="2800" spc="-1" strike="noStrike">
                <a:solidFill>
                  <a:srgbClr val="000000"/>
                </a:solidFill>
                <a:latin typeface="Symbol"/>
                <a:cs typeface="Symbol"/>
              </a:rPr>
              <a:t>ฎ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76720" y="1981080"/>
            <a:ext cx="5029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+ </a:t>
            </a:r>
            <a:r>
              <a:rPr b="1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* </a:t>
            </a:r>
            <a:r>
              <a:rPr b="1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  </a:t>
            </a:r>
            <a:r>
              <a:rPr b="0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+ </a:t>
            </a:r>
            <a:r>
              <a:rPr b="1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* </a:t>
            </a:r>
            <a:r>
              <a:rPr b="1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+ </a:t>
            </a:r>
            <a:r>
              <a:rPr b="1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0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* </a:t>
            </a:r>
            <a:r>
              <a:rPr b="1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+ </a:t>
            </a:r>
            <a:r>
              <a:rPr b="1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0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* </a:t>
            </a:r>
            <a:r>
              <a:rPr b="1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+ </a:t>
            </a:r>
            <a:r>
              <a:rPr b="1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0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* </a:t>
            </a:r>
            <a:r>
              <a:rPr b="1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0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0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* </a:t>
            </a:r>
            <a:r>
              <a:rPr b="1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+ </a:t>
            </a:r>
            <a:r>
              <a:rPr b="1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* </a:t>
            </a:r>
            <a:r>
              <a:rPr b="1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* </a:t>
            </a:r>
            <a:r>
              <a:rPr b="1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* </a:t>
            </a:r>
            <a:r>
              <a:rPr b="1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*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* </a:t>
            </a:r>
            <a:r>
              <a:rPr b="1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*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E </a:t>
            </a:r>
            <a:r>
              <a:rPr b="0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+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E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6840" y="1981080"/>
            <a:ext cx="2590920" cy="4648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h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duce (F-&gt;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duce (T-&gt;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duce (E-&gt;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h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h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duce (F-&gt;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duce (T-&gt;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h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h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duce (F-&gt;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duce (T-&gt;T*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duce (E-&gt;E+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Ac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LR Parsing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Use grammar to construct a parsing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Three techniq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Simple LR (SL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Canonical LR (L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Look Ahead LR (LAL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Same algorithm but different ways to construct a parsing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Model of an LR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143000" y="2133720"/>
          <a:ext cx="6800760" cy="34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6800760" cy="34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LR Parsing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Two tables: action and go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action[s</a:t>
            </a:r>
            <a:r>
              <a:rPr b="0" lang="th-TH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th-TH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shift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reduce A 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cs typeface="Symbol"/>
              </a:rPr>
              <a:t>ฎ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goto[s</a:t>
            </a:r>
            <a:r>
              <a:rPr b="0" lang="th-TH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th-TH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] = target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(If action[s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] = shift s, goto[s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] = 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Action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=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tate =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action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h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=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tate =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action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=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tate =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action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=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tate =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action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57200" y="1981080"/>
          <a:ext cx="3543480" cy="3886200"/>
        </p:xfrm>
        <a:graphic>
          <a:graphicData uri="http://schemas.openxmlformats.org/drawingml/2006/table">
            <a:tbl>
              <a:tblPr/>
              <a:tblGrid>
                <a:gridCol w="1295280"/>
                <a:gridCol w="609840"/>
                <a:gridCol w="533160"/>
                <a:gridCol w="533520"/>
                <a:gridCol w="571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S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$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Stack contents and unread inp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(s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X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s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X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s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… X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m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s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m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, a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a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i+1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… a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$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This represents right-sentential 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X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… X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m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a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a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i+1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… a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Termin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R Par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LR Parser Mo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If action[s</a:t>
            </a:r>
            <a:r>
              <a:rPr b="0" lang="th-TH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th-TH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] = shift s,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m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(s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X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s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X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s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… X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m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s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m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, a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a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i+1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… a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$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(s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X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s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X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s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… X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m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s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m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th-TH" sz="2800" spc="-1" strike="noStrike" baseline="-25000">
                <a:solidFill>
                  <a:srgbClr val="000000"/>
                </a:solidFill>
                <a:latin typeface="Courier New"/>
              </a:rPr>
              <a:t>i </a:t>
            </a:r>
            <a:r>
              <a:rPr b="1" lang="th-TH" sz="2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, a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i+1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… a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$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3733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LR Parser Mo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If action[s</a:t>
            </a:r>
            <a:r>
              <a:rPr b="0" lang="th-TH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th-TH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] = reduce A </a:t>
            </a:r>
            <a:r>
              <a:rPr b="0" lang="th-TH" sz="3200" spc="-1" strike="noStrike">
                <a:solidFill>
                  <a:srgbClr val="000000"/>
                </a:solidFill>
                <a:latin typeface="Symbol"/>
                <a:cs typeface="Symbol"/>
              </a:rPr>
              <a:t>ฎ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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reduce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m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(s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X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s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X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s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… X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m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s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m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, a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a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i+1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… a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$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(s</a:t>
            </a:r>
            <a:r>
              <a:rPr b="0" lang="th-TH" sz="24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 X</a:t>
            </a:r>
            <a:r>
              <a:rPr b="0" lang="th-TH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 s</a:t>
            </a:r>
            <a:r>
              <a:rPr b="0" lang="th-TH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 X</a:t>
            </a:r>
            <a:r>
              <a:rPr b="0" lang="th-TH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 s</a:t>
            </a:r>
            <a:r>
              <a:rPr b="0" lang="th-TH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 … X</a:t>
            </a:r>
            <a:r>
              <a:rPr b="0" lang="th-TH" sz="2400" spc="-1" strike="noStrike" baseline="-25000">
                <a:solidFill>
                  <a:srgbClr val="000000"/>
                </a:solidFill>
                <a:latin typeface="Courier New"/>
              </a:rPr>
              <a:t>m-r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 s</a:t>
            </a:r>
            <a:r>
              <a:rPr b="0" lang="th-TH" sz="2400" spc="-1" strike="noStrike" baseline="-25000">
                <a:solidFill>
                  <a:srgbClr val="000000"/>
                </a:solidFill>
                <a:latin typeface="Courier New"/>
              </a:rPr>
              <a:t>m-r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th-TH" sz="2400" spc="-1" strike="noStrike" baseline="-25000">
                <a:solidFill>
                  <a:srgbClr val="000000"/>
                </a:solidFill>
                <a:latin typeface="Courier New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, a</a:t>
            </a:r>
            <a:r>
              <a:rPr b="0" lang="th-TH" sz="2400" spc="-1" strike="noStrike" baseline="-25000">
                <a:solidFill>
                  <a:srgbClr val="000000"/>
                </a:solidFill>
                <a:latin typeface="Courier New"/>
              </a:rPr>
              <a:t>i 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th-TH" sz="2400" spc="-1" strike="noStrike" baseline="-25000">
                <a:solidFill>
                  <a:srgbClr val="000000"/>
                </a:solidFill>
                <a:latin typeface="Courier New"/>
              </a:rPr>
              <a:t>i+1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 … a</a:t>
            </a:r>
            <a:r>
              <a:rPr b="0" lang="th-TH" sz="24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$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s = goto[s</a:t>
            </a:r>
            <a:r>
              <a:rPr b="0" lang="th-TH" sz="2800" spc="-1" strike="noStrike" baseline="-25000">
                <a:solidFill>
                  <a:srgbClr val="000000"/>
                </a:solidFill>
                <a:latin typeface="Courier New"/>
              </a:rPr>
              <a:t>m-r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, A]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r = |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3733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LR Parser Mo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If action[s</a:t>
            </a:r>
            <a:r>
              <a:rPr b="0" lang="th-TH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th-TH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] = accept,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If action[s</a:t>
            </a:r>
            <a:r>
              <a:rPr b="0" lang="th-TH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th-TH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] = error,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e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27672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cs typeface="Symbol"/>
              </a:rPr>
              <a:t>ฎ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 +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cs typeface="Symbol"/>
              </a:rPr>
              <a:t>ฎ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cs typeface="Symbol"/>
              </a:rPr>
              <a:t>ฎ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 *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cs typeface="Symbol"/>
              </a:rPr>
              <a:t>ฎ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cs typeface="Symbol"/>
              </a:rPr>
              <a:t>ฎ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cs typeface="Symbol"/>
              </a:rPr>
              <a:t>ฎ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457200" y="762120"/>
          <a:ext cx="8229600" cy="5410080"/>
        </p:xfrm>
        <a:graphic>
          <a:graphicData uri="http://schemas.openxmlformats.org/drawingml/2006/table">
            <a:tbl>
              <a:tblPr/>
              <a:tblGrid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  <a:gridCol w="822240"/>
              </a:tblGrid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Confli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Parser cannot deci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shift/reduce confl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can either shift or redu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reduce/reduce confl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more than one production is elig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Usually ambiguous or non-LR gramm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ift/Reduce Confli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stmt </a:t>
            </a:r>
            <a:r>
              <a:rPr b="0" lang="th-TH" sz="2400" spc="-1" strike="noStrike">
                <a:solidFill>
                  <a:srgbClr val="000000"/>
                </a:solidFill>
                <a:latin typeface="Symbol"/>
                <a:cs typeface="Symbol"/>
              </a:rPr>
              <a:t>ฎ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th-TH" sz="24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 expr </a:t>
            </a:r>
            <a:r>
              <a:rPr b="1" lang="th-TH" sz="2400" spc="-1" strike="noStrike">
                <a:solidFill>
                  <a:srgbClr val="ff0000"/>
                </a:solidFill>
                <a:latin typeface="Courier New"/>
              </a:rPr>
              <a:t>then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 st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|  </a:t>
            </a:r>
            <a:r>
              <a:rPr b="1" lang="th-TH" sz="24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 expr </a:t>
            </a:r>
            <a:r>
              <a:rPr b="1" lang="th-TH" sz="2400" spc="-1" strike="noStrike">
                <a:solidFill>
                  <a:srgbClr val="ff0000"/>
                </a:solidFill>
                <a:latin typeface="Courier New"/>
              </a:rPr>
              <a:t>then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 stmt </a:t>
            </a:r>
            <a:r>
              <a:rPr b="1" lang="th-TH" sz="2400" spc="-1" strike="noStrike">
                <a:solidFill>
                  <a:srgbClr val="ff0000"/>
                </a:solidFill>
                <a:latin typeface="Courier New"/>
              </a:rPr>
              <a:t>else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 st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|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 … 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 expr 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 stmt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 …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e/Reduce Confli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0" lang="th-TH" sz="2400" spc="-1" strike="noStrike">
                <a:solidFill>
                  <a:srgbClr val="000000"/>
                </a:solidFill>
                <a:latin typeface="Symbol"/>
                <a:cs typeface="Symbol"/>
              </a:rPr>
              <a:t>ฎ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 |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0" lang="th-TH" sz="2400" spc="-1" strike="noStrike">
                <a:solidFill>
                  <a:srgbClr val="000000"/>
                </a:solidFill>
                <a:latin typeface="Symbol"/>
                <a:cs typeface="Symbol"/>
              </a:rPr>
              <a:t>ฎ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th-TH" sz="24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0" lang="th-TH" sz="2400" spc="-1" strike="noStrike">
                <a:solidFill>
                  <a:srgbClr val="000000"/>
                </a:solidFill>
                <a:latin typeface="Symbol"/>
                <a:cs typeface="Symbol"/>
              </a:rPr>
              <a:t>ฎ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th-TH" sz="24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$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…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Fro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2438280"/>
            <a:ext cx="1447920" cy="7621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anner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5146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Source progra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(text stream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28954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962520"/>
            <a:ext cx="1447920" cy="7617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54100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Intermediat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Representation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(file or in memory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32004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5410080"/>
            <a:ext cx="1447920" cy="7621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antic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zer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47242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191120" y="320004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57913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05320" y="1828800"/>
            <a:ext cx="1809000" cy="4495680"/>
            <a:chOff x="3505320" y="1828800"/>
            <a:chExt cx="1809000" cy="4495680"/>
          </a:xfrm>
        </p:grpSpPr>
        <p:sp>
          <p:nvSpPr>
            <p:cNvPr id="122" name=""/>
            <p:cNvSpPr/>
            <p:nvPr/>
          </p:nvSpPr>
          <p:spPr>
            <a:xfrm>
              <a:off x="3505320" y="2133720"/>
              <a:ext cx="1752480" cy="4190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39200" y="1828800"/>
              <a:ext cx="127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nt-End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5638680" y="3581280"/>
            <a:ext cx="2286000" cy="34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75" y="37000"/>
                </a:moveTo>
                <a:lnTo>
                  <a:pt x="-720" y="7200"/>
                </a:lnTo>
              </a:path>
              <a:path w="21600" h="21600">
                <a:moveTo>
                  <a:pt x="-720" y="0"/>
                </a:moveTo>
                <a:lnTo>
                  <a:pt x="-720" y="21600"/>
                </a:lnTo>
              </a:path>
            </a:pathLst>
          </a:custGeom>
          <a:solidFill>
            <a:srgbClr val="ffff99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 parse tree.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2209680"/>
            <a:ext cx="2286000" cy="34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15" y="28700"/>
                </a:moveTo>
                <a:lnTo>
                  <a:pt x="-720" y="7200"/>
                </a:lnTo>
              </a:path>
              <a:path w="21600" h="21600">
                <a:moveTo>
                  <a:pt x="-720" y="0"/>
                </a:moveTo>
                <a:lnTo>
                  <a:pt x="-720" y="21600"/>
                </a:lnTo>
              </a:path>
            </a:pathLst>
          </a:custGeom>
          <a:solidFill>
            <a:srgbClr val="ffff99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roup token.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3581280"/>
            <a:ext cx="1077840" cy="520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ext-token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3276720"/>
            <a:ext cx="685800" cy="307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oken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514240" y="3048120"/>
            <a:ext cx="1143000" cy="990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7432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514240" y="457200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3886200"/>
            <a:ext cx="1219320" cy="838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ymbol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3200400"/>
            <a:ext cx="30456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200400"/>
            <a:ext cx="3049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3200400"/>
            <a:ext cx="3049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3200400"/>
            <a:ext cx="30456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3200400"/>
            <a:ext cx="3049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3200400"/>
            <a:ext cx="3049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30456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9" name=""/>
          <p:cNvSpPr/>
          <p:nvPr/>
        </p:nvSpPr>
        <p:spPr>
          <a:xfrm>
            <a:off x="2438280" y="3200400"/>
            <a:ext cx="3049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0" name=""/>
          <p:cNvSpPr/>
          <p:nvPr/>
        </p:nvSpPr>
        <p:spPr>
          <a:xfrm>
            <a:off x="5638680" y="5105520"/>
            <a:ext cx="2895840" cy="34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761" y="26500"/>
                </a:moveTo>
                <a:lnTo>
                  <a:pt x="-568" y="7200"/>
                </a:lnTo>
              </a:path>
              <a:path w="21600" h="21600">
                <a:moveTo>
                  <a:pt x="-568" y="0"/>
                </a:moveTo>
                <a:lnTo>
                  <a:pt x="-568" y="21600"/>
                </a:lnTo>
              </a:path>
            </a:pathLst>
          </a:custGeom>
          <a:solidFill>
            <a:srgbClr val="ffff99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heck semantic/contextual.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2895480"/>
            <a:ext cx="11430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dentifier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2895480"/>
            <a:ext cx="9907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ymbol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3" name=""/>
          <p:cNvSpPr/>
          <p:nvPr/>
        </p:nvSpPr>
        <p:spPr>
          <a:xfrm>
            <a:off x="4495680" y="4876920"/>
            <a:ext cx="1078200" cy="307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arse-tree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Parsing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Top-dow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LL(1) gramm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eft-to-right scanning,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eftmost derivation,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symbol look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Bottom-up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LR(k) gramm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eft-to-right scanning,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ightmost derivation,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symbols look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Termin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ential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276720" y="2590920"/>
                <a:ext cx="26668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limLow>
                      <m:e>
                        <m:limUpp>
                          <m:e>
                            <m:r>
                              <m:t xml:space="preserve">⇒</m:t>
                            </m:r>
                          </m:e>
                          <m:lim/>
                        </m:limUpp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lim>
                    </m:limLow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4877640" y="4952880"/>
            <a:ext cx="36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Sentential form (left/right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3048120"/>
            <a:ext cx="685800" cy="91440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5409720" y="403812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Left Sentential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27672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cs typeface="Symbol"/>
              </a:rPr>
              <a:t>ฎ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 +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cs typeface="Symbol"/>
              </a:rPr>
              <a:t>ฎ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cs typeface="Symbol"/>
              </a:rPr>
              <a:t>ฎ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 *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cs typeface="Symbol"/>
              </a:rPr>
              <a:t>ฎ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cs typeface="Symbol"/>
              </a:rPr>
              <a:t>ฎ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cs typeface="Symbol"/>
              </a:rPr>
              <a:t>ฎ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91120" y="1905120"/>
            <a:ext cx="4495680" cy="41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m +  n  * k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id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18960" indent="-318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  <a:ea typeface="Arial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T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  <a:ea typeface="Arial"/>
              </a:rPr>
              <a:t>=&gt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T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  <a:ea typeface="Arial"/>
              </a:rPr>
              <a:t>=&gt;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  <a:ea typeface="Arial"/>
              </a:rPr>
              <a:t>=&gt;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F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  <a:ea typeface="Arial"/>
              </a:rPr>
              <a:t>=&gt;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F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=&gt;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  <a:ea typeface="Arial"/>
              </a:rPr>
              <a:t>=&gt;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id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Right Sentential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27672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cs typeface="Symbol"/>
              </a:rPr>
              <a:t>ฎ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 +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cs typeface="Symbol"/>
              </a:rPr>
              <a:t>ฎ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cs typeface="Symbol"/>
              </a:rPr>
              <a:t>ฎ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 *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cs typeface="Symbol"/>
              </a:rPr>
              <a:t>ฎ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cs typeface="Symbol"/>
              </a:rPr>
              <a:t>ฎ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cs typeface="Symbol"/>
              </a:rPr>
              <a:t>ฎ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91120" y="1905120"/>
            <a:ext cx="4495680" cy="41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  <a:ea typeface="Arial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E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  <a:ea typeface="Arial"/>
              </a:rPr>
              <a:t>=&gt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E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=&gt;  E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* id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=&gt;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* id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=&gt;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* id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=&gt;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* id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  <a:ea typeface="Arial"/>
              </a:rPr>
              <a:t>=&gt;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id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8" name=""/>
          <p:cNvSpPr/>
          <p:nvPr/>
        </p:nvSpPr>
        <p:spPr>
          <a:xfrm>
            <a:off x="699480" y="5638680"/>
            <a:ext cx="7849440" cy="4597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ghtmost derivation is also called “canonical derivation”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ttom-Up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ing from the bottom of the parse tree and reduce all terminals until getting only one starting symb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most derivation in reve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“handle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redu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ghtmost Derivation in Reve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27672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cs typeface="Symbol"/>
              </a:rPr>
              <a:t>ฎ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 +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cs typeface="Symbol"/>
              </a:rPr>
              <a:t>ฎ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cs typeface="Symbol"/>
              </a:rPr>
              <a:t>ฎ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 *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cs typeface="Symbol"/>
              </a:rPr>
              <a:t>ฎ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cs typeface="Symbol"/>
              </a:rPr>
              <a:t>ฎ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cs typeface="Symbol"/>
              </a:rPr>
              <a:t>ฎ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91120" y="1905120"/>
            <a:ext cx="4495680" cy="41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  <a:ea typeface="Arial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E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  <a:ea typeface="Arial"/>
              </a:rPr>
              <a:t>=&gt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E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=&gt;  E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* id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=&gt;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* id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=&gt;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* id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=&gt;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* id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  <a:ea typeface="Arial"/>
              </a:rPr>
              <a:t>=&gt;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id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4" name=""/>
          <p:cNvSpPr/>
          <p:nvPr/>
        </p:nvSpPr>
        <p:spPr>
          <a:xfrm>
            <a:off x="463680" y="5257800"/>
            <a:ext cx="8410320" cy="119124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ring pars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8077320" y="3733560"/>
            <a:ext cx="0" cy="114300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6" name=""/>
          <p:cNvSpPr/>
          <p:nvPr/>
        </p:nvSpPr>
        <p:spPr>
          <a:xfrm>
            <a:off x="537840" y="5867280"/>
            <a:ext cx="237528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+ id * id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7" name=""/>
          <p:cNvSpPr/>
          <p:nvPr/>
        </p:nvSpPr>
        <p:spPr>
          <a:xfrm>
            <a:off x="3585960" y="5867280"/>
            <a:ext cx="219240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+ id * id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8" name=""/>
          <p:cNvSpPr/>
          <p:nvPr/>
        </p:nvSpPr>
        <p:spPr>
          <a:xfrm>
            <a:off x="6557760" y="5867280"/>
            <a:ext cx="219240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+ id * id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5T02:41:35Z</dcterms:created>
  <dc:creator>Chulalongkorn University</dc:creator>
  <dc:description/>
  <dc:language>en-US</dc:language>
  <cp:lastModifiedBy>Natawut Nupairoj</cp:lastModifiedBy>
  <cp:lastPrinted>1999-11-09T13:31:27Z</cp:lastPrinted>
  <dcterms:modified xsi:type="dcterms:W3CDTF">2003-11-26T16:24:27Z</dcterms:modified>
  <cp:revision>41</cp:revision>
  <dc:subject/>
  <dc:title>No Slide Title</dc:title>
</cp:coreProperties>
</file>