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E26A3-0522-4386-AF51-875CB5B87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57D42-C513-493A-A110-3316996A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2D3A9-9A56-41CA-9582-92DCBCA18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26E70-986B-49A4-BE31-583E2FEFA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8856-0429-4D07-8969-5E7F66418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E655-6937-4450-928E-B3DD531E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5A7F-2E3F-43A6-9D2C-9F023003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51E6-B053-42E6-A4C4-C2A9B1EB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A08C-D3DD-4812-83AF-27B9EE78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CA7A-40D2-4CE8-963E-3CD3D769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0CD5-557C-406C-A3EB-8CFBAB22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E3DF9-7239-4DB5-8605-DD807CFD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24B5-5D57-4DD5-A47F-F1F25556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630F-F212-4630-BA32-2221BECD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8E0D-EBDC-40EF-884B-AE10638F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DAB4-FBB2-4023-8581-8E3BA7C34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BBCC-FF14-44C3-B216-11971D6A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523B7-8939-4C6D-8D5A-0B661E43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B3E1E-9FDB-44BD-86DD-B2703CE1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E208F-C775-466F-8650-0F70B610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10BAC-BCD6-46E0-854A-12B44C49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F6F34-B648-43AD-88BD-817A11FA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67079-4685-421E-98DE-1F6C51AF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A8B54-454E-4AAC-9383-A0951409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7C5D-3C8D-44E9-B141-72F909F80A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94D6-F1D0-4C85-9C9A-20FEEA2928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ompiler Construction Tool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atawut Nupairoj, Ph.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partment of Computer Engineer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ulalongkorn Univers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Yacc Spec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A Yacc source program has three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decla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translation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supporting C-rout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Calculator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%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tdio.h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%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%token DIG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%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in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 '\n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printf("%d\n", $1)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 '+' term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$$ = $1 + $3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 '*' facto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$$ = $1 * $3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cto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'(' expr ')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$$ = $2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IG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%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Calculator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ylex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 = getchar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f(c &gt;= '0' &amp;&amp; c &lt;= '9'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ylval = c - '0'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DIGI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yerror(char* errms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printf(stderr, "%s\n", err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(int argc, char** arg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yparse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How to u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acc with </a:t>
            </a: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L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yparse calls yylex to get the next token automatic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ylex retur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ken type or 0 (EOF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ylval - token attribu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kens are defined in yacc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x definition can get them through “y.tab.h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Yacc with Lex (Yac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%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tdio.h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%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%token EO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%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in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 EO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printf("%d\n", $1)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 '+' term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$$ = $1 + $3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 '*' facto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$$ = $1 * $3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cto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'(' expr ')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$$ = $2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%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Yacc with Lex (Yac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yerror(char* errms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printf(stderr, "%s\n", err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(int argc, char** arg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yparse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Yacc with Lex (Le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%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* define constants for C program here 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tdlib.h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y.tab.h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rn int yylv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%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* regular definitions 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lim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\t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delim}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o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0-9]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ymbo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\+\*\(\)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%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ws}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/* no action and no return */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eol}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return EOL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number}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yylval = atoi(yytext); return(NUMBER)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symbol}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return yytext[0]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%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e Yacc and L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yacc –d calc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lex calc.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cc –o calc y.tab.c lex.yy.c -lf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nner 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nner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ser 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ser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ngsana New"/>
              </a:rPr>
              <a:t>Scanner 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752480" y="2057400"/>
          <a:ext cx="5524560" cy="36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524560" cy="36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 Specif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ex program consists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e variables and const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regular defin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ion 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o do (action) when the pattern is match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xiliary proced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 functions for 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Lex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Courier New"/>
              </a:rPr>
              <a:t>/* declarations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pattern-name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Courier New"/>
              </a:rPr>
              <a:t>/* translation rules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pattern-name/pattern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{action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Courier New"/>
              </a:rPr>
              <a:t>/* auxiliary procedures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Simplest Lex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3885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% </a:t>
            </a:r>
            <a:r>
              <a:rPr b="0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lex simplest.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% </a:t>
            </a:r>
            <a:r>
              <a:rPr b="0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gcc –o simplest lex.yy.c -lf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905120"/>
            <a:ext cx="822960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|\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;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: Word Counting 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%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harCount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wordCount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lineCount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%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^ \t\n]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o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\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%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word}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 wordCount++; charCount += yyleng;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eol}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 charCount++; lineCount++;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 charCount++;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%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yylex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%d %d %d\n", lineCount, wordCount, charCou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How to use L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Parser (or main program) calls yyl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yylex returns token type or 0 (EOF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Special Lex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yylval - token attribute (return to pars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yytext - lex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yyleng - the length of lex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Parser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90720" y="1752480"/>
          <a:ext cx="7086600" cy="455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7086600" cy="45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5T02:41:35Z</dcterms:created>
  <dc:creator>Chulalongkorn University</dc:creator>
  <dc:description/>
  <dc:language>en-US</dc:language>
  <cp:lastModifiedBy>Natawut Nupairoj</cp:lastModifiedBy>
  <cp:lastPrinted>1999-11-09T13:31:27Z</cp:lastPrinted>
  <dcterms:modified xsi:type="dcterms:W3CDTF">2003-11-26T16:39:39Z</dcterms:modified>
  <cp:revision>32</cp:revision>
  <dc:subject/>
  <dc:title>No Slide Title</dc:title>
</cp:coreProperties>
</file>