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2B486-EC7C-4FDA-81A3-31825C78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80215-9B85-4C26-A9BB-054D3089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6DF02-C168-4B64-A314-8460B6D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78DC2-39D9-47BD-97C9-55A4632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09E9A-FDFC-4CCE-B29A-E64925E3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725A-55B5-44C3-BC4B-43E5BF6A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64D4-BB01-48F0-9D74-AC37B49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BBDF5-D105-49E0-96E7-018F4B6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19A8-5927-4CAC-8CAB-B9E51D0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6FB98-BFCB-40FA-A90A-33CBFEB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57701-4515-41A2-89CE-D7F13682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D887C-6A79-4C92-85B7-84392386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et-Centric Computing Overview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7D8-CE42-46FD-AECC-7DBB8EEC3B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Net-Centric Computing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flipH="1">
            <a:off x="12193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379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438280"/>
            <a:ext cx="1143000" cy="3048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ulti-Tier – The Current Tren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+ App + Web server with Brows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666880" y="2819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19160" y="3886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743200" y="43430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flex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24080"/>
            <a:ext cx="609840" cy="152424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2895480"/>
            <a:ext cx="685800" cy="60984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259092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65760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876920"/>
            <a:ext cx="53316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124080"/>
            <a:ext cx="533520" cy="152424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3657600"/>
            <a:ext cx="685800" cy="6094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419720"/>
            <a:ext cx="685800" cy="6094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-Centric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-Centric Applications requ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work hor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b server, Application server, Database server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road, an express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et, Intranet, proprietary networks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forma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ML, MIME, EDI, XML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messe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rmal HTTP, HTTPS, Message Queue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ing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ach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-Centric Ser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324480" y="2590920"/>
            <a:ext cx="1676520" cy="1676160"/>
            <a:chOff x="6324480" y="2590920"/>
            <a:chExt cx="1676520" cy="1676160"/>
          </a:xfrm>
        </p:grpSpPr>
        <p:graphicFrame>
          <p:nvGraphicFramePr>
            <p:cNvPr id="229" name=""/>
            <p:cNvGraphicFramePr/>
            <p:nvPr/>
          </p:nvGraphicFramePr>
          <p:xfrm>
            <a:off x="6324480" y="2590920"/>
            <a:ext cx="167652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590920"/>
                      <a:ext cx="167652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6758640" y="3200040"/>
              <a:ext cx="74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57600" y="2514600"/>
            <a:ext cx="1828800" cy="1828800"/>
            <a:chOff x="3657600" y="2514600"/>
            <a:chExt cx="1828800" cy="1828800"/>
          </a:xfrm>
        </p:grpSpPr>
        <p:sp>
          <p:nvSpPr>
            <p:cNvPr id="233" name=""/>
            <p:cNvSpPr/>
            <p:nvPr/>
          </p:nvSpPr>
          <p:spPr>
            <a:xfrm>
              <a:off x="3940920" y="2895480"/>
              <a:ext cx="137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600" y="25146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2514600"/>
            <a:ext cx="1828800" cy="1828800"/>
            <a:chOff x="914400" y="2514600"/>
            <a:chExt cx="1828800" cy="1828800"/>
          </a:xfrm>
        </p:grpSpPr>
        <p:sp>
          <p:nvSpPr>
            <p:cNvPr id="236" name=""/>
            <p:cNvSpPr/>
            <p:nvPr/>
          </p:nvSpPr>
          <p:spPr>
            <a:xfrm>
              <a:off x="1197360" y="2895480"/>
              <a:ext cx="137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5146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74320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Serve a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server a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page: web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GI model: out-proc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b server internal module: in-proc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server: plug-i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Gateway Interface (CG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tension (program) for web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mostly to connect to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 and per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nter, guest book, graph genera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-of-process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CGI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st run a new program every time it is being invok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process model – include interpreter inside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_per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st be resided in the serv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1981080"/>
            <a:ext cx="152424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1981080"/>
            <a:ext cx="152424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590920"/>
            <a:ext cx="1904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76360" y="2971800"/>
            <a:ext cx="1904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7960" y="22701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60480" y="29718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S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ine to create dynamic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let Engine: JSP / Servl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.Net / VB.N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B Container: host EJB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g-i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-in at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through soc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side on the same or separat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S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76520" y="1809720"/>
            <a:ext cx="61722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let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javax.servlet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javax.servlet.http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c class HelloWorldServlet extends HttpServlet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c void doGet (HttpServletRequest req, HttpServletResponse 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rows ServletException, IOException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ML res.setContentType( "text/html" 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rvletOutputStream out = res.getOutputStream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html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head&gt;&lt;title&gt;Hello World&lt;/title&gt;&lt;/head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body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h1&gt;Hello World&lt;/h1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p&gt;Congratulations, your servlet is working!&lt;/p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/body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/html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twork is Compu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un Micro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2EE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515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B Basic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24680" cy="43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-Centric</a:t>
            </a: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1793880" cy="17305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4876920" y="1905120"/>
            <a:ext cx="1590480" cy="2266920"/>
            <a:chOff x="4876920" y="1905120"/>
            <a:chExt cx="1590480" cy="2266920"/>
          </a:xfrm>
        </p:grpSpPr>
        <p:graphicFrame>
          <p:nvGraphicFramePr>
            <p:cNvPr id="265" name=""/>
            <p:cNvGraphicFramePr/>
            <p:nvPr/>
          </p:nvGraphicFramePr>
          <p:xfrm>
            <a:off x="5432400" y="1905120"/>
            <a:ext cx="654120" cy="173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32400" y="1905120"/>
                      <a:ext cx="65412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4876920" y="2409840"/>
            <a:ext cx="654120" cy="1733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2409840"/>
                      <a:ext cx="65412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5813640" y="2438280"/>
            <a:ext cx="653760" cy="1733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13640" y="2438280"/>
                      <a:ext cx="653760" cy="17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1" name=""/>
          <p:cNvGraphicFramePr/>
          <p:nvPr/>
        </p:nvGraphicFramePr>
        <p:xfrm>
          <a:off x="7162920" y="2133720"/>
          <a:ext cx="1128600" cy="167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133720"/>
                    <a:ext cx="1128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477120" y="4876920"/>
          <a:ext cx="2373120" cy="114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4876920"/>
                    <a:ext cx="2373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05120" y="5029200"/>
          <a:ext cx="1407960" cy="927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05120" y="5029200"/>
                    <a:ext cx="140796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124080" y="3048120"/>
            <a:ext cx="1676520" cy="144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048120"/>
            <a:ext cx="685800" cy="144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4114800"/>
            <a:ext cx="609480" cy="83808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352680" y="4038120"/>
            <a:ext cx="1600200" cy="114300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1676520"/>
            <a:ext cx="4647960" cy="2666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86040" y="373392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0066"/>
                </a:solidFill>
                <a:latin typeface="Tahoma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50160" y="3809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0066"/>
                </a:solidFill>
                <a:latin typeface="Tahoma"/>
              </a:rPr>
              <a:t>Biz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1560" y="53341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0066"/>
                </a:solidFill>
                <a:latin typeface="Tahoma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users can we support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9% of 7 x 24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ong can a user tolerat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secure can it b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09480" y="1600200"/>
          <a:ext cx="81774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77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al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people or hits the platform will support a day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Scale-Up: upgrade ser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izontal Scale-Up: load-bal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 Round-rob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 Balancing Server (router, dedicated serv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ularized Scale-Up: separate ser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, application server,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tical/Modularized Scale-U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324480" y="2590920"/>
            <a:ext cx="1676520" cy="1676160"/>
            <a:chOff x="6324480" y="2590920"/>
            <a:chExt cx="1676520" cy="1676160"/>
          </a:xfrm>
        </p:grpSpPr>
        <p:graphicFrame>
          <p:nvGraphicFramePr>
            <p:cNvPr id="294" name=""/>
            <p:cNvGraphicFramePr/>
            <p:nvPr/>
          </p:nvGraphicFramePr>
          <p:xfrm>
            <a:off x="6324480" y="2590920"/>
            <a:ext cx="167652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590920"/>
                      <a:ext cx="167652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"/>
            <p:cNvSpPr/>
            <p:nvPr/>
          </p:nvSpPr>
          <p:spPr>
            <a:xfrm>
              <a:off x="6758640" y="3200040"/>
              <a:ext cx="74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57600" y="2514600"/>
            <a:ext cx="1828800" cy="1828800"/>
            <a:chOff x="3657600" y="2514600"/>
            <a:chExt cx="1828800" cy="1828800"/>
          </a:xfrm>
        </p:grpSpPr>
        <p:sp>
          <p:nvSpPr>
            <p:cNvPr id="298" name=""/>
            <p:cNvSpPr/>
            <p:nvPr/>
          </p:nvSpPr>
          <p:spPr>
            <a:xfrm>
              <a:off x="3940920" y="2895480"/>
              <a:ext cx="137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57600" y="25146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914400" y="2514600"/>
            <a:ext cx="1828800" cy="1828800"/>
            <a:chOff x="914400" y="2514600"/>
            <a:chExt cx="1828800" cy="1828800"/>
          </a:xfrm>
        </p:grpSpPr>
        <p:sp>
          <p:nvSpPr>
            <p:cNvPr id="301" name=""/>
            <p:cNvSpPr/>
            <p:nvPr/>
          </p:nvSpPr>
          <p:spPr>
            <a:xfrm>
              <a:off x="1197360" y="2895480"/>
              <a:ext cx="137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25146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74320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2057400"/>
            <a:ext cx="7772400" cy="2514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057400"/>
            <a:ext cx="2286000" cy="2514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2057400"/>
            <a:ext cx="2286000" cy="2514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057400"/>
            <a:ext cx="2286000" cy="2514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Data Ex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mpanies exchange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mail (snail mai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C department store sends an order form to XYZ cloth manufacture via 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Exchange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come increasingly popul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ilar to HTM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describing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uman and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creating other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define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Net-Centric Computing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 on distributed environment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than one machine / one us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ple platform is possib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we exchange data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ata forma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051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istributed environ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pplic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ata are exchang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mong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pe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cross a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on as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s-needed ba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XML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&lt;time&gt;14:05&lt;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ordnum=“102"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: tag and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o-number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-numbe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: name an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= Data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ordnum="102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ordnum&gt;1&lt;/ordnu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ted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illin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ddress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ddress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illin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Defined XML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basic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tern of all XML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ay about “structure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basic syntax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ll-forme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XM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“tags” and “attributes” are a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“structure”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i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in 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3048120"/>
            <a:ext cx="2590920" cy="1295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6576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9920" y="37339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3505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/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648320" y="44197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54864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D / XM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2286000"/>
            <a:ext cx="2743200" cy="609480"/>
          </a:xfr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eck input using basic syntax an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Deli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exchange data between 2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al: Email attached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: HTTP using form uplo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: HTTP + SSL = HTT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: using message que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Oriented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ly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between appl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t functional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38280" y="2971800"/>
          <a:ext cx="54104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971800"/>
                    <a:ext cx="54104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-to-Point  -- “Message Queu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 (put) / receiver (get) / message queue (mailbo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r-Consumer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7467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-Subscri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er / subscriber / message top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7467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Net-Centric Computing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you my peer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iss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soon is as-neede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l-time / batch data exchang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sh / P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9051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istributed environ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pplic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ata are exchang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mong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pe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cross a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on as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s-needed ba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-Centric Applications requ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work hor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road, an express 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forma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messeng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NCC, really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system (applicatio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mach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the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mlessly integr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standard data forma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ome secur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xample, anyon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volution of N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r”-based paradig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he codes (or logics) a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ation / Business / Data log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s of NCC archite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/server (two-ti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ngle-Tier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frame with “dumb” termin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9880" y="3733920"/>
          <a:ext cx="10414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1041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276720" y="2666880"/>
          <a:ext cx="10411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666880"/>
                    <a:ext cx="10411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00400" y="4876920"/>
          <a:ext cx="104148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876920"/>
                    <a:ext cx="1041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V="1">
            <a:off x="2438280" y="28954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59056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514600" y="44193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security and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to impr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or 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 “locked-i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200400"/>
            <a:ext cx="533160" cy="1523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200400"/>
            <a:ext cx="533520" cy="152388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200400"/>
            <a:ext cx="533520" cy="15238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/Server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server with fat clients (PC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819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3886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057400" y="43430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ap and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to ma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7600" y="3657600"/>
            <a:ext cx="838080" cy="380880"/>
            <a:chOff x="3657600" y="3657600"/>
            <a:chExt cx="838080" cy="380880"/>
          </a:xfrm>
        </p:grpSpPr>
        <p:sp>
          <p:nvSpPr>
            <p:cNvPr id="182" name=""/>
            <p:cNvSpPr/>
            <p:nvPr/>
          </p:nvSpPr>
          <p:spPr>
            <a:xfrm>
              <a:off x="3962520" y="365760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3657600"/>
              <a:ext cx="304920" cy="380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295280" y="3124080"/>
            <a:ext cx="838080" cy="1523880"/>
            <a:chOff x="1295280" y="3124080"/>
            <a:chExt cx="838080" cy="1523880"/>
          </a:xfrm>
        </p:grpSpPr>
        <p:sp>
          <p:nvSpPr>
            <p:cNvPr id="185" name=""/>
            <p:cNvSpPr/>
            <p:nvPr/>
          </p:nvSpPr>
          <p:spPr>
            <a:xfrm>
              <a:off x="1295280" y="3124080"/>
              <a:ext cx="533160" cy="152388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8440" y="3124080"/>
              <a:ext cx="304920" cy="1523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124080" y="2590920"/>
            <a:ext cx="838080" cy="380880"/>
            <a:chOff x="3124080" y="2590920"/>
            <a:chExt cx="838080" cy="380880"/>
          </a:xfrm>
        </p:grpSpPr>
        <p:sp>
          <p:nvSpPr>
            <p:cNvPr id="188" name=""/>
            <p:cNvSpPr/>
            <p:nvPr/>
          </p:nvSpPr>
          <p:spPr>
            <a:xfrm>
              <a:off x="3429000" y="259092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2590920"/>
              <a:ext cx="304920" cy="380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8120" y="4800600"/>
            <a:ext cx="838080" cy="380880"/>
            <a:chOff x="3048120" y="4800600"/>
            <a:chExt cx="838080" cy="380880"/>
          </a:xfrm>
        </p:grpSpPr>
        <p:sp>
          <p:nvSpPr>
            <p:cNvPr id="191" name=""/>
            <p:cNvSpPr/>
            <p:nvPr/>
          </p:nvSpPr>
          <p:spPr>
            <a:xfrm>
              <a:off x="3353040" y="480060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8120" y="4800600"/>
              <a:ext cx="304920" cy="380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ree-Tier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+ Web server with Browsers (Thin clien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666880" y="2819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819160" y="3886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743200" y="43430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ap and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to manage / install with goo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ightly difficult to de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124080"/>
            <a:ext cx="609480" cy="152424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124080"/>
            <a:ext cx="685800" cy="152424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59092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365760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4876920"/>
            <a:ext cx="53316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523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NP</cp:lastModifiedBy>
  <dcterms:modified xsi:type="dcterms:W3CDTF">2003-02-03T07:33:19Z</dcterms:modified>
  <cp:revision>28</cp:revision>
  <dc:subject/>
  <dc:title>Net-Centric Computing Overview</dc:title>
</cp:coreProperties>
</file>