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6B95D-221D-422C-BAE7-800B031D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98B7-A68C-4CE0-814F-A42E1AA8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43514-B589-4A1A-A9C1-49E70526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74C53-1207-4823-8A4E-3E7727AA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CA8CE-8A8A-4D33-A115-7713A785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429B8-429A-4D31-B251-18F7CAFD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8F0FB-599C-4197-BCC2-91029022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61F02-6B65-425E-BBFA-43FCFAA6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D81EE-585F-4C92-9331-FAAA045B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4CAC8-A3FE-4E03-806A-5EA6AE31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C78AD-2BBE-490E-BD36-6242591C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63587-62C8-46D1-BF12-A55BD2E3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Middleware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55F8-EF5E-401F-9879-489D24C976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ebservices.org/index.php/imagecatalogue/imageview/94/?RefererURL=/article/articleview/352/4/24/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my.execpc.com/~gopalan/jms/jms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iddlewa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action Process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sistent data integ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end of transaction, data in the database must be consistent (based on pre-defined data integrity and constrain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tion of trans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two transactions want to touch sam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rialize them – done in sequ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transaction is done, it is really d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o-Phase Comm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819520" y="2057400"/>
          <a:ext cx="363852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057400"/>
                    <a:ext cx="36385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2362320" y="2514600"/>
          <a:ext cx="11318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1131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752480" y="2895480"/>
          <a:ext cx="11318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895480"/>
                    <a:ext cx="11318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ngsana New"/>
              </a:rPr>
              <a:t>Connection Pool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724280" y="3200400"/>
          <a:ext cx="722520" cy="17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200400"/>
                    <a:ext cx="722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162920" y="3581280"/>
          <a:ext cx="99036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3581280"/>
                    <a:ext cx="9903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219320" y="3352680"/>
          <a:ext cx="1131840" cy="129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3352680"/>
                    <a:ext cx="11318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362320" y="419112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3962520"/>
            <a:ext cx="16765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3886200"/>
          <a:ext cx="1131840" cy="12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3886200"/>
                    <a:ext cx="1131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flipV="1">
            <a:off x="1981080" y="4343400"/>
            <a:ext cx="2743200" cy="3808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3733920"/>
            <a:ext cx="1828800" cy="3808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3429000"/>
            <a:ext cx="1218960" cy="533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4267080"/>
            <a:ext cx="16765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3657600"/>
            <a:ext cx="685800" cy="914400"/>
          </a:xfrm>
          <a:prstGeom prst="ellipse">
            <a:avLst/>
          </a:prstGeom>
          <a:noFill/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03760" y="5257800"/>
            <a:ext cx="5568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igher performance and low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2438280"/>
            <a:ext cx="7925040" cy="281952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3581280"/>
            <a:ext cx="73152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47920" y="3200400"/>
            <a:ext cx="761760" cy="1828800"/>
            <a:chOff x="1447920" y="3200400"/>
            <a:chExt cx="761760" cy="1828800"/>
          </a:xfrm>
        </p:grpSpPr>
        <p:sp>
          <p:nvSpPr>
            <p:cNvPr id="223" name=""/>
            <p:cNvSpPr/>
            <p:nvPr/>
          </p:nvSpPr>
          <p:spPr>
            <a:xfrm>
              <a:off x="1447920" y="3200400"/>
              <a:ext cx="761760" cy="7617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28800" y="396216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683520" y="548640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</a:rPr>
              <a:t>To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35120" y="175248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rom C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14600" y="3200400"/>
            <a:ext cx="761760" cy="1828800"/>
            <a:chOff x="2514600" y="3200400"/>
            <a:chExt cx="761760" cy="1828800"/>
          </a:xfrm>
        </p:grpSpPr>
        <p:sp>
          <p:nvSpPr>
            <p:cNvPr id="228" name=""/>
            <p:cNvSpPr/>
            <p:nvPr/>
          </p:nvSpPr>
          <p:spPr>
            <a:xfrm>
              <a:off x="2514600" y="3200400"/>
              <a:ext cx="761760" cy="7617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5480" y="396216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581280" y="3200400"/>
            <a:ext cx="761760" cy="1828800"/>
            <a:chOff x="3581280" y="3200400"/>
            <a:chExt cx="761760" cy="1828800"/>
          </a:xfrm>
        </p:grpSpPr>
        <p:sp>
          <p:nvSpPr>
            <p:cNvPr id="231" name=""/>
            <p:cNvSpPr/>
            <p:nvPr/>
          </p:nvSpPr>
          <p:spPr>
            <a:xfrm>
              <a:off x="3581280" y="3200400"/>
              <a:ext cx="761760" cy="7617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2160" y="396216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724280" y="3200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2004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3200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2895480"/>
            <a:ext cx="990720" cy="22100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514600" y="3200400"/>
            <a:ext cx="761760" cy="1828800"/>
            <a:chOff x="2514600" y="3200400"/>
            <a:chExt cx="761760" cy="1828800"/>
          </a:xfrm>
        </p:grpSpPr>
        <p:sp>
          <p:nvSpPr>
            <p:cNvPr id="238" name=""/>
            <p:cNvSpPr/>
            <p:nvPr/>
          </p:nvSpPr>
          <p:spPr>
            <a:xfrm>
              <a:off x="2514600" y="3200400"/>
              <a:ext cx="761760" cy="7617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95480" y="396216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572000" y="3048120"/>
            <a:ext cx="990720" cy="22096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00560" y="4724280"/>
            <a:ext cx="24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</a:rPr>
              <a:t>3 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ngsana New"/>
              </a:rPr>
              <a:t>Connection Pooling Concep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Study – Service Bran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620120" y="3657600"/>
          <a:ext cx="7221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657600"/>
                    <a:ext cx="722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657600" y="3733920"/>
          <a:ext cx="93672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733920"/>
                    <a:ext cx="936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666880" y="5334120"/>
          <a:ext cx="7653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33412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523880" y="4343400"/>
          <a:ext cx="76536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34340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676520" y="2819520"/>
          <a:ext cx="76500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765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895480" y="1828800"/>
          <a:ext cx="76536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182880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629400" y="3505320"/>
          <a:ext cx="801720" cy="107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505320"/>
                    <a:ext cx="8017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73152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3809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5909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34290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209680" y="41907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00400" y="441936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03680" y="464832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6600" y="3352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60480" y="1905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6760" y="2438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50800" y="3962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08200" y="54864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396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4267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Study – Service Bran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620120" y="3657600"/>
          <a:ext cx="7221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657600"/>
                    <a:ext cx="722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657600" y="3733920"/>
          <a:ext cx="93672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733920"/>
                    <a:ext cx="936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666880" y="5334120"/>
          <a:ext cx="7653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33412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523880" y="4343400"/>
          <a:ext cx="76536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34340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676520" y="2819520"/>
          <a:ext cx="76500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765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895480" y="1828800"/>
          <a:ext cx="76536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1828800"/>
                    <a:ext cx="765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6629400" y="3505320"/>
          <a:ext cx="801720" cy="107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505320"/>
                    <a:ext cx="8017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73152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25909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34290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209680" y="41907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00400" y="441936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03680" y="464832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6600" y="3352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60480" y="1905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26760" y="2438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50800" y="3962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08200" y="54864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257800" y="3581280"/>
          <a:ext cx="801720" cy="107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57800" y="3581280"/>
                    <a:ext cx="8017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4954680" y="47242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436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Oriented Middle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Message Oriented Middlewar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exchanging service between two or more compon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synchronous, reliable, scalable, and group communication abil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really for real-time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I: JMS, IBM MQse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: iPlanet MQ, IBM MQSeries, Microsoft MSMQ, SonicMQ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Oriented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ly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between appl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t functional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76520" y="3200400"/>
          <a:ext cx="541008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541008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Feat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er does not need to wait until receiver actually receives the mess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email, receiver does not have to be available during sen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message has been sent to the messaging server, it is guaranteed to reach recei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c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-to-Point  -- “Message Queu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er (put) / receiver (get) / message queue (mailbox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r-Consumer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67467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PC Middle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action Processing Middle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Oriented Middle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-Subscri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er / subscriber / message top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7467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blish-Subscribe Mechan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6674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va Message Service (JM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ic vendor-independent messaging AP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of J2EE archite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both point-to-point and publish-subscribe mod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ll platforms that Java suppor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for Java language on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MS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97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MS API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52520" y="2600280"/>
            <a:ext cx="46389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BM MQS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MOM in the mar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 35 platforms: Windows, Unix, Linux, OS/400, Mainfram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languages: Java, C, C++, PL/I, VB. Cobol, RPG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called “Websphere MQ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Study – Retail St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295280" y="3352680"/>
          <a:ext cx="3812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3812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657600" y="1676520"/>
          <a:ext cx="380880" cy="79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3808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124080" y="5181480"/>
          <a:ext cx="381240" cy="7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181480"/>
                    <a:ext cx="3812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6553080" y="4038480"/>
          <a:ext cx="801720" cy="107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4038480"/>
                    <a:ext cx="8017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117320" y="19051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16920" y="41911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45720" y="60199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429000" y="3657600"/>
          <a:ext cx="175248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657600"/>
                    <a:ext cx="17524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6169320" y="51814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32440" y="2971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64832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00200" y="388620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276720" y="4190760"/>
            <a:ext cx="68580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2438280"/>
            <a:ext cx="22860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4038480"/>
            <a:ext cx="16002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4800600" y="4114440"/>
            <a:ext cx="175248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428640" y="4191120"/>
            <a:ext cx="68580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962160" y="2437920"/>
            <a:ext cx="228600" cy="121932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30960" y="35053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ck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79440" y="44956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w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46240" y="2133720"/>
            <a:ext cx="287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date stock from s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nd new prices to s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ing Services have become very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ing used for B-2-B integ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being used to interconnect components in the enterprise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prise Application Integration (EA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 reliable delivery mechanism for Web Ser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prise Service B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erprise Service B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096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52640" y="2046240"/>
            <a:ext cx="4033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ing the applications and servic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ing data based on content, translating data from one form to anot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ng into legac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ing it all together with a reliable backbone based on JMS messag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: TIBCO and Vitr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Britto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Architecture and Middle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ddison Wesley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Sandland and R. Israni, “An Architecture Analysis of Message Oriented Middleware”, CS-427 project, UIUC, 2001,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</a:rPr>
              <a:t>http://wiki.cs.uiuc.edu/cs427/Messaging+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Raj, “Java Message Service (JMS)”,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my.execpc.com/~gopalan/jms/jm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MS Tutorial,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</a:rPr>
              <a:t>http://java.sun.com/products/jms/tutorial/1_3_1-fcs/doc/jms_tutorialTOC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Middlewar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dging a gap between components for building distributed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engines, protocols, API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47920" y="3581280"/>
            <a:ext cx="5486400" cy="1067040"/>
            <a:chOff x="1447920" y="3581280"/>
            <a:chExt cx="5486400" cy="1067040"/>
          </a:xfrm>
        </p:grpSpPr>
        <p:sp>
          <p:nvSpPr>
            <p:cNvPr id="154" name=""/>
            <p:cNvSpPr/>
            <p:nvPr/>
          </p:nvSpPr>
          <p:spPr>
            <a:xfrm>
              <a:off x="1447920" y="3581280"/>
              <a:ext cx="1371600" cy="9907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62720" y="3581280"/>
              <a:ext cx="1371600" cy="9907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5320" y="3581280"/>
              <a:ext cx="1371600" cy="106704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1952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Middleware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a lot differences between two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platfor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spee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behavi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want to “re-invent the whe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 messag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s of Middlewa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Procedure Call (RP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program to call other programs remote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ransparency (as if all programs are in the same comput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I: Java RMI, Microsoft DCOM, Sun RP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s of Middlewa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action process monitoring (TP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nects clients to databas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ransaction capability and scal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: EJB, BEA Tuxedo, IBM CICS-TXSeries, Microsoft M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Tuxedo connects VB clients to SQL data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18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Middle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2819520"/>
            <a:ext cx="15242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819520" y="2819160"/>
            <a:ext cx="457200" cy="10666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2819520"/>
            <a:ext cx="1523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5791320" y="2819160"/>
            <a:ext cx="457200" cy="10666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l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9040" y="38862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5240" y="3886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276720" y="39621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181480" y="396216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581280" y="4419720"/>
            <a:ext cx="4868640" cy="1632960"/>
            <a:chOff x="3581280" y="4419720"/>
            <a:chExt cx="4868640" cy="1632960"/>
          </a:xfrm>
        </p:grpSpPr>
        <p:grpSp>
          <p:nvGrpSpPr>
            <p:cNvPr id="176" name=""/>
            <p:cNvGrpSpPr/>
            <p:nvPr/>
          </p:nvGrpSpPr>
          <p:grpSpPr>
            <a:xfrm>
              <a:off x="3581280" y="4419720"/>
              <a:ext cx="2133720" cy="1632960"/>
              <a:chOff x="3581280" y="4419720"/>
              <a:chExt cx="2133720" cy="1632960"/>
            </a:xfrm>
          </p:grpSpPr>
          <p:sp>
            <p:nvSpPr>
              <p:cNvPr id="177" name=""/>
              <p:cNvSpPr/>
              <p:nvPr/>
            </p:nvSpPr>
            <p:spPr>
              <a:xfrm flipH="1" rot="10800000">
                <a:off x="4191120" y="4419720"/>
                <a:ext cx="914400" cy="914400"/>
              </a:xfrm>
              <a:prstGeom prst="foldedCorner">
                <a:avLst>
                  <a:gd name="adj" fmla="val 25171"/>
                </a:avLst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81280" y="541008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face Defini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nguage (ID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259240" y="4724280"/>
              <a:ext cx="319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C(int X, string Y, pointer 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urn flo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4960" y="2286000"/>
            <a:ext cx="1959120" cy="838080"/>
            <a:chOff x="534960" y="2286000"/>
            <a:chExt cx="1959120" cy="838080"/>
          </a:xfrm>
        </p:grpSpPr>
        <p:sp>
          <p:nvSpPr>
            <p:cNvPr id="181" name=""/>
            <p:cNvSpPr/>
            <p:nvPr/>
          </p:nvSpPr>
          <p:spPr>
            <a:xfrm>
              <a:off x="534960" y="22860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all ABC(X, Y, 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920" y="2666880"/>
              <a:ext cx="6858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76720" y="2819520"/>
            <a:ext cx="2514600" cy="380880"/>
            <a:chOff x="3276720" y="2819520"/>
            <a:chExt cx="2514600" cy="380880"/>
          </a:xfrm>
        </p:grpSpPr>
        <p:sp>
          <p:nvSpPr>
            <p:cNvPr id="184" name=""/>
            <p:cNvSpPr/>
            <p:nvPr/>
          </p:nvSpPr>
          <p:spPr>
            <a:xfrm>
              <a:off x="3276720" y="32004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58800" y="2819520"/>
              <a:ext cx="23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1000110011100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782400" y="2286000"/>
            <a:ext cx="1503720" cy="914400"/>
            <a:chOff x="6782400" y="2286000"/>
            <a:chExt cx="1503720" cy="914400"/>
          </a:xfrm>
        </p:grpSpPr>
        <p:sp>
          <p:nvSpPr>
            <p:cNvPr id="187" name=""/>
            <p:cNvSpPr/>
            <p:nvPr/>
          </p:nvSpPr>
          <p:spPr>
            <a:xfrm>
              <a:off x="6782400" y="2286000"/>
              <a:ext cx="150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BC(X, Y, 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857640" y="2743200"/>
              <a:ext cx="6858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276720" y="3505320"/>
            <a:ext cx="2514600" cy="368280"/>
            <a:chOff x="3276720" y="3505320"/>
            <a:chExt cx="2514600" cy="368280"/>
          </a:xfrm>
        </p:grpSpPr>
        <p:sp>
          <p:nvSpPr>
            <p:cNvPr id="190" name=""/>
            <p:cNvSpPr/>
            <p:nvPr/>
          </p:nvSpPr>
          <p:spPr>
            <a:xfrm>
              <a:off x="3276720" y="35053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52680" y="35053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100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action Process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unit of work that updates a database (and other resourc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have ACID proper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mic execution of multiple ope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transfering money between two accou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draw from the source accou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posit to the destined accou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st execute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all-or-nothing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18:45:43Z</dcterms:created>
  <dc:creator>NNP</dc:creator>
  <dc:description/>
  <dc:language>en-US</dc:language>
  <cp:lastModifiedBy>Natawut Nupairoj</cp:lastModifiedBy>
  <dcterms:modified xsi:type="dcterms:W3CDTF">2003-08-03T04:02:43Z</dcterms:modified>
  <cp:revision>39</cp:revision>
  <dc:subject/>
  <dc:title>Enterprise Java Bean</dc:title>
</cp:coreProperties>
</file>