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jpeg" ContentType="image/jpeg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C2CB61-D950-40D3-BE32-6E4B5E4F7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59BA20-61EE-450C-A4FD-194C7D968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764B1A-7186-4F74-8BDD-9404D888A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ED0C56-0D01-43C4-BCA5-358AAE624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C94B2C-5D4A-49FB-957C-37299FDBB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B1C4DE-EB51-4C84-AFB6-47C57E154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CEBEB7-4FDF-4F1B-AB31-B1D62661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6DE9DD-8C7C-498F-B191-5264DE4E3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8443D1-9013-46F8-82A7-5D3947E27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51832E-9F0D-4F93-B88D-42646FCE8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598CF2-85C3-4AC2-BC6C-E5D722466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1AD5DF-B866-4C75-84E2-7A2F741DB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0066"/>
                </a:solidFill>
                <a:latin typeface="Times New Roman"/>
              </a:rPr>
              <a:t>Modern Base Infrastructure (Part 1)</a:t>
            </a:r>
            <a:r>
              <a:rPr b="0" lang="en-US" sz="1200" spc="-1" strike="noStrike">
                <a:solidFill>
                  <a:srgbClr val="330066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330066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330066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330066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330066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330066"/>
                </a:solidFill>
                <a:latin typeface="Times New Roman"/>
              </a:rPr>
              <a:t>Natawut Nupairoj, Ph.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5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537B8-C8F0-40F6-B1C2-250F4D185EA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8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4.wmf"/><Relationship Id="rId12" Type="http://schemas.openxmlformats.org/officeDocument/2006/relationships/image" Target="../media/image5.wmf"/><Relationship Id="rId13" Type="http://schemas.openxmlformats.org/officeDocument/2006/relationships/image" Target="../media/image4.wmf"/><Relationship Id="rId14" Type="http://schemas.openxmlformats.org/officeDocument/2006/relationships/image" Target="../media/image5.wmf"/><Relationship Id="rId15" Type="http://schemas.openxmlformats.org/officeDocument/2006/relationships/image" Target="../media/image4.wmf"/><Relationship Id="rId16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hyperlink" Target="http://www.javaworld.com/javaworld/jw-04-1999/jw-04-xml.html" TargetMode="External"/><Relationship Id="rId2" Type="http://schemas.openxmlformats.org/officeDocument/2006/relationships/hyperlink" Target="http://www.w3schools.com/xml/default.asp" TargetMode="External"/><Relationship Id="rId3" Type="http://schemas.openxmlformats.org/officeDocument/2006/relationships/hyperlink" Target="http://www.corewebprogramming.com/" TargetMode="Externa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Modern Base Infrastructure</a:t>
            </a:r>
            <a:br>
              <a:rPr sz="3600"/>
            </a:b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(Part 1)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110684 Information System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awut Nupairoj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artment of Computer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lalongkorn Un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3520" y="6172200"/>
            <a:ext cx="809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rt of this material are copyright 1996-2002 by J.F Kurose and K.W. Ross, All Rights Reser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HTTP response status code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33160" y="2314440"/>
            <a:ext cx="793404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200 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 succeeded, requested object later in this mes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301 Moved Permanen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ed object moved, new location specified later in this message (Location: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400 Bad Requ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 message not understood by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404 Not F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ed document not found on this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505 HTTP Version Not Suppo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23800" y="1324080"/>
            <a:ext cx="768672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8000"/>
          </a:bodyPr>
          <a:p>
            <a:pPr marL="164520" indent="-1645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n first line in server-&gt;client response messag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64520" indent="-1645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 few sample cod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tateless Protoco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TTP is a stateless 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rrent request has nothing related to previous or future reques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nefit of being statel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is for simplicity of web server due to the nature of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connect-request-reply-disconnec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yc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quire less resources to support lots of us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ot all users are active at the same tim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w can we maintain state for HTTP 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y do we need to maintain state 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rmal transactions require user to work with more than one p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ogin + view catalog + choose products + enter payment information + confirm + logout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intaining states for HTT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RL Rewrit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oki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URL Rewrit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76320" y="76320"/>
            <a:ext cx="8931240" cy="643716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256320" y="1143000"/>
            <a:ext cx="8637480" cy="368280"/>
          </a:xfrm>
          <a:prstGeom prst="rect">
            <a:avLst/>
          </a:prstGeom>
          <a:solidFill>
            <a:srgbClr val="fefec6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ttp://www.amazon.com/exec/obidos/subst/home/home.html/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104-2360493-17519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38640" y="4267080"/>
            <a:ext cx="8247600" cy="368280"/>
          </a:xfrm>
          <a:prstGeom prst="rect">
            <a:avLst/>
          </a:prstGeom>
          <a:solidFill>
            <a:srgbClr val="fefec6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ttp://www.amazon.com/gp/browse.html/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104-2360493-175194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?node=10365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52280" y="4800600"/>
            <a:ext cx="1752840" cy="457200"/>
          </a:xfrm>
          <a:prstGeom prst="rect">
            <a:avLst/>
          </a:prstGeom>
          <a:noFill/>
          <a:ln w="381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04920" y="838080"/>
            <a:ext cx="4343400" cy="304920"/>
          </a:xfrm>
          <a:prstGeom prst="rect">
            <a:avLst/>
          </a:prstGeom>
          <a:noFill/>
          <a:ln w="381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okies: keeping “state”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4033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y major Web sites use cook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Four component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) cookie header line in the HTTP response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 cookie header line in HTTP request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) cookie file kept on user’s host and managed by user’s brow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) back-end database at Web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52640" y="1719360"/>
            <a:ext cx="4033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san access Internet always from same P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e visits a specific e-commerce site for first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initial HTTP requests arrives at site, site creates a unique ID and creates an entry in backend database for 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Cookies: keeping “state” (cont.)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2179080" y="1424160"/>
            <a:ext cx="4920840" cy="4830120"/>
            <a:chOff x="2179080" y="1424160"/>
            <a:chExt cx="4920840" cy="4830120"/>
          </a:xfrm>
        </p:grpSpPr>
        <p:sp>
          <p:nvSpPr>
            <p:cNvPr id="488" name=""/>
            <p:cNvSpPr/>
            <p:nvPr/>
          </p:nvSpPr>
          <p:spPr>
            <a:xfrm>
              <a:off x="2557080" y="2008080"/>
              <a:ext cx="3305160" cy="380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179080" y="1424160"/>
              <a:ext cx="95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cli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623920" y="1444320"/>
              <a:ext cx="108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serv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795400" y="2008080"/>
              <a:ext cx="2685960" cy="313920"/>
            </a:xfrm>
            <a:prstGeom prst="rect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801520" y="1992240"/>
              <a:ext cx="26812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usual http request ms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2585520" y="2455560"/>
              <a:ext cx="330516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919240" y="2428560"/>
              <a:ext cx="2504880" cy="556920"/>
            </a:xfrm>
            <a:prstGeom prst="rect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839680" y="2392200"/>
              <a:ext cx="2643120" cy="673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usual http response 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Set-cookie: 1678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566800" y="3598560"/>
              <a:ext cx="330516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7" name=""/>
            <p:cNvGrpSpPr/>
            <p:nvPr/>
          </p:nvGrpSpPr>
          <p:grpSpPr>
            <a:xfrm>
              <a:off x="2830320" y="3402000"/>
              <a:ext cx="2681280" cy="673200"/>
              <a:chOff x="2830320" y="3402000"/>
              <a:chExt cx="2681280" cy="673200"/>
            </a:xfrm>
          </p:grpSpPr>
          <p:sp>
            <p:nvSpPr>
              <p:cNvPr id="498" name=""/>
              <p:cNvSpPr/>
              <p:nvPr/>
            </p:nvSpPr>
            <p:spPr>
              <a:xfrm>
                <a:off x="2928600" y="3447720"/>
                <a:ext cx="2505240" cy="556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2830320" y="3402000"/>
                <a:ext cx="2681280" cy="673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usual http request ms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urier New"/>
                  </a:rPr>
                  <a:t>cookie: 1678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0" name=""/>
            <p:cNvSpPr/>
            <p:nvPr/>
          </p:nvSpPr>
          <p:spPr>
            <a:xfrm flipH="1">
              <a:off x="2556720" y="4084560"/>
              <a:ext cx="3305160" cy="380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1" name=""/>
            <p:cNvGrpSpPr/>
            <p:nvPr/>
          </p:nvGrpSpPr>
          <p:grpSpPr>
            <a:xfrm>
              <a:off x="2773080" y="4116240"/>
              <a:ext cx="2766960" cy="642600"/>
              <a:chOff x="2773080" y="4116240"/>
              <a:chExt cx="2766960" cy="642600"/>
            </a:xfrm>
          </p:grpSpPr>
          <p:sp>
            <p:nvSpPr>
              <p:cNvPr id="502" name=""/>
              <p:cNvSpPr/>
              <p:nvPr/>
            </p:nvSpPr>
            <p:spPr>
              <a:xfrm>
                <a:off x="2795400" y="4131720"/>
                <a:ext cx="2685960" cy="313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773080" y="4116240"/>
                <a:ext cx="2766960" cy="642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usual http response ms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4" name=""/>
            <p:cNvSpPr/>
            <p:nvPr/>
          </p:nvSpPr>
          <p:spPr>
            <a:xfrm>
              <a:off x="2538000" y="5084640"/>
              <a:ext cx="3305160" cy="380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5" name=""/>
            <p:cNvGrpSpPr/>
            <p:nvPr/>
          </p:nvGrpSpPr>
          <p:grpSpPr>
            <a:xfrm>
              <a:off x="2811240" y="4906800"/>
              <a:ext cx="2681280" cy="673200"/>
              <a:chOff x="2811240" y="4906800"/>
              <a:chExt cx="2681280" cy="673200"/>
            </a:xfrm>
          </p:grpSpPr>
          <p:sp>
            <p:nvSpPr>
              <p:cNvPr id="506" name=""/>
              <p:cNvSpPr/>
              <p:nvPr/>
            </p:nvSpPr>
            <p:spPr>
              <a:xfrm>
                <a:off x="2909520" y="4952880"/>
                <a:ext cx="2505240" cy="556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2811240" y="4906800"/>
                <a:ext cx="2681280" cy="673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usual http request ms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urier New"/>
                  </a:rPr>
                  <a:t>cookie: 1678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8" name=""/>
            <p:cNvSpPr/>
            <p:nvPr/>
          </p:nvSpPr>
          <p:spPr>
            <a:xfrm flipH="1">
              <a:off x="2566440" y="5580000"/>
              <a:ext cx="3305160" cy="380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9" name=""/>
            <p:cNvGrpSpPr/>
            <p:nvPr/>
          </p:nvGrpSpPr>
          <p:grpSpPr>
            <a:xfrm>
              <a:off x="2782800" y="5611680"/>
              <a:ext cx="2766960" cy="642600"/>
              <a:chOff x="2782800" y="5611680"/>
              <a:chExt cx="2766960" cy="642600"/>
            </a:xfrm>
          </p:grpSpPr>
          <p:sp>
            <p:nvSpPr>
              <p:cNvPr id="510" name=""/>
              <p:cNvSpPr/>
              <p:nvPr/>
            </p:nvSpPr>
            <p:spPr>
              <a:xfrm>
                <a:off x="2805120" y="5627160"/>
                <a:ext cx="2685960" cy="313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782800" y="5611680"/>
                <a:ext cx="2766960" cy="642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usual http response ms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2" name=""/>
            <p:cNvSpPr/>
            <p:nvPr/>
          </p:nvSpPr>
          <p:spPr>
            <a:xfrm>
              <a:off x="5939640" y="3558960"/>
              <a:ext cx="10663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9999"/>
                  </a:solidFill>
                  <a:latin typeface="Comic Sans MS"/>
                </a:rPr>
                <a:t>cookie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9999"/>
                  </a:solidFill>
                  <a:latin typeface="Comic Sans MS"/>
                </a:rPr>
                <a:t>specif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9999"/>
                  </a:solidFill>
                  <a:latin typeface="Comic Sans MS"/>
                </a:rPr>
                <a:t>a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942160" y="5035320"/>
              <a:ext cx="11577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9999"/>
                  </a:solidFill>
                  <a:latin typeface="Comic Sans MS"/>
                </a:rPr>
                <a:t>cookie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9999"/>
                  </a:solidFill>
                  <a:latin typeface="Comic Sans MS"/>
                </a:rPr>
                <a:t>spectif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9999"/>
                  </a:solidFill>
                  <a:latin typeface="Comic Sans MS"/>
                </a:rPr>
                <a:t>a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5636160" y="2063880"/>
            <a:ext cx="1770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99"/>
                </a:solidFill>
                <a:latin typeface="Comic Sans MS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99"/>
                </a:solidFill>
                <a:latin typeface="Comic Sans MS"/>
              </a:rPr>
              <a:t>creates 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99"/>
                </a:solidFill>
                <a:latin typeface="Comic Sans MS"/>
              </a:rPr>
              <a:t>1678 for u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8388360" y="3319560"/>
            <a:ext cx="293760" cy="395280"/>
            <a:chOff x="8388360" y="3319560"/>
            <a:chExt cx="293760" cy="395280"/>
          </a:xfrm>
        </p:grpSpPr>
        <p:sp>
          <p:nvSpPr>
            <p:cNvPr id="516" name=""/>
            <p:cNvSpPr/>
            <p:nvPr/>
          </p:nvSpPr>
          <p:spPr>
            <a:xfrm>
              <a:off x="8388360" y="3319560"/>
              <a:ext cx="280800" cy="10980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8394480" y="3605400"/>
              <a:ext cx="281160" cy="10944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8682120" y="33562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8388360" y="3381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0" name=""/>
          <p:cNvSpPr/>
          <p:nvPr/>
        </p:nvSpPr>
        <p:spPr>
          <a:xfrm>
            <a:off x="7485120" y="2685960"/>
            <a:ext cx="86688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rot="2224800">
            <a:off x="7273800" y="2388960"/>
            <a:ext cx="158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try in backe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7107120" y="3614760"/>
            <a:ext cx="1098720" cy="426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rot="20455800">
            <a:off x="7408440" y="377208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7229520" y="3870000"/>
            <a:ext cx="1195200" cy="1282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rot="18871200">
            <a:off x="7670880" y="446112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220680" y="3309840"/>
            <a:ext cx="1787400" cy="933120"/>
            <a:chOff x="220680" y="3309840"/>
            <a:chExt cx="1787400" cy="933120"/>
          </a:xfrm>
        </p:grpSpPr>
        <p:sp>
          <p:nvSpPr>
            <p:cNvPr id="527" name=""/>
            <p:cNvSpPr/>
            <p:nvPr/>
          </p:nvSpPr>
          <p:spPr>
            <a:xfrm>
              <a:off x="220680" y="3321000"/>
              <a:ext cx="1787400" cy="914400"/>
            </a:xfrm>
            <a:prstGeom prst="parallelogram">
              <a:avLst>
                <a:gd name="adj" fmla="val 48868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8" name=""/>
            <p:cNvGrpSpPr/>
            <p:nvPr/>
          </p:nvGrpSpPr>
          <p:grpSpPr>
            <a:xfrm>
              <a:off x="399240" y="3309840"/>
              <a:ext cx="1452960" cy="933120"/>
              <a:chOff x="399240" y="3309840"/>
              <a:chExt cx="1452960" cy="933120"/>
            </a:xfrm>
          </p:grpSpPr>
          <p:sp>
            <p:nvSpPr>
              <p:cNvPr id="529" name=""/>
              <p:cNvSpPr/>
              <p:nvPr/>
            </p:nvSpPr>
            <p:spPr>
              <a:xfrm>
                <a:off x="741960" y="3309840"/>
                <a:ext cx="1110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Cookie fil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399240" y="3662280"/>
                <a:ext cx="13266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amazon: 167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ebay: 873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1" name=""/>
          <p:cNvSpPr/>
          <p:nvPr/>
        </p:nvSpPr>
        <p:spPr>
          <a:xfrm>
            <a:off x="287280" y="2057400"/>
            <a:ext cx="1787760" cy="914400"/>
          </a:xfrm>
          <a:prstGeom prst="parallelogram">
            <a:avLst>
              <a:gd name="adj" fmla="val 4887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464760" y="2033640"/>
            <a:ext cx="1453680" cy="933120"/>
            <a:chOff x="464760" y="2033640"/>
            <a:chExt cx="1453680" cy="933120"/>
          </a:xfrm>
        </p:grpSpPr>
        <p:sp>
          <p:nvSpPr>
            <p:cNvPr id="533" name=""/>
            <p:cNvSpPr/>
            <p:nvPr/>
          </p:nvSpPr>
          <p:spPr>
            <a:xfrm>
              <a:off x="808200" y="2033640"/>
              <a:ext cx="1110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okie fi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64760" y="2386080"/>
              <a:ext cx="1080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bay: 873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" name=""/>
          <p:cNvGrpSpPr/>
          <p:nvPr/>
        </p:nvGrpSpPr>
        <p:grpSpPr>
          <a:xfrm>
            <a:off x="262080" y="4989600"/>
            <a:ext cx="1787400" cy="933120"/>
            <a:chOff x="262080" y="4989600"/>
            <a:chExt cx="1787400" cy="933120"/>
          </a:xfrm>
        </p:grpSpPr>
        <p:sp>
          <p:nvSpPr>
            <p:cNvPr id="536" name=""/>
            <p:cNvSpPr/>
            <p:nvPr/>
          </p:nvSpPr>
          <p:spPr>
            <a:xfrm>
              <a:off x="262080" y="5000760"/>
              <a:ext cx="1787400" cy="914400"/>
            </a:xfrm>
            <a:prstGeom prst="parallelogram">
              <a:avLst>
                <a:gd name="adj" fmla="val 48868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7" name=""/>
            <p:cNvGrpSpPr/>
            <p:nvPr/>
          </p:nvGrpSpPr>
          <p:grpSpPr>
            <a:xfrm>
              <a:off x="440640" y="4989600"/>
              <a:ext cx="1452960" cy="933120"/>
              <a:chOff x="440640" y="4989600"/>
              <a:chExt cx="1452960" cy="933120"/>
            </a:xfrm>
          </p:grpSpPr>
          <p:sp>
            <p:nvSpPr>
              <p:cNvPr id="538" name=""/>
              <p:cNvSpPr/>
              <p:nvPr/>
            </p:nvSpPr>
            <p:spPr>
              <a:xfrm>
                <a:off x="783360" y="4989600"/>
                <a:ext cx="1110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Cookie fil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40640" y="5342040"/>
                <a:ext cx="13266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amazon: 167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ebay: 873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0" name=""/>
          <p:cNvSpPr/>
          <p:nvPr/>
        </p:nvSpPr>
        <p:spPr>
          <a:xfrm>
            <a:off x="191520" y="4484520"/>
            <a:ext cx="182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ne week lat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okies (continued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09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What cookies can br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uthor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opping ca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 session state (Web e-ma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911840" y="1752480"/>
            <a:ext cx="3809880" cy="4307040"/>
          </a:xfrm>
          <a:prstGeom prst="rect">
            <a:avLst/>
          </a:prstGeom>
          <a:noFill/>
          <a:ln w="1908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Cookies and privac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ookies permit sites to learn a lot about yo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you may supply name and e-mail to si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earch engines use  redirection &amp; cookies to learn yet mo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dvertising  companies  obtain info across si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7537320" y="1523880"/>
            <a:ext cx="8118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99"/>
                </a:solidFill>
                <a:latin typeface="Comic Sans MS"/>
              </a:rPr>
              <a:t>a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tatic vs. Dynamic Pag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b-based applications consist of 2 page typ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pages: HTML, picture, audio, text,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pages: result of search pages, form submission,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serve a static p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b server grabs a static page from a file in the serv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w to Serve a Dynamic Pag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mon Gateway Interface (CGI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ternal extension (program) for web serv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d mostly to connect to databas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rly day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 and perl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unter, guest book, graph generator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ut-of-process model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5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erving a Dynamic Pag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550" name=""/>
          <p:cNvGraphicFramePr/>
          <p:nvPr/>
        </p:nvGraphicFramePr>
        <p:xfrm>
          <a:off x="6993000" y="4905360"/>
          <a:ext cx="968400" cy="9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93000" y="4905360"/>
                    <a:ext cx="968400" cy="9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2" name=""/>
          <p:cNvSpPr/>
          <p:nvPr/>
        </p:nvSpPr>
        <p:spPr>
          <a:xfrm>
            <a:off x="3124080" y="2819520"/>
            <a:ext cx="1524240" cy="152388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553080" y="2819520"/>
            <a:ext cx="1524240" cy="152388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648320" y="3429000"/>
            <a:ext cx="190476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647960" y="3809880"/>
            <a:ext cx="190476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4576680" y="2971800"/>
            <a:ext cx="208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earch.jsp - pa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032080" y="3886200"/>
            <a:ext cx="127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TML p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7391520" y="4343400"/>
            <a:ext cx="0" cy="6858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7238880" y="4343040"/>
            <a:ext cx="0" cy="6858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860400" y="2862360"/>
          <a:ext cx="952560" cy="109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60400" y="2862360"/>
                    <a:ext cx="952560" cy="10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2" name=""/>
          <p:cNvSpPr/>
          <p:nvPr/>
        </p:nvSpPr>
        <p:spPr>
          <a:xfrm>
            <a:off x="1981080" y="3429000"/>
            <a:ext cx="114300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 flipH="1">
            <a:off x="1980720" y="3809880"/>
            <a:ext cx="114300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983600" y="3048120"/>
            <a:ext cx="9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983240" y="3886200"/>
            <a:ext cx="114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spo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3200400" y="3809880"/>
            <a:ext cx="1447920" cy="0"/>
          </a:xfrm>
          <a:prstGeom prst="line">
            <a:avLst/>
          </a:prstGeom>
          <a:ln w="38160">
            <a:solidFill>
              <a:srgbClr val="ff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7696080" y="1752480"/>
            <a:ext cx="685800" cy="762120"/>
          </a:xfrm>
          <a:prstGeom prst="foldedCorner">
            <a:avLst>
              <a:gd name="adj" fmla="val 12500"/>
            </a:avLst>
          </a:prstGeom>
          <a:solidFill>
            <a:srgbClr val="fef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arch.js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7772040" y="2590920"/>
            <a:ext cx="304920" cy="3808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utlin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rt-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twork and Protocol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gration: Data Forma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erving a Dynamic Page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GI Mode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38095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fter receiving a request, web server starts a new external program to create a dynamic pa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s – very simp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 - low perform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t run a new program every time it is being invok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752480" y="1981080"/>
            <a:ext cx="1524240" cy="1524240"/>
          </a:xfrm>
          <a:prstGeom prst="ellipse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181480" y="1981080"/>
            <a:ext cx="1524240" cy="152424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G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(Extern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276720" y="2590920"/>
            <a:ext cx="190476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>
            <a:off x="3276360" y="2971800"/>
            <a:ext cx="190476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280320" y="2209680"/>
            <a:ext cx="191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un + Parame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660480" y="2971800"/>
            <a:ext cx="127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TML p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6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erving a Dynamic Page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-Process Mode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41148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-process model – include interpreter inside web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_per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s – fa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and chunky web server progr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dynamic page has a problem, so does the ser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2362320" y="1447920"/>
            <a:ext cx="2743200" cy="2590560"/>
          </a:xfrm>
          <a:prstGeom prst="ellipse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e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191120" y="2362320"/>
            <a:ext cx="914400" cy="9144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pr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105520" y="2819520"/>
            <a:ext cx="609480" cy="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715000" y="2438280"/>
            <a:ext cx="685800" cy="762120"/>
          </a:xfrm>
          <a:prstGeom prst="foldedCorner">
            <a:avLst>
              <a:gd name="adj" fmla="val 12500"/>
            </a:avLst>
          </a:prstGeom>
          <a:solidFill>
            <a:srgbClr val="fef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ri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5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5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2895480" y="2438280"/>
            <a:ext cx="2514600" cy="685800"/>
          </a:xfrm>
          <a:prstGeom prst="rect">
            <a:avLst/>
          </a:prstGeom>
          <a:solidFill>
            <a:srgbClr val="ffccff"/>
          </a:solidFill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erving a Dynamic Page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lug-in Mode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38095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-in model – separate process (but already starte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rnal AppServer through sock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s – combination of both model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 - complicat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371600" y="1981080"/>
            <a:ext cx="1523880" cy="1524240"/>
          </a:xfrm>
          <a:prstGeom prst="ellipse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029200" y="1981080"/>
            <a:ext cx="1523880" cy="15242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124080" y="2743200"/>
            <a:ext cx="19051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3124080" y="2819520"/>
            <a:ext cx="19051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415680" y="2422440"/>
            <a:ext cx="128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arame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508200" y="2819520"/>
            <a:ext cx="127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TML p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rot="16200000">
            <a:off x="2400120" y="2552760"/>
            <a:ext cx="106704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lug-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6553080" y="2819520"/>
            <a:ext cx="609840" cy="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7162920" y="2438280"/>
            <a:ext cx="685800" cy="762120"/>
          </a:xfrm>
          <a:prstGeom prst="foldedCorner">
            <a:avLst>
              <a:gd name="adj" fmla="val 12500"/>
            </a:avLst>
          </a:prstGeom>
          <a:solidFill>
            <a:srgbClr val="fef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ri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8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457200" y="2362320"/>
            <a:ext cx="821844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oblem with Data Exchang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companies exchange docu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rmal mail (snail mail), Fax, Emai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C department store sends an order form to XYZ cloth manufacture via fax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lems 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ing manuall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prietary forma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ata Exchange Forma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mple Forma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SV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xed-column forma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prietary Forma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inary fi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pplication-dependent forma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ndard forma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D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ML / ebXM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tovepipe Fash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2362320" y="1752480"/>
            <a:ext cx="4377960" cy="4005360"/>
            <a:chOff x="2362320" y="1752480"/>
            <a:chExt cx="4377960" cy="4005360"/>
          </a:xfrm>
        </p:grpSpPr>
        <p:sp>
          <p:nvSpPr>
            <p:cNvPr id="602" name=""/>
            <p:cNvSpPr/>
            <p:nvPr/>
          </p:nvSpPr>
          <p:spPr>
            <a:xfrm>
              <a:off x="6099840" y="2713680"/>
              <a:ext cx="640440" cy="6408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046200" y="4262400"/>
              <a:ext cx="640440" cy="6408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191920" y="5117040"/>
              <a:ext cx="640440" cy="64080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323160" y="5117040"/>
              <a:ext cx="640440" cy="640800"/>
            </a:xfrm>
            <a:prstGeom prst="ellipse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362320" y="4155480"/>
              <a:ext cx="640440" cy="640800"/>
            </a:xfrm>
            <a:prstGeom prst="ellipse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415600" y="2660040"/>
              <a:ext cx="640440" cy="64080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430080" y="1752480"/>
              <a:ext cx="640440" cy="6408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138640" y="1752480"/>
              <a:ext cx="640440" cy="64080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0" name=""/>
            <p:cNvGrpSpPr/>
            <p:nvPr/>
          </p:nvGrpSpPr>
          <p:grpSpPr>
            <a:xfrm>
              <a:off x="2949120" y="2339640"/>
              <a:ext cx="3150360" cy="2830680"/>
              <a:chOff x="2949120" y="2339640"/>
              <a:chExt cx="3150360" cy="2830680"/>
            </a:xfrm>
          </p:grpSpPr>
          <p:sp>
            <p:nvSpPr>
              <p:cNvPr id="611" name=""/>
              <p:cNvSpPr/>
              <p:nvPr/>
            </p:nvSpPr>
            <p:spPr>
              <a:xfrm>
                <a:off x="3857040" y="2339640"/>
                <a:ext cx="1494720" cy="2830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H="1">
                <a:off x="3696840" y="2339640"/>
                <a:ext cx="159840" cy="277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3857040" y="2339640"/>
                <a:ext cx="2242440" cy="208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3857040" y="2339640"/>
                <a:ext cx="2242440" cy="747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H="1">
                <a:off x="2949120" y="2339640"/>
                <a:ext cx="907560" cy="1976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3002760" y="3140640"/>
                <a:ext cx="694080" cy="1976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flipV="1">
                <a:off x="3696840" y="2392920"/>
                <a:ext cx="1654920" cy="272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V="1">
                <a:off x="3696840" y="3087000"/>
                <a:ext cx="2402640" cy="202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V="1">
                <a:off x="3696840" y="4422240"/>
                <a:ext cx="2402640" cy="694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flipV="1">
                <a:off x="5352120" y="2392920"/>
                <a:ext cx="0" cy="277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H="1" flipV="1">
                <a:off x="3002400" y="3140280"/>
                <a:ext cx="2349000" cy="202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V="1">
                <a:off x="5352120" y="3087000"/>
                <a:ext cx="747360" cy="208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H="1" flipV="1">
                <a:off x="2949480" y="4315320"/>
                <a:ext cx="2402640" cy="85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H="1" flipV="1">
                <a:off x="2949120" y="4315680"/>
                <a:ext cx="3150360" cy="10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H="1" flipV="1">
                <a:off x="3002760" y="3140640"/>
                <a:ext cx="3096720" cy="128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H="1" flipV="1">
                <a:off x="5352120" y="2392560"/>
                <a:ext cx="747360" cy="202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H="1">
                <a:off x="2949120" y="3087360"/>
                <a:ext cx="3150360" cy="122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flipH="1">
                <a:off x="3002760" y="3087360"/>
                <a:ext cx="3096720" cy="5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H="1">
                <a:off x="2949480" y="2392920"/>
                <a:ext cx="2402640" cy="192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flipH="1">
                <a:off x="3002400" y="2392920"/>
                <a:ext cx="2349000" cy="747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Using Standard Data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3809880" y="2133720"/>
            <a:ext cx="60984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 flipH="1">
            <a:off x="4800240" y="2133720"/>
            <a:ext cx="60948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 flipH="1">
            <a:off x="5181120" y="3048120"/>
            <a:ext cx="12193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 flipH="1" flipV="1">
            <a:off x="5181120" y="403848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 flipH="1" flipV="1">
            <a:off x="4876560" y="4191120"/>
            <a:ext cx="60948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 flipV="1">
            <a:off x="3657600" y="4114800"/>
            <a:ext cx="60948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 flipV="1">
            <a:off x="2666880" y="3962160"/>
            <a:ext cx="13716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2743200" y="2971800"/>
            <a:ext cx="1219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099120" y="2714760"/>
            <a:ext cx="641520" cy="63972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046920" y="4262400"/>
            <a:ext cx="639720" cy="6415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192640" y="5116680"/>
            <a:ext cx="639720" cy="641160"/>
          </a:xfrm>
          <a:prstGeom prst="ellipse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3322800" y="5116680"/>
            <a:ext cx="641160" cy="641160"/>
          </a:xfrm>
          <a:prstGeom prst="ellipse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2362320" y="4156200"/>
            <a:ext cx="641160" cy="639720"/>
          </a:xfrm>
          <a:prstGeom prst="ellipse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2416320" y="2660760"/>
            <a:ext cx="639720" cy="641160"/>
          </a:xfrm>
          <a:prstGeom prst="ellips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3430440" y="1752480"/>
            <a:ext cx="640080" cy="64152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5138640" y="1752480"/>
            <a:ext cx="641520" cy="641520"/>
          </a:xfrm>
          <a:prstGeom prst="ellipse">
            <a:avLst/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733920" y="3352680"/>
            <a:ext cx="1676160" cy="914400"/>
          </a:xfrm>
          <a:prstGeom prst="ellipse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DI: Electronic Data Interchang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Intercompan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computer-to-compute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ommunication of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standard business transaction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n a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standard forma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D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SI X12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/EDIFAC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o use it 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ort/Export: Thai Custom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ply Chain: retail stores and supplie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ipping and Freight: shipping company and shipyard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asic Protocol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twork Protoco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CP/IP and othe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lication Protoco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MTP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TP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many mor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4908600" y="1876320"/>
            <a:ext cx="3678120" cy="3670560"/>
            <a:chOff x="4908600" y="1876320"/>
            <a:chExt cx="3678120" cy="3670560"/>
          </a:xfrm>
        </p:grpSpPr>
        <p:sp>
          <p:nvSpPr>
            <p:cNvPr id="155" name=""/>
            <p:cNvSpPr/>
            <p:nvPr/>
          </p:nvSpPr>
          <p:spPr>
            <a:xfrm>
              <a:off x="6788160" y="2019240"/>
              <a:ext cx="1798560" cy="1674720"/>
            </a:xfrm>
            <a:custGeom>
              <a:avLst/>
              <a:gdLst/>
              <a:ahLst/>
              <a:rect l="l" t="t" r="r" b="b"/>
              <a:pathLst>
                <a:path w="1292" h="1255">
                  <a:moveTo>
                    <a:pt x="239" y="7"/>
                  </a:moveTo>
                  <a:cubicBezTo>
                    <a:pt x="120" y="14"/>
                    <a:pt x="70" y="71"/>
                    <a:pt x="35" y="157"/>
                  </a:cubicBezTo>
                  <a:cubicBezTo>
                    <a:pt x="0" y="243"/>
                    <a:pt x="26" y="411"/>
                    <a:pt x="29" y="523"/>
                  </a:cubicBezTo>
                  <a:cubicBezTo>
                    <a:pt x="32" y="635"/>
                    <a:pt x="17" y="771"/>
                    <a:pt x="53" y="829"/>
                  </a:cubicBezTo>
                  <a:cubicBezTo>
                    <a:pt x="89" y="887"/>
                    <a:pt x="146" y="821"/>
                    <a:pt x="245" y="871"/>
                  </a:cubicBezTo>
                  <a:cubicBezTo>
                    <a:pt x="344" y="921"/>
                    <a:pt x="522" y="1068"/>
                    <a:pt x="647" y="1129"/>
                  </a:cubicBezTo>
                  <a:cubicBezTo>
                    <a:pt x="772" y="1190"/>
                    <a:pt x="903" y="1255"/>
                    <a:pt x="995" y="1237"/>
                  </a:cubicBezTo>
                  <a:cubicBezTo>
                    <a:pt x="1087" y="1219"/>
                    <a:pt x="1153" y="1153"/>
                    <a:pt x="1199" y="1021"/>
                  </a:cubicBezTo>
                  <a:cubicBezTo>
                    <a:pt x="1245" y="889"/>
                    <a:pt x="1270" y="580"/>
                    <a:pt x="1271" y="445"/>
                  </a:cubicBezTo>
                  <a:cubicBezTo>
                    <a:pt x="1272" y="310"/>
                    <a:pt x="1292" y="266"/>
                    <a:pt x="1205" y="211"/>
                  </a:cubicBezTo>
                  <a:cubicBezTo>
                    <a:pt x="1118" y="156"/>
                    <a:pt x="908" y="150"/>
                    <a:pt x="749" y="115"/>
                  </a:cubicBezTo>
                  <a:cubicBezTo>
                    <a:pt x="590" y="80"/>
                    <a:pt x="358" y="0"/>
                    <a:pt x="239" y="7"/>
                  </a:cubicBez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908600" y="1876320"/>
              <a:ext cx="1866960" cy="1589040"/>
            </a:xfrm>
            <a:custGeom>
              <a:avLst/>
              <a:gdLst/>
              <a:ahLst/>
              <a:rect l="l" t="t" r="r" b="b"/>
              <a:pathLst>
                <a:path w="1340" h="1191">
                  <a:moveTo>
                    <a:pt x="550" y="42"/>
                  </a:moveTo>
                  <a:cubicBezTo>
                    <a:pt x="437" y="4"/>
                    <a:pt x="164" y="0"/>
                    <a:pt x="82" y="60"/>
                  </a:cubicBezTo>
                  <a:cubicBezTo>
                    <a:pt x="0" y="120"/>
                    <a:pt x="67" y="292"/>
                    <a:pt x="58" y="402"/>
                  </a:cubicBezTo>
                  <a:cubicBezTo>
                    <a:pt x="49" y="512"/>
                    <a:pt x="19" y="642"/>
                    <a:pt x="28" y="720"/>
                  </a:cubicBezTo>
                  <a:cubicBezTo>
                    <a:pt x="37" y="798"/>
                    <a:pt x="27" y="844"/>
                    <a:pt x="112" y="870"/>
                  </a:cubicBezTo>
                  <a:cubicBezTo>
                    <a:pt x="197" y="896"/>
                    <a:pt x="450" y="833"/>
                    <a:pt x="538" y="876"/>
                  </a:cubicBezTo>
                  <a:cubicBezTo>
                    <a:pt x="626" y="919"/>
                    <a:pt x="524" y="1091"/>
                    <a:pt x="640" y="1128"/>
                  </a:cubicBezTo>
                  <a:cubicBezTo>
                    <a:pt x="756" y="1165"/>
                    <a:pt x="1128" y="1191"/>
                    <a:pt x="1234" y="1098"/>
                  </a:cubicBezTo>
                  <a:cubicBezTo>
                    <a:pt x="1340" y="1005"/>
                    <a:pt x="1281" y="696"/>
                    <a:pt x="1276" y="570"/>
                  </a:cubicBezTo>
                  <a:cubicBezTo>
                    <a:pt x="1271" y="444"/>
                    <a:pt x="1290" y="389"/>
                    <a:pt x="1204" y="342"/>
                  </a:cubicBezTo>
                  <a:cubicBezTo>
                    <a:pt x="1118" y="295"/>
                    <a:pt x="868" y="338"/>
                    <a:pt x="760" y="288"/>
                  </a:cubicBezTo>
                  <a:cubicBezTo>
                    <a:pt x="652" y="238"/>
                    <a:pt x="663" y="80"/>
                    <a:pt x="550" y="42"/>
                  </a:cubicBez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276880" y="3327480"/>
              <a:ext cx="2975040" cy="2219400"/>
            </a:xfrm>
            <a:custGeom>
              <a:avLst/>
              <a:gdLst/>
              <a:ahLst/>
              <a:rect l="l" t="t" r="r" b="b"/>
              <a:pathLst>
                <a:path w="2135" h="1662">
                  <a:moveTo>
                    <a:pt x="27" y="652"/>
                  </a:moveTo>
                  <a:cubicBezTo>
                    <a:pt x="14" y="487"/>
                    <a:pt x="0" y="152"/>
                    <a:pt x="105" y="76"/>
                  </a:cubicBezTo>
                  <a:cubicBezTo>
                    <a:pt x="210" y="0"/>
                    <a:pt x="473" y="192"/>
                    <a:pt x="657" y="196"/>
                  </a:cubicBezTo>
                  <a:cubicBezTo>
                    <a:pt x="841" y="200"/>
                    <a:pt x="985" y="65"/>
                    <a:pt x="1209" y="100"/>
                  </a:cubicBezTo>
                  <a:cubicBezTo>
                    <a:pt x="1433" y="135"/>
                    <a:pt x="1867" y="232"/>
                    <a:pt x="2001" y="406"/>
                  </a:cubicBezTo>
                  <a:cubicBezTo>
                    <a:pt x="2135" y="580"/>
                    <a:pt x="2083" y="945"/>
                    <a:pt x="2013" y="1144"/>
                  </a:cubicBezTo>
                  <a:cubicBezTo>
                    <a:pt x="1943" y="1343"/>
                    <a:pt x="1781" y="1538"/>
                    <a:pt x="1581" y="1600"/>
                  </a:cubicBezTo>
                  <a:cubicBezTo>
                    <a:pt x="1381" y="1662"/>
                    <a:pt x="993" y="1571"/>
                    <a:pt x="813" y="1516"/>
                  </a:cubicBezTo>
                  <a:cubicBezTo>
                    <a:pt x="633" y="1461"/>
                    <a:pt x="606" y="1345"/>
                    <a:pt x="501" y="1270"/>
                  </a:cubicBezTo>
                  <a:cubicBezTo>
                    <a:pt x="396" y="1195"/>
                    <a:pt x="262" y="1169"/>
                    <a:pt x="183" y="1066"/>
                  </a:cubicBezTo>
                  <a:cubicBezTo>
                    <a:pt x="104" y="963"/>
                    <a:pt x="25" y="819"/>
                    <a:pt x="27" y="652"/>
                  </a:cubicBez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5025960" y="2011320"/>
              <a:ext cx="732960" cy="318960"/>
              <a:chOff x="5025960" y="2011320"/>
              <a:chExt cx="732960" cy="318960"/>
            </a:xfrm>
          </p:grpSpPr>
          <p:pic>
            <p:nvPicPr>
              <p:cNvPr id="15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025960" y="2011320"/>
                <a:ext cx="416160" cy="31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479560" y="2129400"/>
                <a:ext cx="279360" cy="18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1" name=""/>
              <p:cNvSpPr/>
              <p:nvPr/>
            </p:nvSpPr>
            <p:spPr>
              <a:xfrm flipV="1">
                <a:off x="5432400" y="2252880"/>
                <a:ext cx="114120" cy="2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5025960" y="2606760"/>
              <a:ext cx="732960" cy="318960"/>
              <a:chOff x="5025960" y="2606760"/>
              <a:chExt cx="732960" cy="318960"/>
            </a:xfrm>
          </p:grpSpPr>
          <p:pic>
            <p:nvPicPr>
              <p:cNvPr id="16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025960" y="2606760"/>
                <a:ext cx="416160" cy="31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479560" y="2724840"/>
                <a:ext cx="279360" cy="18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5" name=""/>
              <p:cNvSpPr/>
              <p:nvPr/>
            </p:nvSpPr>
            <p:spPr>
              <a:xfrm flipV="1">
                <a:off x="5432400" y="2848320"/>
                <a:ext cx="114120" cy="2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5402160" y="2394000"/>
              <a:ext cx="69480" cy="214200"/>
              <a:chOff x="5402160" y="2394000"/>
              <a:chExt cx="69480" cy="214200"/>
            </a:xfrm>
          </p:grpSpPr>
          <p:sp>
            <p:nvSpPr>
              <p:cNvPr id="167" name=""/>
              <p:cNvSpPr/>
              <p:nvPr/>
            </p:nvSpPr>
            <p:spPr>
              <a:xfrm>
                <a:off x="5402160" y="2394000"/>
                <a:ext cx="64080" cy="60120"/>
              </a:xfrm>
              <a:prstGeom prst="ellipse">
                <a:avLst/>
              </a:pr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404680" y="2471040"/>
                <a:ext cx="64080" cy="60120"/>
              </a:xfrm>
              <a:prstGeom prst="ellipse">
                <a:avLst/>
              </a:pr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407560" y="2548080"/>
                <a:ext cx="64080" cy="60120"/>
              </a:xfrm>
              <a:prstGeom prst="ellipse">
                <a:avLst/>
              </a:pr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5872320" y="2897280"/>
              <a:ext cx="209520" cy="394920"/>
              <a:chOff x="5872320" y="2897280"/>
              <a:chExt cx="209520" cy="394920"/>
            </a:xfrm>
          </p:grpSpPr>
          <p:sp>
            <p:nvSpPr>
              <p:cNvPr id="171" name=""/>
              <p:cNvSpPr/>
              <p:nvPr/>
            </p:nvSpPr>
            <p:spPr>
              <a:xfrm>
                <a:off x="5872320" y="3201120"/>
                <a:ext cx="209520" cy="91080"/>
              </a:xfrm>
              <a:prstGeom prst="parallelogram">
                <a:avLst>
                  <a:gd name="adj" fmla="val 88618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978520" y="2899800"/>
                <a:ext cx="96120" cy="3034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873400" y="2985840"/>
                <a:ext cx="132480" cy="3038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872320" y="2897280"/>
                <a:ext cx="209520" cy="91080"/>
              </a:xfrm>
              <a:prstGeom prst="parallelogram">
                <a:avLst>
                  <a:gd name="adj" fmla="val 88618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081840" y="2903400"/>
                <a:ext cx="0" cy="297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>
                <a:off x="6005880" y="3201120"/>
                <a:ext cx="75240" cy="8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890320" y="3025800"/>
                <a:ext cx="87840" cy="174960"/>
              </a:xfrm>
              <a:prstGeom prst="rect">
                <a:avLst/>
              </a:prstGeom>
              <a:solidFill>
                <a:srgbClr val="66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902920" y="3078720"/>
                <a:ext cx="66600" cy="61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6108840" y="3050640"/>
              <a:ext cx="233280" cy="81000"/>
              <a:chOff x="6108840" y="3050640"/>
              <a:chExt cx="233280" cy="81000"/>
            </a:xfrm>
          </p:grpSpPr>
          <p:sp>
            <p:nvSpPr>
              <p:cNvPr id="180" name=""/>
              <p:cNvSpPr/>
              <p:nvPr/>
            </p:nvSpPr>
            <p:spPr>
              <a:xfrm rot="16200000">
                <a:off x="6104160" y="3061440"/>
                <a:ext cx="74520" cy="65520"/>
              </a:xfrm>
              <a:prstGeom prst="ellipse">
                <a:avLst/>
              </a:pr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16200000">
                <a:off x="6188040" y="3058200"/>
                <a:ext cx="74520" cy="65520"/>
              </a:xfrm>
              <a:prstGeom prst="ellipse">
                <a:avLst/>
              </a:pr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rot="16200000">
                <a:off x="6271920" y="3054960"/>
                <a:ext cx="74520" cy="65520"/>
              </a:xfrm>
              <a:prstGeom prst="ellipse">
                <a:avLst/>
              </a:pr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>
              <a:off x="6008760" y="2805120"/>
              <a:ext cx="495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12000" y="2801880"/>
              <a:ext cx="1440" cy="9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507000" y="2800440"/>
              <a:ext cx="1800" cy="8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708520" y="2265480"/>
              <a:ext cx="289080" cy="26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5721480" y="2550960"/>
              <a:ext cx="276120" cy="33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6248520" y="2637000"/>
              <a:ext cx="1440" cy="16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" name=""/>
            <p:cNvGrpSpPr/>
            <p:nvPr/>
          </p:nvGrpSpPr>
          <p:grpSpPr>
            <a:xfrm>
              <a:off x="6367320" y="2874960"/>
              <a:ext cx="209520" cy="394920"/>
              <a:chOff x="6367320" y="2874960"/>
              <a:chExt cx="209520" cy="394920"/>
            </a:xfrm>
          </p:grpSpPr>
          <p:sp>
            <p:nvSpPr>
              <p:cNvPr id="190" name=""/>
              <p:cNvSpPr/>
              <p:nvPr/>
            </p:nvSpPr>
            <p:spPr>
              <a:xfrm>
                <a:off x="6367320" y="3178800"/>
                <a:ext cx="209520" cy="91080"/>
              </a:xfrm>
              <a:prstGeom prst="parallelogram">
                <a:avLst>
                  <a:gd name="adj" fmla="val 88618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473520" y="2877480"/>
                <a:ext cx="96120" cy="3034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368400" y="2963520"/>
                <a:ext cx="132480" cy="3038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367320" y="2874960"/>
                <a:ext cx="209520" cy="91080"/>
              </a:xfrm>
              <a:prstGeom prst="parallelogram">
                <a:avLst>
                  <a:gd name="adj" fmla="val 88618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576840" y="2881080"/>
                <a:ext cx="0" cy="297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>
                <a:off x="6500880" y="3178800"/>
                <a:ext cx="75240" cy="8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385320" y="3003480"/>
                <a:ext cx="87840" cy="174960"/>
              </a:xfrm>
              <a:prstGeom prst="rect">
                <a:avLst/>
              </a:prstGeom>
              <a:solidFill>
                <a:srgbClr val="66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397920" y="3056400"/>
                <a:ext cx="66600" cy="61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5410080" y="3494160"/>
              <a:ext cx="479160" cy="925200"/>
              <a:chOff x="5410080" y="3494160"/>
              <a:chExt cx="479160" cy="925200"/>
            </a:xfrm>
          </p:grpSpPr>
          <p:pic>
            <p:nvPicPr>
              <p:cNvPr id="19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410080" y="3494160"/>
                <a:ext cx="416520" cy="330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flipV="1">
                <a:off x="5816880" y="3740760"/>
                <a:ext cx="72360" cy="6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410080" y="4088880"/>
                <a:ext cx="416520" cy="330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2" name=""/>
              <p:cNvSpPr/>
              <p:nvPr/>
            </p:nvSpPr>
            <p:spPr>
              <a:xfrm flipV="1">
                <a:off x="5816880" y="4339080"/>
                <a:ext cx="72360" cy="2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3" name=""/>
              <p:cNvGrpSpPr/>
              <p:nvPr/>
            </p:nvGrpSpPr>
            <p:grpSpPr>
              <a:xfrm>
                <a:off x="5535360" y="3835440"/>
                <a:ext cx="70560" cy="222480"/>
                <a:chOff x="5535360" y="3835440"/>
                <a:chExt cx="70560" cy="22248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5535360" y="3835440"/>
                  <a:ext cx="65160" cy="62640"/>
                </a:xfrm>
                <a:prstGeom prst="ellipse">
                  <a:avLst/>
                </a:prstGeom>
                <a:solidFill>
                  <a:srgbClr val="66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5537880" y="3915360"/>
                  <a:ext cx="65160" cy="62280"/>
                </a:xfrm>
                <a:prstGeom prst="ellipse">
                  <a:avLst/>
                </a:prstGeom>
                <a:solidFill>
                  <a:srgbClr val="66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5540760" y="3995640"/>
                  <a:ext cx="65160" cy="62280"/>
                </a:xfrm>
                <a:prstGeom prst="ellipse">
                  <a:avLst/>
                </a:prstGeom>
                <a:solidFill>
                  <a:srgbClr val="66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7" name=""/>
              <p:cNvSpPr/>
              <p:nvPr/>
            </p:nvSpPr>
            <p:spPr>
              <a:xfrm>
                <a:off x="5883840" y="3737880"/>
                <a:ext cx="0" cy="600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08" name="" descr=""/>
            <p:cNvPicPr/>
            <p:nvPr/>
          </p:nvPicPr>
          <p:blipFill>
            <a:blip r:embed="rId7"/>
            <a:stretch/>
          </p:blipFill>
          <p:spPr>
            <a:xfrm>
              <a:off x="6278400" y="4503600"/>
              <a:ext cx="417600" cy="3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" descr=""/>
            <p:cNvPicPr/>
            <p:nvPr/>
          </p:nvPicPr>
          <p:blipFill>
            <a:blip r:embed="rId8"/>
            <a:stretch/>
          </p:blipFill>
          <p:spPr>
            <a:xfrm>
              <a:off x="5664240" y="4492800"/>
              <a:ext cx="415800" cy="3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 rot="16200000">
              <a:off x="6080760" y="4596480"/>
              <a:ext cx="63360" cy="65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16200000">
              <a:off x="6165720" y="4593960"/>
              <a:ext cx="63720" cy="66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16200000">
              <a:off x="6243480" y="4598640"/>
              <a:ext cx="61920" cy="65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6532560" y="4449600"/>
              <a:ext cx="1440" cy="60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5908680" y="4438800"/>
              <a:ext cx="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5910120" y="4444920"/>
              <a:ext cx="62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5889600" y="4070520"/>
              <a:ext cx="9360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491160" y="4116240"/>
              <a:ext cx="303480" cy="38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7286760" y="4113360"/>
              <a:ext cx="279360" cy="3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9" name="" descr=""/>
            <p:cNvPicPr/>
            <p:nvPr/>
          </p:nvPicPr>
          <p:blipFill>
            <a:blip r:embed="rId9"/>
            <a:stretch/>
          </p:blipFill>
          <p:spPr>
            <a:xfrm>
              <a:off x="7464600" y="3665520"/>
              <a:ext cx="203040" cy="24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" descr=""/>
            <p:cNvPicPr/>
            <p:nvPr/>
          </p:nvPicPr>
          <p:blipFill>
            <a:blip r:embed="rId10"/>
            <a:stretch/>
          </p:blipFill>
          <p:spPr>
            <a:xfrm>
              <a:off x="6127920" y="3746520"/>
              <a:ext cx="20304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6208560" y="3521160"/>
              <a:ext cx="1354320" cy="304560"/>
            </a:xfrm>
            <a:custGeom>
              <a:avLst/>
              <a:gdLst/>
              <a:ahLst/>
              <a:rect l="l" t="t" r="r" b="b"/>
              <a:pathLst>
                <a:path w="972" h="228">
                  <a:moveTo>
                    <a:pt x="0" y="228"/>
                  </a:moveTo>
                  <a:cubicBezTo>
                    <a:pt x="135" y="123"/>
                    <a:pt x="270" y="18"/>
                    <a:pt x="432" y="9"/>
                  </a:cubicBezTo>
                  <a:cubicBezTo>
                    <a:pt x="594" y="0"/>
                    <a:pt x="783" y="85"/>
                    <a:pt x="972" y="17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2" name=""/>
            <p:cNvGrpSpPr/>
            <p:nvPr/>
          </p:nvGrpSpPr>
          <p:grpSpPr>
            <a:xfrm>
              <a:off x="6475320" y="4943520"/>
              <a:ext cx="406080" cy="426960"/>
              <a:chOff x="6475320" y="4943520"/>
              <a:chExt cx="406080" cy="426960"/>
            </a:xfrm>
          </p:grpSpPr>
          <p:pic>
            <p:nvPicPr>
              <p:cNvPr id="22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6475320" y="4943520"/>
                <a:ext cx="378360" cy="37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6535080" y="5055480"/>
                <a:ext cx="346320" cy="315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25" name=""/>
            <p:cNvGrpSpPr/>
            <p:nvPr/>
          </p:nvGrpSpPr>
          <p:grpSpPr>
            <a:xfrm>
              <a:off x="7253280" y="4975200"/>
              <a:ext cx="406080" cy="426960"/>
              <a:chOff x="7253280" y="4975200"/>
              <a:chExt cx="406080" cy="426960"/>
            </a:xfrm>
          </p:grpSpPr>
          <p:pic>
            <p:nvPicPr>
              <p:cNvPr id="226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253280" y="4975200"/>
                <a:ext cx="378360" cy="37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7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7313040" y="5087160"/>
                <a:ext cx="346320" cy="315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28" name=""/>
            <p:cNvGrpSpPr/>
            <p:nvPr/>
          </p:nvGrpSpPr>
          <p:grpSpPr>
            <a:xfrm>
              <a:off x="6838920" y="4691160"/>
              <a:ext cx="379440" cy="376200"/>
              <a:chOff x="6838920" y="4691160"/>
              <a:chExt cx="379440" cy="376200"/>
            </a:xfrm>
          </p:grpSpPr>
          <p:pic>
            <p:nvPicPr>
              <p:cNvPr id="229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6838920" y="4691160"/>
                <a:ext cx="379440" cy="37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0" name=""/>
              <p:cNvSpPr/>
              <p:nvPr/>
            </p:nvSpPr>
            <p:spPr>
              <a:xfrm>
                <a:off x="6949080" y="4823280"/>
                <a:ext cx="267480" cy="24408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1" name=""/>
            <p:cNvSpPr/>
            <p:nvPr/>
          </p:nvSpPr>
          <p:spPr>
            <a:xfrm>
              <a:off x="7145280" y="459432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7866000" y="4017960"/>
              <a:ext cx="208080" cy="409680"/>
              <a:chOff x="7866000" y="4017960"/>
              <a:chExt cx="208080" cy="409680"/>
            </a:xfrm>
          </p:grpSpPr>
          <p:sp>
            <p:nvSpPr>
              <p:cNvPr id="233" name=""/>
              <p:cNvSpPr/>
              <p:nvPr/>
            </p:nvSpPr>
            <p:spPr>
              <a:xfrm>
                <a:off x="7866000" y="4332960"/>
                <a:ext cx="208080" cy="94680"/>
              </a:xfrm>
              <a:prstGeom prst="parallelogram">
                <a:avLst>
                  <a:gd name="adj" fmla="val 84663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971120" y="4020480"/>
                <a:ext cx="95400" cy="31464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867080" y="4109760"/>
                <a:ext cx="131760" cy="31500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866000" y="4017960"/>
                <a:ext cx="208080" cy="94680"/>
              </a:xfrm>
              <a:prstGeom prst="parallelogram">
                <a:avLst>
                  <a:gd name="adj" fmla="val 84663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8074080" y="4024440"/>
                <a:ext cx="0" cy="30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H="1">
                <a:off x="7998840" y="4332960"/>
                <a:ext cx="74880" cy="9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883640" y="4151160"/>
                <a:ext cx="87480" cy="181440"/>
              </a:xfrm>
              <a:prstGeom prst="rect">
                <a:avLst/>
              </a:prstGeom>
              <a:solidFill>
                <a:srgbClr val="66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896240" y="4205880"/>
                <a:ext cx="66240" cy="6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7853400" y="4462560"/>
              <a:ext cx="208080" cy="408960"/>
              <a:chOff x="7853400" y="4462560"/>
              <a:chExt cx="208080" cy="408960"/>
            </a:xfrm>
          </p:grpSpPr>
          <p:sp>
            <p:nvSpPr>
              <p:cNvPr id="242" name=""/>
              <p:cNvSpPr/>
              <p:nvPr/>
            </p:nvSpPr>
            <p:spPr>
              <a:xfrm>
                <a:off x="7853400" y="4777200"/>
                <a:ext cx="208080" cy="94320"/>
              </a:xfrm>
              <a:prstGeom prst="parallelogram">
                <a:avLst>
                  <a:gd name="adj" fmla="val 84986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7958520" y="4465080"/>
                <a:ext cx="95400" cy="3142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854480" y="4554360"/>
                <a:ext cx="131760" cy="314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853400" y="4462560"/>
                <a:ext cx="208080" cy="94320"/>
              </a:xfrm>
              <a:prstGeom prst="parallelogram">
                <a:avLst>
                  <a:gd name="adj" fmla="val 84986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061480" y="4469040"/>
                <a:ext cx="0" cy="30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>
                <a:off x="7986240" y="4777200"/>
                <a:ext cx="74880" cy="9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871040" y="4595760"/>
                <a:ext cx="87480" cy="181080"/>
              </a:xfrm>
              <a:prstGeom prst="rect">
                <a:avLst/>
              </a:prstGeom>
              <a:solidFill>
                <a:srgbClr val="66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883640" y="4650480"/>
                <a:ext cx="66240" cy="6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 flipV="1">
              <a:off x="7785000" y="4086000"/>
              <a:ext cx="0" cy="61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781760" y="4695840"/>
              <a:ext cx="1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778880" y="421956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6502320" y="2315880"/>
              <a:ext cx="459000" cy="20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437600" y="2300400"/>
              <a:ext cx="485640" cy="20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7956720" y="2637000"/>
              <a:ext cx="241200" cy="68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186680" y="241308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211880" y="3060720"/>
              <a:ext cx="53496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7671960" y="3525840"/>
              <a:ext cx="266760" cy="36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7445520" y="2604960"/>
              <a:ext cx="560160" cy="38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7454520" y="2044800"/>
              <a:ext cx="351000" cy="25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8172360" y="2220840"/>
              <a:ext cx="201600" cy="17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5983200" y="2413080"/>
              <a:ext cx="501840" cy="232920"/>
              <a:chOff x="5983200" y="2413080"/>
              <a:chExt cx="501840" cy="232920"/>
            </a:xfrm>
          </p:grpSpPr>
          <p:sp>
            <p:nvSpPr>
              <p:cNvPr id="263" name=""/>
              <p:cNvSpPr/>
              <p:nvPr/>
            </p:nvSpPr>
            <p:spPr>
              <a:xfrm>
                <a:off x="5987160" y="2517120"/>
                <a:ext cx="497520" cy="128880"/>
              </a:xfrm>
              <a:prstGeom prst="ellipse">
                <a:avLst/>
              </a:prstGeom>
              <a:solidFill>
                <a:srgbClr val="7e9ce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987160" y="25059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485040" y="25059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987160" y="2505960"/>
                <a:ext cx="493200" cy="78840"/>
              </a:xfrm>
              <a:prstGeom prst="rect">
                <a:avLst/>
              </a:prstGeom>
              <a:solidFill>
                <a:srgbClr val="7e9c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983200" y="2413080"/>
                <a:ext cx="497160" cy="150480"/>
              </a:xfrm>
              <a:prstGeom prst="ellipse">
                <a:avLst/>
              </a:prstGeom>
              <a:solidFill>
                <a:srgbClr val="7e9ce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8" name=""/>
              <p:cNvGrpSpPr/>
              <p:nvPr/>
            </p:nvGrpSpPr>
            <p:grpSpPr>
              <a:xfrm>
                <a:off x="6102720" y="2445840"/>
                <a:ext cx="246240" cy="88200"/>
                <a:chOff x="6102720" y="2445840"/>
                <a:chExt cx="246240" cy="88200"/>
              </a:xfrm>
            </p:grpSpPr>
            <p:sp>
              <p:nvSpPr>
                <p:cNvPr id="269" name=""/>
                <p:cNvSpPr/>
                <p:nvPr/>
              </p:nvSpPr>
              <p:spPr>
                <a:xfrm flipV="1">
                  <a:off x="6102720" y="244584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271560" y="25340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6183720" y="244800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6102720" y="2445120"/>
                <a:ext cx="246240" cy="88200"/>
                <a:chOff x="6102720" y="2445120"/>
                <a:chExt cx="246240" cy="8820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6102720" y="253152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6271560" y="24451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flipV="1">
                  <a:off x="6183720" y="244512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6935760" y="2184480"/>
              <a:ext cx="501840" cy="232920"/>
              <a:chOff x="6935760" y="2184480"/>
              <a:chExt cx="501840" cy="232920"/>
            </a:xfrm>
          </p:grpSpPr>
          <p:sp>
            <p:nvSpPr>
              <p:cNvPr id="277" name=""/>
              <p:cNvSpPr/>
              <p:nvPr/>
            </p:nvSpPr>
            <p:spPr>
              <a:xfrm>
                <a:off x="6939720" y="2288520"/>
                <a:ext cx="497520" cy="128880"/>
              </a:xfrm>
              <a:prstGeom prst="ellipse">
                <a:avLst/>
              </a:prstGeom>
              <a:solidFill>
                <a:srgbClr val="7e9ce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939720" y="22773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437600" y="22773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939720" y="2277360"/>
                <a:ext cx="493200" cy="78840"/>
              </a:xfrm>
              <a:prstGeom prst="rect">
                <a:avLst/>
              </a:prstGeom>
              <a:solidFill>
                <a:srgbClr val="7e9c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935760" y="2184480"/>
                <a:ext cx="497160" cy="150480"/>
              </a:xfrm>
              <a:prstGeom prst="ellipse">
                <a:avLst/>
              </a:prstGeom>
              <a:solidFill>
                <a:srgbClr val="7e9ce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7055280" y="2217240"/>
                <a:ext cx="246240" cy="88200"/>
                <a:chOff x="7055280" y="2217240"/>
                <a:chExt cx="246240" cy="88200"/>
              </a:xfrm>
            </p:grpSpPr>
            <p:sp>
              <p:nvSpPr>
                <p:cNvPr id="283" name=""/>
                <p:cNvSpPr/>
                <p:nvPr/>
              </p:nvSpPr>
              <p:spPr>
                <a:xfrm flipV="1">
                  <a:off x="7055280" y="221724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7224120" y="23054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7136280" y="221940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6" name=""/>
              <p:cNvGrpSpPr/>
              <p:nvPr/>
            </p:nvGrpSpPr>
            <p:grpSpPr>
              <a:xfrm>
                <a:off x="7055280" y="2216520"/>
                <a:ext cx="246240" cy="88200"/>
                <a:chOff x="7055280" y="2216520"/>
                <a:chExt cx="246240" cy="8820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7055280" y="230292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7224120" y="22165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 flipV="1">
                  <a:off x="7136280" y="221652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"/>
            <p:cNvGrpSpPr/>
            <p:nvPr/>
          </p:nvGrpSpPr>
          <p:grpSpPr>
            <a:xfrm>
              <a:off x="6953400" y="2841480"/>
              <a:ext cx="501480" cy="233280"/>
              <a:chOff x="6953400" y="2841480"/>
              <a:chExt cx="501480" cy="233280"/>
            </a:xfrm>
          </p:grpSpPr>
          <p:sp>
            <p:nvSpPr>
              <p:cNvPr id="291" name=""/>
              <p:cNvSpPr/>
              <p:nvPr/>
            </p:nvSpPr>
            <p:spPr>
              <a:xfrm>
                <a:off x="6957360" y="2945520"/>
                <a:ext cx="497160" cy="129240"/>
              </a:xfrm>
              <a:prstGeom prst="ellipse">
                <a:avLst/>
              </a:prstGeom>
              <a:solidFill>
                <a:srgbClr val="7e9ce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6957360" y="2934720"/>
                <a:ext cx="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7454880" y="2934720"/>
                <a:ext cx="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957360" y="2934720"/>
                <a:ext cx="492840" cy="78840"/>
              </a:xfrm>
              <a:prstGeom prst="rect">
                <a:avLst/>
              </a:prstGeom>
              <a:solidFill>
                <a:srgbClr val="7e9c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6953400" y="2841480"/>
                <a:ext cx="496800" cy="150840"/>
              </a:xfrm>
              <a:prstGeom prst="ellipse">
                <a:avLst/>
              </a:prstGeom>
              <a:solidFill>
                <a:srgbClr val="7e9ce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6" name=""/>
              <p:cNvGrpSpPr/>
              <p:nvPr/>
            </p:nvGrpSpPr>
            <p:grpSpPr>
              <a:xfrm>
                <a:off x="7072920" y="2874240"/>
                <a:ext cx="246240" cy="88560"/>
                <a:chOff x="7072920" y="2874240"/>
                <a:chExt cx="246240" cy="88560"/>
              </a:xfrm>
            </p:grpSpPr>
            <p:sp>
              <p:nvSpPr>
                <p:cNvPr id="297" name=""/>
                <p:cNvSpPr/>
                <p:nvPr/>
              </p:nvSpPr>
              <p:spPr>
                <a:xfrm flipV="1">
                  <a:off x="7072920" y="287424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7241760" y="29628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7153920" y="2876400"/>
                  <a:ext cx="91440" cy="86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7072920" y="2873160"/>
                <a:ext cx="246240" cy="88560"/>
                <a:chOff x="7072920" y="2873160"/>
                <a:chExt cx="246240" cy="8856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7072920" y="295992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7241760" y="287316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 flipV="1">
                  <a:off x="7153920" y="2873160"/>
                  <a:ext cx="91440" cy="86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4" name=""/>
            <p:cNvGrpSpPr/>
            <p:nvPr/>
          </p:nvGrpSpPr>
          <p:grpSpPr>
            <a:xfrm>
              <a:off x="7923240" y="2392200"/>
              <a:ext cx="500040" cy="233280"/>
              <a:chOff x="7923240" y="2392200"/>
              <a:chExt cx="500040" cy="233280"/>
            </a:xfrm>
          </p:grpSpPr>
          <p:sp>
            <p:nvSpPr>
              <p:cNvPr id="305" name=""/>
              <p:cNvSpPr/>
              <p:nvPr/>
            </p:nvSpPr>
            <p:spPr>
              <a:xfrm>
                <a:off x="7927200" y="2496240"/>
                <a:ext cx="495720" cy="129240"/>
              </a:xfrm>
              <a:prstGeom prst="ellipse">
                <a:avLst/>
              </a:prstGeom>
              <a:solidFill>
                <a:srgbClr val="7e9ce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927200" y="2485440"/>
                <a:ext cx="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8423280" y="2485440"/>
                <a:ext cx="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7927200" y="2485440"/>
                <a:ext cx="491400" cy="78840"/>
              </a:xfrm>
              <a:prstGeom prst="rect">
                <a:avLst/>
              </a:prstGeom>
              <a:solidFill>
                <a:srgbClr val="7e9c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7923240" y="2392200"/>
                <a:ext cx="495360" cy="150840"/>
              </a:xfrm>
              <a:prstGeom prst="ellipse">
                <a:avLst/>
              </a:prstGeom>
              <a:solidFill>
                <a:srgbClr val="7e9ce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0" name=""/>
              <p:cNvGrpSpPr/>
              <p:nvPr/>
            </p:nvGrpSpPr>
            <p:grpSpPr>
              <a:xfrm>
                <a:off x="8042400" y="2424960"/>
                <a:ext cx="245520" cy="88560"/>
                <a:chOff x="8042400" y="2424960"/>
                <a:chExt cx="245520" cy="88560"/>
              </a:xfrm>
            </p:grpSpPr>
            <p:sp>
              <p:nvSpPr>
                <p:cNvPr id="311" name=""/>
                <p:cNvSpPr/>
                <p:nvPr/>
              </p:nvSpPr>
              <p:spPr>
                <a:xfrm flipV="1">
                  <a:off x="8042400" y="242496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8210880" y="2513520"/>
                  <a:ext cx="77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8123040" y="2427120"/>
                  <a:ext cx="91080" cy="86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4" name=""/>
              <p:cNvGrpSpPr/>
              <p:nvPr/>
            </p:nvGrpSpPr>
            <p:grpSpPr>
              <a:xfrm>
                <a:off x="8042400" y="2423880"/>
                <a:ext cx="245520" cy="88560"/>
                <a:chOff x="8042400" y="2423880"/>
                <a:chExt cx="245520" cy="8856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8042400" y="251064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8210880" y="2423880"/>
                  <a:ext cx="77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 flipV="1">
                  <a:off x="8123040" y="2423880"/>
                  <a:ext cx="91080" cy="86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8" name=""/>
            <p:cNvGrpSpPr/>
            <p:nvPr/>
          </p:nvGrpSpPr>
          <p:grpSpPr>
            <a:xfrm>
              <a:off x="7729560" y="3289320"/>
              <a:ext cx="501480" cy="232920"/>
              <a:chOff x="7729560" y="3289320"/>
              <a:chExt cx="501480" cy="232920"/>
            </a:xfrm>
          </p:grpSpPr>
          <p:sp>
            <p:nvSpPr>
              <p:cNvPr id="319" name=""/>
              <p:cNvSpPr/>
              <p:nvPr/>
            </p:nvSpPr>
            <p:spPr>
              <a:xfrm>
                <a:off x="7733520" y="3393360"/>
                <a:ext cx="497160" cy="128880"/>
              </a:xfrm>
              <a:prstGeom prst="ellipse">
                <a:avLst/>
              </a:prstGeom>
              <a:solidFill>
                <a:srgbClr val="7e9ce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733520" y="338220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8231040" y="338220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733520" y="3382200"/>
                <a:ext cx="492840" cy="78840"/>
              </a:xfrm>
              <a:prstGeom prst="rect">
                <a:avLst/>
              </a:prstGeom>
              <a:solidFill>
                <a:srgbClr val="7e9c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729560" y="3289320"/>
                <a:ext cx="496800" cy="150480"/>
              </a:xfrm>
              <a:prstGeom prst="ellipse">
                <a:avLst/>
              </a:prstGeom>
              <a:solidFill>
                <a:srgbClr val="7e9ce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4" name=""/>
              <p:cNvGrpSpPr/>
              <p:nvPr/>
            </p:nvGrpSpPr>
            <p:grpSpPr>
              <a:xfrm>
                <a:off x="7849080" y="3322080"/>
                <a:ext cx="246240" cy="88200"/>
                <a:chOff x="7849080" y="3322080"/>
                <a:chExt cx="246240" cy="88200"/>
              </a:xfrm>
            </p:grpSpPr>
            <p:sp>
              <p:nvSpPr>
                <p:cNvPr id="325" name=""/>
                <p:cNvSpPr/>
                <p:nvPr/>
              </p:nvSpPr>
              <p:spPr>
                <a:xfrm flipV="1">
                  <a:off x="7849080" y="332208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8017920" y="34102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7930080" y="332424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7849080" y="3321360"/>
                <a:ext cx="246240" cy="88200"/>
                <a:chOff x="7849080" y="3321360"/>
                <a:chExt cx="246240" cy="8820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7849080" y="340776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017920" y="332136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 flipV="1">
                  <a:off x="7930080" y="332136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2" name=""/>
            <p:cNvGrpSpPr/>
            <p:nvPr/>
          </p:nvGrpSpPr>
          <p:grpSpPr>
            <a:xfrm>
              <a:off x="7396200" y="3873600"/>
              <a:ext cx="501480" cy="234360"/>
              <a:chOff x="7396200" y="3873600"/>
              <a:chExt cx="501480" cy="234360"/>
            </a:xfrm>
          </p:grpSpPr>
          <p:sp>
            <p:nvSpPr>
              <p:cNvPr id="333" name=""/>
              <p:cNvSpPr/>
              <p:nvPr/>
            </p:nvSpPr>
            <p:spPr>
              <a:xfrm>
                <a:off x="7400160" y="3978000"/>
                <a:ext cx="497160" cy="129960"/>
              </a:xfrm>
              <a:prstGeom prst="ellipse">
                <a:avLst/>
              </a:prstGeom>
              <a:solidFill>
                <a:srgbClr val="7e9ce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7400160" y="3967200"/>
                <a:ext cx="0" cy="8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7897680" y="3967200"/>
                <a:ext cx="0" cy="8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7400160" y="3967200"/>
                <a:ext cx="492840" cy="79200"/>
              </a:xfrm>
              <a:prstGeom prst="rect">
                <a:avLst/>
              </a:prstGeom>
              <a:solidFill>
                <a:srgbClr val="7e9c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396200" y="3873600"/>
                <a:ext cx="496800" cy="151560"/>
              </a:xfrm>
              <a:prstGeom prst="ellipse">
                <a:avLst/>
              </a:prstGeom>
              <a:solidFill>
                <a:srgbClr val="7e9ce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8" name=""/>
              <p:cNvGrpSpPr/>
              <p:nvPr/>
            </p:nvGrpSpPr>
            <p:grpSpPr>
              <a:xfrm>
                <a:off x="7515720" y="3906720"/>
                <a:ext cx="246240" cy="88920"/>
                <a:chOff x="7515720" y="3906720"/>
                <a:chExt cx="246240" cy="88920"/>
              </a:xfrm>
            </p:grpSpPr>
            <p:sp>
              <p:nvSpPr>
                <p:cNvPr id="339" name=""/>
                <p:cNvSpPr/>
                <p:nvPr/>
              </p:nvSpPr>
              <p:spPr>
                <a:xfrm flipV="1">
                  <a:off x="7515720" y="390672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7684560" y="39956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7596720" y="3908880"/>
                  <a:ext cx="91440" cy="867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7515720" y="3905640"/>
                <a:ext cx="246240" cy="88920"/>
                <a:chOff x="7515720" y="3905640"/>
                <a:chExt cx="246240" cy="8892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7515720" y="399276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7684560" y="39056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flipV="1">
                  <a:off x="7596720" y="3905640"/>
                  <a:ext cx="91440" cy="867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"/>
            <p:cNvGrpSpPr/>
            <p:nvPr/>
          </p:nvGrpSpPr>
          <p:grpSpPr>
            <a:xfrm>
              <a:off x="6786720" y="4362480"/>
              <a:ext cx="500040" cy="232920"/>
              <a:chOff x="6786720" y="4362480"/>
              <a:chExt cx="500040" cy="232920"/>
            </a:xfrm>
          </p:grpSpPr>
          <p:sp>
            <p:nvSpPr>
              <p:cNvPr id="347" name=""/>
              <p:cNvSpPr/>
              <p:nvPr/>
            </p:nvSpPr>
            <p:spPr>
              <a:xfrm>
                <a:off x="6790680" y="4466520"/>
                <a:ext cx="495720" cy="128880"/>
              </a:xfrm>
              <a:prstGeom prst="ellipse">
                <a:avLst/>
              </a:prstGeom>
              <a:solidFill>
                <a:srgbClr val="7e9ce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790680" y="44553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7286760" y="44553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790680" y="4455360"/>
                <a:ext cx="491400" cy="78840"/>
              </a:xfrm>
              <a:prstGeom prst="rect">
                <a:avLst/>
              </a:prstGeom>
              <a:solidFill>
                <a:srgbClr val="7e9c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786720" y="4362480"/>
                <a:ext cx="495360" cy="150480"/>
              </a:xfrm>
              <a:prstGeom prst="ellipse">
                <a:avLst/>
              </a:prstGeom>
              <a:solidFill>
                <a:srgbClr val="7e9ce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2" name=""/>
              <p:cNvGrpSpPr/>
              <p:nvPr/>
            </p:nvGrpSpPr>
            <p:grpSpPr>
              <a:xfrm>
                <a:off x="6905880" y="4395240"/>
                <a:ext cx="245520" cy="88200"/>
                <a:chOff x="6905880" y="4395240"/>
                <a:chExt cx="245520" cy="88200"/>
              </a:xfrm>
            </p:grpSpPr>
            <p:sp>
              <p:nvSpPr>
                <p:cNvPr id="353" name=""/>
                <p:cNvSpPr/>
                <p:nvPr/>
              </p:nvSpPr>
              <p:spPr>
                <a:xfrm flipV="1">
                  <a:off x="6905880" y="439524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7074360" y="4483440"/>
                  <a:ext cx="77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6986520" y="439740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6" name=""/>
              <p:cNvGrpSpPr/>
              <p:nvPr/>
            </p:nvGrpSpPr>
            <p:grpSpPr>
              <a:xfrm>
                <a:off x="6905880" y="4394520"/>
                <a:ext cx="245520" cy="88200"/>
                <a:chOff x="6905880" y="4394520"/>
                <a:chExt cx="245520" cy="8820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6905880" y="448092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7074360" y="4394520"/>
                  <a:ext cx="77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 flipV="1">
                  <a:off x="6986520" y="439452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0" name=""/>
            <p:cNvGrpSpPr/>
            <p:nvPr/>
          </p:nvGrpSpPr>
          <p:grpSpPr>
            <a:xfrm>
              <a:off x="5983200" y="3986280"/>
              <a:ext cx="501840" cy="232920"/>
              <a:chOff x="5983200" y="3986280"/>
              <a:chExt cx="501840" cy="232920"/>
            </a:xfrm>
          </p:grpSpPr>
          <p:sp>
            <p:nvSpPr>
              <p:cNvPr id="361" name=""/>
              <p:cNvSpPr/>
              <p:nvPr/>
            </p:nvSpPr>
            <p:spPr>
              <a:xfrm>
                <a:off x="5987160" y="4090320"/>
                <a:ext cx="497520" cy="128880"/>
              </a:xfrm>
              <a:prstGeom prst="ellipse">
                <a:avLst/>
              </a:prstGeom>
              <a:solidFill>
                <a:srgbClr val="7e9ce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987160" y="40791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485040" y="40791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987160" y="4079160"/>
                <a:ext cx="493200" cy="78840"/>
              </a:xfrm>
              <a:prstGeom prst="rect">
                <a:avLst/>
              </a:prstGeom>
              <a:solidFill>
                <a:srgbClr val="7e9c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5983200" y="3986280"/>
                <a:ext cx="497160" cy="150480"/>
              </a:xfrm>
              <a:prstGeom prst="ellipse">
                <a:avLst/>
              </a:prstGeom>
              <a:solidFill>
                <a:srgbClr val="7e9ce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6" name=""/>
              <p:cNvGrpSpPr/>
              <p:nvPr/>
            </p:nvGrpSpPr>
            <p:grpSpPr>
              <a:xfrm>
                <a:off x="6102720" y="4019040"/>
                <a:ext cx="246240" cy="88200"/>
                <a:chOff x="6102720" y="4019040"/>
                <a:chExt cx="246240" cy="88200"/>
              </a:xfrm>
            </p:grpSpPr>
            <p:sp>
              <p:nvSpPr>
                <p:cNvPr id="367" name=""/>
                <p:cNvSpPr/>
                <p:nvPr/>
              </p:nvSpPr>
              <p:spPr>
                <a:xfrm flipV="1">
                  <a:off x="6102720" y="401904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6271560" y="41072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6183720" y="402120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0" name=""/>
              <p:cNvGrpSpPr/>
              <p:nvPr/>
            </p:nvGrpSpPr>
            <p:grpSpPr>
              <a:xfrm>
                <a:off x="6102720" y="4018320"/>
                <a:ext cx="246240" cy="88200"/>
                <a:chOff x="6102720" y="4018320"/>
                <a:chExt cx="246240" cy="88200"/>
              </a:xfrm>
            </p:grpSpPr>
            <p:sp>
              <p:nvSpPr>
                <p:cNvPr id="371" name=""/>
                <p:cNvSpPr/>
                <p:nvPr/>
              </p:nvSpPr>
              <p:spPr>
                <a:xfrm>
                  <a:off x="6102720" y="410472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6271560" y="40183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 flipV="1">
                  <a:off x="6183720" y="401832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74" name=""/>
            <p:cNvSpPr/>
            <p:nvPr/>
          </p:nvSpPr>
          <p:spPr>
            <a:xfrm flipV="1">
              <a:off x="6238800" y="4199040"/>
              <a:ext cx="1800" cy="249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4740120" y="1500120"/>
            <a:ext cx="3738600" cy="3984480"/>
            <a:chOff x="4740120" y="1500120"/>
            <a:chExt cx="3738600" cy="3984480"/>
          </a:xfrm>
        </p:grpSpPr>
        <p:grpSp>
          <p:nvGrpSpPr>
            <p:cNvPr id="376" name=""/>
            <p:cNvGrpSpPr/>
            <p:nvPr/>
          </p:nvGrpSpPr>
          <p:grpSpPr>
            <a:xfrm>
              <a:off x="4740120" y="1500120"/>
              <a:ext cx="814320" cy="1012680"/>
              <a:chOff x="4740120" y="1500120"/>
              <a:chExt cx="814320" cy="1012680"/>
            </a:xfrm>
          </p:grpSpPr>
          <p:sp>
            <p:nvSpPr>
              <p:cNvPr id="377" name=""/>
              <p:cNvSpPr/>
              <p:nvPr/>
            </p:nvSpPr>
            <p:spPr>
              <a:xfrm>
                <a:off x="4838400" y="1500120"/>
                <a:ext cx="676440" cy="776520"/>
              </a:xfrm>
              <a:prstGeom prst="rect">
                <a:avLst/>
              </a:pr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805280" y="1524240"/>
                <a:ext cx="690480" cy="799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809960" y="1528920"/>
                <a:ext cx="676080" cy="1998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740120" y="1505160"/>
                <a:ext cx="814320" cy="100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Comic Sans MS"/>
                  </a:rPr>
                  <a:t>applicati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transpor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805280" y="186696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814640" y="200520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814640" y="2143080"/>
                <a:ext cx="69048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7664400" y="4367160"/>
              <a:ext cx="814320" cy="1012680"/>
              <a:chOff x="7664400" y="4367160"/>
              <a:chExt cx="814320" cy="1012680"/>
            </a:xfrm>
          </p:grpSpPr>
          <p:sp>
            <p:nvSpPr>
              <p:cNvPr id="385" name=""/>
              <p:cNvSpPr/>
              <p:nvPr/>
            </p:nvSpPr>
            <p:spPr>
              <a:xfrm>
                <a:off x="7762680" y="4367160"/>
                <a:ext cx="676440" cy="776520"/>
              </a:xfrm>
              <a:prstGeom prst="rect">
                <a:avLst/>
              </a:pr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729560" y="4391280"/>
                <a:ext cx="690480" cy="799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734240" y="4395960"/>
                <a:ext cx="676080" cy="1998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64400" y="4372200"/>
                <a:ext cx="814320" cy="100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Comic Sans MS"/>
                  </a:rPr>
                  <a:t>applicati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transpor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729560" y="473400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738920" y="487224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738920" y="5010120"/>
                <a:ext cx="69048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2" name=""/>
            <p:cNvGrpSpPr/>
            <p:nvPr/>
          </p:nvGrpSpPr>
          <p:grpSpPr>
            <a:xfrm>
              <a:off x="5321160" y="4471920"/>
              <a:ext cx="814320" cy="1012680"/>
              <a:chOff x="5321160" y="4471920"/>
              <a:chExt cx="814320" cy="1012680"/>
            </a:xfrm>
          </p:grpSpPr>
          <p:sp>
            <p:nvSpPr>
              <p:cNvPr id="393" name=""/>
              <p:cNvSpPr/>
              <p:nvPr/>
            </p:nvSpPr>
            <p:spPr>
              <a:xfrm>
                <a:off x="5419440" y="4471920"/>
                <a:ext cx="676440" cy="776520"/>
              </a:xfrm>
              <a:prstGeom prst="rect">
                <a:avLst/>
              </a:pr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5386320" y="4496040"/>
                <a:ext cx="690480" cy="799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391000" y="4500720"/>
                <a:ext cx="676080" cy="1998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321160" y="4476960"/>
                <a:ext cx="814320" cy="100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Comic Sans MS"/>
                  </a:rPr>
                  <a:t>applicati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transpor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386320" y="483876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395680" y="497700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395680" y="5114880"/>
                <a:ext cx="69048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0" name=""/>
            <p:cNvSpPr/>
            <p:nvPr/>
          </p:nvSpPr>
          <p:spPr>
            <a:xfrm>
              <a:off x="5524560" y="1619280"/>
              <a:ext cx="2190600" cy="28479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>
              <a:off x="6105600" y="4524480"/>
              <a:ext cx="1590480" cy="568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DI – How it work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654" name=""/>
          <p:cNvGraphicFramePr/>
          <p:nvPr/>
        </p:nvGraphicFramePr>
        <p:xfrm>
          <a:off x="568440" y="2635200"/>
          <a:ext cx="8005680" cy="257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8440" y="2635200"/>
                    <a:ext cx="8005680" cy="257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ample PO in EDI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SA*00* *00* *08*61112500TST *01*DEMO WU000003 *970911*1039*U00302000009561*0*P? GS*PO*611125001I*WU000003 *970911*1039*9784*X*003020 ST*850*397822 BEG*00*RE*194743**970911 REF*AH*M109 REF*DP*641 REF*IA*000100685 DTM*010*970918 N1*BY*92*1287 Nl*ST*92*87447 N1*ZZ*992*1287 PO1*1*1*EA*13.33**CB*80211*IZ*364*UP*71837927164l PO1*1*2*EA*13.33**CB*80211*IZ*382*UP*718379271573 PO1*1*3*EA*13.33**CB*80213*IZ*320*UP*718379271497 PO1*1*4*EA*13.33**CB*80215*IZ*360*UP*718379271848 PO1*1*5*EA*13.33**CB*80215*IZ*364*UP*718379271005 CTT*25 SE*36*397822 GE*1*9784 IEA*1*00000956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XML - Overview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is Markup Language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ld style communication for edit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tween writer and edito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This are is a mark-up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We can more tex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ad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times, called “Metalanguage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3657600" y="365760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192920" y="411480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^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6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6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6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6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XML Overview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amily of Computer Markup Langu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ndard Generalized Markup Language (SGM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ather of them all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mplex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yperText Markup Language (HTM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most popular child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cus on presentation: for human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6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6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6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XML Overview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tensible Markup Language (XM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come increasingly popula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milar to HTM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cus on describing 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r human and machin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anguage for creating other languag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ase syntax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User-defined structur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XML Overview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ing used in many are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ata format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ogramming interface description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PC protocol format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ample PO in XML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xml version = "1.0"?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urchase-order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o-number&gt;1234&lt;/po-number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date&gt;l999-02-08&lt;/date&gt;&lt;time&gt;14:05&lt;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header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billing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company&gt;XMLSolutions&lt;/company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address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treet&gt;601 Pennsylvania Ave. NW&lt;/street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address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billing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rder items="1" 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item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eference&gt;097251&lt;/referenc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description&gt;Widgets&lt;/description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quantity&gt;4&lt;/quantity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unit-price&gt;11.99&lt;/unit-pric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rice&gt;47.96&lt;/pric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item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rder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purchase-order&gt;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XML Componen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ement: tag and cont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company&gt;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XMLSolutions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company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XML Componen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sted el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item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eference&gt;097251&lt;/reference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description&gt;Widgets&lt;/description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quantity&gt;4&lt;/quantity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unit-price&gt;11.99&lt;/unit-price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rice&gt;47.96&lt;/price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item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XML Componen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ttribute: name and val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= Data of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order 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  <a:ea typeface="Courier New"/>
              </a:rPr>
              <a:t>items="1"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 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ite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eference&gt;097251&lt;/referen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description&gt;Widgets&lt;/descrip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quantity&gt;4&lt;/quantit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unit-price&gt;11.99&lt;/unit-pri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rice&gt;47.96&lt;/pri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ite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or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TTP Protoco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se on request and response mode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tocol format is in clear-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od: simp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d: ineffici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 is a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“stateless”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toco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4924440" y="1860480"/>
            <a:ext cx="752400" cy="59688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4732560" y="2455920"/>
            <a:ext cx="1244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C ru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plor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2"/>
          <a:stretch/>
        </p:blipFill>
        <p:spPr>
          <a:xfrm>
            <a:off x="5019840" y="4556160"/>
            <a:ext cx="752400" cy="59688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7498440" y="3836880"/>
            <a:ext cx="136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rv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u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ache We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7910640" y="2725560"/>
            <a:ext cx="504000" cy="1070640"/>
            <a:chOff x="7910640" y="2725560"/>
            <a:chExt cx="504000" cy="1070640"/>
          </a:xfrm>
        </p:grpSpPr>
        <p:sp>
          <p:nvSpPr>
            <p:cNvPr id="409" name=""/>
            <p:cNvSpPr/>
            <p:nvPr/>
          </p:nvSpPr>
          <p:spPr>
            <a:xfrm>
              <a:off x="7910640" y="3548880"/>
              <a:ext cx="504000" cy="247320"/>
            </a:xfrm>
            <a:prstGeom prst="parallelogram">
              <a:avLst>
                <a:gd name="adj" fmla="val 78504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8165880" y="2732400"/>
              <a:ext cx="231840" cy="82260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913520" y="2966040"/>
              <a:ext cx="319680" cy="8233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910640" y="2725560"/>
              <a:ext cx="504000" cy="247320"/>
            </a:xfrm>
            <a:prstGeom prst="parallelogram">
              <a:avLst>
                <a:gd name="adj" fmla="val 78504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414640" y="2742840"/>
              <a:ext cx="0" cy="80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8233200" y="3548880"/>
              <a:ext cx="181440" cy="24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953840" y="3074400"/>
              <a:ext cx="212040" cy="474480"/>
            </a:xfrm>
            <a:prstGeom prst="rect">
              <a:avLst/>
            </a:prstGeom>
            <a:solidFill>
              <a:srgbClr val="66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984440" y="3217680"/>
              <a:ext cx="160920" cy="166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"/>
          <p:cNvSpPr/>
          <p:nvPr/>
        </p:nvSpPr>
        <p:spPr>
          <a:xfrm>
            <a:off x="5743440" y="2133720"/>
            <a:ext cx="2086200" cy="961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H="1" flipV="1">
            <a:off x="5800320" y="2333520"/>
            <a:ext cx="1971720" cy="9050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734080" y="3505320"/>
            <a:ext cx="2047680" cy="1095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5810400" y="3629160"/>
            <a:ext cx="2047680" cy="1133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887000" y="5218200"/>
            <a:ext cx="1390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c ru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vig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rot="1422000">
            <a:off x="6119280" y="2293920"/>
            <a:ext cx="146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HTTP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rot="19906800">
            <a:off x="5910120" y="3789000"/>
            <a:ext cx="146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HTTP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rot="1411200">
            <a:off x="5914440" y="2741400"/>
            <a:ext cx="161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HTTP respo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rot="19861800">
            <a:off x="6095160" y="4122720"/>
            <a:ext cx="161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HTTP respo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XML Componen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mpty el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description&gt;&lt;/description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description /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urier New"/>
                <a:ea typeface="Courier New"/>
              </a:rPr>
              <a:t>&lt;picture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filename=“item2.jpg”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  <a:ea typeface="Courier New"/>
              </a:rPr>
              <a:t>/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6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6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6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XML Componen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ecial symbo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&amp;amp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or ampersand (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&amp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&amp;lt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or less than sign (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&lt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&amp;gt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or greater than sign (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&amp;quot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or double quotation (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&amp;apos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or single quotation or apostrophe (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‘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weight&gt;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  <a:ea typeface="Courier New"/>
              </a:rPr>
              <a:t>&amp;lt;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500 pounds&lt;/weight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6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XML Componen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–-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 is a comment.  It can span multiple lines.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Courier New"/>
              </a:rPr>
              <a:t> --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asic XML Syntax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l XML files/applications must conform to basic XML syntax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declaration is not required (but recommende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?xml version=“1.0”?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urchase-order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header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o-number&gt;1234&lt;/po-number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date&gt;l999-02-08&lt;/date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ime&gt;14:05&lt;/time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header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purchase-order&gt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asic XML Syntax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e and only one root eleme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xml version=“1.0”?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purchase-order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header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o-number&gt;1234&lt;/po-number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date&gt;l999-02-08&lt;/dat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ime&gt;14:05&lt;/tim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header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urchase-order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asic XML Syntax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lanced and matched opening/closing tag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xml version=“1.0”?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purchase-order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300" spc="-1" strike="noStrike">
                <a:solidFill>
                  <a:srgbClr val="ff3300"/>
                </a:solidFill>
                <a:latin typeface="Courier New"/>
                <a:ea typeface="Courier New"/>
              </a:rPr>
              <a:t>&lt;header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300" spc="-1" strike="noStrike">
                <a:solidFill>
                  <a:srgbClr val="33cc33"/>
                </a:solidFill>
                <a:latin typeface="Courier New"/>
                <a:ea typeface="Courier New"/>
              </a:rPr>
              <a:t>&lt;po-number&gt;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1234</a:t>
            </a:r>
            <a:r>
              <a:rPr b="1" lang="en-US" sz="2300" spc="-1" strike="noStrike">
                <a:solidFill>
                  <a:srgbClr val="33cc33"/>
                </a:solidFill>
                <a:latin typeface="Courier New"/>
                <a:ea typeface="Courier New"/>
              </a:rPr>
              <a:t>&lt;/po-number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date&gt;l999-02-08&lt;/dat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ime&gt;14:05&lt;/tim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300" spc="-1" strike="noStrike">
                <a:solidFill>
                  <a:srgbClr val="ff3300"/>
                </a:solidFill>
                <a:latin typeface="Courier New"/>
                <a:ea typeface="Courier New"/>
              </a:rPr>
              <a:t>&lt;/header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urchase-order&gt;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asic XML Syntax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se-sensitiv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  <a:ea typeface="Courier New"/>
              </a:rPr>
              <a:t>c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ompany&gt;XMLSolutions&lt;/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  <a:ea typeface="Courier New"/>
              </a:rPr>
              <a:t>C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ompany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alue of attribute must be in quot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rder items=</a:t>
            </a:r>
            <a:r>
              <a:rPr b="0" lang="en-US" sz="2600" spc="-1" strike="noStrike">
                <a:solidFill>
                  <a:srgbClr val="ff3300"/>
                </a:solidFill>
                <a:latin typeface="Courier New"/>
                <a:ea typeface="Courier New"/>
              </a:rPr>
              <a:t>"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r>
              <a:rPr b="0" lang="en-US" sz="2600" spc="-1" strike="noStrike">
                <a:solidFill>
                  <a:srgbClr val="ff3300"/>
                </a:solidFill>
                <a:latin typeface="Courier New"/>
                <a:ea typeface="Courier New"/>
              </a:rPr>
              <a:t>"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6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User-Defined XML Structur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ML basic synta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attern of all XML documen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es not say about “structure”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llowed basic syntax =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well-formed documen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r-Defined XM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“tags” and “attributes” are allow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cribe the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llowed “structure” =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valid documen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6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6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6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6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6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6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6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arser and DT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3429000" y="3048120"/>
            <a:ext cx="2590920" cy="1295280"/>
          </a:xfrm>
          <a:prstGeom prst="ellipse">
            <a:avLst/>
          </a:prstGeom>
          <a:solidFill>
            <a:srgbClr val="7e9c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  <a:ea typeface="Arial"/>
              </a:rPr>
              <a:t>XM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2057400" y="3657600"/>
            <a:ext cx="13716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457200" y="335268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X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c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019920" y="3733920"/>
            <a:ext cx="13716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7391520" y="350532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es/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V="1">
            <a:off x="4648320" y="4419720"/>
            <a:ext cx="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4191120" y="548640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T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5867280" y="2286000"/>
            <a:ext cx="2743200" cy="609480"/>
          </a:xfr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Check input using basic syntax and DT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TD Sampl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!ELEMENT purchase-order (header, billing, order*)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!ELEMENT order (item+)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!ELEMENT item (reference, descrition?, quantity, unit-price, price)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!ELEMENT reference (#PCDATA)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!ATTLIST order item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 flipH="1">
            <a:off x="456840" y="2095560"/>
            <a:ext cx="19080" cy="4152960"/>
          </a:xfrm>
          <a:prstGeom prst="line">
            <a:avLst/>
          </a:prstGeom>
          <a:ln w="19080">
            <a:solidFill>
              <a:srgbClr val="66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04920" y="5715000"/>
            <a:ext cx="657000" cy="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Basic HTTP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4408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pose user enters URL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ww.someSchool.edu/someDepartment/home.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88960" y="2188800"/>
            <a:ext cx="4175280" cy="18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a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TTP client initiates TCP connection to HTTP server (process) at www.someSchool.edu on port 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85800" y="3657600"/>
            <a:ext cx="380988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TTP client sends HTTP </a:t>
            </a:r>
            <a:r>
              <a:rPr b="0" i="1" lang="en-US" sz="1800" spc="-1" strike="noStrike">
                <a:solidFill>
                  <a:srgbClr val="669999"/>
                </a:solidFill>
                <a:latin typeface="Arial"/>
                <a:ea typeface="Arial"/>
              </a:rPr>
              <a:t>request messa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containing URL) into TCP connection socket.  Message indicates that client wants object someDepartment/home.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781520" y="2523960"/>
            <a:ext cx="3809880" cy="15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b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HTTP server at host www.someSchool.edu waiting for TCP connection at port 80.  “accepts” connection, notifying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800600" y="4191120"/>
            <a:ext cx="380988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TTP server receives request message, forms </a:t>
            </a:r>
            <a:r>
              <a:rPr b="0" i="1" lang="en-US" sz="1800" spc="-1" strike="noStrike">
                <a:solidFill>
                  <a:srgbClr val="669999"/>
                </a:solidFill>
                <a:latin typeface="Arial"/>
                <a:ea typeface="Arial"/>
              </a:rPr>
              <a:t>response messa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containing requested object, and sends message into its so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048200" y="2647800"/>
            <a:ext cx="1095480" cy="524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962520" y="4343400"/>
            <a:ext cx="1095120" cy="523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3962520" y="5410080"/>
            <a:ext cx="1095120" cy="524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06000" y="563868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99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flipH="1">
            <a:off x="3962520" y="3276720"/>
            <a:ext cx="1095120" cy="523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XML Related Technologi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ML Structure Defin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cument Type Definition (DTD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ML Schem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ML Pars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X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ML Transform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SL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7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7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7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7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7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ummar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se Infrastructure part 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sic protocol: HTTP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page generating mechanis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ndard data forma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ferenc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. Kurose and K. Ross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mputer Networking: A Top-Down Approach Featuring the Inter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dition, Addison Wesley, 200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. Sokol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rom EDI to Electronic Commerce: A Business Initia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McGraw-Hill, 199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. Johnson, “XML for the absolute beginner ”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Javaworl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pril 1999,  </a:t>
            </a:r>
            <a:r>
              <a:rPr b="0" lang="en-US" sz="18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http://www.javaworld.com/javaworld/jw-04-1999/jw-04-xml.htm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3C, “XML Tutorial”, </a:t>
            </a:r>
            <a:r>
              <a:rPr b="0" lang="en-US" sz="18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http://www.w3schools.com/xml/default.as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. Hall and L. Brown, “Introduction to XML”, 2001, </a:t>
            </a:r>
            <a:r>
              <a:rPr b="0" lang="en-US" sz="1800" spc="-1" strike="noStrike" u="sng">
                <a:solidFill>
                  <a:srgbClr val="7e9ce8"/>
                </a:solidFill>
                <a:uFillTx/>
                <a:latin typeface="Arial"/>
                <a:hlinkClick r:id="rId3"/>
              </a:rPr>
              <a:t>http://www.corewebprogramming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Basic HTTP (cont.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033200" y="2538000"/>
            <a:ext cx="4033800" cy="14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TTP client receives response message containing html file, displays html.  Parsing html file, finds 10 referenced jpeg 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066680" y="3962520"/>
            <a:ext cx="381024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6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eps 1-5 repeated for each of 10 jpeg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013360" y="1886040"/>
            <a:ext cx="380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TTP server closes TCP connec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23800" y="1913040"/>
            <a:ext cx="0" cy="2571480"/>
          </a:xfrm>
          <a:prstGeom prst="line">
            <a:avLst/>
          </a:prstGeom>
          <a:ln w="19080">
            <a:solidFill>
              <a:srgbClr val="66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85840" y="3913200"/>
            <a:ext cx="342720" cy="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05920" y="381780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99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3742920" y="1843200"/>
            <a:ext cx="1095480" cy="523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HTTP request message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wo types of HTTP messages: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request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respon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HTTP request messag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CII (human-readable forma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765000" y="3124080"/>
            <a:ext cx="7693200" cy="2945520"/>
            <a:chOff x="765000" y="3124080"/>
            <a:chExt cx="7693200" cy="2945520"/>
          </a:xfrm>
        </p:grpSpPr>
        <p:sp>
          <p:nvSpPr>
            <p:cNvPr id="450" name=""/>
            <p:cNvSpPr/>
            <p:nvPr/>
          </p:nvSpPr>
          <p:spPr>
            <a:xfrm>
              <a:off x="2895480" y="3200400"/>
              <a:ext cx="5562720" cy="2743200"/>
            </a:xfrm>
            <a:prstGeom prst="rect">
              <a:avLst/>
            </a:prstGeom>
            <a:solidFill>
              <a:srgbClr val="fefe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92640" y="3446640"/>
              <a:ext cx="4905000" cy="22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GET /somedir/page.html HTTP/1.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Host: www.someschool.edu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User-agent: Mozilla/4.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Connection: clos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Accept-language:fr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extra carriage return, line feed)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65000" y="3124080"/>
              <a:ext cx="2070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9999"/>
                  </a:solidFill>
                  <a:latin typeface="Arial"/>
                </a:rPr>
                <a:t>request l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9999"/>
                  </a:solidFill>
                  <a:latin typeface="Arial"/>
                </a:rPr>
                <a:t>(GET, POST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9999"/>
                  </a:solidFill>
                  <a:latin typeface="Arial"/>
                </a:rPr>
                <a:t>HEAD command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505240" y="3316320"/>
              <a:ext cx="923760" cy="257040"/>
            </a:xfrm>
            <a:prstGeom prst="line">
              <a:avLst/>
            </a:prstGeom>
            <a:ln w="19080">
              <a:solidFill>
                <a:srgbClr val="66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409920" y="3754440"/>
              <a:ext cx="227160" cy="1311120"/>
            </a:xfrm>
            <a:custGeom>
              <a:avLst/>
              <a:gdLst/>
              <a:ahLst/>
              <a:rect l="l" t="t" r="r" b="b"/>
              <a:pathLst>
                <a:path w="150" h="924">
                  <a:moveTo>
                    <a:pt x="122" y="6"/>
                  </a:moveTo>
                  <a:lnTo>
                    <a:pt x="0" y="0"/>
                  </a:lnTo>
                  <a:lnTo>
                    <a:pt x="0" y="924"/>
                  </a:lnTo>
                  <a:lnTo>
                    <a:pt x="150" y="918"/>
                  </a:lnTo>
                </a:path>
              </a:pathLst>
            </a:custGeom>
            <a:noFill/>
            <a:ln w="1908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523960" y="4276800"/>
              <a:ext cx="889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9999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9999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669999"/>
                  </a:solidFill>
                  <a:latin typeface="Arial"/>
                </a:rPr>
                <a:t>li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 flipV="1">
              <a:off x="2523960" y="5325840"/>
              <a:ext cx="1028880" cy="161640"/>
            </a:xfrm>
            <a:prstGeom prst="line">
              <a:avLst/>
            </a:prstGeom>
            <a:ln w="19080">
              <a:solidFill>
                <a:srgbClr val="66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50680" y="4878360"/>
              <a:ext cx="1841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9999"/>
                  </a:solidFill>
                  <a:latin typeface="Arial"/>
                </a:rPr>
                <a:t>Carriage return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9999"/>
                  </a:solidFill>
                  <a:latin typeface="Arial"/>
                </a:rPr>
                <a:t>line feed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9999"/>
                  </a:solidFill>
                  <a:latin typeface="Arial"/>
                </a:rPr>
                <a:t>indicates end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9999"/>
                  </a:solidFill>
                  <a:latin typeface="Arial"/>
                </a:rPr>
                <a:t>of mess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HTTP request message: general format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7511760" cy="37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HTTP response message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536040" y="1828800"/>
            <a:ext cx="8112600" cy="3989520"/>
            <a:chOff x="536040" y="1828800"/>
            <a:chExt cx="8112600" cy="3989520"/>
          </a:xfrm>
        </p:grpSpPr>
        <p:sp>
          <p:nvSpPr>
            <p:cNvPr id="462" name=""/>
            <p:cNvSpPr/>
            <p:nvPr/>
          </p:nvSpPr>
          <p:spPr>
            <a:xfrm>
              <a:off x="2446200" y="2160720"/>
              <a:ext cx="6172200" cy="3657600"/>
            </a:xfrm>
            <a:prstGeom prst="rect">
              <a:avLst/>
            </a:prstGeom>
            <a:solidFill>
              <a:srgbClr val="fefe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829240" y="2389320"/>
              <a:ext cx="5819400" cy="28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HTTP/1.1 200 OK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Connection clo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Date: Thu, 06 Aug 1998 12:00:15 GMT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Server: Apache/1.3.0 (Unix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Last-Modified: Mon, 22 Jun 1998 …..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Content-Length: 6821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Content-Type: text/htm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data data data data data ..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36040" y="1828800"/>
              <a:ext cx="1626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9999"/>
                  </a:solidFill>
                  <a:latin typeface="Arial"/>
                </a:rPr>
                <a:t>status l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9999"/>
                  </a:solidFill>
                  <a:latin typeface="Arial"/>
                </a:rPr>
                <a:t>(protoc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9999"/>
                  </a:solidFill>
                  <a:latin typeface="Arial"/>
                </a:rPr>
                <a:t>status co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9999"/>
                  </a:solidFill>
                  <a:latin typeface="Arial"/>
                </a:rPr>
                <a:t>status phras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941480" y="2316240"/>
              <a:ext cx="924120" cy="257040"/>
            </a:xfrm>
            <a:prstGeom prst="line">
              <a:avLst/>
            </a:prstGeom>
            <a:ln w="19080">
              <a:solidFill>
                <a:srgbClr val="66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741760" y="2751120"/>
              <a:ext cx="257040" cy="1859040"/>
            </a:xfrm>
            <a:custGeom>
              <a:avLst/>
              <a:gdLst/>
              <a:ahLst/>
              <a:rect l="l" t="t" r="r" b="b"/>
              <a:pathLst>
                <a:path w="162" h="1428">
                  <a:moveTo>
                    <a:pt x="132" y="9"/>
                  </a:moveTo>
                  <a:lnTo>
                    <a:pt x="0" y="0"/>
                  </a:lnTo>
                  <a:lnTo>
                    <a:pt x="0" y="1428"/>
                  </a:lnTo>
                  <a:lnTo>
                    <a:pt x="162" y="1425"/>
                  </a:lnTo>
                </a:path>
              </a:pathLst>
            </a:custGeom>
            <a:noFill/>
            <a:ln w="1908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769760" y="3438360"/>
              <a:ext cx="889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9999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9999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669999"/>
                  </a:solidFill>
                  <a:latin typeface="Arial"/>
                </a:rPr>
                <a:t>li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>
              <a:off x="1836720" y="4783320"/>
              <a:ext cx="923760" cy="257040"/>
            </a:xfrm>
            <a:prstGeom prst="line">
              <a:avLst/>
            </a:prstGeom>
            <a:ln w="19080">
              <a:solidFill>
                <a:srgbClr val="66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5120" y="4781520"/>
              <a:ext cx="1261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9999"/>
                  </a:solidFill>
                  <a:latin typeface="Arial"/>
                </a:rPr>
                <a:t>data, e.g.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9999"/>
                  </a:solidFill>
                  <a:latin typeface="Arial"/>
                </a:rPr>
                <a:t>request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9999"/>
                  </a:solidFill>
                  <a:latin typeface="Arial"/>
                </a:rPr>
                <a:t>HTML f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3T07:23:22Z</dcterms:created>
  <dc:creator>Natawut</dc:creator>
  <dc:description/>
  <dc:language>en-US</dc:language>
  <cp:lastModifiedBy>Natawut Nupairoj</cp:lastModifiedBy>
  <dcterms:modified xsi:type="dcterms:W3CDTF">2004-07-18T14:54:35Z</dcterms:modified>
  <cp:revision>33</cp:revision>
  <dc:subject/>
  <dc:title>Net-Centric Computing Overview</dc:title>
</cp:coreProperties>
</file>