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31977E-A759-418D-A8A3-F7B6DAEE6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757680-1A4C-4164-9F2E-4119DF14A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A51152-E66D-404D-85DE-B8F2C072B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3E4201-65E5-4755-9BF7-03261948D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2CC3D2-BB33-4C2E-87DC-28876EC7F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9A2809-29BF-46E8-998C-5630C0E70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C7C4CD-E91F-43F3-AF4A-EC6644E45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E935FE-759F-4818-B5F9-E0C43E37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A4E7C3-D49C-4EBC-B55A-E94FACFC8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05877C-DE39-4CFA-8BBA-72F0C22C5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174975-9109-49A9-A30D-6BC55839E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D70CD7-D1F8-4F6D-A219-0C586750E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0066"/>
                </a:solidFill>
                <a:latin typeface="Times New Roman"/>
              </a:rPr>
              <a:t>Basic Services</a:t>
            </a:r>
            <a:r>
              <a:rPr b="0" lang="en-US" sz="1200" spc="-1" strike="noStrike">
                <a:solidFill>
                  <a:srgbClr val="330066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330066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330066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330066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330066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330066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330066"/>
                </a:solidFill>
                <a:latin typeface="Times New Roman"/>
              </a:rPr>
              <a:t>Natawut Nupairoj, Ph.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5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CBD5D-040A-4A4A-B540-B4961936A99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8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quark.humbug.org.au/publications/intro_ldap/index.htm" TargetMode="External"/><Relationship Id="rId2" Type="http://schemas.openxmlformats.org/officeDocument/2006/relationships/hyperlink" Target="http://www.itworld.com/AppDev/1411/LWD990706ldap1/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Basic Services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10684 Information System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awut Nupairoj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artment of Computer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lalongkorn 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uthentication Servic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an enterpri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ch application requires authentication e.g. username and passwor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e user has multiple user accounts for different applica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manag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control access right for A US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SO – Single Sign 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90560" y="1986120"/>
            <a:ext cx="7561440" cy="38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SO – LDAP Solu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ngle account for all applic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LDAP for central account manageme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DAP allows single user account, but must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-login to access other system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if we want to use two or more services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olution 1 – SSO Too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514600" y="1523880"/>
            <a:ext cx="41925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olution 2 – Password Sync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209680" y="1757520"/>
            <a:ext cx="4724640" cy="43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olution 3 – Session Passpor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481120" y="1776240"/>
            <a:ext cx="418176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umma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rectory Service with LDAP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uthentication Service with SS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ferenc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Robertson and V. Sribar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Adaptive Enterpri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Intel Press, January 200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. Lewis, “Directories Don’t Get No Respect”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mpu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December 199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Marshall, “Introduction to LDAP”, </a:t>
            </a:r>
            <a:r>
              <a:rPr b="0" lang="en-US" sz="18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://quark.humbug.org.au/publications/intro_ldap/index.ht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. Shah, “LDAP in action, Part 1”, </a:t>
            </a:r>
            <a:r>
              <a:rPr b="0" lang="en-US" sz="18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http://www.itworld.com/AppDev/1411/LWD990706ldap1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Volchkov, “Revisiting Single Sign-On: A Pragmatic Approach in a New Context”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T Pr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Jan – Feb 2001, pp. 39 – 4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utlin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rectory Servi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uthentication Servic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irectory Servic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dress book for IT infrastruc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r information reposito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Username / password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ermission information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mail information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ther personal information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ource information repositor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y directory service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entral management and contro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ngle-sign-on: single account for all applica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irectory Service Produc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DS: Netware Directory Serv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T Domain: Microsoft Windows NT Domai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S: Microsoft Active Directory Serv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DAP: Lightweight Directory Access 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Planet Directory Serv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BM LDAP Serv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DAP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ghtweight Directory Access 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sed on X.500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timized specially for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ore read than writ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o transaction and rollback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erarchical namespac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tributed information manag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ultiple administrators (information owners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ne global view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[Hierachial Directory Tree]"/>
          <p:cNvPicPr/>
          <p:nvPr/>
        </p:nvPicPr>
        <p:blipFill>
          <a:blip r:embed="rId1"/>
          <a:stretch/>
        </p:blipFill>
        <p:spPr>
          <a:xfrm>
            <a:off x="3733920" y="1905120"/>
            <a:ext cx="4724280" cy="41004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DIT – Directory Information Tree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ch entry can contain both data and be a contain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search for criteria that matches entries in the tre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N – Distinguished Nam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14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rts from bottom, connecting each level with comm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uid=bmarshal,ou=People,dc=pisoftware,dc=co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Same RDN"/>
          <p:cNvPicPr/>
          <p:nvPr/>
        </p:nvPicPr>
        <p:blipFill>
          <a:blip r:embed="rId1"/>
          <a:stretch/>
        </p:blipFill>
        <p:spPr>
          <a:xfrm>
            <a:off x="2362320" y="3657600"/>
            <a:ext cx="4495680" cy="26352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990720" y="2971800"/>
            <a:ext cx="1981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45520" y="3048120"/>
            <a:ext cx="14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lative D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200400" y="2971800"/>
            <a:ext cx="5029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727160" y="304812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 D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ne Global Vie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8" name="" descr="[ Global Structure ]"/>
          <p:cNvPicPr/>
          <p:nvPr/>
        </p:nvPicPr>
        <p:blipFill>
          <a:blip r:embed="rId1"/>
          <a:stretch/>
        </p:blipFill>
        <p:spPr>
          <a:xfrm>
            <a:off x="1738440" y="1747800"/>
            <a:ext cx="566712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DIF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DAP Data Interchange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 LDAP entries in human readable tex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ually have tools to dumb and restore LDAP in LDI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n: uid=bmarshal,ou=People,dc=pisoftware,dc=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id: bmars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n: Brad Marsh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bjectclass: accou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bjectclass: posixAccou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oginshell: /bin/ba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idnumber: 5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idnumber: 1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omedirectory: /mnt/home/bmars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cos: Brad Marshall,,,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serpassword: {crypt}KDnOoUYN7Nea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3T07:23:22Z</dcterms:created>
  <dc:creator>Natawut</dc:creator>
  <dc:description/>
  <dc:language>en-US</dc:language>
  <cp:lastModifiedBy>Natawut Nupairoj</cp:lastModifiedBy>
  <dcterms:modified xsi:type="dcterms:W3CDTF">2003-07-27T18:49:39Z</dcterms:modified>
  <cp:revision>24</cp:revision>
  <dc:subject/>
  <dc:title>Net-Centric Computing Overview</dc:title>
</cp:coreProperties>
</file>