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B538C-6A53-4922-AA78-E16DCFD4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BB961-B74D-4677-A183-522DE491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D65C7-E4CC-429B-824B-4C5BA379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325F6-07F3-4513-BDB7-68BAB31A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FF61B-7FEB-4404-A6B7-2FFF19AD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7AD80-66B4-4C33-A00B-C4C0A10F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14DDF-3B60-4FEA-9EF6-1AADDDC1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CA44B-A56C-44A1-984B-51344019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55347-670B-4FE6-A136-0B5C1A06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5AC20-CDC7-4A35-9BA5-96C75E41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F3055-DB53-443E-A718-963B65A1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FF574-FE0A-4978-9098-6218E6E3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IS Architecture Overview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B71A-3C6C-48DC-A82B-1CABF0BA74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 Architecture Overview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684 Information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World: FedEx Case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 Strate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tilize efficient IT infrastructure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-to-one customer relationshi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ding business from logistic to supply chain servi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cking in customers with tighter IT integr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anding services geographicall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World: FedEx Case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 efficient and real-time ope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flexible services over the wor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le and scalable to meet the current and future dema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wide-range of integ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reasonable costs (build, operate, and maintai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World: FedEx Case (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47760" y="1719360"/>
            <a:ext cx="66470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nsact Patter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 with business data is stored for a long time e.g. customer orders, student registration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s of archite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-T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-Tier (commonly known as client/serve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/N-Tier (commonly known as web-base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er/Logic 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Logic: User Interfa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Logic: Application Programs and Serv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Logic: Databa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 Registration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Logic: web p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n / Logou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ster cla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/ Drop cla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s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al infor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 Registration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Logic: Modules and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entic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a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op a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s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 classes, grade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lidate class selection (called by add/drop clas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 Registration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Log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rse number, title, credit, pre-requisite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availability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ear, semester, course numb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dent-id, password, name, yea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class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ear, semester, student-id, course number, gr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 BTS Tick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y a pass (ticke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t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passes: student, tourist, refill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459400" y="1719360"/>
            <a:ext cx="1149480" cy="18590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153200" y="1719360"/>
            <a:ext cx="1150920" cy="1859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20937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 BTS Tick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Logic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 vending mach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rance g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t g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pass system (at the operator booth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etwork is Compute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un Micro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 BTS Tick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Logic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fare val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t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pass handl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re calculation (called by exit statio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re adjustment (called by special pass handling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 BTS Tick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Logic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 id, pass type, current value, expiration da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 traveling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 id, entered station, entered time, exited station, existed time, fare valu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-Tier Transact Patter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0102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frame with “dumb” termin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905120" y="2895480"/>
          <a:ext cx="5686200" cy="20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95480"/>
                    <a:ext cx="568620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-Tier Transact Pattern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62120" y="2057400"/>
            <a:ext cx="3783960" cy="2921040"/>
            <a:chOff x="762120" y="2057400"/>
            <a:chExt cx="3783960" cy="2921040"/>
          </a:xfrm>
        </p:grpSpPr>
        <p:graphicFrame>
          <p:nvGraphicFramePr>
            <p:cNvPr id="212" name=""/>
            <p:cNvGraphicFramePr/>
            <p:nvPr/>
          </p:nvGraphicFramePr>
          <p:xfrm>
            <a:off x="3504960" y="3124440"/>
            <a:ext cx="1041120" cy="711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04960" y="3124440"/>
                      <a:ext cx="104112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2971800" y="2057400"/>
            <a:ext cx="1040760" cy="71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2057400"/>
                      <a:ext cx="104076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"/>
            <p:cNvGraphicFramePr/>
            <p:nvPr/>
          </p:nvGraphicFramePr>
          <p:xfrm>
            <a:off x="2895480" y="4267440"/>
            <a:ext cx="104112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5480" y="4267440"/>
                      <a:ext cx="104112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"/>
            <p:cNvSpPr/>
            <p:nvPr/>
          </p:nvSpPr>
          <p:spPr>
            <a:xfrm flipV="1">
              <a:off x="2133360" y="2286000"/>
              <a:ext cx="1142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286000" y="335304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2209320" y="3809880"/>
              <a:ext cx="990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8800" y="2590920"/>
              <a:ext cx="532800" cy="1523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en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120" y="2590920"/>
              <a:ext cx="533160" cy="1523880"/>
            </a:xfrm>
            <a:prstGeom prst="rect">
              <a:avLst/>
            </a:prstGeom>
            <a:solidFill>
              <a:srgbClr val="e4f2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95280" y="2590920"/>
              <a:ext cx="533160" cy="15238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648320" y="2209680"/>
            <a:ext cx="4267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 and reli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sive, inflexible, lack of applications, take long time to devel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-Tier Transact Patter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tabase server with fat cli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B / Developer 2000 client program + SQL datab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ava client program (applet) + JDBC-compatible databa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14400" y="3124080"/>
          <a:ext cx="7121520" cy="24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12152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-Tier Transact Pattern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51460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 to develop (initia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sca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manageability and deploy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2514600"/>
            <a:ext cx="3200400" cy="2590920"/>
            <a:chOff x="1295280" y="2514600"/>
            <a:chExt cx="3200400" cy="2590920"/>
          </a:xfrm>
        </p:grpSpPr>
        <p:sp>
          <p:nvSpPr>
            <p:cNvPr id="232" name=""/>
            <p:cNvSpPr/>
            <p:nvPr/>
          </p:nvSpPr>
          <p:spPr>
            <a:xfrm flipV="1">
              <a:off x="1981080" y="274320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133360" y="38102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057400" y="426708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657600" y="3581640"/>
              <a:ext cx="838080" cy="380880"/>
              <a:chOff x="3657600" y="3581640"/>
              <a:chExt cx="838080" cy="380880"/>
            </a:xfrm>
          </p:grpSpPr>
          <p:sp>
            <p:nvSpPr>
              <p:cNvPr id="236" name=""/>
              <p:cNvSpPr/>
              <p:nvPr/>
            </p:nvSpPr>
            <p:spPr>
              <a:xfrm>
                <a:off x="3962520" y="3581640"/>
                <a:ext cx="533160" cy="380880"/>
              </a:xfrm>
              <a:prstGeom prst="rect">
                <a:avLst/>
              </a:prstGeom>
              <a:solidFill>
                <a:srgbClr val="d8d8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57600" y="3581640"/>
                <a:ext cx="304920" cy="380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295280" y="3048120"/>
              <a:ext cx="838080" cy="1523880"/>
              <a:chOff x="1295280" y="3048120"/>
              <a:chExt cx="838080" cy="1523880"/>
            </a:xfrm>
          </p:grpSpPr>
          <p:sp>
            <p:nvSpPr>
              <p:cNvPr id="239" name=""/>
              <p:cNvSpPr/>
              <p:nvPr/>
            </p:nvSpPr>
            <p:spPr>
              <a:xfrm>
                <a:off x="1295280" y="3048120"/>
                <a:ext cx="533160" cy="1523880"/>
              </a:xfrm>
              <a:prstGeom prst="rect">
                <a:avLst/>
              </a:prstGeom>
              <a:solidFill>
                <a:srgbClr val="e4f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28440" y="3048120"/>
                <a:ext cx="304920" cy="1523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124080" y="2514600"/>
              <a:ext cx="838080" cy="380880"/>
              <a:chOff x="3124080" y="2514600"/>
              <a:chExt cx="838080" cy="380880"/>
            </a:xfrm>
          </p:grpSpPr>
          <p:sp>
            <p:nvSpPr>
              <p:cNvPr id="242" name=""/>
              <p:cNvSpPr/>
              <p:nvPr/>
            </p:nvSpPr>
            <p:spPr>
              <a:xfrm>
                <a:off x="3429000" y="2514600"/>
                <a:ext cx="533160" cy="380880"/>
              </a:xfrm>
              <a:prstGeom prst="rect">
                <a:avLst/>
              </a:prstGeom>
              <a:solidFill>
                <a:srgbClr val="d8d8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24080" y="2514600"/>
                <a:ext cx="304920" cy="380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048120" y="4724640"/>
              <a:ext cx="838080" cy="380880"/>
              <a:chOff x="3048120" y="4724640"/>
              <a:chExt cx="838080" cy="380880"/>
            </a:xfrm>
          </p:grpSpPr>
          <p:sp>
            <p:nvSpPr>
              <p:cNvPr id="245" name=""/>
              <p:cNvSpPr/>
              <p:nvPr/>
            </p:nvSpPr>
            <p:spPr>
              <a:xfrm>
                <a:off x="3353040" y="4724640"/>
                <a:ext cx="533160" cy="380880"/>
              </a:xfrm>
              <a:prstGeom prst="rect">
                <a:avLst/>
              </a:prstGeom>
              <a:solidFill>
                <a:srgbClr val="d8d8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8120" y="4724640"/>
                <a:ext cx="304920" cy="380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/N-Tier Transact Patter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 + TP-Monitor + Database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base + Web server / App server + Browsers (Thin client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3505320"/>
          <a:ext cx="6426360" cy="22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05320"/>
                    <a:ext cx="642636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/N-Tier Transact Pattern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09480" y="2209680"/>
            <a:ext cx="4267440" cy="3048120"/>
            <a:chOff x="609480" y="2209680"/>
            <a:chExt cx="4267440" cy="3048120"/>
          </a:xfrm>
        </p:grpSpPr>
        <p:sp>
          <p:nvSpPr>
            <p:cNvPr id="253" name=""/>
            <p:cNvSpPr/>
            <p:nvPr/>
          </p:nvSpPr>
          <p:spPr>
            <a:xfrm flipH="1">
              <a:off x="121932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43792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7920" y="2209680"/>
              <a:ext cx="1143000" cy="30481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666880" y="259056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81916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2743200" y="411444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9480" y="2895480"/>
              <a:ext cx="609840" cy="1524240"/>
            </a:xfrm>
            <a:prstGeom prst="rect">
              <a:avLst/>
            </a:prstGeom>
            <a:solidFill>
              <a:srgbClr val="e4f2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6520" y="2666880"/>
              <a:ext cx="685800" cy="60984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09880" y="2362320"/>
              <a:ext cx="53352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3429000"/>
              <a:ext cx="53352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33920" y="4648320"/>
              <a:ext cx="53316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2895480"/>
              <a:ext cx="533520" cy="152424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76520" y="3429000"/>
              <a:ext cx="685800" cy="6094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76520" y="4191120"/>
              <a:ext cx="685800" cy="6094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181480" y="220968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 to man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 for integ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ghtly difficult to develop (initia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yers of IS Architecture (Ideal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371600" y="2286000"/>
            <a:ext cx="6324480" cy="3249720"/>
            <a:chOff x="1371600" y="2286000"/>
            <a:chExt cx="6324480" cy="3249720"/>
          </a:xfrm>
        </p:grpSpPr>
        <p:sp>
          <p:nvSpPr>
            <p:cNvPr id="270" name=""/>
            <p:cNvSpPr/>
            <p:nvPr/>
          </p:nvSpPr>
          <p:spPr>
            <a:xfrm>
              <a:off x="1371600" y="4648320"/>
              <a:ext cx="6324480" cy="8874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ase Infrastructure / 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1600" y="2286000"/>
              <a:ext cx="2286000" cy="6652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9880" y="2286000"/>
              <a:ext cx="3886200" cy="6652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57400" y="38098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24080" y="31240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86200" y="38098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00600" y="31240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15000" y="38098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77120" y="31240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23880" y="31240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e Infra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er, Application server, Database server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twor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, Intranet, proprietary network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ur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security equipment, data encryp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gr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Mod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formats and deliv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should you learn from this class (I hope) 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es information system architecture evolv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components and their function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component, what choices do you hav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choice, what are their pros and con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et of physical shared components for multiple applic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services: directory service, portal service authentication service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d services: payment services, middlewa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-defined services: application specif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may use serv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sues of I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rastructure ch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act patter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tralized or distribu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languages and develo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is a global net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 becomes very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tacking prevention: firewall, VPN, ID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ured data transfer: encryption algorithms, security protocol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sues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long (turn-around time) can a user tolerate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we have more users, can the system still respond within a certain period of time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we have new services, can the system provide new services while it still meets the responsiveness criter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sues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 / Avai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ve Nines = 99.999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us, each host can be down only f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Year = 365 * 24 * 60 = 525,600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001% (acceptable downtime) of 1 Year = 5.256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includes maintenance period !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about Six Nines ??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sues (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difficult is it for the admins to deploy, maintain, and upgrade the system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 in IS architectural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requirements dictates overall IS infrastruc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trends dictates cho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685800" y="1041480"/>
          <a:ext cx="72388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41480"/>
                    <a:ext cx="72388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arhoom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“Building a Successful E-Business: The FedEx Story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unication of A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ol. 46, No. 4, April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Turb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for Management: Transforming Business in the Digital Econo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ohn Wiley &amp; Sons, Inc.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Robertson and V. Sriba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daptive Enterpr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tel Press, January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 Till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“The State of Net-Centric Computing in Early 2001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Proceeding of the 3rd International Workshop in Net-Centric Compu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2001, pp. 57-6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 Tilley, “The Era of Net-Centric Computing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I Inter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ol.1, No.1, June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Peacock, “Distributed Architecture Technologies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EEE IT Profess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/June 2000, pp. 58-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What will NOT be taught in this class 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write a Java (or other languages) progr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create a web p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s of network protocols and equip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Information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that are processed and converted into a form that is useful and meaningful to the decision maker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= Student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(for teacher) = Score of this stud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Information System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or system that provides information to aid organizational decision making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 registration syst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room reservation syst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er logging and reporting syst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914400" y="2286000"/>
            <a:ext cx="7111800" cy="2962080"/>
            <a:chOff x="914400" y="2286000"/>
            <a:chExt cx="7111800" cy="2962080"/>
          </a:xfrm>
        </p:grpSpPr>
        <p:sp>
          <p:nvSpPr>
            <p:cNvPr id="159" name=""/>
            <p:cNvSpPr/>
            <p:nvPr/>
          </p:nvSpPr>
          <p:spPr>
            <a:xfrm>
              <a:off x="977400" y="3615480"/>
              <a:ext cx="2700720" cy="1000440"/>
            </a:xfrm>
            <a:prstGeom prst="rect">
              <a:avLst/>
            </a:prstGeom>
            <a:gradFill rotWithShape="0">
              <a:gsLst>
                <a:gs pos="0">
                  <a:srgbClr val="0461d2"/>
                </a:gs>
                <a:gs pos="100000">
                  <a:srgbClr val="4589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atab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ther related compon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7400" y="3365640"/>
              <a:ext cx="2700720" cy="242280"/>
            </a:xfrm>
            <a:prstGeom prst="rect">
              <a:avLst/>
            </a:prstGeom>
            <a:solidFill>
              <a:srgbClr val="c70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14400" y="3366360"/>
              <a:ext cx="285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FORMATION TECHNOLOG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38280" y="3681360"/>
              <a:ext cx="1630440" cy="447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95760" y="4800600"/>
              <a:ext cx="1630440" cy="447480"/>
            </a:xfrm>
            <a:prstGeom prst="rect">
              <a:avLst/>
            </a:prstGeom>
            <a:gradFill rotWithShape="0">
              <a:gsLst>
                <a:gs pos="0">
                  <a:srgbClr val="355b35"/>
                </a:gs>
                <a:gs pos="100000">
                  <a:srgbClr val="6985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ustomer 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95760" y="3971160"/>
              <a:ext cx="1630440" cy="447480"/>
            </a:xfrm>
            <a:prstGeom prst="rect">
              <a:avLst/>
            </a:prstGeom>
            <a:gradFill rotWithShape="0">
              <a:gsLst>
                <a:gs pos="0">
                  <a:srgbClr val="355b35"/>
                </a:gs>
                <a:gs pos="100000">
                  <a:srgbClr val="6985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rketing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95760" y="3115080"/>
              <a:ext cx="1630440" cy="447840"/>
            </a:xfrm>
            <a:prstGeom prst="rect">
              <a:avLst/>
            </a:prstGeom>
            <a:gradFill rotWithShape="0">
              <a:gsLst>
                <a:gs pos="0">
                  <a:srgbClr val="355b35"/>
                </a:gs>
                <a:gs pos="100000">
                  <a:srgbClr val="6985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ventory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95760" y="2286000"/>
              <a:ext cx="1630440" cy="447480"/>
            </a:xfrm>
            <a:prstGeom prst="rect">
              <a:avLst/>
            </a:prstGeom>
            <a:gradFill rotWithShape="0">
              <a:gsLst>
                <a:gs pos="0">
                  <a:srgbClr val="355b35"/>
                </a:gs>
                <a:gs pos="100000">
                  <a:srgbClr val="6985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yroll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49160" y="2443680"/>
              <a:ext cx="0" cy="264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49160" y="2443680"/>
              <a:ext cx="23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49160" y="3365640"/>
              <a:ext cx="23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49160" y="4181760"/>
              <a:ext cx="23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49160" y="5090400"/>
              <a:ext cx="23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18400" y="3866040"/>
              <a:ext cx="2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1240" y="3866040"/>
              <a:ext cx="47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 vs. I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Information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cove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al, work-group, enterprise-w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types of dec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onal, tactical, strateg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business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, operation, accounting, H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World: FedEx Ca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N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ldwide overnight shi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% market sh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than 100 million transactions per 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st, reliable, and afford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compet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7:23:22Z</dcterms:created>
  <dc:creator>Natawut</dc:creator>
  <dc:description/>
  <dc:language>en-US</dc:language>
  <cp:lastModifiedBy>Natawut Nupairoj</cp:lastModifiedBy>
  <dcterms:modified xsi:type="dcterms:W3CDTF">2004-07-18T14:14:55Z</dcterms:modified>
  <cp:revision>39</cp:revision>
  <dc:subject/>
  <dc:title>Net-Centric Computing Overview</dc:title>
</cp:coreProperties>
</file>