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7B597-9200-4AEE-B8AD-D6DCA169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53E26-31A9-494E-8C69-36F0F625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7E7A2-03F4-4116-870C-96AD5575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D5F60-1E4B-44E9-910A-A8AF936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0054B-FADF-4CDF-B2FB-79842D52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ECAB3-7E61-43B5-8854-EC730FAE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8FB74-67D3-4195-81EC-8F916FE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C03DE-FEEB-462F-AB8A-7DDEB1E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E5E9C-8DA6-42B5-BC31-02698DB6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12DED-DF18-472F-9F3F-0FA61DAF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48D66-69D8-4D0D-95DE-5E082282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6478A-97B6-4C34-8F00-E4392296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Middleware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336A-365D-450C-81B7-EA7215AB99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ebservices.org/index.php/imagecatalogue/imageview/94/?RefererURL=/article/articleview/352/4/24/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webservices.org/" TargetMode="External"/><Relationship Id="rId2" Type="http://schemas.openxmlformats.org/officeDocument/2006/relationships/hyperlink" Target="http://www.webservices.org/" TargetMode="External"/><Relationship Id="rId3" Type="http://schemas.openxmlformats.org/officeDocument/2006/relationships/hyperlink" Target="http://my.execpc.com/~gopalan/jms/jms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iddleware and Integr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35800" y="4572000"/>
            <a:ext cx="4325760" cy="204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?xml version=“1.0”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methodRespons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param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par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value&gt;&lt;i4&gt;70&lt;/i4&gt;&lt;/valu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/par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/param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/methodRespons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152280"/>
            <a:ext cx="5945040" cy="204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?xml version=“1.0”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methodCa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methodName&gt;Calculator.Add&lt;/method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param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param&gt;&lt;value&gt;&lt;i4&gt;30&lt;/i4&gt;&lt;/value&gt;&lt;/par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param&gt;&lt;value&gt;&lt;i4&gt;40&lt;/i4&gt;&lt;/value&gt;&lt;/par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/param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ngsana New"/>
              </a:rPr>
              <a:t>&lt;/methodCa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2779560"/>
            <a:ext cx="1742760" cy="1468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761160" y="2779560"/>
            <a:ext cx="1743120" cy="1468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657600" y="2533680"/>
            <a:ext cx="0" cy="18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1800" y="2533680"/>
            <a:ext cx="0" cy="18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16360" y="31258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95520" y="3200400"/>
            <a:ext cx="116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95520" y="3619440"/>
            <a:ext cx="11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200400"/>
            <a:ext cx="116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1800" y="3619440"/>
            <a:ext cx="11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5760" y="37450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XML-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60160" y="433548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8ec"/>
                </a:solidFill>
                <a:latin typeface="Arial"/>
                <a:ea typeface="Angsana New"/>
              </a:rPr>
              <a:t>Server/Lis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6640" y="40687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8ec"/>
                </a:solidFill>
                <a:latin typeface="Arial"/>
                <a:ea typeface="Angsana New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37800" y="22399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XML-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6" idx="2"/>
            <a:endCxn id="195" idx="3"/>
          </p:cNvCxnSpPr>
          <p:nvPr/>
        </p:nvCxnSpPr>
        <p:spPr>
          <a:xfrm rot="5400000">
            <a:off x="4685040" y="4024800"/>
            <a:ext cx="1454760" cy="1688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209" idx="0"/>
            <a:endCxn id="196" idx="1"/>
          </p:cNvCxnSpPr>
          <p:nvPr/>
        </p:nvCxnSpPr>
        <p:spPr>
          <a:xfrm flipH="1" flipV="1" rot="5400000">
            <a:off x="1796040" y="987840"/>
            <a:ext cx="1064160" cy="1440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2576880" y="2798640"/>
            <a:ext cx="3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ngsana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67120" y="1522440"/>
            <a:ext cx="3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ngsan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53600" y="2284560"/>
            <a:ext cx="3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ngsan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91880" y="2951280"/>
            <a:ext cx="3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ngsana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9520" y="4284720"/>
            <a:ext cx="3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ngsana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5000" y="3733920"/>
            <a:ext cx="3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ngsana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7200" y="2989440"/>
            <a:ext cx="3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ngsana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a Web Service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Web Service is any service t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vailable over the Internet or private (intranet)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a standardized XML messaging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t tied to any one operating system or programming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fe before Web Ser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2590920"/>
            <a:ext cx="2209680" cy="10666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tor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 flipV="1">
            <a:off x="3580920" y="3352320"/>
            <a:ext cx="2667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581280"/>
            <a:ext cx="2666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2438280"/>
            <a:ext cx="2438640" cy="916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hat is the status of my ord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4114800"/>
            <a:ext cx="2819520" cy="1191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sponse with HTML P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aving the warehouse at 15.00 toda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ce-Based 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590920"/>
            <a:ext cx="2209680" cy="10666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tor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3580920" y="3352320"/>
            <a:ext cx="2667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581280"/>
            <a:ext cx="2666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2438280"/>
            <a:ext cx="2438640" cy="916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Requ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hat is the status of my ord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4114800"/>
            <a:ext cx="2819520" cy="916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aving the warehouse at 15.00 toda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172200" y="4038480"/>
            <a:ext cx="1828440" cy="1524240"/>
            <a:chOff x="6172200" y="4038480"/>
            <a:chExt cx="1828440" cy="1524240"/>
          </a:xfrm>
        </p:grpSpPr>
        <p:sp>
          <p:nvSpPr>
            <p:cNvPr id="235" name="Gear"/>
            <p:cNvSpPr/>
            <p:nvPr/>
          </p:nvSpPr>
          <p:spPr>
            <a:xfrm>
              <a:off x="7185960" y="4038480"/>
              <a:ext cx="814680" cy="698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72200" y="4326480"/>
              <a:ext cx="974160" cy="8355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04000" y="4634640"/>
              <a:ext cx="1082880" cy="92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867640" y="571500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Basic Web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49863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Services Benef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Asp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auto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integ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 to publics (e.g. customers, business partner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 independ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independ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compon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Services Defin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not required, a web service may also have two additional (and desirable) propert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web service should be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self descri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public interfaces of the servi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SOAP, in standard XML format (WSDL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web service should be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discover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st have a simple way to advertise or “publish” your service so others can find or “discover” 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Services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escrib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ing a service description langu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Publish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 registry of serv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scover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rough a standard mecha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vok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ugh a declared API over a net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ompos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other serv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Services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 – Find – Bi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2590920"/>
            <a:ext cx="129528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876920"/>
            <a:ext cx="129528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4876920"/>
            <a:ext cx="129528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971800" y="365724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029200" y="365724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3080" y="39625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200" y="5638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B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5320" y="39625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3048120"/>
            <a:ext cx="914400" cy="609480"/>
          </a:xfrm>
          <a:noFill/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D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91520" y="4800600"/>
            <a:ext cx="1066680" cy="609480"/>
          </a:xfrm>
          <a:noFill/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2895480"/>
            <a:ext cx="1143000" cy="609840"/>
          </a:xfrm>
          <a:noFill/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Services St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171440" y="2062080"/>
            <a:ext cx="7070760" cy="3573720"/>
            <a:chOff x="1171440" y="2062080"/>
            <a:chExt cx="7070760" cy="3573720"/>
          </a:xfrm>
        </p:grpSpPr>
        <p:sp>
          <p:nvSpPr>
            <p:cNvPr id="263" name=""/>
            <p:cNvSpPr/>
            <p:nvPr/>
          </p:nvSpPr>
          <p:spPr>
            <a:xfrm>
              <a:off x="1171440" y="3554280"/>
              <a:ext cx="2198880" cy="6382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71440" y="2851200"/>
              <a:ext cx="2198880" cy="6382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58920" y="3643200"/>
              <a:ext cx="2022480" cy="45972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Messag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89080" y="2130480"/>
              <a:ext cx="2198520" cy="6382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71440" y="4275000"/>
              <a:ext cx="2198880" cy="6382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71440" y="4997520"/>
              <a:ext cx="2198880" cy="6382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71440" y="2940120"/>
              <a:ext cx="2198880" cy="45972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WSD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89080" y="2219400"/>
              <a:ext cx="2179440" cy="45972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UD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58920" y="4363920"/>
              <a:ext cx="2022480" cy="45972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8920" y="5084640"/>
              <a:ext cx="2022480" cy="45972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81280" y="2062080"/>
              <a:ext cx="466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Universal Description, Discovery and Integ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81280" y="2960640"/>
              <a:ext cx="466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Web Services Description Langu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1280" y="3681360"/>
              <a:ext cx="466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XML-RPC and/or SO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81280" y="4402080"/>
              <a:ext cx="466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HTTP, HTTPR, BE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1280" y="5105520"/>
              <a:ext cx="466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TCP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PC Middle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action Processing Middle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Oriented Middle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ion Mech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the Tools in the Market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2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 – WebLogic Ser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BM – WebSphere SOAP toolk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n – Sun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ona – XMLB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madia – JRun 3.1 / JRun 4.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– Axis (SOAP AP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ity of Indiana – SOAP-R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d Electric – G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’s 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864480" cy="2724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638680" y="457200"/>
            <a:ext cx="19656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ther Real-World Applications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…there are som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lersp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uto Dealer Associ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 dealers to communicate with other companies via ebXML and SOA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tur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ndling credit check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ting the exact color and car op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cating the car at another deal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Study – Singapore eGover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eService Infrastructure (PS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A Singap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e over 600 online services from several government agen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quest for a new driver’s licen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vice provided by Land Transport Authority of Singapo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ever, citizen information is needed from Citizen Depart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payment must be made onl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 services also need these inform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33720" y="4343400"/>
            <a:ext cx="530280" cy="990720"/>
          </a:xfrm>
          <a:prstGeom prst="upDownArrow">
            <a:avLst>
              <a:gd name="adj1" fmla="val 67944"/>
              <a:gd name="adj2" fmla="val 32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4343400"/>
            <a:ext cx="530280" cy="990720"/>
          </a:xfrm>
          <a:prstGeom prst="upDownArrow">
            <a:avLst>
              <a:gd name="adj1" fmla="val 67944"/>
              <a:gd name="adj2" fmla="val 32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62720" y="2209680"/>
            <a:ext cx="1447560" cy="381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2209680"/>
            <a:ext cx="3352680" cy="381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562720" y="2971800"/>
            <a:ext cx="1450440" cy="838080"/>
            <a:chOff x="5562720" y="2971800"/>
            <a:chExt cx="1450440" cy="838080"/>
          </a:xfrm>
        </p:grpSpPr>
        <p:sp>
          <p:nvSpPr>
            <p:cNvPr id="292" name=""/>
            <p:cNvSpPr/>
            <p:nvPr/>
          </p:nvSpPr>
          <p:spPr>
            <a:xfrm>
              <a:off x="5562720" y="2971800"/>
              <a:ext cx="1450440" cy="83808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47040" y="2989080"/>
              <a:ext cx="10814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  <a:ea typeface="Angsana New"/>
                </a:rPr>
                <a:t>Apply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  <a:ea typeface="Angsana New"/>
                </a:rPr>
                <a:t>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  <a:ea typeface="Angsana New"/>
                </a:rPr>
                <a:t>Hou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175440" y="4343400"/>
            <a:ext cx="530280" cy="990720"/>
          </a:xfrm>
          <a:prstGeom prst="upDownArrow">
            <a:avLst>
              <a:gd name="adj1" fmla="val 67944"/>
              <a:gd name="adj2" fmla="val 32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281320" y="1143000"/>
            <a:ext cx="766800" cy="838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232000" y="5184720"/>
            <a:ext cx="368280" cy="530280"/>
          </a:xfrm>
          <a:prstGeom prst="can">
            <a:avLst>
              <a:gd name="adj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8120" y="5184720"/>
            <a:ext cx="366480" cy="530280"/>
          </a:xfrm>
          <a:prstGeom prst="can">
            <a:avLst>
              <a:gd name="adj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78400" y="5184720"/>
            <a:ext cx="366840" cy="530280"/>
          </a:xfrm>
          <a:prstGeom prst="can">
            <a:avLst>
              <a:gd name="adj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79600" y="485316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63920" y="485316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26360" y="485316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666880" y="1933560"/>
            <a:ext cx="6480" cy="1038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19051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1998720"/>
            <a:ext cx="1400040" cy="973080"/>
          </a:xfrm>
          <a:custGeom>
            <a:avLst/>
            <a:gdLst/>
            <a:ahLst/>
            <a:rect l="l" t="t" r="r" b="b"/>
            <a:pathLst>
              <a:path w="858" h="589">
                <a:moveTo>
                  <a:pt x="858" y="0"/>
                </a:moveTo>
                <a:lnTo>
                  <a:pt x="0" y="1"/>
                </a:lnTo>
                <a:lnTo>
                  <a:pt x="0" y="5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480" y="14176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ngsana New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9480" y="30384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ngsana New"/>
              </a:rPr>
              <a:t>e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6840" y="43671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ngsana New"/>
              </a:rPr>
              <a:t>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33760" y="52308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ngsana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68320" y="43434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  <a:ea typeface="Angsana New"/>
              </a:rPr>
              <a:t>Inland 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93520" y="435276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  <a:ea typeface="Angsana New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  <a:ea typeface="Angsana New"/>
              </a:rPr>
              <a:t>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48480" y="434016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  <a:ea typeface="Angsana New"/>
              </a:rPr>
              <a:t>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  <a:ea typeface="Angsana New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965400" y="1219320"/>
            <a:ext cx="866880" cy="712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5867280" y="1143000"/>
            <a:ext cx="641520" cy="8380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832040" y="3809880"/>
            <a:ext cx="517824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ngsana New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365200" y="3809880"/>
            <a:ext cx="4000320" cy="458640"/>
            <a:chOff x="2365200" y="3809880"/>
            <a:chExt cx="4000320" cy="458640"/>
          </a:xfrm>
        </p:grpSpPr>
        <p:grpSp>
          <p:nvGrpSpPr>
            <p:cNvPr id="316" name=""/>
            <p:cNvGrpSpPr/>
            <p:nvPr/>
          </p:nvGrpSpPr>
          <p:grpSpPr>
            <a:xfrm>
              <a:off x="2365200" y="3809880"/>
              <a:ext cx="3999960" cy="259200"/>
              <a:chOff x="2365200" y="3809880"/>
              <a:chExt cx="3999960" cy="259200"/>
            </a:xfrm>
          </p:grpSpPr>
          <p:cxnSp>
            <p:nvCxnSpPr>
              <p:cNvPr id="317" name=""/>
              <p:cNvCxnSpPr/>
              <p:nvPr/>
            </p:nvCxnSpPr>
            <p:spPr>
              <a:xfrm flipH="1" rot="16200000">
                <a:off x="3355200" y="2819520"/>
                <a:ext cx="2160" cy="1982160"/>
              </a:xfrm>
              <a:prstGeom prst="bentConnector3">
                <a:avLst>
                  <a:gd name="adj1" fmla="val 14400000"/>
                </a:avLst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318" name=""/>
              <p:cNvCxnSpPr>
                <a:endCxn id="292" idx="2"/>
              </p:cNvCxnSpPr>
              <p:nvPr/>
            </p:nvCxnSpPr>
            <p:spPr>
              <a:xfrm flipH="1" rot="16200000">
                <a:off x="5354640" y="2800800"/>
                <a:ext cx="2160" cy="2019960"/>
              </a:xfrm>
              <a:prstGeom prst="bentConnector3">
                <a:avLst>
                  <a:gd name="adj1" fmla="val 14400000"/>
                </a:avLst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319" name=""/>
            <p:cNvGrpSpPr/>
            <p:nvPr/>
          </p:nvGrpSpPr>
          <p:grpSpPr>
            <a:xfrm>
              <a:off x="2365560" y="4009320"/>
              <a:ext cx="3999960" cy="259200"/>
              <a:chOff x="2365560" y="4009320"/>
              <a:chExt cx="3999960" cy="259200"/>
            </a:xfrm>
          </p:grpSpPr>
          <p:cxnSp>
            <p:nvCxnSpPr>
              <p:cNvPr id="320" name=""/>
              <p:cNvCxnSpPr/>
              <p:nvPr/>
            </p:nvCxnSpPr>
            <p:spPr>
              <a:xfrm flipV="1" rot="16200000">
                <a:off x="5373720" y="3276360"/>
                <a:ext cx="2160" cy="1982160"/>
              </a:xfrm>
              <a:prstGeom prst="bentConnector3">
                <a:avLst>
                  <a:gd name="adj1" fmla="val 14400000"/>
                </a:avLst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321" name=""/>
              <p:cNvCxnSpPr/>
              <p:nvPr/>
            </p:nvCxnSpPr>
            <p:spPr>
              <a:xfrm flipV="1" rot="16200000">
                <a:off x="3374640" y="3257640"/>
                <a:ext cx="2160" cy="2019960"/>
              </a:xfrm>
              <a:prstGeom prst="bentConnector3">
                <a:avLst>
                  <a:gd name="adj1" fmla="val 14400000"/>
                </a:avLst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</p:grpSp>
      <p:sp>
        <p:nvSpPr>
          <p:cNvPr id="322" name=""/>
          <p:cNvSpPr/>
          <p:nvPr/>
        </p:nvSpPr>
        <p:spPr>
          <a:xfrm>
            <a:off x="8051040" y="556272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ngsana New"/>
              </a:rPr>
              <a:t>Patents p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324480" y="3641760"/>
            <a:ext cx="2819520" cy="703800"/>
            <a:chOff x="6324480" y="3641760"/>
            <a:chExt cx="2819520" cy="703800"/>
          </a:xfrm>
        </p:grpSpPr>
        <p:sp>
          <p:nvSpPr>
            <p:cNvPr id="324" name=""/>
            <p:cNvSpPr/>
            <p:nvPr/>
          </p:nvSpPr>
          <p:spPr>
            <a:xfrm>
              <a:off x="6324480" y="403848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7006680" y="3641760"/>
              <a:ext cx="2137320" cy="703800"/>
              <a:chOff x="7006680" y="3641760"/>
              <a:chExt cx="2137320" cy="70380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0120" y="3733920"/>
                <a:ext cx="366480" cy="530280"/>
              </a:xfrm>
              <a:prstGeom prst="can">
                <a:avLst>
                  <a:gd name="adj" fmla="val 25000"/>
                </a:avLst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210800">
                <a:off x="7092000" y="3724920"/>
                <a:ext cx="441360" cy="610920"/>
              </a:xfrm>
              <a:prstGeom prst="upDownArrow">
                <a:avLst>
                  <a:gd name="adj1" fmla="val 67944"/>
                  <a:gd name="adj2" fmla="val 24178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924680" y="3641760"/>
                <a:ext cx="1219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666699"/>
                    </a:solidFill>
                    <a:latin typeface="Arial"/>
                    <a:ea typeface="Angsana New"/>
                  </a:rPr>
                  <a:t>User Profi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483840" y="2179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ngsana New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00080" y="2971800"/>
            <a:ext cx="1454040" cy="838080"/>
            <a:chOff x="1900080" y="2971800"/>
            <a:chExt cx="1454040" cy="838080"/>
          </a:xfrm>
        </p:grpSpPr>
        <p:sp>
          <p:nvSpPr>
            <p:cNvPr id="331" name=""/>
            <p:cNvSpPr/>
            <p:nvPr/>
          </p:nvSpPr>
          <p:spPr>
            <a:xfrm>
              <a:off x="1900080" y="2971800"/>
              <a:ext cx="1454040" cy="83808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37320" y="2989080"/>
              <a:ext cx="9792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  <a:ea typeface="Angsana New"/>
                </a:rPr>
                <a:t>Fi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  <a:ea typeface="Angsana New"/>
                </a:rPr>
                <a:t>Ta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  <a:ea typeface="Angsana New"/>
                </a:rPr>
                <a:t>Retur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733920" y="2971800"/>
            <a:ext cx="1450440" cy="838080"/>
            <a:chOff x="3733920" y="2971800"/>
            <a:chExt cx="1450440" cy="838080"/>
          </a:xfrm>
        </p:grpSpPr>
        <p:sp>
          <p:nvSpPr>
            <p:cNvPr id="334" name=""/>
            <p:cNvSpPr/>
            <p:nvPr/>
          </p:nvSpPr>
          <p:spPr>
            <a:xfrm>
              <a:off x="3733920" y="2971800"/>
              <a:ext cx="1450440" cy="83808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76200" y="2989080"/>
              <a:ext cx="96552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  <a:ea typeface="Angsana New"/>
                </a:rPr>
                <a:t>Ren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  <a:ea typeface="Angsana New"/>
                </a:rPr>
                <a:t>Driver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  <a:ea typeface="Angsana New"/>
                </a:rPr>
                <a:t>Lice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629240" y="1981080"/>
            <a:ext cx="1390680" cy="990720"/>
          </a:xfrm>
          <a:custGeom>
            <a:avLst/>
            <a:gdLst/>
            <a:ahLst/>
            <a:rect l="l" t="t" r="r" b="b"/>
            <a:pathLst>
              <a:path w="924" h="528">
                <a:moveTo>
                  <a:pt x="0" y="0"/>
                </a:moveTo>
                <a:lnTo>
                  <a:pt x="912" y="0"/>
                </a:lnTo>
                <a:lnTo>
                  <a:pt x="924" y="5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248160" y="1933560"/>
            <a:ext cx="6120" cy="1038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18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action Process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unit of work that updates a database (and other resourc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have ACID proper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mic execution of multiple ope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transfering money between two accou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draw from the source accou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posit to the destined accou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st execute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all-or-nothing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action Process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sistent data integ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end of transaction, data in the database must be consistent (based on pre-defined data integrity and constrain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ation of trans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two transactions want to touch sam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rialize them – done in sequ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transaction is done, it is really d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Study – Service Bran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620120" y="3657600"/>
          <a:ext cx="7221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657600"/>
                    <a:ext cx="722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657600" y="3733920"/>
          <a:ext cx="93672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733920"/>
                    <a:ext cx="936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666880" y="5334120"/>
          <a:ext cx="7653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33412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1523880" y="4343400"/>
          <a:ext cx="76536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34340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676520" y="2819520"/>
          <a:ext cx="76500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7650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2895480" y="1828800"/>
          <a:ext cx="76536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182880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6629400" y="3505320"/>
          <a:ext cx="801720" cy="107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505320"/>
                    <a:ext cx="8017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73152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3809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52680" y="25909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34290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209680" y="41907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200400" y="441936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03680" y="464832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16600" y="3352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60480" y="1905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26760" y="2438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50800" y="3962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08200" y="54864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95680" y="396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4267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Study – Service Bran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7620120" y="3657600"/>
          <a:ext cx="7221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657600"/>
                    <a:ext cx="722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657600" y="3733920"/>
          <a:ext cx="93672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733920"/>
                    <a:ext cx="936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666880" y="5334120"/>
          <a:ext cx="7653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33412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523880" y="4343400"/>
          <a:ext cx="76536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34340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676520" y="2819520"/>
          <a:ext cx="76500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7650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895480" y="1828800"/>
          <a:ext cx="76536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182880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6629400" y="3505320"/>
          <a:ext cx="801720" cy="107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505320"/>
                    <a:ext cx="8017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73152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9568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5909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62320" y="34290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209680" y="41907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200400" y="441936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03680" y="464832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16600" y="3352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60480" y="1905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26760" y="2438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50800" y="3962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08200" y="54864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5257800" y="3581280"/>
          <a:ext cx="801720" cy="107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57800" y="3581280"/>
                    <a:ext cx="80172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4954680" y="47242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360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Middlewar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dging a gap or “glue” between components for building distributed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engines, protocols, API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47920" y="3581280"/>
            <a:ext cx="5486400" cy="1067040"/>
            <a:chOff x="1447920" y="3581280"/>
            <a:chExt cx="5486400" cy="1067040"/>
          </a:xfrm>
        </p:grpSpPr>
        <p:sp>
          <p:nvSpPr>
            <p:cNvPr id="154" name=""/>
            <p:cNvSpPr/>
            <p:nvPr/>
          </p:nvSpPr>
          <p:spPr>
            <a:xfrm>
              <a:off x="1447920" y="3581280"/>
              <a:ext cx="1371600" cy="9907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62720" y="3581280"/>
              <a:ext cx="1371600" cy="9907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5320" y="3581280"/>
              <a:ext cx="1371600" cy="106704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19520" y="4114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Oriented Middle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Message Oriented Middlewar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exchanging service between two or more compon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synchronous, reliable, scalable, and group communication abil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really for real-time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I: JMS, IBM MQse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s: iPlanet MQ, IBM MQSeries, Microsoft MSMQ, SonicMQ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Oriented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ly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between appl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t functional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676520" y="3200400"/>
          <a:ext cx="541008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00400"/>
                    <a:ext cx="541008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Featu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er does not need to wait until receiver actually receives the mess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email, receiver does not have to be available during sen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message has been sent to the messaging server, it is guaranteed to reach recei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c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-to-Point  -- “Message Queu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er (put) / receiver (get) / message queue (mailbox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r-Consumer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67467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-Subscri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er / subscriber / message top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7467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va Message Service (JM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ic vendor-independent messaging AP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 of J2EE archite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both point-to-point and publish-subscribe mode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ll platforms that Java suppor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for Java language on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MS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197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BM MQS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MOM in the mark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 35 platforms: Windows, Unix, Linux, OS/400, Mainfram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languages: Java, C, C++, PL/I, VB. Cobol, RPG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called “Websphere MQ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Study – Retail St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295280" y="3352680"/>
          <a:ext cx="3812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3812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3657600" y="1676520"/>
          <a:ext cx="380880" cy="79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76520"/>
                    <a:ext cx="38088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124080" y="5181480"/>
          <a:ext cx="381240" cy="79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5181480"/>
                    <a:ext cx="3812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6553080" y="4038480"/>
          <a:ext cx="801720" cy="107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4038480"/>
                    <a:ext cx="80172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4117320" y="19051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6920" y="41911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45720" y="60199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429000" y="3657600"/>
          <a:ext cx="175248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657600"/>
                    <a:ext cx="17524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169320" y="51814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32440" y="2971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64832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388620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276720" y="4190760"/>
            <a:ext cx="68580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2438280"/>
            <a:ext cx="22860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952880" y="4038480"/>
            <a:ext cx="16002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4800600" y="4114440"/>
            <a:ext cx="175248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428640" y="4191120"/>
            <a:ext cx="68580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3962160" y="2437920"/>
            <a:ext cx="228600" cy="121932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0960" y="35053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ck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79440" y="44956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w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46240" y="2133720"/>
            <a:ext cx="287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date stock from s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nd new prices to s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erprise Service B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096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52640" y="2046240"/>
            <a:ext cx="4033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inating the applications and servic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ing data based on content, translating data from one form to anoth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ng into legac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ing it all together with a reliable backbone based on JMS messag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: TIBCO and Vitr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Middleware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a lot differences between two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platfor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spee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behavi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want to “re-invent the whe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 messag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gration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Integration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ation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ctional Integration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sentation Integration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5029200"/>
            <a:ext cx="160020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5029200"/>
            <a:ext cx="1600200" cy="160020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19320" y="4343400"/>
            <a:ext cx="160020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2895480"/>
            <a:ext cx="1600200" cy="838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00800" y="4343400"/>
            <a:ext cx="1600200" cy="8380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00800" y="2895480"/>
            <a:ext cx="1600200" cy="838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37339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15200" y="37339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51814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15200" y="51814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05320" y="1676520"/>
            <a:ext cx="2133360" cy="8380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057400" y="20574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205740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3886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38480" y="4648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Windows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8480" y="533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Screen Scr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25146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57600" y="32767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57600" y="32767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40384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657600" y="4800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48006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55627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Integration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5029200"/>
            <a:ext cx="160020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781680" y="5029200"/>
            <a:ext cx="1600200" cy="160020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4343400"/>
            <a:ext cx="160020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4343400"/>
            <a:ext cx="1600200" cy="8380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002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3962520"/>
            <a:ext cx="2590560" cy="8380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133360" y="44197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943600" y="44197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09880" y="2743200"/>
            <a:ext cx="1524240" cy="8380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1523880"/>
            <a:ext cx="1524240" cy="83844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533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20004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913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913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053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86200" y="5638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Batch fil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20004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913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913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808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3808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Database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7220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Data 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722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O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Integration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8080" y="5029200"/>
            <a:ext cx="160020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81680" y="5029200"/>
            <a:ext cx="1600200" cy="160020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4648320"/>
            <a:ext cx="2209680" cy="53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77120" y="4648320"/>
            <a:ext cx="2209680" cy="533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002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6201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048120"/>
            <a:ext cx="2590560" cy="8380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00200" y="38862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15000" y="388620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2209680"/>
            <a:ext cx="2590560" cy="4572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83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483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65760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6576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576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1447920"/>
            <a:ext cx="2590560" cy="4572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576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52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T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ing Services have become very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ing used for B-2-B integ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being used to interconnect components in the enterprise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prise Application Integration (EA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 reliable delivery mechanism for Web Serv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prise Service B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Britto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Architecture and Middle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ddison Wesley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Sandland and R. Israni, “An Architecture Analysis of Message Oriented Middleware”, CS-427 project, UIUC, 2001,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</a:rPr>
              <a:t>http://wiki.cs.uiuc.edu/cs427/Messaging+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Cerami, Web Services Essentials, Oreilly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Graham et. al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 Web Services with 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AMS Publishing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webservice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Raj, “Java Message Service (JMS)”,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my.execpc.com/~gopalan/jms/jms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MS Tutorial,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</a:rPr>
              <a:t>http://java.sun.com/products/jms/tutorial/1_3_1-fcs/doc/jms_tutorialTOC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s of Middlewa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 Procedure Call (RP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program to call other programs remote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ransparency (as if all programs are in the same compute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I: Java RMI, Microsoft DCOM, Sun RPC, CORBA, XML-RPC, SOAP, Web Serv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s of Middlewa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action Process Monitoring (TP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nects clients to database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ransaction capability and scal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s: EJB, BEA Tuxedo, IBM CICS-TXSeries, Microsoft M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Tuxedo connects VB clients to SQL datab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s of Middlewa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ing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nects modules / applications / organiz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reliable messaging capabil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s: IBM WebSphere/MQ, Sonic-MQ, Microsoft MSMQ, J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Use JMS to connect suppliers and discount sto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Middle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819520"/>
            <a:ext cx="15242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2819520" y="2819160"/>
            <a:ext cx="457200" cy="10666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2819520"/>
            <a:ext cx="15238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5791320" y="2819160"/>
            <a:ext cx="457200" cy="10666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l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9040" y="38862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5240" y="3886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276720" y="39621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81480" y="396216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581280" y="4419720"/>
            <a:ext cx="4868640" cy="1632960"/>
            <a:chOff x="3581280" y="4419720"/>
            <a:chExt cx="4868640" cy="1632960"/>
          </a:xfrm>
        </p:grpSpPr>
        <p:grpSp>
          <p:nvGrpSpPr>
            <p:cNvPr id="177" name=""/>
            <p:cNvGrpSpPr/>
            <p:nvPr/>
          </p:nvGrpSpPr>
          <p:grpSpPr>
            <a:xfrm>
              <a:off x="3581280" y="4419720"/>
              <a:ext cx="2133720" cy="1632960"/>
              <a:chOff x="3581280" y="4419720"/>
              <a:chExt cx="2133720" cy="1632960"/>
            </a:xfrm>
          </p:grpSpPr>
          <p:sp>
            <p:nvSpPr>
              <p:cNvPr id="178" name=""/>
              <p:cNvSpPr/>
              <p:nvPr/>
            </p:nvSpPr>
            <p:spPr>
              <a:xfrm flipH="1" rot="10800000">
                <a:off x="4191120" y="4419720"/>
                <a:ext cx="914400" cy="914400"/>
              </a:xfrm>
              <a:prstGeom prst="foldedCorner">
                <a:avLst>
                  <a:gd name="adj" fmla="val 25171"/>
                </a:avLst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81280" y="541008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face Defini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nguage (ID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259240" y="4724280"/>
              <a:ext cx="319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C(int X, string Y, pointer 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urn flo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4960" y="2286000"/>
            <a:ext cx="1959120" cy="838080"/>
            <a:chOff x="534960" y="2286000"/>
            <a:chExt cx="1959120" cy="838080"/>
          </a:xfrm>
        </p:grpSpPr>
        <p:sp>
          <p:nvSpPr>
            <p:cNvPr id="182" name=""/>
            <p:cNvSpPr/>
            <p:nvPr/>
          </p:nvSpPr>
          <p:spPr>
            <a:xfrm>
              <a:off x="534960" y="22860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all ABC(X, Y, 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7920" y="2666880"/>
              <a:ext cx="6858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276720" y="2819520"/>
            <a:ext cx="2514600" cy="380880"/>
            <a:chOff x="3276720" y="2819520"/>
            <a:chExt cx="2514600" cy="380880"/>
          </a:xfrm>
        </p:grpSpPr>
        <p:sp>
          <p:nvSpPr>
            <p:cNvPr id="185" name=""/>
            <p:cNvSpPr/>
            <p:nvPr/>
          </p:nvSpPr>
          <p:spPr>
            <a:xfrm>
              <a:off x="3276720" y="32004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8800" y="2819520"/>
              <a:ext cx="23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1000110011100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782400" y="2286000"/>
            <a:ext cx="1503720" cy="914400"/>
            <a:chOff x="6782400" y="2286000"/>
            <a:chExt cx="1503720" cy="914400"/>
          </a:xfrm>
        </p:grpSpPr>
        <p:sp>
          <p:nvSpPr>
            <p:cNvPr id="188" name=""/>
            <p:cNvSpPr/>
            <p:nvPr/>
          </p:nvSpPr>
          <p:spPr>
            <a:xfrm>
              <a:off x="6782400" y="2286000"/>
              <a:ext cx="150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BC(X, Y, 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857640" y="2743200"/>
              <a:ext cx="6858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276720" y="3505320"/>
            <a:ext cx="2514600" cy="368280"/>
            <a:chOff x="3276720" y="3505320"/>
            <a:chExt cx="2514600" cy="368280"/>
          </a:xfrm>
        </p:grpSpPr>
        <p:sp>
          <p:nvSpPr>
            <p:cNvPr id="191" name=""/>
            <p:cNvSpPr/>
            <p:nvPr/>
          </p:nvSpPr>
          <p:spPr>
            <a:xfrm>
              <a:off x="3276720" y="35053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52680" y="35053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100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-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the simplest of web service approa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erages familiar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XML to describe the procedure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HTTP 1.0 for message trans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ML-RPC allows focus to remain on computer-computer inte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18:45:43Z</dcterms:created>
  <dc:creator>NNP</dc:creator>
  <dc:description/>
  <dc:language>en-US</dc:language>
  <cp:lastModifiedBy>Natawut Nupairoj</cp:lastModifiedBy>
  <dcterms:modified xsi:type="dcterms:W3CDTF">2004-08-08T12:39:15Z</dcterms:modified>
  <cp:revision>41</cp:revision>
  <dc:subject/>
  <dc:title>Enterprise Java Bean</dc:title>
</cp:coreProperties>
</file>