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8DCC2-31CF-4445-8D82-F71FB523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758AF-CB77-4B69-BD30-4B0DCCC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2BD9A-6499-492D-8681-0A9330E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D99F4-D42F-4BB8-8C9D-46C35A6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E5877-4057-4B7D-9F4E-A8943E4E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66123-9531-4775-8EC2-41402236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74636-DA19-4368-A02D-01FE6EE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66ECC-0E59-464A-9131-E720FC2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251BE-3871-47A0-8549-FB662229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A126C-0CFF-406E-9193-530022DF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8EDF0-D8C6-437D-8CC4-CEF5C012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3A5C-8BAE-4E8D-9A6A-2F70A620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Network Security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  <a:ea typeface="Angsana New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A953-E397-4581-A9BC-404A5BEBA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3.png"/><Relationship Id="rId8" Type="http://schemas.openxmlformats.org/officeDocument/2006/relationships/image" Target="../media/image5.wmf"/><Relationship Id="rId9" Type="http://schemas.openxmlformats.org/officeDocument/2006/relationships/image" Target="../media/image2.png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9.jpeg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10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image" Target="../media/image5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etwork Secur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684 Information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172200"/>
            <a:ext cx="80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 of this material are copyright 1996-2002 by J.F Kurose and K.W. Ross, All Rights 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ymmetric key crypto: 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8440" y="1523880"/>
            <a:ext cx="82785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S: Data Encryption 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encryption standard [NIST 1993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6-bit symmetric key, 64-bit plaintext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secure is D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 Challenge: 56-bit-key-encrypted phrase  (“Strong cryptography makes the world a safer place”) decrypted (brute force) in 4 mon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known “backdoor” decryption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DES more sec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ree keys sequentially (3-DES) on each da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cipher-block ch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262400" y="1504800"/>
            <a:ext cx="4291200" cy="4754880"/>
          </a:xfrm>
          <a:prstGeom prst="rect">
            <a:avLst/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ubl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ymmetric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key cryp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 and receiver know shared secret k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: how to agree on key in first place (particularly if never “met”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19440" y="1635120"/>
            <a:ext cx="3656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public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key cryptogra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cally different approach [Diffie-Hellman76, RSA78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, receiver do </a:t>
            </a: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hare secret k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ryption key </a:t>
            </a: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own to</a:t>
            </a: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Arial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ryption key known only to rece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199360" y="1647720"/>
            <a:ext cx="5637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ubl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2960" y="3976560"/>
            <a:ext cx="1621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2720" y="3979800"/>
            <a:ext cx="13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98600" y="3225960"/>
            <a:ext cx="511200" cy="630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060640" y="3925800"/>
            <a:ext cx="139212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39040" y="393552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81560" y="3938760"/>
            <a:ext cx="137808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57440" y="3962520"/>
            <a:ext cx="15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481560" y="4333680"/>
            <a:ext cx="180972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24560" y="184140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619600" y="3243240"/>
            <a:ext cx="665280" cy="677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316160" y="43639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00680" y="4319640"/>
            <a:ext cx="675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 rot="10800000">
            <a:off x="5467320" y="1983960"/>
            <a:ext cx="458640" cy="2365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761160" y="3975120"/>
            <a:ext cx="12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913920" y="4307040"/>
            <a:ext cx="858960" cy="616680"/>
            <a:chOff x="3913920" y="4307040"/>
            <a:chExt cx="858960" cy="616680"/>
          </a:xfrm>
        </p:grpSpPr>
        <p:sp>
          <p:nvSpPr>
            <p:cNvPr id="275" name=""/>
            <p:cNvSpPr/>
            <p:nvPr/>
          </p:nvSpPr>
          <p:spPr>
            <a:xfrm>
              <a:off x="3913920" y="4394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88160" y="45864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95360" y="4307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975280" y="1901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3880" y="208116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20720" y="1801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21320" y="2519280"/>
            <a:ext cx="176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 rot="10800000">
            <a:off x="5464080" y="2657520"/>
            <a:ext cx="542880" cy="279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984640" y="25923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86960" y="27846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17920" y="2505240"/>
            <a:ext cx="2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11560" y="4503600"/>
            <a:ext cx="1845000" cy="635760"/>
            <a:chOff x="6811560" y="4503600"/>
            <a:chExt cx="1845000" cy="635760"/>
          </a:xfrm>
        </p:grpSpPr>
        <p:sp>
          <p:nvSpPr>
            <p:cNvPr id="287" name=""/>
            <p:cNvSpPr/>
            <p:nvPr/>
          </p:nvSpPr>
          <p:spPr>
            <a:xfrm>
              <a:off x="6811560" y="4566960"/>
              <a:ext cx="184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 = K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 (m)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1040" y="480204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73560" y="45129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56680" y="478296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97360" y="45036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952720" y="2117880"/>
            <a:ext cx="2394000" cy="1753920"/>
          </a:xfrm>
          <a:custGeom>
            <a:avLst/>
            <a:gdLst/>
            <a:ahLst/>
            <a:rect l="l" t="t" r="r" b="b"/>
            <a:pathLst>
              <a:path w="1508" h="1105">
                <a:moveTo>
                  <a:pt x="1508" y="0"/>
                </a:moveTo>
                <a:lnTo>
                  <a:pt x="0" y="0"/>
                </a:lnTo>
                <a:lnTo>
                  <a:pt x="5" y="110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97480" y="2790720"/>
            <a:ext cx="330120" cy="1074960"/>
          </a:xfrm>
          <a:custGeom>
            <a:avLst/>
            <a:gdLst/>
            <a:ahLst/>
            <a:rect l="l" t="t" r="r" b="b"/>
            <a:pathLst>
              <a:path w="184" h="1113">
                <a:moveTo>
                  <a:pt x="184" y="0"/>
                </a:moveTo>
                <a:lnTo>
                  <a:pt x="0" y="8"/>
                </a:lnTo>
                <a:lnTo>
                  <a:pt x="5" y="111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gital Signatures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1000" y="1677960"/>
            <a:ext cx="770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ryptographic technique analogous to hand-written signatu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er (Bob) digitally signs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he is document owner/crea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verifiable, nonforgeab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(Alice) can prove to someone that Bob, and no one else (including Alice), must have signed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324480" y="3809880"/>
            <a:ext cx="231156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65160" y="3733920"/>
            <a:ext cx="231156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gital Signatures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3240" y="1436760"/>
            <a:ext cx="739152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imple digital signature for message 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b signs m by encrypting with his private key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reating “signed” message, K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228600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28600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03320" y="3733920"/>
            <a:ext cx="212076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ar A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h, how I have missed you. I think of you all the time! …(blah blah bla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5280" y="3314880"/>
            <a:ext cx="273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b’s message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54400" y="4076640"/>
            <a:ext cx="1417680" cy="1082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147200" y="4111560"/>
            <a:ext cx="14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2520" y="45403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921200" y="326700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’s 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 rot="10800000">
            <a:off x="4026960" y="344772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4509720" y="3240000"/>
            <a:ext cx="475920" cy="604080"/>
            <a:chOff x="4509720" y="3240000"/>
            <a:chExt cx="475920" cy="604080"/>
          </a:xfrm>
        </p:grpSpPr>
        <p:grpSp>
          <p:nvGrpSpPr>
            <p:cNvPr id="310" name=""/>
            <p:cNvGrpSpPr/>
            <p:nvPr/>
          </p:nvGrpSpPr>
          <p:grpSpPr>
            <a:xfrm>
              <a:off x="4509720" y="3352680"/>
              <a:ext cx="475920" cy="491400"/>
              <a:chOff x="4509720" y="3352680"/>
              <a:chExt cx="475920" cy="491400"/>
            </a:xfrm>
          </p:grpSpPr>
          <p:sp>
            <p:nvSpPr>
              <p:cNvPr id="311" name=""/>
              <p:cNvSpPr/>
              <p:nvPr/>
            </p:nvSpPr>
            <p:spPr>
              <a:xfrm>
                <a:off x="4509720" y="33526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73880" y="350676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4704840" y="324000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502160" y="3600360"/>
            <a:ext cx="1440" cy="47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07000" y="454032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51560" y="391176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ob’s message, m, signed (encrypted) with his private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024320" y="3278160"/>
            <a:ext cx="475920" cy="604080"/>
            <a:chOff x="7024320" y="3278160"/>
            <a:chExt cx="475920" cy="604080"/>
          </a:xfrm>
        </p:grpSpPr>
        <p:grpSp>
          <p:nvGrpSpPr>
            <p:cNvPr id="318" name=""/>
            <p:cNvGrpSpPr/>
            <p:nvPr/>
          </p:nvGrpSpPr>
          <p:grpSpPr>
            <a:xfrm>
              <a:off x="7024320" y="3390840"/>
              <a:ext cx="475920" cy="491400"/>
              <a:chOff x="7024320" y="3390840"/>
              <a:chExt cx="475920" cy="491400"/>
            </a:xfrm>
          </p:grpSpPr>
          <p:sp>
            <p:nvSpPr>
              <p:cNvPr id="319" name=""/>
              <p:cNvSpPr/>
              <p:nvPr/>
            </p:nvSpPr>
            <p:spPr>
              <a:xfrm>
                <a:off x="7024320" y="339084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88480" y="354492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7219440" y="327816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7243920" y="3378240"/>
            <a:ext cx="6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97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igital Signatures (mor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4440" y="1266480"/>
            <a:ext cx="8147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Alice receives msg m, digital signature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 verifies m  signed by Bob by applying Bob’s public key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then checks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) = 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) = m, whoever signed m must have used Bob’s private 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848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4382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934320" y="114300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7652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19810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19320" y="24382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90360" y="3505320"/>
            <a:ext cx="7391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lice thus verifies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b signed 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else signed 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ZapfDingba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b signed m and not m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on-repudi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 can take m, and signature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) to court and prove that Bob signed 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91320" y="5181480"/>
            <a:ext cx="73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essage Diges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280" y="1852560"/>
            <a:ext cx="4146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tionally expensive to public-key-encrypt long mess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xed-length, easy- to-compute digital “fingerpri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y hash function H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et fixed size message digest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(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2964960"/>
            <a:ext cx="404496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ash function proper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-to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fixed-size msg digest (fingerpri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message digest x, computationally infeasible to find m such that x = H(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6840" y="2305080"/>
            <a:ext cx="80496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78360" y="851040"/>
            <a:ext cx="1355760" cy="9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73680" y="839880"/>
            <a:ext cx="134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r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732720" y="966960"/>
            <a:ext cx="1108080" cy="758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79800" y="97632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: H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38800" y="132084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97520" y="23288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64360" y="1739880"/>
            <a:ext cx="0" cy="54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586320" y="2152800"/>
            <a:ext cx="7617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31720" y="1824120"/>
            <a:ext cx="1343160" cy="840960"/>
            <a:chOff x="531720" y="1824120"/>
            <a:chExt cx="1343160" cy="840960"/>
          </a:xfrm>
        </p:grpSpPr>
        <p:sp>
          <p:nvSpPr>
            <p:cNvPr id="347" name=""/>
            <p:cNvSpPr/>
            <p:nvPr/>
          </p:nvSpPr>
          <p:spPr>
            <a:xfrm>
              <a:off x="649080" y="1824120"/>
              <a:ext cx="108756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1720" y="1839960"/>
              <a:ext cx="134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ar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140560" y="2011320"/>
            <a:ext cx="1075320" cy="647640"/>
            <a:chOff x="2140560" y="2011320"/>
            <a:chExt cx="1075320" cy="647640"/>
          </a:xfrm>
        </p:grpSpPr>
        <p:sp>
          <p:nvSpPr>
            <p:cNvPr id="350" name=""/>
            <p:cNvSpPr/>
            <p:nvPr/>
          </p:nvSpPr>
          <p:spPr>
            <a:xfrm>
              <a:off x="2178000" y="2011320"/>
              <a:ext cx="982800" cy="631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40560" y="2016360"/>
              <a:ext cx="107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H: Ha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698480" y="22939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37000" y="2176560"/>
            <a:ext cx="8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22760" y="2587680"/>
            <a:ext cx="1440" cy="328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87720" y="2308320"/>
            <a:ext cx="50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153600" y="2919240"/>
            <a:ext cx="1207800" cy="955800"/>
            <a:chOff x="3153600" y="2919240"/>
            <a:chExt cx="1207800" cy="955800"/>
          </a:xfrm>
        </p:grpSpPr>
        <p:sp>
          <p:nvSpPr>
            <p:cNvPr id="357" name=""/>
            <p:cNvSpPr/>
            <p:nvPr/>
          </p:nvSpPr>
          <p:spPr>
            <a:xfrm>
              <a:off x="3156120" y="2919240"/>
              <a:ext cx="1191960" cy="955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53600" y="292392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en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424160" y="3000240"/>
            <a:ext cx="96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 rot="10800000">
            <a:off x="2401920" y="30808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361" name=""/>
          <p:cNvGrpSpPr/>
          <p:nvPr/>
        </p:nvGrpSpPr>
        <p:grpSpPr>
          <a:xfrm>
            <a:off x="2350800" y="3406680"/>
            <a:ext cx="475920" cy="604080"/>
            <a:chOff x="2350800" y="3406680"/>
            <a:chExt cx="475920" cy="604080"/>
          </a:xfrm>
        </p:grpSpPr>
        <p:grpSp>
          <p:nvGrpSpPr>
            <p:cNvPr id="362" name=""/>
            <p:cNvGrpSpPr/>
            <p:nvPr/>
          </p:nvGrpSpPr>
          <p:grpSpPr>
            <a:xfrm>
              <a:off x="2350800" y="3519360"/>
              <a:ext cx="475920" cy="491400"/>
              <a:chOff x="2350800" y="3519360"/>
              <a:chExt cx="475920" cy="491400"/>
            </a:xfrm>
          </p:grpSpPr>
          <p:sp>
            <p:nvSpPr>
              <p:cNvPr id="363" name=""/>
              <p:cNvSpPr/>
              <p:nvPr/>
            </p:nvSpPr>
            <p:spPr>
              <a:xfrm>
                <a:off x="2350800" y="35193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14960" y="36734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545920" y="3406680"/>
              <a:ext cx="2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V="1">
            <a:off x="2468520" y="3449520"/>
            <a:ext cx="56520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33920" y="387684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62120" y="4546440"/>
            <a:ext cx="846000" cy="520560"/>
            <a:chOff x="762120" y="4546440"/>
            <a:chExt cx="846000" cy="520560"/>
          </a:xfrm>
        </p:grpSpPr>
        <p:sp>
          <p:nvSpPr>
            <p:cNvPr id="369" name=""/>
            <p:cNvSpPr/>
            <p:nvPr/>
          </p:nvSpPr>
          <p:spPr>
            <a:xfrm>
              <a:off x="762120" y="4546440"/>
              <a:ext cx="84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28520" y="4694040"/>
              <a:ext cx="309240" cy="254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209600" y="267660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2600" y="4970520"/>
            <a:ext cx="32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927000" y="529920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3960" y="1050840"/>
            <a:ext cx="38102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sends digitally signed mes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05400" y="813960"/>
            <a:ext cx="39924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ce verifies signature and integrity of digitally signed mes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892600" y="4073400"/>
            <a:ext cx="1722240" cy="1091160"/>
            <a:chOff x="2892600" y="4073400"/>
            <a:chExt cx="1722240" cy="1091160"/>
          </a:xfrm>
        </p:grpSpPr>
        <p:grpSp>
          <p:nvGrpSpPr>
            <p:cNvPr id="377" name=""/>
            <p:cNvGrpSpPr/>
            <p:nvPr/>
          </p:nvGrpSpPr>
          <p:grpSpPr>
            <a:xfrm>
              <a:off x="2992320" y="4512960"/>
              <a:ext cx="1464840" cy="651600"/>
              <a:chOff x="2992320" y="4512960"/>
              <a:chExt cx="1464840" cy="651600"/>
            </a:xfrm>
          </p:grpSpPr>
          <p:sp>
            <p:nvSpPr>
              <p:cNvPr id="378" name=""/>
              <p:cNvSpPr/>
              <p:nvPr/>
            </p:nvSpPr>
            <p:spPr>
              <a:xfrm>
                <a:off x="2992320" y="465444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04560" y="451296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105000" y="409860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92600" y="4073400"/>
              <a:ext cx="172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cryp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msg dig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 flipH="1">
            <a:off x="1310760" y="4826160"/>
            <a:ext cx="180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313240" y="1949400"/>
            <a:ext cx="627120" cy="768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050320" y="310032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82000" y="2087640"/>
            <a:ext cx="1722240" cy="1091160"/>
            <a:chOff x="7182000" y="2087640"/>
            <a:chExt cx="1722240" cy="1091160"/>
          </a:xfrm>
        </p:grpSpPr>
        <p:grpSp>
          <p:nvGrpSpPr>
            <p:cNvPr id="386" name=""/>
            <p:cNvGrpSpPr/>
            <p:nvPr/>
          </p:nvGrpSpPr>
          <p:grpSpPr>
            <a:xfrm>
              <a:off x="7281720" y="2527200"/>
              <a:ext cx="1464840" cy="651600"/>
              <a:chOff x="7281720" y="2527200"/>
              <a:chExt cx="1464840" cy="651600"/>
            </a:xfrm>
          </p:grpSpPr>
          <p:sp>
            <p:nvSpPr>
              <p:cNvPr id="387" name=""/>
              <p:cNvSpPr/>
              <p:nvPr/>
            </p:nvSpPr>
            <p:spPr>
              <a:xfrm>
                <a:off x="7281720" y="2668680"/>
                <a:ext cx="1464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Comic Sans MS"/>
                  </a:rPr>
                  <a:t>B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(H(m)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93960" y="2527200"/>
                <a:ext cx="84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7394400" y="2112840"/>
              <a:ext cx="1238040" cy="9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82000" y="2087640"/>
              <a:ext cx="172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ncrypt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msg dig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987800" y="3002040"/>
            <a:ext cx="1343160" cy="840960"/>
            <a:chOff x="4987800" y="3002040"/>
            <a:chExt cx="1343160" cy="840960"/>
          </a:xfrm>
        </p:grpSpPr>
        <p:sp>
          <p:nvSpPr>
            <p:cNvPr id="392" name=""/>
            <p:cNvSpPr/>
            <p:nvPr/>
          </p:nvSpPr>
          <p:spPr>
            <a:xfrm>
              <a:off x="5105160" y="3002040"/>
              <a:ext cx="1087560" cy="79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87800" y="3017880"/>
              <a:ext cx="134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ar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ess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093280" y="4035600"/>
            <a:ext cx="1075320" cy="647280"/>
            <a:chOff x="5093280" y="4035600"/>
            <a:chExt cx="1075320" cy="647280"/>
          </a:xfrm>
        </p:grpSpPr>
        <p:sp>
          <p:nvSpPr>
            <p:cNvPr id="395" name=""/>
            <p:cNvSpPr/>
            <p:nvPr/>
          </p:nvSpPr>
          <p:spPr>
            <a:xfrm>
              <a:off x="5130720" y="4035600"/>
              <a:ext cx="982800" cy="631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93280" y="4040280"/>
              <a:ext cx="107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H: Ha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222880" y="4879800"/>
            <a:ext cx="873000" cy="422640"/>
            <a:chOff x="5222880" y="4879800"/>
            <a:chExt cx="873000" cy="422640"/>
          </a:xfrm>
        </p:grpSpPr>
        <p:sp>
          <p:nvSpPr>
            <p:cNvPr id="398" name=""/>
            <p:cNvSpPr/>
            <p:nvPr/>
          </p:nvSpPr>
          <p:spPr>
            <a:xfrm>
              <a:off x="5272200" y="487980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22880" y="490356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527960" y="3452760"/>
            <a:ext cx="1207800" cy="955800"/>
            <a:chOff x="7527960" y="3452760"/>
            <a:chExt cx="1207800" cy="955800"/>
          </a:xfrm>
        </p:grpSpPr>
        <p:sp>
          <p:nvSpPr>
            <p:cNvPr id="401" name=""/>
            <p:cNvSpPr/>
            <p:nvPr/>
          </p:nvSpPr>
          <p:spPr>
            <a:xfrm>
              <a:off x="7529400" y="3452760"/>
              <a:ext cx="1192320" cy="9558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27960" y="345744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de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8066160" y="449568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696080" y="4876920"/>
            <a:ext cx="873000" cy="422640"/>
            <a:chOff x="7696080" y="4876920"/>
            <a:chExt cx="873000" cy="422640"/>
          </a:xfrm>
        </p:grpSpPr>
        <p:sp>
          <p:nvSpPr>
            <p:cNvPr id="405" name=""/>
            <p:cNvSpPr/>
            <p:nvPr/>
          </p:nvSpPr>
          <p:spPr>
            <a:xfrm>
              <a:off x="7745400" y="4876920"/>
              <a:ext cx="762120" cy="40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6080" y="490068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H(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5937120" y="2319480"/>
            <a:ext cx="1449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72080" y="2662200"/>
            <a:ext cx="1584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11680" y="378468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622840" y="4640400"/>
            <a:ext cx="15840" cy="31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94360" y="33908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 rot="10800000">
            <a:off x="6972480" y="347148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6921360" y="3797280"/>
            <a:ext cx="475920" cy="604080"/>
            <a:chOff x="6921360" y="3797280"/>
            <a:chExt cx="475920" cy="604080"/>
          </a:xfrm>
        </p:grpSpPr>
        <p:grpSp>
          <p:nvGrpSpPr>
            <p:cNvPr id="414" name=""/>
            <p:cNvGrpSpPr/>
            <p:nvPr/>
          </p:nvGrpSpPr>
          <p:grpSpPr>
            <a:xfrm>
              <a:off x="6921360" y="3909960"/>
              <a:ext cx="475920" cy="491400"/>
              <a:chOff x="6921360" y="3909960"/>
              <a:chExt cx="475920" cy="491400"/>
            </a:xfrm>
          </p:grpSpPr>
          <p:sp>
            <p:nvSpPr>
              <p:cNvPr id="415" name=""/>
              <p:cNvSpPr/>
              <p:nvPr/>
            </p:nvSpPr>
            <p:spPr>
              <a:xfrm>
                <a:off x="6921360" y="39099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85520" y="40640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7092360" y="3797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7039080" y="3840120"/>
            <a:ext cx="423720" cy="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14920" y="5329080"/>
            <a:ext cx="873360" cy="21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232400" y="5322960"/>
            <a:ext cx="873000" cy="21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03800" y="53881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4440" y="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Digital signature = signed message dig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Hash Function Algorithm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46200" y="1752120"/>
            <a:ext cx="8130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D5 hash function widely used (RFC 1321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s 128-bit message digest in 4-step proces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bitrary 128-bit string x, appears difficult to construct msg m whose MD5 hash is equal to 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HA-1 is also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standard 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T, FIPS PUB 180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0-bit message dig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rusted Intermediar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31280" y="1425600"/>
            <a:ext cx="4418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Symmetric key probl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wo entities establish shared secret key over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key distribution center (KDC) acting as intermediary between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88080" y="1425600"/>
            <a:ext cx="393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Public key probl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ice obtains Bob’s public key (from web site, e-mail, diskette), how does she know it is Bob’s public key, not Trudy’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ed certification authority (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ity Overvie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ryption algorithms and their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ewa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638680" y="3429000"/>
            <a:ext cx="3038760" cy="2306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Distribution Center (KDC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90400" y="1366560"/>
            <a:ext cx="8266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, Bob need shared symmetric 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KDC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rver shares different secret key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ed user (many us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, Bob know own symmetric keys,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A-KD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B-KD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or communicating with KDC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6308640" y="4206960"/>
            <a:ext cx="1201680" cy="954000"/>
          </a:xfrm>
          <a:prstGeom prst="rect">
            <a:avLst/>
          </a:prstGeom>
          <a:ln w="0">
            <a:noFill/>
          </a:ln>
        </p:spPr>
      </p:pic>
      <p:grpSp>
        <p:nvGrpSpPr>
          <p:cNvPr id="432" name=""/>
          <p:cNvGrpSpPr/>
          <p:nvPr/>
        </p:nvGrpSpPr>
        <p:grpSpPr>
          <a:xfrm>
            <a:off x="6296040" y="5207040"/>
            <a:ext cx="1068480" cy="572040"/>
            <a:chOff x="6296040" y="5207040"/>
            <a:chExt cx="1068480" cy="572040"/>
          </a:xfrm>
        </p:grpSpPr>
        <p:pic>
          <p:nvPicPr>
            <p:cNvPr id="433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6612120" y="5207040"/>
              <a:ext cx="449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6296040" y="526896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B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7475400" y="3981240"/>
            <a:ext cx="1068480" cy="572040"/>
            <a:chOff x="7475400" y="3981240"/>
            <a:chExt cx="1068480" cy="572040"/>
          </a:xfrm>
        </p:grpSpPr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7791480" y="3981240"/>
              <a:ext cx="44928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475400" y="404316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X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402680" y="4441680"/>
            <a:ext cx="1068120" cy="572040"/>
            <a:chOff x="7402680" y="4441680"/>
            <a:chExt cx="1068120" cy="572040"/>
          </a:xfrm>
        </p:grpSpPr>
        <p:pic>
          <p:nvPicPr>
            <p:cNvPr id="439" name="" descr=""/>
            <p:cNvPicPr/>
            <p:nvPr/>
          </p:nvPicPr>
          <p:blipFill>
            <a:blip r:embed="rId4"/>
            <a:stretch/>
          </p:blipFill>
          <p:spPr>
            <a:xfrm rot="10800000">
              <a:off x="7718040" y="4441680"/>
              <a:ext cx="4489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7402680" y="4503600"/>
              <a:ext cx="106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Y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134120" y="4919400"/>
            <a:ext cx="1068480" cy="572040"/>
            <a:chOff x="7134120" y="4919400"/>
            <a:chExt cx="1068480" cy="572040"/>
          </a:xfrm>
        </p:grpSpPr>
        <p:pic>
          <p:nvPicPr>
            <p:cNvPr id="442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7450200" y="4919400"/>
              <a:ext cx="44928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134120" y="498132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Z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734160" y="3673440"/>
            <a:ext cx="1068480" cy="572040"/>
            <a:chOff x="6734160" y="3673440"/>
            <a:chExt cx="1068480" cy="57204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050240" y="3673440"/>
              <a:ext cx="449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734160" y="373536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841480" y="3594240"/>
            <a:ext cx="1898640" cy="1168200"/>
            <a:chOff x="2841480" y="3594240"/>
            <a:chExt cx="1898640" cy="1168200"/>
          </a:xfrm>
        </p:grpSpPr>
        <p:pic>
          <p:nvPicPr>
            <p:cNvPr id="448" name="" descr=""/>
            <p:cNvPicPr/>
            <p:nvPr/>
          </p:nvPicPr>
          <p:blipFill>
            <a:blip r:embed="rId7"/>
            <a:stretch/>
          </p:blipFill>
          <p:spPr>
            <a:xfrm>
              <a:off x="3063960" y="3705120"/>
              <a:ext cx="799920" cy="81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3495600" y="4174560"/>
              <a:ext cx="1068480" cy="572040"/>
              <a:chOff x="3495600" y="4174560"/>
              <a:chExt cx="1068480" cy="572040"/>
            </a:xfrm>
          </p:grpSpPr>
          <p:pic>
            <p:nvPicPr>
              <p:cNvPr id="450" name="" descr="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3811680" y="4174560"/>
                <a:ext cx="4492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495600" y="4236480"/>
                <a:ext cx="106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-KD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2841480" y="3594240"/>
              <a:ext cx="1898640" cy="116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174760" y="4997520"/>
            <a:ext cx="1911240" cy="1168200"/>
            <a:chOff x="2174760" y="4997520"/>
            <a:chExt cx="1911240" cy="1168200"/>
          </a:xfrm>
        </p:grpSpPr>
        <p:pic>
          <p:nvPicPr>
            <p:cNvPr id="454" name="" descr=""/>
            <p:cNvPicPr/>
            <p:nvPr/>
          </p:nvPicPr>
          <p:blipFill>
            <a:blip r:embed="rId9"/>
            <a:stretch/>
          </p:blipFill>
          <p:spPr>
            <a:xfrm>
              <a:off x="2415960" y="5102280"/>
              <a:ext cx="752400" cy="92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3017520" y="5314680"/>
              <a:ext cx="1068480" cy="572040"/>
              <a:chOff x="3017520" y="5314680"/>
              <a:chExt cx="1068480" cy="572040"/>
            </a:xfrm>
          </p:grpSpPr>
          <p:pic>
            <p:nvPicPr>
              <p:cNvPr id="45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3333600" y="5314680"/>
                <a:ext cx="4492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3017520" y="5376600"/>
                <a:ext cx="106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-KD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174760" y="4997520"/>
              <a:ext cx="1898640" cy="116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981760" y="3778200"/>
            <a:ext cx="1068480" cy="572040"/>
            <a:chOff x="5981760" y="3778200"/>
            <a:chExt cx="1068480" cy="572040"/>
          </a:xfrm>
        </p:grpSpPr>
        <p:pic>
          <p:nvPicPr>
            <p:cNvPr id="460" name="" descr=""/>
            <p:cNvPicPr/>
            <p:nvPr/>
          </p:nvPicPr>
          <p:blipFill>
            <a:blip r:embed="rId11"/>
            <a:stretch/>
          </p:blipFill>
          <p:spPr>
            <a:xfrm rot="10800000">
              <a:off x="6297840" y="3778200"/>
              <a:ext cx="449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5981760" y="3840120"/>
              <a:ext cx="106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A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12"/>
          <a:stretch/>
        </p:blipFill>
        <p:spPr>
          <a:xfrm>
            <a:off x="804960" y="3830760"/>
            <a:ext cx="788760" cy="103968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1501920" y="4216320"/>
            <a:ext cx="1068120" cy="572040"/>
            <a:chOff x="1501920" y="4216320"/>
            <a:chExt cx="1068120" cy="572040"/>
          </a:xfrm>
        </p:grpSpPr>
        <p:pic>
          <p:nvPicPr>
            <p:cNvPr id="464" name="" descr=""/>
            <p:cNvPicPr/>
            <p:nvPr/>
          </p:nvPicPr>
          <p:blipFill>
            <a:blip r:embed="rId13"/>
            <a:stretch/>
          </p:blipFill>
          <p:spPr>
            <a:xfrm rot="10800000">
              <a:off x="1817280" y="4216320"/>
              <a:ext cx="4489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501920" y="4278240"/>
              <a:ext cx="106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P-K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15880" y="3681360"/>
            <a:ext cx="1898640" cy="13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45480" y="32241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Distribution Center (KDC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249800" y="2516040"/>
            <a:ext cx="1271520" cy="9050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694560" y="2944800"/>
            <a:ext cx="799920" cy="8175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873000" y="2543040"/>
            <a:ext cx="752760" cy="9273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631880" y="3068640"/>
            <a:ext cx="2249640" cy="0"/>
          </a:xfrm>
          <a:prstGeom prst="line">
            <a:avLst/>
          </a:prstGeom>
          <a:ln w="572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376280" y="3400560"/>
            <a:ext cx="2602080" cy="630000"/>
          </a:xfrm>
          <a:prstGeom prst="line">
            <a:avLst/>
          </a:prstGeom>
          <a:ln w="572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97120" y="4417920"/>
            <a:ext cx="4744800" cy="0"/>
          </a:xfrm>
          <a:prstGeom prst="line">
            <a:avLst/>
          </a:prstGeom>
          <a:ln w="572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3040" y="3651120"/>
            <a:ext cx="12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s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77120" y="3733920"/>
            <a:ext cx="1847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 knows to use  R1 to communicate with A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06360" y="5108400"/>
            <a:ext cx="5964480" cy="0"/>
          </a:xfrm>
          <a:prstGeom prst="line">
            <a:avLst/>
          </a:prstGeom>
          <a:ln w="7632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25400" y="5284800"/>
            <a:ext cx="68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and Bob communicate: using R1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session 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shared symmetric en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1523880"/>
            <a:ext cx="81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How does KDC allow Bob, Alice to determine shared symmetric secret key to communicate with each oth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246640" y="2371680"/>
            <a:ext cx="138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DC generates 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98760" y="4251240"/>
            <a:ext cx="20242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B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,R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822320" y="2776680"/>
            <a:ext cx="171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A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08280" y="3532320"/>
            <a:ext cx="4216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A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R1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B-KD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,R1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ertification Authorit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61960" y="1382760"/>
            <a:ext cx="7902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ertification authority (CA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ds public key to particular entity, 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(person, router) registers its public key with 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provides “proof of identity” to 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creates certificate binding E to its public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 containing E’s public key digitally signed by CA – CA says “this is E’s public ke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3340080" y="4735440"/>
            <a:ext cx="1224000" cy="87012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758960" y="5510160"/>
            <a:ext cx="590400" cy="6048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84320" y="413244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 rot="10800000">
            <a:off x="2061720" y="421272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1982520" y="4451400"/>
            <a:ext cx="475920" cy="604080"/>
            <a:chOff x="1982520" y="4451400"/>
            <a:chExt cx="475920" cy="604080"/>
          </a:xfrm>
        </p:grpSpPr>
        <p:grpSp>
          <p:nvGrpSpPr>
            <p:cNvPr id="491" name=""/>
            <p:cNvGrpSpPr/>
            <p:nvPr/>
          </p:nvGrpSpPr>
          <p:grpSpPr>
            <a:xfrm>
              <a:off x="1982520" y="4564080"/>
              <a:ext cx="475920" cy="491400"/>
              <a:chOff x="1982520" y="4564080"/>
              <a:chExt cx="475920" cy="491400"/>
            </a:xfrm>
          </p:grpSpPr>
          <p:sp>
            <p:nvSpPr>
              <p:cNvPr id="492" name=""/>
              <p:cNvSpPr/>
              <p:nvPr/>
            </p:nvSpPr>
            <p:spPr>
              <a:xfrm>
                <a:off x="1982520" y="456408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146680" y="471816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153520" y="445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2490840" y="4459320"/>
            <a:ext cx="698400" cy="615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3560" y="5315040"/>
            <a:ext cx="13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entifying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454120" y="5241960"/>
            <a:ext cx="741600" cy="341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782960" y="4032360"/>
            <a:ext cx="1207800" cy="955440"/>
            <a:chOff x="4782960" y="4032360"/>
            <a:chExt cx="1207800" cy="955440"/>
          </a:xfrm>
        </p:grpSpPr>
        <p:sp>
          <p:nvSpPr>
            <p:cNvPr id="499" name=""/>
            <p:cNvSpPr/>
            <p:nvPr/>
          </p:nvSpPr>
          <p:spPr>
            <a:xfrm>
              <a:off x="4784760" y="4032360"/>
              <a:ext cx="1192320" cy="955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82960" y="403668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en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475160" y="502776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 rot="10800000">
            <a:off x="5643720" y="512100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5343120" y="5359320"/>
            <a:ext cx="612000" cy="478800"/>
            <a:chOff x="5343120" y="5359320"/>
            <a:chExt cx="612000" cy="478800"/>
          </a:xfrm>
        </p:grpSpPr>
        <p:sp>
          <p:nvSpPr>
            <p:cNvPr id="504" name=""/>
            <p:cNvSpPr/>
            <p:nvPr/>
          </p:nvSpPr>
          <p:spPr>
            <a:xfrm>
              <a:off x="5343120" y="535932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17000" y="550080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539320" y="519444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562720" y="493992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41600" y="4276800"/>
            <a:ext cx="222264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018120" y="4303800"/>
            <a:ext cx="113364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257960" y="3998880"/>
            <a:ext cx="945720" cy="1098360"/>
            <a:chOff x="7257960" y="3998880"/>
            <a:chExt cx="945720" cy="1098360"/>
          </a:xfrm>
        </p:grpSpPr>
        <p:pic>
          <p:nvPicPr>
            <p:cNvPr id="511" name="" descr=""/>
            <p:cNvPicPr/>
            <p:nvPr/>
          </p:nvPicPr>
          <p:blipFill>
            <a:blip r:embed="rId5"/>
            <a:stretch/>
          </p:blipFill>
          <p:spPr>
            <a:xfrm>
              <a:off x="7294320" y="3998880"/>
              <a:ext cx="909360" cy="109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"/>
            <p:cNvGrpSpPr/>
            <p:nvPr/>
          </p:nvGrpSpPr>
          <p:grpSpPr>
            <a:xfrm>
              <a:off x="7257960" y="4198680"/>
              <a:ext cx="475920" cy="604080"/>
              <a:chOff x="7257960" y="4198680"/>
              <a:chExt cx="475920" cy="60408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7257960" y="4311360"/>
                <a:ext cx="475920" cy="491400"/>
                <a:chOff x="7257960" y="4311360"/>
                <a:chExt cx="475920" cy="4914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257960" y="431136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22120" y="446544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7428960" y="4198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294320" y="4757400"/>
              <a:ext cx="45864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"/>
          <p:cNvSpPr/>
          <p:nvPr/>
        </p:nvSpPr>
        <p:spPr>
          <a:xfrm>
            <a:off x="6248520" y="5105520"/>
            <a:ext cx="231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ificate for Bob’s public key, signed by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ertification Authorit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520" y="1599840"/>
            <a:ext cx="7728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lice wants Bob’s public ke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ts Bob’s certificate (Bob or elsewher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pply CA’s public key to Bob’s certificate, get Bob’s public k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343400" y="5410080"/>
            <a:ext cx="993600" cy="706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667560" y="3701880"/>
            <a:ext cx="96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 rot="10800000">
            <a:off x="6498720" y="3827160"/>
            <a:ext cx="459000" cy="23652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6419520" y="4065480"/>
            <a:ext cx="475920" cy="604080"/>
            <a:chOff x="6419520" y="4065480"/>
            <a:chExt cx="475920" cy="604080"/>
          </a:xfrm>
        </p:grpSpPr>
        <p:grpSp>
          <p:nvGrpSpPr>
            <p:cNvPr id="525" name=""/>
            <p:cNvGrpSpPr/>
            <p:nvPr/>
          </p:nvGrpSpPr>
          <p:grpSpPr>
            <a:xfrm>
              <a:off x="6419520" y="4178160"/>
              <a:ext cx="475920" cy="491400"/>
              <a:chOff x="6419520" y="4178160"/>
              <a:chExt cx="475920" cy="49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6419520" y="4178160"/>
                <a:ext cx="40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83680" y="4332240"/>
                <a:ext cx="31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6590520" y="4065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4052880" y="3660840"/>
            <a:ext cx="1207800" cy="955440"/>
            <a:chOff x="4052880" y="3660840"/>
            <a:chExt cx="1207800" cy="955440"/>
          </a:xfrm>
        </p:grpSpPr>
        <p:sp>
          <p:nvSpPr>
            <p:cNvPr id="530" name=""/>
            <p:cNvSpPr/>
            <p:nvPr/>
          </p:nvSpPr>
          <p:spPr>
            <a:xfrm>
              <a:off x="4054320" y="3660840"/>
              <a:ext cx="1192320" cy="955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52880" y="3665160"/>
              <a:ext cx="1207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ign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decryp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586320" y="4757760"/>
            <a:ext cx="96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 rot="10800000">
            <a:off x="4826160" y="4765320"/>
            <a:ext cx="458640" cy="23652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4816080" y="5045040"/>
            <a:ext cx="612000" cy="478800"/>
            <a:chOff x="4816080" y="5045040"/>
            <a:chExt cx="612000" cy="478800"/>
          </a:xfrm>
        </p:grpSpPr>
        <p:sp>
          <p:nvSpPr>
            <p:cNvPr id="535" name=""/>
            <p:cNvSpPr/>
            <p:nvPr/>
          </p:nvSpPr>
          <p:spPr>
            <a:xfrm>
              <a:off x="4816080" y="504504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89960" y="518652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72680" y="4879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629240" y="4684320"/>
            <a:ext cx="0" cy="89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05160" y="4108320"/>
            <a:ext cx="162720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273640" y="4121280"/>
            <a:ext cx="113364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568520" y="3571920"/>
            <a:ext cx="909360" cy="1100160"/>
            <a:chOff x="1568520" y="3571920"/>
            <a:chExt cx="909360" cy="1100160"/>
          </a:xfrm>
        </p:grpSpPr>
        <p:pic>
          <p:nvPicPr>
            <p:cNvPr id="542" name="" descr=""/>
            <p:cNvPicPr/>
            <p:nvPr/>
          </p:nvPicPr>
          <p:blipFill>
            <a:blip r:embed="rId4"/>
            <a:stretch/>
          </p:blipFill>
          <p:spPr>
            <a:xfrm>
              <a:off x="1568520" y="3571920"/>
              <a:ext cx="909360" cy="110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"/>
            <p:cNvGrpSpPr/>
            <p:nvPr/>
          </p:nvGrpSpPr>
          <p:grpSpPr>
            <a:xfrm>
              <a:off x="1855440" y="3727440"/>
              <a:ext cx="475920" cy="604080"/>
              <a:chOff x="1855440" y="3727440"/>
              <a:chExt cx="475920" cy="60408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1855440" y="3840120"/>
                <a:ext cx="475920" cy="491400"/>
                <a:chOff x="1855440" y="3840120"/>
                <a:chExt cx="475920" cy="491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1855440" y="3840120"/>
                  <a:ext cx="40320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K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019600" y="3994200"/>
                  <a:ext cx="311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Comic Sans MS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2026440" y="3727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8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1891800" y="4286160"/>
              <a:ext cx="459000" cy="23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 certificate contains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88880" y="1221840"/>
            <a:ext cx="77724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al number (unique to issu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 about certificate owner, including algorithm and key value itself (not sh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20840" y="2676600"/>
            <a:ext cx="5492520" cy="39290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364440" y="2317680"/>
            <a:ext cx="2301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 about certificate issu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signature by issu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3200" y="1495440"/>
            <a:ext cx="534960" cy="2308320"/>
          </a:xfrm>
          <a:custGeom>
            <a:avLst/>
            <a:gdLst/>
            <a:ahLst/>
            <a:rect l="l" t="t" r="r" b="b"/>
            <a:pathLst>
              <a:path w="337" h="1454">
                <a:moveTo>
                  <a:pt x="337" y="0"/>
                </a:moveTo>
                <a:lnTo>
                  <a:pt x="7" y="0"/>
                </a:lnTo>
                <a:lnTo>
                  <a:pt x="0" y="1454"/>
                </a:lnTo>
                <a:lnTo>
                  <a:pt x="145" y="1453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33720" y="1644480"/>
            <a:ext cx="2286000" cy="482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298600" y="2133720"/>
            <a:ext cx="749520" cy="996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237280" y="2562120"/>
            <a:ext cx="1317600" cy="554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724280" y="3657600"/>
            <a:ext cx="175896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23640" y="4038480"/>
            <a:ext cx="4429080" cy="5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ample Application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cure e-mail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19760" y="4724280"/>
            <a:ext cx="515772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es random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ymmetri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rivate key,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crypts message with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 effici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 encrypt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ith Bob’s public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s both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) 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to B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2280" y="1389240"/>
            <a:ext cx="63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send confidential e-mail, m, to B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17680" y="1832040"/>
            <a:ext cx="8111520" cy="2937240"/>
            <a:chOff x="517680" y="1832040"/>
            <a:chExt cx="8111520" cy="2937240"/>
          </a:xfrm>
        </p:grpSpPr>
        <p:sp>
          <p:nvSpPr>
            <p:cNvPr id="563" name="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1566720" y="2189160"/>
              <a:ext cx="753840" cy="827640"/>
              <a:chOff x="1566720" y="2189160"/>
              <a:chExt cx="753840" cy="827640"/>
            </a:xfrm>
          </p:grpSpPr>
          <p:sp>
            <p:nvSpPr>
              <p:cNvPr id="568" name="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622880" y="250668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35000" y="21891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1590480" y="3389400"/>
              <a:ext cx="753840" cy="855720"/>
              <a:chOff x="1590480" y="3389400"/>
              <a:chExt cx="753840" cy="855720"/>
            </a:xfrm>
          </p:grpSpPr>
          <p:sp>
            <p:nvSpPr>
              <p:cNvPr id="572" name="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623960" y="373500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520" y="33894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2787480" y="3017880"/>
              <a:ext cx="637920" cy="520560"/>
              <a:chOff x="2787480" y="3017880"/>
              <a:chExt cx="637920" cy="520560"/>
            </a:xfrm>
          </p:grpSpPr>
          <p:sp>
            <p:nvSpPr>
              <p:cNvPr id="577" name=""/>
              <p:cNvSpPr/>
              <p:nvPr/>
            </p:nvSpPr>
            <p:spPr>
              <a:xfrm>
                <a:off x="2903400" y="311976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787480" y="301788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580" name="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311200" y="229536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2385000" y="3784680"/>
              <a:ext cx="873000" cy="670320"/>
              <a:chOff x="2385000" y="3784680"/>
              <a:chExt cx="873000" cy="670320"/>
            </a:xfrm>
          </p:grpSpPr>
          <p:sp>
            <p:nvSpPr>
              <p:cNvPr id="585" name=""/>
              <p:cNvSpPr/>
              <p:nvPr/>
            </p:nvSpPr>
            <p:spPr>
              <a:xfrm>
                <a:off x="2385000" y="394488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47280" y="313200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84720" y="183204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563120" y="4184640"/>
              <a:ext cx="446760" cy="584640"/>
              <a:chOff x="1563120" y="4184640"/>
              <a:chExt cx="446760" cy="584640"/>
            </a:xfrm>
          </p:grpSpPr>
          <p:sp>
            <p:nvSpPr>
              <p:cNvPr id="594" name=""/>
              <p:cNvSpPr/>
              <p:nvPr/>
            </p:nvSpPr>
            <p:spPr>
              <a:xfrm>
                <a:off x="1563120" y="425916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" descr="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6813360" y="2168280"/>
              <a:ext cx="753840" cy="827640"/>
              <a:chOff x="6813360" y="2168280"/>
              <a:chExt cx="753840" cy="827640"/>
            </a:xfrm>
          </p:grpSpPr>
          <p:sp>
            <p:nvSpPr>
              <p:cNvPr id="605" name="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69520" y="24858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81640" y="21682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837480" y="3381120"/>
              <a:ext cx="753480" cy="856080"/>
              <a:chOff x="6837480" y="3381120"/>
              <a:chExt cx="753480" cy="856080"/>
            </a:xfrm>
          </p:grpSpPr>
          <p:sp>
            <p:nvSpPr>
              <p:cNvPr id="610" name="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70960" y="372708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175520" y="33811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" name=""/>
            <p:cNvGrpSpPr/>
            <p:nvPr/>
          </p:nvGrpSpPr>
          <p:grpSpPr>
            <a:xfrm>
              <a:off x="6604920" y="4176720"/>
              <a:ext cx="437040" cy="584640"/>
              <a:chOff x="6604920" y="4176720"/>
              <a:chExt cx="437040" cy="584640"/>
            </a:xfrm>
          </p:grpSpPr>
          <p:sp>
            <p:nvSpPr>
              <p:cNvPr id="617" name=""/>
              <p:cNvSpPr/>
              <p:nvPr/>
            </p:nvSpPr>
            <p:spPr>
              <a:xfrm>
                <a:off x="6604920" y="425124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756000" y="371952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875200" y="228744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715720" y="3762360"/>
              <a:ext cx="873000" cy="670320"/>
              <a:chOff x="5715720" y="3762360"/>
              <a:chExt cx="873000" cy="670320"/>
            </a:xfrm>
          </p:grpSpPr>
          <p:sp>
            <p:nvSpPr>
              <p:cNvPr id="627" name=""/>
              <p:cNvSpPr/>
              <p:nvPr/>
            </p:nvSpPr>
            <p:spPr>
              <a:xfrm>
                <a:off x="5715720" y="392256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cure e-mail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03360" y="4805280"/>
            <a:ext cx="6051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his private key to decrypt and recover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decrypt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) to recover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12280" y="1389240"/>
            <a:ext cx="63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send confidential e-mail, m, to B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17680" y="1832040"/>
            <a:ext cx="8111520" cy="2937240"/>
            <a:chOff x="517680" y="1832040"/>
            <a:chExt cx="8111520" cy="2937240"/>
          </a:xfrm>
        </p:grpSpPr>
        <p:sp>
          <p:nvSpPr>
            <p:cNvPr id="633" name=""/>
            <p:cNvSpPr/>
            <p:nvPr/>
          </p:nvSpPr>
          <p:spPr>
            <a:xfrm>
              <a:off x="3959280" y="2990880"/>
              <a:ext cx="133452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69920" y="267480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1993320" y="194112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" descr=""/>
            <p:cNvPicPr/>
            <p:nvPr/>
          </p:nvPicPr>
          <p:blipFill>
            <a:blip r:embed="rId2"/>
            <a:stretch/>
          </p:blipFill>
          <p:spPr>
            <a:xfrm>
              <a:off x="3427200" y="2909880"/>
              <a:ext cx="54432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"/>
            <p:cNvGrpSpPr/>
            <p:nvPr/>
          </p:nvGrpSpPr>
          <p:grpSpPr>
            <a:xfrm>
              <a:off x="1566720" y="2189160"/>
              <a:ext cx="753840" cy="827640"/>
              <a:chOff x="1566720" y="2189160"/>
              <a:chExt cx="753840" cy="827640"/>
            </a:xfrm>
          </p:grpSpPr>
          <p:sp>
            <p:nvSpPr>
              <p:cNvPr id="638" name=""/>
              <p:cNvSpPr/>
              <p:nvPr/>
            </p:nvSpPr>
            <p:spPr>
              <a:xfrm>
                <a:off x="1566720" y="247968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22880" y="250668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935000" y="21891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590480" y="3389400"/>
              <a:ext cx="753840" cy="855720"/>
              <a:chOff x="1590480" y="3389400"/>
              <a:chExt cx="753840" cy="855720"/>
            </a:xfrm>
          </p:grpSpPr>
          <p:sp>
            <p:nvSpPr>
              <p:cNvPr id="642" name=""/>
              <p:cNvSpPr/>
              <p:nvPr/>
            </p:nvSpPr>
            <p:spPr>
              <a:xfrm>
                <a:off x="1590480" y="36795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23960" y="373500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28520" y="33894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22600" y="35748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787480" y="3017880"/>
              <a:ext cx="637920" cy="520560"/>
              <a:chOff x="2787480" y="3017880"/>
              <a:chExt cx="637920" cy="520560"/>
            </a:xfrm>
          </p:grpSpPr>
          <p:sp>
            <p:nvSpPr>
              <p:cNvPr id="647" name=""/>
              <p:cNvSpPr/>
              <p:nvPr/>
            </p:nvSpPr>
            <p:spPr>
              <a:xfrm>
                <a:off x="2903400" y="311976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87480" y="301788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797440" y="2995560"/>
              <a:ext cx="637920" cy="520560"/>
              <a:chOff x="5797440" y="2995560"/>
              <a:chExt cx="637920" cy="520560"/>
            </a:xfrm>
          </p:grpSpPr>
          <p:sp>
            <p:nvSpPr>
              <p:cNvPr id="650" name=""/>
              <p:cNvSpPr/>
              <p:nvPr/>
            </p:nvSpPr>
            <p:spPr>
              <a:xfrm>
                <a:off x="5913360" y="3097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797440" y="2995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1120680" y="390204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11200" y="229536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2385000" y="3784680"/>
              <a:ext cx="873000" cy="670320"/>
              <a:chOff x="2385000" y="3784680"/>
              <a:chExt cx="873000" cy="670320"/>
            </a:xfrm>
          </p:grpSpPr>
          <p:sp>
            <p:nvSpPr>
              <p:cNvPr id="655" name=""/>
              <p:cNvSpPr/>
              <p:nvPr/>
            </p:nvSpPr>
            <p:spPr>
              <a:xfrm>
                <a:off x="2385000" y="394488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58080" y="3784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2322360" y="2682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344680" y="35028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000" y="24541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47280" y="313200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84720" y="183204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4960" y="2117520"/>
              <a:ext cx="1368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563120" y="4184640"/>
              <a:ext cx="446760" cy="584640"/>
              <a:chOff x="1563120" y="4184640"/>
              <a:chExt cx="446760" cy="584640"/>
            </a:xfrm>
          </p:grpSpPr>
          <p:sp>
            <p:nvSpPr>
              <p:cNvPr id="664" name=""/>
              <p:cNvSpPr/>
              <p:nvPr/>
            </p:nvSpPr>
            <p:spPr>
              <a:xfrm>
                <a:off x="1563120" y="425916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83000" y="4184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1954080" y="415584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2043000" y="4430520"/>
              <a:ext cx="39960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4"/>
            <a:stretch/>
          </p:blipFill>
          <p:spPr>
            <a:xfrm>
              <a:off x="517680" y="2977920"/>
              <a:ext cx="5266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"/>
            <p:cNvSpPr/>
            <p:nvPr/>
          </p:nvSpPr>
          <p:spPr>
            <a:xfrm flipV="1">
              <a:off x="3325680" y="327816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05240" y="327024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5"/>
            <a:stretch/>
          </p:blipFill>
          <p:spPr>
            <a:xfrm>
              <a:off x="5319720" y="2887560"/>
              <a:ext cx="5439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4103640" y="323352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089760" y="267660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6813360" y="2168280"/>
              <a:ext cx="753840" cy="827640"/>
              <a:chOff x="6813360" y="2168280"/>
              <a:chExt cx="753840" cy="827640"/>
            </a:xfrm>
          </p:grpSpPr>
          <p:sp>
            <p:nvSpPr>
              <p:cNvPr id="675" name=""/>
              <p:cNvSpPr/>
              <p:nvPr/>
            </p:nvSpPr>
            <p:spPr>
              <a:xfrm>
                <a:off x="6813360" y="2458800"/>
                <a:ext cx="753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869520" y="24858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81640" y="21682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 flipH="1" flipV="1">
              <a:off x="6111720" y="3510720"/>
              <a:ext cx="75528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837480" y="3381120"/>
              <a:ext cx="753480" cy="856080"/>
              <a:chOff x="6837480" y="3381120"/>
              <a:chExt cx="753480" cy="856080"/>
            </a:xfrm>
          </p:grpSpPr>
          <p:sp>
            <p:nvSpPr>
              <p:cNvPr id="680" name=""/>
              <p:cNvSpPr/>
              <p:nvPr/>
            </p:nvSpPr>
            <p:spPr>
              <a:xfrm>
                <a:off x="6837480" y="3671640"/>
                <a:ext cx="75348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70960" y="372708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175520" y="338112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01280" y="35668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6969240" y="2944800"/>
              <a:ext cx="28080" cy="768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334280" y="3234960"/>
              <a:ext cx="39960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6" name=""/>
            <p:cNvGrpSpPr/>
            <p:nvPr/>
          </p:nvGrpSpPr>
          <p:grpSpPr>
            <a:xfrm>
              <a:off x="6604920" y="4176720"/>
              <a:ext cx="437040" cy="584640"/>
              <a:chOff x="6604920" y="4176720"/>
              <a:chExt cx="437040" cy="584640"/>
            </a:xfrm>
          </p:grpSpPr>
          <p:sp>
            <p:nvSpPr>
              <p:cNvPr id="687" name=""/>
              <p:cNvSpPr/>
              <p:nvPr/>
            </p:nvSpPr>
            <p:spPr>
              <a:xfrm>
                <a:off x="6604920" y="425124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756840" y="4176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995880" y="4147920"/>
              <a:ext cx="1404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7"/>
            <a:stretch/>
          </p:blipFill>
          <p:spPr>
            <a:xfrm rot="10800000">
              <a:off x="7084440" y="442260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6000" y="371952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78720" y="268128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053560" y="24750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4" name="" descr=""/>
            <p:cNvPicPr/>
            <p:nvPr/>
          </p:nvPicPr>
          <p:blipFill>
            <a:blip r:embed="rId8"/>
            <a:stretch/>
          </p:blipFill>
          <p:spPr>
            <a:xfrm>
              <a:off x="7986600" y="3119400"/>
              <a:ext cx="6426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5875200" y="2287440"/>
              <a:ext cx="87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5715720" y="3762360"/>
              <a:ext cx="873000" cy="670320"/>
              <a:chOff x="5715720" y="3762360"/>
              <a:chExt cx="873000" cy="670320"/>
            </a:xfrm>
          </p:grpSpPr>
          <p:sp>
            <p:nvSpPr>
              <p:cNvPr id="697" name=""/>
              <p:cNvSpPr/>
              <p:nvPr/>
            </p:nvSpPr>
            <p:spPr>
              <a:xfrm>
                <a:off x="5715720" y="392256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788800" y="3762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cure e-mail (continued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57200" y="1523880"/>
            <a:ext cx="74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provide sender authentication message integ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80960" y="5230800"/>
            <a:ext cx="70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digitally signs me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s both message (in the clear) and digital sig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5920" y="2421000"/>
            <a:ext cx="8575560" cy="2508840"/>
            <a:chOff x="385920" y="2421000"/>
            <a:chExt cx="8575560" cy="2508840"/>
          </a:xfrm>
        </p:grpSpPr>
        <p:sp>
          <p:nvSpPr>
            <p:cNvPr id="703" name=""/>
            <p:cNvSpPr/>
            <p:nvPr/>
          </p:nvSpPr>
          <p:spPr>
            <a:xfrm>
              <a:off x="1957680" y="3321360"/>
              <a:ext cx="988920" cy="40608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27520" y="3643560"/>
              <a:ext cx="133524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881280" y="332604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1"/>
            <a:stretch/>
          </p:blipFill>
          <p:spPr>
            <a:xfrm>
              <a:off x="3295800" y="356256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7" name=""/>
            <p:cNvGrpSpPr/>
            <p:nvPr/>
          </p:nvGrpSpPr>
          <p:grpSpPr>
            <a:xfrm>
              <a:off x="1231920" y="2826000"/>
              <a:ext cx="754200" cy="725400"/>
              <a:chOff x="1231920" y="2826000"/>
              <a:chExt cx="754200" cy="725400"/>
            </a:xfrm>
          </p:grpSpPr>
          <p:sp>
            <p:nvSpPr>
              <p:cNvPr id="708" name=""/>
              <p:cNvSpPr/>
              <p:nvPr/>
            </p:nvSpPr>
            <p:spPr>
              <a:xfrm>
                <a:off x="1231920" y="31021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52520" y="31435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572120" y="28260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2101680" y="2793960"/>
              <a:ext cx="753840" cy="856080"/>
              <a:chOff x="2101680" y="2793960"/>
              <a:chExt cx="753840" cy="856080"/>
            </a:xfrm>
          </p:grpSpPr>
          <p:sp>
            <p:nvSpPr>
              <p:cNvPr id="712" name=""/>
              <p:cNvSpPr/>
              <p:nvPr/>
            </p:nvSpPr>
            <p:spPr>
              <a:xfrm>
                <a:off x="2101680" y="308448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37680" y="313992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440080" y="27939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265840" y="29797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2656080" y="3670560"/>
              <a:ext cx="637920" cy="520560"/>
              <a:chOff x="2656080" y="3670560"/>
              <a:chExt cx="637920" cy="520560"/>
            </a:xfrm>
          </p:grpSpPr>
          <p:sp>
            <p:nvSpPr>
              <p:cNvPr id="717" name=""/>
              <p:cNvSpPr/>
              <p:nvPr/>
            </p:nvSpPr>
            <p:spPr>
              <a:xfrm>
                <a:off x="2772000" y="377244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56080" y="367056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5666040" y="3648240"/>
              <a:ext cx="637920" cy="520560"/>
              <a:chOff x="5666040" y="3648240"/>
              <a:chExt cx="63792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5781960" y="37501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666040" y="364824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7712280" y="3049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2872800" y="2797200"/>
              <a:ext cx="1092240" cy="672120"/>
              <a:chOff x="2872800" y="2797200"/>
              <a:chExt cx="1092240" cy="672120"/>
            </a:xfrm>
          </p:grpSpPr>
          <p:sp>
            <p:nvSpPr>
              <p:cNvPr id="724" name=""/>
              <p:cNvSpPr/>
              <p:nvPr/>
            </p:nvSpPr>
            <p:spPr>
              <a:xfrm>
                <a:off x="2872800" y="2959200"/>
                <a:ext cx="1092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996280" y="2797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 flipV="1">
              <a:off x="1009800" y="4155480"/>
              <a:ext cx="195912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3600" y="31068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2043000" y="2443320"/>
              <a:ext cx="435240" cy="584640"/>
              <a:chOff x="2043000" y="2443320"/>
              <a:chExt cx="435240" cy="584640"/>
            </a:xfrm>
          </p:grpSpPr>
          <p:sp>
            <p:nvSpPr>
              <p:cNvPr id="729" name=""/>
              <p:cNvSpPr/>
              <p:nvPr/>
            </p:nvSpPr>
            <p:spPr>
              <a:xfrm>
                <a:off x="2043000" y="2517840"/>
                <a:ext cx="43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193120" y="244332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2475000" y="2718000"/>
              <a:ext cx="1440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2" name="" descr=""/>
            <p:cNvPicPr/>
            <p:nvPr/>
          </p:nvPicPr>
          <p:blipFill>
            <a:blip r:embed="rId2"/>
            <a:stretch/>
          </p:blipFill>
          <p:spPr>
            <a:xfrm rot="10800000">
              <a:off x="1724040" y="2660400"/>
              <a:ext cx="40032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3"/>
            <a:stretch/>
          </p:blipFill>
          <p:spPr>
            <a:xfrm>
              <a:off x="385920" y="363060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 flipV="1">
              <a:off x="3194280" y="3930840"/>
              <a:ext cx="7682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073840" y="392292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4"/>
            <a:stretch/>
          </p:blipFill>
          <p:spPr>
            <a:xfrm>
              <a:off x="5187960" y="354024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3971880" y="388620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957280" y="332928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5979600" y="416340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0" name="" descr=""/>
            <p:cNvPicPr/>
            <p:nvPr/>
          </p:nvPicPr>
          <p:blipFill>
            <a:blip r:embed="rId5"/>
            <a:stretch/>
          </p:blipFill>
          <p:spPr>
            <a:xfrm>
              <a:off x="8318520" y="3554640"/>
              <a:ext cx="6429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624600" y="437832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6724800" y="2773440"/>
              <a:ext cx="754200" cy="856080"/>
              <a:chOff x="6724800" y="2773440"/>
              <a:chExt cx="754200" cy="856080"/>
            </a:xfrm>
          </p:grpSpPr>
          <p:sp>
            <p:nvSpPr>
              <p:cNvPr id="743" name=""/>
              <p:cNvSpPr/>
              <p:nvPr/>
            </p:nvSpPr>
            <p:spPr>
              <a:xfrm>
                <a:off x="6724800" y="3063960"/>
                <a:ext cx="75420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760440" y="311940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063200" y="277344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857640" y="2959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7372440" y="269568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8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7448400" y="260964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9" name=""/>
            <p:cNvGrpSpPr/>
            <p:nvPr/>
          </p:nvGrpSpPr>
          <p:grpSpPr>
            <a:xfrm>
              <a:off x="6941880" y="2421000"/>
              <a:ext cx="445320" cy="584640"/>
              <a:chOff x="6941880" y="2421000"/>
              <a:chExt cx="445320" cy="584640"/>
            </a:xfrm>
          </p:grpSpPr>
          <p:sp>
            <p:nvSpPr>
              <p:cNvPr id="750" name=""/>
              <p:cNvSpPr/>
              <p:nvPr/>
            </p:nvSpPr>
            <p:spPr>
              <a:xfrm>
                <a:off x="6941880" y="2495520"/>
                <a:ext cx="43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060320" y="2421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5593680" y="2789280"/>
              <a:ext cx="1092240" cy="672120"/>
              <a:chOff x="5593680" y="2789280"/>
              <a:chExt cx="1092240" cy="672120"/>
            </a:xfrm>
          </p:grpSpPr>
          <p:sp>
            <p:nvSpPr>
              <p:cNvPr id="753" name=""/>
              <p:cNvSpPr/>
              <p:nvPr/>
            </p:nvSpPr>
            <p:spPr>
              <a:xfrm>
                <a:off x="5593680" y="2951280"/>
                <a:ext cx="1092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17160" y="27892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928480" y="45309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6742080" y="4008600"/>
              <a:ext cx="754200" cy="725400"/>
              <a:chOff x="6742080" y="4008600"/>
              <a:chExt cx="754200" cy="725400"/>
            </a:xfrm>
          </p:grpSpPr>
          <p:sp>
            <p:nvSpPr>
              <p:cNvPr id="757" name=""/>
              <p:cNvSpPr/>
              <p:nvPr/>
            </p:nvSpPr>
            <p:spPr>
              <a:xfrm>
                <a:off x="6742080" y="428472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862680" y="43261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082280" y="400860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 flipV="1">
              <a:off x="7523280" y="4155480"/>
              <a:ext cx="30492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02760" y="3279960"/>
              <a:ext cx="30456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64480" y="443556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(m 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88400" y="3718080"/>
              <a:ext cx="135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comp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Secure e-mail (continued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50800" y="1447920"/>
            <a:ext cx="679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wants to provide secrecy, sender authenticatio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message integ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74800" y="5508720"/>
            <a:ext cx="75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Comic Sans MS"/>
              </a:rPr>
              <a:t>Alice uses three key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r private key, Bob’s public key, newly created symmetr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023840" y="1978200"/>
            <a:ext cx="6983280" cy="3567600"/>
            <a:chOff x="1023840" y="1978200"/>
            <a:chExt cx="6983280" cy="3567600"/>
          </a:xfrm>
        </p:grpSpPr>
        <p:sp>
          <p:nvSpPr>
            <p:cNvPr id="768" name=""/>
            <p:cNvSpPr/>
            <p:nvPr/>
          </p:nvSpPr>
          <p:spPr>
            <a:xfrm>
              <a:off x="2595240" y="2855880"/>
              <a:ext cx="988920" cy="4064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518840" y="2860920"/>
              <a:ext cx="36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1869840" y="2360880"/>
              <a:ext cx="754200" cy="725400"/>
              <a:chOff x="1869840" y="2360880"/>
              <a:chExt cx="754200" cy="725400"/>
            </a:xfrm>
          </p:grpSpPr>
          <p:sp>
            <p:nvSpPr>
              <p:cNvPr id="771" name=""/>
              <p:cNvSpPr/>
              <p:nvPr/>
            </p:nvSpPr>
            <p:spPr>
              <a:xfrm>
                <a:off x="1869840" y="26370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90440" y="2678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10040" y="23608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739600" y="2328840"/>
              <a:ext cx="753840" cy="856080"/>
              <a:chOff x="2739600" y="2328840"/>
              <a:chExt cx="753840" cy="856080"/>
            </a:xfrm>
          </p:grpSpPr>
          <p:sp>
            <p:nvSpPr>
              <p:cNvPr id="775" name=""/>
              <p:cNvSpPr/>
              <p:nvPr/>
            </p:nvSpPr>
            <p:spPr>
              <a:xfrm>
                <a:off x="2739600" y="2619360"/>
                <a:ext cx="753840" cy="44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775600" y="2674800"/>
                <a:ext cx="631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078000" y="232884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03760" y="25146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3293640" y="3205440"/>
              <a:ext cx="637920" cy="520560"/>
              <a:chOff x="3293640" y="3205440"/>
              <a:chExt cx="637920" cy="520560"/>
            </a:xfrm>
          </p:grpSpPr>
          <p:sp>
            <p:nvSpPr>
              <p:cNvPr id="780" name=""/>
              <p:cNvSpPr/>
              <p:nvPr/>
            </p:nvSpPr>
            <p:spPr>
              <a:xfrm>
                <a:off x="3409560" y="330732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293640" y="320544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510360" y="2332080"/>
              <a:ext cx="1092240" cy="672120"/>
              <a:chOff x="3510360" y="2332080"/>
              <a:chExt cx="1092240" cy="672120"/>
            </a:xfrm>
          </p:grpSpPr>
          <p:sp>
            <p:nvSpPr>
              <p:cNvPr id="783" name=""/>
              <p:cNvSpPr/>
              <p:nvPr/>
            </p:nvSpPr>
            <p:spPr>
              <a:xfrm>
                <a:off x="3510360" y="2494080"/>
                <a:ext cx="1092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H(m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4560" y="233208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 flipV="1">
              <a:off x="1647720" y="3690360"/>
              <a:ext cx="195876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81160" y="264168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680560" y="1978200"/>
              <a:ext cx="435240" cy="584640"/>
              <a:chOff x="2680560" y="1978200"/>
              <a:chExt cx="435240" cy="584640"/>
            </a:xfrm>
          </p:grpSpPr>
          <p:sp>
            <p:nvSpPr>
              <p:cNvPr id="788" name=""/>
              <p:cNvSpPr/>
              <p:nvPr/>
            </p:nvSpPr>
            <p:spPr>
              <a:xfrm>
                <a:off x="2680560" y="2052720"/>
                <a:ext cx="435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830680" y="1978200"/>
                <a:ext cx="26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112920" y="2252880"/>
              <a:ext cx="14040" cy="36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1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2361600" y="219528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2"/>
            <a:stretch/>
          </p:blipFill>
          <p:spPr>
            <a:xfrm>
              <a:off x="1023840" y="3165480"/>
              <a:ext cx="5270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262160" y="391320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71880" y="3767400"/>
              <a:ext cx="1335240" cy="7826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82880" y="345132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3"/>
            <a:stretch/>
          </p:blipFill>
          <p:spPr>
            <a:xfrm rot="10800000">
              <a:off x="5287320" y="2687400"/>
              <a:ext cx="39996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4"/>
            <a:stretch/>
          </p:blipFill>
          <p:spPr>
            <a:xfrm>
              <a:off x="6140160" y="3686400"/>
              <a:ext cx="544680" cy="66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4279680" y="2965680"/>
              <a:ext cx="754200" cy="827640"/>
              <a:chOff x="4279680" y="2965680"/>
              <a:chExt cx="754200" cy="827640"/>
            </a:xfrm>
          </p:grpSpPr>
          <p:sp>
            <p:nvSpPr>
              <p:cNvPr id="799" name=""/>
              <p:cNvSpPr/>
              <p:nvPr/>
            </p:nvSpPr>
            <p:spPr>
              <a:xfrm>
                <a:off x="4279680" y="325620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336560" y="3283200"/>
                <a:ext cx="616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48320" y="296568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4303440" y="4165560"/>
              <a:ext cx="754200" cy="856080"/>
              <a:chOff x="4303440" y="4165560"/>
              <a:chExt cx="754200" cy="856080"/>
            </a:xfrm>
          </p:grpSpPr>
          <p:sp>
            <p:nvSpPr>
              <p:cNvPr id="803" name=""/>
              <p:cNvSpPr/>
              <p:nvPr/>
            </p:nvSpPr>
            <p:spPr>
              <a:xfrm>
                <a:off x="4303440" y="4456080"/>
                <a:ext cx="75420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337640" y="4511520"/>
                <a:ext cx="633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42200" y="4165560"/>
                <a:ext cx="307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436280" y="43513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500440" y="3794400"/>
              <a:ext cx="637920" cy="520560"/>
              <a:chOff x="5500440" y="3794400"/>
              <a:chExt cx="637920" cy="520560"/>
            </a:xfrm>
          </p:grpSpPr>
          <p:sp>
            <p:nvSpPr>
              <p:cNvPr id="808" name=""/>
              <p:cNvSpPr/>
              <p:nvPr/>
            </p:nvSpPr>
            <p:spPr>
              <a:xfrm>
                <a:off x="5616360" y="3896280"/>
                <a:ext cx="377640" cy="334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0440" y="3794400"/>
                <a:ext cx="637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833640" y="4678560"/>
              <a:ext cx="50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097960" y="4560840"/>
              <a:ext cx="873000" cy="670320"/>
              <a:chOff x="5097960" y="4560840"/>
              <a:chExt cx="873000" cy="670320"/>
            </a:xfrm>
          </p:grpSpPr>
          <p:sp>
            <p:nvSpPr>
              <p:cNvPr id="812" name=""/>
              <p:cNvSpPr/>
              <p:nvPr/>
            </p:nvSpPr>
            <p:spPr>
              <a:xfrm>
                <a:off x="5097960" y="4721040"/>
                <a:ext cx="873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(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171040" y="4560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>
              <a:off x="5035320" y="345924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5057640" y="4279320"/>
              <a:ext cx="755640" cy="392040"/>
            </a:xfrm>
            <a:custGeom>
              <a:avLst/>
              <a:gdLst/>
              <a:ahLst/>
              <a:rect l="l" t="t" r="r" b="b"/>
              <a:pathLst>
                <a:path w="476" h="247">
                  <a:moveTo>
                    <a:pt x="0" y="0"/>
                  </a:moveTo>
                  <a:lnTo>
                    <a:pt x="476" y="0"/>
                  </a:lnTo>
                  <a:lnTo>
                    <a:pt x="476" y="24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878720" y="262260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05000" y="289404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4276080" y="4961160"/>
              <a:ext cx="447480" cy="584640"/>
              <a:chOff x="4276080" y="4961160"/>
              <a:chExt cx="447480" cy="584640"/>
            </a:xfrm>
          </p:grpSpPr>
          <p:sp>
            <p:nvSpPr>
              <p:cNvPr id="819" name=""/>
              <p:cNvSpPr/>
              <p:nvPr/>
            </p:nvSpPr>
            <p:spPr>
              <a:xfrm>
                <a:off x="4276080" y="5035680"/>
                <a:ext cx="43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96680" y="49611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4667040" y="4932360"/>
              <a:ext cx="14400" cy="362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2" name="" descr=""/>
            <p:cNvPicPr/>
            <p:nvPr/>
          </p:nvPicPr>
          <p:blipFill>
            <a:blip r:embed="rId5"/>
            <a:stretch/>
          </p:blipFill>
          <p:spPr>
            <a:xfrm rot="10800000">
              <a:off x="4755600" y="5207040"/>
              <a:ext cx="3999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V="1">
              <a:off x="6038640" y="4054320"/>
              <a:ext cx="76824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16600" y="4010040"/>
              <a:ext cx="106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468960" y="4496040"/>
              <a:ext cx="43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tty good privacy (PGP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33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-mail encryption scheme, de-facto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symmetric key cryptography, public key cryptography, hash function, and digital signature as descri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ecrecy, sender authentication, integ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, Phil Zimmerman, was target of 3-year federal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06760" y="2134800"/>
            <a:ext cx="4205520" cy="360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-BEGIN PGP SIGNED MESSAGE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ash: SHA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ob:My husband is out of town tonight.Passionately yours, Al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-BEGIN PGP SIGNATURE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Version: PGP 5.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arset: nocon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yhHJRHhGJGhgg/12EpJ+lo8gE4vB3mqJhFEvZP9t6n7G6m5Gw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---END PGP SIGNATURE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82000" y="1647720"/>
            <a:ext cx="29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GP signed messa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Network Security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onfidential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ly sender, intended receiver should “understand” message cont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uthentica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firm identity of each 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Message Integrity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nsure message not altered (in transit, or afterwards) without det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496800" y="1522440"/>
            <a:ext cx="7110360" cy="145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ewal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480" y="4419720"/>
            <a:ext cx="381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5480" y="17082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organization’s internal net from larger Internet, allowing some packets to pass, blocking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910560" y="588024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092480" y="4703760"/>
            <a:ext cx="219240" cy="1012680"/>
          </a:xfrm>
          <a:custGeom>
            <a:avLst/>
            <a:gdLst/>
            <a:ahLst/>
            <a:rect l="l" t="t" r="r" b="b"/>
            <a:pathLst>
              <a:path w="138" h="638">
                <a:moveTo>
                  <a:pt x="0" y="485"/>
                </a:moveTo>
                <a:lnTo>
                  <a:pt x="138" y="638"/>
                </a:lnTo>
                <a:lnTo>
                  <a:pt x="138" y="77"/>
                </a:lnTo>
                <a:lnTo>
                  <a:pt x="116" y="49"/>
                </a:lnTo>
                <a:lnTo>
                  <a:pt x="0" y="0"/>
                </a:lnTo>
                <a:lnTo>
                  <a:pt x="0" y="485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82880" y="3454560"/>
            <a:ext cx="4680" cy="18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16200" y="5730840"/>
            <a:ext cx="144936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65600" y="579276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730520" y="3174840"/>
            <a:ext cx="5116320" cy="2543400"/>
            <a:chOff x="1730520" y="3174840"/>
            <a:chExt cx="5116320" cy="2543400"/>
          </a:xfrm>
        </p:grpSpPr>
        <p:sp>
          <p:nvSpPr>
            <p:cNvPr id="841" name=""/>
            <p:cNvSpPr/>
            <p:nvPr/>
          </p:nvSpPr>
          <p:spPr>
            <a:xfrm>
              <a:off x="1730520" y="3174840"/>
              <a:ext cx="2654280" cy="1551240"/>
            </a:xfrm>
            <a:custGeom>
              <a:avLst/>
              <a:gdLst/>
              <a:ahLst/>
              <a:rect l="l" t="t" r="r" b="b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84400" y="4567320"/>
              <a:ext cx="177840" cy="11412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75120" y="4197240"/>
              <a:ext cx="82440" cy="374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86200" y="4303800"/>
              <a:ext cx="112680" cy="374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986200" y="4303800"/>
              <a:ext cx="112680" cy="374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984400" y="419256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84400" y="4192560"/>
              <a:ext cx="17784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62240" y="4202280"/>
              <a:ext cx="1800" cy="365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98880" y="4567320"/>
              <a:ext cx="63360" cy="11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02040" y="4352760"/>
              <a:ext cx="73080" cy="2145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02040" y="4352760"/>
              <a:ext cx="73080" cy="214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13200" y="4417920"/>
              <a:ext cx="55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66960" y="4199040"/>
              <a:ext cx="395280" cy="33012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04840" y="422280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017800" y="4262400"/>
              <a:ext cx="209520" cy="142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92240" y="4402080"/>
              <a:ext cx="152640" cy="5076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66760" y="4419720"/>
              <a:ext cx="6696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00160" y="4408560"/>
              <a:ext cx="44640" cy="15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92160" y="4422600"/>
              <a:ext cx="257400" cy="8748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149560" y="4413240"/>
              <a:ext cx="90360" cy="4140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09800" y="4240080"/>
              <a:ext cx="50760" cy="193680"/>
            </a:xfrm>
            <a:custGeom>
              <a:avLst/>
              <a:gdLst/>
              <a:ahLst/>
              <a:rect l="l" t="t" r="r" b="b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11240" y="424188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14480" y="424332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16280" y="424332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16280" y="424512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17720" y="4246560"/>
              <a:ext cx="1440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93760" y="436896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028960" y="43689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48040" y="436896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74960" y="4222800"/>
              <a:ext cx="2988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30480" y="4203720"/>
              <a:ext cx="42840" cy="16344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74960" y="4230720"/>
              <a:ext cx="28440" cy="1270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76400" y="4240080"/>
              <a:ext cx="22320" cy="10980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978200" y="4248000"/>
              <a:ext cx="1872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78200" y="425592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81080" y="4265640"/>
              <a:ext cx="11160" cy="5220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1920" y="4213080"/>
              <a:ext cx="38160" cy="142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3720" y="4224240"/>
              <a:ext cx="2988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36600" y="4233960"/>
              <a:ext cx="24120" cy="1000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36600" y="424332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38400" y="425448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43280" y="4240080"/>
              <a:ext cx="6120" cy="18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9880" y="423540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8000" y="4300560"/>
              <a:ext cx="5904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08000" y="4262400"/>
              <a:ext cx="5904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63800" y="4243320"/>
              <a:ext cx="96840" cy="17784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11320" y="420228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40040" y="4424400"/>
              <a:ext cx="209520" cy="7128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895400" y="4443480"/>
              <a:ext cx="214560" cy="6336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932120" y="4435560"/>
              <a:ext cx="209520" cy="5544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16280" y="4438800"/>
              <a:ext cx="210960" cy="6012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685960" y="3935520"/>
              <a:ext cx="517680" cy="10296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85960" y="3935520"/>
              <a:ext cx="517680" cy="10296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85960" y="3925800"/>
              <a:ext cx="180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03640" y="3925800"/>
              <a:ext cx="1440" cy="65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85960" y="3925800"/>
              <a:ext cx="511200" cy="63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77920" y="3952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681280" y="3849840"/>
              <a:ext cx="515880" cy="12204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81280" y="3849840"/>
              <a:ext cx="515880" cy="12204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05120" y="3878280"/>
              <a:ext cx="921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81160" y="3948120"/>
              <a:ext cx="810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90800" y="3878280"/>
              <a:ext cx="936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05120" y="3946680"/>
              <a:ext cx="921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81160" y="3876840"/>
              <a:ext cx="810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890800" y="3876840"/>
              <a:ext cx="936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11720" y="4818240"/>
              <a:ext cx="133200" cy="9000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307040" y="4818240"/>
              <a:ext cx="136440" cy="1015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0" y="0"/>
                  </a:moveTo>
                  <a:lnTo>
                    <a:pt x="86" y="0"/>
                  </a:lnTo>
                  <a:lnTo>
                    <a:pt x="86" y="64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1720" y="4950000"/>
              <a:ext cx="6516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79760" y="4948200"/>
              <a:ext cx="68400" cy="54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44840" y="4889520"/>
              <a:ext cx="6840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4680" y="4889520"/>
              <a:ext cx="3348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05240" y="488952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09920" y="4827600"/>
              <a:ext cx="68400" cy="54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81560" y="4829040"/>
              <a:ext cx="6804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09920" y="5068800"/>
              <a:ext cx="6372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379760" y="5068800"/>
              <a:ext cx="6696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4840" y="5008680"/>
              <a:ext cx="6696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3240" y="500868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11720" y="5008680"/>
              <a:ext cx="270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09920" y="5184720"/>
              <a:ext cx="6372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379760" y="5184720"/>
              <a:ext cx="6696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4840" y="5126040"/>
              <a:ext cx="6696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13240" y="5126040"/>
              <a:ext cx="3492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09920" y="5126040"/>
              <a:ext cx="288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9920" y="5305320"/>
              <a:ext cx="6372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379760" y="5305320"/>
              <a:ext cx="66960" cy="525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43400" y="5245200"/>
              <a:ext cx="68400" cy="52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13240" y="5245200"/>
              <a:ext cx="3348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11720" y="5245200"/>
              <a:ext cx="270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09920" y="5424480"/>
              <a:ext cx="6696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79760" y="5423040"/>
              <a:ext cx="68400" cy="540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44840" y="5364000"/>
              <a:ext cx="6840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14680" y="5364000"/>
              <a:ext cx="3348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09920" y="5543640"/>
              <a:ext cx="63720" cy="5220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79760" y="5543640"/>
              <a:ext cx="6696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44840" y="5484960"/>
              <a:ext cx="66960" cy="48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13240" y="5481720"/>
              <a:ext cx="3492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311720" y="5481720"/>
              <a:ext cx="27000" cy="5220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09920" y="5661000"/>
              <a:ext cx="63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79760" y="5661000"/>
              <a:ext cx="66960" cy="507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44840" y="5600880"/>
              <a:ext cx="66960" cy="507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13240" y="5600880"/>
              <a:ext cx="34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309920" y="5600880"/>
              <a:ext cx="288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92640" y="5643720"/>
              <a:ext cx="19080" cy="6480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11"/>
                  </a:moveTo>
                  <a:lnTo>
                    <a:pt x="12" y="4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33960" y="5576760"/>
              <a:ext cx="55440" cy="111240"/>
            </a:xfrm>
            <a:custGeom>
              <a:avLst/>
              <a:gdLst/>
              <a:ahLst/>
              <a:rect l="l" t="t" r="r" b="b"/>
              <a:pathLst>
                <a:path w="35" h="70">
                  <a:moveTo>
                    <a:pt x="35" y="40"/>
                  </a:moveTo>
                  <a:lnTo>
                    <a:pt x="35" y="7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176720" y="5514840"/>
              <a:ext cx="55440" cy="10656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35" y="39"/>
                  </a:moveTo>
                  <a:lnTo>
                    <a:pt x="35" y="6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18040" y="545292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34" y="37"/>
                  </a:moveTo>
                  <a:lnTo>
                    <a:pt x="34" y="6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7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87800" y="5419800"/>
              <a:ext cx="27000" cy="7308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17" y="18"/>
                  </a:moveTo>
                  <a:lnTo>
                    <a:pt x="17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92640" y="4819680"/>
              <a:ext cx="19080" cy="5724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12" y="5"/>
                  </a:moveTo>
                  <a:lnTo>
                    <a:pt x="12" y="36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33960" y="4788000"/>
              <a:ext cx="5544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35" y="19"/>
                  </a:moveTo>
                  <a:lnTo>
                    <a:pt x="35" y="4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1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76720" y="475776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18"/>
                  </a:moveTo>
                  <a:lnTo>
                    <a:pt x="35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18040" y="4726080"/>
              <a:ext cx="54000" cy="730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18"/>
                  </a:moveTo>
                  <a:lnTo>
                    <a:pt x="34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87800" y="4708440"/>
              <a:ext cx="2700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17" y="10"/>
                  </a:moveTo>
                  <a:lnTo>
                    <a:pt x="17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33960" y="4900680"/>
              <a:ext cx="55440" cy="8244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35" y="22"/>
                  </a:moveTo>
                  <a:lnTo>
                    <a:pt x="35" y="5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76720" y="4863960"/>
              <a:ext cx="55440" cy="8280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35" y="23"/>
                  </a:moveTo>
                  <a:lnTo>
                    <a:pt x="35" y="5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3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18040" y="4829040"/>
              <a:ext cx="54000" cy="777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87800" y="480996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11"/>
                  </a:moveTo>
                  <a:lnTo>
                    <a:pt x="17" y="3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292640" y="5056200"/>
              <a:ext cx="19080" cy="604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33960" y="501336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5" y="24"/>
                  </a:moveTo>
                  <a:lnTo>
                    <a:pt x="35" y="5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76720" y="4971960"/>
              <a:ext cx="5544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35" y="26"/>
                  </a:moveTo>
                  <a:lnTo>
                    <a:pt x="35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18040" y="4933800"/>
              <a:ext cx="54000" cy="8280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24"/>
                  </a:moveTo>
                  <a:lnTo>
                    <a:pt x="34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87800" y="4913280"/>
              <a:ext cx="27000" cy="6048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7" y="10"/>
                  </a:moveTo>
                  <a:lnTo>
                    <a:pt x="17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292640" y="5170320"/>
              <a:ext cx="17280" cy="63720"/>
            </a:xfrm>
            <a:custGeom>
              <a:avLst/>
              <a:gdLst/>
              <a:ahLst/>
              <a:rect l="l" t="t" r="r" b="b"/>
              <a:pathLst>
                <a:path w="11" h="40">
                  <a:moveTo>
                    <a:pt x="11" y="9"/>
                  </a:moveTo>
                  <a:lnTo>
                    <a:pt x="11" y="40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33960" y="5126040"/>
              <a:ext cx="55440" cy="9036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35" y="27"/>
                  </a:moveTo>
                  <a:lnTo>
                    <a:pt x="35" y="5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76720" y="5081760"/>
              <a:ext cx="55440" cy="88560"/>
            </a:xfrm>
            <a:custGeom>
              <a:avLst/>
              <a:gdLst/>
              <a:ahLst/>
              <a:rect l="l" t="t" r="r" b="b"/>
              <a:pathLst>
                <a:path w="35" h="56">
                  <a:moveTo>
                    <a:pt x="35" y="28"/>
                  </a:moveTo>
                  <a:lnTo>
                    <a:pt x="35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18040" y="5035680"/>
              <a:ext cx="5400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87800" y="501336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7" y="13"/>
                  </a:moveTo>
                  <a:lnTo>
                    <a:pt x="17" y="4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92640" y="5289480"/>
              <a:ext cx="19080" cy="65160"/>
            </a:xfrm>
            <a:custGeom>
              <a:avLst/>
              <a:gdLst/>
              <a:ahLst/>
              <a:rect l="l" t="t" r="r" b="b"/>
              <a:pathLst>
                <a:path w="12" h="41">
                  <a:moveTo>
                    <a:pt x="12" y="10"/>
                  </a:moveTo>
                  <a:lnTo>
                    <a:pt x="12" y="4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33960" y="5238720"/>
              <a:ext cx="55440" cy="9360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76720" y="5189400"/>
              <a:ext cx="55440" cy="9396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5" y="30"/>
                  </a:moveTo>
                  <a:lnTo>
                    <a:pt x="35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18040" y="5138640"/>
              <a:ext cx="54000" cy="93600"/>
            </a:xfrm>
            <a:custGeom>
              <a:avLst/>
              <a:gdLst/>
              <a:ahLst/>
              <a:rect l="l" t="t" r="r" b="b"/>
              <a:pathLst>
                <a:path w="34" h="59">
                  <a:moveTo>
                    <a:pt x="34" y="31"/>
                  </a:moveTo>
                  <a:lnTo>
                    <a:pt x="34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87800" y="5114880"/>
              <a:ext cx="27000" cy="6660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2640" y="5410080"/>
              <a:ext cx="17280" cy="6048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11" y="8"/>
                  </a:moveTo>
                  <a:lnTo>
                    <a:pt x="1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33960" y="5353200"/>
              <a:ext cx="55440" cy="9972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35" y="32"/>
                  </a:moveTo>
                  <a:lnTo>
                    <a:pt x="35" y="63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76720" y="5299200"/>
              <a:ext cx="55440" cy="950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35" y="32"/>
                  </a:moveTo>
                  <a:lnTo>
                    <a:pt x="35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116240" y="5241960"/>
              <a:ext cx="55800" cy="9684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5" y="35"/>
                  </a:moveTo>
                  <a:lnTo>
                    <a:pt x="35" y="6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5216400"/>
              <a:ext cx="27000" cy="669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7" y="14"/>
                  </a:moveTo>
                  <a:lnTo>
                    <a:pt x="17" y="4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92640" y="5522760"/>
              <a:ext cx="17280" cy="69840"/>
            </a:xfrm>
            <a:custGeom>
              <a:avLst/>
              <a:gdLst/>
              <a:ahLst/>
              <a:rect l="l" t="t" r="r" b="b"/>
              <a:pathLst>
                <a:path w="11" h="44">
                  <a:moveTo>
                    <a:pt x="11" y="13"/>
                  </a:moveTo>
                  <a:lnTo>
                    <a:pt x="11" y="44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33960" y="5465880"/>
              <a:ext cx="55440" cy="10296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35"/>
                  </a:moveTo>
                  <a:lnTo>
                    <a:pt x="35" y="6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76720" y="5405400"/>
              <a:ext cx="55440" cy="10332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37"/>
                  </a:moveTo>
                  <a:lnTo>
                    <a:pt x="35" y="6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5" y="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18040" y="5348160"/>
              <a:ext cx="54000" cy="10008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4" y="35"/>
                  </a:moveTo>
                  <a:lnTo>
                    <a:pt x="34" y="6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5"/>
                  </a:lnTo>
                  <a:close/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87800" y="5321160"/>
              <a:ext cx="27000" cy="69840"/>
            </a:xfrm>
            <a:custGeom>
              <a:avLst/>
              <a:gdLst/>
              <a:ahLst/>
              <a:rect l="l" t="t" r="r" b="b"/>
              <a:pathLst>
                <a:path w="17" h="44">
                  <a:moveTo>
                    <a:pt x="17" y="16"/>
                  </a:moveTo>
                  <a:lnTo>
                    <a:pt x="17" y="4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87800" y="5370480"/>
              <a:ext cx="46080" cy="8748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9" y="30"/>
                  </a:moveTo>
                  <a:lnTo>
                    <a:pt x="29" y="5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48000" y="5533920"/>
              <a:ext cx="61920" cy="11268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39" y="43"/>
                  </a:moveTo>
                  <a:lnTo>
                    <a:pt x="39" y="71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94000" y="5478480"/>
              <a:ext cx="51120" cy="101520"/>
            </a:xfrm>
            <a:custGeom>
              <a:avLst/>
              <a:gdLst/>
              <a:ahLst/>
              <a:rect l="l" t="t" r="r" b="b"/>
              <a:pathLst>
                <a:path w="32" h="64">
                  <a:moveTo>
                    <a:pt x="32" y="34"/>
                  </a:moveTo>
                  <a:lnTo>
                    <a:pt x="32" y="64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37120" y="5421240"/>
              <a:ext cx="54000" cy="98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87800" y="4761000"/>
              <a:ext cx="47520" cy="6984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30" y="17"/>
                  </a:moveTo>
                  <a:lnTo>
                    <a:pt x="30" y="4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95800" y="4821120"/>
              <a:ext cx="5220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19"/>
                  </a:moveTo>
                  <a:lnTo>
                    <a:pt x="33" y="5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138560" y="4788000"/>
              <a:ext cx="54000" cy="777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21"/>
                  </a:moveTo>
                  <a:lnTo>
                    <a:pt x="34" y="4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87800" y="4861080"/>
              <a:ext cx="4752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30" y="21"/>
                  </a:moveTo>
                  <a:lnTo>
                    <a:pt x="30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49800" y="4968720"/>
              <a:ext cx="6192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39" y="25"/>
                  </a:moveTo>
                  <a:lnTo>
                    <a:pt x="39" y="5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195800" y="4933800"/>
              <a:ext cx="52200" cy="81000"/>
            </a:xfrm>
            <a:custGeom>
              <a:avLst/>
              <a:gdLst/>
              <a:ahLst/>
              <a:rect l="l" t="t" r="r" b="b"/>
              <a:pathLst>
                <a:path w="33" h="51">
                  <a:moveTo>
                    <a:pt x="33" y="21"/>
                  </a:moveTo>
                  <a:lnTo>
                    <a:pt x="33" y="51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38560" y="4896000"/>
              <a:ext cx="54000" cy="7920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34" y="22"/>
                  </a:moveTo>
                  <a:lnTo>
                    <a:pt x="34" y="5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87800" y="49626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24"/>
                  </a:moveTo>
                  <a:lnTo>
                    <a:pt x="30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95800" y="5041800"/>
              <a:ext cx="52200" cy="8568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33" y="24"/>
                  </a:moveTo>
                  <a:lnTo>
                    <a:pt x="33" y="5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38560" y="5000760"/>
              <a:ext cx="54000" cy="8388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34" y="25"/>
                  </a:moveTo>
                  <a:lnTo>
                    <a:pt x="34" y="5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87800" y="506556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9" y="23"/>
                  </a:moveTo>
                  <a:lnTo>
                    <a:pt x="29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9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8000" y="5192640"/>
              <a:ext cx="63720" cy="10008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33"/>
                  </a:moveTo>
                  <a:lnTo>
                    <a:pt x="40" y="6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40" y="33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94000" y="5149800"/>
              <a:ext cx="51120" cy="9216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32" y="26"/>
                  </a:moveTo>
                  <a:lnTo>
                    <a:pt x="32" y="58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37120" y="5103720"/>
              <a:ext cx="5400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34" y="28"/>
                  </a:moveTo>
                  <a:lnTo>
                    <a:pt x="34" y="5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87800" y="5167440"/>
              <a:ext cx="46080" cy="8100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4"/>
                  </a:moveTo>
                  <a:lnTo>
                    <a:pt x="29" y="5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9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48000" y="5308560"/>
              <a:ext cx="6372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40" y="35"/>
                  </a:moveTo>
                  <a:lnTo>
                    <a:pt x="40" y="64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94000" y="5259240"/>
              <a:ext cx="51120" cy="9540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2" y="29"/>
                  </a:moveTo>
                  <a:lnTo>
                    <a:pt x="32" y="60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37120" y="520704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34" y="32"/>
                  </a:moveTo>
                  <a:lnTo>
                    <a:pt x="34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4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87800" y="526716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9" y="29"/>
                  </a:moveTo>
                  <a:lnTo>
                    <a:pt x="29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48000" y="5421240"/>
              <a:ext cx="63720" cy="111240"/>
            </a:xfrm>
            <a:custGeom>
              <a:avLst/>
              <a:gdLst/>
              <a:ahLst/>
              <a:rect l="l" t="t" r="r" b="b"/>
              <a:pathLst>
                <a:path w="40" h="70">
                  <a:moveTo>
                    <a:pt x="40" y="38"/>
                  </a:moveTo>
                  <a:lnTo>
                    <a:pt x="40" y="70"/>
                  </a:lnTo>
                  <a:lnTo>
                    <a:pt x="0" y="31"/>
                  </a:lnTo>
                  <a:lnTo>
                    <a:pt x="0" y="0"/>
                  </a:lnTo>
                  <a:lnTo>
                    <a:pt x="40" y="3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194000" y="5370480"/>
              <a:ext cx="51120" cy="9828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31"/>
                  </a:moveTo>
                  <a:lnTo>
                    <a:pt x="32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37120" y="5315040"/>
              <a:ext cx="54000" cy="9828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34"/>
                  </a:moveTo>
                  <a:lnTo>
                    <a:pt x="34" y="6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49800" y="485316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38" y="23"/>
                  </a:moveTo>
                  <a:lnTo>
                    <a:pt x="38" y="5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92640" y="4937040"/>
              <a:ext cx="19080" cy="60480"/>
            </a:xfrm>
            <a:custGeom>
              <a:avLst/>
              <a:gdLst/>
              <a:ahLst/>
              <a:rect l="l" t="t" r="r" b="b"/>
              <a:pathLst>
                <a:path w="12" h="38">
                  <a:moveTo>
                    <a:pt x="12" y="8"/>
                  </a:moveTo>
                  <a:lnTo>
                    <a:pt x="12" y="3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49800" y="5081760"/>
              <a:ext cx="60120" cy="9180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8" y="27"/>
                  </a:moveTo>
                  <a:lnTo>
                    <a:pt x="38" y="5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09920" y="5364000"/>
              <a:ext cx="28800" cy="511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48200" y="4622760"/>
              <a:ext cx="441360" cy="125280"/>
            </a:xfrm>
            <a:custGeom>
              <a:avLst/>
              <a:gdLst/>
              <a:ahLst/>
              <a:rect l="l" t="t" r="r" b="b"/>
              <a:pathLst>
                <a:path w="278" h="79">
                  <a:moveTo>
                    <a:pt x="0" y="0"/>
                  </a:moveTo>
                  <a:lnTo>
                    <a:pt x="119" y="6"/>
                  </a:lnTo>
                  <a:lnTo>
                    <a:pt x="278" y="75"/>
                  </a:lnTo>
                  <a:lnTo>
                    <a:pt x="168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16400" y="4738680"/>
              <a:ext cx="171360" cy="9360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"/>
                  </a:moveTo>
                  <a:lnTo>
                    <a:pt x="108" y="0"/>
                  </a:lnTo>
                  <a:lnTo>
                    <a:pt x="108" y="59"/>
                  </a:lnTo>
                  <a:lnTo>
                    <a:pt x="0" y="59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49640" y="4622760"/>
              <a:ext cx="273240" cy="208080"/>
            </a:xfrm>
            <a:custGeom>
              <a:avLst/>
              <a:gdLst/>
              <a:ahLst/>
              <a:rect l="l" t="t" r="r" b="b"/>
              <a:pathLst>
                <a:path w="172" h="131">
                  <a:moveTo>
                    <a:pt x="0" y="0"/>
                  </a:moveTo>
                  <a:lnTo>
                    <a:pt x="0" y="45"/>
                  </a:lnTo>
                  <a:lnTo>
                    <a:pt x="172" y="131"/>
                  </a:lnTo>
                  <a:lnTo>
                    <a:pt x="172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11680" y="4103640"/>
              <a:ext cx="639720" cy="12240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11680" y="4103640"/>
              <a:ext cx="639720" cy="12240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811680" y="4092480"/>
              <a:ext cx="1440" cy="7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51400" y="4092480"/>
              <a:ext cx="1440" cy="76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11680" y="4092480"/>
              <a:ext cx="635040" cy="76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63760" y="41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5200" y="4003560"/>
              <a:ext cx="641520" cy="14472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805200" y="4003560"/>
              <a:ext cx="641520" cy="14472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3960720" y="4035600"/>
              <a:ext cx="1126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78160" y="4119480"/>
              <a:ext cx="10008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65480" y="4037040"/>
              <a:ext cx="117720" cy="82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60720" y="4116240"/>
              <a:ext cx="11268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78160" y="4035600"/>
              <a:ext cx="100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065480" y="4035600"/>
              <a:ext cx="117720" cy="806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96960" y="3473280"/>
              <a:ext cx="1800" cy="868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66920" y="3473280"/>
              <a:ext cx="230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66920" y="3983040"/>
              <a:ext cx="230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66920" y="4336920"/>
              <a:ext cx="230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96960" y="3929040"/>
              <a:ext cx="184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03640" y="3948120"/>
              <a:ext cx="182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389400" y="3564000"/>
              <a:ext cx="1440" cy="77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157560" y="3564000"/>
              <a:ext cx="228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57560" y="4341960"/>
              <a:ext cx="228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66960" y="3803760"/>
              <a:ext cx="395280" cy="33012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04840" y="382752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17800" y="3865680"/>
              <a:ext cx="209520" cy="142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92240" y="4006800"/>
              <a:ext cx="152640" cy="5076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66760" y="4024440"/>
              <a:ext cx="66960" cy="219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00160" y="4013280"/>
              <a:ext cx="44640" cy="15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92160" y="4027320"/>
              <a:ext cx="257400" cy="8748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49560" y="4017960"/>
              <a:ext cx="90360" cy="4140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909800" y="3843360"/>
              <a:ext cx="50760" cy="195120"/>
            </a:xfrm>
            <a:custGeom>
              <a:avLst/>
              <a:gdLst/>
              <a:ahLst/>
              <a:rect l="l" t="t" r="r" b="b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11240" y="384660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14480" y="384804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16280" y="384804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16280" y="384984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17720" y="3851280"/>
              <a:ext cx="1440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93760" y="397368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028960" y="397368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48040" y="397368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974960" y="3827520"/>
              <a:ext cx="2988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30480" y="3808440"/>
              <a:ext cx="42840" cy="16344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974960" y="3835440"/>
              <a:ext cx="28440" cy="12708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76400" y="3843360"/>
              <a:ext cx="22320" cy="10944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78200" y="3852720"/>
              <a:ext cx="18720" cy="8892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78200" y="3860640"/>
              <a:ext cx="15840" cy="7164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81080" y="3870360"/>
              <a:ext cx="11160" cy="507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31920" y="3817800"/>
              <a:ext cx="38160" cy="142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133720" y="3828960"/>
              <a:ext cx="29880" cy="12060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36600" y="3838680"/>
              <a:ext cx="24120" cy="1000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36600" y="384804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138400" y="385920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943280" y="3843360"/>
              <a:ext cx="61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009880" y="384012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08000" y="3905280"/>
              <a:ext cx="59040" cy="144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908000" y="3865680"/>
              <a:ext cx="59040" cy="1728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63800" y="3848040"/>
              <a:ext cx="96840" cy="17784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11320" y="380700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40040" y="4029120"/>
              <a:ext cx="209520" cy="7128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5400" y="4048200"/>
              <a:ext cx="214560" cy="6336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32120" y="4040280"/>
              <a:ext cx="209520" cy="5544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16280" y="4041720"/>
              <a:ext cx="210960" cy="6192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866960" y="3308400"/>
              <a:ext cx="395280" cy="33156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04840" y="333216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17800" y="3373560"/>
              <a:ext cx="209520" cy="142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992240" y="3513240"/>
              <a:ext cx="152640" cy="4896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66760" y="3529080"/>
              <a:ext cx="6696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00160" y="3517920"/>
              <a:ext cx="44640" cy="158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892160" y="3533760"/>
              <a:ext cx="257400" cy="856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49560" y="3524400"/>
              <a:ext cx="90360" cy="410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909800" y="3348000"/>
              <a:ext cx="50760" cy="196920"/>
            </a:xfrm>
            <a:custGeom>
              <a:avLst/>
              <a:gdLst/>
              <a:ahLst/>
              <a:rect l="l" t="t" r="r" b="b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11240" y="3351240"/>
              <a:ext cx="42840" cy="16524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14480" y="335268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916280" y="3354480"/>
              <a:ext cx="27000" cy="10296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16280" y="3355920"/>
              <a:ext cx="21960" cy="73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17720" y="3355920"/>
              <a:ext cx="1440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93760" y="34783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28960" y="3478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48040" y="34783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74960" y="3332160"/>
              <a:ext cx="2988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30480" y="3313080"/>
              <a:ext cx="42840" cy="16524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974960" y="3340080"/>
              <a:ext cx="28440" cy="128520"/>
            </a:xfrm>
            <a:custGeom>
              <a:avLst/>
              <a:gdLst/>
              <a:ahLst/>
              <a:rect l="l" t="t" r="r" b="b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976400" y="3348000"/>
              <a:ext cx="22320" cy="10944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78200" y="3357720"/>
              <a:ext cx="18720" cy="9036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978200" y="3365640"/>
              <a:ext cx="15840" cy="71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981080" y="3375000"/>
              <a:ext cx="11160" cy="5400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31920" y="3322800"/>
              <a:ext cx="38160" cy="144360"/>
            </a:xfrm>
            <a:custGeom>
              <a:avLst/>
              <a:gdLst/>
              <a:ahLst/>
              <a:rect l="l" t="t" r="r" b="b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33720" y="3333600"/>
              <a:ext cx="29880" cy="12240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136600" y="3343320"/>
              <a:ext cx="24120" cy="1015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36600" y="3352680"/>
              <a:ext cx="19080" cy="8100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38400" y="3363840"/>
              <a:ext cx="14400" cy="5868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43280" y="3348000"/>
              <a:ext cx="612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009880" y="3344760"/>
              <a:ext cx="7308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08000" y="3409920"/>
              <a:ext cx="5904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908000" y="3370320"/>
              <a:ext cx="59040" cy="1728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63800" y="3352680"/>
              <a:ext cx="96840" cy="17964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011320" y="331164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40040" y="3535200"/>
              <a:ext cx="209520" cy="7164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95400" y="3554280"/>
              <a:ext cx="214560" cy="6372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32120" y="3544920"/>
              <a:ext cx="209520" cy="5724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16280" y="3549600"/>
              <a:ext cx="210960" cy="6048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06560" y="3413160"/>
              <a:ext cx="395280" cy="33192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43360" y="3436920"/>
              <a:ext cx="126720" cy="14616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957400" y="3478320"/>
              <a:ext cx="208080" cy="14292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930400" y="3619440"/>
              <a:ext cx="154080" cy="4752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06720" y="3633840"/>
              <a:ext cx="66600" cy="2232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40120" y="3622680"/>
              <a:ext cx="44280" cy="1728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30680" y="3639960"/>
              <a:ext cx="257040" cy="8604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87720" y="3630600"/>
              <a:ext cx="92160" cy="41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49400" y="3454560"/>
              <a:ext cx="49320" cy="196560"/>
            </a:xfrm>
            <a:custGeom>
              <a:avLst/>
              <a:gdLst/>
              <a:ahLst/>
              <a:rect l="l" t="t" r="r" b="b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51200" y="3456000"/>
              <a:ext cx="42840" cy="16524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52640" y="345744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854440" y="3459240"/>
              <a:ext cx="28440" cy="10476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54440" y="3462480"/>
              <a:ext cx="21960" cy="7128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57680" y="3462480"/>
              <a:ext cx="14040" cy="428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32280" y="35845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68560" y="3584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86200" y="35845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14560" y="3436920"/>
              <a:ext cx="28800" cy="147600"/>
            </a:xfrm>
            <a:custGeom>
              <a:avLst/>
              <a:gdLst/>
              <a:ahLst/>
              <a:rect l="l" t="t" r="r" b="b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70080" y="3419640"/>
              <a:ext cx="42840" cy="16488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914560" y="3444840"/>
              <a:ext cx="27000" cy="1303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16360" y="3454560"/>
              <a:ext cx="21960" cy="10944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17800" y="3463920"/>
              <a:ext cx="19080" cy="9036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17800" y="347184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19240" y="3479760"/>
              <a:ext cx="11160" cy="5400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071880" y="3429000"/>
              <a:ext cx="36360" cy="14436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73320" y="3440160"/>
              <a:ext cx="30240" cy="12204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75120" y="3448080"/>
              <a:ext cx="23760" cy="10332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75120" y="3457440"/>
              <a:ext cx="20520" cy="8280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76560" y="3468600"/>
              <a:ext cx="15840" cy="6048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949480" y="3451320"/>
              <a:ext cx="71640" cy="8712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847960" y="3516480"/>
              <a:ext cx="58680" cy="158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847960" y="3476520"/>
              <a:ext cx="58680" cy="1764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903400" y="3457440"/>
              <a:ext cx="95400" cy="18108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51280" y="3417840"/>
              <a:ext cx="123840" cy="23760"/>
            </a:xfrm>
            <a:custGeom>
              <a:avLst/>
              <a:gdLst/>
              <a:ahLst/>
              <a:rect l="l" t="t" r="r" b="b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79640" y="3641760"/>
              <a:ext cx="208080" cy="6984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35360" y="3660840"/>
              <a:ext cx="214200" cy="61920"/>
            </a:xfrm>
            <a:custGeom>
              <a:avLst/>
              <a:gdLst/>
              <a:ahLst/>
              <a:rect l="l" t="t" r="r" b="b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71720" y="3651120"/>
              <a:ext cx="209520" cy="5724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854440" y="3654360"/>
              <a:ext cx="210960" cy="6192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9400" y="4148280"/>
              <a:ext cx="434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00680" y="3854520"/>
              <a:ext cx="322200" cy="163440"/>
            </a:xfrm>
            <a:custGeom>
              <a:avLst/>
              <a:gdLst/>
              <a:ahLst/>
              <a:rect l="l" t="t" r="r" b="b"/>
              <a:pathLst>
                <a:path w="203" h="103">
                  <a:moveTo>
                    <a:pt x="78" y="0"/>
                  </a:moveTo>
                  <a:lnTo>
                    <a:pt x="0" y="103"/>
                  </a:lnTo>
                  <a:lnTo>
                    <a:pt x="125" y="103"/>
                  </a:lnTo>
                  <a:lnTo>
                    <a:pt x="20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162320" y="3314880"/>
              <a:ext cx="149400" cy="544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03560" y="3468600"/>
              <a:ext cx="201600" cy="54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03560" y="3468600"/>
              <a:ext cx="201600" cy="544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00680" y="3309840"/>
              <a:ext cx="322200" cy="165240"/>
            </a:xfrm>
            <a:custGeom>
              <a:avLst/>
              <a:gdLst/>
              <a:ahLst/>
              <a:rect l="l" t="t" r="r" b="b"/>
              <a:pathLst>
                <a:path w="203" h="104">
                  <a:moveTo>
                    <a:pt x="78" y="0"/>
                  </a:moveTo>
                  <a:lnTo>
                    <a:pt x="0" y="104"/>
                  </a:lnTo>
                  <a:lnTo>
                    <a:pt x="125" y="104"/>
                  </a:lnTo>
                  <a:lnTo>
                    <a:pt x="203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00680" y="3309840"/>
              <a:ext cx="322200" cy="165240"/>
            </a:xfrm>
            <a:custGeom>
              <a:avLst/>
              <a:gdLst/>
              <a:ahLst/>
              <a:rect l="l" t="t" r="r" b="b"/>
              <a:pathLst>
                <a:path w="203" h="104">
                  <a:moveTo>
                    <a:pt x="78" y="0"/>
                  </a:moveTo>
                  <a:lnTo>
                    <a:pt x="0" y="104"/>
                  </a:lnTo>
                  <a:lnTo>
                    <a:pt x="125" y="104"/>
                  </a:lnTo>
                  <a:lnTo>
                    <a:pt x="203" y="0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322880" y="3321000"/>
              <a:ext cx="1440" cy="533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4204800" y="3854520"/>
              <a:ext cx="117720" cy="158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27320" y="3540240"/>
              <a:ext cx="135000" cy="3142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027320" y="3540240"/>
              <a:ext cx="135000" cy="314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048200" y="3635280"/>
              <a:ext cx="101520" cy="1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44960" y="3524400"/>
              <a:ext cx="1901880" cy="1141200"/>
            </a:xfrm>
            <a:custGeom>
              <a:avLst/>
              <a:gdLst/>
              <a:ahLst/>
              <a:rect l="l" t="t" r="r" b="b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451400" y="4130280"/>
              <a:ext cx="4903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08200" y="49356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332160" y="5148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167440" y="4878360"/>
              <a:ext cx="1449360" cy="5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210360" y="49356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18280" y="5148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63920" y="5110200"/>
              <a:ext cx="609480" cy="93600"/>
            </a:xfrm>
            <a:custGeom>
              <a:avLst/>
              <a:gdLst/>
              <a:ahLst/>
              <a:rect l="l" t="t" r="r" b="b"/>
              <a:pathLst>
                <a:path w="384" h="59">
                  <a:moveTo>
                    <a:pt x="4" y="26"/>
                  </a:moveTo>
                  <a:lnTo>
                    <a:pt x="335" y="26"/>
                  </a:lnTo>
                  <a:lnTo>
                    <a:pt x="337" y="26"/>
                  </a:lnTo>
                  <a:lnTo>
                    <a:pt x="338" y="26"/>
                  </a:lnTo>
                  <a:lnTo>
                    <a:pt x="339" y="27"/>
                  </a:lnTo>
                  <a:lnTo>
                    <a:pt x="339" y="30"/>
                  </a:lnTo>
                  <a:lnTo>
                    <a:pt x="339" y="31"/>
                  </a:lnTo>
                  <a:lnTo>
                    <a:pt x="338" y="32"/>
                  </a:lnTo>
                  <a:lnTo>
                    <a:pt x="337" y="33"/>
                  </a:lnTo>
                  <a:lnTo>
                    <a:pt x="33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4" y="26"/>
                  </a:lnTo>
                  <a:close/>
                  <a:moveTo>
                    <a:pt x="326" y="0"/>
                  </a:moveTo>
                  <a:lnTo>
                    <a:pt x="384" y="30"/>
                  </a:lnTo>
                  <a:lnTo>
                    <a:pt x="326" y="59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65160" y="5110200"/>
              <a:ext cx="609840" cy="93600"/>
            </a:xfrm>
            <a:custGeom>
              <a:avLst/>
              <a:gdLst/>
              <a:ahLst/>
              <a:rect l="l" t="t" r="r" b="b"/>
              <a:pathLst>
                <a:path w="384" h="59">
                  <a:moveTo>
                    <a:pt x="381" y="33"/>
                  </a:moveTo>
                  <a:lnTo>
                    <a:pt x="49" y="33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6" y="31"/>
                  </a:lnTo>
                  <a:lnTo>
                    <a:pt x="46" y="30"/>
                  </a:lnTo>
                  <a:lnTo>
                    <a:pt x="46" y="28"/>
                  </a:lnTo>
                  <a:lnTo>
                    <a:pt x="47" y="27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381" y="26"/>
                  </a:lnTo>
                  <a:lnTo>
                    <a:pt x="382" y="26"/>
                  </a:lnTo>
                  <a:lnTo>
                    <a:pt x="383" y="26"/>
                  </a:lnTo>
                  <a:lnTo>
                    <a:pt x="384" y="27"/>
                  </a:lnTo>
                  <a:lnTo>
                    <a:pt x="384" y="30"/>
                  </a:lnTo>
                  <a:lnTo>
                    <a:pt x="384" y="31"/>
                  </a:lnTo>
                  <a:lnTo>
                    <a:pt x="383" y="32"/>
                  </a:lnTo>
                  <a:lnTo>
                    <a:pt x="382" y="33"/>
                  </a:lnTo>
                  <a:lnTo>
                    <a:pt x="381" y="33"/>
                  </a:lnTo>
                  <a:lnTo>
                    <a:pt x="381" y="33"/>
                  </a:lnTo>
                  <a:close/>
                  <a:moveTo>
                    <a:pt x="59" y="59"/>
                  </a:moveTo>
                  <a:lnTo>
                    <a:pt x="0" y="30"/>
                  </a:lnTo>
                  <a:lnTo>
                    <a:pt x="59" y="0"/>
                  </a:lnTo>
                  <a:lnTo>
                    <a:pt x="59" y="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176880" y="5110200"/>
              <a:ext cx="609840" cy="93600"/>
            </a:xfrm>
            <a:custGeom>
              <a:avLst/>
              <a:gdLst/>
              <a:ahLst/>
              <a:rect l="l" t="t" r="r" b="b"/>
              <a:pathLst>
                <a:path w="384" h="59">
                  <a:moveTo>
                    <a:pt x="4" y="26"/>
                  </a:moveTo>
                  <a:lnTo>
                    <a:pt x="335" y="26"/>
                  </a:lnTo>
                  <a:lnTo>
                    <a:pt x="336" y="26"/>
                  </a:lnTo>
                  <a:lnTo>
                    <a:pt x="337" y="27"/>
                  </a:lnTo>
                  <a:lnTo>
                    <a:pt x="338" y="28"/>
                  </a:lnTo>
                  <a:lnTo>
                    <a:pt x="338" y="30"/>
                  </a:lnTo>
                  <a:lnTo>
                    <a:pt x="338" y="31"/>
                  </a:lnTo>
                  <a:lnTo>
                    <a:pt x="337" y="32"/>
                  </a:lnTo>
                  <a:lnTo>
                    <a:pt x="336" y="33"/>
                  </a:lnTo>
                  <a:lnTo>
                    <a:pt x="335" y="33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4" y="26"/>
                  </a:lnTo>
                  <a:close/>
                  <a:moveTo>
                    <a:pt x="326" y="0"/>
                  </a:moveTo>
                  <a:lnTo>
                    <a:pt x="384" y="30"/>
                  </a:lnTo>
                  <a:lnTo>
                    <a:pt x="326" y="59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513320" y="5110200"/>
              <a:ext cx="831960" cy="93600"/>
            </a:xfrm>
            <a:custGeom>
              <a:avLst/>
              <a:gdLst/>
              <a:ahLst/>
              <a:rect l="l" t="t" r="r" b="b"/>
              <a:pathLst>
                <a:path w="671" h="59">
                  <a:moveTo>
                    <a:pt x="668" y="33"/>
                  </a:moveTo>
                  <a:lnTo>
                    <a:pt x="49" y="33"/>
                  </a:lnTo>
                  <a:lnTo>
                    <a:pt x="48" y="33"/>
                  </a:lnTo>
                  <a:lnTo>
                    <a:pt x="47" y="32"/>
                  </a:lnTo>
                  <a:lnTo>
                    <a:pt x="45" y="31"/>
                  </a:lnTo>
                  <a:lnTo>
                    <a:pt x="45" y="30"/>
                  </a:lnTo>
                  <a:lnTo>
                    <a:pt x="45" y="28"/>
                  </a:lnTo>
                  <a:lnTo>
                    <a:pt x="47" y="27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668" y="26"/>
                  </a:lnTo>
                  <a:lnTo>
                    <a:pt x="669" y="26"/>
                  </a:lnTo>
                  <a:lnTo>
                    <a:pt x="670" y="26"/>
                  </a:lnTo>
                  <a:lnTo>
                    <a:pt x="671" y="27"/>
                  </a:lnTo>
                  <a:lnTo>
                    <a:pt x="671" y="30"/>
                  </a:lnTo>
                  <a:lnTo>
                    <a:pt x="671" y="31"/>
                  </a:lnTo>
                  <a:lnTo>
                    <a:pt x="670" y="32"/>
                  </a:lnTo>
                  <a:lnTo>
                    <a:pt x="669" y="33"/>
                  </a:lnTo>
                  <a:lnTo>
                    <a:pt x="668" y="33"/>
                  </a:lnTo>
                  <a:lnTo>
                    <a:pt x="668" y="33"/>
                  </a:lnTo>
                  <a:close/>
                  <a:moveTo>
                    <a:pt x="58" y="59"/>
                  </a:moveTo>
                  <a:lnTo>
                    <a:pt x="0" y="30"/>
                  </a:lnTo>
                  <a:lnTo>
                    <a:pt x="58" y="0"/>
                  </a:lnTo>
                  <a:lnTo>
                    <a:pt x="58" y="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181240" y="4854600"/>
              <a:ext cx="148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01000" y="4819680"/>
              <a:ext cx="95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3898440" y="56595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7484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irewalls: W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73120" y="1357200"/>
            <a:ext cx="7897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event denial of service attac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 flooding: attacker establishes many bogus TCP connections, no resources left for “real” conne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event illegal modification/access of internal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attacker replaces CIA’s homepage with something 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llow only authorized access to inside networ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t of authenticated users/hos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wo types of firewal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-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-fil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3994200" y="150336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03880" y="324000"/>
            <a:ext cx="2896920" cy="14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cket Filter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77360" y="3562200"/>
            <a:ext cx="7512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network connected to Internet via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router fire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lters packet-by-packet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 to forward/drop packet based 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IP address,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UDP source and destination por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MP messag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SYN and AC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1620720" y="1517760"/>
            <a:ext cx="5087160" cy="1747440"/>
            <a:chOff x="1620720" y="1517760"/>
            <a:chExt cx="5087160" cy="1747440"/>
          </a:xfrm>
        </p:grpSpPr>
        <p:sp>
          <p:nvSpPr>
            <p:cNvPr id="1188" name=""/>
            <p:cNvSpPr/>
            <p:nvPr/>
          </p:nvSpPr>
          <p:spPr>
            <a:xfrm>
              <a:off x="1620720" y="1517760"/>
              <a:ext cx="3069720" cy="1747440"/>
            </a:xfrm>
            <a:custGeom>
              <a:avLst/>
              <a:gdLst/>
              <a:ahLst/>
              <a:rect l="l" t="t" r="r" b="b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175560" y="2669760"/>
              <a:ext cx="95760" cy="421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072600" y="2789280"/>
              <a:ext cx="130680" cy="422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072600" y="2789280"/>
              <a:ext cx="130680" cy="422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071160" y="2664000"/>
              <a:ext cx="205560" cy="1288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071160" y="2664000"/>
              <a:ext cx="205560" cy="1288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76720" y="2675160"/>
              <a:ext cx="1440" cy="41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91680" y="2845080"/>
              <a:ext cx="83880" cy="241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091680" y="2845080"/>
              <a:ext cx="838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03920" y="2918520"/>
              <a:ext cx="6444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78760" y="2671560"/>
              <a:ext cx="456840" cy="37188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38240" y="2698200"/>
              <a:ext cx="145080" cy="162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952640" y="2742840"/>
              <a:ext cx="242640" cy="160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23480" y="2900160"/>
              <a:ext cx="176040" cy="5760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09880" y="291996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32840" y="2907360"/>
              <a:ext cx="51120" cy="176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807920" y="2923560"/>
              <a:ext cx="297000" cy="9792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105280" y="2912760"/>
              <a:ext cx="104760" cy="46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28440" y="2718000"/>
              <a:ext cx="58680" cy="218160"/>
            </a:xfrm>
            <a:custGeom>
              <a:avLst/>
              <a:gdLst/>
              <a:ahLst/>
              <a:rect l="l" t="t" r="r" b="b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829880" y="271980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33840" y="2721240"/>
              <a:ext cx="40320" cy="15048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5280" y="2721240"/>
              <a:ext cx="30960" cy="1162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35280" y="2723400"/>
              <a:ext cx="25560" cy="838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37440" y="2724840"/>
              <a:ext cx="1620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41200" y="2862720"/>
              <a:ext cx="25560" cy="230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65600" y="286272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987920" y="2862720"/>
              <a:ext cx="900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03320" y="2698200"/>
              <a:ext cx="34920" cy="16452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83680" y="2676600"/>
              <a:ext cx="49320" cy="18396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03320" y="2707200"/>
              <a:ext cx="33120" cy="14292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905480" y="2718000"/>
              <a:ext cx="25560" cy="1231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06920" y="2727000"/>
              <a:ext cx="21960" cy="10008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06920" y="2736000"/>
              <a:ext cx="18000" cy="82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910880" y="2746440"/>
              <a:ext cx="12600" cy="59040"/>
            </a:xfrm>
            <a:custGeom>
              <a:avLst/>
              <a:gdLst/>
              <a:ahLst/>
              <a:rect l="l" t="t" r="r" b="b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85120" y="2687760"/>
              <a:ext cx="43920" cy="160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86920" y="2700360"/>
              <a:ext cx="34920" cy="13572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90520" y="2710800"/>
              <a:ext cx="27360" cy="1126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90520" y="2721240"/>
              <a:ext cx="21960" cy="896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92680" y="2733840"/>
              <a:ext cx="16200" cy="644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66600" y="2718000"/>
              <a:ext cx="7200" cy="21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43640" y="2712240"/>
              <a:ext cx="84240" cy="982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826280" y="2785680"/>
              <a:ext cx="67680" cy="162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826280" y="2742840"/>
              <a:ext cx="67680" cy="17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890720" y="2721240"/>
              <a:ext cx="111960" cy="20016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45800" y="2675160"/>
              <a:ext cx="14472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863000" y="2925360"/>
              <a:ext cx="242280" cy="8064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811520" y="2946960"/>
              <a:ext cx="247680" cy="7128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53640" y="2937960"/>
              <a:ext cx="242280" cy="6228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5280" y="2941560"/>
              <a:ext cx="244080" cy="6768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25920" y="2374560"/>
              <a:ext cx="598680" cy="11628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725920" y="2374560"/>
              <a:ext cx="598680" cy="116280"/>
            </a:xfrm>
            <a:custGeom>
              <a:avLst/>
              <a:gdLst/>
              <a:ahLst/>
              <a:rect l="l" t="t" r="r" b="b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25920" y="236340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24600" y="236340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5920" y="2363400"/>
              <a:ext cx="591120" cy="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66480" y="2394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20520" y="2277720"/>
              <a:ext cx="596520" cy="13752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20520" y="2277720"/>
              <a:ext cx="596520" cy="137520"/>
            </a:xfrm>
            <a:custGeom>
              <a:avLst/>
              <a:gdLst/>
              <a:ahLst/>
              <a:rect l="l" t="t" r="r" b="b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863800" y="2309760"/>
              <a:ext cx="1058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067200" y="2388600"/>
              <a:ext cx="936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962800" y="230976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63800" y="2387160"/>
              <a:ext cx="1058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067200" y="2308320"/>
              <a:ext cx="93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962800" y="230832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027320" y="2563920"/>
              <a:ext cx="740160" cy="13788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027320" y="2563920"/>
              <a:ext cx="740160" cy="137880"/>
            </a:xfrm>
            <a:custGeom>
              <a:avLst/>
              <a:gdLst/>
              <a:ahLst/>
              <a:rect l="l" t="t" r="r" b="b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027320" y="2551680"/>
              <a:ext cx="180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767840" y="2551680"/>
              <a:ext cx="144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27320" y="2551680"/>
              <a:ext cx="73440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38080" y="2583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20480" y="2451600"/>
              <a:ext cx="741240" cy="16236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20480" y="2451600"/>
              <a:ext cx="741240" cy="162360"/>
            </a:xfrm>
            <a:custGeom>
              <a:avLst/>
              <a:gdLst/>
              <a:ahLst/>
              <a:rect l="l" t="t" r="r" b="b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4200120" y="2487240"/>
              <a:ext cx="1299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51760" y="2581560"/>
              <a:ext cx="115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21440" y="2488680"/>
              <a:ext cx="135720" cy="92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00120" y="2578320"/>
              <a:ext cx="12996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51760" y="2487240"/>
              <a:ext cx="115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4321440" y="2486880"/>
              <a:ext cx="135720" cy="9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507400" y="1854000"/>
              <a:ext cx="1800" cy="97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241360" y="185400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241360" y="2427840"/>
              <a:ext cx="266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241360" y="282708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507400" y="2367000"/>
              <a:ext cx="21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24600" y="2388600"/>
              <a:ext cx="210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9160" y="1955880"/>
              <a:ext cx="1800" cy="87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271320" y="195588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271320" y="283248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778760" y="2225880"/>
              <a:ext cx="456840" cy="371880"/>
            </a:xfrm>
            <a:custGeom>
              <a:avLst/>
              <a:gdLst/>
              <a:ahLst/>
              <a:rect l="l" t="t" r="r" b="b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38240" y="2252880"/>
              <a:ext cx="145080" cy="162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52640" y="2295720"/>
              <a:ext cx="242640" cy="160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923480" y="2454840"/>
              <a:ext cx="176040" cy="57600"/>
            </a:xfrm>
            <a:custGeom>
              <a:avLst/>
              <a:gdLst/>
              <a:ahLst/>
              <a:rect l="l" t="t" r="r" b="b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09880" y="247464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932840" y="2462040"/>
              <a:ext cx="51120" cy="176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807920" y="2478240"/>
              <a:ext cx="297000" cy="9792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05280" y="2467440"/>
              <a:ext cx="104760" cy="4644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828440" y="2270520"/>
              <a:ext cx="58680" cy="219960"/>
            </a:xfrm>
            <a:custGeom>
              <a:avLst/>
              <a:gdLst/>
              <a:ahLst/>
              <a:rect l="l" t="t" r="r" b="b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829880" y="227412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833840" y="2275920"/>
              <a:ext cx="40320" cy="15048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835280" y="2275920"/>
              <a:ext cx="30960" cy="1162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835280" y="2277720"/>
              <a:ext cx="25560" cy="838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37440" y="2279520"/>
              <a:ext cx="1620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41200" y="2417400"/>
              <a:ext cx="25560" cy="230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965600" y="241740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87920" y="2417400"/>
              <a:ext cx="900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903320" y="2252880"/>
              <a:ext cx="34920" cy="16452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083680" y="2231280"/>
              <a:ext cx="49320" cy="183960"/>
            </a:xfrm>
            <a:custGeom>
              <a:avLst/>
              <a:gdLst/>
              <a:ahLst/>
              <a:rect l="l" t="t" r="r" b="b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903320" y="2261520"/>
              <a:ext cx="33120" cy="142920"/>
            </a:xfrm>
            <a:custGeom>
              <a:avLst/>
              <a:gdLst/>
              <a:ahLst/>
              <a:rect l="l" t="t" r="r" b="b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905480" y="2270520"/>
              <a:ext cx="25560" cy="1231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906920" y="2281680"/>
              <a:ext cx="21960" cy="100080"/>
            </a:xfrm>
            <a:custGeom>
              <a:avLst/>
              <a:gdLst/>
              <a:ahLst/>
              <a:rect l="l" t="t" r="r" b="b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06920" y="2290320"/>
              <a:ext cx="18000" cy="80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910880" y="2301120"/>
              <a:ext cx="12600" cy="5688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085120" y="2242080"/>
              <a:ext cx="43920" cy="1609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086920" y="2254680"/>
              <a:ext cx="34920" cy="135720"/>
            </a:xfrm>
            <a:custGeom>
              <a:avLst/>
              <a:gdLst/>
              <a:ahLst/>
              <a:rect l="l" t="t" r="r" b="b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090520" y="2265120"/>
              <a:ext cx="27360" cy="1126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90520" y="2275920"/>
              <a:ext cx="21960" cy="896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92680" y="2288520"/>
              <a:ext cx="16200" cy="644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66600" y="227052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43640" y="2266920"/>
              <a:ext cx="84240" cy="982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826280" y="2340360"/>
              <a:ext cx="67680" cy="1620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26280" y="2295720"/>
              <a:ext cx="67680" cy="1944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90720" y="2275920"/>
              <a:ext cx="111960" cy="20016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945800" y="2229480"/>
              <a:ext cx="14472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863000" y="2480040"/>
              <a:ext cx="242280" cy="8064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811520" y="2501280"/>
              <a:ext cx="247680" cy="7128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853640" y="2492640"/>
              <a:ext cx="242280" cy="62280"/>
            </a:xfrm>
            <a:custGeom>
              <a:avLst/>
              <a:gdLst/>
              <a:ahLst/>
              <a:rect l="l" t="t" r="r" b="b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835280" y="2494080"/>
              <a:ext cx="244080" cy="6948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78760" y="1667520"/>
              <a:ext cx="456840" cy="37404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938240" y="1694520"/>
              <a:ext cx="145080" cy="16308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52640" y="1740960"/>
              <a:ext cx="242640" cy="160920"/>
            </a:xfrm>
            <a:custGeom>
              <a:avLst/>
              <a:gdLst/>
              <a:ahLst/>
              <a:rect l="l" t="t" r="r" b="b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23480" y="1898640"/>
              <a:ext cx="176040" cy="55440"/>
            </a:xfrm>
            <a:custGeom>
              <a:avLst/>
              <a:gdLst/>
              <a:ahLst/>
              <a:rect l="l" t="t" r="r" b="b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009880" y="191628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32840" y="1903680"/>
              <a:ext cx="51120" cy="1764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807920" y="1921680"/>
              <a:ext cx="297000" cy="964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05280" y="1911240"/>
              <a:ext cx="104760" cy="460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28440" y="1712160"/>
              <a:ext cx="58680" cy="221760"/>
            </a:xfrm>
            <a:custGeom>
              <a:avLst/>
              <a:gdLst/>
              <a:ahLst/>
              <a:rect l="l" t="t" r="r" b="b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29880" y="171612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833840" y="1717920"/>
              <a:ext cx="40320" cy="1497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835280" y="1719720"/>
              <a:ext cx="30960" cy="11628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835280" y="1721160"/>
              <a:ext cx="25560" cy="820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837440" y="1721160"/>
              <a:ext cx="1620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041200" y="1859040"/>
              <a:ext cx="25560" cy="2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965600" y="185904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87920" y="1859040"/>
              <a:ext cx="900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03320" y="1694520"/>
              <a:ext cx="34920" cy="16452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83680" y="167292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903320" y="1703520"/>
              <a:ext cx="33120" cy="144720"/>
            </a:xfrm>
            <a:custGeom>
              <a:avLst/>
              <a:gdLst/>
              <a:ahLst/>
              <a:rect l="l" t="t" r="r" b="b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05480" y="1712160"/>
              <a:ext cx="25560" cy="12348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906920" y="1723320"/>
              <a:ext cx="21960" cy="10152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906920" y="1732320"/>
              <a:ext cx="18000" cy="80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10880" y="1742760"/>
              <a:ext cx="12600" cy="608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085120" y="1684080"/>
              <a:ext cx="43920" cy="162360"/>
            </a:xfrm>
            <a:custGeom>
              <a:avLst/>
              <a:gdLst/>
              <a:ahLst/>
              <a:rect l="l" t="t" r="r" b="b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086920" y="1696320"/>
              <a:ext cx="34920" cy="13752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90520" y="1707120"/>
              <a:ext cx="27360" cy="11412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0520" y="1717920"/>
              <a:ext cx="21960" cy="9072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92680" y="1730160"/>
              <a:ext cx="16200" cy="6624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66600" y="171216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43640" y="1708920"/>
              <a:ext cx="84240" cy="9792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826280" y="1782000"/>
              <a:ext cx="67680" cy="17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26280" y="1737360"/>
              <a:ext cx="67680" cy="1980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890720" y="1717920"/>
              <a:ext cx="111960" cy="201960"/>
            </a:xfrm>
            <a:custGeom>
              <a:avLst/>
              <a:gdLst/>
              <a:ahLst/>
              <a:rect l="l" t="t" r="r" b="b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945800" y="1671480"/>
              <a:ext cx="14472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63000" y="1923840"/>
              <a:ext cx="242280" cy="80280"/>
            </a:xfrm>
            <a:custGeom>
              <a:avLst/>
              <a:gdLst/>
              <a:ahLst/>
              <a:rect l="l" t="t" r="r" b="b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811520" y="1945080"/>
              <a:ext cx="247680" cy="71280"/>
            </a:xfrm>
            <a:custGeom>
              <a:avLst/>
              <a:gdLst/>
              <a:ahLst/>
              <a:rect l="l" t="t" r="r" b="b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53640" y="1934280"/>
              <a:ext cx="242280" cy="6444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35280" y="1939680"/>
              <a:ext cx="244080" cy="68040"/>
            </a:xfrm>
            <a:custGeom>
              <a:avLst/>
              <a:gdLst/>
              <a:ahLst/>
              <a:rect l="l" t="t" r="r" b="b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865600" y="1785600"/>
              <a:ext cx="456840" cy="374040"/>
            </a:xfrm>
            <a:custGeom>
              <a:avLst/>
              <a:gdLst/>
              <a:ahLst/>
              <a:rect l="l" t="t" r="r" b="b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23280" y="1812600"/>
              <a:ext cx="146880" cy="16452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39840" y="1859040"/>
              <a:ext cx="240480" cy="160920"/>
            </a:xfrm>
            <a:custGeom>
              <a:avLst/>
              <a:gdLst/>
              <a:ahLst/>
              <a:rect l="l" t="t" r="r" b="b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08520" y="2018160"/>
              <a:ext cx="177840" cy="5364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97080" y="2034360"/>
              <a:ext cx="76680" cy="2484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020040" y="2021760"/>
              <a:ext cx="51120" cy="198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92960" y="2041920"/>
              <a:ext cx="297360" cy="96480"/>
            </a:xfrm>
            <a:custGeom>
              <a:avLst/>
              <a:gdLst/>
              <a:ahLst/>
              <a:rect l="l" t="t" r="r" b="b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90680" y="2030760"/>
              <a:ext cx="105840" cy="464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914920" y="1832400"/>
              <a:ext cx="56880" cy="221760"/>
            </a:xfrm>
            <a:custGeom>
              <a:avLst/>
              <a:gdLst/>
              <a:ahLst/>
              <a:rect l="l" t="t" r="r" b="b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917080" y="1834200"/>
              <a:ext cx="49320" cy="1861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8880" y="1836000"/>
              <a:ext cx="40320" cy="1497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20320" y="1837800"/>
              <a:ext cx="33120" cy="11772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920320" y="1841400"/>
              <a:ext cx="25560" cy="80280"/>
            </a:xfrm>
            <a:custGeom>
              <a:avLst/>
              <a:gdLst/>
              <a:ahLst/>
              <a:rect l="l" t="t" r="r" b="b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924280" y="1841400"/>
              <a:ext cx="16560" cy="4824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26240" y="1978920"/>
              <a:ext cx="25560" cy="2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052800" y="1978920"/>
              <a:ext cx="1260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072600" y="1978920"/>
              <a:ext cx="11160" cy="122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990160" y="1812600"/>
              <a:ext cx="32760" cy="166320"/>
            </a:xfrm>
            <a:custGeom>
              <a:avLst/>
              <a:gdLst/>
              <a:ahLst/>
              <a:rect l="l" t="t" r="r" b="b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70160" y="1793160"/>
              <a:ext cx="49320" cy="18576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990160" y="1821600"/>
              <a:ext cx="30960" cy="146520"/>
            </a:xfrm>
            <a:custGeom>
              <a:avLst/>
              <a:gdLst/>
              <a:ahLst/>
              <a:rect l="l" t="t" r="r" b="b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991960" y="1832400"/>
              <a:ext cx="25560" cy="123120"/>
            </a:xfrm>
            <a:custGeom>
              <a:avLst/>
              <a:gdLst/>
              <a:ahLst/>
              <a:rect l="l" t="t" r="r" b="b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994120" y="1842840"/>
              <a:ext cx="21960" cy="101880"/>
            </a:xfrm>
            <a:custGeom>
              <a:avLst/>
              <a:gdLst/>
              <a:ahLst/>
              <a:rect l="l" t="t" r="r" b="b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994120" y="1851840"/>
              <a:ext cx="16200" cy="80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95920" y="1860840"/>
              <a:ext cx="12600" cy="608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172320" y="1803600"/>
              <a:ext cx="41760" cy="16308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174120" y="1816200"/>
              <a:ext cx="34920" cy="13788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175560" y="1825200"/>
              <a:ext cx="27720" cy="11628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75560" y="1836000"/>
              <a:ext cx="24120" cy="92880"/>
            </a:xfrm>
            <a:custGeom>
              <a:avLst/>
              <a:gdLst/>
              <a:ahLst/>
              <a:rect l="l" t="t" r="r" b="b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177720" y="1848240"/>
              <a:ext cx="18000" cy="68040"/>
            </a:xfrm>
            <a:custGeom>
              <a:avLst/>
              <a:gdLst/>
              <a:ahLst/>
              <a:rect l="l" t="t" r="r" b="b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030840" y="1828800"/>
              <a:ext cx="82080" cy="9828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913480" y="1902240"/>
              <a:ext cx="67680" cy="176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13480" y="1857600"/>
              <a:ext cx="67680" cy="19440"/>
            </a:xfrm>
            <a:custGeom>
              <a:avLst/>
              <a:gdLst/>
              <a:ahLst/>
              <a:rect l="l" t="t" r="r" b="b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77560" y="1836000"/>
              <a:ext cx="110160" cy="20340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032280" y="1791000"/>
              <a:ext cx="142920" cy="27000"/>
            </a:xfrm>
            <a:custGeom>
              <a:avLst/>
              <a:gdLst/>
              <a:ahLst/>
              <a:rect l="l" t="t" r="r" b="b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949840" y="2043360"/>
              <a:ext cx="240480" cy="78480"/>
            </a:xfrm>
            <a:custGeom>
              <a:avLst/>
              <a:gdLst/>
              <a:ahLst/>
              <a:rect l="l" t="t" r="r" b="b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98360" y="2064960"/>
              <a:ext cx="248040" cy="69480"/>
            </a:xfrm>
            <a:custGeom>
              <a:avLst/>
              <a:gdLst/>
              <a:ahLst/>
              <a:rect l="l" t="t" r="r" b="b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40840" y="2054160"/>
              <a:ext cx="242280" cy="64080"/>
            </a:xfrm>
            <a:custGeom>
              <a:avLst/>
              <a:gdLst/>
              <a:ahLst/>
              <a:rect l="l" t="t" r="r" b="b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20320" y="2057400"/>
              <a:ext cx="244080" cy="69480"/>
            </a:xfrm>
            <a:custGeom>
              <a:avLst/>
              <a:gdLst/>
              <a:ahLst/>
              <a:rect l="l" t="t" r="r" b="b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39160" y="2614320"/>
              <a:ext cx="503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338440" y="1911240"/>
              <a:ext cx="1369440" cy="1285920"/>
            </a:xfrm>
            <a:custGeom>
              <a:avLst/>
              <a:gdLst/>
              <a:ahLst/>
              <a:rect l="l" t="t" r="r" b="b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4767840" y="2594160"/>
              <a:ext cx="567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4908600" y="246204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H="1">
            <a:off x="4711320" y="237816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554280" y="2754360"/>
            <a:ext cx="4939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3710160" y="291132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535640" y="388800"/>
            <a:ext cx="267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ould arriving packet be allowed in? Departing packet let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116240" y="1908000"/>
            <a:ext cx="8161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338720" y="2160720"/>
            <a:ext cx="35064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Packet Filtering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5661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xample 1: block incoming and outgoing datagrams with IP protocol field = 17 and with either source or dest port = 2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coming and outgoing UDP flows and telnet connections are block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xample 2: Block inbound TCP segments with ACK=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s external clients from making TCP connections with internal clients, but allows internal clients to connect to outs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rewalls in A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03" name=""/>
          <p:cNvGraphicFramePr/>
          <p:nvPr/>
        </p:nvGraphicFramePr>
        <p:xfrm>
          <a:off x="609480" y="1600200"/>
          <a:ext cx="81774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77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 Kurose and K. Ro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er Networking: A Top-Down Approach Featuring the Int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ition, Addison Wesley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4772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Friends and Enemies: Alice, Bob, Trudy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5200" y="252900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68960" y="2576520"/>
            <a:ext cx="812880" cy="830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10828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39840" y="3363840"/>
            <a:ext cx="129384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60360" y="3325680"/>
            <a:ext cx="11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376440"/>
            <a:ext cx="129384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50000" y="335268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4280" y="26193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55960" y="3041640"/>
            <a:ext cx="23832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3562200"/>
            <a:ext cx="2447640" cy="366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62480" y="3774960"/>
            <a:ext cx="24606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87960" y="257652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, control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33960" y="3193920"/>
            <a:ext cx="22392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41640" y="381492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16280" y="381312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66920" y="374508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1480" y="34750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74080" y="3714840"/>
            <a:ext cx="814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60680" y="34448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2520" y="224784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mic Sans MS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41800" y="22590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mic Sans MS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59960" y="4886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Comic Sans MS"/>
              </a:rPr>
              <a:t>Tr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o might Bob, Alice b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al-lif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obs and Alic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browser/server for electronic transactions (e.g., on-line purchas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-line banking client/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NS serv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ers exchanging routing table upd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examp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language of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2184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mmetric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ypto: sender, receiver key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ublic-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ypto: encryptio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cryption 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ret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2560" y="295128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40960" y="293220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3000" y="2913120"/>
            <a:ext cx="13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44880" y="1930320"/>
            <a:ext cx="508680" cy="609840"/>
            <a:chOff x="2144880" y="1930320"/>
            <a:chExt cx="508680" cy="609840"/>
          </a:xfrm>
        </p:grpSpPr>
        <p:sp>
          <p:nvSpPr>
            <p:cNvPr id="186" name=""/>
            <p:cNvSpPr/>
            <p:nvPr/>
          </p:nvSpPr>
          <p:spPr>
            <a:xfrm>
              <a:off x="2144880" y="193032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9760" y="21412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65400" y="1952640"/>
            <a:ext cx="698400" cy="861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91080" y="3722760"/>
            <a:ext cx="1082520" cy="1295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96920" y="2859120"/>
            <a:ext cx="139248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5680" y="286848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38760" y="2871720"/>
            <a:ext cx="1378080" cy="803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4640" y="2895480"/>
            <a:ext cx="15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7840" y="3271680"/>
            <a:ext cx="230184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97360" y="332424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572000" y="3322800"/>
            <a:ext cx="573120" cy="914400"/>
          </a:xfrm>
          <a:custGeom>
            <a:avLst/>
            <a:gdLst/>
            <a:ahLst/>
            <a:rect l="l" t="t" r="r" b="b"/>
            <a:pathLst>
              <a:path w="344" h="789">
                <a:moveTo>
                  <a:pt x="0" y="0"/>
                </a:moveTo>
                <a:cubicBezTo>
                  <a:pt x="52" y="24"/>
                  <a:pt x="255" y="10"/>
                  <a:pt x="310" y="142"/>
                </a:cubicBezTo>
                <a:cubicBezTo>
                  <a:pt x="344" y="248"/>
                  <a:pt x="324" y="654"/>
                  <a:pt x="328" y="7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87160" y="2479680"/>
            <a:ext cx="180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958000" y="24494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8880" y="1709640"/>
            <a:ext cx="15084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99200" y="1778040"/>
            <a:ext cx="15080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574040" y="2155680"/>
            <a:ext cx="812880" cy="8305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5818320" y="2060640"/>
            <a:ext cx="510840" cy="609840"/>
            <a:chOff x="5818320" y="2060640"/>
            <a:chExt cx="510840" cy="609840"/>
          </a:xfrm>
        </p:grpSpPr>
        <p:sp>
          <p:nvSpPr>
            <p:cNvPr id="203" name=""/>
            <p:cNvSpPr/>
            <p:nvPr/>
          </p:nvSpPr>
          <p:spPr>
            <a:xfrm>
              <a:off x="5818320" y="206064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2480" y="227160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252440" y="329724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86680" y="3308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 rot="10800000">
            <a:off x="2190600" y="1708200"/>
            <a:ext cx="465120" cy="241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 rot="10800000">
            <a:off x="5769000" y="1801800"/>
            <a:ext cx="4651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ymmetr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44680" y="1398240"/>
            <a:ext cx="8076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ubstitution cipher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bstituting one thing for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alphabetic cipher: substitute one letter for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1800" y="23302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 abcdefghijklmnopqrstuvw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78360" y="311004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 mnbvcxzasdfghjklpoiuytrew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440" y="2739960"/>
            <a:ext cx="0" cy="493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703600"/>
            <a:ext cx="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88960" y="3881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bob. i love you. 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33080" y="430704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nkn. s gktc wky. mgs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55120" y="38163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9999"/>
                </a:solidFill>
                <a:uFillTx/>
                <a:latin typeface="Comic Sans MS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7160" y="4876920"/>
            <a:ext cx="60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 u="sng">
                <a:solidFill>
                  <a:srgbClr val="669999"/>
                </a:solidFill>
                <a:uFillTx/>
                <a:latin typeface="Comic Sans MS"/>
              </a:rPr>
              <a:t> How hard to break this simple cipher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rute force (how har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999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ymmetric key cryptograph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5320" y="4020840"/>
            <a:ext cx="82188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ymmetric ke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yp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b and Alice share same (symmetric) key: 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key is knowing substitution pattern in mono alphabetic substitution cip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ow do Bob and Alice agree on key valu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02680" y="263196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5600" y="2612880"/>
            <a:ext cx="13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174760" y="1716120"/>
            <a:ext cx="750600" cy="581400"/>
            <a:chOff x="2174760" y="1716120"/>
            <a:chExt cx="750600" cy="581400"/>
          </a:xfrm>
        </p:grpSpPr>
        <p:sp>
          <p:nvSpPr>
            <p:cNvPr id="224" name=""/>
            <p:cNvSpPr/>
            <p:nvPr/>
          </p:nvSpPr>
          <p:spPr>
            <a:xfrm>
              <a:off x="2174760" y="171612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33160" y="18986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-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1000" y="1666800"/>
            <a:ext cx="698400" cy="862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982880" y="2573280"/>
            <a:ext cx="139212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1280" y="2583000"/>
            <a:ext cx="14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0480" y="2571840"/>
            <a:ext cx="1378080" cy="80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360" y="2595600"/>
            <a:ext cx="15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ry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03440" y="2986200"/>
            <a:ext cx="1692360" cy="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373480" y="219384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935760" y="1855800"/>
            <a:ext cx="812880" cy="8301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238400" y="301140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48400" y="3008160"/>
            <a:ext cx="67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 rot="10800000">
            <a:off x="2511360" y="1639440"/>
            <a:ext cx="465120" cy="241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621600" y="45799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61120" y="1665360"/>
            <a:ext cx="750600" cy="581400"/>
            <a:chOff x="5361120" y="1665360"/>
            <a:chExt cx="750600" cy="581400"/>
          </a:xfrm>
        </p:grpSpPr>
        <p:sp>
          <p:nvSpPr>
            <p:cNvPr id="239" name=""/>
            <p:cNvSpPr/>
            <p:nvPr/>
          </p:nvSpPr>
          <p:spPr>
            <a:xfrm>
              <a:off x="5361120" y="166536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19520" y="184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-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>
            <a:off x="5559480" y="2143080"/>
            <a:ext cx="144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 rot="10800000">
            <a:off x="5697000" y="1589040"/>
            <a:ext cx="465480" cy="241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34800" y="2643120"/>
            <a:ext cx="16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81720" y="314964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   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24640" y="33415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-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773400" y="3116160"/>
            <a:ext cx="2270160" cy="575280"/>
            <a:chOff x="6773400" y="3116160"/>
            <a:chExt cx="2270160" cy="575280"/>
          </a:xfrm>
        </p:grpSpPr>
        <p:grpSp>
          <p:nvGrpSpPr>
            <p:cNvPr id="247" name=""/>
            <p:cNvGrpSpPr/>
            <p:nvPr/>
          </p:nvGrpSpPr>
          <p:grpSpPr>
            <a:xfrm>
              <a:off x="7867440" y="3143160"/>
              <a:ext cx="990000" cy="529200"/>
              <a:chOff x="7867440" y="3143160"/>
              <a:chExt cx="990000" cy="529200"/>
            </a:xfrm>
          </p:grpSpPr>
          <p:sp>
            <p:nvSpPr>
              <p:cNvPr id="248" name=""/>
              <p:cNvSpPr/>
              <p:nvPr/>
            </p:nvSpPr>
            <p:spPr>
              <a:xfrm>
                <a:off x="7867440" y="314316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K    (m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81920" y="3335040"/>
                <a:ext cx="50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omic Sans MS"/>
                  </a:rPr>
                  <a:t>A-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773400" y="3116160"/>
              <a:ext cx="227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 = K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    )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37520" y="335412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A-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18:45:43Z</dcterms:created>
  <dc:creator>NNP</dc:creator>
  <dc:description/>
  <dc:language>en-US</dc:language>
  <cp:lastModifiedBy>Natawut Nupairoj</cp:lastModifiedBy>
  <dcterms:modified xsi:type="dcterms:W3CDTF">2004-07-18T14:25:42Z</dcterms:modified>
  <cp:revision>52</cp:revision>
  <dc:subject/>
  <dc:title>Enterprise Java Bean</dc:title>
</cp:coreProperties>
</file>