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771318-5BCA-4915-A46E-0C6865CF9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CD4045-FD95-4065-BF48-D1102638B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B32CF3-9264-4859-AA3C-AC9837299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534DE7-EABD-45FE-8486-71C25C0DF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4057D8-20E6-4A31-9043-15ED9F2E7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816CE9-A680-423D-9D84-A42550DD3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8AE75F-B2F8-425C-9BCE-1E8E442F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70397A-455A-420E-BFCB-E4E10F67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17DD16-9FAF-426F-83E3-EA973827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369649-2DEE-4B06-A33E-11C04A0BC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F17841-99D7-4D4B-9EEF-FCFF3CCCE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E8A5E5-3AD6-4A5E-8E3D-2AB58A0CE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0066"/>
                </a:solidFill>
                <a:latin typeface="Times New Roman"/>
              </a:rPr>
              <a:t>IS Architecture Overview</a:t>
            </a:r>
            <a:r>
              <a:rPr b="0" lang="en-US" sz="1200" spc="-1" strike="noStrike">
                <a:solidFill>
                  <a:srgbClr val="330066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330066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330066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330066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330066"/>
                </a:solidFill>
                <a:latin typeface="Times New Roman"/>
              </a:rPr>
              <a:t>Natawut Nupairoj, Ph.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5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AC405-10B0-4B70-A885-DAD201EDA61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8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IS Architecture Overview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10684 Information System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awut Nupairoj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artment of Computer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lalongkorn 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ypes of Information Syste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y cover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al, work-group, enterprise-wid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y types of dec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erational, tactical, strategi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y business func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rketing, operation, accounting, H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al World: FedEx Cas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siness N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orldwide overnight shipp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0% market sh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than 100 million transactions per da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siness Require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st, reliable, and affordab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competi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al World: FedEx Case (2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ution Strateg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tilize efficient IT infrastructure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ne-to-one customer relationship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tending business from logistic to supply chain servic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ocking in customers with tighter IT integration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panding services geographically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al World: FedEx Case (3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ey iss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able efficient and real-time oper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ide flexible services over the worl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liable and scalable to meet the current and future demand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ort wide-range of integr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 reasonable costs (build, operate, and maintain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al World: FedEx Case (4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247760" y="1719360"/>
            <a:ext cx="6647040" cy="44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ier/Logic Defini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sentation Logic: User Interfac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siness Logic: Application Programs and Servic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Logic: Databas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ample: Registration Syste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sentation Logic: web pag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gin / Logou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gister class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d / Drop class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 sec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al inform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ample: Registration Syste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siness Logic: Modules and Serv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uthentica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d a clas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rop a clas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 sec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w classes, grades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alidate class selection (called by add/drop class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ample: Registration Syste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Log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ass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urse number, title, credit, pre-requisite, etc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ass availability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Year, semester, course number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udent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tudent-id, password, name, year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udent class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Year, semester, student-id, course number, grad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ransact Patter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ications with business data is stored for a long time e.g. customer orders, student registration, etc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ypes of architec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-Ti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-Tier (commonly known as client/server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/N-Tier (commonly known as web-based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Network is Computer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Sun Micro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1-Tier Transact Patter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72388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rver with “dumb” termina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600200" y="3124080"/>
          <a:ext cx="1336680" cy="171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124080"/>
                    <a:ext cx="1336680" cy="17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5562720" y="3581280"/>
          <a:ext cx="1106280" cy="108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62720" y="3581280"/>
                    <a:ext cx="1106280" cy="10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 flipH="1">
            <a:off x="3429000" y="3733920"/>
            <a:ext cx="1828800" cy="0"/>
          </a:xfrm>
          <a:prstGeom prst="line">
            <a:avLst/>
          </a:prstGeom>
          <a:ln w="76320">
            <a:solidFill>
              <a:srgbClr val="66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755360" y="4952880"/>
            <a:ext cx="88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564160" y="495288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r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888720" y="32004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ey “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29000" y="4343400"/>
            <a:ext cx="1828800" cy="0"/>
          </a:xfrm>
          <a:prstGeom prst="line">
            <a:avLst/>
          </a:prstGeom>
          <a:ln w="76320">
            <a:solidFill>
              <a:srgbClr val="cc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659040" y="441972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splay “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895480" y="4038480"/>
            <a:ext cx="289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1-Tier Registration Syste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72388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d a cours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2666880" y="3505320"/>
          <a:ext cx="1336680" cy="171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505320"/>
                    <a:ext cx="1336680" cy="17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6629400" y="4038480"/>
          <a:ext cx="1106640" cy="108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9400" y="4038480"/>
                    <a:ext cx="1106640" cy="10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 flipH="1">
            <a:off x="4343040" y="4343400"/>
            <a:ext cx="1981080" cy="0"/>
          </a:xfrm>
          <a:prstGeom prst="line">
            <a:avLst/>
          </a:prstGeom>
          <a:ln w="76320">
            <a:solidFill>
              <a:srgbClr val="66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822400" y="5334120"/>
            <a:ext cx="88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630840" y="533412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r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93640" y="3352680"/>
            <a:ext cx="205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lect a cours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343400" y="3733920"/>
            <a:ext cx="2057400" cy="0"/>
          </a:xfrm>
          <a:prstGeom prst="line">
            <a:avLst/>
          </a:prstGeom>
          <a:ln w="76320">
            <a:solidFill>
              <a:srgbClr val="cc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803840" y="396252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110213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304920" y="2362320"/>
            <a:ext cx="2590560" cy="1447560"/>
          </a:xfrm>
          <a:prstGeom prst="cloudCallout">
            <a:avLst>
              <a:gd name="adj1" fmla="val -57171"/>
              <a:gd name="adj2" fmla="val 7170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heck dep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heck preq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heck total cre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344840" y="4572000"/>
            <a:ext cx="189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rse adde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343400" y="4952880"/>
            <a:ext cx="2057400" cy="0"/>
          </a:xfrm>
          <a:prstGeom prst="line">
            <a:avLst/>
          </a:prstGeom>
          <a:ln w="76320">
            <a:solidFill>
              <a:srgbClr val="cc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4648320" y="2209680"/>
            <a:ext cx="426708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Pro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ngle place, easy to contr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Con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pensive, big spaghetti bowl, inflexible, lack of applications, take long time to develo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1-Tier Transact Patter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3124080" y="1905120"/>
          <a:ext cx="666720" cy="65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905120"/>
                    <a:ext cx="666720" cy="6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3657600" y="2971800"/>
          <a:ext cx="666720" cy="65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2971800"/>
                    <a:ext cx="666720" cy="6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"/>
          <p:cNvSpPr/>
          <p:nvPr/>
        </p:nvSpPr>
        <p:spPr>
          <a:xfrm flipV="1">
            <a:off x="2133720" y="228564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2285640" y="3352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 flipV="1">
            <a:off x="2209680" y="3809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828800" y="2590920"/>
            <a:ext cx="533520" cy="1523880"/>
          </a:xfrm>
          <a:prstGeom prst="rect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62120" y="2590920"/>
            <a:ext cx="533160" cy="1523880"/>
          </a:xfrm>
          <a:prstGeom prst="rect">
            <a:avLst/>
          </a:prstGeom>
          <a:solidFill>
            <a:srgbClr val="e4f2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295280" y="2590920"/>
            <a:ext cx="533520" cy="1523880"/>
          </a:xfrm>
          <a:prstGeom prst="rect">
            <a:avLst/>
          </a:prstGeom>
          <a:solidFill>
            <a:srgbClr val="fef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usi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3124080" y="4191120"/>
          <a:ext cx="666720" cy="652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24080" y="4191120"/>
                    <a:ext cx="666720" cy="6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2-Tier Transact Patter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792468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base server with fat cli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VB / Developer 2000 client program + SQL databas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2133720" y="3048120"/>
          <a:ext cx="977760" cy="209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3048120"/>
                    <a:ext cx="977760" cy="20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5867280" y="3505320"/>
          <a:ext cx="1444680" cy="141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3505320"/>
                    <a:ext cx="1444680" cy="14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"/>
          <p:cNvSpPr/>
          <p:nvPr/>
        </p:nvSpPr>
        <p:spPr>
          <a:xfrm flipH="1">
            <a:off x="3657600" y="3733920"/>
            <a:ext cx="1828800" cy="0"/>
          </a:xfrm>
          <a:prstGeom prst="line">
            <a:avLst/>
          </a:prstGeom>
          <a:ln w="76320">
            <a:solidFill>
              <a:srgbClr val="66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583800" y="3276720"/>
            <a:ext cx="231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base 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657600" y="4343400"/>
            <a:ext cx="1828800" cy="0"/>
          </a:xfrm>
          <a:prstGeom prst="line">
            <a:avLst/>
          </a:prstGeom>
          <a:ln w="76320">
            <a:solidFill>
              <a:srgbClr val="cc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116600" y="441972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971800" y="403848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908000" y="525780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B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17160" y="5181480"/>
            <a:ext cx="17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C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Reg Progra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2-Tier Registration Syste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792468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d a cours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1143000" y="3200400"/>
          <a:ext cx="977760" cy="209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200400"/>
                    <a:ext cx="977760" cy="20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4876920" y="3657600"/>
          <a:ext cx="1444680" cy="141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3657600"/>
                    <a:ext cx="1444680" cy="14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"/>
          <p:cNvSpPr/>
          <p:nvPr/>
        </p:nvSpPr>
        <p:spPr>
          <a:xfrm flipH="1">
            <a:off x="2666880" y="3886200"/>
            <a:ext cx="1828800" cy="0"/>
          </a:xfrm>
          <a:prstGeom prst="line">
            <a:avLst/>
          </a:prstGeom>
          <a:ln w="76320">
            <a:solidFill>
              <a:srgbClr val="66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592720" y="3429000"/>
            <a:ext cx="21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t all my cour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666880" y="4724280"/>
            <a:ext cx="1828800" cy="0"/>
          </a:xfrm>
          <a:prstGeom prst="line">
            <a:avLst/>
          </a:prstGeom>
          <a:ln w="76320">
            <a:solidFill>
              <a:srgbClr val="cc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366640" y="4267080"/>
            <a:ext cx="243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110211, 2110213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917640" y="533412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B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410080" y="2362320"/>
            <a:ext cx="3505320" cy="1295280"/>
          </a:xfrm>
          <a:prstGeom prst="cloudCallout">
            <a:avLst>
              <a:gd name="adj1" fmla="val -45925"/>
              <a:gd name="adj2" fmla="val 7892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heck dept… ok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heck preq… ok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heck total credit &lt; 22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726440" y="5181480"/>
            <a:ext cx="17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C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Reg Progra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2-Tier Transact Patter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257800" y="2514600"/>
            <a:ext cx="3429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Pro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ple to develop (initiall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Con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or scalabi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or manageability and deployabi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1295280" y="2514600"/>
            <a:ext cx="3200400" cy="2590920"/>
            <a:chOff x="1295280" y="2514600"/>
            <a:chExt cx="3200400" cy="2590920"/>
          </a:xfrm>
        </p:grpSpPr>
        <p:sp>
          <p:nvSpPr>
            <p:cNvPr id="270" name=""/>
            <p:cNvSpPr/>
            <p:nvPr/>
          </p:nvSpPr>
          <p:spPr>
            <a:xfrm flipV="1">
              <a:off x="1981080" y="2743200"/>
              <a:ext cx="114300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2133360" y="381024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 flipV="1">
              <a:off x="2057400" y="4267080"/>
              <a:ext cx="9907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3657600" y="3581640"/>
              <a:ext cx="838080" cy="380880"/>
              <a:chOff x="3657600" y="3581640"/>
              <a:chExt cx="838080" cy="380880"/>
            </a:xfrm>
          </p:grpSpPr>
          <p:sp>
            <p:nvSpPr>
              <p:cNvPr id="274" name=""/>
              <p:cNvSpPr/>
              <p:nvPr/>
            </p:nvSpPr>
            <p:spPr>
              <a:xfrm>
                <a:off x="3962520" y="3581640"/>
                <a:ext cx="533160" cy="380880"/>
              </a:xfrm>
              <a:prstGeom prst="rect">
                <a:avLst/>
              </a:prstGeom>
              <a:solidFill>
                <a:srgbClr val="d8d8e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657600" y="3581640"/>
                <a:ext cx="304920" cy="380880"/>
              </a:xfrm>
              <a:prstGeom prst="rect">
                <a:avLst/>
              </a:prstGeom>
              <a:solidFill>
                <a:srgbClr val="fefec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1295280" y="3048120"/>
              <a:ext cx="838080" cy="1523880"/>
              <a:chOff x="1295280" y="3048120"/>
              <a:chExt cx="838080" cy="1523880"/>
            </a:xfrm>
          </p:grpSpPr>
          <p:sp>
            <p:nvSpPr>
              <p:cNvPr id="277" name=""/>
              <p:cNvSpPr/>
              <p:nvPr/>
            </p:nvSpPr>
            <p:spPr>
              <a:xfrm>
                <a:off x="1295280" y="3048120"/>
                <a:ext cx="533160" cy="1523880"/>
              </a:xfrm>
              <a:prstGeom prst="rect">
                <a:avLst/>
              </a:prstGeom>
              <a:solidFill>
                <a:srgbClr val="e4f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28440" y="3048120"/>
                <a:ext cx="304920" cy="1523880"/>
              </a:xfrm>
              <a:prstGeom prst="rect">
                <a:avLst/>
              </a:prstGeom>
              <a:solidFill>
                <a:srgbClr val="fefec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3124080" y="2514600"/>
              <a:ext cx="838080" cy="380880"/>
              <a:chOff x="3124080" y="2514600"/>
              <a:chExt cx="838080" cy="380880"/>
            </a:xfrm>
          </p:grpSpPr>
          <p:sp>
            <p:nvSpPr>
              <p:cNvPr id="280" name=""/>
              <p:cNvSpPr/>
              <p:nvPr/>
            </p:nvSpPr>
            <p:spPr>
              <a:xfrm>
                <a:off x="3429000" y="2514600"/>
                <a:ext cx="533160" cy="380880"/>
              </a:xfrm>
              <a:prstGeom prst="rect">
                <a:avLst/>
              </a:prstGeom>
              <a:solidFill>
                <a:srgbClr val="d8d8e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124080" y="2514600"/>
                <a:ext cx="304920" cy="380880"/>
              </a:xfrm>
              <a:prstGeom prst="rect">
                <a:avLst/>
              </a:prstGeom>
              <a:solidFill>
                <a:srgbClr val="fefec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3048120" y="4724640"/>
              <a:ext cx="838080" cy="380880"/>
              <a:chOff x="3048120" y="4724640"/>
              <a:chExt cx="838080" cy="380880"/>
            </a:xfrm>
          </p:grpSpPr>
          <p:sp>
            <p:nvSpPr>
              <p:cNvPr id="283" name=""/>
              <p:cNvSpPr/>
              <p:nvPr/>
            </p:nvSpPr>
            <p:spPr>
              <a:xfrm>
                <a:off x="3353040" y="4724640"/>
                <a:ext cx="533160" cy="380880"/>
              </a:xfrm>
              <a:prstGeom prst="rect">
                <a:avLst/>
              </a:prstGeom>
              <a:solidFill>
                <a:srgbClr val="d8d8e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8120" y="4724640"/>
                <a:ext cx="304920" cy="380880"/>
              </a:xfrm>
              <a:prstGeom prst="rect">
                <a:avLst/>
              </a:prstGeom>
              <a:solidFill>
                <a:srgbClr val="fefec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5" name=""/>
          <p:cNvGraphicFramePr/>
          <p:nvPr/>
        </p:nvGraphicFramePr>
        <p:xfrm>
          <a:off x="3809880" y="3048120"/>
          <a:ext cx="978120" cy="209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3048120"/>
                    <a:ext cx="978120" cy="20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3/N-Tier Transact Patter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769608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base + Web server / App server + Browsers (Thin clients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1066680" y="3048120"/>
          <a:ext cx="978120" cy="209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3048120"/>
                    <a:ext cx="978120" cy="20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1" name=""/>
          <p:cNvGraphicFramePr/>
          <p:nvPr/>
        </p:nvGraphicFramePr>
        <p:xfrm>
          <a:off x="6705720" y="3505320"/>
          <a:ext cx="1444680" cy="1414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05720" y="3505320"/>
                    <a:ext cx="1444680" cy="14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"/>
          <p:cNvSpPr/>
          <p:nvPr/>
        </p:nvSpPr>
        <p:spPr>
          <a:xfrm>
            <a:off x="841320" y="525780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B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84200" y="52578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C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Brows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648320" y="403848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201840" y="5257800"/>
            <a:ext cx="162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b Server 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2285640" y="3733920"/>
            <a:ext cx="1219320" cy="0"/>
          </a:xfrm>
          <a:prstGeom prst="line">
            <a:avLst/>
          </a:prstGeom>
          <a:ln w="76320">
            <a:solidFill>
              <a:srgbClr val="66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134800" y="3276720"/>
            <a:ext cx="160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b 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362320" y="4343400"/>
            <a:ext cx="1143000" cy="0"/>
          </a:xfrm>
          <a:prstGeom prst="line">
            <a:avLst/>
          </a:prstGeom>
          <a:ln w="76320">
            <a:solidFill>
              <a:srgbClr val="cc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40080" y="441972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905120" y="40384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5105520" y="3733920"/>
            <a:ext cx="1218960" cy="0"/>
          </a:xfrm>
          <a:prstGeom prst="line">
            <a:avLst/>
          </a:prstGeom>
          <a:ln w="76320">
            <a:solidFill>
              <a:srgbClr val="66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411160" y="327672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81480" y="4343400"/>
            <a:ext cx="1143000" cy="0"/>
          </a:xfrm>
          <a:prstGeom prst="line">
            <a:avLst/>
          </a:prstGeom>
          <a:ln w="76320">
            <a:solidFill>
              <a:srgbClr val="cc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411520" y="44197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6" name=""/>
          <p:cNvGraphicFramePr/>
          <p:nvPr/>
        </p:nvGraphicFramePr>
        <p:xfrm>
          <a:off x="3809880" y="3048120"/>
          <a:ext cx="978120" cy="209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3048120"/>
                    <a:ext cx="978120" cy="20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3/N-Tier Registration Syste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1066680" y="3048120"/>
          <a:ext cx="978120" cy="209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3048120"/>
                    <a:ext cx="978120" cy="20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1" name=""/>
          <p:cNvGraphicFramePr/>
          <p:nvPr/>
        </p:nvGraphicFramePr>
        <p:xfrm>
          <a:off x="6705720" y="3505320"/>
          <a:ext cx="1444680" cy="1414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05720" y="3505320"/>
                    <a:ext cx="1444680" cy="14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"/>
          <p:cNvSpPr/>
          <p:nvPr/>
        </p:nvSpPr>
        <p:spPr>
          <a:xfrm>
            <a:off x="841320" y="525780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B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784200" y="52578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C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Brows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201840" y="5257800"/>
            <a:ext cx="162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b Server 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2285640" y="3733920"/>
            <a:ext cx="1219320" cy="0"/>
          </a:xfrm>
          <a:prstGeom prst="line">
            <a:avLst/>
          </a:prstGeom>
          <a:ln w="76320">
            <a:solidFill>
              <a:srgbClr val="66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129760" y="3327480"/>
            <a:ext cx="17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et my all cour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362320" y="4343400"/>
            <a:ext cx="1143000" cy="0"/>
          </a:xfrm>
          <a:prstGeom prst="line">
            <a:avLst/>
          </a:prstGeom>
          <a:ln w="76320">
            <a:solidFill>
              <a:srgbClr val="cc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284200" y="4495680"/>
            <a:ext cx="11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110211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5105520" y="3733920"/>
            <a:ext cx="1218960" cy="0"/>
          </a:xfrm>
          <a:prstGeom prst="line">
            <a:avLst/>
          </a:prstGeom>
          <a:ln w="76320">
            <a:solidFill>
              <a:srgbClr val="66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032080" y="327672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 21102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181480" y="4343400"/>
            <a:ext cx="1143000" cy="0"/>
          </a:xfrm>
          <a:prstGeom prst="line">
            <a:avLst/>
          </a:prstGeom>
          <a:ln w="76320">
            <a:solidFill>
              <a:srgbClr val="cc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027760" y="4419720"/>
            <a:ext cx="1546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urse added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572000" y="1752480"/>
            <a:ext cx="3505320" cy="1295640"/>
          </a:xfrm>
          <a:prstGeom prst="cloudCallout">
            <a:avLst>
              <a:gd name="adj1" fmla="val -45925"/>
              <a:gd name="adj2" fmla="val 7892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heck dept… ok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heck preq… ok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heck total credit &lt; 22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3/N-Tier Transact Patter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609480" y="2209680"/>
            <a:ext cx="4267440" cy="3048120"/>
            <a:chOff x="609480" y="2209680"/>
            <a:chExt cx="4267440" cy="3048120"/>
          </a:xfrm>
        </p:grpSpPr>
        <p:sp>
          <p:nvSpPr>
            <p:cNvPr id="327" name=""/>
            <p:cNvSpPr/>
            <p:nvPr/>
          </p:nvSpPr>
          <p:spPr>
            <a:xfrm flipH="1">
              <a:off x="1219320" y="3657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2437920" y="36576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447920" y="2209680"/>
              <a:ext cx="1143000" cy="304812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2666880" y="2590560"/>
              <a:ext cx="11430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2819160" y="36576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 flipV="1">
              <a:off x="2743200" y="4114440"/>
              <a:ext cx="9907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09480" y="2895480"/>
              <a:ext cx="609840" cy="1524240"/>
            </a:xfrm>
            <a:prstGeom prst="rect">
              <a:avLst/>
            </a:prstGeom>
            <a:solidFill>
              <a:srgbClr val="e4f2d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v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676520" y="2666880"/>
              <a:ext cx="685800" cy="609840"/>
            </a:xfrm>
            <a:prstGeom prst="rect">
              <a:avLst/>
            </a:prstGeom>
            <a:solidFill>
              <a:srgbClr val="fefe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v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809880" y="2362320"/>
              <a:ext cx="533520" cy="380880"/>
            </a:xfrm>
            <a:prstGeom prst="rect">
              <a:avLst/>
            </a:prstGeom>
            <a:solidFill>
              <a:srgbClr val="d8d8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343400" y="3429000"/>
              <a:ext cx="533520" cy="380880"/>
            </a:xfrm>
            <a:prstGeom prst="rect">
              <a:avLst/>
            </a:prstGeom>
            <a:solidFill>
              <a:srgbClr val="d8d8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733920" y="4648320"/>
              <a:ext cx="533160" cy="380880"/>
            </a:xfrm>
            <a:prstGeom prst="rect">
              <a:avLst/>
            </a:prstGeom>
            <a:solidFill>
              <a:srgbClr val="d8d8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666880" y="2895480"/>
              <a:ext cx="533520" cy="1524240"/>
            </a:xfrm>
            <a:prstGeom prst="rect">
              <a:avLst/>
            </a:prstGeom>
            <a:solidFill>
              <a:srgbClr val="fefe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v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676520" y="3429000"/>
              <a:ext cx="685800" cy="609480"/>
            </a:xfrm>
            <a:prstGeom prst="rect">
              <a:avLst/>
            </a:prstGeom>
            <a:solidFill>
              <a:srgbClr val="fefe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v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676520" y="4191120"/>
              <a:ext cx="685800" cy="609480"/>
            </a:xfrm>
            <a:prstGeom prst="rect">
              <a:avLst/>
            </a:prstGeom>
            <a:solidFill>
              <a:srgbClr val="fefe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v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5181480" y="2209680"/>
            <a:ext cx="3429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Pro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alabi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lexi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ple to man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eat for integ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Con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lightly difficult to develop (initiall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ayers of IS Architecture (Ideal)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1371600" y="2286000"/>
            <a:ext cx="6324480" cy="3249720"/>
            <a:chOff x="1371600" y="2286000"/>
            <a:chExt cx="6324480" cy="3249720"/>
          </a:xfrm>
        </p:grpSpPr>
        <p:sp>
          <p:nvSpPr>
            <p:cNvPr id="344" name=""/>
            <p:cNvSpPr/>
            <p:nvPr/>
          </p:nvSpPr>
          <p:spPr>
            <a:xfrm>
              <a:off x="1371600" y="4648320"/>
              <a:ext cx="6324480" cy="887400"/>
            </a:xfrm>
            <a:prstGeom prst="rect">
              <a:avLst/>
            </a:prstGeom>
            <a:solidFill>
              <a:srgbClr val="66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Base Infrastructure / Platfor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371600" y="2286000"/>
              <a:ext cx="2286000" cy="665280"/>
            </a:xfrm>
            <a:prstGeom prst="rect">
              <a:avLst/>
            </a:prstGeom>
            <a:solidFill>
              <a:srgbClr val="d8d8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809880" y="2286000"/>
              <a:ext cx="3886200" cy="665280"/>
            </a:xfrm>
            <a:prstGeom prst="rect">
              <a:avLst/>
            </a:prstGeom>
            <a:solidFill>
              <a:srgbClr val="d8d8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057400" y="3809880"/>
              <a:ext cx="1143000" cy="6098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99"/>
                  </a:solidFill>
                  <a:latin typeface="Arial"/>
                  <a:ea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124080" y="3124080"/>
              <a:ext cx="1143000" cy="6098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99"/>
                  </a:solidFill>
                  <a:latin typeface="Arial"/>
                  <a:ea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886200" y="3809880"/>
              <a:ext cx="1143000" cy="6098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99"/>
                  </a:solidFill>
                  <a:latin typeface="Arial"/>
                  <a:ea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800600" y="3124080"/>
              <a:ext cx="1143000" cy="6098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99"/>
                  </a:solidFill>
                  <a:latin typeface="Arial"/>
                  <a:ea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715000" y="3809880"/>
              <a:ext cx="1143000" cy="6098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99"/>
                  </a:solidFill>
                  <a:latin typeface="Arial"/>
                  <a:ea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477120" y="3124080"/>
              <a:ext cx="1143000" cy="6098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99"/>
                  </a:solidFill>
                  <a:latin typeface="Arial"/>
                  <a:ea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523880" y="3124080"/>
              <a:ext cx="1143000" cy="6098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99"/>
                  </a:solidFill>
                  <a:latin typeface="Arial"/>
                  <a:ea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What should you learn from this class (I hope) ?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does information system architecture evolve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are the components and their functions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each component, what choices do you have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each choice, what are their pros and cons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at is Infrastructure 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frastructure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the structure beneath a structure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blic utilities e.g. water, electricity, telephone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rastructure is usually shared and layer-bas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wer layers are more static and permanent than upper lay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yers are independent in term of lifecycles (plan, build, run, change, exit) and ownershi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ayers of Infrastructu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1220400" y="2081160"/>
            <a:ext cx="6476040" cy="4060440"/>
            <a:chOff x="1220400" y="2081160"/>
            <a:chExt cx="6476040" cy="4060440"/>
          </a:xfrm>
        </p:grpSpPr>
        <p:sp>
          <p:nvSpPr>
            <p:cNvPr id="358" name="_s197637"/>
            <p:cNvSpPr/>
            <p:nvPr/>
          </p:nvSpPr>
          <p:spPr>
            <a:xfrm flipV="1">
              <a:off x="1220400" y="4788360"/>
              <a:ext cx="6476040" cy="1352520"/>
            </a:xfrm>
            <a:custGeom>
              <a:avLst/>
              <a:gdLst>
                <a:gd name="textAreaLeft" fmla="*/ 1124280 w 6476040"/>
                <a:gd name="textAreaRight" fmla="*/ 5351760 w 6476040"/>
                <a:gd name="textAreaTop" fmla="*/ 234720 h 1352520"/>
                <a:gd name="textAreaBottom" fmla="*/ 1117800 h 135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ubl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nsportation, Communication, Water, 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97638"/>
            <p:cNvSpPr/>
            <p:nvPr/>
          </p:nvSpPr>
          <p:spPr>
            <a:xfrm flipV="1">
              <a:off x="2300760" y="3434040"/>
              <a:ext cx="4315320" cy="1355040"/>
            </a:xfrm>
            <a:custGeom>
              <a:avLst/>
              <a:gdLst>
                <a:gd name="textAreaLeft" fmla="*/ 948960 w 4315320"/>
                <a:gd name="textAreaRight" fmla="*/ 3366360 w 4315320"/>
                <a:gd name="textAreaTop" fmla="*/ 297720 h 1355040"/>
                <a:gd name="textAreaBottom" fmla="*/ 1057320 h 135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mpus / Si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rking, Security, 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97639"/>
            <p:cNvSpPr/>
            <p:nvPr/>
          </p:nvSpPr>
          <p:spPr>
            <a:xfrm flipV="1">
              <a:off x="3378600" y="2081160"/>
              <a:ext cx="2160360" cy="1352880"/>
            </a:xfrm>
            <a:custGeom>
              <a:avLst/>
              <a:gdLst>
                <a:gd name="textAreaLeft" fmla="*/ 775080 w 2160360"/>
                <a:gd name="textAreaRight" fmla="*/ 1385280 w 2160360"/>
                <a:gd name="textAreaTop" fmla="*/ 485280 h 1352880"/>
                <a:gd name="textAreaBottom" fmla="*/ 867600 h 135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il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VAC, Elevator, …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at is IT Infrastructure 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Infrastructure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the structure of IT systems that supports IS, which comprise of IT components, the externally visible properties of those components, and the relationships among them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ist of both Hardware and Softwa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ways rely on other infrastructure e.g. Data Center, Building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685800" y="4495680"/>
            <a:ext cx="7924680" cy="167652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" y="3124080"/>
            <a:ext cx="7924680" cy="1371600"/>
          </a:xfrm>
          <a:prstGeom prst="rect">
            <a:avLst/>
          </a:prstGeom>
          <a:solidFill>
            <a:srgbClr val="d8d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ayers of IT Infrastructu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59240" y="3124080"/>
            <a:ext cx="168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59240" y="4495680"/>
            <a:ext cx="168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59240" y="1905120"/>
            <a:ext cx="168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1677600" y="2081160"/>
            <a:ext cx="6476040" cy="4060440"/>
            <a:chOff x="1677600" y="2081160"/>
            <a:chExt cx="6476040" cy="4060440"/>
          </a:xfrm>
        </p:grpSpPr>
        <p:sp>
          <p:nvSpPr>
            <p:cNvPr id="370" name="_s201738"/>
            <p:cNvSpPr/>
            <p:nvPr/>
          </p:nvSpPr>
          <p:spPr>
            <a:xfrm flipV="1">
              <a:off x="1677600" y="4788360"/>
              <a:ext cx="6476040" cy="1352520"/>
            </a:xfrm>
            <a:custGeom>
              <a:avLst/>
              <a:gdLst>
                <a:gd name="textAreaLeft" fmla="*/ 1124280 w 6476040"/>
                <a:gd name="textAreaRight" fmla="*/ 5351760 w 6476040"/>
                <a:gd name="textAreaTop" fmla="*/ 234720 h 1352520"/>
                <a:gd name="textAreaBottom" fmla="*/ 1117800 h 135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 Cen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wer Cond., Rack Space,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re Control, Access Security, et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ublic / Site / Buil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_s201739"/>
            <p:cNvSpPr/>
            <p:nvPr/>
          </p:nvSpPr>
          <p:spPr>
            <a:xfrm flipV="1">
              <a:off x="2757960" y="3434040"/>
              <a:ext cx="4315320" cy="1355040"/>
            </a:xfrm>
            <a:custGeom>
              <a:avLst/>
              <a:gdLst>
                <a:gd name="textAreaLeft" fmla="*/ 948960 w 4315320"/>
                <a:gd name="textAreaRight" fmla="*/ 3366360 w 4315320"/>
                <a:gd name="textAreaTop" fmla="*/ 297720 h 1355040"/>
                <a:gd name="textAreaBottom" fmla="*/ 1057320 h 135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ftwa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S, Net.Stack, Svr-SW, Middlewa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rdwa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ers, Clients, Storage, Net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_s201740"/>
            <p:cNvSpPr/>
            <p:nvPr/>
          </p:nvSpPr>
          <p:spPr>
            <a:xfrm flipV="1">
              <a:off x="3835800" y="2081160"/>
              <a:ext cx="2160360" cy="1352880"/>
            </a:xfrm>
            <a:custGeom>
              <a:avLst/>
              <a:gdLst>
                <a:gd name="textAreaLeft" fmla="*/ 775080 w 2160360"/>
                <a:gd name="textAreaRight" fmla="*/ 1385280 w 2160360"/>
                <a:gd name="textAreaTop" fmla="*/ 485280 h 1352880"/>
                <a:gd name="textAreaBottom" fmla="*/ 867600 h 135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ase Infrastructu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rver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b server, Application server, Database server, 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etwork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net, Intranet, proprietary networks, 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urit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twork security equipment, data encryp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tegrati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ddlewa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gration Mod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formats and delive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ervic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set of physical shared components for multiple applica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sic services: directory service, portal service authentication service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anced services: payment services, middlewar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r-defined services: application specifi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rvices may use servic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ssues of IS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frastructure cho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nsact patter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entralized or distribut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ming languages and develop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net is a global networ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urity becomes very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urity infra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ttacking prevention: firewall, VPN, ID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ured data transfer: encryption algorithms, security protocol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3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3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3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ssues (2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ponsiven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ow long (turn-around time) can a user tolerate 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f we have more users, can the system still respond within a certain period of time 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f we have new services, can the system provide new services while it still meets the responsiveness criteri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ssues (3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age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liability / Availabi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ve Nines = 99.999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us, each host can be down only fo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Year = 365 * 24 * 60 = 525,600 minu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0.001% (acceptable downtime) of 1 Year = 5.256 minu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s includes maintenance period !!!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ow about Six Nines ??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3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ssues (4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intainabi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ow difficult is it for the admins to deploy, maintain, and upgrade the system 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30066"/>
                </a:solidFill>
                <a:latin typeface="Arial"/>
              </a:rPr>
              <a:t>What will NOT be taught in this class ?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to write a Java (or other languages) progra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to create a web pag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tails of network protocols and equipme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umma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actors in IS architectural desig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siness requirements dictates overall IS infrastructur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chnical trends dictates choic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7" name=""/>
          <p:cNvGraphicFramePr/>
          <p:nvPr/>
        </p:nvGraphicFramePr>
        <p:xfrm>
          <a:off x="685800" y="1041480"/>
          <a:ext cx="7238880" cy="489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041480"/>
                    <a:ext cx="7238880" cy="48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ferenc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Farhoom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t 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, “Building a Successful E-Business: The FedEx Story”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mmunication of AC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Vol. 46, No. 4, April 200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 Turba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t 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formation Technology for Management: Transforming Business in the Digital Econom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John Wiley &amp; Sons, Inc., 200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Robertson and V. Sribar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Adaptive Enterpri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Intel Press, January 200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. Tille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t al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“The State of Net-Centric Computing in Early 2001”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Proceeding of the 3rd International Workshop in Net-Centric Compu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May 2001, pp. 57-6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. Tilley, “The Era of Net-Centric Computing”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I Interac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Vol.1, No.1, June 199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. Peacock, “Distributed Architecture Technologies”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EEE IT Profession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May/June 2000, pp. 58-6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at is Information 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that are processed and converted into a form that is useful and meaningful to the decision maker.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= Student 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formation (for teacher) = Score of this stude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ize of Inform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much computer storage is needed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ts, bytes, kilobytes, megabyte, terabyte, petaby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brary of Congress: 3 P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TB for Books (20M book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 TB for Photographs (13M photograph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 TB for Maps (4M ma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0 TB for Movies (500K Mov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,000 TB for CDs (3.5M sound recording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SA Satellite Image DL: collection of 2 TB/d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Most common information today?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recor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ctured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xt, web pages, docu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structured, or semi-structured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ages, video, music, voice,…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ltimedia data, multimedia docu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atial/geographic 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ps, spatial analysis data, census data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at is Information System 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ication or system that provides information to aid organizational decision making.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udent registration syste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assroom reservation syste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amer logging and reporting syste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914400" y="2286000"/>
            <a:ext cx="7111800" cy="2962080"/>
            <a:chOff x="914400" y="2286000"/>
            <a:chExt cx="7111800" cy="2962080"/>
          </a:xfrm>
        </p:grpSpPr>
        <p:sp>
          <p:nvSpPr>
            <p:cNvPr id="163" name=""/>
            <p:cNvSpPr/>
            <p:nvPr/>
          </p:nvSpPr>
          <p:spPr>
            <a:xfrm>
              <a:off x="977400" y="3615480"/>
              <a:ext cx="2700720" cy="1000440"/>
            </a:xfrm>
            <a:prstGeom prst="rect">
              <a:avLst/>
            </a:prstGeom>
            <a:gradFill rotWithShape="0">
              <a:gsLst>
                <a:gs pos="0">
                  <a:srgbClr val="0461d2"/>
                </a:gs>
                <a:gs pos="100000">
                  <a:srgbClr val="4589d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indent="114480">
                <a:buClr>
                  <a:srgbClr val="c70b1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Hardwa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indent="114480">
                <a:buClr>
                  <a:srgbClr val="c70b1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oftwa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indent="114480">
                <a:buClr>
                  <a:srgbClr val="c70b1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Databas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indent="114480">
                <a:buClr>
                  <a:srgbClr val="c70b1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Network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indent="114480">
                <a:buClr>
                  <a:srgbClr val="c70b1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Other related compon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977400" y="3365640"/>
              <a:ext cx="2700720" cy="242280"/>
            </a:xfrm>
            <a:prstGeom prst="rect">
              <a:avLst/>
            </a:prstGeom>
            <a:solidFill>
              <a:srgbClr val="c70b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914400" y="3366360"/>
              <a:ext cx="2853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NFORMATION TECHNOLOGI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238280" y="3681360"/>
              <a:ext cx="1630440" cy="447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FORM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395760" y="4800600"/>
              <a:ext cx="1630440" cy="447480"/>
            </a:xfrm>
            <a:prstGeom prst="rect">
              <a:avLst/>
            </a:prstGeom>
            <a:gradFill rotWithShape="0">
              <a:gsLst>
                <a:gs pos="0">
                  <a:srgbClr val="355b35"/>
                </a:gs>
                <a:gs pos="100000">
                  <a:srgbClr val="6985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Customer Servi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395760" y="3971160"/>
              <a:ext cx="1630440" cy="447480"/>
            </a:xfrm>
            <a:prstGeom prst="rect">
              <a:avLst/>
            </a:prstGeom>
            <a:gradFill rotWithShape="0">
              <a:gsLst>
                <a:gs pos="0">
                  <a:srgbClr val="355b35"/>
                </a:gs>
                <a:gs pos="100000">
                  <a:srgbClr val="6985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arketing Syste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395760" y="3115080"/>
              <a:ext cx="1630440" cy="447840"/>
            </a:xfrm>
            <a:prstGeom prst="rect">
              <a:avLst/>
            </a:prstGeom>
            <a:gradFill rotWithShape="0">
              <a:gsLst>
                <a:gs pos="0">
                  <a:srgbClr val="355b35"/>
                </a:gs>
                <a:gs pos="100000">
                  <a:srgbClr val="6985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nventory Syste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95760" y="2286000"/>
              <a:ext cx="1630440" cy="447480"/>
            </a:xfrm>
            <a:prstGeom prst="rect">
              <a:avLst/>
            </a:prstGeom>
            <a:gradFill rotWithShape="0">
              <a:gsLst>
                <a:gs pos="0">
                  <a:srgbClr val="355b35"/>
                </a:gs>
                <a:gs pos="100000">
                  <a:srgbClr val="6985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ayroll Syste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149160" y="2443680"/>
              <a:ext cx="0" cy="264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49160" y="2443680"/>
              <a:ext cx="23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149160" y="3365640"/>
              <a:ext cx="23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149160" y="4181760"/>
              <a:ext cx="23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149160" y="5090400"/>
              <a:ext cx="23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918400" y="3866040"/>
              <a:ext cx="23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11240" y="3866040"/>
              <a:ext cx="477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S vs. I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3T07:23:22Z</dcterms:created>
  <dc:creator>Natawut</dc:creator>
  <dc:description/>
  <dc:language>en-US</dc:language>
  <cp:lastModifiedBy>iLLuSioN</cp:lastModifiedBy>
  <dcterms:modified xsi:type="dcterms:W3CDTF">2005-08-21T05:04:55Z</dcterms:modified>
  <cp:revision>40</cp:revision>
  <dc:subject/>
  <dc:title>Net-Centric Computing Overview</dc:title>
</cp:coreProperties>
</file>