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EB6-5E7B-4D26-9093-69ABEE6F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6CA-FF5A-4A81-BB39-173C7F1E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89C-5F57-4D82-8D0B-E6952BC6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5BC-E6A8-48EF-9D34-2DBB26D9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7795-3F99-447F-A773-11C5D8AC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714A-24B2-4B9B-9389-3BFBFDFE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361-BEA5-461F-99BA-49C96A76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D562-2166-47DA-9456-A55F8C4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8B43-D5D4-442A-922A-5311F994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3B82-BFDE-409E-A70E-0F36C7CA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600F-F924-4D03-9000-CA6D1DA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88E-20AE-4EA9-8ECE-3841608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0A94-3F05-4AED-BADE-326C8BA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A97E-F27A-4860-B75E-B68D9DBE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7990-80E5-407F-ACB9-A9B9307D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BF84-29B9-43FF-A9D4-79338CF3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980D-6C6A-4B32-9FC4-BFC660B0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E93-66D6-4278-BDD0-B2AD46E4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CB4-C8CC-4111-B468-C66BA2EB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2CD-1A53-4F06-A795-A3C675C8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DEF-5F80-4097-B63D-7B903401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C3B-B3A6-4F8B-9F73-F6BD585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CF9-5548-4540-A4BB-63AA6AE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E34-03EB-41E5-A277-07489733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3590-3497-4485-9B10-41CD85F46D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26DF-B563-4E5D-8AF9-B959F2F7E6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  <a:ea typeface="Angsana New"/>
              </a:rPr>
              <a:t>Flynn’s Taxonomy</a:t>
            </a:r>
            <a:br>
              <a:rPr sz="2800"/>
            </a:b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2110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732</a:t>
            </a:r>
            <a:r>
              <a:rPr b="1" lang="th-TH" sz="2800" spc="-1" strike="noStrike">
                <a:solidFill>
                  <a:srgbClr val="330066"/>
                </a:solidFill>
                <a:latin typeface="Arial"/>
              </a:rPr>
              <a:t> Parallel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ngsana New"/>
              </a:rPr>
              <a:t>Comput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Veera Muangsin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SE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D Characterist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419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instruction: All  nodes execute the same instruction at any given clock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data: Each  node can operate on a different data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instruction dispat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blems with a high degree of regularity, such as image process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lockstep) – ILP/Fine-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varieties: Processor Arrays and Vector Pip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SIMD"/>
          <p:cNvPicPr/>
          <p:nvPr/>
        </p:nvPicPr>
        <p:blipFill>
          <a:blip r:embed="rId1"/>
          <a:stretch/>
        </p:blipFill>
        <p:spPr>
          <a:xfrm>
            <a:off x="4800600" y="2743200"/>
            <a:ext cx="40384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MIS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No one agrees if there is such a MIS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Some say systolic array and pipeline processor 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434340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487692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3202560" y="43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434340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8769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>
            <a:off x="5412240" y="43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434340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487692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>
            <a:off x="7622280" y="43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487692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>
            <a:off x="992880" y="43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286000" y="53337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>
            <a:off x="1754280" y="54100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572000" y="53337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1" name=""/>
          <p:cNvSpPr/>
          <p:nvPr/>
        </p:nvSpPr>
        <p:spPr>
          <a:xfrm>
            <a:off x="4040280" y="54100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705720" y="53337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3" name=""/>
          <p:cNvSpPr/>
          <p:nvPr/>
        </p:nvSpPr>
        <p:spPr>
          <a:xfrm>
            <a:off x="6174000" y="54100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MIM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Multiprocessor, each executes its own instruction/data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May communicate with one another once in a w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Arial"/>
              </a:rPr>
              <a:t>IBM SP, SGI Origin, HP Convex, Cray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198108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1981080"/>
            <a:ext cx="91440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514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9" name=""/>
          <p:cNvSpPr/>
          <p:nvPr/>
        </p:nvSpPr>
        <p:spPr>
          <a:xfrm>
            <a:off x="6632280" y="19810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, 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312408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3124080"/>
            <a:ext cx="91440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2" name=""/>
          <p:cNvSpPr/>
          <p:nvPr/>
        </p:nvSpPr>
        <p:spPr>
          <a:xfrm>
            <a:off x="6400800" y="3657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3" name=""/>
          <p:cNvSpPr/>
          <p:nvPr/>
        </p:nvSpPr>
        <p:spPr>
          <a:xfrm>
            <a:off x="6632280" y="31240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, 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426708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4267080"/>
            <a:ext cx="91440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"/>
          <p:cNvSpPr/>
          <p:nvPr/>
        </p:nvSpPr>
        <p:spPr>
          <a:xfrm>
            <a:off x="6632280" y="42670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, 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541008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5410080"/>
            <a:ext cx="91440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5943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1" name=""/>
          <p:cNvSpPr/>
          <p:nvPr/>
        </p:nvSpPr>
        <p:spPr>
          <a:xfrm>
            <a:off x="6632280" y="54100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, 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1981080"/>
            <a:ext cx="457200" cy="4419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029200" y="2514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02920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0292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2920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MD Characterist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419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struction: every processor may be executing a different instruction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Data: every processor may be working with a different data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can be synchronous or asynchron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MIMD"/>
          <p:cNvPicPr/>
          <p:nvPr/>
        </p:nvPicPr>
        <p:blipFill>
          <a:blip r:embed="rId1"/>
          <a:stretch/>
        </p:blipFill>
        <p:spPr>
          <a:xfrm>
            <a:off x="4876920" y="2819520"/>
            <a:ext cx="40384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M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MD is good, but too complic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Program Multipl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MIMD and SIM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odes run the same program (SIM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mpler to write and understa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odes runs at its own pace (MIM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cess-level parallelism, medium/coarse gra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dispatc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synchro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cation become very importa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Architecture &amp;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9800" y="1719360"/>
            <a:ext cx="2581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905120"/>
            <a:ext cx="6098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100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Network Interface Circui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Processor +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971800"/>
            <a:ext cx="60984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96252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952880"/>
            <a:ext cx="60984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05120"/>
            <a:ext cx="609480" cy="685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NIC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971800"/>
            <a:ext cx="6094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P/C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DIR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PC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43828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/C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438280"/>
            <a:ext cx="91440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495680"/>
            <a:ext cx="9144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4495680"/>
            <a:ext cx="91440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NIC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50292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3962520"/>
            <a:ext cx="358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39625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9625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4290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2920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Flynn’s Taxonom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Very influential paper in 196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Two most important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Number of instruction strea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Number of data el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669999"/>
                </a:solidFill>
                <a:latin typeface="Arial"/>
              </a:rPr>
              <a:t>SISD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(Single Instruction, Single Dat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669999"/>
                </a:solidFill>
                <a:latin typeface="Arial"/>
              </a:rPr>
              <a:t>SIMD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(Single Instruction, Multiple Dat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669999"/>
                </a:solidFill>
                <a:latin typeface="Arial"/>
              </a:rPr>
              <a:t>MISD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(Single Instruction, Single Dat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669999"/>
                </a:solidFill>
                <a:latin typeface="Arial"/>
              </a:rPr>
              <a:t>MIMD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(Multiple Instruction, Multiple Dat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SIS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One instruction stream and one data stream - from memory to process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von Neumann’s archite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P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3048120"/>
            <a:ext cx="914400" cy="990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048120"/>
            <a:ext cx="914400" cy="990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358128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4194000" y="30481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, 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on Neumann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John von Neumann (Hungarian) 40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ed-program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U executes a stored program that specifies a sequence of read and write operations on the memor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t of traffic between CPU and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ynn Bottlene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Von Neumann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is used to store both program and data instr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structions are coded data which tell the computer to do some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simply information to be used by the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ntral processing unit (CPU) gets instructions and/or data from memory, decodes the instructions and th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quenti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s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3546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SISD"/>
          <p:cNvPicPr/>
          <p:nvPr/>
        </p:nvPicPr>
        <p:blipFill>
          <a:blip r:embed="rId1"/>
          <a:stretch/>
        </p:blipFill>
        <p:spPr>
          <a:xfrm>
            <a:off x="6629400" y="2743200"/>
            <a:ext cx="1790640" cy="21337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ngsana New"/>
              </a:rPr>
              <a:t>SISD Characterist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562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erial (non-parallel) comput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instruction: only one instruction stream acted on by the CPU during any one clock cyc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data: only one data stream as input during any one clock cyc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SIM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One control unit tells processing elements to compute (at the same tim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TMC/CM-1, Maspar MP-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289548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2895480"/>
            <a:ext cx="91440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34290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579348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3505320"/>
            <a:ext cx="914400" cy="990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3505320"/>
            <a:ext cx="914400" cy="990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4038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6098040" y="350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411480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4114800"/>
            <a:ext cx="91440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464832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6479280" y="4114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457200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4572000"/>
            <a:ext cx="91440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>
            <a:off x="6553080" y="51055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6860160" y="457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657600"/>
            <a:ext cx="914400" cy="99072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133720" y="3428640"/>
            <a:ext cx="24382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19112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4267080"/>
            <a:ext cx="31240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4419720"/>
            <a:ext cx="3504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1" name=""/>
          <p:cNvSpPr/>
          <p:nvPr/>
        </p:nvSpPr>
        <p:spPr>
          <a:xfrm>
            <a:off x="3125880" y="3200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6:10:22Z</dcterms:created>
  <dc:creator>Natawut Nupairoj</dc:creator>
  <dc:description/>
  <dc:language>en-US</dc:language>
  <cp:lastModifiedBy>Natawut Nupairoj</cp:lastModifiedBy>
  <dcterms:modified xsi:type="dcterms:W3CDTF">2004-06-28T03:12:09Z</dcterms:modified>
  <cp:revision>21</cp:revision>
  <dc:subject/>
  <dc:title>2110412 Parallel System</dc:title>
</cp:coreProperties>
</file>