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6E2-9802-4BA1-8206-F64666C6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690-C3F5-4974-B447-8DB83531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8F3-AEE5-4C2D-8DBB-0509ABFB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ABC-7846-4A98-8F5D-B5700B41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F770-CBAF-4CB6-BB3D-DBA4A484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BA72-F304-4C54-9BF2-40EF83B2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D3A5-1C15-40C9-88C9-DA5DE2A0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0D89-6262-4D08-A2CA-1A20503C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A111-36BA-4392-86C9-02BD37E4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F208-C5D0-4C5A-937E-F6CC52F3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0507-46CA-40B9-A0C8-EE34ECAA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1FB-66FC-48E3-BB2C-EDC4E1C6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2F66-891E-4C21-B958-2FC47B1E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2B98-7DF7-4A34-AFC6-E1136CB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9B04-383D-43ED-9DBE-60B67DD4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418B-F734-44F2-BAAF-F1D23AA3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9C5E-AC60-4D0F-BE34-C237CB27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BF0-68EB-424E-87CE-6C1B9177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98C-16A8-45B5-8D09-4E018D4A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1B2-BC5E-4F7F-8C0A-4667FAD7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60A-B71B-4118-81DF-D3E687B7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ED4-AD11-4A79-BAD2-12087901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DC1-CE1E-4095-BDE0-456EFF9A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E52-E019-4A7F-96A2-726686F0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E4E6-B9DD-4F52-9FB8-B9F223F72D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CE64-F2C5-4C4A-8446-9247581CAE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Introduction to Parallel Architecture</a:t>
            </a:r>
            <a:br>
              <a:rPr sz="2800"/>
            </a:br>
            <a:r>
              <a:rPr b="1" lang="th-TH" sz="2800" spc="-1" strike="noStrike">
                <a:solidFill>
                  <a:srgbClr val="330066"/>
                </a:solidFill>
                <a:latin typeface="Arial"/>
              </a:rPr>
              <a:t>2110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732</a:t>
            </a:r>
            <a:r>
              <a:rPr b="1" lang="th-TH" sz="2800" spc="-1" strike="noStrike">
                <a:solidFill>
                  <a:srgbClr val="330066"/>
                </a:solidFill>
                <a:latin typeface="Arial"/>
              </a:rPr>
              <a:t> Parallel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Comput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Veera Muangsin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SE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External Sli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Top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Number of systems by application ar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How Fast is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 TFLOPS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Faster than a bul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bullet travels 1 foot - complete over 1.8 billion calc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Faster than the blink of an ey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one eye blink - complete over 111 billion calc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listed Monst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E-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versity of Tokyo, Jap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4 T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lecular Dynamics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ken, Jap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8 T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ct 1 PFLOPS in 200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ill Not Enoug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otive Development – 100 T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Vision Simulation – 100 T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erodynamic Analyses – 1 P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er Optics – 10 P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lecular Dynamics in Biology – 20 P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erodynamic Design – 1 E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ational Cosmology – 10 E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bulence in Physics – 100 E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ational Chemistry – 1 Z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What is Parallel System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669999"/>
                </a:solidFill>
                <a:latin typeface="Arial"/>
              </a:rPr>
              <a:t>“</a:t>
            </a:r>
            <a:r>
              <a:rPr b="0" lang="th-TH" sz="2600" spc="-1" strike="noStrike">
                <a:solidFill>
                  <a:srgbClr val="669999"/>
                </a:solidFill>
                <a:latin typeface="Arial"/>
              </a:rPr>
              <a:t>A collection of processing elements that communicate and cooperate to solve large problems fast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3960" y="167652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99ff"/>
                </a:solidFill>
                <a:latin typeface="Times New Roman"/>
              </a:rPr>
              <a:t>“</a:t>
            </a:r>
            <a:r>
              <a:rPr b="1" lang="th-TH" sz="2400" spc="-1" strike="noStrike">
                <a:solidFill>
                  <a:srgbClr val="6699ff"/>
                </a:solidFill>
                <a:latin typeface="Times New Roman"/>
              </a:rPr>
              <a:t>Two heads are better than one.”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Parallel vs. Distributed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Definition of Distributed Syst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A group of </a:t>
            </a:r>
            <a:r>
              <a:rPr b="0" i="1" lang="th-TH" sz="2600" spc="-1" strike="noStrike">
                <a:solidFill>
                  <a:srgbClr val="669999"/>
                </a:solidFill>
                <a:latin typeface="Arial"/>
              </a:rPr>
              <a:t>autonomous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0" i="1" lang="th-TH" sz="2600" spc="-1" strike="noStrike">
                <a:solidFill>
                  <a:srgbClr val="669999"/>
                </a:solidFill>
                <a:latin typeface="Arial"/>
              </a:rPr>
              <a:t>cooperative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 computers, linked together as a </a:t>
            </a:r>
            <a:r>
              <a:rPr b="0" i="1" lang="th-TH" sz="2600" spc="-1" strike="noStrike">
                <a:solidFill>
                  <a:srgbClr val="669999"/>
                </a:solidFill>
                <a:latin typeface="Arial"/>
              </a:rPr>
              <a:t>network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, with software that gives users an impression of an </a:t>
            </a:r>
            <a:r>
              <a:rPr b="0" i="1" lang="th-TH" sz="2600" spc="-1" strike="noStrike">
                <a:solidFill>
                  <a:srgbClr val="669999"/>
                </a:solidFill>
                <a:latin typeface="Arial"/>
              </a:rPr>
              <a:t>integrated service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Parallel System Concep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669999"/>
                </a:solidFill>
                <a:latin typeface="Arial"/>
              </a:rPr>
              <a:t>“</a:t>
            </a:r>
            <a:r>
              <a:rPr b="0" lang="th-TH" sz="2200" spc="-1" strike="noStrike">
                <a:solidFill>
                  <a:srgbClr val="669999"/>
                </a:solidFill>
                <a:latin typeface="Arial"/>
              </a:rPr>
              <a:t>A collection of processing elements that communicate</a:t>
            </a:r>
            <a:br>
              <a:rPr sz="2200"/>
            </a:br>
            <a:r>
              <a:rPr b="0" lang="th-TH" sz="2200" spc="-1" strike="noStrike">
                <a:solidFill>
                  <a:srgbClr val="669999"/>
                </a:solidFill>
                <a:latin typeface="Arial"/>
              </a:rPr>
              <a:t>and cooperate to solve large problems fas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828800"/>
            <a:ext cx="2286000" cy="762120"/>
          </a:xfrm>
          <a:prstGeom prst="wedgeRoundRectCallout">
            <a:avLst>
              <a:gd name="adj1" fmla="val -40833"/>
              <a:gd name="adj2" fmla="val 76875"/>
              <a:gd name="adj3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048120"/>
            <a:ext cx="6629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2971800"/>
            <a:ext cx="76212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048120"/>
            <a:ext cx="266724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057400"/>
            <a:ext cx="3429000" cy="762120"/>
          </a:xfrm>
          <a:prstGeom prst="wedgeRoundRectCallout">
            <a:avLst>
              <a:gd name="adj1" fmla="val 49722"/>
              <a:gd name="adj2" fmla="val 87500"/>
              <a:gd name="adj3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Problem &amp; Algorithm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3657600"/>
            <a:ext cx="2286000" cy="762120"/>
          </a:xfrm>
          <a:prstGeom prst="wedgeRoundRectCallout">
            <a:avLst>
              <a:gd name="adj1" fmla="val -40416"/>
              <a:gd name="adj2" fmla="val -89583"/>
              <a:gd name="adj3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How many processor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1, 2, 4, 64, 1024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Biggest is 9632 process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How do they connect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Bus, ring, mesh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How do they organize the resource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Memory - shared, unshare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Disks - central or distribute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Problem and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Solving a problem with 1,000 processors is not eas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Should all 1,000 cpus compute the same thing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How do they split the problem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What is the algorithm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How do they exchange the data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1000-cpu vs 1-cp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Can solve faster 1000 time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Can solve a problem with 1000 times bigger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1,000 people talk at the sam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Confusing -&gt; must organize = OVERHEAD 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A.k.a. cost, latency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Why Parallel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Computational-Intensive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Weather forec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Traffic sim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Fluid dynam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Image Proc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I/O-Intensive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Data mi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Multimedia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Parallel in the Real Wor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Top500 SuperComput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Earth Simulator at Earth Simulator Center,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ngsana New"/>
              </a:rPr>
              <a:t>5120 CP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ngsana New"/>
              </a:rPr>
              <a:t>35.86 / 40.96 TFLOP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IBM-ASCI White at Lawrence Livermore La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ngsana New"/>
              </a:rPr>
              <a:t>8192 x HP AlphaServer 1.25 GHz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3.88 /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ngsana New"/>
              </a:rPr>
              <a:t>20.48 </a:t>
            </a:r>
            <a:r>
              <a:rPr b="0" lang="th-TH" sz="2300" spc="-1" strike="noStrike">
                <a:solidFill>
                  <a:srgbClr val="000000"/>
                </a:solidFill>
                <a:latin typeface="Arial"/>
              </a:rPr>
              <a:t>TFLOP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How fast for Pentiu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4 3.06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GHz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.6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 G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6:10:22Z</dcterms:created>
  <dc:creator>Natawut Nupairoj</dc:creator>
  <dc:description/>
  <dc:language>en-US</dc:language>
  <cp:lastModifiedBy>Natawut Nupairoj</cp:lastModifiedBy>
  <dcterms:modified xsi:type="dcterms:W3CDTF">2004-06-27T17:11:02Z</dcterms:modified>
  <cp:revision>15</cp:revision>
  <dc:subject/>
  <dc:title>2110412 Parallel System</dc:title>
</cp:coreProperties>
</file>