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F17-403F-456A-AE5C-C4BA42B8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6A5-2AD4-44BB-9811-E7FFF659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C39-6374-4DAE-A839-858368BE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B89-8EF1-4095-957A-F56383F3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ECFF-C98D-484F-A6B5-11B8B5AC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E2E0-469F-470B-84BC-F5BE40E8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2BC7-6DB2-4016-BE64-E215B8B9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F420-182D-422E-B5E3-BC14DB59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362A-B6A3-4392-AB64-14A9A995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F3D5-2BAB-4F7F-9DE9-907B8020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7906-F7F6-4679-B5D9-7B411214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BCD-45F9-4A88-A735-974D07FC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6CF8-6E57-456F-9C5A-0E183884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0D54-6E09-4D7D-A459-B8453CC6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A3FA-9DF8-4596-BE87-425B1CC0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497A-3B60-4723-B747-40900827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8F05-EC0B-4F4A-AC58-4E0F9B9E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392-ECEE-4D0B-8175-725B96F6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BC7-E85E-4F00-A636-0C640775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A89-E5F5-4145-8EE6-793EFD25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4D8-C9C2-4C0E-BF5A-E75A1D2B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111-58FC-4F34-9277-B695F954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3BA-5CDB-41A1-8258-F2A4C42E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196-774F-4D27-B38C-361974E0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E1FE-3490-4BED-89D1-0AE74DC0AB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0F34-84F0-4E2F-BB1F-5A6DEC2E6F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  <a:ea typeface="Angsana New"/>
              </a:rPr>
              <a:t>Parallel Architecture</a:t>
            </a:r>
            <a:br>
              <a:rPr sz="2800"/>
            </a:br>
            <a:r>
              <a:rPr b="1" lang="th-TH" sz="2800" spc="-1" strike="noStrike">
                <a:solidFill>
                  <a:srgbClr val="330066"/>
                </a:solidFill>
                <a:latin typeface="Arial"/>
              </a:rPr>
              <a:t>2110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732</a:t>
            </a:r>
            <a:r>
              <a:rPr b="1" lang="th-TH" sz="2800" spc="-1" strike="noStrike">
                <a:solidFill>
                  <a:srgbClr val="330066"/>
                </a:solidFill>
                <a:latin typeface="Arial"/>
              </a:rPr>
              <a:t> Parallel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Comput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Veera Muangsin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SE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DS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Opposite of SM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Physically distribu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Logically sha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300" spc="-1" strike="noStrike">
                <a:solidFill>
                  <a:srgbClr val="000000"/>
                </a:solidFill>
                <a:latin typeface="Arial"/>
              </a:rPr>
              <a:t>Special hardware or software (DIR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Fairly scal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Simple to progr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DS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Bottlene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DASH, Cray T3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, Cray T3E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Cray X1 (Vector in MPP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ray X1 (up to 4,096 CPU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25600" y="1719360"/>
            <a:ext cx="62913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Massively Parallel Process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981080" y="1905120"/>
            <a:ext cx="1447920" cy="3657600"/>
            <a:chOff x="1981080" y="1905120"/>
            <a:chExt cx="1447920" cy="3657600"/>
          </a:xfrm>
        </p:grpSpPr>
        <p:sp>
          <p:nvSpPr>
            <p:cNvPr id="230" name=""/>
            <p:cNvSpPr/>
            <p:nvPr/>
          </p:nvSpPr>
          <p:spPr>
            <a:xfrm>
              <a:off x="2514600" y="1905120"/>
              <a:ext cx="914400" cy="99036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P/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14600" y="2971800"/>
              <a:ext cx="91440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14600" y="4038480"/>
              <a:ext cx="914400" cy="990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NI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50292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81080" y="243828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81080" y="350532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81080" y="457200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81080" y="2286000"/>
              <a:ext cx="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733920" y="1905120"/>
            <a:ext cx="1447200" cy="3657600"/>
            <a:chOff x="3733920" y="1905120"/>
            <a:chExt cx="1447200" cy="3657600"/>
          </a:xfrm>
        </p:grpSpPr>
        <p:sp>
          <p:nvSpPr>
            <p:cNvPr id="239" name=""/>
            <p:cNvSpPr/>
            <p:nvPr/>
          </p:nvSpPr>
          <p:spPr>
            <a:xfrm>
              <a:off x="4267080" y="1905120"/>
              <a:ext cx="914040" cy="99036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P/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67080" y="2971800"/>
              <a:ext cx="91404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67080" y="4038480"/>
              <a:ext cx="914040" cy="990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NI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7960" y="50292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33920" y="24382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33920" y="35053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33920" y="457200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33920" y="2286000"/>
              <a:ext cx="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562720" y="1905120"/>
            <a:ext cx="1447200" cy="3657600"/>
            <a:chOff x="5562720" y="1905120"/>
            <a:chExt cx="1447200" cy="3657600"/>
          </a:xfrm>
        </p:grpSpPr>
        <p:sp>
          <p:nvSpPr>
            <p:cNvPr id="248" name=""/>
            <p:cNvSpPr/>
            <p:nvPr/>
          </p:nvSpPr>
          <p:spPr>
            <a:xfrm>
              <a:off x="6095880" y="1905120"/>
              <a:ext cx="914040" cy="99036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P/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5880" y="2971800"/>
              <a:ext cx="91404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5880" y="4038480"/>
              <a:ext cx="914040" cy="990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NI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6760" y="50292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62720" y="24382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62720" y="35053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62720" y="457200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2720" y="2286000"/>
              <a:ext cx="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133720" y="5562720"/>
            <a:ext cx="495288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nterconnection Network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1828800"/>
            <a:ext cx="1981080" cy="3505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"/>
          <p:cNvSpPr/>
          <p:nvPr/>
        </p:nvSpPr>
        <p:spPr>
          <a:xfrm>
            <a:off x="382680" y="51055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295280" y="5028840"/>
            <a:ext cx="685800" cy="228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MP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Hundreds/thousands of no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Custom-designed 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Tightly coupl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The most powerful, very high-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Extremely scal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MP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Very expens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Require lots of c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C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Blue Ge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ndia’s ASCI TFLO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52360" y="2228760"/>
            <a:ext cx="6837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NOWs / COWs</a:t>
            </a:r>
            <a:r>
              <a:rPr b="1" lang="th-TH" sz="3900" spc="-1" strike="noStrike">
                <a:solidFill>
                  <a:srgbClr val="330066"/>
                </a:solidFill>
                <a:latin typeface="Arial"/>
                <a:ea typeface="Angsana New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Angsana New"/>
              </a:rPr>
              <a:t>/ Clus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ngsana New"/>
              </a:rPr>
              <a:t>COTS – Commercial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Off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ngsana New"/>
              </a:rPr>
              <a:t>T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he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helf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ngsana New"/>
              </a:rPr>
              <a:t>te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PCs connecting through high-speed net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Node = Processor + Memory + Di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Linux + Fast Ethernet swit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Loosely coupl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NOW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Cheap, cheap, chea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Scalable, upgrad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Not powerfu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Slightly difficult to man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High synchronization overhe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NOW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IBM/SP, Beowulf, Berkeley NOW, Digital TruClus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Terascale Cluster (1,100 Mac G5)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Tungsten (1,250 Dell PowerEdge 1750 and Myrinet-200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Parallel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SMP-</a:t>
            </a:r>
            <a:r>
              <a:rPr b="0" lang="th-TH" sz="3000" spc="-1" strike="noStrike">
                <a:solidFill>
                  <a:srgbClr val="333399"/>
                </a:solidFill>
                <a:latin typeface="Arial"/>
              </a:rPr>
              <a:t>Symmetric Multiprocess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PVP-</a:t>
            </a:r>
            <a:r>
              <a:rPr b="0" lang="th-TH" sz="3000" spc="-1" strike="noStrike">
                <a:solidFill>
                  <a:srgbClr val="333399"/>
                </a:solidFill>
                <a:latin typeface="Arial"/>
              </a:rPr>
              <a:t>Parallel Vector Process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MPP-</a:t>
            </a:r>
            <a:r>
              <a:rPr b="0" lang="th-TH" sz="3000" spc="-1" strike="noStrike">
                <a:solidFill>
                  <a:srgbClr val="333399"/>
                </a:solidFill>
                <a:latin typeface="Arial"/>
              </a:rPr>
              <a:t>Massively Parallel Process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DSM-</a:t>
            </a:r>
            <a:r>
              <a:rPr b="0" lang="th-TH" sz="3000" spc="-1" strike="noStrike">
                <a:solidFill>
                  <a:srgbClr val="333399"/>
                </a:solidFill>
                <a:latin typeface="Arial"/>
              </a:rPr>
              <a:t>Distributed Shared Mem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NOWs/C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Network of Workst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Cluster of Workst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7400" y="3962520"/>
            <a:ext cx="495288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Bus or Crossba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Symmetric Multi-Process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057400" y="2438280"/>
            <a:ext cx="914400" cy="1524240"/>
            <a:chOff x="2057400" y="2438280"/>
            <a:chExt cx="914400" cy="1524240"/>
          </a:xfrm>
        </p:grpSpPr>
        <p:sp>
          <p:nvSpPr>
            <p:cNvPr id="156" name=""/>
            <p:cNvSpPr/>
            <p:nvPr/>
          </p:nvSpPr>
          <p:spPr>
            <a:xfrm>
              <a:off x="2057400" y="2438280"/>
              <a:ext cx="914400" cy="99072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P/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1460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800600" y="2438280"/>
            <a:ext cx="914400" cy="1524240"/>
            <a:chOff x="4800600" y="2438280"/>
            <a:chExt cx="914400" cy="1524240"/>
          </a:xfrm>
        </p:grpSpPr>
        <p:sp>
          <p:nvSpPr>
            <p:cNvPr id="159" name=""/>
            <p:cNvSpPr/>
            <p:nvPr/>
          </p:nvSpPr>
          <p:spPr>
            <a:xfrm>
              <a:off x="4800600" y="2438280"/>
              <a:ext cx="914400" cy="99072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P/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80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29000" y="2438280"/>
            <a:ext cx="914400" cy="1524240"/>
            <a:chOff x="3429000" y="2438280"/>
            <a:chExt cx="914400" cy="1524240"/>
          </a:xfrm>
        </p:grpSpPr>
        <p:sp>
          <p:nvSpPr>
            <p:cNvPr id="162" name=""/>
            <p:cNvSpPr/>
            <p:nvPr/>
          </p:nvSpPr>
          <p:spPr>
            <a:xfrm>
              <a:off x="3429000" y="2438280"/>
              <a:ext cx="914400" cy="99072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P/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5880" y="2438280"/>
            <a:ext cx="914400" cy="1524240"/>
            <a:chOff x="6095880" y="2438280"/>
            <a:chExt cx="914400" cy="1524240"/>
          </a:xfrm>
        </p:grpSpPr>
        <p:sp>
          <p:nvSpPr>
            <p:cNvPr id="165" name=""/>
            <p:cNvSpPr/>
            <p:nvPr/>
          </p:nvSpPr>
          <p:spPr>
            <a:xfrm>
              <a:off x="6095880" y="2438280"/>
              <a:ext cx="914400" cy="99072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P/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057400" y="4572000"/>
            <a:ext cx="914400" cy="1523880"/>
            <a:chOff x="2057400" y="4572000"/>
            <a:chExt cx="914400" cy="1523880"/>
          </a:xfrm>
        </p:grpSpPr>
        <p:sp>
          <p:nvSpPr>
            <p:cNvPr id="168" name=""/>
            <p:cNvSpPr/>
            <p:nvPr/>
          </p:nvSpPr>
          <p:spPr>
            <a:xfrm>
              <a:off x="2057400" y="5105160"/>
              <a:ext cx="91440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4600" y="457200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429000" y="4572000"/>
            <a:ext cx="914400" cy="1523880"/>
            <a:chOff x="3429000" y="4572000"/>
            <a:chExt cx="914400" cy="1523880"/>
          </a:xfrm>
        </p:grpSpPr>
        <p:sp>
          <p:nvSpPr>
            <p:cNvPr id="171" name=""/>
            <p:cNvSpPr/>
            <p:nvPr/>
          </p:nvSpPr>
          <p:spPr>
            <a:xfrm>
              <a:off x="3429000" y="5105160"/>
              <a:ext cx="91440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86200" y="457200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800600" y="4572000"/>
            <a:ext cx="914400" cy="1523880"/>
            <a:chOff x="4800600" y="4572000"/>
            <a:chExt cx="914400" cy="1523880"/>
          </a:xfrm>
        </p:grpSpPr>
        <p:sp>
          <p:nvSpPr>
            <p:cNvPr id="174" name=""/>
            <p:cNvSpPr/>
            <p:nvPr/>
          </p:nvSpPr>
          <p:spPr>
            <a:xfrm>
              <a:off x="4800600" y="5105160"/>
              <a:ext cx="91440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57800" y="457200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5880" y="4572000"/>
            <a:ext cx="914400" cy="1523880"/>
            <a:chOff x="6095880" y="4572000"/>
            <a:chExt cx="914400" cy="1523880"/>
          </a:xfrm>
        </p:grpSpPr>
        <p:sp>
          <p:nvSpPr>
            <p:cNvPr id="177" name=""/>
            <p:cNvSpPr/>
            <p:nvPr/>
          </p:nvSpPr>
          <p:spPr>
            <a:xfrm>
              <a:off x="6095880" y="5105160"/>
              <a:ext cx="91440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57200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43000" y="4952880"/>
            <a:ext cx="6858000" cy="1371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SM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Simple and low c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Low synchronization overhe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Do not scale.  Usually from 2 (2-way) to 64 processors (64-wa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PCs, IBM R50, SGI Power Challenge, Alpha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92920" cy="4233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ll’s Intel Xeon SM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n Fire E25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57320" y="2533680"/>
            <a:ext cx="5229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n Fire E25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57320" y="2133720"/>
            <a:ext cx="5229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Parallel Vector Process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Similar to SMP but with vector CP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High performance, suitable for scientific compu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Weak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Expensive, proprieta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Cray C-90, T-90, NEC SX-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Earth Simulator (Vector in MPP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Distributed Shared Mem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81080" y="1905120"/>
            <a:ext cx="1447920" cy="3657600"/>
            <a:chOff x="1981080" y="1905120"/>
            <a:chExt cx="1447920" cy="3657600"/>
          </a:xfrm>
        </p:grpSpPr>
        <p:sp>
          <p:nvSpPr>
            <p:cNvPr id="192" name=""/>
            <p:cNvSpPr/>
            <p:nvPr/>
          </p:nvSpPr>
          <p:spPr>
            <a:xfrm>
              <a:off x="2514600" y="1905120"/>
              <a:ext cx="914400" cy="99036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P/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14600" y="2971800"/>
              <a:ext cx="91440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4600" y="4038480"/>
              <a:ext cx="914400" cy="990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NI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480" y="50292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81080" y="243828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81080" y="350532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81080" y="457200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1080" y="2286000"/>
              <a:ext cx="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733920" y="1905120"/>
            <a:ext cx="1447200" cy="3657600"/>
            <a:chOff x="3733920" y="1905120"/>
            <a:chExt cx="1447200" cy="3657600"/>
          </a:xfrm>
        </p:grpSpPr>
        <p:sp>
          <p:nvSpPr>
            <p:cNvPr id="201" name=""/>
            <p:cNvSpPr/>
            <p:nvPr/>
          </p:nvSpPr>
          <p:spPr>
            <a:xfrm>
              <a:off x="4267080" y="1905120"/>
              <a:ext cx="914040" cy="99036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P/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7080" y="2971800"/>
              <a:ext cx="91404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4038480"/>
              <a:ext cx="914040" cy="990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NI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47960" y="50292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33920" y="24382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33920" y="35053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3920" y="457200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2286000"/>
              <a:ext cx="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62720" y="1905120"/>
            <a:ext cx="1447200" cy="3657600"/>
            <a:chOff x="5562720" y="1905120"/>
            <a:chExt cx="1447200" cy="3657600"/>
          </a:xfrm>
        </p:grpSpPr>
        <p:sp>
          <p:nvSpPr>
            <p:cNvPr id="210" name=""/>
            <p:cNvSpPr/>
            <p:nvPr/>
          </p:nvSpPr>
          <p:spPr>
            <a:xfrm>
              <a:off x="6095880" y="1905120"/>
              <a:ext cx="914040" cy="99036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P/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95880" y="2971800"/>
              <a:ext cx="914040" cy="990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4038480"/>
              <a:ext cx="914040" cy="990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NIC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6760" y="50292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62720" y="24382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62720" y="35053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457200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62720" y="2286000"/>
              <a:ext cx="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133720" y="5562720"/>
            <a:ext cx="495288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nterconnection Network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657600"/>
            <a:ext cx="91440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657600"/>
            <a:ext cx="91440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3657600"/>
            <a:ext cx="91440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6:10:22Z</dcterms:created>
  <dc:creator>Natawut Nupairoj</dc:creator>
  <dc:description/>
  <dc:language>en-US</dc:language>
  <cp:lastModifiedBy>Natawut Nupairoj</cp:lastModifiedBy>
  <dcterms:modified xsi:type="dcterms:W3CDTF">2004-07-04T15:45:16Z</dcterms:modified>
  <cp:revision>20</cp:revision>
  <dc:subject/>
  <dc:title>2110412 Parallel System</dc:title>
</cp:coreProperties>
</file>