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37D-0F78-4A0A-A83C-F9661CB9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35D-49EC-462B-9424-C24FB9F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2FE-BD48-4138-8799-5594A63E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B10-6861-4C58-AF05-C73B9BC1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2A9-AD75-4C44-A4D6-E86115C5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C0B-9C42-49EF-B00B-FDD2308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3D7C-BDA9-4411-8673-2417661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2D28-72B8-47F9-ADD0-FA11BD7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C506-6C8B-4E1A-8B4D-C53B191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4B3F-5018-482B-9BF1-6B7A1D1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462D-4770-4E72-A155-7FFCCCC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163-F00D-4B9E-8D9B-46FA860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2BB2-7DFF-4255-969A-FC516F5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99A3-6F95-4CC2-8F26-BA30579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4FA8-EA94-46C2-9002-C92CD5CF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A71F-962D-4619-BE12-75E2C41A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0171-01D3-4CC1-BA48-BC05D0D6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31B-95A3-4D30-B0B1-A1D162F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4F8-479E-4C4D-8F8A-84598798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B03-E1CE-4D29-A1FF-2267E86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74C-F94B-4A8D-B758-3869EDE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FEE-409F-4A39-907B-D2185D1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485-C314-436B-BED0-954BA90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B60-03DC-4272-A5DD-A06744B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BAE-3D99-4342-8A85-70C38D3D7D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C343-570B-4794-B4B6-702939505E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Parallelism in CPU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8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p8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9,p10,p11,p12,p13,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4,p15,p16,p17,p18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9,p20,p21,p22,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708360" y="1752480"/>
            <a:ext cx="2082960" cy="100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8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9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9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2+p4)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0,p11,p12,p13, p14,p15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6,p17,p18,P19,p20,p21,p22,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8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9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2+p4)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r10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9 * p8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1,p12,p13, p14,p15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6,p17,p18,P19,p20,p21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22, 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8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21932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9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2+p4)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r10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9 * p8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1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3 - 1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mem(p7+p4)&lt;- p10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2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4 + 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loop; p11!=0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p13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&lt;- mem(p1+p12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4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2+p12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5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4 * p13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6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1 - 1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mem(p7+p12)&lt;- p15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7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2 + 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loop; p16!=0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p18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&lt;- mem(p1+p17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19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mem(p2+p17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20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9 * p18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21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6 - 1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mem(p7+p17)&lt;- p20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p22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&lt;- p17 + 8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47242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nds in ILP - 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in chip manufac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ransistors = more den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ogics can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ftware 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compilers – can assist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op unroll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ftware pipelin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ce schedul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phisticated OS – thread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evelopment and testing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specialized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, serv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nds in IL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sca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old, but basic for all 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extension instructio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very o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Large Instruction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 ideas, to-be-implemented as EPIC in Intel Itan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nds in IL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taneous Multithreading (SM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ideas, just implement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l Pentium Xe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l Pentium-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aq EV8 (Alpha 21464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Chip Multiprocessor (CM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ngsana New"/>
              </a:rPr>
              <a:t>New ideas, just implement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ngsana New"/>
              </a:rPr>
              <a:t>IBM Power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ngsana New"/>
              </a:rPr>
              <a:t>Sun UltraSpar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erscalar Process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more performance via increased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nstruction Level Parallelism (IL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1   2   3   4   5   6   7   8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1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2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3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4    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5    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6        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7             IF  ID  EX  MEM 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erscalar Process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struction issues per clo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uper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combined with dynamic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static issue has been done (Alpha 210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5356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Big Pictur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480" y="1563840"/>
            <a:ext cx="70866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i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z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the next instruction from execution during its designated clock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haz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hazards: RAW, WAW,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haz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-of-order comple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 of  Superscalar Process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0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performance instruction fe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structions p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 and Jump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atch and dependence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e "false" dependences (WAR, W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up linkages for true depend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register rena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o-o-o instruction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ulative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 of  Superscalar Process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0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re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units, paths, register 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performance memor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s for precise tr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erscalar C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71560" y="2095560"/>
            <a:ext cx="7399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media Exten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applications have common characteristics in basic rout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native data types (8-bit pixels or 16-bit audio samp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ized recurring op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extended instruction sets on the existing CP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MX – Pent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SE – Pentium I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-Now – A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MX Instruction 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SIMD-like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utation on group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d data types: 8 bytes, 4 words, 2 double-word, or 1 quad-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, sub, compare, multiply, and, or, and-not, xor, move, shift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e on existing 64-bit floating-point regi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backward compat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100480" cy="2543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23096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93080" cy="1700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092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ersca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2440" y="1795320"/>
            <a:ext cx="6637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LI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52440" y="1795320"/>
            <a:ext cx="6637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M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47760" y="1814400"/>
            <a:ext cx="6647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i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issuing (or schedu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schedu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void stalling by start executing the next instruction before the current 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t-of-order execu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reboard &amp; Tomasulo appro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ulative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e an instruction before CPU knows that the instruction should exec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 pred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70080" y="1766880"/>
            <a:ext cx="66024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057640" cy="1714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50468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anch Predi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479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s many control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"uninterrupted" instruction str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43480"/>
            <a:ext cx="4114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Program: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oop: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loop; r1!=0 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4827600" y="2400480"/>
            <a:ext cx="411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tre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&lt;- loop; r1!=0 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09880" y="2476440"/>
            <a:ext cx="101772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829480"/>
            <a:ext cx="10177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i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hysical registers than logical regi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instruction stream into "single assignment"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WAW and WAR haz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ource register mappings fro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new result physical register from free 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map table for new result register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8 logical, 24 physical reg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Advanced Computer Architecture I” slides by J. E. Sm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1600200"/>
            <a:ext cx="12956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8,p9,p10,p11,p12,p13,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4,p15,p16,p17,p18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9,p20,p21,p22,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6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8,p9,p10,p11,p12,p13,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4,p15,p16,p17,p18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9,p20,p21,p22,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1727280" y="1676520"/>
            <a:ext cx="1320840" cy="1434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6520"/>
            <a:ext cx="1067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657600" y="1752120"/>
            <a:ext cx="3657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57600" y="1752120"/>
            <a:ext cx="3352680" cy="135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8000"/>
          </a:bodyPr>
          <a:p>
            <a:pPr marL="243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tched 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loop; r1!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r3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Courier New"/>
              </a:rPr>
              <a:t>&lt;- mem(r4+r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mem(r5+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7 * r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1 - 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mem(r6+r2)&lt;- r7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r2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&lt;- r2 + 8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600200"/>
            <a:ext cx="106704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6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7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2193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amed Stream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p8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&lt;- mem(p1+p4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724280"/>
            <a:ext cx="2895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Po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8,p9,p10,p11,p12,p13,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4,p15,p16,p17,p18,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-358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9,p20,p21,p22,p23,p2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95480" y="1752480"/>
            <a:ext cx="3124440" cy="327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3111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7-12T04:00:37Z</dcterms:modified>
  <cp:revision>31</cp:revision>
  <dc:subject/>
  <dc:title>2110412 Parallel System</dc:title>
</cp:coreProperties>
</file>