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B7D-5C33-4CE9-8EF2-1698CFD2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37F-4772-4FEB-8344-5B5CFE2F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E6D-5154-4B67-9214-9AE1211B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CBA-470C-4980-A631-F0312270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2A55-A3CC-4E75-8747-20D0D63A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7456-86E1-449B-8B61-5FEE00A0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B3FC-05D6-4C61-B58B-BC579289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ADBF-91E1-41EF-AC44-7AD7A2CE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AB01-BC32-402C-8ABF-AD16DFFD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725D-BF31-4B7A-AC55-FA62B9A3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B1F6-0D83-46C1-8986-5EE0078E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232-BB94-486F-9FB2-EC667597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C4B2-4D0A-49F3-99DA-589B3B78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1A8E-16D6-48D6-BC07-1BA3682E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8FEB-C53B-40D6-B397-8A6DFA0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9C91-21D7-48DC-B0B8-959C74F7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0772-DECD-4940-9965-7F8AC01B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825-D9EE-49DE-BD9F-89F87CBF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6C3-5EC9-4F73-BE2B-5D7B2D88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1CF-6462-426A-BA68-B2B3AB99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433-9C53-4B8C-BF72-78474486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E55-68C1-499F-9AEF-188556CC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DA1-1F91-4FAE-B531-9E24D644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B47-2A7A-4867-8321-D1D1F42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3559-616A-4F82-8EFC-D06846C79D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F9B-4E9F-44F5-A218-BBD21D1073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  <a:ea typeface="Angsana New"/>
              </a:rPr>
              <a:t>Parallelism</a:t>
            </a:r>
            <a:br>
              <a:rPr sz="3600"/>
            </a:b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2110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732</a:t>
            </a: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 Parallel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Comput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Veera Muangsin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SE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peli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the execution spe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long tasks into small steps or “stages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stage executes independently and concurren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data toward workers (or stag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pelining is natural !!!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rom David Patterson’s lecture note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914400" y="762120"/>
          <a:ext cx="7297560" cy="52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297560" cy="52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62120" y="762120"/>
          <a:ext cx="764352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64352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762120" y="838080"/>
          <a:ext cx="766584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66584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pelining Less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1792440"/>
          <a:ext cx="403380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92440"/>
                    <a:ext cx="403380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526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pelining doesn’t hel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single ta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help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roughpu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entire worklo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sks operating simultaneously using different resour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speedup 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umber pipe s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pelining does not work for single data element 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pelining is best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ed functional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data unit cannot be partitio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ingle house, pipelining is use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multiple houses, still not g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pelining in Modern Process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urrent trend is “super-pipelined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re stage, the better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ways true 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ruction cycle is divided into five sta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66880" y="469908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etch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4699080"/>
            <a:ext cx="1143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4648320"/>
            <a:ext cx="12952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perand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etch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699080"/>
            <a:ext cx="1218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0" name=""/>
          <p:cNvSpPr/>
          <p:nvPr/>
        </p:nvSpPr>
        <p:spPr>
          <a:xfrm>
            <a:off x="7558560" y="4699080"/>
            <a:ext cx="814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pelining Exec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   2   3   4   5   6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F   D   O   E  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F   D   O   E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F   D   O   E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438280" y="2590920"/>
            <a:ext cx="3810240" cy="457200"/>
            <a:chOff x="2438280" y="2590920"/>
            <a:chExt cx="3810240" cy="457200"/>
          </a:xfrm>
        </p:grpSpPr>
        <p:sp>
          <p:nvSpPr>
            <p:cNvPr id="268" name=""/>
            <p:cNvSpPr/>
            <p:nvPr/>
          </p:nvSpPr>
          <p:spPr>
            <a:xfrm>
              <a:off x="2438280" y="25909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25909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5909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25909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6400" y="25909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200400" y="3048120"/>
            <a:ext cx="3809520" cy="457200"/>
            <a:chOff x="3200400" y="3048120"/>
            <a:chExt cx="3809520" cy="457200"/>
          </a:xfrm>
        </p:grpSpPr>
        <p:sp>
          <p:nvSpPr>
            <p:cNvPr id="274" name=""/>
            <p:cNvSpPr/>
            <p:nvPr/>
          </p:nvSpPr>
          <p:spPr>
            <a:xfrm>
              <a:off x="3200400" y="30481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62160" y="30481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4280" y="3048120"/>
              <a:ext cx="761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86040" y="30481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160" y="30481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62520" y="3505320"/>
            <a:ext cx="3809520" cy="457200"/>
            <a:chOff x="3962520" y="3505320"/>
            <a:chExt cx="3809520" cy="457200"/>
          </a:xfrm>
        </p:grpSpPr>
        <p:sp>
          <p:nvSpPr>
            <p:cNvPr id="280" name=""/>
            <p:cNvSpPr/>
            <p:nvPr/>
          </p:nvSpPr>
          <p:spPr>
            <a:xfrm>
              <a:off x="3962520" y="35053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24280" y="35053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6400" y="3505320"/>
              <a:ext cx="761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160" y="35053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10280" y="35053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lleli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understand parallel system, we need to understand how can we utilize parallel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3 types of paralle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parallel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al parallel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peli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described with data dependence grap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formance of Pipe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 we gain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execute 1000 instructions on non-pipelined and pipelined CP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ck speed = 500 MHz (1 clock = 2 n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pipelined CP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time = 2ns/cycle x 5 cycles/inst x 1000 instr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10 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ect pipelined CP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time = 2ns/cycle x (1 cycle/inst x 1000 instr. + 4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cycles drain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2.008 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962520" y="4419720"/>
            <a:ext cx="7617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thing is perfect 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ith bra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know what to fetch next until deco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   2   3   4   5   6   7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F   D   O   E  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 2 : JMP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   D   O   E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F   D   O   E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438280" y="3505320"/>
            <a:ext cx="3810240" cy="457200"/>
            <a:chOff x="2438280" y="3505320"/>
            <a:chExt cx="3810240" cy="457200"/>
          </a:xfrm>
        </p:grpSpPr>
        <p:sp>
          <p:nvSpPr>
            <p:cNvPr id="291" name=""/>
            <p:cNvSpPr/>
            <p:nvPr/>
          </p:nvSpPr>
          <p:spPr>
            <a:xfrm>
              <a:off x="2438280" y="35053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0400" y="35053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35053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24280" y="35053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86400" y="35053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00400" y="3962520"/>
            <a:ext cx="3809520" cy="457200"/>
            <a:chOff x="3200400" y="3962520"/>
            <a:chExt cx="3809520" cy="457200"/>
          </a:xfrm>
        </p:grpSpPr>
        <p:sp>
          <p:nvSpPr>
            <p:cNvPr id="297" name=""/>
            <p:cNvSpPr/>
            <p:nvPr/>
          </p:nvSpPr>
          <p:spPr>
            <a:xfrm>
              <a:off x="3200400" y="39625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62160" y="39625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280" y="3962520"/>
              <a:ext cx="761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86040" y="39625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8160" y="396252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4724280" y="441972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441972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4419720"/>
            <a:ext cx="761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"/>
          <p:cNvSpPr/>
          <p:nvPr/>
        </p:nvSpPr>
        <p:spPr>
          <a:xfrm>
            <a:off x="7010280" y="441972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44197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4952880"/>
            <a:ext cx="312408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ranch target address is not available until here !!!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809880" y="5181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9" name=""/>
          <p:cNvSpPr/>
          <p:nvPr/>
        </p:nvSpPr>
        <p:spPr>
          <a:xfrm>
            <a:off x="4724280" y="44197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lled Pip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pipelining is not smooth, we called it is “stalled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nch and other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routine call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ac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cycle exec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swit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are common, thus, pipeline should not be too de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ctor Process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parallelism techn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the same function on multiple data elements (aka. “vector”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SAXPY (DAXPY)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 := 0 to 63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[i] := a*X[i] + Y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ctor Process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V V1,R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R1 contains based address for “X[*]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V V2,R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R2 contains based address for “Y[*]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SV V3,R3,V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a*X -- R3 contains the value of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V V1,V3,V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a*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V R2,V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write back to “Y[*]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tall, reduce Flynn bottleneck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vel of Paralleli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els of parallelism are classified by grain size (or granular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e-grain (instruction-level or IL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um-grain (subtask-leve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arse-grain (task/program leve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mean the number of instructions performed between each synchron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Dependence Grap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248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irected graph representing the dependency of data and order of exec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vertex is a ta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ge from A to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A must be completed before task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B is dependent on task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sks that are independent from one another can be perform con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3505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llelism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23623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4956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3429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75438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53341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pelining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3505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4572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5053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3505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3048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343400" y="3048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41148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81480" y="41148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3734280" y="541008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Parallelis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505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572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5053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505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3048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371600" y="3048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41148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680" y="41148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1069200" y="54100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Parallelis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ekly Landscape Mainte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w lawn, edge lawn, weed garden, check sprinkl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check sprinkler until all other 3 tasks are d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turn off security system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urn it back on before leav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Dependency Grap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5943240"/>
            <a:ext cx="8229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an you do with a team of 8 peop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1752480"/>
            <a:ext cx="1905120" cy="6098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urn-off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047760" y="23623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3429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24280" y="3429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886200"/>
            <a:ext cx="1904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sprinklers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952880"/>
            <a:ext cx="1904760" cy="6098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urn-o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2819520"/>
            <a:ext cx="99072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w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w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819520"/>
            <a:ext cx="99072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w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2819520"/>
            <a:ext cx="990720" cy="6094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ed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rde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Paralleli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y the same operation to different data el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processor array and vector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ier can help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1219320"/>
            <a:ext cx="19051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urn-off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1" name=""/>
          <p:cNvSpPr/>
          <p:nvPr/>
        </p:nvSpPr>
        <p:spPr>
          <a:xfrm>
            <a:off x="5715000" y="48006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sprinklers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5867280"/>
            <a:ext cx="1905120" cy="6098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urn-o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2286000"/>
            <a:ext cx="2895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one mows law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3124080"/>
            <a:ext cx="28958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one edges law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962520"/>
            <a:ext cx="2895840" cy="36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one weeds garde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i := 0 to 99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:= b[i] + c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i := 1 to 99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:= a[i-1] + c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i := 1 to 99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j := 0 to 99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,j] := a[i-1,j] + c[i,j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Paralleli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y different operations to different (or same) data el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straight forward for this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we have 8 peop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905120"/>
            <a:ext cx="19051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urn-off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25146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715000" y="25146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3581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391160" y="3581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403848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sprinklers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5105520"/>
            <a:ext cx="19051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urn-o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2971800"/>
            <a:ext cx="99072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w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w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971800"/>
            <a:ext cx="99072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w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971800"/>
            <a:ext cx="990720" cy="6094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ed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rde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6:10:22Z</dcterms:created>
  <dc:creator>Natawut Nupairoj</dc:creator>
  <dc:description/>
  <dc:language>en-US</dc:language>
  <cp:lastModifiedBy>Natawut Nupairoj</cp:lastModifiedBy>
  <dcterms:modified xsi:type="dcterms:W3CDTF">2004-06-28T03:45:41Z</dcterms:modified>
  <cp:revision>23</cp:revision>
  <dc:subject/>
  <dc:title>2110412 Parallel System</dc:title>
</cp:coreProperties>
</file>