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CC97-B4D2-45A9-BB22-964E3A37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F8E-F307-4828-B71D-C1472FA0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DC6-1BD3-45CD-BBE5-663431A7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84D-DA50-4097-8955-EB5A10FD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79E2-FFC1-496A-A063-C8C0664B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3EFF-17F5-43C7-A4CF-3B2B2A77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2D30-C0FB-42E0-831E-8CE8F3A9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A7BC-E036-4572-B085-A654908E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F9AE-A0A8-4F2E-A566-50DC1451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8EED-131D-48C5-9BCE-2E85BCC5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B2D6-1FF5-4A3E-8460-A7AF87C5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77A8-02AE-484C-9DCB-D6F20A08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49D0-15CC-4206-A735-2837351F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EAF4-332D-4578-8C27-0D17B2D4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5DEC-0C63-4BF2-A005-26E7B9B4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7789-5867-46CE-AAF5-378ADD83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031D-31D4-454E-B5BA-864E05AF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A8E8-DFFC-47A7-9207-FDA12BD1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544B-3434-4367-9A6E-EA4B53B7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2689-7F73-4376-95B0-BE8D0A5A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4C6D-E631-440D-8F6B-AB0991F2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CCBB-EEE0-43AB-9C80-623E71B2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807-6CD1-44DB-8C6D-8632D6AF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B87-CCBD-4F39-AEAB-FFD7688D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5D92-9D21-4E7B-B561-C3ADF226FB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E858-5906-44FA-A5CB-E532565D40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  <a:ea typeface="Angsana New"/>
              </a:rPr>
              <a:t>Performance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  <a:ea typeface="Angsana New"/>
              </a:rPr>
              <a:t>Model, Metric, and Speedup</a:t>
            </a:r>
            <a:br>
              <a:rPr sz="3600"/>
            </a:br>
            <a:r>
              <a:rPr b="1" lang="th-TH" sz="2800" spc="-1" strike="noStrike">
                <a:solidFill>
                  <a:srgbClr val="330066"/>
                </a:solidFill>
                <a:latin typeface="Arial"/>
              </a:rPr>
              <a:t>2110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Angsana New"/>
              </a:rPr>
              <a:t>732</a:t>
            </a:r>
            <a:r>
              <a:rPr b="1" lang="th-TH" sz="2800" spc="-1" strike="noStrike">
                <a:solidFill>
                  <a:srgbClr val="330066"/>
                </a:solidFill>
                <a:latin typeface="Arial"/>
              </a:rPr>
              <a:t> Parallel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Angsana New"/>
              </a:rPr>
              <a:t>Comput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Veera Muangsin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ISE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st Effectiven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ak performance/cost rat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/performance rat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Cs are much better in this category than Supercompu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rformance of Parallel Sys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nents and architectu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gree of Parallelis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hea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PU spe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ry size and spe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ry hierarch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allelism and Overhea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ecution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 = Tcomp + Tpar + Tinter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comp - Computation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h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ad-imbalance (Degree of Parallelism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par - Parallelism overh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 management - creation, context switch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allelism and Overhea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nteract - Interaction overh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nchronization: barrier, lock, and critical reg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gregation: redu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eedup Analy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good the parallel system is, when compared to the sequential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t the scalabi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dup metr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dahl’s La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ustafson’s La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n and Ni’s La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mdahl’s La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a. Fixed-Load (Problem) Speed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 workload W, how good it is if we have n processor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914400" y="5334120"/>
                <a:ext cx="7189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as  </m:t>
                    </m:r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352680" y="3886200"/>
                <a:ext cx="24685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αT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914400" y="4495680"/>
                <a:ext cx="53560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ime to execute W on 1 processo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 to execute W on n processo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225960" y="3429000"/>
                <a:ext cx="2722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W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mdahl’s Law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5562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popular (and also pessimistic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828800" y="2209680"/>
            <a:ext cx="6248520" cy="2667240"/>
            <a:chOff x="1828800" y="2209680"/>
            <a:chExt cx="6248520" cy="2667240"/>
          </a:xfrm>
        </p:grpSpPr>
        <p:sp>
          <p:nvSpPr>
            <p:cNvPr id="192" name=""/>
            <p:cNvSpPr/>
            <p:nvPr/>
          </p:nvSpPr>
          <p:spPr>
            <a:xfrm>
              <a:off x="1828800" y="220968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28800" y="4876920"/>
              <a:ext cx="624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828800" y="2438280"/>
            <a:ext cx="914400" cy="2438640"/>
            <a:chOff x="1828800" y="2438280"/>
            <a:chExt cx="914400" cy="2438640"/>
          </a:xfrm>
        </p:grpSpPr>
        <p:sp>
          <p:nvSpPr>
            <p:cNvPr id="195" name=""/>
            <p:cNvSpPr/>
            <p:nvPr/>
          </p:nvSpPr>
          <p:spPr>
            <a:xfrm>
              <a:off x="1828800" y="2438280"/>
              <a:ext cx="914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8800" y="2895480"/>
              <a:ext cx="914400" cy="19814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514240" y="1676520"/>
            <a:ext cx="1292400" cy="990000"/>
            <a:chOff x="2514240" y="1676520"/>
            <a:chExt cx="1292400" cy="990000"/>
          </a:xfrm>
        </p:grpSpPr>
        <p:sp>
          <p:nvSpPr>
            <p:cNvPr id="198" name=""/>
            <p:cNvSpPr/>
            <p:nvPr/>
          </p:nvSpPr>
          <p:spPr>
            <a:xfrm flipH="1">
              <a:off x="2514240" y="2209680"/>
              <a:ext cx="685800" cy="456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21560" y="1676520"/>
              <a:ext cx="68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21840" y="2590920"/>
            <a:ext cx="1964160" cy="1143000"/>
            <a:chOff x="321840" y="2590920"/>
            <a:chExt cx="1964160" cy="1143000"/>
          </a:xfrm>
        </p:grpSpPr>
        <p:sp>
          <p:nvSpPr>
            <p:cNvPr id="201" name=""/>
            <p:cNvSpPr/>
            <p:nvPr/>
          </p:nvSpPr>
          <p:spPr>
            <a:xfrm>
              <a:off x="1600200" y="3200760"/>
              <a:ext cx="685800" cy="53316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1840" y="2590920"/>
              <a:ext cx="134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</a:t>
              </a:r>
              <a:r>
                <a:rPr b="0" lang="en-US" sz="3200" spc="-1" strike="noStrike">
                  <a:solidFill>
                    <a:srgbClr val="000099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743200" y="3429000"/>
            <a:ext cx="914400" cy="1447920"/>
            <a:chOff x="2743200" y="3429000"/>
            <a:chExt cx="914400" cy="1447920"/>
          </a:xfrm>
        </p:grpSpPr>
        <p:sp>
          <p:nvSpPr>
            <p:cNvPr id="204" name=""/>
            <p:cNvSpPr/>
            <p:nvPr/>
          </p:nvSpPr>
          <p:spPr>
            <a:xfrm>
              <a:off x="2743200" y="3429000"/>
              <a:ext cx="914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3200" y="3886200"/>
              <a:ext cx="914400" cy="99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657600" y="3886200"/>
            <a:ext cx="914400" cy="990720"/>
            <a:chOff x="3657600" y="3886200"/>
            <a:chExt cx="914400" cy="990720"/>
          </a:xfrm>
        </p:grpSpPr>
        <p:sp>
          <p:nvSpPr>
            <p:cNvPr id="207" name=""/>
            <p:cNvSpPr/>
            <p:nvPr/>
          </p:nvSpPr>
          <p:spPr>
            <a:xfrm>
              <a:off x="3657600" y="4343400"/>
              <a:ext cx="914400" cy="5335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57600" y="3886200"/>
              <a:ext cx="914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572000" y="4114800"/>
            <a:ext cx="914400" cy="762120"/>
            <a:chOff x="4572000" y="4114800"/>
            <a:chExt cx="914400" cy="762120"/>
          </a:xfrm>
        </p:grpSpPr>
        <p:sp>
          <p:nvSpPr>
            <p:cNvPr id="210" name=""/>
            <p:cNvSpPr/>
            <p:nvPr/>
          </p:nvSpPr>
          <p:spPr>
            <a:xfrm>
              <a:off x="4572000" y="4114800"/>
              <a:ext cx="914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2000" y="4572000"/>
              <a:ext cx="914400" cy="3049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486400" y="4267080"/>
            <a:ext cx="914400" cy="609840"/>
            <a:chOff x="5486400" y="4267080"/>
            <a:chExt cx="914400" cy="609840"/>
          </a:xfrm>
        </p:grpSpPr>
        <p:sp>
          <p:nvSpPr>
            <p:cNvPr id="213" name=""/>
            <p:cNvSpPr/>
            <p:nvPr/>
          </p:nvSpPr>
          <p:spPr>
            <a:xfrm>
              <a:off x="5486400" y="4267080"/>
              <a:ext cx="914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86400" y="4724280"/>
              <a:ext cx="914400" cy="152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100320" y="487692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rocessor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6" name=""/>
          <p:cNvSpPr/>
          <p:nvPr/>
        </p:nvSpPr>
        <p:spPr>
          <a:xfrm>
            <a:off x="1366920" y="17524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ustafson’s La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a. Fixed-Time Speedup (or Scaled-Load Speedup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 a workload W, suppose it takes time T to execute W on 1 process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same T, how much (workload) we can run on n processors ?  Let’s call it W’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Assume the sequential work remains consta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990720" y="5410080"/>
                <a:ext cx="2722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W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143680" y="5410080"/>
                <a:ext cx="29509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αW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n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ustafson’s Law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xed-Time Speed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76520" y="3733920"/>
                <a:ext cx="56912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αW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nW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990720" y="2819520"/>
                <a:ext cx="6929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load size that can be executed in time T with n processor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Workload size that can be executed in time T with 1 processor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ustafson’s Law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5562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popular (and also pessimistic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828800" y="2209680"/>
            <a:ext cx="6248520" cy="2667240"/>
            <a:chOff x="1828800" y="2209680"/>
            <a:chExt cx="6248520" cy="2667240"/>
          </a:xfrm>
        </p:grpSpPr>
        <p:sp>
          <p:nvSpPr>
            <p:cNvPr id="228" name=""/>
            <p:cNvSpPr/>
            <p:nvPr/>
          </p:nvSpPr>
          <p:spPr>
            <a:xfrm>
              <a:off x="1828800" y="220968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28800" y="4876920"/>
              <a:ext cx="624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100320" y="487692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rocessor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1" name=""/>
          <p:cNvSpPr/>
          <p:nvPr/>
        </p:nvSpPr>
        <p:spPr>
          <a:xfrm>
            <a:off x="1366920" y="17524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743200" y="2438280"/>
            <a:ext cx="914400" cy="2438640"/>
            <a:chOff x="2743200" y="2438280"/>
            <a:chExt cx="914400" cy="2438640"/>
          </a:xfrm>
        </p:grpSpPr>
        <p:grpSp>
          <p:nvGrpSpPr>
            <p:cNvPr id="233" name=""/>
            <p:cNvGrpSpPr/>
            <p:nvPr/>
          </p:nvGrpSpPr>
          <p:grpSpPr>
            <a:xfrm>
              <a:off x="2743200" y="2438280"/>
              <a:ext cx="914400" cy="2438640"/>
              <a:chOff x="2743200" y="2438280"/>
              <a:chExt cx="914400" cy="2438640"/>
            </a:xfrm>
          </p:grpSpPr>
          <p:sp>
            <p:nvSpPr>
              <p:cNvPr id="234" name=""/>
              <p:cNvSpPr/>
              <p:nvPr/>
            </p:nvSpPr>
            <p:spPr>
              <a:xfrm>
                <a:off x="2743200" y="2438280"/>
                <a:ext cx="9144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743200" y="2895480"/>
                <a:ext cx="914400" cy="198144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2841840" y="350532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X 2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657600" y="2438280"/>
            <a:ext cx="914400" cy="2438640"/>
            <a:chOff x="3657600" y="2438280"/>
            <a:chExt cx="914400" cy="2438640"/>
          </a:xfrm>
        </p:grpSpPr>
        <p:grpSp>
          <p:nvGrpSpPr>
            <p:cNvPr id="238" name=""/>
            <p:cNvGrpSpPr/>
            <p:nvPr/>
          </p:nvGrpSpPr>
          <p:grpSpPr>
            <a:xfrm>
              <a:off x="3657600" y="2438280"/>
              <a:ext cx="914400" cy="2438640"/>
              <a:chOff x="3657600" y="2438280"/>
              <a:chExt cx="914400" cy="2438640"/>
            </a:xfrm>
          </p:grpSpPr>
          <p:sp>
            <p:nvSpPr>
              <p:cNvPr id="239" name=""/>
              <p:cNvSpPr/>
              <p:nvPr/>
            </p:nvSpPr>
            <p:spPr>
              <a:xfrm>
                <a:off x="3657600" y="2438280"/>
                <a:ext cx="9144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57600" y="2895480"/>
                <a:ext cx="914400" cy="198144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3756240" y="350532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X 3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572000" y="2438280"/>
            <a:ext cx="914400" cy="2438640"/>
            <a:chOff x="4572000" y="2438280"/>
            <a:chExt cx="914400" cy="2438640"/>
          </a:xfrm>
        </p:grpSpPr>
        <p:grpSp>
          <p:nvGrpSpPr>
            <p:cNvPr id="243" name=""/>
            <p:cNvGrpSpPr/>
            <p:nvPr/>
          </p:nvGrpSpPr>
          <p:grpSpPr>
            <a:xfrm>
              <a:off x="4572000" y="2438280"/>
              <a:ext cx="914400" cy="2438640"/>
              <a:chOff x="4572000" y="2438280"/>
              <a:chExt cx="914400" cy="2438640"/>
            </a:xfrm>
          </p:grpSpPr>
          <p:sp>
            <p:nvSpPr>
              <p:cNvPr id="244" name=""/>
              <p:cNvSpPr/>
              <p:nvPr/>
            </p:nvSpPr>
            <p:spPr>
              <a:xfrm>
                <a:off x="4572000" y="2438280"/>
                <a:ext cx="9144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572000" y="2895480"/>
                <a:ext cx="914400" cy="198144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4670640" y="350532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X 4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486400" y="2438280"/>
            <a:ext cx="914400" cy="2438640"/>
            <a:chOff x="5486400" y="2438280"/>
            <a:chExt cx="914400" cy="2438640"/>
          </a:xfrm>
        </p:grpSpPr>
        <p:grpSp>
          <p:nvGrpSpPr>
            <p:cNvPr id="248" name=""/>
            <p:cNvGrpSpPr/>
            <p:nvPr/>
          </p:nvGrpSpPr>
          <p:grpSpPr>
            <a:xfrm>
              <a:off x="5486400" y="2438280"/>
              <a:ext cx="914400" cy="2438640"/>
              <a:chOff x="5486400" y="2438280"/>
              <a:chExt cx="914400" cy="2438640"/>
            </a:xfrm>
          </p:grpSpPr>
          <p:sp>
            <p:nvSpPr>
              <p:cNvPr id="249" name=""/>
              <p:cNvSpPr/>
              <p:nvPr/>
            </p:nvSpPr>
            <p:spPr>
              <a:xfrm>
                <a:off x="5486400" y="2438280"/>
                <a:ext cx="9144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486400" y="2895480"/>
                <a:ext cx="914400" cy="198144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5585040" y="350532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X 5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828800" y="2438280"/>
            <a:ext cx="914400" cy="2438640"/>
            <a:chOff x="1828800" y="2438280"/>
            <a:chExt cx="914400" cy="2438640"/>
          </a:xfrm>
        </p:grpSpPr>
        <p:grpSp>
          <p:nvGrpSpPr>
            <p:cNvPr id="253" name=""/>
            <p:cNvGrpSpPr/>
            <p:nvPr/>
          </p:nvGrpSpPr>
          <p:grpSpPr>
            <a:xfrm>
              <a:off x="1828800" y="2438280"/>
              <a:ext cx="914400" cy="2438640"/>
              <a:chOff x="1828800" y="2438280"/>
              <a:chExt cx="914400" cy="243864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8800" y="2438280"/>
                <a:ext cx="9144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828800" y="2895480"/>
                <a:ext cx="914400" cy="198144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1927440" y="350532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X 1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514240" y="1676520"/>
            <a:ext cx="1424520" cy="990000"/>
            <a:chOff x="2514240" y="1676520"/>
            <a:chExt cx="1424520" cy="990000"/>
          </a:xfrm>
        </p:grpSpPr>
        <p:sp>
          <p:nvSpPr>
            <p:cNvPr id="258" name=""/>
            <p:cNvSpPr/>
            <p:nvPr/>
          </p:nvSpPr>
          <p:spPr>
            <a:xfrm flipH="1">
              <a:off x="2514240" y="2209680"/>
              <a:ext cx="685800" cy="456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17960" y="1676520"/>
              <a:ext cx="82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4400" y="2362320"/>
            <a:ext cx="2195280" cy="1218960"/>
            <a:chOff x="14400" y="2362320"/>
            <a:chExt cx="2195280" cy="1218960"/>
          </a:xfrm>
        </p:grpSpPr>
        <p:sp>
          <p:nvSpPr>
            <p:cNvPr id="261" name=""/>
            <p:cNvSpPr/>
            <p:nvPr/>
          </p:nvSpPr>
          <p:spPr>
            <a:xfrm>
              <a:off x="1295280" y="3048120"/>
              <a:ext cx="914400" cy="53316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400" y="2362320"/>
              <a:ext cx="170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</a:t>
              </a:r>
              <a:r>
                <a:rPr b="0" lang="en-US" sz="3200" spc="-1" strike="noStrike">
                  <a:solidFill>
                    <a:srgbClr val="000099"/>
                  </a:solidFill>
                  <a:latin typeface="Arial"/>
                </a:rPr>
                <a:t>nW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rformance Ques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characterize the performance of applications and system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’s requirements in performance and cos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about performance measureme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will system perform when having more resources or more workloa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n and Ni’s La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a. Memory-Bound Speed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processor = m memo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processors = n*m memo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memory, execute fas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search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aled workload 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015920" y="4890960"/>
                <a:ext cx="2722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W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876920" y="4876920"/>
                <a:ext cx="3537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αW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n and Ni’s Law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ry-Bound Speed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066680" y="3809880"/>
                <a:ext cx="67834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αW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αW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55520" y="2819520"/>
                <a:ext cx="62946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ime to execute scaled W on 1 processo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 to execute scaled W on n processo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n and Ni’s Law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erset of both la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(n) = 1 : Fixed-Load Speed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(n) = n : Fixed-Time Speed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(n) &gt; n : Memory is abund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905120" y="2895480"/>
                <a:ext cx="518292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s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892160" y="4267080"/>
                <a:ext cx="520884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rformance Benchmar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nchma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 and predict the performance of a syst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eal the strengths and weaknes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nchmark Su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et of benchmark programs and testing conditions and procedu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nchmark 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et of benchmark sui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enchmarks Classif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eric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action process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sco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ro benchmark -- system overview / application cla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 benchmark -- finer detai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enchmarks Classif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instru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ll applic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rnel. -- a set of frequently-used fun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workloa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 progra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nthetic progra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pular Benchmark Sui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P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P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PAC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cc"/>
                </a:solidFill>
                <a:latin typeface="Arial"/>
              </a:rPr>
              <a:t>L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r Algebra </a:t>
            </a:r>
            <a:r>
              <a:rPr b="0" lang="en-US" sz="3000" spc="-1" strike="noStrike">
                <a:solidFill>
                  <a:srgbClr val="ff66cc"/>
                </a:solidFill>
                <a:latin typeface="Arial"/>
              </a:rPr>
              <a:t>Pac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Jack Dongarra at University of Tennesse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lection of FORTRAN subrouti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ve linear equ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erical, Micro, Kernel, Syntheti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in Top-500 li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PAC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rics and parame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(max) - sustained maximal speed achiev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(max) - problem size when R(max) is achiev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(1/2) - problem size when half of R(max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(peak) - theoretical peak speed of the system measu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p-500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resul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PACK - Results Interpre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5120" y="21337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9" name=""/>
          <p:cNvSpPr/>
          <p:nvPr/>
        </p:nvSpPr>
        <p:spPr>
          <a:xfrm>
            <a:off x="1905120" y="54864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0" name=""/>
          <p:cNvSpPr/>
          <p:nvPr/>
        </p:nvSpPr>
        <p:spPr>
          <a:xfrm>
            <a:off x="3610440" y="556272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Siz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1" name=""/>
          <p:cNvSpPr/>
          <p:nvPr/>
        </p:nvSpPr>
        <p:spPr>
          <a:xfrm>
            <a:off x="888120" y="160020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2" name=""/>
          <p:cNvSpPr/>
          <p:nvPr/>
        </p:nvSpPr>
        <p:spPr>
          <a:xfrm>
            <a:off x="1905120" y="3200400"/>
            <a:ext cx="2666880" cy="2286000"/>
          </a:xfrm>
          <a:custGeom>
            <a:avLst/>
            <a:gdLst/>
            <a:ahLst/>
            <a:rect l="l" t="t" r="r" b="b"/>
            <a:pathLst>
              <a:path w="1680" h="1920">
                <a:moveTo>
                  <a:pt x="0" y="1920"/>
                </a:moveTo>
                <a:cubicBezTo>
                  <a:pt x="220" y="1312"/>
                  <a:pt x="440" y="704"/>
                  <a:pt x="720" y="384"/>
                </a:cubicBezTo>
                <a:cubicBezTo>
                  <a:pt x="1000" y="64"/>
                  <a:pt x="1340" y="32"/>
                  <a:pt x="16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3200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904760" y="3200400"/>
            <a:ext cx="5715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904760" y="4267080"/>
            <a:ext cx="5715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590920" y="426672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133720" y="5486400"/>
            <a:ext cx="4572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8" name=""/>
          <p:cNvSpPr/>
          <p:nvPr/>
        </p:nvSpPr>
        <p:spPr>
          <a:xfrm>
            <a:off x="1373400" y="5867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(1/2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9" name=""/>
          <p:cNvSpPr/>
          <p:nvPr/>
        </p:nvSpPr>
        <p:spPr>
          <a:xfrm>
            <a:off x="1371600" y="3200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0" name=""/>
          <p:cNvSpPr/>
          <p:nvPr/>
        </p:nvSpPr>
        <p:spPr>
          <a:xfrm>
            <a:off x="306360" y="3032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(Max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343400" y="3200400"/>
            <a:ext cx="0" cy="2286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343400" y="502920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3" name=""/>
          <p:cNvSpPr/>
          <p:nvPr/>
        </p:nvSpPr>
        <p:spPr>
          <a:xfrm>
            <a:off x="4573800" y="46483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(Max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904760" y="2514600"/>
            <a:ext cx="5715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25146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6" name=""/>
          <p:cNvSpPr/>
          <p:nvPr/>
        </p:nvSpPr>
        <p:spPr>
          <a:xfrm>
            <a:off x="230400" y="23623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(Peak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ortant Keywor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oretical perform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ically, peak of single CPU *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stained Perform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ximal achievable performance by running a benchma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EA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John McCalpin at SG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erformance of the system is limited 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PU perform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ry bandwid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PU is getting faster and faster than mem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PU is spending to much time waiting for memo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che can help, but still too much differ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che miss is also b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EAM - Concep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EAM - Measur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ment - iterations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er iteratio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name    kernel               bytes  FLO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PY:   a(i) = b(i)            16     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CALE:  a(i) = q*b(i)          16    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UM:    a(i) = b(i) + c(i)     24    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TRIAD:  a(i) = b(i) + q*c(i)   24     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EAM - Detai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ak MFL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ry Bandwid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hine bal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utation rate/Memory bandwidth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cro, Kernel, and Syntheti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results from www.cs.virginia.edu/stre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EAM - Top 1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EAM Machine Balance --- John D. McCalpin,mccalpin@cs.virginia.ed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vised to Fri Aug 25 08:49:34 CDT 2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eak       BW    Mach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Machine ID                      ncpus  MFLOPS    (MW/s)  Bal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NEC_SX_5-16A                      16   128000.0  72883.6      1.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NEC_SX_4                          32    64000.0  54619.2      1.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ray_T932_321024-3E               32    57600.0  44908.8      1.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ray_C90                          16    15360.0  12976.5      1.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GI_Origin3800-400               128   102400.0   6320.3     16.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GI_Origin2000-250               256   128000.0   6159.4     20.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ray_Y-MP                          8     2672.0   3350.3      0.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ray_SV1                          32    38400.0   3097.6     12.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Hitachi_SR8000                     8     8000.0   2810.2      2.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NEC_SX3-44                         1     2760.0   2746.5      1.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EAM - P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ak    BW     Machi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achine ID              MFLOPS (MW/s)  Bal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------------------------------------------------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Tyan_PentiumIII_800EB   800.0   69.3    11.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ntel_820_733EB         733.0   68.0    10.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ntel_820_600B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600.0   56.0    10.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Asus_Athlon_800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1600.0   73.4    21.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Asus_Celeron-400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400.0   27.3    14.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Asus_PentiumII_450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450.0   44.0    10.2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S Parallel Benchma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Numerical Aerodynamic Simulation (NAS) at NASA Ames Research Cen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mic the computation and data movement of computational fluid dynamics (CFD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Kerne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Pseudo-applic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erical, Macro, Kernel+App., Syntheti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PB Sui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Kern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: Integer Sor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: Embarrassingly Parall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G: Multi-Gri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G: Conjugate Gradi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T: FFT-based spectral meth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Pseudo-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U: Lower/upper triangu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T: Block Tri-diago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: Scalar Penta-diago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000" spc="-1" strike="noStrike">
                <a:solidFill>
                  <a:srgbClr val="ff66cc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ce-</a:t>
            </a:r>
            <a:r>
              <a:rPr b="0" lang="en-US" sz="3000" spc="-1" strike="noStrike">
                <a:solidFill>
                  <a:srgbClr val="ff66cc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e </a:t>
            </a:r>
            <a:r>
              <a:rPr b="0" lang="en-US" sz="3000" spc="-1" strike="noStrike">
                <a:solidFill>
                  <a:srgbClr val="ff66cc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ptive </a:t>
            </a:r>
            <a:r>
              <a:rPr b="0" lang="en-US" sz="3000" spc="-1" strike="noStrike">
                <a:solidFill>
                  <a:srgbClr val="ff66cc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cessing (STAP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-time radar signal processing benchmark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ation-intensive (10^10 - 10^14 floating point operations) on big data (10^2 - 10^4 MB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MIT Lincoln Lab. (sequential versio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ted to parallel version by US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erical, Macro, Kernel+App., Syntheti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T: Adaptive Processing Testb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-PD: High-Order Post-Doppl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M-Stag: Beam Space PRI-Staggered Post Doppl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-Stag: Element Space PRI-Staggered Post Doppl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: Gener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rformance Metr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icators of how good the systems 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evaluate correctly, we must consid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metric (or metrics) 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its definition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to measure it ?  Benchmark algorithm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evaluating environment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figur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rkloa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T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(j=0 ; j &lt; N ; j++)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/* The DP step *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(k=0 ; k &lt; 32 ; k++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ft(data[.][j][k]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ht(data[1][.][.], house);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/* The HT step *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(i=0 ; i &lt; N ; i++)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/* The BF step *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bf(data[i][.][.], house, detect[i][.]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(j=0 ; j &lt; N ; j++)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/* The TD step *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(i=0 ; i &lt; N ; i++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td(detect[i][j], target_report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P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cc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nsaction </a:t>
            </a:r>
            <a:r>
              <a:rPr b="0" lang="en-US" sz="2600" spc="-1" strike="noStrike">
                <a:solidFill>
                  <a:srgbClr val="ff66cc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cessing Performance </a:t>
            </a:r>
            <a:r>
              <a:rPr b="0" lang="en-US" sz="2600" spc="-1" strike="noStrike">
                <a:solidFill>
                  <a:srgbClr val="ff66cc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nc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PC-C: performance of Online Transaction Processing (OLTP)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pmC: transactions per minu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/tpmC: price/perform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ulate the wholesale company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warehouses, 10 sales districts ea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district serves 3,000 customers with one terminal in each distri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PC Transa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perator can perform one of the five trans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a new or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a pay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the order’s stat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liver an or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ine the current stock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from the throughput of New-Ord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p 10 (Performance, Price/Performanc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E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3000" spc="-1" strike="noStrike">
                <a:solidFill>
                  <a:srgbClr val="ff66cc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ndard </a:t>
            </a:r>
            <a:r>
              <a:rPr b="0" lang="en-US" sz="3000" spc="-1" strike="noStrike">
                <a:solidFill>
                  <a:srgbClr val="ff66cc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formance </a:t>
            </a:r>
            <a:r>
              <a:rPr b="0" lang="en-US" sz="3000" spc="-1" strike="noStrike">
                <a:solidFill>
                  <a:srgbClr val="ff66cc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uation </a:t>
            </a:r>
            <a:r>
              <a:rPr b="0" lang="en-US" sz="3000" spc="-1" strike="noStrike">
                <a:solidFill>
                  <a:srgbClr val="ff66cc"/>
                </a:solidFill>
                <a:latin typeface="Arial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por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real applic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 CPU2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 CPU perform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NT2000 - Integer perform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P2000 - Floating-point perform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E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hpc9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 performance of High-Performance syst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 WEB9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 server perform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bstract Machine Mode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 and analysis of parallel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gnore the details of physical machi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AM Mo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SP Mo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ase Parallel Mo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Models: LogP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AM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cc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66cc"/>
                </a:solidFill>
                <a:latin typeface="Arial"/>
              </a:rPr>
              <a:t>r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lel </a:t>
            </a:r>
            <a:r>
              <a:rPr b="0" lang="en-US" sz="3000" spc="-1" strike="noStrike">
                <a:solidFill>
                  <a:srgbClr val="ff66cc"/>
                </a:solidFill>
                <a:latin typeface="Arial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ne Mod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mer’s viewpoi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damental to parallel computation -- all should have these capabili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red-memory mo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nchronous at instruction level (SIMD-lik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AM Model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81080" y="2438280"/>
            <a:ext cx="914400" cy="1524240"/>
            <a:chOff x="1981080" y="2438280"/>
            <a:chExt cx="914400" cy="1524240"/>
          </a:xfrm>
        </p:grpSpPr>
        <p:sp>
          <p:nvSpPr>
            <p:cNvPr id="343" name=""/>
            <p:cNvSpPr/>
            <p:nvPr/>
          </p:nvSpPr>
          <p:spPr>
            <a:xfrm>
              <a:off x="1981080" y="2438280"/>
              <a:ext cx="914400" cy="99072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38280" y="3429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724280" y="2438280"/>
            <a:ext cx="914400" cy="1524240"/>
            <a:chOff x="4724280" y="2438280"/>
            <a:chExt cx="914400" cy="1524240"/>
          </a:xfrm>
        </p:grpSpPr>
        <p:sp>
          <p:nvSpPr>
            <p:cNvPr id="346" name=""/>
            <p:cNvSpPr/>
            <p:nvPr/>
          </p:nvSpPr>
          <p:spPr>
            <a:xfrm>
              <a:off x="4724280" y="2438280"/>
              <a:ext cx="914400" cy="99072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81480" y="3429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352680" y="2438280"/>
            <a:ext cx="914400" cy="1524240"/>
            <a:chOff x="3352680" y="2438280"/>
            <a:chExt cx="914400" cy="1524240"/>
          </a:xfrm>
        </p:grpSpPr>
        <p:sp>
          <p:nvSpPr>
            <p:cNvPr id="349" name=""/>
            <p:cNvSpPr/>
            <p:nvPr/>
          </p:nvSpPr>
          <p:spPr>
            <a:xfrm>
              <a:off x="3352680" y="2438280"/>
              <a:ext cx="914400" cy="99072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09880" y="3429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019920" y="2438280"/>
            <a:ext cx="914400" cy="1524240"/>
            <a:chOff x="6019920" y="2438280"/>
            <a:chExt cx="914400" cy="1524240"/>
          </a:xfrm>
        </p:grpSpPr>
        <p:sp>
          <p:nvSpPr>
            <p:cNvPr id="352" name=""/>
            <p:cNvSpPr/>
            <p:nvPr/>
          </p:nvSpPr>
          <p:spPr>
            <a:xfrm>
              <a:off x="6019920" y="2438280"/>
              <a:ext cx="914400" cy="99072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77120" y="3429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905120" y="3962520"/>
            <a:ext cx="5029200" cy="990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AM Model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= number of process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ecute one instruction at each </a:t>
            </a:r>
            <a:r>
              <a:rPr b="0" lang="en-US" sz="3000" spc="-1" strike="noStrike">
                <a:solidFill>
                  <a:srgbClr val="ff66cc"/>
                </a:solidFill>
                <a:latin typeface="Arial"/>
              </a:rPr>
              <a:t>cy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a null instru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nchronize every cycle (SIMD-lik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load-imbalance overhead (no parallelism overhead, no synchronization overhead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rything in on cy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tch, Execute, Sto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ress performance in big-Oh not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AM Model (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ry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EW - Exclusive Read, Exclusive Write (norma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W - Concurrent Read, Exclusive Wri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CW - Concurrent Read, Concurrent 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at happen if concurrent write occurs 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maximum number in O(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rt in O(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pular Metr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ecution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ughput and Processing Spe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ti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st Effectiven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SP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cc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lk </a:t>
            </a:r>
            <a:r>
              <a:rPr b="0" lang="en-US" sz="3000" spc="-1" strike="noStrike">
                <a:solidFill>
                  <a:srgbClr val="ff66cc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nchronous </a:t>
            </a:r>
            <a:r>
              <a:rPr b="0" lang="en-US" sz="3000" spc="-1" strike="noStrike">
                <a:solidFill>
                  <a:srgbClr val="ff66cc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allel Mod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come PRAM problems while remains simp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step and superste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 computation for w steps and then synchronize (superstep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nchronization takes l time steps.  Communication takes g*h time ste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l memory (not shared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SP Model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371600" y="1905120"/>
            <a:ext cx="3200400" cy="2361960"/>
            <a:chOff x="1371600" y="1905120"/>
            <a:chExt cx="3200400" cy="2361960"/>
          </a:xfrm>
        </p:grpSpPr>
        <p:sp>
          <p:nvSpPr>
            <p:cNvPr id="363" name=""/>
            <p:cNvSpPr/>
            <p:nvPr/>
          </p:nvSpPr>
          <p:spPr>
            <a:xfrm>
              <a:off x="1371600" y="2590920"/>
              <a:ext cx="1752480" cy="167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124080" y="2590920"/>
              <a:ext cx="838440" cy="16761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62520" y="2590920"/>
              <a:ext cx="609480" cy="167616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71600" y="2362320"/>
              <a:ext cx="32004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42880" y="1905120"/>
              <a:ext cx="134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perstep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1371600" y="4724280"/>
            <a:ext cx="64008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9" name=""/>
          <p:cNvSpPr/>
          <p:nvPr/>
        </p:nvSpPr>
        <p:spPr>
          <a:xfrm>
            <a:off x="4132800" y="472428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295280" y="3962520"/>
            <a:ext cx="914400" cy="1371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1" name=""/>
          <p:cNvSpPr/>
          <p:nvPr/>
        </p:nvSpPr>
        <p:spPr>
          <a:xfrm>
            <a:off x="451080" y="541008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mputation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572000" y="1905120"/>
            <a:ext cx="3200400" cy="2361960"/>
            <a:chOff x="4572000" y="1905120"/>
            <a:chExt cx="3200400" cy="2361960"/>
          </a:xfrm>
        </p:grpSpPr>
        <p:sp>
          <p:nvSpPr>
            <p:cNvPr id="373" name=""/>
            <p:cNvSpPr/>
            <p:nvPr/>
          </p:nvSpPr>
          <p:spPr>
            <a:xfrm>
              <a:off x="4572000" y="2590920"/>
              <a:ext cx="1752480" cy="167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2590920"/>
              <a:ext cx="838440" cy="16761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62920" y="2590920"/>
              <a:ext cx="609480" cy="167616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0" y="2362320"/>
              <a:ext cx="32004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43280" y="1905120"/>
              <a:ext cx="134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perstep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V="1">
            <a:off x="3657600" y="3962160"/>
            <a:ext cx="0" cy="1447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9" name=""/>
          <p:cNvSpPr/>
          <p:nvPr/>
        </p:nvSpPr>
        <p:spPr>
          <a:xfrm>
            <a:off x="2649960" y="548640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4267080" y="3962160"/>
            <a:ext cx="1067040" cy="1447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1" name=""/>
          <p:cNvSpPr/>
          <p:nvPr/>
        </p:nvSpPr>
        <p:spPr>
          <a:xfrm>
            <a:off x="5008320" y="548640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SP Model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981080" y="1905120"/>
            <a:ext cx="1447920" cy="3200400"/>
            <a:chOff x="1981080" y="1905120"/>
            <a:chExt cx="1447920" cy="3200400"/>
          </a:xfrm>
        </p:grpSpPr>
        <p:sp>
          <p:nvSpPr>
            <p:cNvPr id="384" name=""/>
            <p:cNvSpPr/>
            <p:nvPr/>
          </p:nvSpPr>
          <p:spPr>
            <a:xfrm>
              <a:off x="2514600" y="1905120"/>
              <a:ext cx="914400" cy="99036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14600" y="2971800"/>
              <a:ext cx="914400" cy="9907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95480" y="4572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81080" y="2438280"/>
              <a:ext cx="53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81080" y="3505320"/>
              <a:ext cx="53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81080" y="457200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81080" y="2286000"/>
              <a:ext cx="0" cy="2438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2133720" y="5105520"/>
            <a:ext cx="4952880" cy="609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onnection Network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657600" y="1905120"/>
            <a:ext cx="1447920" cy="3200400"/>
            <a:chOff x="3657600" y="1905120"/>
            <a:chExt cx="1447920" cy="3200400"/>
          </a:xfrm>
        </p:grpSpPr>
        <p:sp>
          <p:nvSpPr>
            <p:cNvPr id="393" name=""/>
            <p:cNvSpPr/>
            <p:nvPr/>
          </p:nvSpPr>
          <p:spPr>
            <a:xfrm>
              <a:off x="4191120" y="1905120"/>
              <a:ext cx="914400" cy="99036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91120" y="2971800"/>
              <a:ext cx="914400" cy="9907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72000" y="4572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7600" y="2438280"/>
              <a:ext cx="53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57600" y="3505320"/>
              <a:ext cx="53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57600" y="457200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2286000"/>
              <a:ext cx="0" cy="2438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410080" y="1905120"/>
            <a:ext cx="1447920" cy="3200400"/>
            <a:chOff x="5410080" y="1905120"/>
            <a:chExt cx="1447920" cy="3200400"/>
          </a:xfrm>
        </p:grpSpPr>
        <p:sp>
          <p:nvSpPr>
            <p:cNvPr id="401" name=""/>
            <p:cNvSpPr/>
            <p:nvPr/>
          </p:nvSpPr>
          <p:spPr>
            <a:xfrm>
              <a:off x="5943600" y="1905120"/>
              <a:ext cx="914400" cy="99036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43600" y="2971800"/>
              <a:ext cx="914400" cy="9907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24480" y="4572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10080" y="2438280"/>
              <a:ext cx="53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10080" y="3505320"/>
              <a:ext cx="53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10080" y="457200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10080" y="2286000"/>
              <a:ext cx="0" cy="2438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ase Parallel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from BSP by adding more details in overhea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(n) = T(comp) + T(interact) + T(pa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ther Mode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nt models take underlying architectures into accou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P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ssage-passing ba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 on communication overhea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alistic but compl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ecution 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a. Wall clock time, elapsed time, del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PU time + I/O + user +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ower, the bet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h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structu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pu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dware/Software/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sing Spe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fast can the system execut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PS, MFLOP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re, the bet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very misleading 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4267080"/>
            <a:ext cx="220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 = m + n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 = m + n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 = m + n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 = m + n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42670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0 to x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 = m + n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4267080"/>
            <a:ext cx="289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0 to x/4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 = m + n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 = m + n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 = m + n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 = m + n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4191120"/>
            <a:ext cx="23623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4191120"/>
            <a:ext cx="28191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4191120"/>
            <a:ext cx="28954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roughpu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jobs that can be processed in a unit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a. Bandwidth (in communicatio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re, the bet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throughput does not necessary mean low execution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peli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e execution uni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tiliz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tio of sustained speed vs. peak spe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quential: 5-4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lled Pip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/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llel: 1-3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degree of parallelis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heads: communication, I/O, O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6:10:22Z</dcterms:created>
  <dc:creator>Natawut Nupairoj</dc:creator>
  <dc:description/>
  <dc:language>en-US</dc:language>
  <cp:lastModifiedBy>Natawut Nupairoj</cp:lastModifiedBy>
  <dcterms:modified xsi:type="dcterms:W3CDTF">2004-08-08T13:09:07Z</dcterms:modified>
  <cp:revision>24</cp:revision>
  <dc:subject/>
  <dc:title>2110412 Parallel System</dc:title>
</cp:coreProperties>
</file>