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7.jpeg" ContentType="image/jpe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567-D7D2-4B91-B999-A02DBA0A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C0D-9211-4C64-AC3B-FFC1B7FD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9637-8E03-4D2D-B440-7CCC265D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775-5AF1-4820-A3E9-F726634D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8CD-17D9-4FAE-9502-D59973A4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88A-824F-4274-BD76-8451FE99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BB43-F271-4323-A126-480C5A77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949-6A0B-43B0-9114-9430B08A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1E0F-1348-4EBA-B7DA-D4F60A23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A50-5461-4855-BFB6-F555E2C2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7FF7-FD48-4956-9B22-118A38E0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1C0F-0D83-41FE-927A-016AA884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CC64-1B86-49B4-A56B-B266CF9D5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hyperlink" Target="http://www.top500.org/lists/2003/11/1" TargetMode="External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hyperlink" Target="http://www.top500.org/lists/2003/11/2/" TargetMode="External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hyperlink" Target="http://www.top500.org/lists/2003/11/3/" TargetMode="External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hyperlink" Target="http://www.top500.org/lists/2003/11/4/" TargetMode="External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hyperlink" Target="http://www.top500.org/lists/2003/11/5/" TargetMode="External"/><Relationship Id="rId20" Type="http://schemas.openxmlformats.org/officeDocument/2006/relationships/image" Target="../media/image27.png"/><Relationship Id="rId21" Type="http://schemas.openxmlformats.org/officeDocument/2006/relationships/image" Target="../media/image28.png"/><Relationship Id="rId22" Type="http://schemas.openxmlformats.org/officeDocument/2006/relationships/image" Target="../media/image29.jpe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Large and Complex Problem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31640" y="7646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66ff"/>
                </a:solidFill>
                <a:latin typeface="Times New Roman"/>
              </a:rPr>
              <a:t>Toy Story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114,000 frames were rendered (77 min movi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800,000 computer hours. (~90 ye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Each frame required 300 megabytes of data and 2 - 13 computer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3571920" cy="14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352320" y="83628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66ff"/>
                </a:solidFill>
                <a:latin typeface="Times New Roman"/>
              </a:rPr>
              <a:t>Toy Story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Renderfar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87 dual-processor and     30 four-processor SPARCstation 20s (~300 processors in to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ftware: 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Rende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3302280" cy="1365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1139040" y="5638680"/>
            <a:ext cx="820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source: :http://sunsite.anu.edu.au/sunaus/toystory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13372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Syst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8640" y="69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66ff"/>
                </a:solidFill>
                <a:latin typeface="Times New Roman"/>
              </a:rPr>
              <a:t>Toy Story 2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Renderfar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th-TH" sz="2800" spc="-1" strike="noStrike">
                <a:solidFill>
                  <a:srgbClr val="000000"/>
                </a:solidFill>
                <a:latin typeface="Times New Roman"/>
              </a:rPr>
              <a:t>120 Sun Enterprise 4500 servers, each with 14 UltraSPARC II processors, total of 1,680 proc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3373560" cy="139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59280" y="40428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66ff"/>
                </a:solidFill>
                <a:latin typeface="Times New Roman"/>
              </a:rPr>
              <a:t>Final Fantasy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4005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Renderfar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~1000 P-III PCs /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ftware: 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Rende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590920" cy="1629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564000" y="1413000"/>
            <a:ext cx="2308320" cy="309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2004480" y="5943600"/>
            <a:ext cx="126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Source:  http://www.arstechnica.com/wankerdesk/01q3/ff-interview/ff-interview-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59280" y="40428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66ff"/>
                </a:solidFill>
                <a:latin typeface="Times New Roman"/>
              </a:rPr>
              <a:t>Bioinformatics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2976840" cy="403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4038480" cy="2967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1280" y="4581360"/>
            <a:ext cx="71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urier New"/>
              </a:rPr>
              <a:t>GAGGAGGAGAAGGTGGAGAGGAAGAGACGCCCCCTCTGCCCGAGACCTCT CAAGGCCCTGACCTCAGGGGCCAGGGCACTGACAGGACAGGAGAGCCAAG TTCCTCCACTTGGGCTGCCCGAAGAGGCCGCGACCCTGGAGGGCCCTGAG  CCCACCGCACCAGGGGCCCCAGCACCACCCCGGGGGCCTAAAGCGACAGT CTCAGGGGCCATCGCAAGGTTTCCAGTTGCCTAGACAACAGGCCCAGGGT CAGAGCAACAATCCTTCCAGCCACCTGCCTCAACTGCTGCCCCAGGCACC AGCCCCAGTCCCTACGCGGCAGCCAGCCCAGGTG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4920" y="188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66ff"/>
                </a:solidFill>
                <a:latin typeface="Times New Roman"/>
              </a:rPr>
              <a:t>Bioinformatics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8153640" cy="29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yze gene sequences against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ke searching for 1000 character words (similarity search) in 4 Gigabyt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task requires 10,000 sear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BLA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(Basic Local Alignment Search Too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55640" y="1268280"/>
            <a:ext cx="4419720" cy="2016000"/>
            <a:chOff x="755640" y="1268280"/>
            <a:chExt cx="4419720" cy="201600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755640" y="1268280"/>
              <a:ext cx="152892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2432160" y="1268280"/>
              <a:ext cx="2743200" cy="2016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5280" y="4759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66ff"/>
                </a:solidFill>
                <a:latin typeface="Times New Roman"/>
              </a:rPr>
              <a:t>Bioinformatics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Biowul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112 dual-processor Pentium 450 MHz and 550 MHz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3886200"/>
            <a:ext cx="6934320" cy="23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66ff"/>
                </a:solidFill>
                <a:latin typeface="Times New Roman"/>
              </a:rPr>
              <a:t>B</a:t>
            </a:r>
            <a:r>
              <a:rPr b="0" lang="en-US" sz="5400" spc="-1" strike="noStrike">
                <a:solidFill>
                  <a:srgbClr val="0066ff"/>
                </a:solidFill>
                <a:latin typeface="Times New Roman"/>
                <a:ea typeface="Angsana New"/>
              </a:rPr>
              <a:t>LAST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8001000" cy="207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66ff"/>
                </a:solidFill>
                <a:latin typeface="Times New Roman"/>
              </a:rPr>
              <a:t>‘</a:t>
            </a:r>
            <a:r>
              <a:rPr b="0" lang="th-TH" sz="2800" spc="-1" strike="noStrike">
                <a:solidFill>
                  <a:srgbClr val="0066ff"/>
                </a:solidFill>
                <a:latin typeface="Times New Roman"/>
              </a:rPr>
              <a:t>BLAST’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 sequence analysis of 10,000 sequences against a human genome database (over 2 million sequences) on 64 processors takes 50 minu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2 or more days on a typical desktop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1662480" y="5791320"/>
            <a:ext cx="111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source:   </a:t>
            </a: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http://datacenter.cit.nih.gov/interface/interface214/biowulf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he Most Powerful Computer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578400" y="4078440"/>
            <a:ext cx="56880" cy="140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87840" y="4078440"/>
            <a:ext cx="47520" cy="1409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102360" y="1770120"/>
            <a:ext cx="9360" cy="71424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556000" y="1844640"/>
            <a:ext cx="3888360" cy="1225080"/>
            <a:chOff x="2556000" y="1844640"/>
            <a:chExt cx="3888360" cy="1225080"/>
          </a:xfrm>
        </p:grpSpPr>
        <p:pic>
          <p:nvPicPr>
            <p:cNvPr id="108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2556000" y="1844640"/>
              <a:ext cx="2036160" cy="12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6"/>
            <a:stretch/>
          </p:blipFill>
          <p:spPr>
            <a:xfrm>
              <a:off x="4408200" y="1844640"/>
              <a:ext cx="2036160" cy="107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"/>
          <p:cNvGrpSpPr/>
          <p:nvPr/>
        </p:nvGrpSpPr>
        <p:grpSpPr>
          <a:xfrm>
            <a:off x="611280" y="3213000"/>
            <a:ext cx="3526560" cy="1152360"/>
            <a:chOff x="611280" y="3213000"/>
            <a:chExt cx="3526560" cy="1152360"/>
          </a:xfrm>
        </p:grpSpPr>
        <p:pic>
          <p:nvPicPr>
            <p:cNvPr id="111" name="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611280" y="3213000"/>
              <a:ext cx="184284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9"/>
            <a:stretch/>
          </p:blipFill>
          <p:spPr>
            <a:xfrm>
              <a:off x="2295000" y="3213000"/>
              <a:ext cx="1842840" cy="101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4500720" y="3284640"/>
            <a:ext cx="3671280" cy="1080720"/>
            <a:chOff x="4500720" y="3284640"/>
            <a:chExt cx="3671280" cy="1080720"/>
          </a:xfrm>
        </p:grpSpPr>
        <p:pic>
          <p:nvPicPr>
            <p:cNvPr id="114" name="" descr="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4500720" y="3284640"/>
              <a:ext cx="200232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12"/>
            <a:stretch/>
          </p:blipFill>
          <p:spPr>
            <a:xfrm>
              <a:off x="6169680" y="3284640"/>
              <a:ext cx="2002320" cy="95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" descr=""/>
          <p:cNvPicPr/>
          <p:nvPr/>
        </p:nvPicPr>
        <p:blipFill>
          <a:blip r:embed="rId13"/>
          <a:stretch/>
        </p:blipFill>
        <p:spPr>
          <a:xfrm>
            <a:off x="3073320" y="5664240"/>
            <a:ext cx="1266840" cy="66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4"/>
          <a:stretch/>
        </p:blipFill>
        <p:spPr>
          <a:xfrm>
            <a:off x="3830760" y="6089760"/>
            <a:ext cx="1180800" cy="66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5"/>
          <a:stretch/>
        </p:blipFill>
        <p:spPr>
          <a:xfrm>
            <a:off x="4840200" y="6089760"/>
            <a:ext cx="1295640" cy="6660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611280" y="4508640"/>
            <a:ext cx="3887280" cy="1152000"/>
            <a:chOff x="611280" y="4508640"/>
            <a:chExt cx="3887280" cy="1152000"/>
          </a:xfrm>
        </p:grpSpPr>
        <p:pic>
          <p:nvPicPr>
            <p:cNvPr id="120" name="" descr="">
              <a:hlinkClick r:id="rId16"/>
            </p:cNvPr>
            <p:cNvPicPr/>
            <p:nvPr/>
          </p:nvPicPr>
          <p:blipFill>
            <a:blip r:embed="rId17"/>
            <a:stretch/>
          </p:blipFill>
          <p:spPr>
            <a:xfrm>
              <a:off x="611280" y="4508640"/>
              <a:ext cx="228168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18"/>
            <a:stretch/>
          </p:blipFill>
          <p:spPr>
            <a:xfrm>
              <a:off x="2216880" y="4508640"/>
              <a:ext cx="2281680" cy="102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4356000" y="4508640"/>
            <a:ext cx="4321080" cy="1152000"/>
            <a:chOff x="4356000" y="4508640"/>
            <a:chExt cx="4321080" cy="1152000"/>
          </a:xfrm>
        </p:grpSpPr>
        <p:pic>
          <p:nvPicPr>
            <p:cNvPr id="123" name="" descr="">
              <a:hlinkClick r:id="rId19"/>
            </p:cNvPr>
            <p:cNvPicPr/>
            <p:nvPr/>
          </p:nvPicPr>
          <p:blipFill>
            <a:blip r:embed="rId20"/>
            <a:stretch/>
          </p:blipFill>
          <p:spPr>
            <a:xfrm>
              <a:off x="4356000" y="4508640"/>
              <a:ext cx="247284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1"/>
            <a:stretch/>
          </p:blipFill>
          <p:spPr>
            <a:xfrm>
              <a:off x="6203520" y="4508640"/>
              <a:ext cx="2473560" cy="102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574560" y="5805360"/>
            <a:ext cx="8569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ngsana New"/>
              </a:rPr>
              <a:t>mega =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ngsana New"/>
              </a:rPr>
              <a:t>6 </a:t>
            </a:r>
            <a:r>
              <a:rPr b="0" lang="th-TH" sz="2400" spc="-1" strike="noStrike" baseline="30000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ล้าน</a:t>
            </a:r>
            <a:r>
              <a:rPr b="0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Angsana New"/>
              </a:rPr>
              <a:t> giga  =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ngsana New"/>
              </a:rPr>
              <a:t>9 </a:t>
            </a:r>
            <a:r>
              <a:rPr b="0" lang="en-US" sz="2400" spc="-1" strike="noStrike">
                <a:solidFill>
                  <a:srgbClr val="3333cc"/>
                </a:solidFill>
                <a:latin typeface="Angsana New"/>
              </a:rPr>
              <a:t>(</a:t>
            </a:r>
            <a:r>
              <a:rPr b="0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พัน</a:t>
            </a:r>
            <a:r>
              <a:rPr b="0" lang="th-TH" sz="2400" spc="-1" strike="noStrike">
                <a:solidFill>
                  <a:srgbClr val="3333cc"/>
                </a:solidFill>
                <a:latin typeface="Angsana New"/>
              </a:rPr>
              <a:t>ล้าน</a:t>
            </a:r>
            <a:r>
              <a:rPr b="0" lang="en-US" sz="2400" spc="-1" strike="noStrike">
                <a:solidFill>
                  <a:srgbClr val="3333cc"/>
                </a:solidFill>
                <a:latin typeface="Angsana New"/>
              </a:rPr>
              <a:t>) , tera =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ngsana New"/>
              </a:rPr>
              <a:t>12 </a:t>
            </a:r>
            <a:r>
              <a:rPr b="0" lang="en-US" sz="2400" spc="-1" strike="noStrike">
                <a:solidFill>
                  <a:srgbClr val="3333cc"/>
                </a:solidFill>
                <a:latin typeface="Angsana New"/>
              </a:rPr>
              <a:t>(</a:t>
            </a:r>
            <a:r>
              <a:rPr b="0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ล้าน</a:t>
            </a:r>
            <a:r>
              <a:rPr b="0" lang="th-TH" sz="2400" spc="-1" strike="noStrike">
                <a:solidFill>
                  <a:srgbClr val="3333cc"/>
                </a:solidFill>
                <a:latin typeface="Angsana New"/>
              </a:rPr>
              <a:t>ล้าน</a:t>
            </a:r>
            <a:r>
              <a:rPr b="0" lang="en-US" sz="2400" spc="-1" strike="noStrike">
                <a:solidFill>
                  <a:srgbClr val="3333cc"/>
                </a:solidFill>
                <a:latin typeface="Angsana New"/>
              </a:rPr>
              <a:t>) , peta =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ngsana New"/>
              </a:rPr>
              <a:t>15</a:t>
            </a:r>
            <a:r>
              <a:rPr b="0" lang="th-TH" sz="2400" spc="-1" strike="noStrike" baseline="30000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ngsana New"/>
              </a:rPr>
              <a:t>(</a:t>
            </a:r>
            <a:r>
              <a:rPr b="0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พันล้าน</a:t>
            </a:r>
            <a:r>
              <a:rPr b="0" lang="th-TH" sz="2400" spc="-1" strike="noStrike">
                <a:solidFill>
                  <a:srgbClr val="3333cc"/>
                </a:solidFill>
                <a:latin typeface="Angsana New"/>
              </a:rPr>
              <a:t>ล้าน</a:t>
            </a:r>
            <a:r>
              <a:rPr b="0" lang="en-US" sz="2400" spc="-1" strike="noStrike">
                <a:solidFill>
                  <a:srgbClr val="3333cc"/>
                </a:solidFill>
                <a:latin typeface="Angsana New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2"/>
          <a:stretch/>
        </p:blipFill>
        <p:spPr>
          <a:xfrm>
            <a:off x="468360" y="404640"/>
            <a:ext cx="2386080" cy="1127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59280" y="765000"/>
            <a:ext cx="55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ngsana New"/>
              </a:rPr>
              <a:t>World’s Fastest Computers: The Top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Angsana New"/>
              </a:rPr>
              <a:t>Grand Challenge is a National Issue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28640" y="1739880"/>
            <a:ext cx="7659720" cy="303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2124000" y="4797360"/>
          <a:ext cx="6120000" cy="79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4797360"/>
                    <a:ext cx="61200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616360" cy="3368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80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#1 Japan’s Earth Simul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32200" y="4869000"/>
            <a:ext cx="7936560" cy="1442880"/>
            <a:chOff x="232200" y="4869000"/>
            <a:chExt cx="7936560" cy="1442880"/>
          </a:xfrm>
        </p:grpSpPr>
        <p:sp>
          <p:nvSpPr>
            <p:cNvPr id="133" name=""/>
            <p:cNvSpPr/>
            <p:nvPr/>
          </p:nvSpPr>
          <p:spPr>
            <a:xfrm>
              <a:off x="645840" y="4891320"/>
              <a:ext cx="176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ngsana New"/>
                  <a:ea typeface="ＭＳ Ｐゴシック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2200" y="5237280"/>
              <a:ext cx="36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ngsana New"/>
                  <a:ea typeface="ＭＳ Ｐゴシック"/>
                </a:rPr>
                <a:t>Peak performance / 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7480" y="5583240"/>
              <a:ext cx="307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ngsana New"/>
                  <a:ea typeface="ＭＳ Ｐゴシック"/>
                </a:rPr>
                <a:t>Peak performance /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2840" y="5943600"/>
              <a:ext cx="199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ngsana New"/>
                  <a:ea typeface="ＭＳ Ｐゴシック"/>
                </a:rPr>
                <a:t>Shared 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09560" y="5237280"/>
              <a:ext cx="109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ngsana New"/>
                  <a:ea typeface="ＭＳ Ｐゴシック"/>
                </a:rPr>
                <a:t>8 Gfl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82200" y="5583240"/>
              <a:ext cx="122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ngsana New"/>
                  <a:ea typeface="ＭＳ Ｐゴシック"/>
                </a:rPr>
                <a:t>64 Gfl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79400" y="5931000"/>
              <a:ext cx="82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ngsana New"/>
                  <a:ea typeface="ＭＳ Ｐゴシック"/>
                </a:rPr>
                <a:t>16 G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57920" y="4891320"/>
              <a:ext cx="33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ngsana New"/>
                  <a:ea typeface="ＭＳ Ｐゴシック"/>
                </a:rPr>
                <a:t>Total number of process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5237280"/>
              <a:ext cx="27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ngsana New"/>
                  <a:ea typeface="ＭＳ Ｐゴシック"/>
                </a:rPr>
                <a:t>Total number of no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43960" y="5583240"/>
              <a:ext cx="292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ngsana New"/>
                  <a:ea typeface="ＭＳ Ｐゴシック"/>
                </a:rPr>
                <a:t>Total peak perform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0960" y="5931000"/>
              <a:ext cx="24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ngsana New"/>
                  <a:ea typeface="ＭＳ Ｐゴシック"/>
                </a:rPr>
                <a:t>Total main 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40160" y="4869000"/>
              <a:ext cx="83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ngsana New"/>
                  <a:ea typeface="ＭＳ Ｐゴシック"/>
                </a:rPr>
                <a:t>5,1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80840" y="5237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ngsana New"/>
                  <a:ea typeface="ＭＳ Ｐゴシック"/>
                </a:rPr>
                <a:t>6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74640" y="5583240"/>
              <a:ext cx="11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ngsana New"/>
                  <a:ea typeface="ＭＳ Ｐゴシック"/>
                </a:rPr>
                <a:t>40 Tfl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71840" y="59310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ngsana New"/>
                  <a:ea typeface="ＭＳ Ｐゴシック"/>
                </a:rPr>
                <a:t>10 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71640" y="5259600"/>
              <a:ext cx="3578040" cy="103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13480" y="4913280"/>
              <a:ext cx="3414600" cy="13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71640" y="5618160"/>
              <a:ext cx="35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71640" y="5965920"/>
              <a:ext cx="35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13480" y="5272200"/>
              <a:ext cx="34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13480" y="5618160"/>
              <a:ext cx="34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13480" y="5953320"/>
              <a:ext cx="34146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5160" y="5259600"/>
              <a:ext cx="0" cy="10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40600" y="4913280"/>
              <a:ext cx="0" cy="13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Times New Roman"/>
              </a:rPr>
              <a:t>Processor Cabinet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91520" cy="3984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952880" y="4219560"/>
            <a:ext cx="370836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#2 LANL’s ASCI Q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6782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88 TFl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819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de cluster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        HP AlphaServ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5 G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L (Los Alamos National Laborat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A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nalyze and predict the performance, safety, and reliability of nuclear weapons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#3 Virginia Tech’s System X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28 T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100-node cluster,  Apple G5, Dual PowerPC970 2GHz, 4GB memory, 160GB disk (total 176 TB), Mac OS X (FreeBSD based UNI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.2 mill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651640" y="1844640"/>
            <a:ext cx="2665440" cy="1584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651640" y="3500280"/>
            <a:ext cx="264132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System X’s Application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noscale Elect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um 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al Chemistry/Bio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al Fluid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al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mputational Electromagne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Systems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scale Network e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#4 NCSA’s Tungsten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1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81 TFl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450-node cluster, dual-processor Dell PowerEdge 1750, 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Intel Xe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3.06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G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NCSA (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National Center for Supercomputing 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)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227640" y="1844640"/>
            <a:ext cx="2087640" cy="1392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227640" y="328464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#5 PNNL’s MPP2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63 T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80-node cluster, HP Longs Peak, dual Intel Itanium-2 1.5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NL (Pacific Northwest National Laborat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: Molecula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219640" y="2133720"/>
            <a:ext cx="295272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he Real No.1  68.06 TFlops !!!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616720" cy="42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-489600" y="5876280"/>
            <a:ext cx="657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Last updated: Fri Jan 23 01:33:45 200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55640" y="1341360"/>
          <a:ext cx="7632720" cy="4395960"/>
        </p:xfrm>
        <a:graphic>
          <a:graphicData uri="http://schemas.openxmlformats.org/drawingml/2006/table">
            <a:tbl>
              <a:tblPr/>
              <a:tblGrid>
                <a:gridCol w="2360520"/>
                <a:gridCol w="2540160"/>
                <a:gridCol w="27320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Last 24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Us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,848,5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,457 (new user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Results recei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,213,258,3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,507,6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Total CPU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,783,547.603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,324.293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Floating Point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Oper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.315893e+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.879995e+18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68.06 TeraFLOPs/se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Average CPU tim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per work un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2 hr 52 min 39.4 s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7 hr 41 min 39.9 s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762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NITRD’s Grand Challenge Problem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Knowledge Environments for Science and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Clean Energy Production Through Improved Combu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High Confidence Infrastructure Contro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Improved Patient Safety and Health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Informed Strategic Planning for Long-Term Regional Climate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Nanoscale Science and Technology: Explore and Exploit the Behavior of Ensembles of Atoms and Molec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Predicting Pathways and Health Effects of Pollu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Real-Time Detection, Assessment, and Response to Natural or Man-Made Thre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Safer, More Secure, More Efficient, Higher-Capacity, Multi-Modal Transportatio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Anticipate Consequences of Universal Participation in a Digital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Collaborative Intelligence: Integrating Humans with Intelligent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Generating Insights From Information at Your Fingert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Managing Knowledge-Intensive Dynamic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Rapidly Acquiring Proficiency in Natural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SimUniverse: Learning by Expl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Virtual Lifetime Tutor for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A Simplified version of Grand Challenge Problem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 Fore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stic Computer An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Simul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cular Sim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87280" y="907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66ff"/>
                </a:solidFill>
                <a:latin typeface="Times New Roman"/>
              </a:rPr>
              <a:t>Weather Forecast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2514600"/>
            <a:ext cx="2286000" cy="1784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2210040" cy="1725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486400" y="4419720"/>
            <a:ext cx="2666880" cy="2081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990720" y="2286000"/>
            <a:ext cx="3419280" cy="2190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914400" y="304920"/>
            <a:ext cx="2438280" cy="19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66ff"/>
                </a:solidFill>
                <a:latin typeface="Times New Roman"/>
              </a:rPr>
              <a:t>Weather Forecast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36-kilometer grid consists of 136 x 112 horizontal cells and 33 vertical layers (503,000 cells in tot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eration count for this scenario is 2,398 Mflop per time step (each step typically 1-3 minu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236232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Problem siz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8920" y="4759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66ff"/>
                </a:solidFill>
                <a:latin typeface="Times New Roman"/>
              </a:rPr>
              <a:t>Weather Forecast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Pentium-III 500MHz can do 99 Mflop/sec, simulating 1 minute step in 24 sec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Cluster of 64 nodes can do 2858 Mflop/sec, simulating 1 minute step in less than 1 second, or simulating 24 hours in 2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0958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source:  http://www.mmm.ucar.edu/mm5/mpp/helpdesk/20000106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344160" y="1808280"/>
            <a:ext cx="544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Time-critical t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66ff"/>
                </a:solidFill>
                <a:latin typeface="Times New Roman"/>
              </a:rPr>
              <a:t>Weather Forecast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tion-wide weather forec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1973880" y="3124080"/>
            <a:ext cx="1235556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Thailand’s 500,000 sq km covers about 400 gr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More accuracy requires finer grids and time st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9520" y="102852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66ff"/>
                </a:solidFill>
                <a:latin typeface="Times New Roman"/>
              </a:rPr>
              <a:t>Computer Animation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5400720" cy="3238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2838240" cy="2571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2085840" cy="1609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16:05:49Z</dcterms:created>
  <dc:creator>Barbara Chapman</dc:creator>
  <dc:description/>
  <dc:language>en-US</dc:language>
  <cp:lastModifiedBy>Natawut Nupairoj</cp:lastModifiedBy>
  <dcterms:modified xsi:type="dcterms:W3CDTF">2004-06-14T06:24:23Z</dcterms:modified>
  <cp:revision>81</cp:revision>
  <dc:subject/>
  <dc:title>COSC6374</dc:title>
</cp:coreProperties>
</file>