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D18-E25C-46B7-B26E-D22E9896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D7D-557C-470F-B0B4-894CDA9E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FC2-A086-4E3C-A8E5-3E689925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A66-B96E-4BEE-9822-AC084395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250-2F9C-48B2-9C65-E28B6581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C82-CADF-4EF4-9ED9-FFD0E1A7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035-CD4F-4A86-AFDB-2A14EC68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5A4-B302-41CA-B129-FE714644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6AC-A999-43B1-84F9-29C7D876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E78-1B84-415A-A567-11B6A85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EA3-C978-42FD-BC0D-1EBFF255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7D6-3812-4869-8EAB-0AFBEDD4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Click to edit the title text format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spcBef>
                <a:spcPts val="9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2" marL="878760" indent="-261360">
              <a:spcBef>
                <a:spcPts val="9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3" marL="1140120" indent="-259920">
              <a:spcBef>
                <a:spcPts val="95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4" marL="1422720" indent="-281160">
              <a:spcBef>
                <a:spcPts val="95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5" marL="1422720" indent="-281160">
              <a:spcBef>
                <a:spcPts val="9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6" marL="1422720" indent="-281160">
              <a:spcBef>
                <a:spcPts val="9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0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AD2B-3996-4D86-81BF-F4C4D841C5A8}" type="slidenum">
              <a: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Browallia New"/>
              </a:rPr>
              <a:t>Click to edit the title text format</a:t>
            </a:r>
            <a:endParaRPr b="1" lang="en-US" sz="5400" spc="-1" strike="noStrike">
              <a:solidFill>
                <a:srgbClr val="330066"/>
              </a:solidFill>
              <a:latin typeface="Browallia New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7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lvl="1" marL="344520"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2" marL="693720" algn="ctr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3" marL="988920" algn="ctr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4" marL="1282680" algn="ctr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5" marL="12826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6" marL="12826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330066"/>
                </a:solidFill>
                <a:latin typeface="Browallia New"/>
              </a:rPr>
              <a:t>ความรู้เบื้องต้นเกี่ยวกับ</a:t>
            </a:r>
            <a:br>
              <a:rPr sz="5400"/>
            </a:br>
            <a:r>
              <a:rPr b="1" lang="hi-IN" sz="5400" spc="-1" strike="noStrike">
                <a:solidFill>
                  <a:srgbClr val="330066"/>
                </a:solidFill>
                <a:latin typeface="Browallia New"/>
              </a:rPr>
              <a:t>การประเมินประสิทธิภาพ</a:t>
            </a:r>
            <a:endParaRPr b="1" lang="en-US" sz="54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530528  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การประเมินประสิทธิภาพของคอมพิวเตอร์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อ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.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ดร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.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ณัฐวุฒิ หนูไพโรจน์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ภาควิชาวิศวกรรมคอมพิวเตอร์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จุฬาลงกรณ์มหาวิทยาลัย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Browallia New"/>
              </a:rPr>
              <a:t>Perf. Mgmt. vs. Capacity Planning</a:t>
            </a:r>
            <a:endParaRPr b="1" lang="en-US" sz="47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Performance Management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29640" indent="-3164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การรับรู้และจัดการประสิทธิภาพของระบบในปัจจุบัน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lvl="1" marL="629640" indent="-3164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เป็นแบบ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short-ter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lvl="1" marL="629640" indent="-3164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การจัดหาจำนวนที่นั่งในโรงอาหารให้พอแก่ความต้องการในปัจจุบัน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Capacity Planning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การออกแบบระบบเพื่อให้สามารถรองรับปริมาณงานที่จะเกิดขึ้นในอนาคตได้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เป็นแบบ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long-term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หรือ “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what-if” scenario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การจัดหาจำนวนที่นั่งในโรงอาหารให้พอแก่ความต้องการในอีก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ปี ถ้าสมมุติว่าจะมีนิสิตเพิ่มอีก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50%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marL="305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CED2-43FD-4D8B-8EE1-7220FBBE13B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100" spc="-1" strike="noStrike">
                <a:solidFill>
                  <a:srgbClr val="330066"/>
                </a:solidFill>
                <a:latin typeface="Browallia New"/>
              </a:rPr>
              <a:t>รูปแบบของการประเมินประสิทธิภาพ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การสร้างแบบจำลองเสมือ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Performance Modeling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ใช้สูตรคณิตศาสตร์ช่วยในการประเมิน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สะดวก รวดเร็ว แต่ใช้ได้กับระบบที่ไม่ซับซ้อน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การจำลองการทำงา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Simulation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ใช้โปรแกรม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หรืออุปกรณ์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ช่วยในการจำลอง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การทดสอบกับของจริง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Benchmarking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เสมือนจริง แต่ใช้ได้กับระบบที่มีอยู่แล้วเท่านั้น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895-2793-49DA-9A25-02801EF914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100" spc="-1" strike="noStrike">
                <a:solidFill>
                  <a:srgbClr val="330066"/>
                </a:solidFill>
                <a:latin typeface="Browallia New"/>
              </a:rPr>
              <a:t>องค์ประกอบที่เกี่ยวข้อง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ystem (SUT, SUI, …).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Entity.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Activities.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Workload (arrival rate).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ystem Capacity (service rate,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จำนว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erver).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Variables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หรือ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Metrics.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93F-CE3A-4123-9F68-C57E8ECCB9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ตัวอย่าง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: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ร้านอาหาร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Fast Food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ystem: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เคาน์เตอร์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cashier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15360" indent="-31536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Entity: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ลูกค้าที่สั่งอาหาร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15360" indent="-31536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Activities: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การสั่งอาหาร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15360" indent="-31536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Workload: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จำนวนลูกค้าที่เข้าร้านต่อชั่วโมง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15360" indent="-31536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ystem Capacity: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จำนว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cashier,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ระยะเวลาในการจัดอาหาร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15360" indent="-31536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Variables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หรือ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Metrics: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เวลาที่ลูกค้ารอคิว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สัดส่วนของ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cashier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ที่ว่าง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979-0D4E-4C9A-BA69-3B9D266EF5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100" spc="-1" strike="noStrike">
                <a:solidFill>
                  <a:srgbClr val="330066"/>
                </a:solidFill>
                <a:latin typeface="Browallia New"/>
              </a:rPr>
              <a:t>ตัวอย่างอื่นๆ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เจ้าหน้าที่ธนาคาร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ร้านบริการทำความสะอาดรถยนต์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ลิฟต์ของตึก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835-61F1-451A-BCED-AD38D3BE3A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100" spc="-1" strike="noStrike">
                <a:solidFill>
                  <a:srgbClr val="330066"/>
                </a:solidFill>
                <a:latin typeface="Browallia New"/>
              </a:rPr>
              <a:t>บทสรุป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สาเหตุและเป้าหมายของการประเมิน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รูปแบบในการประเมิน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องค์ประกอบที่เกี่ยวข้องกับการประเมิน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279-4DC1-4460-B797-B31DB59278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100" spc="-1" strike="noStrike">
                <a:solidFill>
                  <a:srgbClr val="330066"/>
                </a:solidFill>
                <a:latin typeface="Browallia New"/>
              </a:rPr>
              <a:t>หัวข้อการบรรยาย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เป้าหมายของการประเมิน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นิยามพื้นฐาน และความรู้ทั่วไป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รูปแบบและสิ่งที่เกี่ยวข้องกับการประเมิน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ตัวอย่างของการประเมิน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950-BB5F-4315-BFF9-340F90F877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100" spc="-1" strike="noStrike">
                <a:solidFill>
                  <a:srgbClr val="330066"/>
                </a:solidFill>
                <a:latin typeface="Browallia New"/>
              </a:rPr>
              <a:t>ต้นเหตุของการประเมิ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ต้องการประเมินคุณภาพของสิ่งที่ยังไม่มีอยู่จริง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การออกแบบ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CPU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ชนิดใหม่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การเช่าที่ตั้งร้านอินเตอร์เน็ตที่หน้ามหาวิทยาลัย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ต้องการปรับปรุงของที่มีอยู่เดิม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การเพิ่มขนาด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main memory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การเพิ่มจำนวนเครื่องในร้าน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ปรับเปลี่ยนการจัดการจราจรในมหาวิทยาลัย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C41-EEA9-4273-83FA-A1EE332D0A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100" spc="-1" strike="noStrike">
                <a:solidFill>
                  <a:srgbClr val="330066"/>
                </a:solidFill>
                <a:latin typeface="Browallia New"/>
              </a:rPr>
              <a:t>เป้าหมายของการประเมิ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เป็น</a:t>
            </a:r>
            <a:r>
              <a:rPr b="1" lang="en-US" sz="3400" spc="-1" strike="noStrike">
                <a:solidFill>
                  <a:srgbClr val="ff0000"/>
                </a:solidFill>
                <a:latin typeface="Browallia New"/>
              </a:rPr>
              <a:t>ไม้บรรทัด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ใช้ในการวัด</a:t>
            </a:r>
            <a:r>
              <a:rPr b="1" lang="en-US" sz="3400" spc="-1" strike="noStrike">
                <a:solidFill>
                  <a:srgbClr val="ff0000"/>
                </a:solidFill>
                <a:latin typeface="Browallia New"/>
              </a:rPr>
              <a:t>ประสิทธิภาพ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71400" indent="-33732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ลดเวลาการทำงาน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/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การรอคอย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71400" indent="-33732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เพิ่มประสิทธิภาพในการให้บริการ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71400" indent="-33732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ประหยัดค่าใช้จ่าย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71400" indent="-33732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แบ่งกลุ่มตามคุณภาพ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ปรับปรุงแล้วอาจจะไม่ดีขึ้นทั้งหมด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</a:t>
            </a:r>
            <a:r>
              <a:rPr b="1" lang="en-US" sz="3400" spc="-1" strike="noStrike">
                <a:solidFill>
                  <a:srgbClr val="ff0000"/>
                </a:solidFill>
                <a:latin typeface="Browallia New"/>
              </a:rPr>
              <a:t>Trade-off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71400" indent="-33732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ลดเวลาแต่แพงขึ้น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71400" indent="-33732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ประหยัดงบประมาณแต่บริการได้น้อยลง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38A-BFA5-43D8-AA82-F5CA91C9B4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ตัวอย่างในชีวิตจริง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(1)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เครื่องคอมพิวเตอร์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ความเร็วของ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CPU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ราคา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CPU vs.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ความเร็วในการประมวลผล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ขนาดของ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main memory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ราคา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memory vs.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ประสิทธิภาพโดยรวมของระบบ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ชนิดของ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graphic card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ราคา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card vs.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ความเร็วในการประมวลผลกราฟิก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E4B-5744-400A-8FCD-C820BB0579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ตัวอย่างในชีวิตจริง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(2)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เจ้าหน้าที่คิดเงินที่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upermarket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71400" indent="-33732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จำนวนเจ้าหน้าที่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ช่องที่เปิดให้บริการ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2" marL="957600" indent="-284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ค่าจ้างเจ้าหน้าที่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vs.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เวลารอคิวของลูกค้า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1" marL="671400" indent="-33732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การฝึกอบรมเจ้าหน้าที่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2" marL="957600" indent="-284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ค่าใช้จ่ายในการฝึกอบรม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vs.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ความเร็วในการให้บริการ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1" marL="671400" indent="-33732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การใช้ระบบอัตโนมัติ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2" marL="957600" indent="-284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ค่าอุปกรณ์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vs.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ค่าจ้างเจ้าหน้าที่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vs.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ความเร็วในการให้บริการ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27C-867E-4768-B037-061ED38672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ตัวอย่างในชีวิตจริง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(3)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การออกแบบบันใดเลื่อนและลิฟต์ในห้างสรรพสินค้า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จำนวนบันใดเลื่อน และจำนวนลิฟต์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ความสะดวกของลูกค้า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(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เวลาที่ใช้ในการเดินทาง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ประสิทธิภาพของร้านค้า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(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ปริมาณการเดินผ่านร้านของลูกค้า ระหว่างการเปลี่ยนชั้น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ค่าใช้จ่าย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C75-DAD0-4335-B161-27B62D3794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Price-Performance Comparison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878440" cy="446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9FC-0B8F-4663-9A31-1DAFD79B64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100" spc="-1" strike="noStrike">
                <a:solidFill>
                  <a:srgbClr val="330066"/>
                </a:solidFill>
                <a:latin typeface="Browallia New"/>
              </a:rPr>
              <a:t>แนะนำนิยามพื้นฐา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Performance Measurement.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Benchmarks.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Performance Analysis.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Performance Evaluation.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ervice Level Agreements.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C22-6469-4444-86E3-42297F2F65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8:44:32Z</dcterms:created>
  <dc:creator>Natawut Nupairoj</dc:creator>
  <dc:description/>
  <dc:language>en-US</dc:language>
  <cp:lastModifiedBy>Natawut Nupairoj</cp:lastModifiedBy>
  <dcterms:modified xsi:type="dcterms:W3CDTF">2003-10-30T10:49:58Z</dcterms:modified>
  <cp:revision>8</cp:revision>
  <dc:subject/>
  <dc:title>ความรู้เบื้องต้นเกี่ยวกับ การประเมินสมรรถภาพ</dc:title>
</cp:coreProperties>
</file>