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FB26-E1CE-4EFA-8534-213466AD6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B48C-2801-4691-B5E7-EF6B0807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13BE-CE5D-4626-9365-4D7CB68B0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E997-1AAA-4BC6-9532-1074D8DA8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25A2-C556-4453-93A8-75CC8A19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50D7-0553-4B80-AF2B-044CC782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37F6-D848-42D5-82A4-AEF93BDF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9966-F075-4C34-A360-B455B47C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A030-10BB-49E0-9970-86E1FACB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CA39-CEDF-46C7-ACF6-4491CC00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8000-EB27-4DD7-931D-78432209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CA15-963C-4B65-B070-6E4AD540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7D09-6CB9-4E18-A92A-FD1FD55AA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P-complete proo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828800"/>
            <a:ext cx="807732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ircuit satisfiability proof of NP-completeness relies on a direct proof that L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 CIRCUIT-SAT for every L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N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mma 36.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L is a language such that L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 L for some L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PC, then L is NP-hard.  Moreover, if L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P, then L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P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2E79-EABF-4226-A6E2-4BF2391830A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solv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1752480"/>
            <a:ext cx="815328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t with as many elements as the integers is called countably  infini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every infinite set is coun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show that there are computationally unsolvable problems.  The subset of problems can be described by boolean functions on the integers; f such that f(n) is 0/1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813A-96A5-4C78-8607-2D4588C3C03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09480" y="7621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e set of all such functions is countably infinite.  There is a correspondence between each function and each inte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143000" y="2286000"/>
            <a:ext cx="3352680" cy="2209680"/>
            <a:chOff x="1143000" y="2286000"/>
            <a:chExt cx="3352680" cy="2209680"/>
          </a:xfrm>
        </p:grpSpPr>
        <p:sp>
          <p:nvSpPr>
            <p:cNvPr id="110" name=""/>
            <p:cNvSpPr/>
            <p:nvPr/>
          </p:nvSpPr>
          <p:spPr>
            <a:xfrm>
              <a:off x="1828800" y="2819520"/>
              <a:ext cx="0" cy="167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28800" y="2819520"/>
              <a:ext cx="259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7400" y="3048120"/>
              <a:ext cx="24382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1  1  0  0  1  1 . 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.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2971800"/>
              <a:ext cx="762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f 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38280" y="228600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2971800" y="3809880"/>
            <a:ext cx="167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 n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480060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agonalization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e can show that at least one boolean function cannot be in this li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903A-586B-4988-9635-5AE5F7BE82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09480" y="609480"/>
            <a:ext cx="800100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every program is a finite string of symbols, each chosen from a single finite alphabet, then it is possible to show that the set of all programs is countably infini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there is more problems than there are programs to solve them.  Thus, at least one function is not describable as the output of any program, so it is computationally unsolv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2477-6C4D-40C4-9760-DB0107C856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762120"/>
            <a:ext cx="8077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 A simple system such as Presburger arithmetic, is a formal system of the positive integers together with addition and equality alone.  Deciding whether a statement in this system is true is           in the length of the stat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3581280" y="2743200"/>
                <a:ext cx="7016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41CE-C018-41D8-B77E-15A248B526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609480"/>
            <a:ext cx="79246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nsolv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vized unsolvable (oracle machin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lv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ably infeasible (Presburger arithmeti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ly infeasible (satisfiabilit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a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 (normal optimization problem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(normal computer science problem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domized easy  (primality test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ly easy (sorting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6CC3-9E5A-4612-B7CE-EB67A1C99D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hard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2133720"/>
            <a:ext cx="75438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x the problem -- use approx. al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x the method -- use probabilistic algo and give up total correc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x the architecture -- use paralle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x the machine -- use analog computer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3555-E904-4F1E-B201-9A5557630F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533520"/>
            <a:ext cx="792504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e L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N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a known NP-complete language L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ve an algorithm that compu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pping every instance of L’ to an instance of 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atisfi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L’ iff  f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0,1}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e that the algorithm comput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s in polynomial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C34B-C297-422E-A802-975B3BD223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P-complet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828800"/>
            <a:ext cx="76964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T = { &lt;Phi&gt; | Phi is a satisfiable boolean formula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orem 36.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T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P-compl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o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  SA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P (show a certificate can be verified in polynomial time),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RCUIT-SAT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  S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B16C-ED6B-476C-8C69-2DC11BBDAE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304920"/>
            <a:ext cx="8153280" cy="59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3-CNF-S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NF conjunctive normal form (AND of Ored-clauses)  to simplify reduction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-CNF-SA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NP,   SAT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  3-CNF-S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LIQ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 &lt;G,K&gt; | G is a graph with a clique of size k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liq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an undirected graph G = (V,E) is a subset  V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V of vertices each pair of which is connected by an edge in E (a clique is a complete subgraph of G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8402-EF90-4D52-A753-5B12E6325C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2666880" y="838080"/>
            <a:ext cx="3504960" cy="2288520"/>
            <a:chOff x="2666880" y="838080"/>
            <a:chExt cx="3504960" cy="2288520"/>
          </a:xfrm>
        </p:grpSpPr>
        <p:grpSp>
          <p:nvGrpSpPr>
            <p:cNvPr id="48" name=""/>
            <p:cNvGrpSpPr/>
            <p:nvPr/>
          </p:nvGrpSpPr>
          <p:grpSpPr>
            <a:xfrm>
              <a:off x="3429000" y="838080"/>
              <a:ext cx="533160" cy="459720"/>
              <a:chOff x="3429000" y="838080"/>
              <a:chExt cx="533160" cy="459720"/>
            </a:xfrm>
          </p:grpSpPr>
          <p:sp>
            <p:nvSpPr>
              <p:cNvPr id="49" name=""/>
              <p:cNvSpPr/>
              <p:nvPr/>
            </p:nvSpPr>
            <p:spPr>
              <a:xfrm>
                <a:off x="3429000" y="838080"/>
                <a:ext cx="533160" cy="4572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504960" y="8380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5638680" y="1752480"/>
              <a:ext cx="533160" cy="459720"/>
              <a:chOff x="5638680" y="1752480"/>
              <a:chExt cx="533160" cy="459720"/>
            </a:xfrm>
          </p:grpSpPr>
          <p:sp>
            <p:nvSpPr>
              <p:cNvPr id="52" name=""/>
              <p:cNvSpPr/>
              <p:nvPr/>
            </p:nvSpPr>
            <p:spPr>
              <a:xfrm>
                <a:off x="5638680" y="1752480"/>
                <a:ext cx="533160" cy="4572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714640" y="17524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4800600" y="2666880"/>
              <a:ext cx="533160" cy="459720"/>
              <a:chOff x="4800600" y="2666880"/>
              <a:chExt cx="533160" cy="459720"/>
            </a:xfrm>
          </p:grpSpPr>
          <p:sp>
            <p:nvSpPr>
              <p:cNvPr id="55" name=""/>
              <p:cNvSpPr/>
              <p:nvPr/>
            </p:nvSpPr>
            <p:spPr>
              <a:xfrm>
                <a:off x="4800600" y="2666880"/>
                <a:ext cx="533160" cy="4572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876560" y="26668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4800600" y="838080"/>
              <a:ext cx="533160" cy="459720"/>
              <a:chOff x="4800600" y="838080"/>
              <a:chExt cx="533160" cy="459720"/>
            </a:xfrm>
          </p:grpSpPr>
          <p:sp>
            <p:nvSpPr>
              <p:cNvPr id="58" name=""/>
              <p:cNvSpPr/>
              <p:nvPr/>
            </p:nvSpPr>
            <p:spPr>
              <a:xfrm>
                <a:off x="4800600" y="838080"/>
                <a:ext cx="533160" cy="4572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876560" y="8380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352680" y="2590920"/>
              <a:ext cx="533160" cy="459720"/>
              <a:chOff x="3352680" y="2590920"/>
              <a:chExt cx="533160" cy="459720"/>
            </a:xfrm>
          </p:grpSpPr>
          <p:sp>
            <p:nvSpPr>
              <p:cNvPr id="61" name=""/>
              <p:cNvSpPr/>
              <p:nvPr/>
            </p:nvSpPr>
            <p:spPr>
              <a:xfrm>
                <a:off x="3352680" y="2590920"/>
                <a:ext cx="533160" cy="4572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428640" y="259092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2666880" y="1752480"/>
              <a:ext cx="533160" cy="459720"/>
              <a:chOff x="2666880" y="1752480"/>
              <a:chExt cx="533160" cy="459720"/>
            </a:xfrm>
          </p:grpSpPr>
          <p:sp>
            <p:nvSpPr>
              <p:cNvPr id="64" name=""/>
              <p:cNvSpPr/>
              <p:nvPr/>
            </p:nvSpPr>
            <p:spPr>
              <a:xfrm>
                <a:off x="2666880" y="1752480"/>
                <a:ext cx="533160" cy="4572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742840" y="17524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 flipH="1">
              <a:off x="3124080" y="1219320"/>
              <a:ext cx="38088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62160" y="106668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33560" y="1295280"/>
              <a:ext cx="0" cy="129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105160" y="1295280"/>
              <a:ext cx="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886200" y="2819520"/>
              <a:ext cx="91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00400" y="1981080"/>
              <a:ext cx="2438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3809520" y="1219320"/>
              <a:ext cx="1066680" cy="1447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86200" y="1219320"/>
              <a:ext cx="990360" cy="1447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3886200" y="2133360"/>
              <a:ext cx="175248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124080" y="2133720"/>
              <a:ext cx="175248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609480" y="350532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QU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NP;   3-CNF-SAT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 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7EAB-209E-4F23-8AA9-12F7A4CD54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85800"/>
            <a:ext cx="77724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ERTEX-COV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 &lt;G,k&gt; | graph G has vertex cover of size k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ertex cov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n undirected graph G = (V,E) is a subset V’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V such that if (u,v)   E, then u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’  or v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’ (or both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EX-COV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P;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QUE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   VERTEX-C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D2DA-FC0D-4E96-8428-8C4847E70C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68580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SET-S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 &lt;S, t&gt; |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exists a subset S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S such that  t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5715000" y="1219320"/>
                <a:ext cx="82692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s</m:t>
                        </m:r>
                        <m:r>
                          <m:t xml:space="preserve">∈</m:t>
                        </m:r>
                        <m:r>
                          <m:t xml:space="preserve">S</m:t>
                        </m:r>
                        <m:r>
                          <m:t xml:space="preserve">'</m:t>
                        </m:r>
                      </m:sub>
                      <m:sup/>
                      <m:e>
                        <m:r>
                          <m:t xml:space="preserve">s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762120" y="2362320"/>
            <a:ext cx="784836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 if S = {1, 4, 16, 64, 256, 1040, 1041, 1093, 1284, 1344} and t = 3754.   The subset S’ = {1, 6, 64, 256, 1040, 1093, 1284 } is a 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ET-SUM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NP;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EX-COVER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  SUBSET-S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4C62-1860-4F89-9D61-D9D95DEF27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4920" y="533520"/>
            <a:ext cx="853416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M-CYC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&lt;G&gt; | G is a hamitonian graph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M-CYLE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NP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-CNF-SAT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  HAM-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S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&lt;G,c,k&gt; |  G = (V,E) is a complete graph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unction from V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V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G has a traveling-saleman tour with cost at mos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eger cost c(i,j) to travel from city i to city j.   A tour is a hamiltonian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SP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P;   HAM-CYCL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 T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264E-F4A5-4E76-BCB0-36B05C917C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1066680" y="457200"/>
            <a:ext cx="6400800" cy="5638680"/>
            <a:chOff x="1066680" y="457200"/>
            <a:chExt cx="6400800" cy="5638680"/>
          </a:xfrm>
        </p:grpSpPr>
        <p:sp>
          <p:nvSpPr>
            <p:cNvPr id="83" name=""/>
            <p:cNvSpPr/>
            <p:nvPr/>
          </p:nvSpPr>
          <p:spPr>
            <a:xfrm>
              <a:off x="3200400" y="457200"/>
              <a:ext cx="2286000" cy="685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52680" y="60948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IRCUIT-S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200400" y="2286000"/>
              <a:ext cx="1981080" cy="685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52680" y="243828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-CNF-S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86200" y="1371600"/>
              <a:ext cx="1143000" cy="685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8480" y="15238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4343400"/>
              <a:ext cx="1219320" cy="685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19920" y="449568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05520" y="3352680"/>
              <a:ext cx="2286000" cy="685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257800" y="350532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AM-CYC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76520" y="3429000"/>
              <a:ext cx="1600200" cy="762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28800" y="358128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IQ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66680" y="4495680"/>
              <a:ext cx="2743200" cy="685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219320" y="464832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RTEX-CO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066680" y="5410080"/>
              <a:ext cx="2286000" cy="685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219320" y="556272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UBSET-S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19720" y="11430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419720" y="20574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2666880" y="2971800"/>
              <a:ext cx="10670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24280" y="2971800"/>
              <a:ext cx="10670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362320" y="41911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362320" y="5105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48520" y="40384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bhas Chongstitvatan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AA59-D1BD-49C7-9C48-80E35C462B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9:42:10Z</dcterms:created>
  <dc:creator>somchai</dc:creator>
  <dc:description/>
  <dc:language>en-US</dc:language>
  <cp:lastModifiedBy>somchai</cp:lastModifiedBy>
  <dcterms:modified xsi:type="dcterms:W3CDTF">1999-09-15T23:39:44Z</dcterms:modified>
  <cp:revision>5</cp:revision>
  <dc:subject/>
  <dc:title>NP-complete problems</dc:title>
</cp:coreProperties>
</file>