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916-5840-4F8E-92D5-C2551950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266-3936-4D20-AF6F-A596A54F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1D2-3FB3-47E8-8E8B-9C7A492E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20F-1DF7-4BBF-8AE9-59FDC3C6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5D2-03B4-4024-931A-BE6E005B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4C6-50F6-48AE-977D-6CB56250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E54-7259-4AD1-A743-2F940EFE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EDB-F756-49B9-9DD6-70773984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151-5B06-4D98-87A7-CEA3269D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7BA-4981-4156-B580-B220D2CE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E40A-80FD-4BB4-B099-B20F09DA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4AF-36F6-4C96-966D-837A0DB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CF1-F1F9-487D-9A3A-38A92EE9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 class 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905120"/>
            <a:ext cx="784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class of languages that can be verified by a polynomial-time algorith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= {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{0,1}* | there exists a certific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|y| = O(|x|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erif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anguage L 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ti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-CYC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4120" y="5257800"/>
                <a:ext cx="13348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uit satisf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905120"/>
            <a:ext cx="83822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ruth assign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 boolean combinational circuit is a set of boolean input values. A one-output combinational circui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tisfi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has a truth assignment that causes the output to be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-SAT = {&lt;C&gt; | C is a satisfiable boolean combinational circuit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inputs,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ssig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609480"/>
            <a:ext cx="81532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36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rcuit satisfiability problem belongs to the class N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: Provide a polynomial time algorithm that can verify CIRCUIT-S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09480"/>
            <a:ext cx="84582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mma 36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rcuit satisfiability is NP-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: Provide a polynomial time algorithm computing a reduc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maps every binary str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 circuit C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  if and only if 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IT-S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762120"/>
            <a:ext cx="82296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ists that verifies L in polynomial t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F that we shall construct will use the two input algorith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compute the reduc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ning tim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T(n) =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  input string leng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certificate length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533520"/>
            <a:ext cx="77724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sic idea of pro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 the comput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 sequence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igu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mbinational circuit that implement the mapping of one configuration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figu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 the program, the program counter, working storage, machin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2895480"/>
            <a:ext cx="723888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     PC     machine state  x       y      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962520"/>
            <a:ext cx="48006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3505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520" y="914400"/>
            <a:ext cx="8076600" cy="1602720"/>
            <a:chOff x="533520" y="914400"/>
            <a:chExt cx="8076600" cy="1602720"/>
          </a:xfrm>
        </p:grpSpPr>
        <p:sp>
          <p:nvSpPr>
            <p:cNvPr id="107" name=""/>
            <p:cNvSpPr/>
            <p:nvPr/>
          </p:nvSpPr>
          <p:spPr>
            <a:xfrm>
              <a:off x="1218960" y="914400"/>
              <a:ext cx="7238880" cy="609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71600" y="1143000"/>
              <a:ext cx="72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gram A     PC     machine state  x       y      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86000" y="1981080"/>
              <a:ext cx="4800240" cy="533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7960" y="1523880"/>
              <a:ext cx="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67080" y="2057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1066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295280" y="5257800"/>
            <a:ext cx="723924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A     PC     machine state  x       y         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5410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514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4648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572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5867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5257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304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85800"/>
            <a:ext cx="7772400" cy="56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-M--&gt;  C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un at most T(n) steps the output appears in C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 M that computes all configu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: gi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es C = f(x) that is satisfiable iff there exists a certificat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A(x,y)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F obtai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, it first computes n =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and construct C’ consists of T(n) copies of 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533520"/>
            <a:ext cx="77724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of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correctly comput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C is satisfiable iff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ch that A(x,y)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runs in polynomi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art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if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ere exist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ength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such that A(x,y) = 1. Appl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input of C, the output of C is C(y) = A(x,y) = 1.  Thus if a certificate exists then C is satisf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85800"/>
            <a:ext cx="77724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1   only i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C is satisfiable, hence there exists an input y to C such that C(y) = 1, from which we conclude that A(x,y) =1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  (A runs in polynomial ti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bits required to represent a configuration is polynomial in n (n = |x|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A has constan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8001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input x is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the certificate y is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gorithm runs at most 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steps, the amount of working storage required by A is polynomial of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ngth of a configuration is polynomial in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has the size polynomial in the length of a configuration, hence is polynomial i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60948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P  then 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, since if there is a polynomial time algorithm to decide L, the algorithm can be easily converted to verification algorithm to accept those inputs that it detemines to be in 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 P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609480"/>
            <a:ext cx="876312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rcuit C consists of at most t =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pies of M, hence it has size in polynomial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struction of C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be accomplished in polynomial time by the reduction algorithm F, since each step of construction takes polynomial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 36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ircuit-satisfiability problem is NP-compl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380880"/>
            <a:ext cx="777240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 is closed under compl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NP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/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lexity class  co-N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:  L such that  /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 = co-NP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is closed under co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N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co-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14400" y="68580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NP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o-NP 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language in N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-NP  -  NP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19320" y="2362320"/>
            <a:ext cx="2819160" cy="1295280"/>
            <a:chOff x="1219320" y="2362320"/>
            <a:chExt cx="2819160" cy="1295280"/>
          </a:xfrm>
        </p:grpSpPr>
        <p:sp>
          <p:nvSpPr>
            <p:cNvPr id="48" name=""/>
            <p:cNvSpPr/>
            <p:nvPr/>
          </p:nvSpPr>
          <p:spPr>
            <a:xfrm>
              <a:off x="1219320" y="2362320"/>
              <a:ext cx="2743200" cy="12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47920" y="28954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NP = 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029200" y="2286000"/>
            <a:ext cx="3047760" cy="1447920"/>
            <a:chOff x="5029200" y="2286000"/>
            <a:chExt cx="3047760" cy="1447920"/>
          </a:xfrm>
        </p:grpSpPr>
        <p:sp>
          <p:nvSpPr>
            <p:cNvPr id="51" name=""/>
            <p:cNvSpPr/>
            <p:nvPr/>
          </p:nvSpPr>
          <p:spPr>
            <a:xfrm>
              <a:off x="5029200" y="2286000"/>
              <a:ext cx="3047760" cy="14479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560" y="3048120"/>
              <a:ext cx="1067040" cy="53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62360" y="243864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 = 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48160" y="3124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90720" y="3886200"/>
            <a:ext cx="3581280" cy="1371600"/>
            <a:chOff x="990720" y="3886200"/>
            <a:chExt cx="3581280" cy="1371600"/>
          </a:xfrm>
        </p:grpSpPr>
        <p:sp>
          <p:nvSpPr>
            <p:cNvPr id="56" name=""/>
            <p:cNvSpPr/>
            <p:nvPr/>
          </p:nvSpPr>
          <p:spPr>
            <a:xfrm>
              <a:off x="990720" y="3962520"/>
              <a:ext cx="2743200" cy="1295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3886200"/>
              <a:ext cx="2590560" cy="1371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0720" y="434340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33920" y="4038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57400" y="44956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 = NP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876920" y="3962520"/>
            <a:ext cx="3429000" cy="1600200"/>
            <a:chOff x="4876920" y="3962520"/>
            <a:chExt cx="3429000" cy="1600200"/>
          </a:xfrm>
        </p:grpSpPr>
        <p:sp>
          <p:nvSpPr>
            <p:cNvPr id="62" name=""/>
            <p:cNvSpPr/>
            <p:nvPr/>
          </p:nvSpPr>
          <p:spPr>
            <a:xfrm>
              <a:off x="4876920" y="3962520"/>
              <a:ext cx="2667240" cy="15238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62720" y="3962520"/>
              <a:ext cx="2743200" cy="1600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72560" y="4648320"/>
              <a:ext cx="76176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43434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96440" y="4572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91320" y="42674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P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o-N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24840" y="4876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" y="54864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 possible relationships between complex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81080"/>
            <a:ext cx="87631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NP - P  is nonempty,  HAM-CYCL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 -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Complete languages are, in a sense, the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rde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languages in N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the relative “hardness” of languages by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time reduci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c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447920"/>
            <a:ext cx="838224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 is reduced to Q’   if any instance of Q can be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asily rephras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to an instance of Q’.  Then  Q is, in a sense, “not harder to solve” than Q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 time reduc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f there exists a polynomial time computabl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{0,1}*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0,1}* su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{0,1}* ;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duction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2120" y="762120"/>
            <a:ext cx="7924320" cy="1904400"/>
            <a:chOff x="762120" y="762120"/>
            <a:chExt cx="7924320" cy="1904400"/>
          </a:xfrm>
        </p:grpSpPr>
        <p:sp>
          <p:nvSpPr>
            <p:cNvPr id="75" name=""/>
            <p:cNvSpPr/>
            <p:nvPr/>
          </p:nvSpPr>
          <p:spPr>
            <a:xfrm>
              <a:off x="1447560" y="762120"/>
              <a:ext cx="5790960" cy="190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360" y="1158840"/>
              <a:ext cx="9903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09680" y="1158840"/>
              <a:ext cx="914040" cy="79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95680" y="1158840"/>
              <a:ext cx="914040" cy="79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1960" y="139716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7960" y="1397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7600" y="2031840"/>
              <a:ext cx="99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38080" y="1476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1555560"/>
              <a:ext cx="99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10080" y="1555560"/>
              <a:ext cx="19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1555560"/>
              <a:ext cx="129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120" y="920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52680" y="100008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62360" y="107964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2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238880" y="100008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L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85800" y="3276720"/>
            <a:ext cx="746748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emma 36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0,1}* are languages su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 implies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981080"/>
            <a:ext cx="7620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{0,1}* 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P-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P 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  L for every  L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2  but not 1  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14400" y="99072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 36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ny NP-complete problem is polynomial time solvable, then P = NP.  If any problem in NP is not polynomial time solvable, then all NP-complete problems are not polynomial time solv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7:28:54Z</dcterms:created>
  <dc:creator>somchai</dc:creator>
  <dc:description/>
  <dc:language>en-US</dc:language>
  <cp:lastModifiedBy>somchai</cp:lastModifiedBy>
  <dcterms:modified xsi:type="dcterms:W3CDTF">1999-09-15T23:39:49Z</dcterms:modified>
  <cp:revision>9</cp:revision>
  <dc:subject/>
  <dc:title>Complexity class NP</dc:title>
</cp:coreProperties>
</file>