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D69-4122-453F-9512-A65E3236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776-84CE-4FA6-B2AA-5E9A497C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D66-DA5C-45E5-8E98-709F39A1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DB1-E24F-48DE-94DD-F9D914DA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2F8-8BBA-4D58-ABDC-930E2EC5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440-AC75-4C10-89DF-753F4F11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65B-F8B8-4B38-8E36-1AA0E3A9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FAE-69F4-48AE-9A67-27F60497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24A-FF6C-4892-AAE6-164466B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653-EEBA-4D4E-93C2-FA32C150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A7E-5612-4A91-B7FF-559A526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539-65E4-4FF5-9367-AB255E7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389-6C6C-4516-ADB1-B79B682C9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te Carlo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752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numerical probabilistic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00400" y="2514600"/>
                <a:ext cx="19969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4" name=""/>
          <p:cNvGrpSpPr/>
          <p:nvPr/>
        </p:nvGrpSpPr>
        <p:grpSpPr>
          <a:xfrm>
            <a:off x="1371600" y="3429000"/>
            <a:ext cx="5105520" cy="2593080"/>
            <a:chOff x="1371600" y="3429000"/>
            <a:chExt cx="5105520" cy="2593080"/>
          </a:xfrm>
        </p:grpSpPr>
        <p:sp>
          <p:nvSpPr>
            <p:cNvPr id="45" name=""/>
            <p:cNvSpPr/>
            <p:nvPr/>
          </p:nvSpPr>
          <p:spPr>
            <a:xfrm>
              <a:off x="2895480" y="373356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66880" y="541008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3809880"/>
              <a:ext cx="3276720" cy="1447920"/>
            </a:xfrm>
            <a:custGeom>
              <a:avLst/>
              <a:gdLst/>
              <a:ahLst/>
              <a:rect l="l" t="t" r="r" b="b"/>
              <a:pathLst>
                <a:path w="2064" h="912">
                  <a:moveTo>
                    <a:pt x="0" y="912"/>
                  </a:moveTo>
                  <a:cubicBezTo>
                    <a:pt x="184" y="740"/>
                    <a:pt x="368" y="568"/>
                    <a:pt x="576" y="480"/>
                  </a:cubicBezTo>
                  <a:cubicBezTo>
                    <a:pt x="784" y="392"/>
                    <a:pt x="1056" y="448"/>
                    <a:pt x="1248" y="384"/>
                  </a:cubicBezTo>
                  <a:cubicBezTo>
                    <a:pt x="1440" y="320"/>
                    <a:pt x="1592" y="160"/>
                    <a:pt x="1728" y="96"/>
                  </a:cubicBezTo>
                  <a:cubicBezTo>
                    <a:pt x="1864" y="32"/>
                    <a:pt x="1964" y="16"/>
                    <a:pt x="2064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9520" y="4190760"/>
              <a:ext cx="2971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14800" y="41907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5000" y="38862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556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6400" y="5562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38862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/(b-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14800" y="41907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37D-65EF-4ED3-BC4E-22176545B3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457200"/>
            <a:ext cx="7010280" cy="577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 = 1 to c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inflip = head then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C9B-EE1C-4FFA-A1FE-949BCFEE7B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371600"/>
            <a:ext cx="8458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count after m ticks is m(m-1)/2.  The standard deviation is 70%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it cannot distinguish between one million and two million but it can distinguish between one million and 100 m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D13-5A7F-4529-BE9E-8BB4F54EDF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9907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 logarithmic fa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c)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048120" y="1828800"/>
                <a:ext cx="2220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5486400" y="1752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1/30  count up to &gt; 125000 events in 8-bit register with less than 24% relative error with confidence 9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bability that tick(c) incre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AE6-A24B-4B94-BDA9-36F329BCB0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5181480" y="2133720"/>
            <a:ext cx="3962520" cy="1968120"/>
            <a:chOff x="5181480" y="2133720"/>
            <a:chExt cx="3962520" cy="1968120"/>
          </a:xfrm>
        </p:grpSpPr>
        <p:sp>
          <p:nvSpPr>
            <p:cNvPr id="57" name=""/>
            <p:cNvSpPr/>
            <p:nvPr/>
          </p:nvSpPr>
          <p:spPr>
            <a:xfrm>
              <a:off x="5181480" y="2133720"/>
              <a:ext cx="2057400" cy="1218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7480" y="236196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/(b-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38680" y="35812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-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14400" y="1143000"/>
            <a:ext cx="4800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int(f,n,a,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 = 1 to n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uniform(a,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= sum + 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( b-a) * (sum/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529-5FD6-4007-B06B-FEC3A3F153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31520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the estimate is inverse proportion to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error is proportion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781680" y="1523880"/>
                <a:ext cx="95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2286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terministic algorithm for integration will sample at regular inter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6DA-A8F0-4E74-9E22-7C08972FFE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28800" y="457200"/>
            <a:ext cx="5715000" cy="577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int(f,n,a,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 = (b-a)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a + delta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 = 1 to n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= sum + 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x + de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sum * de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51B-3D04-41C6-88E0-A3B45DB622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1371600"/>
            <a:ext cx="81532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 of MCint when doing multiple integral in high dimension.  As the sample point increases exponentially with the dim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100, 100x100, 100x100x100.  MCint is faster than a deterministic algorithm for dimension &gt;=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318-0272-456D-8D4B-81A8884A5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-bit register can count up to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s (0..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514600"/>
            <a:ext cx="5105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(c) ;   r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k(c) ;   inc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c) ;   return coun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876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p some value to count fa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38E-3882-4A3D-A2C3-F69C8D588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094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k(c)    flip a coin if head incr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c)   return value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value after call count() t time is exactly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C30-9BD5-43B8-9942-52F42B7D2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609480"/>
            <a:ext cx="8686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k(c)    flip a coin if head incr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c)   return value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value after call count() t time is exactly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 exponentially far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8-bit count more than 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c)  retur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4E3-019A-445E-A074-5EB330EAF6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85800"/>
            <a:ext cx="77724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number of tic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 with probability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 with prob. (1-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 ) p +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 ) ( 1 – p )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–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c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get the correct expected value of count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2EC-E339-47D9-ABBA-E6663F1990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7:00:12Z</dcterms:created>
  <dc:creator>somchai</dc:creator>
  <dc:description/>
  <dc:language>en-US</dc:language>
  <cp:lastModifiedBy>somchai</cp:lastModifiedBy>
  <dcterms:modified xsi:type="dcterms:W3CDTF">1999-09-02T05:58:11Z</dcterms:modified>
  <cp:revision>7</cp:revision>
  <dc:subject/>
  <dc:title>Monte Carlo integration</dc:title>
</cp:coreProperties>
</file>