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65C-E224-4F1A-890A-8140410B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F2B-D00E-440F-AA81-4528347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2BF-AE31-4407-9A03-99E843DE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F06-385C-4A85-A8E7-B792457F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9BE-D780-4350-9E8B-D1F18B6A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5FE-DF07-44C9-8912-E10522E7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A79-250A-4C39-9926-4EAEEA02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049-A38C-4A51-85AD-65A6A58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3BD-EBF1-4B98-A1E4-EA4F0472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59E-86DB-4213-A5DC-46AE260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9AA-E334-490C-8F84-643D43E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BE9-8091-454B-AE9A-46B8B64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2977-2980-4D89-9FF3-217AA2787EA0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Factorizing large integers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inding the unique decomposition of n into a product of prime factor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276720"/>
            <a:ext cx="5181840" cy="2995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Factorize(n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if n is prime don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find a non trivial divisor m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factorize( m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factorize( n/m 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606-04EC-440A-9CE4-2F41C6289F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25909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exponents are necessarily even by construction.  A square root can be found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762120"/>
            <a:ext cx="83059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11480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1 x 13 x 17  mod 2537 = 197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55 x 970 x 1458 x 433 mod 2537 = 112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486400"/>
            <a:ext cx="32004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1 * x2 * x4 * x8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C20-4004-4919-A034-75D1E8EFBE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762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technique yields a, b in 1..n-1 such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 = b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 but no quarantee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 != b and a+b != 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7432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6BA-ECB8-4625-AB77-EF9433A0F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80880" y="762120"/>
            <a:ext cx="8458200" cy="5550120"/>
            <a:chOff x="380880" y="762120"/>
            <a:chExt cx="8458200" cy="5550120"/>
          </a:xfrm>
        </p:grpSpPr>
        <p:sp>
          <p:nvSpPr>
            <p:cNvPr id="66" name=""/>
            <p:cNvSpPr/>
            <p:nvPr/>
          </p:nvSpPr>
          <p:spPr>
            <a:xfrm>
              <a:off x="685800" y="762120"/>
              <a:ext cx="784872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The technique yields a, b in 1..n-1 such that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th-TH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 mod n = b</a:t>
              </a:r>
              <a:r>
                <a:rPr b="0" lang="th-TH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 mod n but no quarantee that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a != b and a+b != n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hoose y1y3y4y5y6y7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5243400"/>
              <a:ext cx="792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It can be proved that this process succeeds with prob.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th-TH" sz="3200" spc="-1" strike="noStrike">
                  <a:solidFill>
                    <a:srgbClr val="000000"/>
                  </a:solidFill>
                  <a:latin typeface="Times New Roman"/>
                </a:rPr>
                <a:t>t least 50%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2743200"/>
              <a:ext cx="4724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3200400"/>
              <a:ext cx="84582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x 3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x 5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x 7 x 11 x 13 x 17  mod 2537 = 1973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 =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455 x 1105 x 1458 x 216 x 80 x 1844  mod 2537 = 1127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273120" y="4648320"/>
            <a:ext cx="26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a’ + b’ = 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345-ABE7-4DD6-9AC9-D3388B5EC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85800"/>
            <a:ext cx="723888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Determine the value of k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large ; higher prob. That x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od n will be k-smoot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small; the faster for testing k-smoothness and factorize k-smooth valu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546-6561-4EC3-8DE3-C30D26FB0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85800"/>
            <a:ext cx="72388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Determine the value of k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 large ; higher prob. That x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od n will be k-smoot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 small; the faster for testing k-smoothness and factorize k-smooth valu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L = e^ sqrt( log n log log n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b an arbitrary positive real number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t = L 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1/2 b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2BA-75E2-4895-BC08-1E726A15C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838080"/>
            <a:ext cx="81532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f k ~ 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, about one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such that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k-smooth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o build M, take k+1 succ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use k div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 expected number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rial div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pprox. O(t k 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) = O(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 (1/2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+ 2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ich minimize at O(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) when b = 1/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ind set of rows add to zero take O(k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= O(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se Gauss-Jorda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386-19E2-46AF-86CA-1F83D026A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ake k ~ sqrt(L), the algorithm splits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fter an expected number of divisions that is approx. O(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n average 100 decimal digit number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~ 5 x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0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ereas sqrt(n) ~ 7 x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49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2BE-5F61-44E6-B23D-0FD57D87FC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533520"/>
            <a:ext cx="82296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ake k ~ sqrt(L), the algorithm splits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fter an expected number of divisions that is approx. O(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n average 100 decimal digit number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~ 5 x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0 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ereas sqrt(n) ~ 7 x 10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49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rov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so that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more likely to be k-smoot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B19-E936-4E2C-9F7D-A0707A918E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304920"/>
            <a:ext cx="82296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ness plays a fundamental role in this algorithm because no deterministic approach for finding so many good x’s has been proved efficie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ther heuristic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x slightly larger than sqrt(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ratic siev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large prime multiple polynomial variation of quadratic siev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field siev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360-B8FE-40AF-81B2-925222B6F9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09480"/>
            <a:ext cx="7315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ooking for divisor smaller than sqrt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rying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alled “trial division”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hard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the product of two primes of roughly the same siz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200400"/>
            <a:ext cx="761976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be a composite integer.  Let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be distinct integer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1..n-1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!=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then gcd(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is a non trivial divisor of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54A-7D3F-4624-9996-954963258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85800"/>
            <a:ext cx="7467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n = 2537, let a = 2012, b = 1127,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1595n + 1629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500n + 1629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 != b, a + b != 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gcd(a+b, n) = 43  is a divisor of 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A28-A25C-491E-B675-3A382ED2A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696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How to find a and b ?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n integer is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-smooth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f all its prime divisors are among the k smallest prime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20 = 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x 3 x 5   is 3-smooth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Use LV choose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randomly 1..n-1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mod 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is k-smooth store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nd factorization of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.  Find </a:t>
            </a:r>
            <a:r>
              <a:rPr b="0" i="1" lang="th-TH" sz="3200" spc="-1" strike="noStrike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different integers of thes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0C7-8B3A-4216-B8C6-A3492D66F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696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 = 245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1 = 1650 = 2 x 3 x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2 = 97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2 = 2210 = 2 x 5 x 13 x 1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3 = 110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3 = 728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7 x 1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4 = 145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4 = 2295 =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5 x 1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5 = 21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5 = 990 = 2 x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5 x 1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6 = 8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6 = 1326 = 2 x 3 x 13 x 1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7 = 184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7 = 756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7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8 = 43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8 = 2288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11 x 13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AA5-B642-4B5B-8461-BBFE8E142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858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Form (k+1) x k matrix M over {0, 1}.  Each row corresponds to one success, each column corresponds to one admissible primes.  Mij = 0 if j-th prime appears to an 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power (including zero)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0FD-CB2F-45B5-AC07-6FBC4487A8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457200"/>
            <a:ext cx="556272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 3  5  7  11 13 1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1  0  0  1  0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0  1  0  0  1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0  0  1  0  1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1  1  0  0  0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0  1  0  1  0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1  0  0  0  1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1  0  1  0  0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0  0  0  1  1  0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676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066680"/>
            <a:ext cx="9144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76920"/>
            <a:ext cx="525780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1 = 1650 = 2 x 3 x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1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2 = 2210 = 2 x 5 x 13 x 1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902-10CD-4ABF-A016-70DFB98EB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60948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atrix M has more rows than columns hence the rows cannot be linearly independen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re exists a nonempty set of rows that add up to the all-zero vector in arithmetic mod 2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n be found by Gauss-Jordan eliminatio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There are seven solu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1,2,4,8   or  1,3,4,5,6,7 . . 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F27-3C37-4C08-A355-C2D053D91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18288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2, 4, 8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556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  3  5  7  11 13 17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1  0  0  1  0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0  1  0  0  1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1  1  0  0  0  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0  0  0  1  1  0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  0  0  0  0  0  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388620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6C5-21C2-4D00-A57E-BE775ABDE8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4:56:50Z</dcterms:created>
  <dc:creator>Praphas</dc:creator>
  <dc:description/>
  <dc:language>en-US</dc:language>
  <cp:lastModifiedBy>somchai</cp:lastModifiedBy>
  <dcterms:modified xsi:type="dcterms:W3CDTF">1999-09-06T09:11:12Z</dcterms:modified>
  <cp:revision>7</cp:revision>
  <dc:subject/>
  <dc:title>Factorizing large integers</dc:title>
</cp:coreProperties>
</file>