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64D-F7DA-4A89-890F-574EB645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E6F-A039-47C3-B716-AF5D76C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A95-ECE9-4CEB-9012-31C68378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6AB-8BF0-4810-8452-4CF2E051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723-2075-4766-BC87-D6CCFC9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C2A-F3B1-4268-9CAB-A38F2A91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7F9-417C-486A-9319-3DC24FA1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FE9-DF43-47EA-B5C0-BC426B5B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10B-869D-49F2-852C-C39DBE9E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E41-C7BA-4C56-83C4-8FFF1CD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F62-AEDE-459F-B753-4E3B660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16E-2AC8-4AA4-BA94-64E4151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9DA-B613-45E2-9D36-5AD21DC06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 is preferable to choose a course at random, rather than spend time working out which alternative is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886200"/>
            <a:ext cx="7467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in character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algorithm may behave differently when it is applied twice to the same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56A-AF1B-40E5-A41D-0BD1FF069F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!= Unce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438280"/>
            <a:ext cx="838224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adox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ror probability can often be brought down below that of a hardware error during the significantly larger time needed to compute the answer determinist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FCB-F65F-4364-8428-9A216791F5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43000" y="914400"/>
            <a:ext cx="7162920" cy="47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roblems for which no algorithm is know, be deterministic or probabilistic, that can give the answer with certainty within a reasonable amount of time, yet probabilistic algorithm can solve the problem quickly if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bitrarily small error prob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l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determine whether a 1000 digit number is prime or compo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DA2-FC6A-456F-AD65-1F9B93843A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4572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of probabilistic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2120" y="1397160"/>
          <a:ext cx="7619760" cy="3632040"/>
        </p:xfrm>
        <a:graphic>
          <a:graphicData uri="http://schemas.openxmlformats.org/drawingml/2006/table">
            <a:tbl>
              <a:tblPr/>
              <a:tblGrid>
                <a:gridCol w="2286000"/>
                <a:gridCol w="2743200"/>
                <a:gridCol w="2590560"/>
              </a:tblGrid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dence inter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time = more prec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 Car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ct but sometimes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time = less error prob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Ve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correct but sometimes no 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soln can be verified efficie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85800" y="5181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with confidence interval :  “with probability 90% the answer is 59 plus or minus 3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C18-1F6E-4972-9239-1436737A11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ed vs averag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905120"/>
          <a:ext cx="8305920" cy="4257360"/>
        </p:xfrm>
        <a:graphic>
          <a:graphicData uri="http://schemas.openxmlformats.org/drawingml/2006/table">
            <a:tbl>
              <a:tblPr/>
              <a:tblGrid>
                <a:gridCol w="2209680"/>
                <a:gridCol w="2286000"/>
                <a:gridCol w="38102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verage time taken by an algorithm when each possible instance of a given size is equally like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ean time that it would take to solve the same instance over and ov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029-B364-4675-83EA-6279B1B01B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457200"/>
            <a:ext cx="838224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st-case expect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time taken by the worst possible instance of a given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gas can be more efficient than deterministic one but only with respect to expected time.  (if bad luck, LA takes lo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sort deterministic worst-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sort probabi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00800" y="5029200"/>
                <a:ext cx="1658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EE3-DE51-479F-A484-56874263CD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304920"/>
            <a:ext cx="7924680" cy="44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sortLV( T[i..j]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-i is sufficiently small then insertsort( T[i..j]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[uniform(i..j)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bis(T[i..j],p,k,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sortLV(T[i..k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sortLV(T[l..j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8006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ivotbis(T[i..j], p, k, 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titions T into three sections, p as pivot.  After pivoting the elements in T[i..k] &lt; p, T[k+1.. l-1] = p and T[l..j] &gt; p.  Return k,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604-8A65-4F82-8E61-50F5831A6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08:17:56Z</dcterms:created>
  <dc:creator>somchai</dc:creator>
  <dc:description/>
  <dc:language>en-US</dc:language>
  <cp:lastModifiedBy>somchai</cp:lastModifiedBy>
  <dcterms:modified xsi:type="dcterms:W3CDTF">1999-08-30T17:00:21Z</dcterms:modified>
  <cp:revision>8</cp:revision>
  <dc:subject/>
  <dc:title>Probabilistic algorithms</dc:title>
</cp:coreProperties>
</file>