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4B0-2BD1-46C8-B340-97302612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BE2-1815-4B12-8ED2-EC79E6D6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D3B-EB9C-4883-AA00-F00B99CE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EB4-53CF-4365-B138-7A83101C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81F-4428-4538-9A48-1933922B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10E-9B00-4E7F-B42D-2721A79A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A09-C741-4AF4-B062-32D54EF7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F51-B6D5-4F01-BA0A-0AB7B683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5B7-D026-484B-896F-BE89F07B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63C-1B36-454A-B180-03B0FC38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3D2-1FBA-4286-B541-404D3E0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017-7C1B-4CB9-9DAB-5B39EBB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B559-645D-418B-B3CF-7775F7A6BBBF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plification of stochastic advantag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362320"/>
            <a:ext cx="72388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ased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known with certainty one of the possible answer is always correct.  Error can be reduced by repeat the algorithm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biased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coin flip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-correct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“advantage” is p - 1/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2ED-7CB3-43C1-8849-805137163C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914400"/>
            <a:ext cx="7543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error prob &lt; del for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bias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 Carlo with advantage e;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repetition is proportional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/e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so to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 1/d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361-CF58-4E73-9B47-8CD400BDB3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14400" y="2514600"/>
          <a:ext cx="635472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6354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60948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C be a 3/4-correct unbiased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error prob. Of MC3 (mojority vote) ?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886200"/>
            <a:ext cx="3886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3 is 27/32-correc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&gt; 84%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54B-3FCD-4C1F-97AA-52FCBDA1E0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609480"/>
            <a:ext cx="784836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What is the error prob. of MC with advantage e &gt; 0 in  majority vote k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Let X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= 1 if correct answer, 0 otherwis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r[ X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= 1 ] &gt;= 1/2 + 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assume for simplicity  Pr[ X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= 1 ] = 1/2 + e ;    k is odd (no tie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E( X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 = 1/2 + e;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Var(X</a:t>
            </a:r>
            <a:r>
              <a:rPr b="0" lang="th-TH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 = (1/2 + e) (1/2-e) = 1/4 - e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987-920C-4C10-A53C-07F82C365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523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andom variable corresponds to the number of correct answer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ials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828800" y="304920"/>
                <a:ext cx="17496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762120" y="4876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E(X) = (1/2+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    Var(X) = (1/4 - e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 k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752480" y="3048120"/>
                <a:ext cx="533736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sup>
                        <m:r>
                          <m:t xml:space="preserve">i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25F-1077-4E61-8605-B37961796A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3962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rmal distributed if k &gt;= 30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066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error prob.  Pr [ X &lt;= k/2 ] can be calculated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0400" y="2209680"/>
                <a:ext cx="20368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FAF-0F76-4765-A8C9-6F77D354C2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f need error &lt; 5%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r [ X &lt; E(X) - 1.645 sqrt Var(X) ] ~ 5%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rom the table of normal distribution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Pr [ X &lt;= k/2 ] &lt; 5%  if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k/2 &lt; E(X) - 1.645 sqrt Var(X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k &gt; 2.706 ( 1/(4e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 - 1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3AC-02A3-4A16-A69B-0E25E939EF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914400"/>
            <a:ext cx="8229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 e = 5%, which is 55%-correct unbiased Monte Carlo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k &gt; 2.706 ( 1/(4e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 - 1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k &gt; 267.894,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majority vote repeat 269 times to obtain 95%-correct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petition turn 5% advantage into 5% error prob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7F4-4E29-4691-8683-E9545B17EE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914400"/>
            <a:ext cx="784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It takes a large number of ru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biased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ased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Run 55%-corr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as MC 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Times New Roman"/>
              </a:rPr>
              <a:t>4 times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 reduces the error prob. To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0.45</a:t>
            </a:r>
            <a:r>
              <a:rPr b="0" lang="th-TH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~ 0.041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4.1%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DC7-91B9-4C2A-9C3D-0823D9E707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762120"/>
            <a:ext cx="7848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much more expensive to obtain more confidence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want 0.5% confidence (10 times more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[X &lt; E(X) - 2.576 sqrt Var(X) ] ~ 5%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&gt; 6.636 (1/(4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- 1 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kes it 99.5%-correct with less than 2.5 times more expensive than 95%-correct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729-8BE7-4B88-AA4F-112A805033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12:29:18Z</dcterms:created>
  <dc:creator>Praphas</dc:creator>
  <dc:description/>
  <dc:language>en-US</dc:language>
  <cp:lastModifiedBy>somchai</cp:lastModifiedBy>
  <dcterms:modified xsi:type="dcterms:W3CDTF">1999-09-07T01:53:41Z</dcterms:modified>
  <cp:revision>4</cp:revision>
  <dc:subject/>
  <dc:title>Amplification of stochastic advantage</dc:title>
</cp:coreProperties>
</file>