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744-24A5-4F38-8F75-DA9A1F05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24FF-EDCB-4EBB-A60E-1AE297EC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B7A-F653-4E05-92D9-5F4A0946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E0B-22AF-4598-8BE3-2E0B1975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B21-4212-4374-80D0-9D3DD2BA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485-A3FD-4A25-AD2E-128D4D2A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711-9350-4818-A030-A814763D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126-7DFB-4CD8-825A-767CAFB7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E18-E690-47AF-8E87-2227CEC2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8D6-ECDB-4CA9-A903-66C524DB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B9D-0681-45F2-8E25-C806FBE8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5B0-5D02-45B5-80A1-0E2135A8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E419-7136-4733-BABE-0DB94366E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erical probabili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2193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 is always an approximat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62F-1333-4B76-A8E2-5462566A72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5335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to estimate pi  not 1/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523880" y="1371600"/>
                <a:ext cx="3016440" cy="33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  <m:r>
                          <m:t xml:space="preserve">&lt;</m:t>
                        </m:r>
                        <m:r>
                          <m:t xml:space="preserve">ε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e>
                        </m:d>
                        <m:r>
                          <m:t xml:space="preserve">&lt;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ε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επ</m:t>
                            </m:r>
                          </m:den>
                        </m:f>
                      </m:e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ε</m:t>
                        </m:r>
                        <m:r>
                          <m:t xml:space="preserve">&lt;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ε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επ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77120" y="3962520"/>
                <a:ext cx="19112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4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5105520" y="3962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48769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n needles, estimate pi will have less precision than estimate 1/pi by one dig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E9B-780E-4FD2-AA6C-6D38D931D9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685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n , the value of pi i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219320" y="1447920"/>
                <a:ext cx="917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581280" y="1523880"/>
                <a:ext cx="91764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438280" y="16765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819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bability at least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A45-9102-4E34-B3DC-220F7BC6CA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533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n , the value of pi i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066680" y="1295280"/>
                <a:ext cx="91764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429000" y="1371600"/>
                <a:ext cx="9176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2286000" y="1523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 How many n to estimate pi within 0.01 of the correct value with the confidence 99%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4648320"/>
                <a:ext cx="206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440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3962520" y="457200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ion  0.001 (one more digit than estimate 1/p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54864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&gt;1.44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194-7327-47FC-98A1-8FBFD6499E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8153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cted precision improves given mor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8153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 is always an approximat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cted precision improves given mor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9DB-7399-4A20-9ACD-71EBC30FD6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219320"/>
            <a:ext cx="81536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 is always an approximat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cted precision improves given mor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rror is inverse proportion to the square root of the amount of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00 times more work to obtain one additional digit of preci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: use in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6C2-BBA5-428C-8035-4C7F39E83B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on’s nee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7524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ntury, George Louis Leclerc, compte de Buff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that a needle will fall across a crack is 1/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ach drop is independent to the ot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90720" y="3809880"/>
            <a:ext cx="4647960" cy="2209680"/>
            <a:chOff x="990720" y="3809880"/>
            <a:chExt cx="4647960" cy="2209680"/>
          </a:xfrm>
        </p:grpSpPr>
        <p:sp>
          <p:nvSpPr>
            <p:cNvPr id="49" name=""/>
            <p:cNvSpPr/>
            <p:nvPr/>
          </p:nvSpPr>
          <p:spPr>
            <a:xfrm>
              <a:off x="990720" y="3809880"/>
              <a:ext cx="4647960" cy="2209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90720" y="441936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0720" y="502884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90720" y="563868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71600" y="426708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41907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720" y="4724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599840" y="4876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657240" y="525744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47920" y="541008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57400" y="5333760"/>
              <a:ext cx="533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505320" y="403812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800600" y="487656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267080" y="464796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52880" y="403848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019920" y="3733920"/>
            <a:ext cx="2209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k wid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le length L = w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758-CDB5-4D7F-9B7B-8154CE9B34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609480"/>
            <a:ext cx="8153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e pi :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/k  as an estimator of 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e w 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&gt;= L , w is estim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124080" y="4800600"/>
                <a:ext cx="14320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≃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num>
                      <m:den>
                        <m:r>
                          <m:t xml:space="preserve">k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762120" y="33526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048120" y="3657600"/>
                <a:ext cx="19368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wπ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603-FFF2-44BF-9A5F-DB256F429C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752480" y="3657600"/>
                <a:ext cx="502452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143000" y="685800"/>
            <a:ext cx="7620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fast this ‘algorithm’ conver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vergenc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i :  Xi  each needle Xi =1 if i-th needle fall across a crack, 0 otherwis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17E-6D2A-4D64-B266-1D399D0B06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6094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estimate of 1/pi after dropping n need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666880" y="1447920"/>
                <a:ext cx="21304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184400" y="2819520"/>
                <a:ext cx="530676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371600" y="4267080"/>
                <a:ext cx="52722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E98-754B-43D1-A348-5BCF28965A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6094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is normal distrib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38080" y="1447920"/>
                <a:ext cx="59673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e>
                        </m:d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&lt;</m:t>
                            </m:r>
                            <m:r>
                              <m:t xml:space="preserve">ε</m:t>
                            </m:r>
                          </m:e>
                        </m:d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90720" y="3048120"/>
                <a:ext cx="36846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π</m:t>
                                        </m:r>
                                      </m:den>
                                    </m:f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8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FFE-ACD2-4A42-9AA8-3988340859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6094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is normal distrib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838080" y="1447920"/>
                <a:ext cx="59673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e>
                        </m:d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&lt;</m:t>
                            </m:r>
                            <m:r>
                              <m:t xml:space="preserve">ε</m:t>
                            </m:r>
                          </m:e>
                        </m:d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990720" y="3048120"/>
                <a:ext cx="36846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π</m:t>
                                        </m:r>
                                      </m:den>
                                    </m:f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8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58680" y="5016600"/>
                <a:ext cx="60310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6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e>
                        </m:d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40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46B-D772-44B1-AEBE-58135F007A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6:14:21Z</dcterms:created>
  <dc:creator>somchai</dc:creator>
  <dc:description/>
  <dc:language>en-US</dc:language>
  <cp:lastModifiedBy>somchai</cp:lastModifiedBy>
  <dcterms:modified xsi:type="dcterms:W3CDTF">1999-09-02T01:06:40Z</dcterms:modified>
  <cp:revision>9</cp:revision>
  <dc:subject/>
  <dc:title>Numerical probabilistic</dc:title>
</cp:coreProperties>
</file>