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396-61D4-4F0B-94B1-334A4532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74F6-B9E6-40C2-B52C-CA18830A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425-FF9B-422C-A8DB-BCBFB12E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AB0-222A-4ABC-9330-B594CC30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9B37-AA98-45E7-ADC4-1B0C90EB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1DC-D4B3-47D5-8ED5-A4192D30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3C3-DC1F-404C-AFF6-1387EE2E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6CB-99FF-4C44-A2D4-2584B11C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94A-8C87-4605-83AD-C8ECD988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23D-78EF-41EB-AFEC-C1DFDF25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7C5-5A84-45E8-864E-99C351DF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FA00-A23A-4331-BC00-13D9AD6D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57E1-83B8-4D66-BCE8-0CD842206B92}" type="slidenum">
              <a:rPr b="0" lang="en-US" sz="14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Las Vegas algorithm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905120"/>
            <a:ext cx="77724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The answer obtained is always correct but sometime no answer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Modified deterministic algorithm by using randomness in the decision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When dead-end restart the algo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66E5-2055-4CBF-8922-5FED9ACA6F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457200"/>
            <a:ext cx="8001000" cy="49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Generalize to n-queen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n = 39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 actual tim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backtrack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11,402,835,415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41 hr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queenLV 29:10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8.5 m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pureLV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150 m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LV gain 20 millions to 1 on the number of nodes explored and 10 millions on actual tim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25E-5FE7-4449-B194-F3F41DD66B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609480"/>
            <a:ext cx="807732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Probabilistic selection and sorting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The problem of k-th smallest element using divide and conquer, the nearer the pivot is to the median of the element the more efficient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73B-03DE-42C5-A7E9-0F5471E05B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609480"/>
            <a:ext cx="807732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Probabilistic selection and sorting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The problem of k-th smallest element using divide and conquer, the nearer the pivot is to the median of the element the more efficient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Simple approach : pivot the first elemen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linear time in average, quadratic in worst case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220D-D7AF-4280-8F74-8A2873D290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00200" y="457200"/>
            <a:ext cx="5410080" cy="506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SelectionLV(T[1..n],s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i = 1; j = n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p = T[ uniform(i.. j) ]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pivotbis(T[i..j], p, k, l 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if s &lt;= k then j = k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else if s &gt;= l then i = l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else return p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5791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Expected run time is linear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4E7C-A892-41F5-8975-031E990D3D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080" y="685800"/>
            <a:ext cx="7543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Using random pivot, the execution time is independent of the instance.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It is always possible that some execution will take quadratic time but the prob. will be small if n is large.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Expected run time is linear on all instances with a small hidden constant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5A33-5F6C-441D-9D02-2CB7B82D16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533520"/>
            <a:ext cx="7467480" cy="4412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quicksortLV(T[i..j] 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if j-i is sufficiently small then insertsort(T[i..j] 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p = T[ uniform(i..j) ]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pivotbis( T[i..j], p, k, l 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quicksortLV(T[i..k] 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quicksortLV(T[l..j] 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5334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Worst-case expected time O(n log n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43B-2DD0-4BDF-92D4-B0466BAF00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38080" y="609480"/>
            <a:ext cx="77724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V running time is independent of specific instances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abilistic approach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istic algo. that has excellent average execution time on all instances of some particular size except certain instances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hat into LV that is efficient with high probability whatever the instance considered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6241-B5F7-487C-9B0A-485CB0C0B8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609480"/>
            <a:ext cx="77724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Average running time analysis assumes some distribution of problem instances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0000"/>
                </a:solidFill>
                <a:uFillTx/>
                <a:latin typeface="Times New Roman"/>
              </a:rPr>
              <a:t>Robinhood effec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“steal” time from the “rich” instance -- instances that were solved quickly by deterministic algo. -- to give it to the “poor” instance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Reduce the difference between good and bad instances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1EE-7919-4B70-BD5D-2091FD17E5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Running time analysis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523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RepeatLV   each LV call success p(x); expected time t(x)  before repeatLV is successful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Must consider success and failure separately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3A2-A924-4CA6-B035-01411557F4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523880"/>
            <a:ext cx="82296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RepeatLV   each LV call success p(x); expected time t(x)  before repeatLV is successful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Must consider success and failure separately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p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first call LV(x) </a:t>
            </a:r>
            <a:r>
              <a:rPr b="0" lang="th-TH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cceeds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after expected time s(x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1-p(x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first call LV(x) </a:t>
            </a:r>
            <a:r>
              <a:rPr b="0" lang="th-TH" sz="3200" spc="-1" strike="noStrike" u="sng">
                <a:solidFill>
                  <a:srgbClr val="000000"/>
                </a:solidFill>
                <a:uFillTx/>
                <a:latin typeface="Times New Roman"/>
              </a:rPr>
              <a:t>fails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after expected time f(x) then restart, total expected tim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f(x) + t(x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B14-0AD8-49B5-A210-40DC76E482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838080"/>
            <a:ext cx="8001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(x) = p(x) s(x) + (1- p(x) )( f(x) + t(x) 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t(x) = s(x) + (1-p(x))/p(x)   f(x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This equation guides how to “tune” various parameters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F11-7CBE-4496-9148-3E8744B72B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762120"/>
            <a:ext cx="7924680" cy="51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8-queen revisited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Backtrack systematic explores k-promising vector implicit tree (search 114 of 2057 for the first soln)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Use greedy LV that places queens randomly, if no soln restar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DD66-0F91-4D86-97F6-A2B7AF2B1B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609480"/>
            <a:ext cx="769644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prob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f success,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number of soln explored when success,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number of soln explored when fail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s=9, p ~ 0.1293, f ~ 6.971.  A soln is obtained more than 1 out of 8.  The number of node explored by repeting until succes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s + (1-p)/p f  ~ 55.93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compare to 114 nodes with backtrack which do systematic search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6D47-CAA4-4C0B-AAC5-01C5B808C6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45720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Improve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when queenLV fail restart from beginning.  Use combination :  some random, some backtrack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44680" y="2513160"/>
          <a:ext cx="6208560" cy="410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2513160"/>
                    <a:ext cx="62085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F38-6BB6-4ADA-B939-6799746302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685800"/>
            <a:ext cx="7925040" cy="51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tual tim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backtrack first sol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0.45 m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2 queens fix average time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0.14 m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3 queens fix average time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0.21 m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all random average time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1.00 m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y slow down of random ?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The time for random number generator consume 71% 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92F7-84A7-436D-AF39-CABC94CD7F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13:11:46Z</dcterms:created>
  <dc:creator>Praphas</dc:creator>
  <dc:description/>
  <dc:language>en-US</dc:language>
  <cp:lastModifiedBy>somchai</cp:lastModifiedBy>
  <dcterms:modified xsi:type="dcterms:W3CDTF">1999-09-06T04:31:46Z</dcterms:modified>
  <cp:revision>7</cp:revision>
  <dc:subject/>
  <dc:title>Las Vegas algorithm</dc:title>
</cp:coreProperties>
</file>