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468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8D3F-7C9C-4E9C-B407-4594EFEF9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ECC4-86DB-4495-A78B-F6D75D59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147B-2907-457F-A76A-05D2F46B2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DB36-C678-490F-B67F-798A8542E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A86A-EB45-496C-A1BC-A27B8524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1BED-60D5-4A93-9DA7-5D1776AA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9B4E-0310-46C1-8E0B-B698FF66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169D-A8BE-4740-8DAE-C8686EC5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DEBE-DB4F-4552-BA25-B7519FB3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FCFE-94E9-4248-ADCB-7598A489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1670-3107-4389-8DA7-970607DC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D955-A1A3-4B2F-87B6-6EFCF4E6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ngsana New"/>
              </a:rPr>
              <a:t>&lt;date/time&gt;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ngsana New"/>
              </a:rPr>
              <a:t>&lt;footer&gt;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B2BD-171B-46A3-A659-C593A8EAC58A}" type="slidenum">
              <a:rPr b="0" lang="th-TH" sz="26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imes New Roman"/>
              </a:rPr>
              <a:t>Primality Testing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182880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given odd integer  prime or composite ?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known algorithm can solve this problem with certainty in a reasonable time when the number has more than a few hundred decimal digits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2965-D304-4A01-9182-11C3321606E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6765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Given n is odd a:2..n-2  call on Btest(a,n) return TRUE for a in B(n)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EE23-0038-4AEE-84DA-177779606F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447920" y="0"/>
            <a:ext cx="5943600" cy="635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Btest(a,n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s = 0; t = n-1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repeat  s = s+1; t = t div 2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until t mod 2 = 1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x = expomod(a, t, n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if x =1 or x = n-1 then return TRUE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for i = 1 to s-1 do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x = x</a:t>
            </a:r>
            <a:r>
              <a:rPr b="0" lang="th-TH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mod n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if x = n-1 then return TRUE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return FALSE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726C-64DD-4AFA-A403-E335D969DD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09480" y="380880"/>
            <a:ext cx="80773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 158 in B(289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s = 5, t = 9,  n-1 = 288 =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x 9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d n = 15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 289 = 131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cessive square x mod n up to s-1 times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d n = 13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 289 = 110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4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d n = 1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 289 = 251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8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d n = 25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 289 = 288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9413-3BD1-4BC8-9390-7121716DFD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609480"/>
            <a:ext cx="807732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Extension to Fermat test :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B(n)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: 2.. </a:t>
            </a: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-2 when </a:t>
            </a: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is prime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Strong false witness :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lang="th-TH" sz="3200" spc="-1" strike="noStrike" u="sng">
                <a:solidFill>
                  <a:srgbClr val="000000"/>
                </a:solidFill>
                <a:uFillTx/>
                <a:latin typeface="Times New Roman"/>
              </a:rPr>
              <a:t>strong pseudo prime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to the base </a:t>
            </a: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th-TH" sz="3200" spc="-1" strike="noStrike" u="sng">
                <a:solidFill>
                  <a:srgbClr val="000000"/>
                </a:solidFill>
                <a:uFillTx/>
                <a:latin typeface="Times New Roman"/>
              </a:rPr>
              <a:t>strong false witness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of primality test for </a:t>
            </a: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,   </a:t>
            </a: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&gt; 4, when n is odd composite and a in </a:t>
            </a: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B(n)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158 is a strong false witness of 289.  289=17</a:t>
            </a:r>
            <a:r>
              <a:rPr b="0" lang="th-TH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Strong false witness is much rarer than false witness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533520"/>
            <a:ext cx="6324840" cy="1447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BD64-25A7-42B5-AE7F-753947B11C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609480"/>
            <a:ext cx="82296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Every odd composite integer 5 .. 10</a:t>
            </a:r>
            <a:r>
              <a:rPr b="0" lang="th-TH" sz="32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fails to be a strong pseudo prime to at least on of the bases 2, 3, 5, 7, 61.  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Five calls on Btest() are sufficient to decide deterministically on the primality of any integer up to 10</a:t>
            </a:r>
            <a:r>
              <a:rPr b="0" lang="th-TH" sz="32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4267080"/>
            <a:ext cx="6248160" cy="181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MillerRabin(n)   //  n &gt; 4  is odd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a = uniform(2.. n-2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return Btest(a,n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6966-2BF9-43FC-A3F9-52903DAE9A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533520"/>
            <a:ext cx="800100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Btest() always return true when </a:t>
            </a: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is prime, </a:t>
            </a: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&gt; 4 ,</a:t>
            </a: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: 2.. </a:t>
            </a: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-2, and return false with prob. &gt; 3/4 when </a:t>
            </a: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is a composite odd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MillerRabin() is Monte Carlo algorithm 3/4-correct for primality testing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MillerRabin() has at most prob 1/4 of hitting a strong false witness.   Call </a:t>
            </a: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times the prob of hitting strong false witness consecutively for</a:t>
            </a: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times is 4</a:t>
            </a:r>
            <a:r>
              <a:rPr b="0" lang="th-TH" sz="3200" spc="-1" strike="noStrike" baseline="30000">
                <a:solidFill>
                  <a:srgbClr val="000000"/>
                </a:solidFill>
                <a:latin typeface="Times New Roman"/>
              </a:rPr>
              <a:t>-k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.  </a:t>
            </a: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= 10, the error will be less than one in a million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7FFE-6C2B-4FC0-9F26-3953E348E1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3049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Analysis of running time of MillerRabin(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838080"/>
            <a:ext cx="4495680" cy="5831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Btest(a,n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s = 0; t = n-1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repeat  s = s+1; t = t div 2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until t mod 2 = 1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x = expomod(a, t, n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if x =1 or x = n-1 then return TRU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for i = 1 to s-1 do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x = x</a:t>
            </a:r>
            <a:r>
              <a:rPr b="0" lang="th-TH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 mod n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if x = n-1 then return TRU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return FALS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762120"/>
            <a:ext cx="37339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th-TH" sz="2800" spc="-1" strike="noStrike" baseline="30000">
                <a:solidFill>
                  <a:srgbClr val="000000"/>
                </a:solidFill>
                <a:latin typeface="Times New Roman"/>
              </a:rPr>
              <a:t>-k </a:t>
            </a: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&lt; e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th-TH" sz="2800" spc="-1" strike="noStrike" baseline="30000">
                <a:solidFill>
                  <a:srgbClr val="000000"/>
                </a:solidFill>
                <a:latin typeface="Times New Roman"/>
              </a:rPr>
              <a:t>2k</a:t>
            </a: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 &gt;= 1/e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k = ceil(1/2 lg 1/e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6" name=""/>
          <p:cNvSpPr/>
          <p:nvPr/>
        </p:nvSpPr>
        <p:spPr>
          <a:xfrm>
            <a:off x="6019920" y="2971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log t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4343400"/>
            <a:ext cx="3657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Squaring O(log n) times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each takes O(log</a:t>
            </a:r>
            <a:r>
              <a:rPr b="0" lang="th-TH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 n 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Tn  in O(log</a:t>
            </a:r>
            <a:r>
              <a:rPr b="0" lang="th-TH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 n lg 1/e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A740-BE3C-40D6-94D4-2CAFB68234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838080"/>
            <a:ext cx="6095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0000"/>
                </a:solidFill>
                <a:uFillTx/>
                <a:latin typeface="Times New Roman"/>
              </a:rPr>
              <a:t>1640 Fermat’s Little theorem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Let n be prime 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 n = 1;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6705720" y="1600200"/>
                <a:ext cx="18684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a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609480" y="25909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s n prime?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327672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Contrapositive 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if n and a are integers if a</a:t>
            </a:r>
            <a:r>
              <a:rPr b="0" lang="th-TH" sz="3200" spc="-1" strike="noStrike" baseline="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mod n != 1  then n is NOT prime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Fermat hypothesises that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952880" y="4495680"/>
                <a:ext cx="180972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762120" y="5181480"/>
            <a:ext cx="73152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prime for all n. 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3,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5,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17, . . .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65537,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4,294,967,297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762120"/>
            <a:ext cx="8153640" cy="160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BAE3-EC3F-4809-A756-981AD52CBA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2120" y="609480"/>
            <a:ext cx="7238880" cy="21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About one century later Euler factored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th-TH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= 641 x 6,700,417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can be proof easily by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828800" y="2971800"/>
                <a:ext cx="51753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2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2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762120" y="3733920"/>
            <a:ext cx="716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By expo squaring 32 times F</a:t>
            </a:r>
            <a:r>
              <a:rPr b="0" lang="th-TH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-1 = 2</a:t>
            </a:r>
            <a:r>
              <a:rPr b="0" lang="th-TH" sz="32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BEE0-F55F-4647-A6A6-998C024D92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685800"/>
            <a:ext cx="7924680" cy="280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Fermat(n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a = uniform(1..n-1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if expomod(a, n-1, n) = 1 then return true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else return false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3886200"/>
            <a:ext cx="8001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If FALSE n is definitely composite but no clue to how to factor it. 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Factorization is much harder than primality testing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D553-24FE-4F7B-BCD4-F90C23DD46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600200" y="83808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-correct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2057400"/>
            <a:ext cx="75438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gorithm return a correct answer with probability at least p on every instance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rror probability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k successive calls each return the wrong answer is at most (1- p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B28D-FD50-427E-8E18-C93B9925E7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762120"/>
            <a:ext cx="81532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What if Fermat() return TRUE ?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Need the converse of Fermat theorem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th-TH" sz="3200" spc="-1" strike="noStrike" baseline="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mod n !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when n is composite a: 1.. n-1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not the case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d n = 1  for all n &gt;= 2   and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-1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d n = 1  for all odd n &gt;= 3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8A27-659B-47F4-8CCC-D8401E11F4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se witness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1676520"/>
            <a:ext cx="72388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th-TH" sz="32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mod 15 = 1 ;   15 is composite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This is called “false witness”.  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Fermat() a:2..n-2, fails on false witness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False witness is few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Fermat test on odd composite number smaller than 1000 is less than 3.3%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(even smaller for larger number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0441-6F3E-4EFD-A15C-E7AB81E882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38080" y="457200"/>
            <a:ext cx="739152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BUT  There are composite numbers that admit a significant proportion of false witness.  561 admits  318 false witness!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For any del &gt; 0 there are infinitely many composites for which Fermat test discovers with probability less than del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In other words, Fermat test is not p-correct for any p &gt; 0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Cannot reduce error probability by repeating call to Fermat()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B142-DF18-4008-9A91-724C5B5476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62120" y="533520"/>
            <a:ext cx="7696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0000"/>
                </a:solidFill>
                <a:uFillTx/>
                <a:latin typeface="Times New Roman"/>
              </a:rPr>
              <a:t>Modified Fermat tes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n is odd integer &gt; 4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s, t integer   which   n-1 = 2</a:t>
            </a:r>
            <a:r>
              <a:rPr b="0" lang="th-TH" sz="32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t    t is odd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note :  s &gt; 0 since n-1 is even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Let B(n) a set of integers define by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934320" y="3505320"/>
                <a:ext cx="13968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914400" y="4038480"/>
            <a:ext cx="58672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ff  a: 2.. n-2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th-TH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mod n = 1   or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i:0..s such that           mod n = n-1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809880" y="5410080"/>
                <a:ext cx="6796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9354-FE91-4FD4-AA5F-0855D95EBE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2T02:47:57Z</dcterms:created>
  <dc:creator>PJW</dc:creator>
  <dc:description/>
  <dc:language>en-US</dc:language>
  <cp:lastModifiedBy>somchai</cp:lastModifiedBy>
  <cp:lastPrinted>1999-09-02T04:09:31Z</cp:lastPrinted>
  <dcterms:modified xsi:type="dcterms:W3CDTF">1999-09-02T06:15:26Z</dcterms:modified>
  <cp:revision>11</cp:revision>
  <dc:subject/>
  <dc:title>Primality Testing</dc:title>
</cp:coreProperties>
</file>