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F032-7B30-4E85-83F4-314B1862B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B531-3860-432B-8845-BFF622820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71F0-508A-41B5-A96E-65B0FB8CC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AC8A-6516-4A23-BE3D-E8F25B56A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2B93-C208-4F90-9C4B-D5E3BE4C1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F3B5-AFFD-4CD6-AACA-CFA405F0B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C3F7-961F-484D-998F-51E44C1B9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99D2-7750-4604-8EBF-07DF53648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20D2-8911-4887-998A-69CC9D5CC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78DF-CE67-46FC-A346-70E17873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94ED-0315-4E86-97C8-0EE5A3A7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5EDB-387B-4AFC-8927-2E718BC0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gsana Ne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6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ngsana New"/>
              </a:rPr>
              <a:t>&lt;date/time&gt;</a:t>
            </a:r>
            <a:endParaRPr b="0" lang="en-US" sz="2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6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ngsana New"/>
              </a:rPr>
              <a:t>&lt;footer&gt;</a:t>
            </a:r>
            <a:endParaRPr b="0" lang="en-US" sz="2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6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47364-B7D9-498F-B8E7-1712AC9B904F}" type="slidenum">
              <a:rPr b="0" lang="en-US" sz="26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tracking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2" name=""/>
          <p:cNvSpPr/>
          <p:nvPr/>
        </p:nvSpPr>
        <p:spPr>
          <a:xfrm>
            <a:off x="990720" y="1905120"/>
            <a:ext cx="7010280" cy="38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ight queens problem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try all possible  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6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4,426,165,368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never put more than one queen on a given row,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ctor representation : each row specify which column (3,1,6,2,8,6,4,7)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761D-067F-4CCB-971B-71D10D12FD6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43000" y="3581280"/>
            <a:ext cx="73152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Upper bound on the answer :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a:1, b:2, c:3, d:4 = 11+15+19+28 = 73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er bound (sum smallest elements)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1+12+13+22 = 58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swer [58 . . 73]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371600" y="380880"/>
            <a:ext cx="5867280" cy="3124440"/>
            <a:chOff x="1371600" y="380880"/>
            <a:chExt cx="5867280" cy="3124440"/>
          </a:xfrm>
        </p:grpSpPr>
        <p:sp>
          <p:nvSpPr>
            <p:cNvPr id="98" name=""/>
            <p:cNvSpPr/>
            <p:nvPr/>
          </p:nvSpPr>
          <p:spPr>
            <a:xfrm>
              <a:off x="1371600" y="380880"/>
              <a:ext cx="5867280" cy="3115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1     2      3     4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a  11    12    18     40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b  14    15    13     22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c  11    17    19     23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d  17    14    20     28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124080" y="1600200"/>
              <a:ext cx="762120" cy="6858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905120" y="990720"/>
              <a:ext cx="761760" cy="6858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7280" y="2819520"/>
              <a:ext cx="762120" cy="6858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419720" y="2286000"/>
              <a:ext cx="761760" cy="6858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427D-AE07-40C4-96DC-DFB8EFFF656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33520" y="457200"/>
            <a:ext cx="79246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ore a tree whose nodes correspond to partial assignment.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lower bound to guide the search.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12960" y="2514600"/>
            <a:ext cx="3811320" cy="3048120"/>
            <a:chOff x="912960" y="2514600"/>
            <a:chExt cx="3811320" cy="3048120"/>
          </a:xfrm>
        </p:grpSpPr>
        <p:grpSp>
          <p:nvGrpSpPr>
            <p:cNvPr id="105" name=""/>
            <p:cNvGrpSpPr/>
            <p:nvPr/>
          </p:nvGrpSpPr>
          <p:grpSpPr>
            <a:xfrm>
              <a:off x="912960" y="2514600"/>
              <a:ext cx="2896920" cy="3048120"/>
              <a:chOff x="912960" y="2514600"/>
              <a:chExt cx="2896920" cy="3048120"/>
            </a:xfrm>
          </p:grpSpPr>
          <p:sp>
            <p:nvSpPr>
              <p:cNvPr id="106" name=""/>
              <p:cNvSpPr/>
              <p:nvPr/>
            </p:nvSpPr>
            <p:spPr>
              <a:xfrm>
                <a:off x="912960" y="3730680"/>
                <a:ext cx="763560" cy="6872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590920" y="2514600"/>
                <a:ext cx="990360" cy="6094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590920" y="4191120"/>
                <a:ext cx="990360" cy="6094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590920" y="4952880"/>
                <a:ext cx="990360" cy="609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90920" y="3276720"/>
                <a:ext cx="990360" cy="6094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V="1">
                <a:off x="1676520" y="2817360"/>
                <a:ext cx="914400" cy="1065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1676520" y="3581280"/>
                <a:ext cx="838080" cy="533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676520" y="4114800"/>
                <a:ext cx="91440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676520" y="4343400"/>
                <a:ext cx="914400" cy="838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819520" y="2590920"/>
                <a:ext cx="99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a:1</a:t>
                </a: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666880" y="3352680"/>
                <a:ext cx="1067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a:2</a:t>
                </a: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743200" y="434340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a:3</a:t>
                </a: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743200" y="502920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a:4</a:t>
                </a: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3657600" y="251460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718080" y="3343320"/>
              <a:ext cx="100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58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733920" y="41911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5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09880" y="502920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78 *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4495680" y="259092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:1 ; 11+14+13+22 = 60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43FE-6E56-4FA7-9F9B-AFF69A21ACB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71600" y="762120"/>
            <a:ext cx="5867280" cy="3115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1     2      3     4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 11    12    18     40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  14    15    13     22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  11    17    19     23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  17    14    20     28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5" name=""/>
          <p:cNvSpPr/>
          <p:nvPr/>
        </p:nvSpPr>
        <p:spPr>
          <a:xfrm>
            <a:off x="3200400" y="3200400"/>
            <a:ext cx="762120" cy="6858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6" name=""/>
          <p:cNvSpPr/>
          <p:nvPr/>
        </p:nvSpPr>
        <p:spPr>
          <a:xfrm>
            <a:off x="1981080" y="1371600"/>
            <a:ext cx="762120" cy="6858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7" name=""/>
          <p:cNvSpPr/>
          <p:nvPr/>
        </p:nvSpPr>
        <p:spPr>
          <a:xfrm>
            <a:off x="6019920" y="2057400"/>
            <a:ext cx="761760" cy="6858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8" name=""/>
          <p:cNvSpPr/>
          <p:nvPr/>
        </p:nvSpPr>
        <p:spPr>
          <a:xfrm>
            <a:off x="4495680" y="2057400"/>
            <a:ext cx="762120" cy="6858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F3CB-C272-4C59-9013-30D5953E294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962520" y="6858000"/>
            <a:ext cx="914400" cy="914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990720" y="2286000"/>
            <a:ext cx="6095880" cy="3276720"/>
            <a:chOff x="990720" y="2286000"/>
            <a:chExt cx="6095880" cy="3276720"/>
          </a:xfrm>
        </p:grpSpPr>
        <p:grpSp>
          <p:nvGrpSpPr>
            <p:cNvPr id="131" name=""/>
            <p:cNvGrpSpPr/>
            <p:nvPr/>
          </p:nvGrpSpPr>
          <p:grpSpPr>
            <a:xfrm>
              <a:off x="990720" y="2514600"/>
              <a:ext cx="3811320" cy="3048120"/>
              <a:chOff x="990720" y="2514600"/>
              <a:chExt cx="3811320" cy="3048120"/>
            </a:xfrm>
          </p:grpSpPr>
          <p:grpSp>
            <p:nvGrpSpPr>
              <p:cNvPr id="132" name=""/>
              <p:cNvGrpSpPr/>
              <p:nvPr/>
            </p:nvGrpSpPr>
            <p:grpSpPr>
              <a:xfrm>
                <a:off x="990720" y="2514600"/>
                <a:ext cx="2896920" cy="3048120"/>
                <a:chOff x="990720" y="2514600"/>
                <a:chExt cx="2896920" cy="304812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990720" y="3730680"/>
                  <a:ext cx="763560" cy="68724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668680" y="2514600"/>
                  <a:ext cx="990360" cy="6094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668680" y="4191120"/>
                  <a:ext cx="990360" cy="6094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668680" y="4952880"/>
                  <a:ext cx="990360" cy="60984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2668680" y="3276720"/>
                  <a:ext cx="990360" cy="6094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flipV="1">
                  <a:off x="1754280" y="2817360"/>
                  <a:ext cx="914400" cy="1065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1754280" y="3581280"/>
                  <a:ext cx="838080" cy="5335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754280" y="4114800"/>
                  <a:ext cx="914400" cy="4572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754280" y="4343400"/>
                  <a:ext cx="914400" cy="8380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2897280" y="2590920"/>
                  <a:ext cx="9903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a:1</a:t>
                  </a:r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2744640" y="3352680"/>
                  <a:ext cx="10670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a:2</a:t>
                  </a:r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2820960" y="4343400"/>
                  <a:ext cx="106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a:3</a:t>
                  </a:r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2820960" y="5029200"/>
                  <a:ext cx="106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a:4</a:t>
                  </a:r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</p:grpSp>
          <p:sp>
            <p:nvSpPr>
              <p:cNvPr id="146" name=""/>
              <p:cNvSpPr/>
              <p:nvPr/>
            </p:nvSpPr>
            <p:spPr>
              <a:xfrm>
                <a:off x="3735360" y="2514600"/>
                <a:ext cx="762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60</a:t>
                </a: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795840" y="3343320"/>
                <a:ext cx="10062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811680" y="419112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65</a:t>
                </a: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887640" y="5029200"/>
                <a:ext cx="914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78 *</a:t>
                </a: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4726080" y="3124080"/>
              <a:ext cx="1143000" cy="609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802040" y="3962520"/>
              <a:ext cx="1143000" cy="609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726080" y="2286000"/>
              <a:ext cx="1143000" cy="609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3659040" y="2590560"/>
              <a:ext cx="1067040" cy="990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3735360" y="3428640"/>
              <a:ext cx="99072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735360" y="3581280"/>
              <a:ext cx="106668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802040" y="236232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:2,b:1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802040" y="3200400"/>
              <a:ext cx="152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:2,b:3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878360" y="403848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:2,b:4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021360" y="2438280"/>
              <a:ext cx="106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8 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021360" y="3276720"/>
              <a:ext cx="85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59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97680" y="411480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4 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7BBC-20D8-46B1-B4AA-127A36CC562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609480" y="2590920"/>
            <a:ext cx="8153640" cy="3276360"/>
            <a:chOff x="609480" y="2590920"/>
            <a:chExt cx="8153640" cy="3276360"/>
          </a:xfrm>
        </p:grpSpPr>
        <p:sp>
          <p:nvSpPr>
            <p:cNvPr id="163" name=""/>
            <p:cNvSpPr/>
            <p:nvPr/>
          </p:nvSpPr>
          <p:spPr>
            <a:xfrm>
              <a:off x="1523880" y="2819520"/>
              <a:ext cx="990720" cy="609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523880" y="4495680"/>
              <a:ext cx="990720" cy="609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523880" y="5257800"/>
              <a:ext cx="990720" cy="609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523880" y="3581280"/>
              <a:ext cx="990720" cy="609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609480" y="3122280"/>
              <a:ext cx="914400" cy="1065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609480" y="3886200"/>
              <a:ext cx="83844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9480" y="4419720"/>
              <a:ext cx="91440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09480" y="4648320"/>
              <a:ext cx="914400" cy="83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752480" y="289548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:1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600200" y="365760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:2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676520" y="464832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:3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676520" y="533412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:4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90920" y="281952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651040" y="3648240"/>
              <a:ext cx="1006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666880" y="44956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5 *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43200" y="533412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78 *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81280" y="3429000"/>
              <a:ext cx="1143000" cy="609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657600" y="4267080"/>
              <a:ext cx="1143000" cy="609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581280" y="2590920"/>
              <a:ext cx="1143000" cy="609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514600" y="2895480"/>
              <a:ext cx="1066680" cy="990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2590920" y="3733560"/>
              <a:ext cx="99036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590920" y="3886200"/>
              <a:ext cx="106668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657600" y="266688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:2,b:1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57600" y="3505320"/>
              <a:ext cx="152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:2,b:3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733920" y="434340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:2,b:4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876920" y="2743200"/>
              <a:ext cx="106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8 *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52880" y="441972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4 *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789520" y="3962520"/>
              <a:ext cx="2210040" cy="533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789520" y="3124080"/>
              <a:ext cx="2210040" cy="533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4722840" y="3352320"/>
              <a:ext cx="106668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22840" y="3733920"/>
              <a:ext cx="1066680" cy="53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789520" y="312408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:2,b:3,c:1,d:4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89520" y="396252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:2,b:3,c:4,d:1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53280" y="320040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4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8153280" y="40384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5 *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B944-D966-4310-BE0D-01315C949A2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"/>
          <p:cNvGrpSpPr/>
          <p:nvPr/>
        </p:nvGrpSpPr>
        <p:grpSpPr>
          <a:xfrm>
            <a:off x="609480" y="304920"/>
            <a:ext cx="8534520" cy="6019560"/>
            <a:chOff x="609480" y="304920"/>
            <a:chExt cx="8534520" cy="6019560"/>
          </a:xfrm>
        </p:grpSpPr>
        <p:sp>
          <p:nvSpPr>
            <p:cNvPr id="199" name=""/>
            <p:cNvSpPr/>
            <p:nvPr/>
          </p:nvSpPr>
          <p:spPr>
            <a:xfrm>
              <a:off x="1523880" y="4761000"/>
              <a:ext cx="990720" cy="695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523880" y="5629320"/>
              <a:ext cx="990720" cy="695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23880" y="3719520"/>
              <a:ext cx="990720" cy="695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609480" y="4066920"/>
              <a:ext cx="838440" cy="608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09480" y="4675320"/>
              <a:ext cx="914400" cy="52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09480" y="4935600"/>
              <a:ext cx="914400" cy="95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600200" y="380700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:2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676520" y="493560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:3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676520" y="571644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:4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523880" y="914400"/>
              <a:ext cx="990720" cy="695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676520" y="100188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:1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651040" y="3795840"/>
              <a:ext cx="1006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666880" y="476100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5 *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743200" y="571644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78 *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81280" y="3546360"/>
              <a:ext cx="1143000" cy="693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657600" y="4500720"/>
              <a:ext cx="1143000" cy="695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2514600" y="2938320"/>
              <a:ext cx="1066680" cy="1128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2590920" y="3892320"/>
              <a:ext cx="990360" cy="174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590920" y="4067280"/>
              <a:ext cx="1066680" cy="780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3581280" y="2819520"/>
              <a:ext cx="1676520" cy="695160"/>
              <a:chOff x="3581280" y="2819520"/>
              <a:chExt cx="1676520" cy="695160"/>
            </a:xfrm>
          </p:grpSpPr>
          <p:sp>
            <p:nvSpPr>
              <p:cNvPr id="219" name=""/>
              <p:cNvSpPr/>
              <p:nvPr/>
            </p:nvSpPr>
            <p:spPr>
              <a:xfrm>
                <a:off x="3581280" y="2819520"/>
                <a:ext cx="1143000" cy="6951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657600" y="2906640"/>
                <a:ext cx="1600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a:2,b:1</a:t>
                </a: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3657600" y="3632040"/>
              <a:ext cx="152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:2,b:3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733920" y="458784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:2,b:4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876920" y="2763720"/>
              <a:ext cx="106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8 *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52880" y="467532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4 *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789520" y="4154400"/>
              <a:ext cx="2210040" cy="606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4722840" y="3459240"/>
              <a:ext cx="1066680" cy="433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722840" y="3892680"/>
              <a:ext cx="1066680" cy="608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789520" y="415440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:2,b:3,c:4,d:1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5789520" y="3198960"/>
              <a:ext cx="2973600" cy="608040"/>
              <a:chOff x="5789520" y="3198960"/>
              <a:chExt cx="2973600" cy="608040"/>
            </a:xfrm>
          </p:grpSpPr>
          <p:sp>
            <p:nvSpPr>
              <p:cNvPr id="230" name=""/>
              <p:cNvSpPr/>
              <p:nvPr/>
            </p:nvSpPr>
            <p:spPr>
              <a:xfrm>
                <a:off x="5789520" y="3198960"/>
                <a:ext cx="2210040" cy="608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789520" y="3198960"/>
                <a:ext cx="2514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a:2,b:3,c:1,d:4</a:t>
                </a: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8153280" y="3286080"/>
                <a:ext cx="609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64</a:t>
                </a: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 flipV="1">
              <a:off x="609480" y="1371240"/>
              <a:ext cx="838440" cy="2895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3505320" y="1828800"/>
              <a:ext cx="1675800" cy="695160"/>
              <a:chOff x="3505320" y="1828800"/>
              <a:chExt cx="1675800" cy="695160"/>
            </a:xfrm>
          </p:grpSpPr>
          <p:sp>
            <p:nvSpPr>
              <p:cNvPr id="235" name=""/>
              <p:cNvSpPr/>
              <p:nvPr/>
            </p:nvSpPr>
            <p:spPr>
              <a:xfrm>
                <a:off x="3505320" y="1828800"/>
                <a:ext cx="1142640" cy="6951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581280" y="1915920"/>
                <a:ext cx="1599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a:1,b:4</a:t>
                </a: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3581280" y="1066680"/>
              <a:ext cx="1676520" cy="695160"/>
              <a:chOff x="3581280" y="1066680"/>
              <a:chExt cx="1676520" cy="695160"/>
            </a:xfrm>
          </p:grpSpPr>
          <p:sp>
            <p:nvSpPr>
              <p:cNvPr id="238" name=""/>
              <p:cNvSpPr/>
              <p:nvPr/>
            </p:nvSpPr>
            <p:spPr>
              <a:xfrm>
                <a:off x="3581280" y="1066680"/>
                <a:ext cx="1143000" cy="6951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657600" y="1153800"/>
                <a:ext cx="1600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a:1,b:3</a:t>
                </a: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3505320" y="304920"/>
              <a:ext cx="1675800" cy="695160"/>
              <a:chOff x="3505320" y="304920"/>
              <a:chExt cx="1675800" cy="695160"/>
            </a:xfrm>
          </p:grpSpPr>
          <p:sp>
            <p:nvSpPr>
              <p:cNvPr id="241" name=""/>
              <p:cNvSpPr/>
              <p:nvPr/>
            </p:nvSpPr>
            <p:spPr>
              <a:xfrm>
                <a:off x="3505320" y="304920"/>
                <a:ext cx="1142640" cy="6951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581280" y="392040"/>
                <a:ext cx="1599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a:1,b:2</a:t>
                </a: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5638680" y="1447920"/>
              <a:ext cx="2973600" cy="608040"/>
              <a:chOff x="5638680" y="1447920"/>
              <a:chExt cx="2973600" cy="608040"/>
            </a:xfrm>
          </p:grpSpPr>
          <p:sp>
            <p:nvSpPr>
              <p:cNvPr id="244" name=""/>
              <p:cNvSpPr/>
              <p:nvPr/>
            </p:nvSpPr>
            <p:spPr>
              <a:xfrm>
                <a:off x="5638680" y="1447920"/>
                <a:ext cx="2210040" cy="608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638680" y="1447920"/>
                <a:ext cx="2514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a:1,b:3,c:4,d:2</a:t>
                </a: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002440" y="1535040"/>
                <a:ext cx="609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61</a:t>
                </a: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>
              <a:off x="5562720" y="380880"/>
              <a:ext cx="2286000" cy="625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562720" y="380880"/>
              <a:ext cx="29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:1,b:3,c:2,d:4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077320" y="457200"/>
              <a:ext cx="71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9*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2514600" y="609480"/>
              <a:ext cx="914400" cy="60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514600" y="1219320"/>
              <a:ext cx="106668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590920" y="1295280"/>
              <a:ext cx="914400" cy="838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4724280" y="685440"/>
              <a:ext cx="83844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724280" y="1447920"/>
              <a:ext cx="91440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00600" y="3808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8*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00600" y="190512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6*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153280" y="419112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5*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8001000" y="1371600"/>
            <a:ext cx="762120" cy="99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20E2-79EE-4E6D-B1AC-BB0B4B91F01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apsack problem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1447920" y="1143000"/>
                <a:ext cx="1908000" cy="22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≤</m:t>
                            </m:r>
                            <m:r>
                              <m:t xml:space="preserve">W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1" name=""/>
          <p:cNvSpPr/>
          <p:nvPr/>
        </p:nvSpPr>
        <p:spPr>
          <a:xfrm>
            <a:off x="457200" y="35053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the variables are numbered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6019920" y="2819520"/>
                <a:ext cx="155880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≥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63" name=""/>
          <p:cNvGrpSpPr/>
          <p:nvPr/>
        </p:nvGrpSpPr>
        <p:grpSpPr>
          <a:xfrm>
            <a:off x="533520" y="4038480"/>
            <a:ext cx="6708240" cy="1081080"/>
            <a:chOff x="533520" y="4038480"/>
            <a:chExt cx="6708240" cy="1081080"/>
          </a:xfrm>
        </p:grpSpPr>
        <p:sp>
          <p:nvSpPr>
            <p:cNvPr id="264" name=""/>
            <p:cNvSpPr/>
            <p:nvPr/>
          </p:nvSpPr>
          <p:spPr>
            <a:xfrm>
              <a:off x="533520" y="4267080"/>
              <a:ext cx="68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5" name=""/>
                <p:cNvSpPr txBox="1"/>
                <p:nvPr/>
              </p:nvSpPr>
              <p:spPr>
                <a:xfrm>
                  <a:off x="1143000" y="4267080"/>
                  <a:ext cx="1240920" cy="57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66" name=""/>
            <p:cNvSpPr/>
            <p:nvPr/>
          </p:nvSpPr>
          <p:spPr>
            <a:xfrm>
              <a:off x="2743200" y="4267080"/>
              <a:ext cx="251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re fixed, with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7" name=""/>
                <p:cNvSpPr txBox="1"/>
                <p:nvPr/>
              </p:nvSpPr>
              <p:spPr>
                <a:xfrm>
                  <a:off x="5333760" y="4038480"/>
                  <a:ext cx="1908000" cy="108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k</m:t>
                          </m:r>
                        </m:sup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w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≤</m:t>
                          </m:r>
                          <m:r>
                            <m:t xml:space="preserve">W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68" name=""/>
          <p:cNvSpPr/>
          <p:nvPr/>
        </p:nvSpPr>
        <p:spPr>
          <a:xfrm>
            <a:off x="685800" y="49528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further items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4114800" y="5105520"/>
                <a:ext cx="4325760" cy="11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W</m:t>
                            </m:r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09E0-56F2-48EF-AC81-9D36BEFC0E0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uristic search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1" name=""/>
          <p:cNvSpPr/>
          <p:nvPr/>
        </p:nvSpPr>
        <p:spPr>
          <a:xfrm>
            <a:off x="990720" y="2286000"/>
            <a:ext cx="66294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me tree,   Artificial Intelligence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imax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am search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2" name=""/>
          <p:cNvSpPr/>
          <p:nvPr/>
        </p:nvSpPr>
        <p:spPr>
          <a:xfrm>
            <a:off x="1066680" y="541008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uristic function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3DC0-D192-4B2F-8C12-D56680E7DF4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2362320" y="1219320"/>
            <a:ext cx="3733560" cy="3504960"/>
            <a:chOff x="2362320" y="1219320"/>
            <a:chExt cx="3733560" cy="3504960"/>
          </a:xfrm>
        </p:grpSpPr>
        <p:sp>
          <p:nvSpPr>
            <p:cNvPr id="44" name=""/>
            <p:cNvSpPr/>
            <p:nvPr/>
          </p:nvSpPr>
          <p:spPr>
            <a:xfrm>
              <a:off x="2362320" y="1219320"/>
              <a:ext cx="3733560" cy="3504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819520" y="1219320"/>
              <a:ext cx="0" cy="350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267080" y="1219320"/>
              <a:ext cx="0" cy="350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76720" y="1219320"/>
              <a:ext cx="0" cy="350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809880" y="1219320"/>
              <a:ext cx="0" cy="350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257800" y="1219320"/>
              <a:ext cx="0" cy="350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724280" y="1219320"/>
              <a:ext cx="0" cy="350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362320" y="304812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362320" y="220968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362320" y="380988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362320" y="175248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362320" y="266688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362320" y="342900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362320" y="426708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8680" y="1219320"/>
              <a:ext cx="0" cy="350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286000" y="525780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3,1,6,2,8,6,4,7)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0" name=""/>
          <p:cNvSpPr/>
          <p:nvPr/>
        </p:nvSpPr>
        <p:spPr>
          <a:xfrm>
            <a:off x="2286000" y="5335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    2    3   4   5    6   7   8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1" name=""/>
          <p:cNvSpPr/>
          <p:nvPr/>
        </p:nvSpPr>
        <p:spPr>
          <a:xfrm>
            <a:off x="3352680" y="12952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17524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3" name=""/>
          <p:cNvSpPr/>
          <p:nvPr/>
        </p:nvSpPr>
        <p:spPr>
          <a:xfrm>
            <a:off x="4800600" y="2133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4" name=""/>
          <p:cNvSpPr/>
          <p:nvPr/>
        </p:nvSpPr>
        <p:spPr>
          <a:xfrm>
            <a:off x="2895480" y="2590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5" name=""/>
          <p:cNvSpPr/>
          <p:nvPr/>
        </p:nvSpPr>
        <p:spPr>
          <a:xfrm>
            <a:off x="5715000" y="2971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6" name=""/>
          <p:cNvSpPr/>
          <p:nvPr/>
        </p:nvSpPr>
        <p:spPr>
          <a:xfrm>
            <a:off x="4800600" y="33526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7" name=""/>
          <p:cNvSpPr/>
          <p:nvPr/>
        </p:nvSpPr>
        <p:spPr>
          <a:xfrm>
            <a:off x="3886200" y="3809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8" name=""/>
          <p:cNvSpPr/>
          <p:nvPr/>
        </p:nvSpPr>
        <p:spPr>
          <a:xfrm>
            <a:off x="5257800" y="4191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9" name=""/>
          <p:cNvSpPr/>
          <p:nvPr/>
        </p:nvSpPr>
        <p:spPr>
          <a:xfrm>
            <a:off x="4952880" y="27432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0" name=""/>
          <p:cNvSpPr/>
          <p:nvPr/>
        </p:nvSpPr>
        <p:spPr>
          <a:xfrm>
            <a:off x="2971800" y="2362320"/>
            <a:ext cx="2133720" cy="1828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3E41-2411-49F4-857E-987EC7A2BF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838080" y="380880"/>
            <a:ext cx="7543800" cy="5297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en1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 to 8 do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 to 8 do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. . . 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 to 8 do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 = [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. . .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olution ( sol ) then write sol  stop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“there is no solution”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548640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. Of positions = 8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6,777,216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5943600"/>
            <a:ext cx="4876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first soln after 1,299,852 )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A8D4-6C8C-43E0-A792-255A7207322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304920"/>
            <a:ext cx="670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  Never put queen on the same row (different numb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 on soln vector)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1676520"/>
            <a:ext cx="8305560" cy="4190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en2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 = initial-permutation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sol != final-permutation and not solution(sol) do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 = next-permutation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olution(sol) then write sol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se write “there is no solution”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5284-7DAC-48EB-8F78-3F7F2AD348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80880" y="228600"/>
            <a:ext cx="83822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ermutation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[1 . . n] is a global array initialize to [1,2,. . n]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call perm(1)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2362320"/>
            <a:ext cx="8305560" cy="3115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(i)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= n then use T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se for j = i to n do exchange T[i] and T[j]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(i+1)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hange T[i] and T[j]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563868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positions 8! = 40,320  (first soln after 2830)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A9CA-ABBA-44A6-8489-09AC775821E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33520" y="685800"/>
            <a:ext cx="822960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-queen as tree search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vector V[1. .k] of integers between 1 and 8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-promis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f none of the k queens threatens any of the others.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vector V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-promis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, for every pair of integers i and j between 1 and k with i != j, we have V[i] - V[j] is-not-in {i-j, 0, j-i}. 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s to the 8-queen correspond to vectors that are 8-promising.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FA2D-AAF0-4D84-B9C6-3CA595BB34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57200" y="380880"/>
            <a:ext cx="838188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 be the set of k-promising vectors, k: 0 .. 8.  Let G = (N,A)  be the directed graph such that (U,V) is-in A iff there exists an integer k, k:0..8 , such that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U is k-promising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V is (k+1)-promising, and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U[i] = V[i] for every i in [1..k]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7009920" y="2590920"/>
            <a:ext cx="3812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2" name=""/>
          <p:cNvSpPr/>
          <p:nvPr/>
        </p:nvSpPr>
        <p:spPr>
          <a:xfrm>
            <a:off x="7391520" y="25909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3" name=""/>
          <p:cNvSpPr/>
          <p:nvPr/>
        </p:nvSpPr>
        <p:spPr>
          <a:xfrm>
            <a:off x="7010280" y="34290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857640" y="3429000"/>
            <a:ext cx="152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5" name=""/>
          <p:cNvSpPr/>
          <p:nvPr/>
        </p:nvSpPr>
        <p:spPr>
          <a:xfrm>
            <a:off x="6553080" y="39625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6" name=""/>
          <p:cNvSpPr/>
          <p:nvPr/>
        </p:nvSpPr>
        <p:spPr>
          <a:xfrm>
            <a:off x="6324480" y="23623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 = 0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05360" y="4495680"/>
            <a:ext cx="1522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8" name=""/>
          <p:cNvSpPr/>
          <p:nvPr/>
        </p:nvSpPr>
        <p:spPr>
          <a:xfrm>
            <a:off x="6858000" y="4495680"/>
            <a:ext cx="3808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9" name=""/>
          <p:cNvSpPr/>
          <p:nvPr/>
        </p:nvSpPr>
        <p:spPr>
          <a:xfrm>
            <a:off x="6095880" y="51814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 = 8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0" name=""/>
          <p:cNvSpPr/>
          <p:nvPr/>
        </p:nvSpPr>
        <p:spPr>
          <a:xfrm>
            <a:off x="5791320" y="2133720"/>
            <a:ext cx="2819160" cy="3962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5029200"/>
            <a:ext cx="5486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node &lt; 8!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ode 2057, first soln after 114 )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2BEE-EBBC-4F94-A373-9970FA21397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Template for backtracking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2133720"/>
            <a:ext cx="7848720" cy="3115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track ( v[1..k] 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/ v is k-promising vector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 solution ( v ) then write v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se  for each (k+1)-promising vector w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 that w[1..k] = v[1..k]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backtrack( w[1.. k+1] )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2727-6629-472A-A4F4-04520591FE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anch and bound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1905120"/>
            <a:ext cx="7696080" cy="35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ssignment problem, n agents are to be assigned n tasks, each agent having exactly one task.  If agent i, i:1..n, is assigned task j, j: 1..n, then the cost of performing this task is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 Given the cost matrix, the problem is to assign agents to tasks so as to minimize the total cost of executing the n tasks.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2FFF-D606-4E27-A913-F8272BA71F7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9T16:20:00Z</dcterms:created>
  <dc:creator>Praphas</dc:creator>
  <dc:description/>
  <dc:language>en-US</dc:language>
  <cp:lastModifiedBy>somchai</cp:lastModifiedBy>
  <dcterms:modified xsi:type="dcterms:W3CDTF">1999-08-30T15:06:25Z</dcterms:modified>
  <cp:revision>12</cp:revision>
  <dc:subject/>
  <dc:title>Backtracking</dc:title>
</cp:coreProperties>
</file>