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BAC-03EE-4468-AB4D-3D4718A822F9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1EE2-27FB-4B94-BE50-D4EC874CD59D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02E94A2B-4777-4326-A3BF-CC3D4B54AE6E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9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4128-DC5F-45FA-A10D-165B0404E28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ahoma"/>
              </a:rPr>
              <a:t>ทบทวนก่อนสอบกลางภาค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กมทายตัวเลข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907560"/>
            <a:ext cx="811368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โปรแกรมสุ่มจำนวนเต็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ึ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โอกาสทา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รั้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ทายไม่ถูก โปรแกรมจะบอ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น้อยกว่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 "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ากกว่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521080" y="2617920"/>
            <a:ext cx="4128840" cy="344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มทายตัวเลข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ุณมีโอกาส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7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รั้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ายครั้งที่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1 : </a:t>
            </a:r>
            <a:r>
              <a:rPr b="0" lang="th-TH" sz="2000" spc="-1" strike="noStrike">
                <a:solidFill>
                  <a:srgbClr val="c00000"/>
                </a:solidFill>
                <a:latin typeface="Tahoma"/>
                <a:ea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มากกว่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ายครั้งที่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2 : </a:t>
            </a:r>
            <a:r>
              <a:rPr b="0" lang="th-TH" sz="2000" spc="-1" strike="noStrike">
                <a:solidFill>
                  <a:srgbClr val="c00000"/>
                </a:solidFill>
                <a:latin typeface="Tahoma"/>
                <a:ea typeface="Tahoma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้อยกว่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ายครั้งที่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3 : </a:t>
            </a:r>
            <a:r>
              <a:rPr b="0" lang="th-TH" sz="2000" spc="-1" strike="noStrike">
                <a:solidFill>
                  <a:srgbClr val="c00000"/>
                </a:solidFill>
                <a:latin typeface="Tahoma"/>
                <a:ea typeface="Tahoma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้อยกว่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ายครั้งที่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4 : </a:t>
            </a:r>
            <a:r>
              <a:rPr b="0" lang="th-TH" sz="2000" spc="-1" strike="noStrike">
                <a:solidFill>
                  <a:srgbClr val="c00000"/>
                </a:solidFill>
                <a:latin typeface="Tahoma"/>
                <a:ea typeface="Tahoma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้อยกว่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ทายครั้งที่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5 : </a:t>
            </a:r>
            <a:r>
              <a:rPr b="0" lang="th-TH" sz="2000" spc="-1" strike="noStrike">
                <a:solidFill>
                  <a:srgbClr val="c00000"/>
                </a:solidFill>
                <a:latin typeface="Tahoma"/>
                <a:ea typeface="Tahoma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ถูกต้องแล้วครับ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GuessMyNumb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85720" y="741240"/>
            <a:ext cx="796284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กมทายตัวเลข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: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ุณมีโอกาส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7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ครั้ง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myNumber = 1 +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(100 *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random(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yourGuess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k = 1; k &lt;= 7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การทายครั้งที่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k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: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yourGuess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yNumber == yourGuess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yNumber &gt; yourGuess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มากกว่า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น้อยกว่า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yNumber == yourGuess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ถูกต้องแล้วครับ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สียใจครับ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ผมกำลังนึกถึงเลข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myNumber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3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3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วรรณยุกต์ตัวใดใช้มากสุด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360" y="907560"/>
            <a:ext cx="79200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ม้เอก  ไม้โท  ไม้ตรี  หรือไม้จัตว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อใช้วิธีนับจากคำศัพท์ในพจนานุกรมราชบัณฑิต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ฟ้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words0.txt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ก็บศัพท์ บรรทัดละคำหรือวล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2897280" y="2687760"/>
            <a:ext cx="4462200" cy="3448080"/>
            <a:chOff x="2897280" y="2687760"/>
            <a:chExt cx="4462200" cy="3448080"/>
          </a:xfrm>
        </p:grpSpPr>
        <p:sp>
          <p:nvSpPr>
            <p:cNvPr id="135" name="TextBox 5"/>
            <p:cNvSpPr/>
            <p:nvPr/>
          </p:nvSpPr>
          <p:spPr>
            <a:xfrm>
              <a:off x="2897280" y="2687760"/>
              <a:ext cx="2415240" cy="3448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ก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ก๊ก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ไฮโดรมิเตอร์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ไฮไฟ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ไฮโล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ไฮฮี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36" name="TextBox 6"/>
            <p:cNvSpPr/>
            <p:nvPr/>
          </p:nvSpPr>
          <p:spPr>
            <a:xfrm>
              <a:off x="5375160" y="4117680"/>
              <a:ext cx="19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มีสามหมื่นกว่าคำ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ToneCou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95200" y="712800"/>
            <a:ext cx="8599680" cy="59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c:/riwords0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1 = 0, c2 = 0, c3 = 0, c4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1 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cs typeface="Courier New"/>
              </a:rPr>
              <a:t>่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2 =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cs typeface="Courier New"/>
              </a:rPr>
              <a:t>้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1 =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cs typeface="Courier New"/>
              </a:rPr>
              <a:t>๊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1 =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2400" spc="-1" strike="noStrike">
                <a:solidFill>
                  <a:srgbClr val="ff00ff"/>
                </a:solidFill>
                <a:latin typeface="Courier New"/>
                <a:cs typeface="Courier New"/>
              </a:rPr>
              <a:t>๋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in.hasNex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line = in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line = line.trim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k = 0; k &lt; line.length(); k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ch = line.substring(k, k + 1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ch.equals(t1)) c1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ch.equals(t2)) c2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ch.equals(t3)) c3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ch.equals(t4)) c4++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in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้เอกมี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\t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c1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้โทมี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\t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c2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้ตรีมี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\t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c3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้จัตวามี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\t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c4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แปลคำอังกฤษเป็นไทย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4360" y="907560"/>
            <a:ext cx="792000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ีแฟ้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b-dict.tx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เก็บคำกริยาภาษาอังกฤ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รรทั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ตามด้วยคำแปลภาษาไทย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บรรทั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Int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รั้งแรกจากแฟ้มจะได้จำนวนค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28680" y="2992320"/>
            <a:ext cx="8551800" cy="2838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026  abat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ะเบท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' 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t.,vi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ลดน้อยลง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บรรเทา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ลิกล้ม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ลิก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ะงับ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bbreviat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ะบรี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'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วิเอท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t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ย่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ย่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ำย่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ย่อ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bid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ะไบดฺ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' 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i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ักษาหรือ ปฏิบัติตาม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าศัยอยู่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ทน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ยืดถื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อคอ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owl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ยาลฺ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i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้องเสียงยาวแสดงความไม่พอใจหรือผิดหวัง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ว้าย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!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สียงร้องดังกล่าว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236520" y="2801880"/>
            <a:ext cx="898560" cy="73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Eng2Thai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33440" y="741240"/>
            <a:ext cx="825336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java.io.*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ng2Thai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args)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hrow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IO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dict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= in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eng 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thai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0; i &lt; eng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g[i]  = in.nextLine().trim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ai[i] = in.nextLine().trim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876400" y="4876920"/>
            <a:ext cx="6088320" cy="1618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026  abat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ะเบท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' 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t.,vi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ลดน้อยลง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บรรเทา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ลิกล้ม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ลิก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ระงับ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bbreviate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ะบรี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'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วิเอท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t.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ย่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ย่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ำย่อ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ารย่อ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500"/>
                            </p:stCondLst>
                            <p:childTnLst>
                              <p:par>
                                <p:cTn id="7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Eng2Thai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33440" y="741240"/>
            <a:ext cx="8253360" cy="52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eng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ord = kb.nextLin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word.equals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.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i = 0; i &lt; n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word.equals(eng[i]))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 == n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--- 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่คำแปลของ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word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thai[i]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" name="Rounded Rectangle 4"/>
          <p:cNvSpPr/>
          <p:nvPr/>
        </p:nvSpPr>
        <p:spPr>
          <a:xfrm>
            <a:off x="3186000" y="5029200"/>
            <a:ext cx="4046760" cy="8031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ย่าใช้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==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ในการเปรียบเทียบสตริ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word == eng[i] ) 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Rounded Rectangular Callout 5"/>
          <p:cNvSpPr/>
          <p:nvPr/>
        </p:nvSpPr>
        <p:spPr>
          <a:xfrm>
            <a:off x="6016680" y="1946160"/>
            <a:ext cx="2832120" cy="782640"/>
          </a:xfrm>
          <a:prstGeom prst="wedgeRoundRectCallout">
            <a:avLst>
              <a:gd name="adj1" fmla="val -71699"/>
              <a:gd name="adj2" fmla="val 26648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้องประกาศ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อก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พราะจะใช้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นอก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500"/>
                            </p:stCondLst>
                            <p:childTnLst>
                              <p:par>
                                <p:cTn id="7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ที่จะนำเสน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ำตอบของสมการเชิงเส้นตัวแปรเดีย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ารร่วมมา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มากสุดอันดับสอ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กมทายตัวเล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รรณยุกต์ใดใช้มากสุ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ปลคำอังกฤษเป็นไท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0" y="-36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ำตอบของสมการเชิงเส้นสองตัวแปร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360" y="907560"/>
            <a:ext cx="792000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โปรแกร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Unknowns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พื่อคำนวณหาค่าของ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ากสมการ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=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=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รับค่าคงตัว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ล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ากแป้นพิมพ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714680" y="3286080"/>
            <a:ext cx="3500280" cy="3143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&gt;java TwoUnknowns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11 = 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12 = -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21 = 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22 = 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1 = 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2 = 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2.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2 = 1.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&g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572080" y="3956040"/>
            <a:ext cx="3143160" cy="1438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- 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5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+ 3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7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Courier New"/>
              </a:rPr>
              <a:t>ได้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2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cs typeface="Courier New"/>
              </a:rPr>
              <a:t>และ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3" name="Group 9"/>
          <p:cNvGrpSpPr/>
          <p:nvPr/>
        </p:nvGrpSpPr>
        <p:grpSpPr>
          <a:xfrm>
            <a:off x="214200" y="3714840"/>
            <a:ext cx="1428480" cy="2357280"/>
            <a:chOff x="214200" y="3714840"/>
            <a:chExt cx="1428480" cy="2357280"/>
          </a:xfrm>
        </p:grpSpPr>
        <p:sp>
          <p:nvSpPr>
            <p:cNvPr id="94" name="TextBox 5"/>
            <p:cNvSpPr/>
            <p:nvPr/>
          </p:nvSpPr>
          <p:spPr>
            <a:xfrm>
              <a:off x="357120" y="435780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5" name="TextBox 6"/>
            <p:cNvSpPr/>
            <p:nvPr/>
          </p:nvSpPr>
          <p:spPr>
            <a:xfrm>
              <a:off x="214200" y="5572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6" name="Left Brace 7"/>
            <p:cNvSpPr/>
            <p:nvPr/>
          </p:nvSpPr>
          <p:spPr>
            <a:xfrm>
              <a:off x="1357200" y="3714840"/>
              <a:ext cx="285480" cy="1714320"/>
            </a:xfrm>
            <a:custGeom>
              <a:avLst/>
              <a:gdLst>
                <a:gd name="textAreaLeft" fmla="*/ 182520 w 285480"/>
                <a:gd name="textAreaRight" fmla="*/ 285840 w 285480"/>
                <a:gd name="textAreaTop" fmla="*/ 25560 h 1714320"/>
                <a:gd name="textAreaBottom" fmla="*/ 1688760 h 171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21"/>
                    <a:pt x="10800" y="1041"/>
                  </a:cubicBezTo>
                  <a:lnTo>
                    <a:pt x="10800" y="9759"/>
                  </a:lnTo>
                  <a:cubicBezTo>
                    <a:pt x="10800" y="10280"/>
                    <a:pt x="5400" y="10800"/>
                    <a:pt x="0" y="10800"/>
                  </a:cubicBezTo>
                  <a:cubicBezTo>
                    <a:pt x="5400" y="10800"/>
                    <a:pt x="10800" y="11321"/>
                    <a:pt x="10800" y="11841"/>
                  </a:cubicBezTo>
                  <a:lnTo>
                    <a:pt x="10800" y="20559"/>
                  </a:lnTo>
                  <a:cubicBezTo>
                    <a:pt x="10800" y="2108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7" name="Left Brace 8"/>
            <p:cNvSpPr/>
            <p:nvPr/>
          </p:nvSpPr>
          <p:spPr>
            <a:xfrm>
              <a:off x="1357200" y="5500800"/>
              <a:ext cx="285480" cy="571320"/>
            </a:xfrm>
            <a:custGeom>
              <a:avLst/>
              <a:gdLst>
                <a:gd name="textAreaLeft" fmla="*/ 182520 w 285480"/>
                <a:gd name="textAreaRight" fmla="*/ 285840 w 285480"/>
                <a:gd name="textAreaTop" fmla="*/ 16560 h 571320"/>
                <a:gd name="textAreaBottom" fmla="*/ 55476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16"/>
                    <a:pt x="10800" y="2032"/>
                  </a:cubicBezTo>
                  <a:lnTo>
                    <a:pt x="10800" y="8768"/>
                  </a:lnTo>
                  <a:cubicBezTo>
                    <a:pt x="10800" y="9784"/>
                    <a:pt x="5400" y="10800"/>
                    <a:pt x="0" y="10800"/>
                  </a:cubicBezTo>
                  <a:cubicBezTo>
                    <a:pt x="5400" y="10800"/>
                    <a:pt x="10800" y="11816"/>
                    <a:pt x="10800" y="12832"/>
                  </a:cubicBezTo>
                  <a:lnTo>
                    <a:pt x="10800" y="19568"/>
                  </a:lnTo>
                  <a:cubicBezTo>
                    <a:pt x="10800" y="2058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TwoUnknown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3254400" y="857160"/>
                <a:ext cx="24606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3214800" y="5143680"/>
                <a:ext cx="279072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3214800" y="3929040"/>
                <a:ext cx="27572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2468520" y="2000160"/>
                <a:ext cx="36752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2549520" y="3214800"/>
                <a:ext cx="45943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TwoUnknown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5840" y="785880"/>
            <a:ext cx="842940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canner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11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11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12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12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21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21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a22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22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1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1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b2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2 = kb.nextDoubl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x1 = (b1*a22 – b2*a12)/(a11*a22 – a21*a12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x2 = (b1*a21 – b2*a11)/(a12*a21 – a11*a22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x1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x1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x2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x2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5786280" y="3357720"/>
                <a:ext cx="279108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5786280" y="2143080"/>
                <a:ext cx="2757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GC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รร่วมมา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โปรแกรมรับค่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ับ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างแป้นพิมพ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าค่าหารร่วมมากของ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ับ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ามผังงานด้านขว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Object 7"/>
          <p:cNvGraphicFramePr/>
          <p:nvPr/>
        </p:nvGraphicFramePr>
        <p:xfrm>
          <a:off x="5786280" y="857160"/>
          <a:ext cx="2571840" cy="58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6280" y="857160"/>
                    <a:ext cx="2571840" cy="58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4"/>
          <p:cNvSpPr/>
          <p:nvPr/>
        </p:nvSpPr>
        <p:spPr>
          <a:xfrm>
            <a:off x="1671480" y="3022560"/>
            <a:ext cx="32544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     m      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211   1122   1089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122   1089     3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089     33     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GC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ารร่วมมา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85840" y="928800"/>
            <a:ext cx="58579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n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m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m &gt; 0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n % 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m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gcd =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n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115" name="Object 22"/>
          <p:cNvGraphicFramePr/>
          <p:nvPr/>
        </p:nvGraphicFramePr>
        <p:xfrm>
          <a:off x="6286680" y="785880"/>
          <a:ext cx="2571480" cy="58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785880"/>
                    <a:ext cx="2571480" cy="58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SecondMax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ฟ้มชื่อ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.txt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ก็บจำนวนเต็มมากมา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งเขียนโปรแกร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Max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หาและแสดง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ำนวน</a:t>
            </a:r>
            <a:r>
              <a:rPr b="0" lang="th-TH" sz="2800" spc="-1" strike="noStrike" u="sng">
                <a:solidFill>
                  <a:srgbClr val="000000"/>
                </a:solidFill>
                <a:uFillTx/>
                <a:latin typeface="Tahoma"/>
              </a:rPr>
              <a:t>เต็มบวก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มีค่ามากสุดเป็นอันดับสอง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นแฟ้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มีจำนวนมากสุดซ้ำกัน ให้ถือว่า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ำนวนมากสุดเหล่านั้นเป็นอันดับหนึ่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ทุกจำนวนในแฟ้มมีค่าเท่ากันหมด 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รือแฟ้มนี้มีข้อมูลน้อยกว่าสองจำนวน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แสดงว่า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</a:rPr>
              <a:t>ไม่มีตัวมากสุดอันดับสอ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6621480" y="2943360"/>
            <a:ext cx="473040" cy="1923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7221600" y="2943360"/>
            <a:ext cx="471600" cy="1923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7821720" y="2943360"/>
            <a:ext cx="471240" cy="1923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8420040" y="2943360"/>
            <a:ext cx="47304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6562800" y="3259080"/>
            <a:ext cx="442800" cy="442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7182000" y="3259080"/>
            <a:ext cx="442800" cy="442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SecondMax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85840" y="785880"/>
            <a:ext cx="8429400" cy="52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 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data.txt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 = -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2 = -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v = kb.nextInt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v &gt; max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max2 = max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max = v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ax2 &lt; v &amp;&amp; v &lt; max) max2 = v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in.close(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max2 == -1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่มีตัวมากสุดอันดับสอง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20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ตัวมากที่สุดอันดับสอง</a:t>
            </a:r>
            <a:r>
              <a:rPr b="0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max2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chai</cp:lastModifiedBy>
  <dcterms:modified xsi:type="dcterms:W3CDTF">2009-05-28T13:15:01Z</dcterms:modified>
  <cp:revision>178</cp:revision>
  <dc:subject/>
  <dc:title>การทำโปรแกรมคอมพิวเตอร์</dc:title>
</cp:coreProperties>
</file>