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.gif" ContentType="image/gi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8A1-0EED-4392-8518-F22AED4EE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932-838D-47A4-8F18-F890740C3B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DE3-36EF-4FB4-9E46-227859912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Rational ONE = new Rational(1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Rational ZERO = new Rational(0,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40E3-8E18-4629-9F15-4395F2C46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ต้องเขีย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2080-7D11-414D-A601-4D5458F24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-ball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ให้ดู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ค่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ew, =,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8F86-CEE7-47A7-8335-BA7F8662B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-ball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ให้ดู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ค่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ew, =,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080-5FA3-48D9-B6E4-4E82DA4E4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ม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 com.somchai.jlab.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Game, NumberGu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าร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,   copy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ปที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,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หรือไม่ก็ใช้ตั้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path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หรือไม่ก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เล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fld id="{A5098433-D540-4284-8FE3-10CD0752A039}" type="datetime">
              <a:rPr b="0" lang="th-TH" sz="1200" spc="-1" strike="noStrike">
                <a:solidFill>
                  <a:srgbClr val="000000"/>
                </a:solidFill>
                <a:latin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884A-8769-4448-ADC8-DAC76EF31B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คลาสและอ็อบเจกต์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ปลี่ยนค่า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471760" y="92880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6" name="Group 40"/>
          <p:cNvGrpSpPr/>
          <p:nvPr/>
        </p:nvGrpSpPr>
        <p:grpSpPr>
          <a:xfrm>
            <a:off x="1433520" y="4821120"/>
            <a:ext cx="647640" cy="368280"/>
            <a:chOff x="1433520" y="4821120"/>
            <a:chExt cx="647640" cy="368280"/>
          </a:xfrm>
        </p:grpSpPr>
        <p:sp>
          <p:nvSpPr>
            <p:cNvPr id="247" name="Rectangle 23"/>
            <p:cNvSpPr/>
            <p:nvPr/>
          </p:nvSpPr>
          <p:spPr>
            <a:xfrm>
              <a:off x="1698480" y="482112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8" name="Text Box 25"/>
            <p:cNvSpPr/>
            <p:nvPr/>
          </p:nvSpPr>
          <p:spPr>
            <a:xfrm>
              <a:off x="1433520" y="482436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49" name="Group 39"/>
          <p:cNvGrpSpPr/>
          <p:nvPr/>
        </p:nvGrpSpPr>
        <p:grpSpPr>
          <a:xfrm>
            <a:off x="2612880" y="4721400"/>
            <a:ext cx="3933720" cy="1149120"/>
            <a:chOff x="2612880" y="4721400"/>
            <a:chExt cx="3933720" cy="1149120"/>
          </a:xfrm>
        </p:grpSpPr>
        <p:sp>
          <p:nvSpPr>
            <p:cNvPr id="250" name="AutoShape 21"/>
            <p:cNvSpPr/>
            <p:nvPr/>
          </p:nvSpPr>
          <p:spPr>
            <a:xfrm>
              <a:off x="2612880" y="47214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29970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2" name="Text Box 26"/>
            <p:cNvSpPr/>
            <p:nvPr/>
          </p:nvSpPr>
          <p:spPr>
            <a:xfrm>
              <a:off x="2730240" y="48243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3" name="Text Box 27"/>
            <p:cNvSpPr/>
            <p:nvPr/>
          </p:nvSpPr>
          <p:spPr>
            <a:xfrm>
              <a:off x="2997000" y="53499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4" name="Text Box 28"/>
            <p:cNvSpPr/>
            <p:nvPr/>
          </p:nvSpPr>
          <p:spPr>
            <a:xfrm>
              <a:off x="2730240" y="53388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4368600" y="48340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6" name="Text Box 30"/>
            <p:cNvSpPr/>
            <p:nvPr/>
          </p:nvSpPr>
          <p:spPr>
            <a:xfrm>
              <a:off x="3938400" y="48243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7" name="Text Box 31"/>
            <p:cNvSpPr/>
            <p:nvPr/>
          </p:nvSpPr>
          <p:spPr>
            <a:xfrm>
              <a:off x="4368600" y="53499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Text Box 32"/>
            <p:cNvSpPr/>
            <p:nvPr/>
          </p:nvSpPr>
          <p:spPr>
            <a:xfrm>
              <a:off x="3938400" y="53388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5605200" y="48340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Text Box 34"/>
            <p:cNvSpPr/>
            <p:nvPr/>
          </p:nvSpPr>
          <p:spPr>
            <a:xfrm>
              <a:off x="5249880" y="48243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61" name="Rectangle 36"/>
          <p:cNvSpPr/>
          <p:nvPr/>
        </p:nvSpPr>
        <p:spPr>
          <a:xfrm>
            <a:off x="2732040" y="2787480"/>
            <a:ext cx="34894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y = 9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997360" y="483408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2997360" y="5349960"/>
            <a:ext cx="769680" cy="35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99.0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1890720" y="501336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63"/>
          <p:cNvSpPr/>
          <p:nvPr/>
        </p:nvSpPr>
        <p:spPr>
          <a:xfrm>
            <a:off x="1884240" y="3973680"/>
            <a:ext cx="5461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.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่านว่า ตัวแป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ของอ็อบเจกต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54"/>
          <p:cNvGrpSpPr/>
          <p:nvPr/>
        </p:nvGrpSpPr>
        <p:grpSpPr>
          <a:xfrm>
            <a:off x="762120" y="4786200"/>
            <a:ext cx="8137440" cy="1008720"/>
            <a:chOff x="762120" y="4786200"/>
            <a:chExt cx="8137440" cy="1008720"/>
          </a:xfrm>
        </p:grpSpPr>
        <p:sp>
          <p:nvSpPr>
            <p:cNvPr id="267" name="Text Box 4"/>
            <p:cNvSpPr/>
            <p:nvPr/>
          </p:nvSpPr>
          <p:spPr>
            <a:xfrm>
              <a:off x="762120" y="4786200"/>
              <a:ext cx="81374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public 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atic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voi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Right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 ball,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Angsana New"/>
                </a:rPr>
                <a:t>double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.x += d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r>
                <a:rPr b="1" lang="th-TH" sz="2000" spc="-1" strike="noStrike">
                  <a:solidFill>
                    <a:srgbClr val="ff00ff"/>
                  </a:solidFill>
                  <a:latin typeface="Courier New"/>
                  <a:ea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68" name="Group 53"/>
            <p:cNvGrpSpPr/>
            <p:nvPr/>
          </p:nvGrpSpPr>
          <p:grpSpPr>
            <a:xfrm>
              <a:off x="4846680" y="5143680"/>
              <a:ext cx="2843280" cy="382320"/>
              <a:chOff x="4846680" y="5143680"/>
              <a:chExt cx="2843280" cy="382320"/>
            </a:xfrm>
          </p:grpSpPr>
          <p:grpSp>
            <p:nvGrpSpPr>
              <p:cNvPr id="269" name="Group 42"/>
              <p:cNvGrpSpPr/>
              <p:nvPr/>
            </p:nvGrpSpPr>
            <p:grpSpPr>
              <a:xfrm>
                <a:off x="4846680" y="5157720"/>
                <a:ext cx="1343160" cy="368280"/>
                <a:chOff x="4846680" y="5157720"/>
                <a:chExt cx="1343160" cy="368280"/>
              </a:xfrm>
            </p:grpSpPr>
            <p:sp>
              <p:nvSpPr>
                <p:cNvPr id="270" name="Rectangle 40"/>
                <p:cNvSpPr/>
                <p:nvPr/>
              </p:nvSpPr>
              <p:spPr>
                <a:xfrm>
                  <a:off x="5807160" y="5157720"/>
                  <a:ext cx="38268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1" name="Text Box 41"/>
                <p:cNvSpPr/>
                <p:nvPr/>
              </p:nvSpPr>
              <p:spPr>
                <a:xfrm>
                  <a:off x="4846680" y="5160960"/>
                  <a:ext cx="96048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ball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72" name="Group 51"/>
              <p:cNvGrpSpPr/>
              <p:nvPr/>
            </p:nvGrpSpPr>
            <p:grpSpPr>
              <a:xfrm>
                <a:off x="6670800" y="5143680"/>
                <a:ext cx="1019160" cy="368280"/>
                <a:chOff x="6670800" y="5143680"/>
                <a:chExt cx="1019160" cy="368280"/>
              </a:xfrm>
            </p:grpSpPr>
            <p:sp>
              <p:nvSpPr>
                <p:cNvPr id="273" name="Rectangle 49"/>
                <p:cNvSpPr/>
                <p:nvPr/>
              </p:nvSpPr>
              <p:spPr>
                <a:xfrm>
                  <a:off x="7064640" y="5143680"/>
                  <a:ext cx="62532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Text Box 50"/>
                <p:cNvSpPr/>
                <p:nvPr/>
              </p:nvSpPr>
              <p:spPr>
                <a:xfrm>
                  <a:off x="6670800" y="5161320"/>
                  <a:ext cx="39384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4360" y="907920"/>
            <a:ext cx="79200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็อบเจกต์ให้เมท็อด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การส่งตำแหน่งของ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ส่งกับผู้รับจึงอ้างอิงอ็อบเจกต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84080" y="2652840"/>
            <a:ext cx="67201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moveRight(b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5599080" y="3110040"/>
            <a:ext cx="3124080" cy="866520"/>
            <a:chOff x="5599080" y="3110040"/>
            <a:chExt cx="3124080" cy="866520"/>
          </a:xfrm>
        </p:grpSpPr>
        <p:grpSp>
          <p:nvGrpSpPr>
            <p:cNvPr id="279" name="Group 23"/>
            <p:cNvGrpSpPr/>
            <p:nvPr/>
          </p:nvGrpSpPr>
          <p:grpSpPr>
            <a:xfrm>
              <a:off x="6804000" y="3110040"/>
              <a:ext cx="1919160" cy="866520"/>
              <a:chOff x="6804000" y="3110040"/>
              <a:chExt cx="1919160" cy="866520"/>
            </a:xfrm>
          </p:grpSpPr>
          <p:sp>
            <p:nvSpPr>
              <p:cNvPr id="280" name="AutoShape 24"/>
              <p:cNvSpPr/>
              <p:nvPr/>
            </p:nvSpPr>
            <p:spPr>
              <a:xfrm>
                <a:off x="6804000" y="31100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1" name="Text Box 25"/>
              <p:cNvSpPr/>
              <p:nvPr/>
            </p:nvSpPr>
            <p:spPr>
              <a:xfrm>
                <a:off x="703008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2" name="Text Box 26"/>
              <p:cNvSpPr/>
              <p:nvPr/>
            </p:nvSpPr>
            <p:spPr>
              <a:xfrm>
                <a:off x="6858000" y="32007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3" name="Text Box 27"/>
              <p:cNvSpPr/>
              <p:nvPr/>
            </p:nvSpPr>
            <p:spPr>
              <a:xfrm>
                <a:off x="7030080" y="35971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4" name="Text Box 28"/>
              <p:cNvSpPr/>
              <p:nvPr/>
            </p:nvSpPr>
            <p:spPr>
              <a:xfrm>
                <a:off x="6858000" y="35888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Text Box 29"/>
              <p:cNvSpPr/>
              <p:nvPr/>
            </p:nvSpPr>
            <p:spPr>
              <a:xfrm>
                <a:off x="7676280" y="32076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Text Box 30"/>
              <p:cNvSpPr/>
              <p:nvPr/>
            </p:nvSpPr>
            <p:spPr>
              <a:xfrm>
                <a:off x="7399800" y="32007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7" name="Text Box 31"/>
              <p:cNvSpPr/>
              <p:nvPr/>
            </p:nvSpPr>
            <p:spPr>
              <a:xfrm>
                <a:off x="7676280" y="35971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8" name="Text Box 32"/>
              <p:cNvSpPr/>
              <p:nvPr/>
            </p:nvSpPr>
            <p:spPr>
              <a:xfrm>
                <a:off x="7399800" y="35888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9" name="Text Box 33"/>
              <p:cNvSpPr/>
              <p:nvPr/>
            </p:nvSpPr>
            <p:spPr>
              <a:xfrm>
                <a:off x="8256960" y="32076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0" name="Text Box 34"/>
              <p:cNvSpPr/>
              <p:nvPr/>
            </p:nvSpPr>
            <p:spPr>
              <a:xfrm>
                <a:off x="8028360" y="32007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91" name="Group 35"/>
            <p:cNvGrpSpPr/>
            <p:nvPr/>
          </p:nvGrpSpPr>
          <p:grpSpPr>
            <a:xfrm>
              <a:off x="5599080" y="3129120"/>
              <a:ext cx="647640" cy="368280"/>
              <a:chOff x="5599080" y="3129120"/>
              <a:chExt cx="647640" cy="368280"/>
            </a:xfrm>
          </p:grpSpPr>
          <p:sp>
            <p:nvSpPr>
              <p:cNvPr id="292" name="Rectangle 36"/>
              <p:cNvSpPr/>
              <p:nvPr/>
            </p:nvSpPr>
            <p:spPr>
              <a:xfrm>
                <a:off x="5864040" y="31291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3" name="Text Box 37"/>
              <p:cNvSpPr/>
              <p:nvPr/>
            </p:nvSpPr>
            <p:spPr>
              <a:xfrm>
                <a:off x="5599080" y="313236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94" name="Line 38"/>
            <p:cNvSpPr/>
            <p:nvPr/>
          </p:nvSpPr>
          <p:spPr>
            <a:xfrm>
              <a:off x="6056280" y="33210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5" name="Group 44"/>
          <p:cNvGrpSpPr/>
          <p:nvPr/>
        </p:nvGrpSpPr>
        <p:grpSpPr>
          <a:xfrm>
            <a:off x="2941560" y="3537000"/>
            <a:ext cx="5273640" cy="1346040"/>
            <a:chOff x="2941560" y="3537000"/>
            <a:chExt cx="5273640" cy="1346040"/>
          </a:xfrm>
        </p:grpSpPr>
        <p:sp>
          <p:nvSpPr>
            <p:cNvPr id="296" name="Freeform 22"/>
            <p:cNvSpPr/>
            <p:nvPr/>
          </p:nvSpPr>
          <p:spPr>
            <a:xfrm>
              <a:off x="2941560" y="3551400"/>
              <a:ext cx="3262320" cy="1331640"/>
            </a:xfrm>
            <a:custGeom>
              <a:avLst/>
              <a:gdLst>
                <a:gd name="textAreaLeft" fmla="*/ 0 w 3262320"/>
                <a:gd name="textAreaRight" fmla="*/ 3262680 w 326232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Freeform 43"/>
            <p:cNvSpPr/>
            <p:nvPr/>
          </p:nvSpPr>
          <p:spPr>
            <a:xfrm>
              <a:off x="3355920" y="3537000"/>
              <a:ext cx="4859280" cy="1293840"/>
            </a:xfrm>
            <a:custGeom>
              <a:avLst/>
              <a:gdLst>
                <a:gd name="textAreaLeft" fmla="*/ 0 w 4859280"/>
                <a:gd name="textAreaRight" fmla="*/ 4859640 w 485928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1288" h="659">
                  <a:moveTo>
                    <a:pt x="27" y="0"/>
                  </a:moveTo>
                  <a:cubicBezTo>
                    <a:pt x="13" y="41"/>
                    <a:pt x="0" y="82"/>
                    <a:pt x="146" y="128"/>
                  </a:cubicBezTo>
                  <a:cubicBezTo>
                    <a:pt x="292" y="174"/>
                    <a:pt x="724" y="229"/>
                    <a:pt x="904" y="275"/>
                  </a:cubicBezTo>
                  <a:cubicBezTo>
                    <a:pt x="1084" y="321"/>
                    <a:pt x="1160" y="339"/>
                    <a:pt x="1224" y="403"/>
                  </a:cubicBezTo>
                  <a:cubicBezTo>
                    <a:pt x="1288" y="467"/>
                    <a:pt x="1277" y="618"/>
                    <a:pt x="1288" y="6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8" name="Text Box 46"/>
          <p:cNvSpPr/>
          <p:nvPr/>
        </p:nvSpPr>
        <p:spPr>
          <a:xfrm>
            <a:off x="7037280" y="3206880"/>
            <a:ext cx="36540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Group 55"/>
          <p:cNvGrpSpPr/>
          <p:nvPr/>
        </p:nvGrpSpPr>
        <p:grpSpPr>
          <a:xfrm>
            <a:off x="5943600" y="3629160"/>
            <a:ext cx="1573200" cy="1931040"/>
            <a:chOff x="5943600" y="3629160"/>
            <a:chExt cx="1573200" cy="1931040"/>
          </a:xfrm>
        </p:grpSpPr>
        <p:sp>
          <p:nvSpPr>
            <p:cNvPr id="300" name="Text Box 52"/>
            <p:cNvSpPr/>
            <p:nvPr/>
          </p:nvSpPr>
          <p:spPr>
            <a:xfrm>
              <a:off x="7153200" y="5100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5943600" y="3629160"/>
              <a:ext cx="785880" cy="17287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495" h="1089">
                  <a:moveTo>
                    <a:pt x="0" y="1089"/>
                  </a:moveTo>
                  <a:cubicBezTo>
                    <a:pt x="99" y="1058"/>
                    <a:pt x="198" y="1028"/>
                    <a:pt x="243" y="936"/>
                  </a:cubicBezTo>
                  <a:cubicBezTo>
                    <a:pt x="288" y="844"/>
                    <a:pt x="269" y="655"/>
                    <a:pt x="270" y="540"/>
                  </a:cubicBezTo>
                  <a:cubicBezTo>
                    <a:pt x="271" y="425"/>
                    <a:pt x="215" y="333"/>
                    <a:pt x="252" y="243"/>
                  </a:cubicBezTo>
                  <a:cubicBezTo>
                    <a:pt x="289" y="153"/>
                    <a:pt x="392" y="76"/>
                    <a:pt x="495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700200" y="905040"/>
            <a:ext cx="73785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การคืนอ็อบเจกต์ให้ผู้เรียกเมท็อด </a:t>
            </a:r>
            <a:br>
              <a:rPr sz="2800"/>
            </a:br>
            <a:r>
              <a:rPr b="0" lang="th-TH" sz="2800" spc="-1" strike="noStrike">
                <a:solidFill>
                  <a:srgbClr val="003300"/>
                </a:solidFill>
                <a:latin typeface="Tahoma"/>
              </a:rPr>
              <a:t>คือการส่งตำแหน่งของอ็อบเจกต์คืนกลับไป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863640" y="3598920"/>
            <a:ext cx="6210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RandomBall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Angsana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r = random(10, 1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x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dy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return ball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863640" y="1994040"/>
            <a:ext cx="6719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createRandom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Group 17"/>
          <p:cNvGrpSpPr/>
          <p:nvPr/>
        </p:nvGrpSpPr>
        <p:grpSpPr>
          <a:xfrm>
            <a:off x="6597720" y="3978360"/>
            <a:ext cx="1919160" cy="866520"/>
            <a:chOff x="6597720" y="3978360"/>
            <a:chExt cx="1919160" cy="866520"/>
          </a:xfrm>
        </p:grpSpPr>
        <p:sp>
          <p:nvSpPr>
            <p:cNvPr id="307" name="AutoShape 18"/>
            <p:cNvSpPr/>
            <p:nvPr/>
          </p:nvSpPr>
          <p:spPr>
            <a:xfrm>
              <a:off x="6597720" y="3978360"/>
              <a:ext cx="191916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>
              <a:off x="682380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Text Box 20"/>
            <p:cNvSpPr/>
            <p:nvPr/>
          </p:nvSpPr>
          <p:spPr>
            <a:xfrm>
              <a:off x="6651720" y="4069080"/>
              <a:ext cx="1702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>
              <a:off x="6823800" y="44654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Text Box 22"/>
            <p:cNvSpPr/>
            <p:nvPr/>
          </p:nvSpPr>
          <p:spPr>
            <a:xfrm>
              <a:off x="6651720" y="44571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Text Box 23"/>
            <p:cNvSpPr/>
            <p:nvPr/>
          </p:nvSpPr>
          <p:spPr>
            <a:xfrm>
              <a:off x="7470000" y="40759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Text Box 24"/>
            <p:cNvSpPr/>
            <p:nvPr/>
          </p:nvSpPr>
          <p:spPr>
            <a:xfrm>
              <a:off x="7193520" y="406908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Text Box 25"/>
            <p:cNvSpPr/>
            <p:nvPr/>
          </p:nvSpPr>
          <p:spPr>
            <a:xfrm>
              <a:off x="7470000" y="44654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Text Box 26"/>
            <p:cNvSpPr/>
            <p:nvPr/>
          </p:nvSpPr>
          <p:spPr>
            <a:xfrm>
              <a:off x="7193520" y="44571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8050680" y="40759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Text Box 28"/>
            <p:cNvSpPr/>
            <p:nvPr/>
          </p:nvSpPr>
          <p:spPr>
            <a:xfrm>
              <a:off x="7822080" y="406908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18" name="Group 55"/>
          <p:cNvGrpSpPr/>
          <p:nvPr/>
        </p:nvGrpSpPr>
        <p:grpSpPr>
          <a:xfrm>
            <a:off x="5564160" y="3997440"/>
            <a:ext cx="1008000" cy="639720"/>
            <a:chOff x="5564160" y="3997440"/>
            <a:chExt cx="1008000" cy="639720"/>
          </a:xfrm>
        </p:grpSpPr>
        <p:sp>
          <p:nvSpPr>
            <p:cNvPr id="319" name="Rectangle 30"/>
            <p:cNvSpPr/>
            <p:nvPr/>
          </p:nvSpPr>
          <p:spPr>
            <a:xfrm>
              <a:off x="5657760" y="39974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0" name="Text Box 31"/>
            <p:cNvSpPr/>
            <p:nvPr/>
          </p:nvSpPr>
          <p:spPr>
            <a:xfrm>
              <a:off x="5564160" y="4357800"/>
              <a:ext cx="679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all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5850000" y="4189680"/>
              <a:ext cx="72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22" name="Group 37"/>
          <p:cNvGrpSpPr/>
          <p:nvPr/>
        </p:nvGrpSpPr>
        <p:grpSpPr>
          <a:xfrm>
            <a:off x="7473960" y="4060800"/>
            <a:ext cx="922320" cy="666720"/>
            <a:chOff x="7473960" y="4060800"/>
            <a:chExt cx="922320" cy="666720"/>
          </a:xfrm>
        </p:grpSpPr>
        <p:sp>
          <p:nvSpPr>
            <p:cNvPr id="323" name="Text Box 34"/>
            <p:cNvSpPr/>
            <p:nvPr/>
          </p:nvSpPr>
          <p:spPr>
            <a:xfrm>
              <a:off x="803124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Text Box 35"/>
            <p:cNvSpPr/>
            <p:nvPr/>
          </p:nvSpPr>
          <p:spPr>
            <a:xfrm>
              <a:off x="7473960" y="4060800"/>
              <a:ext cx="365040" cy="280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Text Box 36"/>
            <p:cNvSpPr/>
            <p:nvPr/>
          </p:nvSpPr>
          <p:spPr>
            <a:xfrm>
              <a:off x="7473960" y="4446360"/>
              <a:ext cx="365040" cy="281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26" name="Group 54"/>
          <p:cNvGrpSpPr/>
          <p:nvPr/>
        </p:nvGrpSpPr>
        <p:grpSpPr>
          <a:xfrm>
            <a:off x="5707080" y="2354400"/>
            <a:ext cx="393480" cy="639720"/>
            <a:chOff x="5707080" y="2354400"/>
            <a:chExt cx="393480" cy="639720"/>
          </a:xfrm>
        </p:grpSpPr>
        <p:sp>
          <p:nvSpPr>
            <p:cNvPr id="327" name="Rectangle 51"/>
            <p:cNvSpPr/>
            <p:nvPr/>
          </p:nvSpPr>
          <p:spPr>
            <a:xfrm>
              <a:off x="5715000" y="235440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8" name="Text Box 52"/>
            <p:cNvSpPr/>
            <p:nvPr/>
          </p:nvSpPr>
          <p:spPr>
            <a:xfrm>
              <a:off x="5707080" y="271476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9" name="Freeform 56"/>
          <p:cNvSpPr/>
          <p:nvPr/>
        </p:nvSpPr>
        <p:spPr>
          <a:xfrm>
            <a:off x="5923080" y="2511360"/>
            <a:ext cx="1211040" cy="144324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63" h="909">
                <a:moveTo>
                  <a:pt x="0" y="0"/>
                </a:moveTo>
                <a:cubicBezTo>
                  <a:pt x="196" y="21"/>
                  <a:pt x="392" y="42"/>
                  <a:pt x="513" y="117"/>
                </a:cubicBezTo>
                <a:cubicBezTo>
                  <a:pt x="634" y="192"/>
                  <a:pt x="695" y="318"/>
                  <a:pt x="729" y="450"/>
                </a:cubicBezTo>
                <a:cubicBezTo>
                  <a:pt x="763" y="582"/>
                  <a:pt x="741" y="745"/>
                  <a:pt x="720" y="90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4962600" y="5106960"/>
            <a:ext cx="377028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ตัวแปรในเมท็อดหาย เมื่อเมท็อดทำงานเสร็จ แต่อ็อบเจกต์ที่สร้างในเมท็อดไม่หาย ถ้ายังมีตัวแปรอ้างอิงมัน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ในวินโดว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38040" y="743040"/>
            <a:ext cx="84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1 = createRandom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.x = 125; b1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= -b.dx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= -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130720" y="1855800"/>
            <a:ext cx="3478320" cy="14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3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ห้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ับผิดชอบการ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raw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v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633680" y="743040"/>
            <a:ext cx="5925960" cy="2562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1 = createRandomBall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.x = 125; b1.y = 10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draw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.move(w, b1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16080" y="3189240"/>
            <a:ext cx="8569080" cy="36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DWindow w, Ball b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x = b.x + b.dx;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y = b.y + 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x + b.r &gt; w.getWidth()  || b.x &lt; b.r) b.dx = -b.dx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b.y + b.r &gt; w.getHeight() || b.y &lt; b.r) b.dy = -b.dy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ounded Rectangular Callout 9"/>
          <p:cNvSpPr/>
          <p:nvPr/>
        </p:nvSpPr>
        <p:spPr>
          <a:xfrm>
            <a:off x="5106960" y="1687680"/>
            <a:ext cx="2251080" cy="676080"/>
          </a:xfrm>
          <a:prstGeom prst="wedgeRoundRectCallout">
            <a:avLst>
              <a:gd name="adj1" fmla="val -63754"/>
              <a:gd name="adj2" fmla="val 3599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ที่เขียนในคลาส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ขีย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raw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น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ด้สองแบ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87320" y="1065240"/>
            <a:ext cx="7301160" cy="19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699160" y="882720"/>
            <a:ext cx="28684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.draw(w, b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773280" y="3836880"/>
            <a:ext cx="7302240" cy="19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684760" y="3654360"/>
            <a:ext cx="19544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.draw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ounded Rectangular Callout 12"/>
          <p:cNvSpPr/>
          <p:nvPr/>
        </p:nvSpPr>
        <p:spPr>
          <a:xfrm>
            <a:off x="5345280" y="5486400"/>
            <a:ext cx="2519280" cy="76032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ตัวแปรเหล่านี้คือตัวแปรของอ็อบเจกต์ที่ถูกเรียก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Rounded Rectangular Callout 13"/>
          <p:cNvSpPr/>
          <p:nvPr/>
        </p:nvSpPr>
        <p:spPr>
          <a:xfrm>
            <a:off x="6357960" y="4121280"/>
            <a:ext cx="2519280" cy="76032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ป็นอ็อบเจกต์ที่ถูกเรียกใช้บริการ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Rounded Rectangular Callout 14"/>
          <p:cNvSpPr/>
          <p:nvPr/>
        </p:nvSpPr>
        <p:spPr>
          <a:xfrm>
            <a:off x="6681960" y="1336680"/>
            <a:ext cx="2251080" cy="67464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ที่เขียนในคลาส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87840" y="5851440"/>
            <a:ext cx="47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เรียก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.draw(w), x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ก็คือ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.x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47" name="Straight Arrow Connector 17"/>
          <p:cNvCxnSpPr/>
          <p:nvPr/>
        </p:nvCxnSpPr>
        <p:spPr>
          <a:xfrm flipV="1">
            <a:off x="3095640" y="5416200"/>
            <a:ext cx="60552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8" name="Straight Arrow Connector 19"/>
          <p:cNvCxnSpPr/>
          <p:nvPr/>
        </p:nvCxnSpPr>
        <p:spPr>
          <a:xfrm>
            <a:off x="3755880" y="5443200"/>
            <a:ext cx="478800" cy="50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9" name="Rounded Rectangular Callout 20"/>
          <p:cNvSpPr/>
          <p:nvPr/>
        </p:nvSpPr>
        <p:spPr>
          <a:xfrm>
            <a:off x="5345280" y="2644920"/>
            <a:ext cx="3038400" cy="674640"/>
          </a:xfrm>
          <a:prstGeom prst="wedgeRoundRectCallout">
            <a:avLst>
              <a:gd name="adj1" fmla="val -63754"/>
              <a:gd name="adj2" fmla="val -5150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ต้องรับ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ll 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Courier New"/>
              </a:rPr>
              <a:t>มา เพื่อจะใช้ค่าต่าง ๆ ของอ็อบเจกต์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84320" y="728640"/>
            <a:ext cx="16999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184320" y="3498840"/>
            <a:ext cx="183816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ass method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360" y="809640"/>
            <a:ext cx="79200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มีคำว่า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ที่หัวเมท็อด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รูปแบบการเรียก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คลาส</a:t>
            </a:r>
            <a:r>
              <a:rPr b="1" lang="en-US" sz="2200" spc="-1" strike="noStrike">
                <a:solidFill>
                  <a:srgbClr val="2d2db9"/>
                </a:solidFill>
                <a:latin typeface="Courier New"/>
                <a:ea typeface="Courier New"/>
              </a:rPr>
              <a:t>.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เมท็อด</a:t>
            </a:r>
            <a:r>
              <a:rPr b="0" lang="en-US" sz="2200" spc="-1" strike="noStrike">
                <a:solidFill>
                  <a:srgbClr val="2d2db9"/>
                </a:solidFill>
                <a:latin typeface="Tahoma"/>
              </a:rPr>
              <a:t>( ...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ไม่มีคำว่า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ที่หัวเมท็อด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รูปแบบการเรียก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ตัวอ้างอิงอ็อบเจกต์</a:t>
            </a:r>
            <a:r>
              <a:rPr b="1" lang="en-US" sz="2200" spc="-1" strike="noStrike">
                <a:solidFill>
                  <a:srgbClr val="2d2db9"/>
                </a:solidFill>
                <a:latin typeface="Courier New"/>
                <a:ea typeface="Courier New"/>
              </a:rPr>
              <a:t>.</a:t>
            </a:r>
            <a:r>
              <a:rPr b="0" i="1" lang="th-TH" sz="2200" spc="-1" strike="noStrike">
                <a:solidFill>
                  <a:srgbClr val="2d2db9"/>
                </a:solidFill>
                <a:latin typeface="Tahoma"/>
              </a:rPr>
              <a:t>ชื่อเมท็อด</a:t>
            </a:r>
            <a:r>
              <a:rPr b="0" lang="en-US" sz="2200" spc="-1" strike="noStrike">
                <a:solidFill>
                  <a:srgbClr val="2d2db9"/>
                </a:solidFill>
                <a:latin typeface="Tahoma"/>
              </a:rPr>
              <a:t>( ...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55680" y="3282840"/>
            <a:ext cx="7400880" cy="19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, Ball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b.x, b.y, 2 * b.r, 2 * b.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600200" y="4894200"/>
            <a:ext cx="702612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48360" y="3648240"/>
            <a:ext cx="170172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6783480" y="5294160"/>
            <a:ext cx="1839960" cy="703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Box 25"/>
          <p:cNvSpPr/>
          <p:nvPr/>
        </p:nvSpPr>
        <p:spPr>
          <a:xfrm>
            <a:off x="5553000" y="2021040"/>
            <a:ext cx="31622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บริการที่เกียวกับอ็อบเจกต์ มักเขียนเป็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สร้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constructor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625320" y="3070080"/>
            <a:ext cx="7961400" cy="31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701800" y="952560"/>
            <a:ext cx="380376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x = 50; b.y = 5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dx = 2; b.dy = 3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r = 2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649520" y="2476440"/>
            <a:ext cx="5905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50, 50, 2, 3, 2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4974120" y="3065400"/>
            <a:ext cx="28753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</a:rPr>
              <a:t>ต้อ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มือนชื่อคลาส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มี ประเภทผลลัพธ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4" name="Group 11"/>
          <p:cNvGrpSpPr/>
          <p:nvPr/>
        </p:nvGrpSpPr>
        <p:grpSpPr>
          <a:xfrm>
            <a:off x="1959120" y="2992320"/>
            <a:ext cx="3004560" cy="2060640"/>
            <a:chOff x="1959120" y="2992320"/>
            <a:chExt cx="3004560" cy="2060640"/>
          </a:xfrm>
        </p:grpSpPr>
        <p:sp>
          <p:nvSpPr>
            <p:cNvPr id="365" name="Oval 6"/>
            <p:cNvSpPr/>
            <p:nvPr/>
          </p:nvSpPr>
          <p:spPr>
            <a:xfrm>
              <a:off x="2568600" y="299232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6" name="Oval 7"/>
            <p:cNvSpPr/>
            <p:nvPr/>
          </p:nvSpPr>
          <p:spPr>
            <a:xfrm>
              <a:off x="1959120" y="4516200"/>
              <a:ext cx="871560" cy="536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7" name="Line 9"/>
            <p:cNvSpPr/>
            <p:nvPr/>
          </p:nvSpPr>
          <p:spPr>
            <a:xfrm flipH="1" flipV="1">
              <a:off x="3454200" y="3296880"/>
              <a:ext cx="1509480" cy="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H="1">
              <a:off x="2757240" y="3325680"/>
              <a:ext cx="2119320" cy="13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69" name="Group 14"/>
          <p:cNvGrpSpPr/>
          <p:nvPr/>
        </p:nvGrpSpPr>
        <p:grpSpPr>
          <a:xfrm>
            <a:off x="1973160" y="3500280"/>
            <a:ext cx="2860920" cy="1306440"/>
            <a:chOff x="1973160" y="3500280"/>
            <a:chExt cx="2860920" cy="1306440"/>
          </a:xfrm>
        </p:grpSpPr>
        <p:sp>
          <p:nvSpPr>
            <p:cNvPr id="370" name="AutoShape 12"/>
            <p:cNvSpPr/>
            <p:nvPr/>
          </p:nvSpPr>
          <p:spPr>
            <a:xfrm>
              <a:off x="4600440" y="3500280"/>
              <a:ext cx="233640" cy="754200"/>
            </a:xfrm>
            <a:custGeom>
              <a:avLst/>
              <a:gdLst>
                <a:gd name="textAreaLeft" fmla="*/ 149400 w 233640"/>
                <a:gd name="textAreaRight" fmla="*/ 234000 w 233640"/>
                <a:gd name="textAreaTop" fmla="*/ 19440 h 754200"/>
                <a:gd name="textAreaBottom" fmla="*/ 734760 h 7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Freeform 13"/>
            <p:cNvSpPr/>
            <p:nvPr/>
          </p:nvSpPr>
          <p:spPr>
            <a:xfrm>
              <a:off x="1973160" y="3878280"/>
              <a:ext cx="2627280" cy="92844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674" h="585">
                  <a:moveTo>
                    <a:pt x="1674" y="0"/>
                  </a:moveTo>
                  <a:cubicBezTo>
                    <a:pt x="1591" y="73"/>
                    <a:pt x="1509" y="146"/>
                    <a:pt x="1409" y="201"/>
                  </a:cubicBezTo>
                  <a:cubicBezTo>
                    <a:pt x="1309" y="256"/>
                    <a:pt x="1239" y="312"/>
                    <a:pt x="1071" y="329"/>
                  </a:cubicBezTo>
                  <a:cubicBezTo>
                    <a:pt x="903" y="346"/>
                    <a:pt x="572" y="286"/>
                    <a:pt x="403" y="301"/>
                  </a:cubicBezTo>
                  <a:cubicBezTo>
                    <a:pt x="234" y="316"/>
                    <a:pt x="112" y="373"/>
                    <a:pt x="56" y="420"/>
                  </a:cubicBezTo>
                  <a:cubicBezTo>
                    <a:pt x="0" y="467"/>
                    <a:pt x="32" y="526"/>
                    <a:pt x="65" y="58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72" name="Freeform 15"/>
          <p:cNvSpPr/>
          <p:nvPr/>
        </p:nvSpPr>
        <p:spPr>
          <a:xfrm>
            <a:off x="1436760" y="3675240"/>
            <a:ext cx="1727280" cy="15811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1088" h="996">
                <a:moveTo>
                  <a:pt x="384" y="996"/>
                </a:moveTo>
                <a:lnTo>
                  <a:pt x="0" y="996"/>
                </a:lnTo>
                <a:lnTo>
                  <a:pt x="108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Freeform 16"/>
          <p:cNvSpPr/>
          <p:nvPr/>
        </p:nvSpPr>
        <p:spPr>
          <a:xfrm>
            <a:off x="2641680" y="3746520"/>
            <a:ext cx="1015920" cy="15397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640" h="970">
                <a:moveTo>
                  <a:pt x="402" y="970"/>
                </a:moveTo>
                <a:lnTo>
                  <a:pt x="0" y="970"/>
                </a:lnTo>
                <a:lnTo>
                  <a:pt x="64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Freeform 17"/>
          <p:cNvSpPr/>
          <p:nvPr/>
        </p:nvSpPr>
        <p:spPr>
          <a:xfrm>
            <a:off x="3324240" y="4008600"/>
            <a:ext cx="1509840" cy="1277640"/>
          </a:xfrm>
          <a:custGeom>
            <a:avLst/>
            <a:gdLst>
              <a:gd name="textAreaLeft" fmla="*/ 0 w 1509840"/>
              <a:gd name="textAreaRight" fmla="*/ 1510200 w 1509840"/>
              <a:gd name="textAreaTop" fmla="*/ 0 h 1277640"/>
              <a:gd name="textAreaBottom" fmla="*/ 1277640 h 1277640"/>
            </a:gdLst>
            <a:ahLst/>
            <a:rect l="textAreaLeft" t="textAreaTop" r="textAreaRight" b="textAreaBottom"/>
            <a:pathLst>
              <a:path w="951" h="805">
                <a:moveTo>
                  <a:pt x="951" y="805"/>
                </a:moveTo>
                <a:lnTo>
                  <a:pt x="384" y="805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Freeform 19"/>
          <p:cNvSpPr/>
          <p:nvPr/>
        </p:nvSpPr>
        <p:spPr>
          <a:xfrm>
            <a:off x="3527280" y="4226040"/>
            <a:ext cx="4064040" cy="104436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560" h="658">
                <a:moveTo>
                  <a:pt x="2560" y="658"/>
                </a:moveTo>
                <a:lnTo>
                  <a:pt x="2112" y="65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Freeform 18"/>
          <p:cNvSpPr/>
          <p:nvPr/>
        </p:nvSpPr>
        <p:spPr>
          <a:xfrm>
            <a:off x="3933720" y="4022640"/>
            <a:ext cx="2394000" cy="124776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508" h="786">
                <a:moveTo>
                  <a:pt x="1508" y="786"/>
                </a:moveTo>
                <a:lnTo>
                  <a:pt x="951" y="78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7" name="Group 26"/>
          <p:cNvGrpSpPr/>
          <p:nvPr/>
        </p:nvGrpSpPr>
        <p:grpSpPr>
          <a:xfrm>
            <a:off x="4063680" y="2774880"/>
            <a:ext cx="3615120" cy="2190600"/>
            <a:chOff x="4063680" y="2774880"/>
            <a:chExt cx="3615120" cy="2190600"/>
          </a:xfrm>
        </p:grpSpPr>
        <p:sp>
          <p:nvSpPr>
            <p:cNvPr id="378" name="Line 20"/>
            <p:cNvSpPr/>
            <p:nvPr/>
          </p:nvSpPr>
          <p:spPr>
            <a:xfrm flipH="1">
              <a:off x="4063680" y="2803320"/>
              <a:ext cx="711000" cy="187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Line 21"/>
            <p:cNvSpPr/>
            <p:nvPr/>
          </p:nvSpPr>
          <p:spPr>
            <a:xfrm>
              <a:off x="5398920" y="2789280"/>
              <a:ext cx="304920" cy="18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 flipH="1">
              <a:off x="4397040" y="2789280"/>
              <a:ext cx="1523880" cy="217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Line 23"/>
            <p:cNvSpPr/>
            <p:nvPr/>
          </p:nvSpPr>
          <p:spPr>
            <a:xfrm flipH="1">
              <a:off x="6154560" y="2803320"/>
              <a:ext cx="231840" cy="211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Line 24"/>
            <p:cNvSpPr/>
            <p:nvPr/>
          </p:nvSpPr>
          <p:spPr>
            <a:xfrm>
              <a:off x="6937200" y="2774880"/>
              <a:ext cx="741600" cy="2176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นึ่งคลาสมีตัวสร้างหลายแบบก็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25320" y="750960"/>
            <a:ext cx="7961400" cy="565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3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3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fault Constructor (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ตัวสร้างที่ระบบเติมให้ ถ้าไม่ได้เขียน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39720" y="1195560"/>
            <a:ext cx="3897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4676760" y="1197000"/>
            <a:ext cx="3897360" cy="22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 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641600" y="3575160"/>
            <a:ext cx="5943600" cy="26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Group 9"/>
          <p:cNvGrpSpPr/>
          <p:nvPr/>
        </p:nvGrpSpPr>
        <p:grpSpPr>
          <a:xfrm>
            <a:off x="925560" y="2583000"/>
            <a:ext cx="6970680" cy="825480"/>
            <a:chOff x="925560" y="2583000"/>
            <a:chExt cx="6970680" cy="825480"/>
          </a:xfrm>
        </p:grpSpPr>
        <p:sp>
          <p:nvSpPr>
            <p:cNvPr id="390" name="Text Box 6"/>
            <p:cNvSpPr/>
            <p:nvPr/>
          </p:nvSpPr>
          <p:spPr>
            <a:xfrm>
              <a:off x="925560" y="2583000"/>
              <a:ext cx="348300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ไม่เขียนตัวสร้า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 compiler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จะเติมให้อัตโนมัติ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Line 7"/>
            <p:cNvSpPr/>
            <p:nvPr/>
          </p:nvSpPr>
          <p:spPr>
            <a:xfrm>
              <a:off x="4398840" y="2931840"/>
              <a:ext cx="551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>
              <a:off x="4933800" y="2669760"/>
              <a:ext cx="2962440" cy="522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3" name="Text Box 11"/>
          <p:cNvSpPr/>
          <p:nvPr/>
        </p:nvSpPr>
        <p:spPr>
          <a:xfrm>
            <a:off x="5656320" y="4121280"/>
            <a:ext cx="26416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ตัวสร้างแล้ว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เติมอีก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สร้า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ามเป็นสาธารณะและส่วนตั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และเมท็อด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จัดกลุ่มคลาสเป็นแพ็กเก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nkAc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735120"/>
            <a:ext cx="9144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tial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tial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 &amp;&amp; balance &gt;= amt) balance = 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) balance = 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155600" y="4718160"/>
            <a:ext cx="7196400" cy="19717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deposit(2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withdraw(5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ba.balance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99-99-9999-9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// !!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balance = -1e6;        // !!!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ublic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ม่ปลอดภัย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vat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้อง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735120"/>
            <a:ext cx="9144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itialBalance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 = initial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ithdraw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 &amp;&amp; balance &gt;= amt) balance = balance -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posi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amt &gt; 0) balance = balance + am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958680" y="5045040"/>
            <a:ext cx="7194600" cy="1066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99-99-9999-9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.balance = -1e6;    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00" name="Group 14"/>
          <p:cNvGrpSpPr/>
          <p:nvPr/>
        </p:nvGrpSpPr>
        <p:grpSpPr>
          <a:xfrm>
            <a:off x="4686480" y="5259240"/>
            <a:ext cx="2687040" cy="1284120"/>
            <a:chOff x="4686480" y="5259240"/>
            <a:chExt cx="2687040" cy="1284120"/>
          </a:xfrm>
        </p:grpSpPr>
        <p:sp>
          <p:nvSpPr>
            <p:cNvPr id="401" name="AutoShape 10"/>
            <p:cNvSpPr/>
            <p:nvPr/>
          </p:nvSpPr>
          <p:spPr>
            <a:xfrm>
              <a:off x="4686480" y="5394240"/>
              <a:ext cx="217440" cy="69516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8000 h 695160"/>
                <a:gd name="textAreaBottom" fmla="*/ 677160 h 69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AutoShape 12"/>
            <p:cNvSpPr/>
            <p:nvPr/>
          </p:nvSpPr>
          <p:spPr>
            <a:xfrm>
              <a:off x="4865760" y="5259240"/>
              <a:ext cx="2507760" cy="1284120"/>
            </a:xfrm>
            <a:prstGeom prst="irregularSeal1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แปลไม่ผ่าน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03" name="AutoShape 5"/>
          <p:cNvSpPr/>
          <p:nvPr/>
        </p:nvSpPr>
        <p:spPr>
          <a:xfrm>
            <a:off x="227160" y="1066680"/>
            <a:ext cx="1304640" cy="71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4834080" y="950760"/>
            <a:ext cx="391320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ช้สมาชิกที่เป็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ด้เฉพาะในคลาสที่เขียนเท่านั้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จต้องให้บริการขอข้อมูลที่เป็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va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003320" y="1181160"/>
            <a:ext cx="717552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get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 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getBalanc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anc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577800" y="4448160"/>
            <a:ext cx="797256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nkAccount b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02-125-872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0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.deposit(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.getID()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,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.getBalance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ice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4000" y="907560"/>
            <a:ext cx="812484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เพื่อสร้างลูกเต๋า ให้บริการดังนี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oll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โยนลูกเต๋า แล้วคืนหมายเลขหน้าที่ได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Value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หมายเลขหน้าของลูกเต๋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1308240" y="2416320"/>
            <a:ext cx="6815160" cy="406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c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o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(6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Valu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0" t="0" r="383" b="0"/>
          <a:stretch/>
        </p:blipFill>
        <p:spPr>
          <a:xfrm>
            <a:off x="5965920" y="2517840"/>
            <a:ext cx="2087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PiggyBan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63240" y="907560"/>
            <a:ext cx="8459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คลาสเพื่อสร้างกระปุกออมสินเก็บได้เฉพาะเหรียญ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, 2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, 5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 และ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าท ให้บริการดังนี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gyBank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สร้างกระบุกออมสินเปล่า 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1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2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5(int c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10(int c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ยอดเหรียญ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าท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หรีย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lear()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ทเหรียญทั้งหมดออกจากกระปุ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Total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จำนวนเงินทั้งหมดที่เก็บในกระปุ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762120" y="5057640"/>
            <a:ext cx="771192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ggyBank p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ggyBank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add1(3); pb.add2(1); pb.add5(2); pb.add10(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add1(2);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pb.getTotal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b.clear();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pb.getTotal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PiggyBan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700200" y="746280"/>
            <a:ext cx="7711920" cy="58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ggyBan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611760" y="853920"/>
            <a:ext cx="17161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4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ของ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19" name="Group 79"/>
          <p:cNvGrpSpPr/>
          <p:nvPr/>
        </p:nvGrpSpPr>
        <p:grpSpPr>
          <a:xfrm>
            <a:off x="549360" y="4138560"/>
            <a:ext cx="1919160" cy="866880"/>
            <a:chOff x="549360" y="4138560"/>
            <a:chExt cx="1919160" cy="866880"/>
          </a:xfrm>
        </p:grpSpPr>
        <p:sp>
          <p:nvSpPr>
            <p:cNvPr id="420" name="AutoShape 8"/>
            <p:cNvSpPr/>
            <p:nvPr/>
          </p:nvSpPr>
          <p:spPr>
            <a:xfrm>
              <a:off x="5493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Text Box 9"/>
            <p:cNvSpPr/>
            <p:nvPr/>
          </p:nvSpPr>
          <p:spPr>
            <a:xfrm>
              <a:off x="7754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10"/>
            <p:cNvSpPr/>
            <p:nvPr/>
          </p:nvSpPr>
          <p:spPr>
            <a:xfrm>
              <a:off x="6033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7754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Text Box 12"/>
            <p:cNvSpPr/>
            <p:nvPr/>
          </p:nvSpPr>
          <p:spPr>
            <a:xfrm>
              <a:off x="6033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Text Box 13"/>
            <p:cNvSpPr/>
            <p:nvPr/>
          </p:nvSpPr>
          <p:spPr>
            <a:xfrm>
              <a:off x="14216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1451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Text Box 15"/>
            <p:cNvSpPr/>
            <p:nvPr/>
          </p:nvSpPr>
          <p:spPr>
            <a:xfrm>
              <a:off x="14216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Text Box 16"/>
            <p:cNvSpPr/>
            <p:nvPr/>
          </p:nvSpPr>
          <p:spPr>
            <a:xfrm>
              <a:off x="11451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Text Box 17"/>
            <p:cNvSpPr/>
            <p:nvPr/>
          </p:nvSpPr>
          <p:spPr>
            <a:xfrm>
              <a:off x="20023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17737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1" name="Rectangle 19"/>
          <p:cNvSpPr/>
          <p:nvPr/>
        </p:nvSpPr>
        <p:spPr>
          <a:xfrm>
            <a:off x="1641600" y="1222200"/>
            <a:ext cx="586872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0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1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2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3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2" name="Group 188"/>
          <p:cNvGrpSpPr/>
          <p:nvPr/>
        </p:nvGrpSpPr>
        <p:grpSpPr>
          <a:xfrm>
            <a:off x="2684520" y="3162240"/>
            <a:ext cx="2738520" cy="382680"/>
            <a:chOff x="2684520" y="3162240"/>
            <a:chExt cx="2738520" cy="382680"/>
          </a:xfrm>
        </p:grpSpPr>
        <p:grpSp>
          <p:nvGrpSpPr>
            <p:cNvPr id="433" name="Group 4"/>
            <p:cNvGrpSpPr/>
            <p:nvPr/>
          </p:nvGrpSpPr>
          <p:grpSpPr>
            <a:xfrm>
              <a:off x="2684520" y="3162240"/>
              <a:ext cx="647640" cy="368280"/>
              <a:chOff x="2684520" y="3162240"/>
              <a:chExt cx="647640" cy="368280"/>
            </a:xfrm>
          </p:grpSpPr>
          <p:sp>
            <p:nvSpPr>
              <p:cNvPr id="434" name="Rectangle 5"/>
              <p:cNvSpPr/>
              <p:nvPr/>
            </p:nvSpPr>
            <p:spPr>
              <a:xfrm>
                <a:off x="2949480" y="316224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5" name="Text Box 6"/>
              <p:cNvSpPr/>
              <p:nvPr/>
            </p:nvSpPr>
            <p:spPr>
              <a:xfrm>
                <a:off x="2684520" y="316548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36" name="Line 22"/>
            <p:cNvSpPr/>
            <p:nvPr/>
          </p:nvSpPr>
          <p:spPr>
            <a:xfrm>
              <a:off x="3141720" y="335448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Rectangle 38"/>
            <p:cNvSpPr/>
            <p:nvPr/>
          </p:nvSpPr>
          <p:spPr>
            <a:xfrm>
              <a:off x="389268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Rectangle 40"/>
            <p:cNvSpPr/>
            <p:nvPr/>
          </p:nvSpPr>
          <p:spPr>
            <a:xfrm>
              <a:off x="4275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9" name="Rectangle 41"/>
            <p:cNvSpPr/>
            <p:nvPr/>
          </p:nvSpPr>
          <p:spPr>
            <a:xfrm>
              <a:off x="4658040" y="317664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Rectangle 42"/>
            <p:cNvSpPr/>
            <p:nvPr/>
          </p:nvSpPr>
          <p:spPr>
            <a:xfrm>
              <a:off x="5040360" y="3176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41" name="Group 152"/>
          <p:cNvGrpSpPr/>
          <p:nvPr/>
        </p:nvGrpSpPr>
        <p:grpSpPr>
          <a:xfrm>
            <a:off x="2633760" y="4138560"/>
            <a:ext cx="1919160" cy="866880"/>
            <a:chOff x="2633760" y="4138560"/>
            <a:chExt cx="1919160" cy="866880"/>
          </a:xfrm>
        </p:grpSpPr>
        <p:sp>
          <p:nvSpPr>
            <p:cNvPr id="442" name="AutoShape 153"/>
            <p:cNvSpPr/>
            <p:nvPr/>
          </p:nvSpPr>
          <p:spPr>
            <a:xfrm>
              <a:off x="26337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Text Box 154"/>
            <p:cNvSpPr/>
            <p:nvPr/>
          </p:nvSpPr>
          <p:spPr>
            <a:xfrm>
              <a:off x="28598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Text Box 155"/>
            <p:cNvSpPr/>
            <p:nvPr/>
          </p:nvSpPr>
          <p:spPr>
            <a:xfrm>
              <a:off x="26877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Text Box 156"/>
            <p:cNvSpPr/>
            <p:nvPr/>
          </p:nvSpPr>
          <p:spPr>
            <a:xfrm>
              <a:off x="28598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Text Box 157"/>
            <p:cNvSpPr/>
            <p:nvPr/>
          </p:nvSpPr>
          <p:spPr>
            <a:xfrm>
              <a:off x="26877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Text Box 158"/>
            <p:cNvSpPr/>
            <p:nvPr/>
          </p:nvSpPr>
          <p:spPr>
            <a:xfrm>
              <a:off x="35060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Text Box 159"/>
            <p:cNvSpPr/>
            <p:nvPr/>
          </p:nvSpPr>
          <p:spPr>
            <a:xfrm>
              <a:off x="32295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9" name="Text Box 160"/>
            <p:cNvSpPr/>
            <p:nvPr/>
          </p:nvSpPr>
          <p:spPr>
            <a:xfrm>
              <a:off x="35060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0" name="Text Box 161"/>
            <p:cNvSpPr/>
            <p:nvPr/>
          </p:nvSpPr>
          <p:spPr>
            <a:xfrm>
              <a:off x="32295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Text Box 162"/>
            <p:cNvSpPr/>
            <p:nvPr/>
          </p:nvSpPr>
          <p:spPr>
            <a:xfrm>
              <a:off x="40867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Text Box 163"/>
            <p:cNvSpPr/>
            <p:nvPr/>
          </p:nvSpPr>
          <p:spPr>
            <a:xfrm>
              <a:off x="38581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3" name="Group 164"/>
          <p:cNvGrpSpPr/>
          <p:nvPr/>
        </p:nvGrpSpPr>
        <p:grpSpPr>
          <a:xfrm>
            <a:off x="4718160" y="4138560"/>
            <a:ext cx="1919160" cy="866880"/>
            <a:chOff x="4718160" y="4138560"/>
            <a:chExt cx="1919160" cy="866880"/>
          </a:xfrm>
        </p:grpSpPr>
        <p:sp>
          <p:nvSpPr>
            <p:cNvPr id="454" name="AutoShape 165"/>
            <p:cNvSpPr/>
            <p:nvPr/>
          </p:nvSpPr>
          <p:spPr>
            <a:xfrm>
              <a:off x="471816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5" name="Text Box 166"/>
            <p:cNvSpPr/>
            <p:nvPr/>
          </p:nvSpPr>
          <p:spPr>
            <a:xfrm>
              <a:off x="494424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Text Box 167"/>
            <p:cNvSpPr/>
            <p:nvPr/>
          </p:nvSpPr>
          <p:spPr>
            <a:xfrm>
              <a:off x="477216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Text Box 168"/>
            <p:cNvSpPr/>
            <p:nvPr/>
          </p:nvSpPr>
          <p:spPr>
            <a:xfrm>
              <a:off x="494424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Text Box 169"/>
            <p:cNvSpPr/>
            <p:nvPr/>
          </p:nvSpPr>
          <p:spPr>
            <a:xfrm>
              <a:off x="477216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Text Box 170"/>
            <p:cNvSpPr/>
            <p:nvPr/>
          </p:nvSpPr>
          <p:spPr>
            <a:xfrm>
              <a:off x="559044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Text Box 171"/>
            <p:cNvSpPr/>
            <p:nvPr/>
          </p:nvSpPr>
          <p:spPr>
            <a:xfrm>
              <a:off x="531396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Text Box 172"/>
            <p:cNvSpPr/>
            <p:nvPr/>
          </p:nvSpPr>
          <p:spPr>
            <a:xfrm>
              <a:off x="559044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173"/>
            <p:cNvSpPr/>
            <p:nvPr/>
          </p:nvSpPr>
          <p:spPr>
            <a:xfrm>
              <a:off x="531396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Text Box 174"/>
            <p:cNvSpPr/>
            <p:nvPr/>
          </p:nvSpPr>
          <p:spPr>
            <a:xfrm>
              <a:off x="617112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Text Box 175"/>
            <p:cNvSpPr/>
            <p:nvPr/>
          </p:nvSpPr>
          <p:spPr>
            <a:xfrm>
              <a:off x="594252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5" name="Group 176"/>
          <p:cNvGrpSpPr/>
          <p:nvPr/>
        </p:nvGrpSpPr>
        <p:grpSpPr>
          <a:xfrm>
            <a:off x="6804000" y="4138560"/>
            <a:ext cx="1919160" cy="866880"/>
            <a:chOff x="6804000" y="4138560"/>
            <a:chExt cx="1919160" cy="866880"/>
          </a:xfrm>
        </p:grpSpPr>
        <p:sp>
          <p:nvSpPr>
            <p:cNvPr id="466" name="AutoShape 177"/>
            <p:cNvSpPr/>
            <p:nvPr/>
          </p:nvSpPr>
          <p:spPr>
            <a:xfrm>
              <a:off x="6804000" y="4138560"/>
              <a:ext cx="191916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Text Box 178"/>
            <p:cNvSpPr/>
            <p:nvPr/>
          </p:nvSpPr>
          <p:spPr>
            <a:xfrm>
              <a:off x="703008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Text Box 179"/>
            <p:cNvSpPr/>
            <p:nvPr/>
          </p:nvSpPr>
          <p:spPr>
            <a:xfrm>
              <a:off x="6858000" y="4229280"/>
              <a:ext cx="1702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Text Box 180"/>
            <p:cNvSpPr/>
            <p:nvPr/>
          </p:nvSpPr>
          <p:spPr>
            <a:xfrm>
              <a:off x="7030080" y="462564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Text Box 181"/>
            <p:cNvSpPr/>
            <p:nvPr/>
          </p:nvSpPr>
          <p:spPr>
            <a:xfrm>
              <a:off x="6858000" y="461736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Text Box 182"/>
            <p:cNvSpPr/>
            <p:nvPr/>
          </p:nvSpPr>
          <p:spPr>
            <a:xfrm>
              <a:off x="7676280" y="423612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Text Box 183"/>
            <p:cNvSpPr/>
            <p:nvPr/>
          </p:nvSpPr>
          <p:spPr>
            <a:xfrm>
              <a:off x="7399800" y="422928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Text Box 184"/>
            <p:cNvSpPr/>
            <p:nvPr/>
          </p:nvSpPr>
          <p:spPr>
            <a:xfrm>
              <a:off x="7676280" y="462564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Text Box 185"/>
            <p:cNvSpPr/>
            <p:nvPr/>
          </p:nvSpPr>
          <p:spPr>
            <a:xfrm>
              <a:off x="7399800" y="461736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86"/>
            <p:cNvSpPr/>
            <p:nvPr/>
          </p:nvSpPr>
          <p:spPr>
            <a:xfrm>
              <a:off x="8256960" y="423612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87"/>
            <p:cNvSpPr/>
            <p:nvPr/>
          </p:nvSpPr>
          <p:spPr>
            <a:xfrm>
              <a:off x="8028360" y="422928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77" name="Rectangle 189"/>
          <p:cNvSpPr/>
          <p:nvPr/>
        </p:nvSpPr>
        <p:spPr>
          <a:xfrm>
            <a:off x="1771560" y="1568520"/>
            <a:ext cx="5680080" cy="12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b.length; i++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[2].dy = 9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Freeform 191"/>
          <p:cNvSpPr/>
          <p:nvPr/>
        </p:nvSpPr>
        <p:spPr>
          <a:xfrm>
            <a:off x="1422360" y="3411360"/>
            <a:ext cx="2670120" cy="71136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Freeform 192"/>
          <p:cNvSpPr/>
          <p:nvPr/>
        </p:nvSpPr>
        <p:spPr>
          <a:xfrm>
            <a:off x="3730680" y="3411360"/>
            <a:ext cx="725400" cy="711360"/>
          </a:xfrm>
          <a:custGeom>
            <a:avLst/>
            <a:gdLst>
              <a:gd name="textAreaLeft" fmla="*/ 0 w 725400"/>
              <a:gd name="textAreaRight" fmla="*/ 725760 w 72540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Freeform 193"/>
          <p:cNvSpPr/>
          <p:nvPr/>
        </p:nvSpPr>
        <p:spPr>
          <a:xfrm flipH="1">
            <a:off x="5238000" y="3425760"/>
            <a:ext cx="2670120" cy="711360"/>
          </a:xfrm>
          <a:custGeom>
            <a:avLst/>
            <a:gdLst>
              <a:gd name="textAreaLeft" fmla="*/ -360 w 2670120"/>
              <a:gd name="textAreaRight" fmla="*/ 2670120 w 267012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2" h="448">
                <a:moveTo>
                  <a:pt x="1682" y="0"/>
                </a:moveTo>
                <a:cubicBezTo>
                  <a:pt x="1594" y="84"/>
                  <a:pt x="1507" y="169"/>
                  <a:pt x="1326" y="201"/>
                </a:cubicBezTo>
                <a:cubicBezTo>
                  <a:pt x="1145" y="233"/>
                  <a:pt x="775" y="187"/>
                  <a:pt x="594" y="192"/>
                </a:cubicBezTo>
                <a:cubicBezTo>
                  <a:pt x="413" y="197"/>
                  <a:pt x="337" y="185"/>
                  <a:pt x="238" y="228"/>
                </a:cubicBezTo>
                <a:cubicBezTo>
                  <a:pt x="139" y="271"/>
                  <a:pt x="69" y="359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Freeform 194"/>
          <p:cNvSpPr/>
          <p:nvPr/>
        </p:nvSpPr>
        <p:spPr>
          <a:xfrm flipH="1">
            <a:off x="4848120" y="3440160"/>
            <a:ext cx="725760" cy="711000"/>
          </a:xfrm>
          <a:custGeom>
            <a:avLst/>
            <a:gdLst>
              <a:gd name="textAreaLeft" fmla="*/ 360 w 725760"/>
              <a:gd name="textAreaRight" fmla="*/ 726480 w 7257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457" h="448">
                <a:moveTo>
                  <a:pt x="457" y="0"/>
                </a:moveTo>
                <a:cubicBezTo>
                  <a:pt x="439" y="66"/>
                  <a:pt x="421" y="132"/>
                  <a:pt x="375" y="173"/>
                </a:cubicBezTo>
                <a:cubicBezTo>
                  <a:pt x="329" y="214"/>
                  <a:pt x="245" y="200"/>
                  <a:pt x="183" y="246"/>
                </a:cubicBezTo>
                <a:cubicBezTo>
                  <a:pt x="121" y="292"/>
                  <a:pt x="60" y="370"/>
                  <a:pt x="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Text Box 195"/>
          <p:cNvSpPr/>
          <p:nvPr/>
        </p:nvSpPr>
        <p:spPr>
          <a:xfrm>
            <a:off x="5594400" y="4621320"/>
            <a:ext cx="365040" cy="280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AutoShape 196"/>
          <p:cNvSpPr/>
          <p:nvPr/>
        </p:nvSpPr>
        <p:spPr>
          <a:xfrm>
            <a:off x="5572080" y="5122800"/>
            <a:ext cx="420840" cy="406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Text Box 197"/>
          <p:cNvSpPr/>
          <p:nvPr/>
        </p:nvSpPr>
        <p:spPr>
          <a:xfrm>
            <a:off x="5810400" y="315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00040" y="671400"/>
            <a:ext cx="82152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5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r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d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125; y[i] = 100; r[i] = 5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y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w.fillEllipse(x[i], y[i], 2 * r[i], 2 * r[i]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x[i] + dx[i];  y[i] = y[i] + 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+ r[i] &gt; 250) dx[i] = -dx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- r[i] &lt;   0) dx[i] = -dx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+ r[i] &gt; 200) dy[i] = -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- r[i]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0) dy[i] = -dy[i]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6269040" y="2152800"/>
            <a:ext cx="2249640" cy="203832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5"/>
          <p:cNvSpPr/>
          <p:nvPr/>
        </p:nvSpPr>
        <p:spPr>
          <a:xfrm>
            <a:off x="6450120" y="736560"/>
            <a:ext cx="1492200" cy="444600"/>
          </a:xfrm>
          <a:prstGeom prst="wedgeRoundRectCallout">
            <a:avLst>
              <a:gd name="adj1" fmla="val -68884"/>
              <a:gd name="adj2" fmla="val 530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สร้างอาเรย์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3855960" y="3274920"/>
            <a:ext cx="1712880" cy="444600"/>
          </a:xfrm>
          <a:prstGeom prst="wedgeRoundRectCallout">
            <a:avLst>
              <a:gd name="adj1" fmla="val -66495"/>
              <a:gd name="adj2" fmla="val -5447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ให้ค่าเริ่มต้น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5533920" y="6032520"/>
            <a:ext cx="2076480" cy="501480"/>
          </a:xfrm>
          <a:prstGeom prst="wedgeRoundRectCallout">
            <a:avLst>
              <a:gd name="adj1" fmla="val -61611"/>
              <a:gd name="adj2" fmla="val -4068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</a:rPr>
              <a:t>วาดและปรับค่า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4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4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00"/>
                            </p:stCondLst>
                            <p:childTnLst>
                              <p:par>
                                <p:cTn id="1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4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4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4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8" dur="500"/>
                                        <p:tgtEl>
                                          <p:spTgt spid="4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4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4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4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ีกครั้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530280" y="747720"/>
            <a:ext cx="821520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, dx, dy,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all(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1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dx1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dy1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.fillEllipse(x, y, 2 * r, 2 *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x + r &gt; w.getWidth()  || x &lt; r) dx = -dx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y + r &gt; w.getHeight() || y &lt; r) dy = -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4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6" dur="500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4" dur="500"/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all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77800" y="747720"/>
            <a:ext cx="8109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[]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[50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b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(125, 100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(-5, 5), random(-5, 5), 1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b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.draw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.move(w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+ (b - a)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7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4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6" dur="500"/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5" dur="500"/>
                                        <p:tgtEl>
                                          <p:spTgt spid="4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0" dur="500"/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4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4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4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4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4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1"/>
          <p:cNvSpPr/>
          <p:nvPr/>
        </p:nvSpPr>
        <p:spPr>
          <a:xfrm>
            <a:off x="1555920" y="1312920"/>
            <a:ext cx="60321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GP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ี่ผ่านม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969920" y="1784520"/>
            <a:ext cx="5018400" cy="98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...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984320" y="3125880"/>
            <a:ext cx="3291120" cy="2041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อื่น ๆ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ุกเมท็อดมีคำว่า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5290200" y="359568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metho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Card 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77800" y="747720"/>
            <a:ext cx="810900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it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0" lang="th-TH" sz="2000" spc="-1" strike="noStrike">
                <a:solidFill>
                  <a:srgbClr val="008000"/>
                </a:solidFill>
                <a:latin typeface="Courier New"/>
              </a:rPr>
              <a:t>โพธิ์ดำ โพธิ์แดง หลามตัด หัวใ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k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, 3, ..., 14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 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k =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Ran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Suit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i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5935680" y="2751120"/>
            <a:ext cx="2278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พ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ำรับ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577800" y="747720"/>
            <a:ext cx="8109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52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2; i &lt;= 14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ดำ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โพธิ์แด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ลามตัด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eck[k++]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(i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หัวใจ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 = 52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ard nextCard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numberOfCards--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eck[numberOfCards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rcRect l="6842" t="6924" r="7371" b="0"/>
          <a:stretch/>
        </p:blipFill>
        <p:spPr>
          <a:xfrm>
            <a:off x="5883120" y="898560"/>
            <a:ext cx="24829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Deck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ไพ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77800" y="747720"/>
            <a:ext cx="83836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eck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] deck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ard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u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[] temp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rd[k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[i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k; i &lt; numberOfCards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deck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k; i++, j++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k[j] = temp[i]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816120" y="5310360"/>
            <a:ext cx="1565280" cy="1174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2857680" y="5310360"/>
            <a:ext cx="1566720" cy="1174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98880" y="5310360"/>
            <a:ext cx="1567080" cy="1174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4"/>
          <a:stretch/>
        </p:blipFill>
        <p:spPr>
          <a:xfrm>
            <a:off x="6942240" y="5318280"/>
            <a:ext cx="1565280" cy="1166760"/>
          </a:xfrm>
          <a:prstGeom prst="rect">
            <a:avLst/>
          </a:prstGeom>
          <a:ln w="0">
            <a:noFill/>
          </a:ln>
        </p:spPr>
      </p:pic>
      <p:grpSp>
        <p:nvGrpSpPr>
          <p:cNvPr id="507" name="Group 19"/>
          <p:cNvGrpSpPr/>
          <p:nvPr/>
        </p:nvGrpSpPr>
        <p:grpSpPr>
          <a:xfrm>
            <a:off x="6370560" y="2055960"/>
            <a:ext cx="2330640" cy="341280"/>
            <a:chOff x="6370560" y="2055960"/>
            <a:chExt cx="2330640" cy="341280"/>
          </a:xfrm>
        </p:grpSpPr>
        <p:sp>
          <p:nvSpPr>
            <p:cNvPr id="508" name="Rectangle 8"/>
            <p:cNvSpPr/>
            <p:nvPr/>
          </p:nvSpPr>
          <p:spPr>
            <a:xfrm>
              <a:off x="6379560" y="2057400"/>
              <a:ext cx="746640" cy="3355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7126200" y="2057400"/>
              <a:ext cx="1569600" cy="3355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6370560" y="2055960"/>
              <a:ext cx="2330640" cy="34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1" name="Rectangle 11"/>
          <p:cNvSpPr/>
          <p:nvPr/>
        </p:nvSpPr>
        <p:spPr>
          <a:xfrm>
            <a:off x="6370560" y="2819520"/>
            <a:ext cx="746280" cy="33480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2" name="Group 20"/>
          <p:cNvGrpSpPr/>
          <p:nvPr/>
        </p:nvGrpSpPr>
        <p:grpSpPr>
          <a:xfrm>
            <a:off x="6370560" y="3900600"/>
            <a:ext cx="2330640" cy="341280"/>
            <a:chOff x="6370560" y="3900600"/>
            <a:chExt cx="2330640" cy="341280"/>
          </a:xfrm>
        </p:grpSpPr>
        <p:sp>
          <p:nvSpPr>
            <p:cNvPr id="513" name="Rectangle 12"/>
            <p:cNvSpPr/>
            <p:nvPr/>
          </p:nvSpPr>
          <p:spPr>
            <a:xfrm>
              <a:off x="6379560" y="3902040"/>
              <a:ext cx="746640" cy="3355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6379560" y="3902040"/>
              <a:ext cx="1569600" cy="3355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Rectangle 14"/>
            <p:cNvSpPr/>
            <p:nvPr/>
          </p:nvSpPr>
          <p:spPr>
            <a:xfrm>
              <a:off x="6370560" y="3900600"/>
              <a:ext cx="2330640" cy="34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6" name="Group 21"/>
          <p:cNvGrpSpPr/>
          <p:nvPr/>
        </p:nvGrpSpPr>
        <p:grpSpPr>
          <a:xfrm>
            <a:off x="6370560" y="4662360"/>
            <a:ext cx="2330640" cy="341280"/>
            <a:chOff x="6370560" y="4662360"/>
            <a:chExt cx="2330640" cy="341280"/>
          </a:xfrm>
        </p:grpSpPr>
        <p:sp>
          <p:nvSpPr>
            <p:cNvPr id="517" name="Rectangle 15"/>
            <p:cNvSpPr/>
            <p:nvPr/>
          </p:nvSpPr>
          <p:spPr>
            <a:xfrm>
              <a:off x="6379560" y="4663800"/>
              <a:ext cx="746640" cy="3355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6379560" y="4663800"/>
              <a:ext cx="1569600" cy="3355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Rectangle 17"/>
            <p:cNvSpPr/>
            <p:nvPr/>
          </p:nvSpPr>
          <p:spPr>
            <a:xfrm>
              <a:off x="6370560" y="4662360"/>
              <a:ext cx="2330640" cy="34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Rectangle 18"/>
            <p:cNvSpPr/>
            <p:nvPr/>
          </p:nvSpPr>
          <p:spPr>
            <a:xfrm>
              <a:off x="7949160" y="4663800"/>
              <a:ext cx="746640" cy="3355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21" name="Straight Arrow Connector 23"/>
          <p:cNvCxnSpPr/>
          <p:nvPr/>
        </p:nvCxnSpPr>
        <p:spPr>
          <a:xfrm flipH="1">
            <a:off x="6719040" y="2211120"/>
            <a:ext cx="2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Straight Arrow Connector 25"/>
          <p:cNvCxnSpPr/>
          <p:nvPr/>
        </p:nvCxnSpPr>
        <p:spPr>
          <a:xfrm flipH="1">
            <a:off x="7132320" y="2255760"/>
            <a:ext cx="77688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Straight Arrow Connector 27"/>
          <p:cNvCxnSpPr/>
          <p:nvPr/>
        </p:nvCxnSpPr>
        <p:spPr>
          <a:xfrm>
            <a:off x="6705720" y="2971800"/>
            <a:ext cx="1692720" cy="189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TextBox 28"/>
          <p:cNvSpPr/>
          <p:nvPr/>
        </p:nvSpPr>
        <p:spPr>
          <a:xfrm>
            <a:off x="6369840" y="13413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ใบ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Right Brace 29"/>
          <p:cNvSpPr/>
          <p:nvPr/>
        </p:nvSpPr>
        <p:spPr>
          <a:xfrm rot="16200000">
            <a:off x="6629400" y="1477440"/>
            <a:ext cx="244440" cy="762120"/>
          </a:xfrm>
          <a:custGeom>
            <a:avLst/>
            <a:gdLst>
              <a:gd name="textAreaLeft" fmla="*/ 0 w 244440"/>
              <a:gd name="textAreaRight" fmla="*/ 88200 w 244440"/>
              <a:gd name="textAreaTop" fmla="*/ 21240 h 762120"/>
              <a:gd name="textAreaBottom" fmla="*/ 7408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2"/>
                  <a:pt x="10800" y="1923"/>
                </a:cubicBezTo>
                <a:lnTo>
                  <a:pt x="10800" y="8877"/>
                </a:lnTo>
                <a:cubicBezTo>
                  <a:pt x="10800" y="9839"/>
                  <a:pt x="16200" y="10800"/>
                  <a:pt x="21600" y="10800"/>
                </a:cubicBezTo>
                <a:cubicBezTo>
                  <a:pt x="16200" y="10800"/>
                  <a:pt x="10800" y="11762"/>
                  <a:pt x="10800" y="12723"/>
                </a:cubicBezTo>
                <a:lnTo>
                  <a:pt x="10800" y="19677"/>
                </a:lnTo>
                <a:cubicBezTo>
                  <a:pt x="10800" y="206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Complex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ำนวนเชิงซ้อน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7404120" y="2087640"/>
          <a:ext cx="1143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04120" y="2087640"/>
                    <a:ext cx="1143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96960" y="106020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วาไม่มีจำนวนเชิงซ้อนให้ใช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เขียนเ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460520" y="3713040"/>
            <a:ext cx="62960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l pa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inary pa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 =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 = i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31" name="Object 3"/>
          <p:cNvGraphicFramePr/>
          <p:nvPr/>
        </p:nvGraphicFramePr>
        <p:xfrm>
          <a:off x="2284560" y="2625840"/>
          <a:ext cx="4502160" cy="90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4560" y="2625840"/>
                    <a:ext cx="45021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11"/>
          <p:cNvSpPr/>
          <p:nvPr/>
        </p:nvSpPr>
        <p:spPr>
          <a:xfrm>
            <a:off x="1830240" y="1725480"/>
            <a:ext cx="545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=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=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+ad)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500"/>
                            </p:stCondLst>
                            <p:childTnLst>
                              <p:par>
                                <p:cTn id="1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2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535" name="Object 2"/>
          <p:cNvGraphicFramePr/>
          <p:nvPr/>
        </p:nvGraphicFramePr>
        <p:xfrm>
          <a:off x="2448000" y="3397320"/>
          <a:ext cx="27255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3397320"/>
                    <a:ext cx="27255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60160" y="960480"/>
            <a:ext cx="80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หารากของสมการ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x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อนุพันธ์เตรียมไว้ก่อ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ิ่มด้วยการให้ค่าเริ่มต้น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นว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 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นคำนวณจน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ลี่ยนแปลงน้อยมาก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5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5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9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539" name="Object 2"/>
          <p:cNvGraphicFramePr/>
          <p:nvPr/>
        </p:nvGraphicFramePr>
        <p:xfrm>
          <a:off x="5853240" y="1992240"/>
          <a:ext cx="30272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992240"/>
                    <a:ext cx="30272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Line 9"/>
          <p:cNvSpPr/>
          <p:nvPr/>
        </p:nvSpPr>
        <p:spPr>
          <a:xfrm flipV="1">
            <a:off x="4562640" y="2063880"/>
            <a:ext cx="1001520" cy="2774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2" name="Group 34"/>
          <p:cNvGrpSpPr/>
          <p:nvPr/>
        </p:nvGrpSpPr>
        <p:grpSpPr>
          <a:xfrm>
            <a:off x="1662120" y="1314360"/>
            <a:ext cx="6021360" cy="4125600"/>
            <a:chOff x="1662120" y="1314360"/>
            <a:chExt cx="6021360" cy="4125600"/>
          </a:xfrm>
        </p:grpSpPr>
        <p:sp>
          <p:nvSpPr>
            <p:cNvPr id="543" name="Line 6"/>
            <p:cNvSpPr/>
            <p:nvPr/>
          </p:nvSpPr>
          <p:spPr>
            <a:xfrm flipV="1">
              <a:off x="2274840" y="1501560"/>
              <a:ext cx="0" cy="390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Line 7"/>
            <p:cNvSpPr/>
            <p:nvPr/>
          </p:nvSpPr>
          <p:spPr>
            <a:xfrm>
              <a:off x="1662120" y="4849920"/>
              <a:ext cx="561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793880" y="1314360"/>
              <a:ext cx="3983040" cy="396396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963960"/>
                <a:gd name="textAreaBottom" fmla="*/ 3964320 h 3963960"/>
              </a:gdLst>
              <a:ahLst/>
              <a:rect l="textAreaLeft" t="textAreaTop" r="textAreaRight" b="textAreaBottom"/>
              <a:pathLst>
                <a:path w="1645" h="1552">
                  <a:moveTo>
                    <a:pt x="0" y="1552"/>
                  </a:moveTo>
                  <a:cubicBezTo>
                    <a:pt x="282" y="1458"/>
                    <a:pt x="564" y="1365"/>
                    <a:pt x="799" y="1199"/>
                  </a:cubicBezTo>
                  <a:cubicBezTo>
                    <a:pt x="1034" y="1033"/>
                    <a:pt x="1271" y="758"/>
                    <a:pt x="1412" y="558"/>
                  </a:cubicBezTo>
                  <a:cubicBezTo>
                    <a:pt x="1553" y="358"/>
                    <a:pt x="1599" y="179"/>
                    <a:pt x="1645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7203960" y="479124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47" name="Line 19"/>
          <p:cNvSpPr/>
          <p:nvPr/>
        </p:nvSpPr>
        <p:spPr>
          <a:xfrm flipV="1">
            <a:off x="3402000" y="3615840"/>
            <a:ext cx="1146240" cy="1227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Line 21"/>
          <p:cNvSpPr/>
          <p:nvPr/>
        </p:nvSpPr>
        <p:spPr>
          <a:xfrm flipV="1">
            <a:off x="3006720" y="4587840"/>
            <a:ext cx="423720" cy="25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49" name="Group 39"/>
          <p:cNvGrpSpPr/>
          <p:nvPr/>
        </p:nvGrpSpPr>
        <p:grpSpPr>
          <a:xfrm>
            <a:off x="5513400" y="1944720"/>
            <a:ext cx="157320" cy="2905200"/>
            <a:chOff x="5513400" y="1944720"/>
            <a:chExt cx="157320" cy="2905200"/>
          </a:xfrm>
        </p:grpSpPr>
        <p:sp>
          <p:nvSpPr>
            <p:cNvPr id="550" name="Line 10"/>
            <p:cNvSpPr/>
            <p:nvPr/>
          </p:nvSpPr>
          <p:spPr>
            <a:xfrm flipV="1">
              <a:off x="5586480" y="2006640"/>
              <a:ext cx="0" cy="2843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Oval 25"/>
            <p:cNvSpPr/>
            <p:nvPr/>
          </p:nvSpPr>
          <p:spPr>
            <a:xfrm>
              <a:off x="5513400" y="1944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2" name="Group 40"/>
          <p:cNvGrpSpPr/>
          <p:nvPr/>
        </p:nvGrpSpPr>
        <p:grpSpPr>
          <a:xfrm>
            <a:off x="4462560" y="3556080"/>
            <a:ext cx="156960" cy="1293840"/>
            <a:chOff x="4462560" y="3556080"/>
            <a:chExt cx="156960" cy="1293840"/>
          </a:xfrm>
        </p:grpSpPr>
        <p:sp>
          <p:nvSpPr>
            <p:cNvPr id="553" name="Line 16"/>
            <p:cNvSpPr/>
            <p:nvPr/>
          </p:nvSpPr>
          <p:spPr>
            <a:xfrm flipV="1">
              <a:off x="4546440" y="360216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Oval 26"/>
            <p:cNvSpPr/>
            <p:nvPr/>
          </p:nvSpPr>
          <p:spPr>
            <a:xfrm>
              <a:off x="4462560" y="355608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5" name="Group 41"/>
          <p:cNvGrpSpPr/>
          <p:nvPr/>
        </p:nvGrpSpPr>
        <p:grpSpPr>
          <a:xfrm>
            <a:off x="3322800" y="4527720"/>
            <a:ext cx="156960" cy="322200"/>
            <a:chOff x="3322800" y="4527720"/>
            <a:chExt cx="156960" cy="322200"/>
          </a:xfrm>
        </p:grpSpPr>
        <p:sp>
          <p:nvSpPr>
            <p:cNvPr id="556" name="Line 20"/>
            <p:cNvSpPr/>
            <p:nvPr/>
          </p:nvSpPr>
          <p:spPr>
            <a:xfrm flipV="1">
              <a:off x="3400560" y="4603680"/>
              <a:ext cx="0" cy="246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Oval 27"/>
            <p:cNvSpPr/>
            <p:nvPr/>
          </p:nvSpPr>
          <p:spPr>
            <a:xfrm>
              <a:off x="3322800" y="452772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8" name="Group 35"/>
          <p:cNvGrpSpPr/>
          <p:nvPr/>
        </p:nvGrpSpPr>
        <p:grpSpPr>
          <a:xfrm>
            <a:off x="5414760" y="4761000"/>
            <a:ext cx="479520" cy="648720"/>
            <a:chOff x="5414760" y="4761000"/>
            <a:chExt cx="479520" cy="648720"/>
          </a:xfrm>
        </p:grpSpPr>
        <p:sp>
          <p:nvSpPr>
            <p:cNvPr id="559" name="Text Box 14"/>
            <p:cNvSpPr/>
            <p:nvPr/>
          </p:nvSpPr>
          <p:spPr>
            <a:xfrm>
              <a:off x="541476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0" name="Oval 11"/>
            <p:cNvSpPr/>
            <p:nvPr/>
          </p:nvSpPr>
          <p:spPr>
            <a:xfrm>
              <a:off x="55134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1" name="Group 36"/>
          <p:cNvGrpSpPr/>
          <p:nvPr/>
        </p:nvGrpSpPr>
        <p:grpSpPr>
          <a:xfrm>
            <a:off x="4327200" y="4761000"/>
            <a:ext cx="479520" cy="648720"/>
            <a:chOff x="4327200" y="4761000"/>
            <a:chExt cx="479520" cy="648720"/>
          </a:xfrm>
        </p:grpSpPr>
        <p:sp>
          <p:nvSpPr>
            <p:cNvPr id="562" name="Text Box 17"/>
            <p:cNvSpPr/>
            <p:nvPr/>
          </p:nvSpPr>
          <p:spPr>
            <a:xfrm>
              <a:off x="4327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Oval 23"/>
            <p:cNvSpPr/>
            <p:nvPr/>
          </p:nvSpPr>
          <p:spPr>
            <a:xfrm>
              <a:off x="446076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4" name="Group 37"/>
          <p:cNvGrpSpPr/>
          <p:nvPr/>
        </p:nvGrpSpPr>
        <p:grpSpPr>
          <a:xfrm>
            <a:off x="3238200" y="4761000"/>
            <a:ext cx="479520" cy="648720"/>
            <a:chOff x="3238200" y="4761000"/>
            <a:chExt cx="479520" cy="648720"/>
          </a:xfrm>
        </p:grpSpPr>
        <p:sp>
          <p:nvSpPr>
            <p:cNvPr id="565" name="Oval 24"/>
            <p:cNvSpPr/>
            <p:nvPr/>
          </p:nvSpPr>
          <p:spPr>
            <a:xfrm>
              <a:off x="3322800" y="477504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Text Box 29"/>
            <p:cNvSpPr/>
            <p:nvPr/>
          </p:nvSpPr>
          <p:spPr>
            <a:xfrm>
              <a:off x="3238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7" name="Line 42"/>
          <p:cNvSpPr/>
          <p:nvPr/>
        </p:nvSpPr>
        <p:spPr>
          <a:xfrm>
            <a:off x="2903400" y="4035600"/>
            <a:ext cx="0" cy="1349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8" name="Group 38"/>
          <p:cNvGrpSpPr/>
          <p:nvPr/>
        </p:nvGrpSpPr>
        <p:grpSpPr>
          <a:xfrm>
            <a:off x="2744640" y="4761000"/>
            <a:ext cx="479520" cy="648720"/>
            <a:chOff x="2744640" y="4761000"/>
            <a:chExt cx="479520" cy="648720"/>
          </a:xfrm>
        </p:grpSpPr>
        <p:sp>
          <p:nvSpPr>
            <p:cNvPr id="569" name="Oval 28"/>
            <p:cNvSpPr/>
            <p:nvPr/>
          </p:nvSpPr>
          <p:spPr>
            <a:xfrm>
              <a:off x="29718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0" name="Text Box 30"/>
            <p:cNvSpPr/>
            <p:nvPr/>
          </p:nvSpPr>
          <p:spPr>
            <a:xfrm>
              <a:off x="274464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500"/>
                            </p:stCondLst>
                            <p:childTnLst>
                              <p:par>
                                <p:cTn id="1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nal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ที่ตั้งค่าได้ครั้งเดีย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4360" y="907920"/>
            <a:ext cx="792000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กำกับการประกาศตัวแปร หรือพารามิเตอร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อกว่าตัวแปรนี้มีค่าแล้ว เปลี่ยนค่าไม่ได้อี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417680" y="2365200"/>
            <a:ext cx="633888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aving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in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d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ance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nkAccou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I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newI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คลา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4360" y="907920"/>
            <a:ext cx="8215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ละอ็อบเจกต์มีที่เก็บเป็นของตัวเอง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ช่น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.dx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มีตัวแปรแบบนี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ิการที่อ็อบเจกต์มีให้เรียกใช้ เช่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unt.deposit(10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้องมีอ็อบเจกต์ถึงจะเรียกเมท็อดแบบนี้ได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ียกใช้ได้เลยโดยไม่ต้องสร้างอ็อบเจกต์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h.sin(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นำหน้าชื่อเมท็อดด้วยชื่อคลาส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เก็บข้อมูลประจำตัวคลาส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ต้องสร้างอ็อบเจกต์ก็มีที่เก็บนี้ให้ใช้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ส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atic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ำกับตัวแปรประจำคลา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020600" y="747720"/>
            <a:ext cx="7072560" cy="49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in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Value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339920" y="1112760"/>
            <a:ext cx="6081480" cy="30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oins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630440" y="2637000"/>
            <a:ext cx="2712960" cy="30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OfCoins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325520" y="4192560"/>
            <a:ext cx="6340680" cy="915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etNumberOfCoins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berOfCoin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2831400" y="583740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นับจำนวนเหรียญที่ได้ผลิตมา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Rounded Rectangular Callout 7"/>
          <p:cNvSpPr/>
          <p:nvPr/>
        </p:nvSpPr>
        <p:spPr>
          <a:xfrm>
            <a:off x="5165640" y="1646280"/>
            <a:ext cx="2530440" cy="944640"/>
          </a:xfrm>
          <a:prstGeom prst="wedgeRoundRectCallout">
            <a:avLst>
              <a:gd name="adj1" fmla="val -65833"/>
              <a:gd name="adj2" fmla="val -48166"/>
              <a:gd name="adj3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ล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อกจะเกิดอะไรขึ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2"/>
          <p:cNvSpPr/>
          <p:nvPr/>
        </p:nvSpPr>
        <p:spPr>
          <a:xfrm>
            <a:off x="625320" y="741240"/>
            <a:ext cx="79614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1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1; y = y1; dx = dx1; dy = dy1; r = r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กตัวสร้างต้องใช้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( ... 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434880" y="3143160"/>
            <a:ext cx="4523040" cy="433440"/>
            <a:chOff x="434880" y="3143160"/>
            <a:chExt cx="4523040" cy="433440"/>
          </a:xfrm>
        </p:grpSpPr>
        <p:sp>
          <p:nvSpPr>
            <p:cNvPr id="586" name="Rectangle 20"/>
            <p:cNvSpPr/>
            <p:nvPr/>
          </p:nvSpPr>
          <p:spPr>
            <a:xfrm>
              <a:off x="1104840" y="3203280"/>
              <a:ext cx="385308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(x1, y1, 10)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7" name="AutoShape 23"/>
            <p:cNvSpPr/>
            <p:nvPr/>
          </p:nvSpPr>
          <p:spPr>
            <a:xfrm>
              <a:off x="434880" y="3143160"/>
              <a:ext cx="566640" cy="406440"/>
            </a:xfrm>
            <a:prstGeom prst="rightArrow">
              <a:avLst>
                <a:gd name="adj1" fmla="val 50000"/>
                <a:gd name="adj2" fmla="val 34854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8" name="Group 25"/>
          <p:cNvGrpSpPr/>
          <p:nvPr/>
        </p:nvGrpSpPr>
        <p:grpSpPr>
          <a:xfrm>
            <a:off x="477720" y="4130640"/>
            <a:ext cx="4507200" cy="406440"/>
            <a:chOff x="477720" y="4130640"/>
            <a:chExt cx="4507200" cy="406440"/>
          </a:xfrm>
        </p:grpSpPr>
        <p:sp>
          <p:nvSpPr>
            <p:cNvPr id="589" name="Rectangle 21"/>
            <p:cNvSpPr/>
            <p:nvPr/>
          </p:nvSpPr>
          <p:spPr>
            <a:xfrm>
              <a:off x="1131840" y="4147920"/>
              <a:ext cx="385308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ll(x1, y1, 0, 0, r1)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AutoShape 24"/>
            <p:cNvSpPr/>
            <p:nvPr/>
          </p:nvSpPr>
          <p:spPr>
            <a:xfrm>
              <a:off x="477720" y="4130640"/>
              <a:ext cx="566640" cy="406440"/>
            </a:xfrm>
            <a:prstGeom prst="rightArrow">
              <a:avLst>
                <a:gd name="adj1" fmla="val 50000"/>
                <a:gd name="adj2" fmla="val 34854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1" name="Group 27"/>
          <p:cNvGrpSpPr/>
          <p:nvPr/>
        </p:nvGrpSpPr>
        <p:grpSpPr>
          <a:xfrm>
            <a:off x="1262160" y="3147840"/>
            <a:ext cx="3568680" cy="741240"/>
            <a:chOff x="1262160" y="3147840"/>
            <a:chExt cx="3568680" cy="741240"/>
          </a:xfrm>
        </p:grpSpPr>
        <p:sp>
          <p:nvSpPr>
            <p:cNvPr id="592" name="AutoShape 28"/>
            <p:cNvSpPr/>
            <p:nvPr/>
          </p:nvSpPr>
          <p:spPr>
            <a:xfrm>
              <a:off x="1262160" y="3147840"/>
              <a:ext cx="3568680" cy="447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3" name="Line 29"/>
            <p:cNvSpPr/>
            <p:nvPr/>
          </p:nvSpPr>
          <p:spPr>
            <a:xfrm>
              <a:off x="2292480" y="3612960"/>
              <a:ext cx="58680" cy="27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4" name="Group 30"/>
          <p:cNvGrpSpPr/>
          <p:nvPr/>
        </p:nvGrpSpPr>
        <p:grpSpPr>
          <a:xfrm>
            <a:off x="1230480" y="4146480"/>
            <a:ext cx="3784320" cy="668520"/>
            <a:chOff x="1230480" y="4146480"/>
            <a:chExt cx="3784320" cy="668520"/>
          </a:xfrm>
        </p:grpSpPr>
        <p:sp>
          <p:nvSpPr>
            <p:cNvPr id="595" name="AutoShape 31"/>
            <p:cNvSpPr/>
            <p:nvPr/>
          </p:nvSpPr>
          <p:spPr>
            <a:xfrm>
              <a:off x="1230480" y="4146480"/>
              <a:ext cx="3784320" cy="406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6" name="Line 32"/>
            <p:cNvSpPr/>
            <p:nvPr/>
          </p:nvSpPr>
          <p:spPr>
            <a:xfrm>
              <a:off x="2260440" y="4538520"/>
              <a:ext cx="58320" cy="2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7" name="Group 36"/>
          <p:cNvGrpSpPr/>
          <p:nvPr/>
        </p:nvGrpSpPr>
        <p:grpSpPr>
          <a:xfrm>
            <a:off x="1279440" y="4170240"/>
            <a:ext cx="711360" cy="334800"/>
            <a:chOff x="1279440" y="4170240"/>
            <a:chExt cx="711360" cy="334800"/>
          </a:xfrm>
        </p:grpSpPr>
        <p:sp>
          <p:nvSpPr>
            <p:cNvPr id="598" name="Line 37"/>
            <p:cNvSpPr/>
            <p:nvPr/>
          </p:nvSpPr>
          <p:spPr>
            <a:xfrm>
              <a:off x="1279440" y="4170240"/>
              <a:ext cx="711360" cy="33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9" name="Line 38"/>
            <p:cNvSpPr/>
            <p:nvPr/>
          </p:nvSpPr>
          <p:spPr>
            <a:xfrm flipH="1">
              <a:off x="1279440" y="4170240"/>
              <a:ext cx="711360" cy="33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0" name="Rectangle 40"/>
          <p:cNvSpPr/>
          <p:nvPr/>
        </p:nvSpPr>
        <p:spPr>
          <a:xfrm>
            <a:off x="1251000" y="4148280"/>
            <a:ext cx="70488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1" name="Group 33"/>
          <p:cNvGrpSpPr/>
          <p:nvPr/>
        </p:nvGrpSpPr>
        <p:grpSpPr>
          <a:xfrm>
            <a:off x="1279440" y="3241800"/>
            <a:ext cx="711360" cy="334800"/>
            <a:chOff x="1279440" y="3241800"/>
            <a:chExt cx="711360" cy="334800"/>
          </a:xfrm>
        </p:grpSpPr>
        <p:sp>
          <p:nvSpPr>
            <p:cNvPr id="602" name="Line 34"/>
            <p:cNvSpPr/>
            <p:nvPr/>
          </p:nvSpPr>
          <p:spPr>
            <a:xfrm>
              <a:off x="1279440" y="3241800"/>
              <a:ext cx="711360" cy="33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Line 35"/>
            <p:cNvSpPr/>
            <p:nvPr/>
          </p:nvSpPr>
          <p:spPr>
            <a:xfrm flipH="1">
              <a:off x="1279440" y="3241800"/>
              <a:ext cx="711360" cy="33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4" name="Rectangle 39"/>
          <p:cNvSpPr/>
          <p:nvPr/>
        </p:nvSpPr>
        <p:spPr>
          <a:xfrm>
            <a:off x="1251000" y="3206880"/>
            <a:ext cx="70488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500"/>
                            </p:stCondLst>
                            <p:childTnLst>
                              <p:par>
                                <p:cTn id="1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ยังมีอีก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ลาสคือประเภทข้อมู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89080" y="960480"/>
            <a:ext cx="343188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89080" y="2109960"/>
            <a:ext cx="343188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oi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89080" y="3260880"/>
            <a:ext cx="3987720" cy="10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ctangl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89080" y="4410000"/>
            <a:ext cx="3846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mploye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452840" y="960480"/>
            <a:ext cx="384660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Produc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452840" y="2109960"/>
            <a:ext cx="448020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Number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452840" y="5559480"/>
            <a:ext cx="422748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nkAccoun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52840" y="3260880"/>
            <a:ext cx="3186360" cy="102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e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452840" y="4410000"/>
            <a:ext cx="372132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urrency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89080" y="5559480"/>
            <a:ext cx="3846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Room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พิเศษ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755640" y="922320"/>
            <a:ext cx="7642080" cy="31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BL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,      y, 2 *      r, 2 *      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53"/>
          <p:cNvSpPr/>
          <p:nvPr/>
        </p:nvSpPr>
        <p:spPr>
          <a:xfrm>
            <a:off x="2671920" y="4286160"/>
            <a:ext cx="2522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1.draw(w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8" name="Group 54"/>
          <p:cNvGrpSpPr/>
          <p:nvPr/>
        </p:nvGrpSpPr>
        <p:grpSpPr>
          <a:xfrm>
            <a:off x="1955160" y="3060720"/>
            <a:ext cx="5509800" cy="398880"/>
            <a:chOff x="1955160" y="3060720"/>
            <a:chExt cx="5509800" cy="398880"/>
          </a:xfrm>
        </p:grpSpPr>
        <p:sp>
          <p:nvSpPr>
            <p:cNvPr id="609" name="Text Box 55"/>
            <p:cNvSpPr/>
            <p:nvPr/>
          </p:nvSpPr>
          <p:spPr>
            <a:xfrm>
              <a:off x="1955160" y="30607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1.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Text Box 56"/>
            <p:cNvSpPr/>
            <p:nvPr/>
          </p:nvSpPr>
          <p:spPr>
            <a:xfrm>
              <a:off x="3155400" y="30607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1.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Text Box 57"/>
            <p:cNvSpPr/>
            <p:nvPr/>
          </p:nvSpPr>
          <p:spPr>
            <a:xfrm>
              <a:off x="4984200" y="30607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1.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Text Box 58"/>
            <p:cNvSpPr/>
            <p:nvPr/>
          </p:nvSpPr>
          <p:spPr>
            <a:xfrm>
              <a:off x="6827040" y="30607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1.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3" name="Group 59"/>
          <p:cNvGrpSpPr/>
          <p:nvPr/>
        </p:nvGrpSpPr>
        <p:grpSpPr>
          <a:xfrm>
            <a:off x="1940400" y="3009960"/>
            <a:ext cx="5540400" cy="459720"/>
            <a:chOff x="1940400" y="3009960"/>
            <a:chExt cx="5540400" cy="459720"/>
          </a:xfrm>
        </p:grpSpPr>
        <p:sp>
          <p:nvSpPr>
            <p:cNvPr id="614" name="Text Box 60"/>
            <p:cNvSpPr/>
            <p:nvPr/>
          </p:nvSpPr>
          <p:spPr>
            <a:xfrm>
              <a:off x="1940400" y="30099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2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5" name="Text Box 61"/>
            <p:cNvSpPr/>
            <p:nvPr/>
          </p:nvSpPr>
          <p:spPr>
            <a:xfrm>
              <a:off x="3140640" y="30099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2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6" name="Text Box 62"/>
            <p:cNvSpPr/>
            <p:nvPr/>
          </p:nvSpPr>
          <p:spPr>
            <a:xfrm>
              <a:off x="4969440" y="30099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2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7" name="Text Box 63"/>
            <p:cNvSpPr/>
            <p:nvPr/>
          </p:nvSpPr>
          <p:spPr>
            <a:xfrm>
              <a:off x="6812280" y="30099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b2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8" name="Rectangle 64"/>
          <p:cNvSpPr/>
          <p:nvPr/>
        </p:nvSpPr>
        <p:spPr>
          <a:xfrm>
            <a:off x="2685960" y="4871880"/>
            <a:ext cx="25225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2.draw(w1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19" name="Group 65"/>
          <p:cNvGrpSpPr/>
          <p:nvPr/>
        </p:nvGrpSpPr>
        <p:grpSpPr>
          <a:xfrm>
            <a:off x="1638360" y="3002040"/>
            <a:ext cx="5844960" cy="459720"/>
            <a:chOff x="1638360" y="3002040"/>
            <a:chExt cx="5844960" cy="459720"/>
          </a:xfrm>
        </p:grpSpPr>
        <p:sp>
          <p:nvSpPr>
            <p:cNvPr id="620" name="Text Box 66"/>
            <p:cNvSpPr/>
            <p:nvPr/>
          </p:nvSpPr>
          <p:spPr>
            <a:xfrm>
              <a:off x="1638360" y="30020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this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1" name="Text Box 67"/>
            <p:cNvSpPr/>
            <p:nvPr/>
          </p:nvSpPr>
          <p:spPr>
            <a:xfrm>
              <a:off x="2838240" y="30020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this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2" name="Text Box 68"/>
            <p:cNvSpPr/>
            <p:nvPr/>
          </p:nvSpPr>
          <p:spPr>
            <a:xfrm>
              <a:off x="4667040" y="30020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this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3" name="Text Box 69"/>
            <p:cNvSpPr/>
            <p:nvPr/>
          </p:nvSpPr>
          <p:spPr>
            <a:xfrm>
              <a:off x="6510240" y="30020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this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24" name="Group 79"/>
          <p:cNvGrpSpPr/>
          <p:nvPr/>
        </p:nvGrpSpPr>
        <p:grpSpPr>
          <a:xfrm>
            <a:off x="5556240" y="2247840"/>
            <a:ext cx="822240" cy="664920"/>
            <a:chOff x="5556240" y="2247840"/>
            <a:chExt cx="822240" cy="664920"/>
          </a:xfrm>
        </p:grpSpPr>
        <p:sp>
          <p:nvSpPr>
            <p:cNvPr id="625" name="Rectangle 74"/>
            <p:cNvSpPr/>
            <p:nvPr/>
          </p:nvSpPr>
          <p:spPr>
            <a:xfrm>
              <a:off x="5778360" y="2544480"/>
              <a:ext cx="38196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Text Box 75"/>
            <p:cNvSpPr/>
            <p:nvPr/>
          </p:nvSpPr>
          <p:spPr>
            <a:xfrm>
              <a:off x="5556240" y="2247840"/>
              <a:ext cx="82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thi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27" name="Group 89"/>
          <p:cNvGrpSpPr/>
          <p:nvPr/>
        </p:nvGrpSpPr>
        <p:grpSpPr>
          <a:xfrm>
            <a:off x="5514840" y="4317840"/>
            <a:ext cx="1701720" cy="443160"/>
            <a:chOff x="5514840" y="4317840"/>
            <a:chExt cx="1701720" cy="443160"/>
          </a:xfrm>
        </p:grpSpPr>
        <p:sp>
          <p:nvSpPr>
            <p:cNvPr id="628" name="Rectangle 81"/>
            <p:cNvSpPr/>
            <p:nvPr/>
          </p:nvSpPr>
          <p:spPr>
            <a:xfrm>
              <a:off x="6137280" y="434664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Text Box 82"/>
            <p:cNvSpPr/>
            <p:nvPr/>
          </p:nvSpPr>
          <p:spPr>
            <a:xfrm>
              <a:off x="5514840" y="4378320"/>
              <a:ext cx="82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Oval 83"/>
            <p:cNvSpPr/>
            <p:nvPr/>
          </p:nvSpPr>
          <p:spPr>
            <a:xfrm>
              <a:off x="6773760" y="4317840"/>
              <a:ext cx="442800" cy="44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Line 87"/>
            <p:cNvSpPr/>
            <p:nvPr/>
          </p:nvSpPr>
          <p:spPr>
            <a:xfrm>
              <a:off x="6330960" y="454644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2" name="Group 90"/>
          <p:cNvGrpSpPr/>
          <p:nvPr/>
        </p:nvGrpSpPr>
        <p:grpSpPr>
          <a:xfrm>
            <a:off x="5514840" y="4903920"/>
            <a:ext cx="2216160" cy="368280"/>
            <a:chOff x="5514840" y="4903920"/>
            <a:chExt cx="2216160" cy="368280"/>
          </a:xfrm>
        </p:grpSpPr>
        <p:sp>
          <p:nvSpPr>
            <p:cNvPr id="633" name="Oval 84"/>
            <p:cNvSpPr/>
            <p:nvPr/>
          </p:nvSpPr>
          <p:spPr>
            <a:xfrm>
              <a:off x="7429320" y="4945320"/>
              <a:ext cx="301680" cy="30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4" name="Rectangle 85"/>
            <p:cNvSpPr/>
            <p:nvPr/>
          </p:nvSpPr>
          <p:spPr>
            <a:xfrm>
              <a:off x="6137280" y="4903920"/>
              <a:ext cx="38232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Text Box 86"/>
            <p:cNvSpPr/>
            <p:nvPr/>
          </p:nvSpPr>
          <p:spPr>
            <a:xfrm>
              <a:off x="5514840" y="4935960"/>
              <a:ext cx="82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Line 88"/>
            <p:cNvSpPr/>
            <p:nvPr/>
          </p:nvSpPr>
          <p:spPr>
            <a:xfrm>
              <a:off x="6330960" y="508968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37" name="Freeform 91"/>
          <p:cNvSpPr/>
          <p:nvPr/>
        </p:nvSpPr>
        <p:spPr>
          <a:xfrm>
            <a:off x="5958000" y="2706840"/>
            <a:ext cx="2068560" cy="1752480"/>
          </a:xfrm>
          <a:custGeom>
            <a:avLst/>
            <a:gdLst>
              <a:gd name="textAreaLeft" fmla="*/ 0 w 2068560"/>
              <a:gd name="textAreaRight" fmla="*/ 2068560 w 20685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303" h="1104">
                <a:moveTo>
                  <a:pt x="0" y="15"/>
                </a:moveTo>
                <a:cubicBezTo>
                  <a:pt x="205" y="7"/>
                  <a:pt x="411" y="0"/>
                  <a:pt x="603" y="33"/>
                </a:cubicBezTo>
                <a:cubicBezTo>
                  <a:pt x="795" y="66"/>
                  <a:pt x="1038" y="127"/>
                  <a:pt x="1152" y="213"/>
                </a:cubicBezTo>
                <a:cubicBezTo>
                  <a:pt x="1266" y="299"/>
                  <a:pt x="1303" y="440"/>
                  <a:pt x="1287" y="546"/>
                </a:cubicBezTo>
                <a:cubicBezTo>
                  <a:pt x="1271" y="652"/>
                  <a:pt x="1131" y="759"/>
                  <a:pt x="1053" y="852"/>
                </a:cubicBezTo>
                <a:cubicBezTo>
                  <a:pt x="975" y="945"/>
                  <a:pt x="897" y="1024"/>
                  <a:pt x="819" y="110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Freeform 92"/>
          <p:cNvSpPr/>
          <p:nvPr/>
        </p:nvSpPr>
        <p:spPr>
          <a:xfrm>
            <a:off x="5986440" y="2587680"/>
            <a:ext cx="2352600" cy="2428920"/>
          </a:xfrm>
          <a:custGeom>
            <a:avLst/>
            <a:gdLst>
              <a:gd name="textAreaLeft" fmla="*/ 0 w 2352600"/>
              <a:gd name="textAreaRight" fmla="*/ 2352960 w 235260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1482" h="1530">
                <a:moveTo>
                  <a:pt x="0" y="90"/>
                </a:moveTo>
                <a:cubicBezTo>
                  <a:pt x="352" y="45"/>
                  <a:pt x="704" y="0"/>
                  <a:pt x="936" y="27"/>
                </a:cubicBezTo>
                <a:cubicBezTo>
                  <a:pt x="1168" y="54"/>
                  <a:pt x="1313" y="121"/>
                  <a:pt x="1395" y="252"/>
                </a:cubicBezTo>
                <a:cubicBezTo>
                  <a:pt x="1477" y="383"/>
                  <a:pt x="1482" y="597"/>
                  <a:pt x="1431" y="810"/>
                </a:cubicBezTo>
                <a:cubicBezTo>
                  <a:pt x="1380" y="1023"/>
                  <a:pt x="1234" y="1276"/>
                  <a:pt x="1089" y="153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Oval 93"/>
          <p:cNvSpPr/>
          <p:nvPr/>
        </p:nvSpPr>
        <p:spPr>
          <a:xfrm>
            <a:off x="2859120" y="4189320"/>
            <a:ext cx="671400" cy="60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Oval 95"/>
          <p:cNvSpPr/>
          <p:nvPr/>
        </p:nvSpPr>
        <p:spPr>
          <a:xfrm>
            <a:off x="2859120" y="4789440"/>
            <a:ext cx="671400" cy="60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AutoShape 96"/>
          <p:cNvSpPr/>
          <p:nvPr/>
        </p:nvSpPr>
        <p:spPr>
          <a:xfrm>
            <a:off x="5472000" y="830160"/>
            <a:ext cx="3417840" cy="1101960"/>
          </a:xfrm>
          <a:prstGeom prst="wedgeRoundRectCallout">
            <a:avLst>
              <a:gd name="adj1" fmla="val -34824"/>
              <a:gd name="adj2" fmla="val 7074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ป็นตัวแปรที่มีให้ใช้ใน</a:t>
            </a:r>
            <a:br>
              <a:rPr sz="1800"/>
            </a:b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</a:rPr>
              <a:t>อ้างอิงอ็อบเจกต์ที่ถูกเรียก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TextBox 40"/>
          <p:cNvSpPr/>
          <p:nvPr/>
        </p:nvSpPr>
        <p:spPr>
          <a:xfrm>
            <a:off x="2057400" y="5492880"/>
            <a:ext cx="515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สมือนกับว่ามีพารามิเตอร์ชื่อ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ีกตัวที่ระบบส่งไปให้เมท็อดโดยอัตโนมัติ ค่าของ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อตัวอ้างอิงอ็อบเจกต์หน้าเครื่องหมายจุ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500"/>
                            </p:stCondLst>
                            <p:childTnLst>
                              <p:par>
                                <p:cTn id="2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500"/>
                            </p:stCondLst>
                            <p:childTnLst>
                              <p:par>
                                <p:cTn id="2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กใช้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var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4360" y="838080"/>
            <a:ext cx="792000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มีตัวอ้างอิงอ็อบเจกต์นำหน้าจุ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เขียน แสดงว่าต้องการ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619200" y="1836720"/>
            <a:ext cx="7962840" cy="46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45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45 = d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s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Radians(45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Left(d4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Up(d4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Lef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U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-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5145120" y="1844640"/>
            <a:ext cx="3436920" cy="722520"/>
          </a:xfrm>
          <a:prstGeom prst="rect">
            <a:avLst/>
          </a:prstGeom>
          <a:solidFill>
            <a:srgbClr val="c8c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move45(2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3611520" y="3370320"/>
            <a:ext cx="3127320" cy="7239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veLeft(d4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veUp(d4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3611520" y="4664160"/>
            <a:ext cx="3324240" cy="385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+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3611520" y="5551560"/>
            <a:ext cx="3324240" cy="385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 + d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0" name="Group 17"/>
          <p:cNvGrpSpPr/>
          <p:nvPr/>
        </p:nvGrpSpPr>
        <p:grpSpPr>
          <a:xfrm>
            <a:off x="6808320" y="3601800"/>
            <a:ext cx="1787040" cy="1913400"/>
            <a:chOff x="6808320" y="3601800"/>
            <a:chExt cx="1787040" cy="1913400"/>
          </a:xfrm>
        </p:grpSpPr>
        <p:sp>
          <p:nvSpPr>
            <p:cNvPr id="651" name="TextBox 10"/>
            <p:cNvSpPr/>
            <p:nvPr/>
          </p:nvSpPr>
          <p:spPr>
            <a:xfrm>
              <a:off x="7049160" y="381312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Courier New"/>
                </a:rPr>
                <a:t>เขียนแบบเต็ม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52" name="Straight Arrow Connector 12"/>
            <p:cNvCxnSpPr/>
            <p:nvPr/>
          </p:nvCxnSpPr>
          <p:spPr>
            <a:xfrm flipH="1" flipV="1">
              <a:off x="6808320" y="3601800"/>
              <a:ext cx="366480" cy="2397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53" name="Straight Arrow Connector 14"/>
            <p:cNvCxnSpPr/>
            <p:nvPr/>
          </p:nvCxnSpPr>
          <p:spPr>
            <a:xfrm flipH="1">
              <a:off x="6906600" y="4206960"/>
              <a:ext cx="366480" cy="380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54" name="Straight Arrow Connector 16"/>
            <p:cNvCxnSpPr/>
            <p:nvPr/>
          </p:nvCxnSpPr>
          <p:spPr>
            <a:xfrm flipH="1">
              <a:off x="6990840" y="4249080"/>
              <a:ext cx="380520" cy="12664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พื่อขจัดความกำกว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208080" y="785880"/>
            <a:ext cx="7412040" cy="18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To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; y = y;  // 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ละ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คือตัวพารามิเตอร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1136520" y="2522520"/>
            <a:ext cx="6970680" cy="18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To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1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1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1; y = y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2082960" y="4321080"/>
            <a:ext cx="6710040" cy="18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To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x = x;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5510160" y="898560"/>
            <a:ext cx="3436920" cy="723960"/>
          </a:xfrm>
          <a:prstGeom prst="rect">
            <a:avLst/>
          </a:prstGeom>
          <a:solidFill>
            <a:srgbClr val="c8c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moveTo(100, 7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ass method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bject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609480" y="795240"/>
            <a:ext cx="7948800" cy="58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raw(DWindow w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BLACK, x, y, 2*r, 2*r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Ball createRandomBall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.r = random(10, 3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.dx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.dy = random(-5, 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random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) {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)((b - a + 1)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Angsana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4829040" y="3689280"/>
            <a:ext cx="2957760" cy="1457280"/>
          </a:xfrm>
          <a:prstGeom prst="wedgeRoundRectCallout">
            <a:avLst>
              <a:gd name="adj1" fmla="val -42967"/>
              <a:gd name="adj2" fmla="val 5827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ถ้าเป็นอ็อบเจกต์เมท็อด สองเมท็อดนี้ไม่ได้ใช้อะไรเลยของอ็อบเจกต์ที่ถูกเรียก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2009880" y="3247920"/>
            <a:ext cx="1095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2208240" y="5362560"/>
            <a:ext cx="1095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3070080" y="1214280"/>
            <a:ext cx="5480280" cy="897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     createRandom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 w 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268800" y="1676520"/>
            <a:ext cx="357120" cy="30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4611600" y="1305000"/>
            <a:ext cx="843120" cy="30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Ball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5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8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4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9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2" dur="500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5" dur="500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0" dur="500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3" dur="500"/>
                                        <p:tgtEl>
                                          <p:spTgt spid="6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6" dur="500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9" dur="500"/>
                                        <p:tgtEl>
                                          <p:spTgt spid="6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2" dur="500"/>
                                        <p:tgtEl>
                                          <p:spTgt spid="6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5" dur="500"/>
                                        <p:tgtEl>
                                          <p:spTgt spid="6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8" dur="500"/>
                                        <p:tgtEl>
                                          <p:spTgt spid="6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3" dur="500"/>
                                        <p:tgtEl>
                                          <p:spTgt spid="6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8" dur="500"/>
                                        <p:tgtEl>
                                          <p:spTgt spid="6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1" dur="500"/>
                                        <p:tgtEl>
                                          <p:spTgt spid="6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6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2465280" y="565200"/>
            <a:ext cx="4381560" cy="1491840"/>
            <a:chOff x="2465280" y="565200"/>
            <a:chExt cx="4381560" cy="1491840"/>
          </a:xfrm>
        </p:grpSpPr>
        <p:graphicFrame>
          <p:nvGraphicFramePr>
            <p:cNvPr id="669" name="Object 3"/>
            <p:cNvGraphicFramePr/>
            <p:nvPr/>
          </p:nvGraphicFramePr>
          <p:xfrm>
            <a:off x="2465280" y="565200"/>
            <a:ext cx="4381560" cy="8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5280" y="565200"/>
                      <a:ext cx="438156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1" name="Text Box 4"/>
            <p:cNvSpPr/>
            <p:nvPr/>
          </p:nvSpPr>
          <p:spPr>
            <a:xfrm>
              <a:off x="2682720" y="622440"/>
              <a:ext cx="3946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0000"/>
                  </a:solidFill>
                  <a:latin typeface="Tahoma"/>
                </a:rPr>
                <a:t>สาธิตการเขียนโปรแกรม</a:t>
              </a:r>
              <a:endParaRPr b="0" lang="en-US" sz="4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72" name="Text Box 5"/>
          <p:cNvSpPr/>
          <p:nvPr/>
        </p:nvSpPr>
        <p:spPr>
          <a:xfrm>
            <a:off x="2627280" y="1806480"/>
            <a:ext cx="40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Tahoma"/>
              </a:rPr>
              <a:t>คลาส 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Rational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004760" y="2951280"/>
            <a:ext cx="727740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(1, 6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(1, 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c = a.add(b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a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+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2687760" y="4533840"/>
            <a:ext cx="3909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/6 + 1/3 = 1/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2273" dur="indefinite" restart="never" nodeType="tmRoot">
          <p:childTnLst>
            <p:seq>
              <p:cTn id="2274" dur="indefinite" nodeType="mainSeq">
                <p:childTnLst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อ้างอิ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858960" y="1035000"/>
            <a:ext cx="742320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 multiply(Rational r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 * r.nu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           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* r.d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squa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multiply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1890720" y="4575240"/>
            <a:ext cx="53751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(1, 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b = a.multiply(a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 c = a.squar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9" name="Group 9"/>
          <p:cNvGrpSpPr/>
          <p:nvPr/>
        </p:nvGrpSpPr>
        <p:grpSpPr>
          <a:xfrm>
            <a:off x="3062160" y="4090680"/>
            <a:ext cx="2060640" cy="1481040"/>
            <a:chOff x="3062160" y="4090680"/>
            <a:chExt cx="2060640" cy="1481040"/>
          </a:xfrm>
        </p:grpSpPr>
        <p:sp>
          <p:nvSpPr>
            <p:cNvPr id="680" name="Oval 6"/>
            <p:cNvSpPr/>
            <p:nvPr/>
          </p:nvSpPr>
          <p:spPr>
            <a:xfrm>
              <a:off x="4005360" y="5234760"/>
              <a:ext cx="422280" cy="3369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1" name="Line 7"/>
            <p:cNvSpPr/>
            <p:nvPr/>
          </p:nvSpPr>
          <p:spPr>
            <a:xfrm flipH="1" flipV="1">
              <a:off x="3062160" y="4090680"/>
              <a:ext cx="1030320" cy="117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Line 8"/>
            <p:cNvSpPr/>
            <p:nvPr/>
          </p:nvSpPr>
          <p:spPr>
            <a:xfrm flipV="1">
              <a:off x="4267080" y="4130640"/>
              <a:ext cx="855720" cy="1117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83" name="Text Box 10"/>
          <p:cNvSpPr/>
          <p:nvPr/>
        </p:nvSpPr>
        <p:spPr>
          <a:xfrm>
            <a:off x="1414080" y="5678640"/>
            <a:ext cx="63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ทนตัวแปรอ้างอิงอ็อบเจกต์ที่ถูกเรียกเมท็อ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4632480" y="2573280"/>
            <a:ext cx="27208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 * r.nu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 * r.d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5" name="Group 14"/>
          <p:cNvGrpSpPr/>
          <p:nvPr/>
        </p:nvGrpSpPr>
        <p:grpSpPr>
          <a:xfrm>
            <a:off x="4600440" y="1220760"/>
            <a:ext cx="4024440" cy="1725480"/>
            <a:chOff x="4600440" y="1220760"/>
            <a:chExt cx="4024440" cy="1725480"/>
          </a:xfrm>
        </p:grpSpPr>
        <p:sp>
          <p:nvSpPr>
            <p:cNvPr id="686" name="AutoShape 11"/>
            <p:cNvSpPr/>
            <p:nvPr/>
          </p:nvSpPr>
          <p:spPr>
            <a:xfrm>
              <a:off x="4600440" y="2568600"/>
              <a:ext cx="2351160" cy="377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Text Box 12"/>
            <p:cNvSpPr/>
            <p:nvPr/>
          </p:nvSpPr>
          <p:spPr>
            <a:xfrm>
              <a:off x="4756320" y="1220760"/>
              <a:ext cx="386856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เศษของอ็อบเจกต์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"</a:t>
              </a:r>
              <a:r>
                <a:rPr b="0" lang="th-TH" sz="2400" spc="-1" strike="noStrike">
                  <a:solidFill>
                    <a:srgbClr val="ff0000"/>
                  </a:solidFill>
                  <a:latin typeface="Tahoma"/>
                </a:rPr>
                <a:t>นี้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"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คูณกับเศษของอ็องเจกต์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6937200" y="2046240"/>
              <a:ext cx="784440" cy="72540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94" h="457">
                  <a:moveTo>
                    <a:pt x="494" y="0"/>
                  </a:moveTo>
                  <a:cubicBezTo>
                    <a:pt x="489" y="149"/>
                    <a:pt x="485" y="299"/>
                    <a:pt x="403" y="375"/>
                  </a:cubicBezTo>
                  <a:cubicBezTo>
                    <a:pt x="321" y="451"/>
                    <a:pt x="160" y="454"/>
                    <a:pt x="0" y="45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9" name="Group 19"/>
          <p:cNvGrpSpPr/>
          <p:nvPr/>
        </p:nvGrpSpPr>
        <p:grpSpPr>
          <a:xfrm>
            <a:off x="2975040" y="1335240"/>
            <a:ext cx="2223720" cy="1946160"/>
            <a:chOff x="2975040" y="1335240"/>
            <a:chExt cx="2223720" cy="1946160"/>
          </a:xfrm>
        </p:grpSpPr>
        <p:sp>
          <p:nvSpPr>
            <p:cNvPr id="690" name="AutoShape 16"/>
            <p:cNvSpPr/>
            <p:nvPr/>
          </p:nvSpPr>
          <p:spPr>
            <a:xfrm>
              <a:off x="2975040" y="1335240"/>
              <a:ext cx="596880" cy="755640"/>
            </a:xfrm>
            <a:custGeom>
              <a:avLst/>
              <a:gdLst>
                <a:gd name="textAreaLeft" fmla="*/ 28800 w 596880"/>
                <a:gd name="textAreaRight" fmla="*/ 568080 w 596880"/>
                <a:gd name="textAreaTop" fmla="*/ 28800 h 755640"/>
                <a:gd name="textAreaBottom" fmla="*/ 726840 h 755640"/>
              </a:gdLst>
              <a:ahLst/>
              <a:rect l="textAreaLeft" t="textAreaTop" r="textAreaRight" b="textAreaBottom"/>
              <a:pathLst>
                <a:path w="21600" h="27342">
                  <a:moveTo>
                    <a:pt x="3600" y="0"/>
                  </a:moveTo>
                  <a:arcTo wR="3600" hR="3600" stAng="16200000" swAng="-5400000"/>
                  <a:lnTo>
                    <a:pt x="0" y="23742"/>
                  </a:lnTo>
                  <a:arcTo wR="3600" hR="3600" stAng="10800000" swAng="-5400000"/>
                  <a:lnTo>
                    <a:pt x="18000" y="273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AutoShape 17"/>
            <p:cNvSpPr/>
            <p:nvPr/>
          </p:nvSpPr>
          <p:spPr>
            <a:xfrm>
              <a:off x="4601880" y="2525760"/>
              <a:ext cx="596880" cy="755640"/>
            </a:xfrm>
            <a:custGeom>
              <a:avLst/>
              <a:gdLst>
                <a:gd name="textAreaLeft" fmla="*/ 28800 w 596880"/>
                <a:gd name="textAreaRight" fmla="*/ 568080 w 596880"/>
                <a:gd name="textAreaTop" fmla="*/ 28800 h 755640"/>
                <a:gd name="textAreaBottom" fmla="*/ 726840 h 755640"/>
              </a:gdLst>
              <a:ahLst/>
              <a:rect l="textAreaLeft" t="textAreaTop" r="textAreaRight" b="textAreaBottom"/>
              <a:pathLst>
                <a:path w="21600" h="27342">
                  <a:moveTo>
                    <a:pt x="3600" y="0"/>
                  </a:moveTo>
                  <a:arcTo wR="3600" hR="3600" stAng="16200000" swAng="-5400000"/>
                  <a:lnTo>
                    <a:pt x="0" y="23742"/>
                  </a:lnTo>
                  <a:arcTo wR="3600" hR="3600" stAng="10800000" swAng="-5400000"/>
                  <a:lnTo>
                    <a:pt x="18000" y="273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Line 18"/>
            <p:cNvSpPr/>
            <p:nvPr/>
          </p:nvSpPr>
          <p:spPr>
            <a:xfrm flipH="1" flipV="1">
              <a:off x="3571560" y="1871280"/>
              <a:ext cx="1014840" cy="770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3" name="Group 26"/>
          <p:cNvGrpSpPr/>
          <p:nvPr/>
        </p:nvGrpSpPr>
        <p:grpSpPr>
          <a:xfrm>
            <a:off x="3992400" y="2889360"/>
            <a:ext cx="2554560" cy="2367000"/>
            <a:chOff x="3992400" y="2889360"/>
            <a:chExt cx="2554560" cy="2367000"/>
          </a:xfrm>
        </p:grpSpPr>
        <p:sp>
          <p:nvSpPr>
            <p:cNvPr id="694" name="Oval 20"/>
            <p:cNvSpPr/>
            <p:nvPr/>
          </p:nvSpPr>
          <p:spPr>
            <a:xfrm>
              <a:off x="3992400" y="4905360"/>
              <a:ext cx="420840" cy="334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Oval 21"/>
            <p:cNvSpPr/>
            <p:nvPr/>
          </p:nvSpPr>
          <p:spPr>
            <a:xfrm>
              <a:off x="5691240" y="4921200"/>
              <a:ext cx="420480" cy="335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Oval 22"/>
            <p:cNvSpPr/>
            <p:nvPr/>
          </p:nvSpPr>
          <p:spPr>
            <a:xfrm>
              <a:off x="6126120" y="2903400"/>
              <a:ext cx="420840" cy="335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Oval 23"/>
            <p:cNvSpPr/>
            <p:nvPr/>
          </p:nvSpPr>
          <p:spPr>
            <a:xfrm>
              <a:off x="4630680" y="2889360"/>
              <a:ext cx="812880" cy="334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Line 24"/>
            <p:cNvSpPr/>
            <p:nvPr/>
          </p:nvSpPr>
          <p:spPr>
            <a:xfrm flipV="1">
              <a:off x="5951520" y="3265200"/>
              <a:ext cx="376200" cy="165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Line 25"/>
            <p:cNvSpPr/>
            <p:nvPr/>
          </p:nvSpPr>
          <p:spPr>
            <a:xfrm flipV="1">
              <a:off x="4267080" y="3222720"/>
              <a:ext cx="609840" cy="168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p:timing>
    <p:tnLst>
      <p:par>
        <p:cTn id="2305" dur="indefinite" restart="never" nodeType="tmRoot">
          <p:childTnLst>
            <p:seq>
              <p:cTn id="2306" dur="indefinite" nodeType="mainSeq">
                <p:childTnLst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5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3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7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2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6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0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500"/>
                            </p:stCondLst>
                            <p:childTnLst>
                              <p:par>
                                <p:cTn id="2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0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9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8" dur="50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3" dur="500"/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6" dur="500"/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mplex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จำนวนเชิงซ้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7404120" y="2087640"/>
          <a:ext cx="1143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04120" y="2087640"/>
                    <a:ext cx="1143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96960" y="106020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วาไม่มีจำนวนเชิงซ้อนให้ใช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เขียนเ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460520" y="3713040"/>
            <a:ext cx="62960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l pa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maginary par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 =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 = i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05" name="Object 10"/>
          <p:cNvGraphicFramePr/>
          <p:nvPr/>
        </p:nvGraphicFramePr>
        <p:xfrm>
          <a:off x="2284560" y="2625840"/>
          <a:ext cx="4502160" cy="90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4560" y="2625840"/>
                    <a:ext cx="45021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Text Box 11"/>
          <p:cNvSpPr/>
          <p:nvPr/>
        </p:nvSpPr>
        <p:spPr>
          <a:xfrm>
            <a:off x="1830240" y="1725480"/>
            <a:ext cx="545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=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=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+ad)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8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2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6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0" dur="500"/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5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"/>
                            </p:stCondLst>
                            <p:childTnLst>
                              <p:par>
                                <p:cTn id="2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4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2" dur="5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6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2465280" y="565200"/>
            <a:ext cx="4381560" cy="1491840"/>
            <a:chOff x="2465280" y="565200"/>
            <a:chExt cx="4381560" cy="1491840"/>
          </a:xfrm>
        </p:grpSpPr>
        <p:graphicFrame>
          <p:nvGraphicFramePr>
            <p:cNvPr id="709" name="Object 3"/>
            <p:cNvGraphicFramePr/>
            <p:nvPr/>
          </p:nvGraphicFramePr>
          <p:xfrm>
            <a:off x="2465280" y="565200"/>
            <a:ext cx="4381560" cy="8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5280" y="565200"/>
                      <a:ext cx="438156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1" name="Text Box 4"/>
            <p:cNvSpPr/>
            <p:nvPr/>
          </p:nvSpPr>
          <p:spPr>
            <a:xfrm>
              <a:off x="2682720" y="622440"/>
              <a:ext cx="3946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0000"/>
                  </a:solidFill>
                  <a:latin typeface="Tahoma"/>
                </a:rPr>
                <a:t>สาธิตการเขียนโปรแกรม</a:t>
              </a:r>
              <a:endParaRPr b="0" lang="en-US" sz="4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2" name="Text Box 5"/>
          <p:cNvSpPr/>
          <p:nvPr/>
        </p:nvSpPr>
        <p:spPr>
          <a:xfrm>
            <a:off x="2627280" y="1806480"/>
            <a:ext cx="40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Tahoma"/>
              </a:rPr>
              <a:t>คลาส 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mplex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004760" y="2951280"/>
            <a:ext cx="7277400" cy="141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(2, 6);  // (2+6i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(1, 3);  // (1+3i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c = a.add(b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a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+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 +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c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2687760" y="4533840"/>
            <a:ext cx="39099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2+6i) + (1+3i) = (3+9i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7" dur="indefinite" restart="never" nodeType="tmRoot">
          <p:childTnLst>
            <p:seq>
              <p:cTn id="2478" dur="indefinite" nodeType="mainSeq">
                <p:childTnLst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8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8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3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3"/>
          <p:cNvSpPr/>
          <p:nvPr/>
        </p:nvSpPr>
        <p:spPr>
          <a:xfrm>
            <a:off x="858960" y="1035000"/>
            <a:ext cx="7423200" cy="378144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Comple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y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Comple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z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Comple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z.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– im*z.i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re*z.i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z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Comple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squa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multiply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7" name="Group 48"/>
          <p:cNvGrpSpPr/>
          <p:nvPr/>
        </p:nvGrpSpPr>
        <p:grpSpPr>
          <a:xfrm>
            <a:off x="3009960" y="1365120"/>
            <a:ext cx="2301840" cy="2176560"/>
            <a:chOff x="3009960" y="1365120"/>
            <a:chExt cx="2301840" cy="2176560"/>
          </a:xfrm>
        </p:grpSpPr>
        <p:sp>
          <p:nvSpPr>
            <p:cNvPr id="718" name="AutoShape 49"/>
            <p:cNvSpPr/>
            <p:nvPr/>
          </p:nvSpPr>
          <p:spPr>
            <a:xfrm>
              <a:off x="3338640" y="2889360"/>
              <a:ext cx="420480" cy="652320"/>
            </a:xfrm>
            <a:custGeom>
              <a:avLst/>
              <a:gdLst>
                <a:gd name="textAreaLeft" fmla="*/ 20520 w 420480"/>
                <a:gd name="textAreaRight" fmla="*/ 399960 w 420480"/>
                <a:gd name="textAreaTop" fmla="*/ 20520 h 652320"/>
                <a:gd name="textAreaBottom" fmla="*/ 631800 h 652320"/>
              </a:gdLst>
              <a:ahLst/>
              <a:rect l="textAreaLeft" t="textAreaTop" r="textAreaRight" b="textAreaBottom"/>
              <a:pathLst>
                <a:path w="21600" h="33499">
                  <a:moveTo>
                    <a:pt x="3600" y="0"/>
                  </a:moveTo>
                  <a:arcTo wR="3600" hR="3600" stAng="16200000" swAng="-5400000"/>
                  <a:lnTo>
                    <a:pt x="0" y="29899"/>
                  </a:lnTo>
                  <a:arcTo wR="3600" hR="3600" stAng="10800000" swAng="-5400000"/>
                  <a:lnTo>
                    <a:pt x="18000" y="33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9" name="AutoShape 50"/>
            <p:cNvSpPr/>
            <p:nvPr/>
          </p:nvSpPr>
          <p:spPr>
            <a:xfrm>
              <a:off x="4890960" y="2889360"/>
              <a:ext cx="420840" cy="652320"/>
            </a:xfrm>
            <a:custGeom>
              <a:avLst/>
              <a:gdLst>
                <a:gd name="textAreaLeft" fmla="*/ 20520 w 420840"/>
                <a:gd name="textAreaRight" fmla="*/ 400320 w 420840"/>
                <a:gd name="textAreaTop" fmla="*/ 20520 h 652320"/>
                <a:gd name="textAreaBottom" fmla="*/ 631800 h 652320"/>
              </a:gdLst>
              <a:ahLst/>
              <a:rect l="textAreaLeft" t="textAreaTop" r="textAreaRight" b="textAreaBottom"/>
              <a:pathLst>
                <a:path w="21600" h="33471">
                  <a:moveTo>
                    <a:pt x="3600" y="0"/>
                  </a:moveTo>
                  <a:arcTo wR="3600" hR="3600" stAng="16200000" swAng="-5400000"/>
                  <a:lnTo>
                    <a:pt x="0" y="29871"/>
                  </a:lnTo>
                  <a:arcTo wR="3600" hR="3600" stAng="10800000" swAng="-5400000"/>
                  <a:lnTo>
                    <a:pt x="18000" y="334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0" name="AutoShape 51"/>
            <p:cNvSpPr/>
            <p:nvPr/>
          </p:nvSpPr>
          <p:spPr>
            <a:xfrm>
              <a:off x="3513240" y="1365120"/>
              <a:ext cx="420480" cy="319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1" name="AutoShape 52"/>
            <p:cNvSpPr/>
            <p:nvPr/>
          </p:nvSpPr>
          <p:spPr>
            <a:xfrm>
              <a:off x="3513240" y="1727280"/>
              <a:ext cx="420480" cy="2905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2" name="Freeform 53"/>
            <p:cNvSpPr/>
            <p:nvPr/>
          </p:nvSpPr>
          <p:spPr>
            <a:xfrm>
              <a:off x="3919680" y="1855800"/>
              <a:ext cx="1117440" cy="103176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997" h="650">
                  <a:moveTo>
                    <a:pt x="997" y="650"/>
                  </a:moveTo>
                  <a:cubicBezTo>
                    <a:pt x="933" y="473"/>
                    <a:pt x="870" y="297"/>
                    <a:pt x="750" y="193"/>
                  </a:cubicBezTo>
                  <a:cubicBezTo>
                    <a:pt x="630" y="89"/>
                    <a:pt x="399" y="58"/>
                    <a:pt x="274" y="29"/>
                  </a:cubicBezTo>
                  <a:cubicBezTo>
                    <a:pt x="149" y="0"/>
                    <a:pt x="74" y="10"/>
                    <a:pt x="0" y="2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Freeform 54"/>
            <p:cNvSpPr/>
            <p:nvPr/>
          </p:nvSpPr>
          <p:spPr>
            <a:xfrm>
              <a:off x="3009960" y="1481040"/>
              <a:ext cx="503280" cy="14367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436760"/>
                <a:gd name="textAreaBottom" fmla="*/ 1437120 h 1436760"/>
              </a:gdLst>
              <a:ahLst/>
              <a:rect l="textAreaLeft" t="textAreaTop" r="textAreaRight" b="textAreaBottom"/>
              <a:pathLst>
                <a:path w="317" h="905">
                  <a:moveTo>
                    <a:pt x="207" y="905"/>
                  </a:moveTo>
                  <a:cubicBezTo>
                    <a:pt x="127" y="774"/>
                    <a:pt x="48" y="643"/>
                    <a:pt x="24" y="521"/>
                  </a:cubicBezTo>
                  <a:cubicBezTo>
                    <a:pt x="0" y="399"/>
                    <a:pt x="12" y="260"/>
                    <a:pt x="61" y="173"/>
                  </a:cubicBezTo>
                  <a:cubicBezTo>
                    <a:pt x="110" y="86"/>
                    <a:pt x="213" y="43"/>
                    <a:pt x="3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อ้างอิ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890720" y="4924440"/>
            <a:ext cx="53751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(1, 3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b = 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multip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Compl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 a.square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4699080" y="1181160"/>
            <a:ext cx="3465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ทนตัวแปรอ้างอิง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อ็อบเจกต์ที่ถูกเรียกเมท็อ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3313080" y="2889360"/>
            <a:ext cx="4767120" cy="733320"/>
          </a:xfrm>
          <a:prstGeom prst="rect">
            <a:avLst/>
          </a:prstGeom>
          <a:solidFill>
            <a:srgbClr val="fa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e*z.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–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im*z.i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.i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+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im*z.r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8" name="Group 39"/>
          <p:cNvGrpSpPr/>
          <p:nvPr/>
        </p:nvGrpSpPr>
        <p:grpSpPr>
          <a:xfrm>
            <a:off x="3352680" y="2873520"/>
            <a:ext cx="3005280" cy="2773080"/>
            <a:chOff x="3352680" y="2873520"/>
            <a:chExt cx="3005280" cy="2773080"/>
          </a:xfrm>
        </p:grpSpPr>
        <p:sp>
          <p:nvSpPr>
            <p:cNvPr id="729" name="Oval 33"/>
            <p:cNvSpPr/>
            <p:nvPr/>
          </p:nvSpPr>
          <p:spPr>
            <a:xfrm>
              <a:off x="3844800" y="5224320"/>
              <a:ext cx="393840" cy="42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0" name="Line 35"/>
            <p:cNvSpPr/>
            <p:nvPr/>
          </p:nvSpPr>
          <p:spPr>
            <a:xfrm flipH="1" flipV="1">
              <a:off x="3716280" y="3527280"/>
              <a:ext cx="347760" cy="169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1" name="Line 36"/>
            <p:cNvSpPr/>
            <p:nvPr/>
          </p:nvSpPr>
          <p:spPr>
            <a:xfrm flipV="1">
              <a:off x="4035600" y="3555720"/>
              <a:ext cx="1885680" cy="165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2" name="AutoShape 37"/>
            <p:cNvSpPr/>
            <p:nvPr/>
          </p:nvSpPr>
          <p:spPr>
            <a:xfrm>
              <a:off x="3352680" y="2873520"/>
              <a:ext cx="711360" cy="6681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AutoShape 38"/>
            <p:cNvSpPr/>
            <p:nvPr/>
          </p:nvSpPr>
          <p:spPr>
            <a:xfrm>
              <a:off x="5646600" y="2873520"/>
              <a:ext cx="711360" cy="6681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4" name="Group 43"/>
          <p:cNvGrpSpPr/>
          <p:nvPr/>
        </p:nvGrpSpPr>
        <p:grpSpPr>
          <a:xfrm>
            <a:off x="5543640" y="2263680"/>
            <a:ext cx="1101600" cy="3382920"/>
            <a:chOff x="5543640" y="2263680"/>
            <a:chExt cx="1101600" cy="3382920"/>
          </a:xfrm>
        </p:grpSpPr>
        <p:sp>
          <p:nvSpPr>
            <p:cNvPr id="735" name="Oval 34"/>
            <p:cNvSpPr/>
            <p:nvPr/>
          </p:nvSpPr>
          <p:spPr>
            <a:xfrm>
              <a:off x="5543640" y="5224320"/>
              <a:ext cx="393480" cy="42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Oval 40"/>
            <p:cNvSpPr/>
            <p:nvPr/>
          </p:nvSpPr>
          <p:spPr>
            <a:xfrm>
              <a:off x="6037200" y="2263680"/>
              <a:ext cx="393840" cy="42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7" name="Freeform 42"/>
            <p:cNvSpPr/>
            <p:nvPr/>
          </p:nvSpPr>
          <p:spPr>
            <a:xfrm>
              <a:off x="5762520" y="2627280"/>
              <a:ext cx="882720" cy="261288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612880"/>
                <a:gd name="textAreaBottom" fmla="*/ 2613240 h 2612880"/>
              </a:gdLst>
              <a:ahLst/>
              <a:rect l="textAreaLeft" t="textAreaTop" r="textAreaRight" b="textAreaBottom"/>
              <a:pathLst>
                <a:path w="556" h="1646">
                  <a:moveTo>
                    <a:pt x="0" y="1646"/>
                  </a:moveTo>
                  <a:cubicBezTo>
                    <a:pt x="197" y="1375"/>
                    <a:pt x="394" y="1104"/>
                    <a:pt x="475" y="878"/>
                  </a:cubicBezTo>
                  <a:cubicBezTo>
                    <a:pt x="556" y="652"/>
                    <a:pt x="499" y="438"/>
                    <a:pt x="484" y="292"/>
                  </a:cubicBezTo>
                  <a:cubicBezTo>
                    <a:pt x="469" y="146"/>
                    <a:pt x="426" y="73"/>
                    <a:pt x="38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8" name="Group 44"/>
          <p:cNvGrpSpPr/>
          <p:nvPr/>
        </p:nvGrpSpPr>
        <p:grpSpPr>
          <a:xfrm>
            <a:off x="2890800" y="4404960"/>
            <a:ext cx="2060640" cy="1481040"/>
            <a:chOff x="2890800" y="4404960"/>
            <a:chExt cx="2060640" cy="1481040"/>
          </a:xfrm>
        </p:grpSpPr>
        <p:sp>
          <p:nvSpPr>
            <p:cNvPr id="739" name="Oval 45"/>
            <p:cNvSpPr/>
            <p:nvPr/>
          </p:nvSpPr>
          <p:spPr>
            <a:xfrm>
              <a:off x="3834000" y="5549040"/>
              <a:ext cx="422280" cy="3369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0" name="Line 46"/>
            <p:cNvSpPr/>
            <p:nvPr/>
          </p:nvSpPr>
          <p:spPr>
            <a:xfrm flipH="1" flipV="1">
              <a:off x="2890800" y="4404960"/>
              <a:ext cx="1030320" cy="117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1" name="Line 47"/>
            <p:cNvSpPr/>
            <p:nvPr/>
          </p:nvSpPr>
          <p:spPr>
            <a:xfrm flipV="1">
              <a:off x="4095720" y="4444920"/>
              <a:ext cx="855720" cy="1117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"/>
                            </p:stCondLst>
                            <p:childTnLst>
                              <p:par>
                                <p:cTn id="2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7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1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6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500"/>
                            </p:stCondLst>
                            <p:childTnLst>
                              <p:par>
                                <p:cTn id="2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0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7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8" dur="500"/>
                                        <p:tgtEl>
                                          <p:spTgt spid="7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2" dur="500"/>
                                        <p:tgtEl>
                                          <p:spTgt spid="7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8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5" dur="500"/>
                                        <p:tgtEl>
                                          <p:spTgt spid="7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500"/>
                            </p:stCondLst>
                            <p:childTnLst>
                              <p:par>
                                <p:cTn id="2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9" dur="500"/>
                                        <p:tgtEl>
                                          <p:spTgt spid="7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3" dur="500"/>
                                        <p:tgtEl>
                                          <p:spTgt spid="7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743" name="Object 4"/>
          <p:cNvGraphicFramePr/>
          <p:nvPr/>
        </p:nvGraphicFramePr>
        <p:xfrm>
          <a:off x="2448000" y="3397320"/>
          <a:ext cx="27255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3397320"/>
                    <a:ext cx="27255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60160" y="960480"/>
            <a:ext cx="80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หารากของสมการ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x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อนุพันธ์เตรียมไว้ก่อ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ิ่มด้วยการให้ค่าเริ่มต้น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นว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 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นคำนวณจน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ลี่ยนแปลงน้อยมาก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9" dur="indefinite" restart="never" nodeType="tmRoot">
          <p:childTnLst>
            <p:seq>
              <p:cTn id="2620" dur="indefinite" nodeType="mainSeq">
                <p:childTnLst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5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0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500"/>
                            </p:stCondLst>
                            <p:childTnLst>
                              <p:par>
                                <p:cTn id="2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270160" y="1155600"/>
            <a:ext cx="4546440" cy="53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คลาสที่เป็นประเภทข้อมู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Ba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698920" y="1555920"/>
            <a:ext cx="284616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ข้อมูลต่าง ๆ ของลูกบอล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698920" y="2625840"/>
            <a:ext cx="36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ิธีตั้งลักษณะลูกบอลตอนเริ่มต้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98920" y="3697200"/>
            <a:ext cx="360360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บริการต่าง ๆ ที่ลูกบอลมีให้ใช้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698920" y="1541520"/>
            <a:ext cx="2846160" cy="46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698920" y="2611440"/>
            <a:ext cx="3603600" cy="46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สร้าง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698920" y="3683160"/>
            <a:ext cx="3603600" cy="45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มท็อดประจำอ็อบเจกต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621880" y="196200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variab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17560" y="303372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615400" y="410544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method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2698920" y="4782960"/>
            <a:ext cx="2331720" cy="42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2625840" y="51595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variabl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2684520" y="5583240"/>
            <a:ext cx="2332080" cy="42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เมท็อดประจำคลาส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609640" y="595944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metho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57720" y="4714920"/>
            <a:ext cx="1506960" cy="1371600"/>
            <a:chOff x="5157720" y="4714920"/>
            <a:chExt cx="1506960" cy="1371600"/>
          </a:xfrm>
        </p:grpSpPr>
        <p:sp>
          <p:nvSpPr>
            <p:cNvPr id="121" name="Text Box 24"/>
            <p:cNvSpPr/>
            <p:nvPr/>
          </p:nvSpPr>
          <p:spPr>
            <a:xfrm>
              <a:off x="5552640" y="501660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Courier New"/>
                </a:rPr>
                <a:t>มีหรือ</a:t>
              </a:r>
              <a:br>
                <a:rPr sz="2400"/>
              </a:br>
              <a:r>
                <a:rPr b="0" lang="th-TH" sz="2400" spc="-1" strike="noStrike">
                  <a:solidFill>
                    <a:srgbClr val="000000"/>
                  </a:solidFill>
                  <a:latin typeface="Courier New"/>
                </a:rPr>
                <a:t>ไม่มีก็ได้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" name="AutoShape 25"/>
            <p:cNvSpPr/>
            <p:nvPr/>
          </p:nvSpPr>
          <p:spPr>
            <a:xfrm>
              <a:off x="5157720" y="4714920"/>
              <a:ext cx="343080" cy="1371600"/>
            </a:xfrm>
            <a:custGeom>
              <a:avLst/>
              <a:gdLst>
                <a:gd name="textAreaLeft" fmla="*/ 0 w 343080"/>
                <a:gd name="textAreaRight" fmla="*/ 123840 w 3430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3" name="AutoShape 27"/>
          <p:cNvSpPr/>
          <p:nvPr/>
        </p:nvSpPr>
        <p:spPr>
          <a:xfrm>
            <a:off x="1641600" y="4586400"/>
            <a:ext cx="5800680" cy="17859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4" name="Picture 28" descr="bball"/>
          <p:cNvPicPr/>
          <p:nvPr/>
        </p:nvPicPr>
        <p:blipFill>
          <a:blip r:embed="rId1"/>
          <a:stretch/>
        </p:blipFill>
        <p:spPr>
          <a:xfrm>
            <a:off x="6246720" y="5200560"/>
            <a:ext cx="528840" cy="528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9"/>
          <p:cNvSpPr/>
          <p:nvPr/>
        </p:nvSpPr>
        <p:spPr>
          <a:xfrm>
            <a:off x="2408400" y="52452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1 = new Ball(...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2422440" y="58165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 b2 = new Ball(...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7" name="Picture 31" descr="fball"/>
          <p:cNvPicPr/>
          <p:nvPr/>
        </p:nvPicPr>
        <p:blipFill>
          <a:blip r:embed="rId2"/>
          <a:stretch/>
        </p:blipFill>
        <p:spPr>
          <a:xfrm>
            <a:off x="6222960" y="5743440"/>
            <a:ext cx="614520" cy="614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2"/>
          <p:cNvSpPr/>
          <p:nvPr/>
        </p:nvSpPr>
        <p:spPr>
          <a:xfrm>
            <a:off x="2340000" y="4641840"/>
            <a:ext cx="4403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ขียนให้ผู้อื่นสร้างข้อมูลประเภทนี้ไปใช้งาน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747" name="Object 31"/>
          <p:cNvGraphicFramePr/>
          <p:nvPr/>
        </p:nvGraphicFramePr>
        <p:xfrm>
          <a:off x="5853240" y="1992240"/>
          <a:ext cx="30272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992240"/>
                    <a:ext cx="30272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Line 9"/>
          <p:cNvSpPr/>
          <p:nvPr/>
        </p:nvSpPr>
        <p:spPr>
          <a:xfrm flipV="1">
            <a:off x="4562640" y="2063880"/>
            <a:ext cx="1001520" cy="2774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0" name="Group 34"/>
          <p:cNvGrpSpPr/>
          <p:nvPr/>
        </p:nvGrpSpPr>
        <p:grpSpPr>
          <a:xfrm>
            <a:off x="1662120" y="1314360"/>
            <a:ext cx="6021360" cy="4125600"/>
            <a:chOff x="1662120" y="1314360"/>
            <a:chExt cx="6021360" cy="4125600"/>
          </a:xfrm>
        </p:grpSpPr>
        <p:sp>
          <p:nvSpPr>
            <p:cNvPr id="751" name="Line 6"/>
            <p:cNvSpPr/>
            <p:nvPr/>
          </p:nvSpPr>
          <p:spPr>
            <a:xfrm flipV="1">
              <a:off x="2274840" y="1501560"/>
              <a:ext cx="0" cy="390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2" name="Line 7"/>
            <p:cNvSpPr/>
            <p:nvPr/>
          </p:nvSpPr>
          <p:spPr>
            <a:xfrm>
              <a:off x="1662120" y="4849920"/>
              <a:ext cx="561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Freeform 8"/>
            <p:cNvSpPr/>
            <p:nvPr/>
          </p:nvSpPr>
          <p:spPr>
            <a:xfrm>
              <a:off x="1793880" y="1314360"/>
              <a:ext cx="3983040" cy="396396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963960"/>
                <a:gd name="textAreaBottom" fmla="*/ 3964320 h 3963960"/>
              </a:gdLst>
              <a:ahLst/>
              <a:rect l="textAreaLeft" t="textAreaTop" r="textAreaRight" b="textAreaBottom"/>
              <a:pathLst>
                <a:path w="1645" h="1552">
                  <a:moveTo>
                    <a:pt x="0" y="1552"/>
                  </a:moveTo>
                  <a:cubicBezTo>
                    <a:pt x="282" y="1458"/>
                    <a:pt x="564" y="1365"/>
                    <a:pt x="799" y="1199"/>
                  </a:cubicBezTo>
                  <a:cubicBezTo>
                    <a:pt x="1034" y="1033"/>
                    <a:pt x="1271" y="758"/>
                    <a:pt x="1412" y="558"/>
                  </a:cubicBezTo>
                  <a:cubicBezTo>
                    <a:pt x="1553" y="358"/>
                    <a:pt x="1599" y="179"/>
                    <a:pt x="1645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4" name="Text Box 15"/>
            <p:cNvSpPr/>
            <p:nvPr/>
          </p:nvSpPr>
          <p:spPr>
            <a:xfrm>
              <a:off x="7203960" y="479124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55" name="Line 19"/>
          <p:cNvSpPr/>
          <p:nvPr/>
        </p:nvSpPr>
        <p:spPr>
          <a:xfrm flipV="1">
            <a:off x="3402000" y="3615840"/>
            <a:ext cx="1146240" cy="1227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Line 21"/>
          <p:cNvSpPr/>
          <p:nvPr/>
        </p:nvSpPr>
        <p:spPr>
          <a:xfrm flipV="1">
            <a:off x="3006720" y="4587840"/>
            <a:ext cx="423720" cy="25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7" name="Group 39"/>
          <p:cNvGrpSpPr/>
          <p:nvPr/>
        </p:nvGrpSpPr>
        <p:grpSpPr>
          <a:xfrm>
            <a:off x="5513400" y="1944720"/>
            <a:ext cx="157320" cy="2905200"/>
            <a:chOff x="5513400" y="1944720"/>
            <a:chExt cx="157320" cy="2905200"/>
          </a:xfrm>
        </p:grpSpPr>
        <p:sp>
          <p:nvSpPr>
            <p:cNvPr id="758" name="Line 10"/>
            <p:cNvSpPr/>
            <p:nvPr/>
          </p:nvSpPr>
          <p:spPr>
            <a:xfrm flipV="1">
              <a:off x="5586480" y="2006640"/>
              <a:ext cx="0" cy="2843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5513400" y="1944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0" name="Group 40"/>
          <p:cNvGrpSpPr/>
          <p:nvPr/>
        </p:nvGrpSpPr>
        <p:grpSpPr>
          <a:xfrm>
            <a:off x="4462560" y="3556080"/>
            <a:ext cx="156960" cy="1293840"/>
            <a:chOff x="4462560" y="3556080"/>
            <a:chExt cx="156960" cy="1293840"/>
          </a:xfrm>
        </p:grpSpPr>
        <p:sp>
          <p:nvSpPr>
            <p:cNvPr id="761" name="Line 16"/>
            <p:cNvSpPr/>
            <p:nvPr/>
          </p:nvSpPr>
          <p:spPr>
            <a:xfrm flipV="1">
              <a:off x="4546440" y="360216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Oval 26"/>
            <p:cNvSpPr/>
            <p:nvPr/>
          </p:nvSpPr>
          <p:spPr>
            <a:xfrm>
              <a:off x="4462560" y="355608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3" name="Group 41"/>
          <p:cNvGrpSpPr/>
          <p:nvPr/>
        </p:nvGrpSpPr>
        <p:grpSpPr>
          <a:xfrm>
            <a:off x="3322800" y="4527720"/>
            <a:ext cx="156960" cy="322200"/>
            <a:chOff x="3322800" y="4527720"/>
            <a:chExt cx="156960" cy="322200"/>
          </a:xfrm>
        </p:grpSpPr>
        <p:sp>
          <p:nvSpPr>
            <p:cNvPr id="764" name="Line 20"/>
            <p:cNvSpPr/>
            <p:nvPr/>
          </p:nvSpPr>
          <p:spPr>
            <a:xfrm flipV="1">
              <a:off x="3400560" y="4603680"/>
              <a:ext cx="0" cy="246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Oval 27"/>
            <p:cNvSpPr/>
            <p:nvPr/>
          </p:nvSpPr>
          <p:spPr>
            <a:xfrm>
              <a:off x="3322800" y="452772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6" name="Group 35"/>
          <p:cNvGrpSpPr/>
          <p:nvPr/>
        </p:nvGrpSpPr>
        <p:grpSpPr>
          <a:xfrm>
            <a:off x="5414760" y="4761000"/>
            <a:ext cx="479520" cy="648720"/>
            <a:chOff x="5414760" y="4761000"/>
            <a:chExt cx="479520" cy="648720"/>
          </a:xfrm>
        </p:grpSpPr>
        <p:sp>
          <p:nvSpPr>
            <p:cNvPr id="767" name="Text Box 14"/>
            <p:cNvSpPr/>
            <p:nvPr/>
          </p:nvSpPr>
          <p:spPr>
            <a:xfrm>
              <a:off x="541476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55134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9" name="Group 36"/>
          <p:cNvGrpSpPr/>
          <p:nvPr/>
        </p:nvGrpSpPr>
        <p:grpSpPr>
          <a:xfrm>
            <a:off x="4327200" y="4761000"/>
            <a:ext cx="479520" cy="648720"/>
            <a:chOff x="4327200" y="4761000"/>
            <a:chExt cx="479520" cy="648720"/>
          </a:xfrm>
        </p:grpSpPr>
        <p:sp>
          <p:nvSpPr>
            <p:cNvPr id="770" name="Text Box 17"/>
            <p:cNvSpPr/>
            <p:nvPr/>
          </p:nvSpPr>
          <p:spPr>
            <a:xfrm>
              <a:off x="4327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1" name="Oval 23"/>
            <p:cNvSpPr/>
            <p:nvPr/>
          </p:nvSpPr>
          <p:spPr>
            <a:xfrm>
              <a:off x="446076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2" name="Group 37"/>
          <p:cNvGrpSpPr/>
          <p:nvPr/>
        </p:nvGrpSpPr>
        <p:grpSpPr>
          <a:xfrm>
            <a:off x="3238200" y="4761000"/>
            <a:ext cx="479520" cy="648720"/>
            <a:chOff x="3238200" y="4761000"/>
            <a:chExt cx="479520" cy="648720"/>
          </a:xfrm>
        </p:grpSpPr>
        <p:sp>
          <p:nvSpPr>
            <p:cNvPr id="773" name="Oval 24"/>
            <p:cNvSpPr/>
            <p:nvPr/>
          </p:nvSpPr>
          <p:spPr>
            <a:xfrm>
              <a:off x="3322800" y="477504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Text Box 29"/>
            <p:cNvSpPr/>
            <p:nvPr/>
          </p:nvSpPr>
          <p:spPr>
            <a:xfrm>
              <a:off x="3238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75" name="Line 42"/>
          <p:cNvSpPr/>
          <p:nvPr/>
        </p:nvSpPr>
        <p:spPr>
          <a:xfrm>
            <a:off x="2903400" y="4035600"/>
            <a:ext cx="0" cy="1349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6" name="Group 38"/>
          <p:cNvGrpSpPr/>
          <p:nvPr/>
        </p:nvGrpSpPr>
        <p:grpSpPr>
          <a:xfrm>
            <a:off x="2744640" y="4761000"/>
            <a:ext cx="479520" cy="648720"/>
            <a:chOff x="2744640" y="4761000"/>
            <a:chExt cx="479520" cy="648720"/>
          </a:xfrm>
        </p:grpSpPr>
        <p:sp>
          <p:nvSpPr>
            <p:cNvPr id="777" name="Oval 28"/>
            <p:cNvSpPr/>
            <p:nvPr/>
          </p:nvSpPr>
          <p:spPr>
            <a:xfrm>
              <a:off x="29718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Text Box 30"/>
            <p:cNvSpPr/>
            <p:nvPr/>
          </p:nvSpPr>
          <p:spPr>
            <a:xfrm>
              <a:off x="274464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500"/>
                            </p:stCondLst>
                            <p:childTnLst>
                              <p:par>
                                <p:cTn id="2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00"/>
                            </p:stCondLst>
                            <p:childTnLst>
                              <p:par>
                                <p:cTn id="2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2465280" y="565200"/>
            <a:ext cx="4381560" cy="1491840"/>
            <a:chOff x="2465280" y="565200"/>
            <a:chExt cx="4381560" cy="1491840"/>
          </a:xfrm>
        </p:grpSpPr>
        <p:graphicFrame>
          <p:nvGraphicFramePr>
            <p:cNvPr id="780" name="Object 3"/>
            <p:cNvGraphicFramePr/>
            <p:nvPr/>
          </p:nvGraphicFramePr>
          <p:xfrm>
            <a:off x="2465280" y="565200"/>
            <a:ext cx="4381560" cy="8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5280" y="565200"/>
                      <a:ext cx="438156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2" name="Text Box 4"/>
            <p:cNvSpPr/>
            <p:nvPr/>
          </p:nvSpPr>
          <p:spPr>
            <a:xfrm>
              <a:off x="2682720" y="622440"/>
              <a:ext cx="3946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0000"/>
                  </a:solidFill>
                  <a:latin typeface="Tahoma"/>
                </a:rPr>
                <a:t>สาธิตการเขียนโปรแกรม</a:t>
              </a:r>
              <a:endParaRPr b="0" lang="en-US" sz="4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83" name="Text Box 5"/>
          <p:cNvSpPr/>
          <p:nvPr/>
        </p:nvSpPr>
        <p:spPr>
          <a:xfrm>
            <a:off x="1290600" y="2503440"/>
            <a:ext cx="67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Rounded MT Bold"/>
              </a:rPr>
              <a:t>Newton's Method</a:t>
            </a:r>
            <a:endParaRPr b="0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Fract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700200" y="1214280"/>
            <a:ext cx="802008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Tahoma"/>
              </a:rPr>
              <a:t>ใช้วิธีของนิวต้นหารากของ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600" spc="-1" strike="noStrike">
                <a:solidFill>
                  <a:srgbClr val="000000"/>
                </a:solidFill>
                <a:latin typeface="Tahoma"/>
              </a:rPr>
              <a:t>โดยเริ่มที่จุดเริ่มต้นต่าง ๆ กันบนระนาบจำนวนเชิงซ้อน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Tahoma"/>
              </a:rPr>
              <a:t>นับจำนวนรอบที่ต้องทำงานจน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ver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Tahoma"/>
              </a:rPr>
              <a:t>ให้ความเข้มสีกับจุดเริ่มต้นบนระนาบตามจำนวนรอบที่ใช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25"/>
          <p:cNvSpPr/>
          <p:nvPr/>
        </p:nvSpPr>
        <p:spPr>
          <a:xfrm>
            <a:off x="652320" y="5568840"/>
            <a:ext cx="24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8" name="Picture 26" descr=""/>
          <p:cNvPicPr/>
          <p:nvPr/>
        </p:nvPicPr>
        <p:blipFill>
          <a:blip r:embed="rId1"/>
          <a:stretch/>
        </p:blipFill>
        <p:spPr>
          <a:xfrm>
            <a:off x="3089160" y="3092400"/>
            <a:ext cx="2914920" cy="306216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42"/>
          <p:cNvGrpSpPr/>
          <p:nvPr/>
        </p:nvGrpSpPr>
        <p:grpSpPr>
          <a:xfrm>
            <a:off x="5603400" y="4451400"/>
            <a:ext cx="1859400" cy="825480"/>
            <a:chOff x="5603400" y="4451400"/>
            <a:chExt cx="1859400" cy="825480"/>
          </a:xfrm>
        </p:grpSpPr>
        <p:sp>
          <p:nvSpPr>
            <p:cNvPr id="790" name="Text Box 28"/>
            <p:cNvSpPr/>
            <p:nvPr/>
          </p:nvSpPr>
          <p:spPr>
            <a:xfrm>
              <a:off x="6456240" y="445140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รอบ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91" name="Group 29"/>
            <p:cNvGrpSpPr/>
            <p:nvPr/>
          </p:nvGrpSpPr>
          <p:grpSpPr>
            <a:xfrm>
              <a:off x="5603400" y="4702320"/>
              <a:ext cx="782640" cy="0"/>
              <a:chOff x="5603400" y="4702320"/>
              <a:chExt cx="782640" cy="0"/>
            </a:xfrm>
          </p:grpSpPr>
          <p:sp>
            <p:nvSpPr>
              <p:cNvPr id="792" name="Line 30"/>
              <p:cNvSpPr/>
              <p:nvPr/>
            </p:nvSpPr>
            <p:spPr>
              <a:xfrm flipH="1">
                <a:off x="5963760" y="4702320"/>
                <a:ext cx="42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3" name="Line 31"/>
              <p:cNvSpPr/>
              <p:nvPr/>
            </p:nvSpPr>
            <p:spPr>
              <a:xfrm flipH="1">
                <a:off x="5603400" y="4702320"/>
                <a:ext cx="3762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94" name="Group 43"/>
          <p:cNvGrpSpPr/>
          <p:nvPr/>
        </p:nvGrpSpPr>
        <p:grpSpPr>
          <a:xfrm>
            <a:off x="5284440" y="3087720"/>
            <a:ext cx="3119760" cy="825480"/>
            <a:chOff x="5284440" y="3087720"/>
            <a:chExt cx="3119760" cy="825480"/>
          </a:xfrm>
        </p:grpSpPr>
        <p:sp>
          <p:nvSpPr>
            <p:cNvPr id="795" name="Line 33"/>
            <p:cNvSpPr/>
            <p:nvPr/>
          </p:nvSpPr>
          <p:spPr>
            <a:xfrm flipH="1">
              <a:off x="5994360" y="35132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6" name="Line 34"/>
            <p:cNvSpPr/>
            <p:nvPr/>
          </p:nvSpPr>
          <p:spPr>
            <a:xfrm flipH="1">
              <a:off x="5284440" y="3513240"/>
              <a:ext cx="695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7" name="Text Box 35"/>
            <p:cNvSpPr/>
            <p:nvPr/>
          </p:nvSpPr>
          <p:spPr>
            <a:xfrm>
              <a:off x="6556320" y="308772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72 + 1.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รอบ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98" name="Group 41"/>
          <p:cNvGrpSpPr/>
          <p:nvPr/>
        </p:nvGrpSpPr>
        <p:grpSpPr>
          <a:xfrm>
            <a:off x="866880" y="3625920"/>
            <a:ext cx="3095640" cy="825480"/>
            <a:chOff x="866880" y="3625920"/>
            <a:chExt cx="3095640" cy="825480"/>
          </a:xfrm>
        </p:grpSpPr>
        <p:grpSp>
          <p:nvGrpSpPr>
            <p:cNvPr id="799" name="Group 37"/>
            <p:cNvGrpSpPr/>
            <p:nvPr/>
          </p:nvGrpSpPr>
          <p:grpSpPr>
            <a:xfrm>
              <a:off x="2743200" y="3875040"/>
              <a:ext cx="1219320" cy="0"/>
              <a:chOff x="2743200" y="3875040"/>
              <a:chExt cx="1219320" cy="0"/>
            </a:xfrm>
          </p:grpSpPr>
          <p:sp>
            <p:nvSpPr>
              <p:cNvPr id="800" name="Line 38"/>
              <p:cNvSpPr/>
              <p:nvPr/>
            </p:nvSpPr>
            <p:spPr>
              <a:xfrm>
                <a:off x="2743200" y="3875040"/>
                <a:ext cx="3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1" name="Line 39"/>
              <p:cNvSpPr/>
              <p:nvPr/>
            </p:nvSpPr>
            <p:spPr>
              <a:xfrm>
                <a:off x="3106800" y="3875040"/>
                <a:ext cx="85572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02" name="Text Box 40"/>
            <p:cNvSpPr/>
            <p:nvPr/>
          </p:nvSpPr>
          <p:spPr>
            <a:xfrm>
              <a:off x="866880" y="3625920"/>
              <a:ext cx="186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5 + 0.86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</a:rPr>
                <a:t>รอบ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4" dur="indefinite" restart="never" nodeType="tmRoot">
          <p:childTnLst>
            <p:seq>
              <p:cTn id="2715" dur="indefinite" nodeType="mainSeq">
                <p:childTnLst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0" dur="5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2465280" y="565200"/>
            <a:ext cx="4381560" cy="1491840"/>
            <a:chOff x="2465280" y="565200"/>
            <a:chExt cx="4381560" cy="1491840"/>
          </a:xfrm>
        </p:grpSpPr>
        <p:graphicFrame>
          <p:nvGraphicFramePr>
            <p:cNvPr id="804" name="Object 3"/>
            <p:cNvGraphicFramePr/>
            <p:nvPr/>
          </p:nvGraphicFramePr>
          <p:xfrm>
            <a:off x="2465280" y="565200"/>
            <a:ext cx="4381560" cy="8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5280" y="565200"/>
                      <a:ext cx="438156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6" name="Text Box 4"/>
            <p:cNvSpPr/>
            <p:nvPr/>
          </p:nvSpPr>
          <p:spPr>
            <a:xfrm>
              <a:off x="2682720" y="622440"/>
              <a:ext cx="3946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0000"/>
                  </a:solidFill>
                  <a:latin typeface="Tahoma"/>
                </a:rPr>
                <a:t>สาธิตการเขียนโปรแกรม</a:t>
              </a:r>
              <a:endParaRPr b="0" lang="en-US" sz="4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07" name="Text Box 5"/>
          <p:cNvSpPr/>
          <p:nvPr/>
        </p:nvSpPr>
        <p:spPr>
          <a:xfrm>
            <a:off x="1290600" y="2894040"/>
            <a:ext cx="67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Rounded MT Bold"/>
              </a:rPr>
              <a:t>Newton's Fractal</a:t>
            </a:r>
            <a:endParaRPr b="0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Tahoma"/>
              </a:rPr>
              <a:t>ตัวแปรประจำอ็อบเจกต์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0" lang="th-TH" sz="4400" spc="-1" strike="noStrike">
                <a:solidFill>
                  <a:srgbClr val="ffff00"/>
                </a:solidFill>
                <a:latin typeface="Tahoma"/>
              </a:rPr>
              <a:t>ประจำคลาส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1641600" y="1341360"/>
            <a:ext cx="3632040" cy="4656240"/>
            <a:chOff x="1641600" y="1341360"/>
            <a:chExt cx="3632040" cy="4656240"/>
          </a:xfrm>
        </p:grpSpPr>
        <p:sp>
          <p:nvSpPr>
            <p:cNvPr id="811" name="Rectangle 2"/>
            <p:cNvSpPr/>
            <p:nvPr/>
          </p:nvSpPr>
          <p:spPr>
            <a:xfrm>
              <a:off x="1641600" y="1341360"/>
              <a:ext cx="3632040" cy="46562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public</a:t>
              </a: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c0"/>
                  </a:solidFill>
                  <a:latin typeface="Courier New"/>
                  <a:ea typeface="Courier New"/>
                </a:rPr>
                <a:t>class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 {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2055960" y="1741320"/>
              <a:ext cx="2846160" cy="408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</a:rPr>
                <a:t>ตัวแปรประจำอ็อบเจกต์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>
              <a:off x="2055960" y="2540160"/>
              <a:ext cx="28177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b2b2b2"/>
                  </a:solidFill>
                  <a:latin typeface="Tahoma"/>
                </a:rPr>
                <a:t>ตัวสร้าง 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Rectangle 9"/>
            <p:cNvSpPr/>
            <p:nvPr/>
          </p:nvSpPr>
          <p:spPr>
            <a:xfrm>
              <a:off x="2055960" y="3354480"/>
              <a:ext cx="280332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b2b2b2"/>
                  </a:solidFill>
                  <a:latin typeface="Tahoma"/>
                </a:rPr>
                <a:t>เมท็อดประจำอ็อบเจกต์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2022120" y="2087640"/>
              <a:ext cx="20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bject variable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2017440" y="2887560"/>
              <a:ext cx="168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ahoma"/>
                </a:rPr>
                <a:t>constructor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2015280" y="3701880"/>
              <a:ext cx="204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ahoma"/>
                </a:rPr>
                <a:t>object method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2055960" y="4197240"/>
              <a:ext cx="2331720" cy="428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</a:rPr>
                <a:t>ตัวแปรประจำคลาส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1997280" y="460224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ass variable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Rectangle 15"/>
            <p:cNvSpPr/>
            <p:nvPr/>
          </p:nvSpPr>
          <p:spPr>
            <a:xfrm>
              <a:off x="2055960" y="4997520"/>
              <a:ext cx="233172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b2b2b2"/>
                  </a:solidFill>
                  <a:latin typeface="Tahoma"/>
                </a:rPr>
                <a:t>เมท็อดประจำคลาส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1981080" y="54021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ahoma"/>
                </a:rPr>
                <a:t>class method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2" name="Group 31"/>
          <p:cNvGrpSpPr/>
          <p:nvPr/>
        </p:nvGrpSpPr>
        <p:grpSpPr>
          <a:xfrm>
            <a:off x="4986360" y="1727280"/>
            <a:ext cx="3416400" cy="469800"/>
            <a:chOff x="4986360" y="1727280"/>
            <a:chExt cx="3416400" cy="469800"/>
          </a:xfrm>
        </p:grpSpPr>
        <p:sp>
          <p:nvSpPr>
            <p:cNvPr id="823" name="Rectangle 25"/>
            <p:cNvSpPr/>
            <p:nvPr/>
          </p:nvSpPr>
          <p:spPr>
            <a:xfrm>
              <a:off x="5456160" y="1727280"/>
              <a:ext cx="2946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</a:rPr>
                <a:t>แต่ละอ็อบเจกต์มีของตัวเอง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Line 28"/>
            <p:cNvSpPr/>
            <p:nvPr/>
          </p:nvSpPr>
          <p:spPr>
            <a:xfrm flipH="1">
              <a:off x="4986360" y="19432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5" name="Group 30"/>
          <p:cNvGrpSpPr/>
          <p:nvPr/>
        </p:nvGrpSpPr>
        <p:grpSpPr>
          <a:xfrm>
            <a:off x="4485960" y="4187880"/>
            <a:ext cx="3502440" cy="884160"/>
            <a:chOff x="4485960" y="4187880"/>
            <a:chExt cx="3502440" cy="884160"/>
          </a:xfrm>
        </p:grpSpPr>
        <p:sp>
          <p:nvSpPr>
            <p:cNvPr id="826" name="Rectangle 27"/>
            <p:cNvSpPr/>
            <p:nvPr/>
          </p:nvSpPr>
          <p:spPr>
            <a:xfrm>
              <a:off x="5456160" y="4187880"/>
              <a:ext cx="253224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</a:rPr>
                <a:t>เป็นข้อมูลส่วนกลาง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</a:rPr>
                <a:t>ทุกอ็อบเจกต์ใช้ร่วมกัน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4485960" y="4429080"/>
              <a:ext cx="9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4" dur="indefinite" restart="never" nodeType="tmRoot">
          <p:childTnLst>
            <p:seq>
              <p:cTn id="2755" dur="indefinite" nodeType="mainSeq">
                <p:childTnLst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ประจำคลาสมีคำว่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ati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9" name="Rectangle 14"/>
          <p:cNvSpPr/>
          <p:nvPr/>
        </p:nvSpPr>
        <p:spPr>
          <a:xfrm>
            <a:off x="4599000" y="1184400"/>
            <a:ext cx="4189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ตัวแปรประจำคลาส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มีคำว่า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กำกับการประกาศ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</a:rPr>
              <a:t>ไม่มีคำว่า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Rectangle 15"/>
          <p:cNvSpPr/>
          <p:nvPr/>
        </p:nvSpPr>
        <p:spPr>
          <a:xfrm>
            <a:off x="627120" y="1255680"/>
            <a:ext cx="3817800" cy="161280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       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ov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1" name="Group 42"/>
          <p:cNvGrpSpPr/>
          <p:nvPr/>
        </p:nvGrpSpPr>
        <p:grpSpPr>
          <a:xfrm>
            <a:off x="5440320" y="3146400"/>
            <a:ext cx="1612800" cy="966960"/>
            <a:chOff x="5440320" y="3146400"/>
            <a:chExt cx="1612800" cy="966960"/>
          </a:xfrm>
        </p:grpSpPr>
        <p:sp>
          <p:nvSpPr>
            <p:cNvPr id="832" name="AutoShape 33"/>
            <p:cNvSpPr/>
            <p:nvPr/>
          </p:nvSpPr>
          <p:spPr>
            <a:xfrm>
              <a:off x="5440320" y="3490920"/>
              <a:ext cx="1612800" cy="622440"/>
            </a:xfrm>
            <a:prstGeom prst="roundRect">
              <a:avLst>
                <a:gd name="adj" fmla="val 2241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Rectangle 34"/>
            <p:cNvSpPr/>
            <p:nvPr/>
          </p:nvSpPr>
          <p:spPr>
            <a:xfrm>
              <a:off x="5986440" y="3652920"/>
              <a:ext cx="90000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Text Box 35"/>
            <p:cNvSpPr/>
            <p:nvPr/>
          </p:nvSpPr>
          <p:spPr>
            <a:xfrm>
              <a:off x="5470560" y="3657600"/>
              <a:ext cx="55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v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Text Box 36"/>
            <p:cNvSpPr/>
            <p:nvPr/>
          </p:nvSpPr>
          <p:spPr>
            <a:xfrm>
              <a:off x="5610240" y="31464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lass A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36" name="Group 53"/>
          <p:cNvGrpSpPr/>
          <p:nvPr/>
        </p:nvGrpSpPr>
        <p:grpSpPr>
          <a:xfrm>
            <a:off x="4640040" y="4462560"/>
            <a:ext cx="3213360" cy="622080"/>
            <a:chOff x="4640040" y="4462560"/>
            <a:chExt cx="3213360" cy="622080"/>
          </a:xfrm>
        </p:grpSpPr>
        <p:sp>
          <p:nvSpPr>
            <p:cNvPr id="837" name="Rectangle 21"/>
            <p:cNvSpPr/>
            <p:nvPr/>
          </p:nvSpPr>
          <p:spPr>
            <a:xfrm>
              <a:off x="5411880" y="4586040"/>
              <a:ext cx="392040" cy="3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Text Box 23"/>
            <p:cNvSpPr/>
            <p:nvPr/>
          </p:nvSpPr>
          <p:spPr>
            <a:xfrm>
              <a:off x="4640040" y="461160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39" name="Group 43"/>
            <p:cNvGrpSpPr/>
            <p:nvPr/>
          </p:nvGrpSpPr>
          <p:grpSpPr>
            <a:xfrm>
              <a:off x="6240240" y="4462560"/>
              <a:ext cx="1613160" cy="622080"/>
              <a:chOff x="6240240" y="4462560"/>
              <a:chExt cx="1613160" cy="622080"/>
            </a:xfrm>
          </p:grpSpPr>
          <p:sp>
            <p:nvSpPr>
              <p:cNvPr id="840" name="AutoShape 39"/>
              <p:cNvSpPr/>
              <p:nvPr/>
            </p:nvSpPr>
            <p:spPr>
              <a:xfrm>
                <a:off x="6240240" y="4462560"/>
                <a:ext cx="1613160" cy="622080"/>
              </a:xfrm>
              <a:prstGeom prst="roundRect">
                <a:avLst>
                  <a:gd name="adj" fmla="val 2241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1" name="Rectangle 40"/>
              <p:cNvSpPr/>
              <p:nvPr/>
            </p:nvSpPr>
            <p:spPr>
              <a:xfrm>
                <a:off x="6786360" y="4613040"/>
                <a:ext cx="900360" cy="32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2" name="Text Box 41"/>
              <p:cNvSpPr/>
              <p:nvPr/>
            </p:nvSpPr>
            <p:spPr>
              <a:xfrm>
                <a:off x="6270480" y="4621320"/>
                <a:ext cx="55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ov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43" name="Line 48"/>
            <p:cNvSpPr/>
            <p:nvPr/>
          </p:nvSpPr>
          <p:spPr>
            <a:xfrm>
              <a:off x="5586480" y="4771800"/>
              <a:ext cx="61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44" name="Group 52"/>
          <p:cNvGrpSpPr/>
          <p:nvPr/>
        </p:nvGrpSpPr>
        <p:grpSpPr>
          <a:xfrm>
            <a:off x="4654440" y="5319720"/>
            <a:ext cx="3198960" cy="622080"/>
            <a:chOff x="4654440" y="5319720"/>
            <a:chExt cx="3198960" cy="622080"/>
          </a:xfrm>
        </p:grpSpPr>
        <p:grpSp>
          <p:nvGrpSpPr>
            <p:cNvPr id="845" name="Group 44"/>
            <p:cNvGrpSpPr/>
            <p:nvPr/>
          </p:nvGrpSpPr>
          <p:grpSpPr>
            <a:xfrm>
              <a:off x="6240240" y="5319720"/>
              <a:ext cx="1613160" cy="622080"/>
              <a:chOff x="6240240" y="5319720"/>
              <a:chExt cx="1613160" cy="622080"/>
            </a:xfrm>
          </p:grpSpPr>
          <p:sp>
            <p:nvSpPr>
              <p:cNvPr id="846" name="AutoShape 45"/>
              <p:cNvSpPr/>
              <p:nvPr/>
            </p:nvSpPr>
            <p:spPr>
              <a:xfrm>
                <a:off x="6240240" y="5319720"/>
                <a:ext cx="1613160" cy="622080"/>
              </a:xfrm>
              <a:prstGeom prst="roundRect">
                <a:avLst>
                  <a:gd name="adj" fmla="val 2241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7" name="Rectangle 46"/>
              <p:cNvSpPr/>
              <p:nvPr/>
            </p:nvSpPr>
            <p:spPr>
              <a:xfrm>
                <a:off x="6786360" y="5470200"/>
                <a:ext cx="900360" cy="32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8" name="Text Box 47"/>
              <p:cNvSpPr/>
              <p:nvPr/>
            </p:nvSpPr>
            <p:spPr>
              <a:xfrm>
                <a:off x="6270480" y="5478480"/>
                <a:ext cx="557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ov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49" name="Rectangle 49"/>
            <p:cNvSpPr/>
            <p:nvPr/>
          </p:nvSpPr>
          <p:spPr>
            <a:xfrm>
              <a:off x="5425920" y="5443560"/>
              <a:ext cx="39240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Text Box 50"/>
            <p:cNvSpPr/>
            <p:nvPr/>
          </p:nvSpPr>
          <p:spPr>
            <a:xfrm>
              <a:off x="4654440" y="546912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Line 51"/>
            <p:cNvSpPr/>
            <p:nvPr/>
          </p:nvSpPr>
          <p:spPr>
            <a:xfrm>
              <a:off x="5600520" y="5629320"/>
              <a:ext cx="6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52" name="Rectangle 54"/>
          <p:cNvSpPr/>
          <p:nvPr/>
        </p:nvSpPr>
        <p:spPr>
          <a:xfrm>
            <a:off x="1441440" y="3141720"/>
            <a:ext cx="3003480" cy="2941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sv = 1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 a1 = new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 a2 = new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1.o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2.ov++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1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2.sv++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.ov = 9 // wro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Text Box 55"/>
          <p:cNvSpPr/>
          <p:nvPr/>
        </p:nvSpPr>
        <p:spPr>
          <a:xfrm>
            <a:off x="6281640" y="363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Text Box 56"/>
          <p:cNvSpPr/>
          <p:nvPr/>
        </p:nvSpPr>
        <p:spPr>
          <a:xfrm>
            <a:off x="6281640" y="363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Text Box 57"/>
          <p:cNvSpPr/>
          <p:nvPr/>
        </p:nvSpPr>
        <p:spPr>
          <a:xfrm>
            <a:off x="6281640" y="363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Text Box 58"/>
          <p:cNvSpPr/>
          <p:nvPr/>
        </p:nvSpPr>
        <p:spPr>
          <a:xfrm>
            <a:off x="6281640" y="363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Text Box 59"/>
          <p:cNvSpPr/>
          <p:nvPr/>
        </p:nvSpPr>
        <p:spPr>
          <a:xfrm>
            <a:off x="6281640" y="363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Text Box 60"/>
          <p:cNvSpPr/>
          <p:nvPr/>
        </p:nvSpPr>
        <p:spPr>
          <a:xfrm>
            <a:off x="7067520" y="458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Text Box 61"/>
          <p:cNvSpPr/>
          <p:nvPr/>
        </p:nvSpPr>
        <p:spPr>
          <a:xfrm>
            <a:off x="7067520" y="458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0" name="Text Box 62"/>
          <p:cNvSpPr/>
          <p:nvPr/>
        </p:nvSpPr>
        <p:spPr>
          <a:xfrm>
            <a:off x="7081920" y="5438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63"/>
          <p:cNvSpPr/>
          <p:nvPr/>
        </p:nvSpPr>
        <p:spPr>
          <a:xfrm>
            <a:off x="7081920" y="5438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5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8" dur="5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1" dur="5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6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0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4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9" dur="5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500"/>
                            </p:stCondLst>
                            <p:childTnLst>
                              <p:par>
                                <p:cTn id="2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3" dur="5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7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5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7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500"/>
                            </p:stCondLst>
                            <p:childTnLst>
                              <p:par>
                                <p:cTn id="2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5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7" dur="500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1" dur="500"/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3" dur="500"/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ตัวแปรประจำคลาสเป็นค่าคง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582480" y="1150920"/>
            <a:ext cx="8018640" cy="4057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LACK = mixRGB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LUE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mixRGB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25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EEN = mixRGB(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255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mixRGB(255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,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TE = mixRGB(255, 255, 255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width, heigh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mixRG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r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g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b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1528920" y="4734000"/>
            <a:ext cx="6697440" cy="806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DWindow w = new DWindow(200, 2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w.drawLine(DWindow.RED, 0, 0, 100, 10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0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5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0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5" dur="5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0" dur="5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5" dur="5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0" dur="5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5" dur="5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0" dur="5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5" dur="5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0" dur="500"/>
                                        <p:tgtEl>
                                          <p:spTgt spid="8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5" dur="500"/>
                                        <p:tgtEl>
                                          <p:spTgt spid="8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0" dur="500"/>
                                        <p:tgtEl>
                                          <p:spTgt spid="8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ublic  static  fin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582480" y="1150920"/>
            <a:ext cx="8018640" cy="10573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LACK = mixRGB(0, 0, 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1943280" y="2333520"/>
            <a:ext cx="4997160" cy="435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DWindow.BLACK = 99999;  // !!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568440" y="2979720"/>
            <a:ext cx="8018280" cy="10573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final i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LACK = mixRGB(0, 0, 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AutoShape 6"/>
          <p:cNvSpPr/>
          <p:nvPr/>
        </p:nvSpPr>
        <p:spPr>
          <a:xfrm>
            <a:off x="3029040" y="3314880"/>
            <a:ext cx="942840" cy="34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2668680" y="4067280"/>
            <a:ext cx="65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ตัวแปร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final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นี้ได้รับค่าได้ครั้งเดียว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Rectangle 8"/>
          <p:cNvSpPr/>
          <p:nvPr/>
        </p:nvSpPr>
        <p:spPr>
          <a:xfrm>
            <a:off x="1943280" y="4691160"/>
            <a:ext cx="5768640" cy="434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DWindow.BLACK = 99999; 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ปลไม่ผ่าน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1536840" y="5110200"/>
            <a:ext cx="644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ใช้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final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</a:rPr>
              <a:t>ได้กับตัวแปรทุกชนิด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th-TH" sz="3600" spc="-1" strike="noStrike">
                <a:solidFill>
                  <a:srgbClr val="000000"/>
                </a:solidFill>
                <a:latin typeface="Tahoma"/>
              </a:rPr>
              <a:t>พารามิเตอร์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3600"/>
            </a:br>
            <a:r>
              <a:rPr b="1" i="1" lang="th-TH" sz="3600" spc="-1" strike="noStrike">
                <a:solidFill>
                  <a:srgbClr val="000000"/>
                </a:solidFill>
                <a:latin typeface="Tahoma"/>
              </a:rPr>
              <a:t>ตัวแปรประจำอ็อบเจกต์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th-TH" sz="3600" spc="-1" strike="noStrike">
                <a:solidFill>
                  <a:srgbClr val="000000"/>
                </a:solidFill>
                <a:latin typeface="Tahoma"/>
              </a:rPr>
              <a:t>ประจำคลาส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th-TH" sz="3600" spc="-1" strike="noStrike">
                <a:solidFill>
                  <a:srgbClr val="000000"/>
                </a:solidFill>
                <a:latin typeface="Tahoma"/>
              </a:rPr>
              <a:t>ในเมท็อด</a:t>
            </a:r>
            <a:endParaRPr b="0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1" dur="indefinite" restart="never" nodeType="tmRoot">
          <p:childTnLst>
            <p:seq>
              <p:cTn id="3002" dur="indefinite" nodeType="mainSeq">
                <p:childTnLst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fill="hold">
                      <p:stCondLst>
                        <p:cond delay="indefinite"/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ackag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700200" y="121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ัดคลาสต่าง ๆ ที่เกี่ยวข้องกันเป็นกลุ่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เต็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ag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ชื่อคลา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io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io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Prin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io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.graphics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D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.graphics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D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.graphics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D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9" dur="indefinite" restart="never" nodeType="tmRoot">
          <p:childTnLst>
            <p:seq>
              <p:cTn id="3040" dur="indefinite" nodeType="mainSeq">
                <p:childTnLst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5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6" fill="hold">
                      <p:stCondLst>
                        <p:cond delay="indefinite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0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5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0" dur="5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0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5" dur="50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0" dur="500"/>
                                        <p:tgtEl>
                                          <p:spTgt spid="8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ackag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700200" y="1214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แพ็กเกจมักขึ้นต้นด้วยชื่อองค์กรเจ้าข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rg.apach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commons.coll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rg.apach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poi.hssf.user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agie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m.lowagi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text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m.lowagi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tool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gle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m.goo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soap.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m.goo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api.translate.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2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7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2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7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7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2" dur="500"/>
                                        <p:tgtEl>
                                          <p:spTgt spid="8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7" dur="500"/>
                                        <p:tgtEl>
                                          <p:spTgt spid="8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2" dur="500"/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712960" y="1312920"/>
            <a:ext cx="3503520" cy="162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บบง่ายสุด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ีเฉพาะข้อมูลย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31" name="Group 45"/>
          <p:cNvGrpSpPr/>
          <p:nvPr/>
        </p:nvGrpSpPr>
        <p:grpSpPr>
          <a:xfrm>
            <a:off x="3065040" y="1712880"/>
            <a:ext cx="2922840" cy="959400"/>
            <a:chOff x="3065040" y="1712880"/>
            <a:chExt cx="2922840" cy="959400"/>
          </a:xfrm>
        </p:grpSpPr>
        <p:sp>
          <p:nvSpPr>
            <p:cNvPr id="132" name="Text Box 11"/>
            <p:cNvSpPr/>
            <p:nvPr/>
          </p:nvSpPr>
          <p:spPr>
            <a:xfrm>
              <a:off x="3065040" y="2273400"/>
              <a:ext cx="20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bject variable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3" name="Rectangle 20"/>
            <p:cNvSpPr/>
            <p:nvPr/>
          </p:nvSpPr>
          <p:spPr>
            <a:xfrm>
              <a:off x="3141720" y="1712880"/>
              <a:ext cx="2846160" cy="627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</a:rPr>
                <a:t>ตัวแปรประจำอ็อบเจกต์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34" name="Rectangle 31"/>
          <p:cNvSpPr/>
          <p:nvPr/>
        </p:nvSpPr>
        <p:spPr>
          <a:xfrm>
            <a:off x="2441520" y="2941560"/>
            <a:ext cx="4146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รรยายเฉพาะข้อมูลย่อยภายใน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2370240" y="3784680"/>
            <a:ext cx="4289400" cy="22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2698920" y="4241880"/>
            <a:ext cx="316044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2698920" y="4727520"/>
            <a:ext cx="361764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2698920" y="5213520"/>
            <a:ext cx="3617640" cy="398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6305040" y="158256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ember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2"/>
          <p:cNvGrpSpPr/>
          <p:nvPr/>
        </p:nvGrpSpPr>
        <p:grpSpPr>
          <a:xfrm>
            <a:off x="2465280" y="565200"/>
            <a:ext cx="4381560" cy="1491840"/>
            <a:chOff x="2465280" y="565200"/>
            <a:chExt cx="4381560" cy="1491840"/>
          </a:xfrm>
        </p:grpSpPr>
        <p:graphicFrame>
          <p:nvGraphicFramePr>
            <p:cNvPr id="878" name="Object 3"/>
            <p:cNvGraphicFramePr/>
            <p:nvPr/>
          </p:nvGraphicFramePr>
          <p:xfrm>
            <a:off x="2465280" y="565200"/>
            <a:ext cx="4381560" cy="87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65280" y="565200"/>
                      <a:ext cx="4381560" cy="8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0" name="Text Box 4"/>
            <p:cNvSpPr/>
            <p:nvPr/>
          </p:nvSpPr>
          <p:spPr>
            <a:xfrm>
              <a:off x="2682720" y="622440"/>
              <a:ext cx="3946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0000"/>
                  </a:solidFill>
                  <a:latin typeface="Tahoma"/>
                </a:rPr>
                <a:t>สาธิตการเขียนโปรแกรม</a:t>
              </a:r>
              <a:endParaRPr b="0" lang="en-US" sz="4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81" name="Text Box 5"/>
          <p:cNvSpPr/>
          <p:nvPr/>
        </p:nvSpPr>
        <p:spPr>
          <a:xfrm>
            <a:off x="1290600" y="2503440"/>
            <a:ext cx="670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Tahoma"/>
              </a:rPr>
              <a:t>สาธิตการสร้างคลาสในแพ็กเกจ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25440" y="233280"/>
            <a:ext cx="8493120" cy="99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ull : </a:t>
            </a:r>
            <a:r>
              <a:rPr b="0" lang="th-TH" sz="4400" spc="-1" strike="noStrike">
                <a:solidFill>
                  <a:srgbClr val="ffff00"/>
                </a:solidFill>
                <a:latin typeface="Tahoma"/>
              </a:rPr>
              <a:t>การอ้างอิงที่ไม่อ้างอิงอ็อบเจกต์ใด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84" name="Group 97"/>
          <p:cNvGrpSpPr/>
          <p:nvPr/>
        </p:nvGrpSpPr>
        <p:grpSpPr>
          <a:xfrm>
            <a:off x="2827440" y="2771640"/>
            <a:ext cx="647640" cy="368280"/>
            <a:chOff x="2827440" y="2771640"/>
            <a:chExt cx="647640" cy="368280"/>
          </a:xfrm>
        </p:grpSpPr>
        <p:sp>
          <p:nvSpPr>
            <p:cNvPr id="885" name="Rectangle 98"/>
            <p:cNvSpPr/>
            <p:nvPr/>
          </p:nvSpPr>
          <p:spPr>
            <a:xfrm>
              <a:off x="3092400" y="27716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6" name="Text Box 99"/>
            <p:cNvSpPr/>
            <p:nvPr/>
          </p:nvSpPr>
          <p:spPr>
            <a:xfrm>
              <a:off x="2827440" y="27748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87" name="Rectangle 100"/>
          <p:cNvSpPr/>
          <p:nvPr/>
        </p:nvSpPr>
        <p:spPr>
          <a:xfrm>
            <a:off x="2805120" y="1427040"/>
            <a:ext cx="3489480" cy="80352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Line 101"/>
          <p:cNvSpPr/>
          <p:nvPr/>
        </p:nvSpPr>
        <p:spPr>
          <a:xfrm>
            <a:off x="3284640" y="29638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89" name="Group 102"/>
          <p:cNvGrpSpPr/>
          <p:nvPr/>
        </p:nvGrpSpPr>
        <p:grpSpPr>
          <a:xfrm>
            <a:off x="4005360" y="2529000"/>
            <a:ext cx="1919160" cy="866520"/>
            <a:chOff x="4005360" y="2529000"/>
            <a:chExt cx="1919160" cy="866520"/>
          </a:xfrm>
        </p:grpSpPr>
        <p:sp>
          <p:nvSpPr>
            <p:cNvPr id="890" name="AutoShape 103"/>
            <p:cNvSpPr/>
            <p:nvPr/>
          </p:nvSpPr>
          <p:spPr>
            <a:xfrm>
              <a:off x="4005360" y="2529000"/>
              <a:ext cx="1919160" cy="866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1" name="Text Box 104"/>
            <p:cNvSpPr/>
            <p:nvPr/>
          </p:nvSpPr>
          <p:spPr>
            <a:xfrm>
              <a:off x="4231440" y="262656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2" name="Text Box 105"/>
            <p:cNvSpPr/>
            <p:nvPr/>
          </p:nvSpPr>
          <p:spPr>
            <a:xfrm>
              <a:off x="4059360" y="2619720"/>
              <a:ext cx="17028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3" name="Text Box 106"/>
            <p:cNvSpPr/>
            <p:nvPr/>
          </p:nvSpPr>
          <p:spPr>
            <a:xfrm>
              <a:off x="4231440" y="301608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4" name="Text Box 107"/>
            <p:cNvSpPr/>
            <p:nvPr/>
          </p:nvSpPr>
          <p:spPr>
            <a:xfrm>
              <a:off x="4059360" y="3007800"/>
              <a:ext cx="1702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5" name="Text Box 108"/>
            <p:cNvSpPr/>
            <p:nvPr/>
          </p:nvSpPr>
          <p:spPr>
            <a:xfrm>
              <a:off x="4877640" y="262656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6" name="Text Box 109"/>
            <p:cNvSpPr/>
            <p:nvPr/>
          </p:nvSpPr>
          <p:spPr>
            <a:xfrm>
              <a:off x="4601160" y="2619720"/>
              <a:ext cx="2739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7" name="Text Box 110"/>
            <p:cNvSpPr/>
            <p:nvPr/>
          </p:nvSpPr>
          <p:spPr>
            <a:xfrm>
              <a:off x="4877640" y="3016080"/>
              <a:ext cx="35532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8" name="Text Box 111"/>
            <p:cNvSpPr/>
            <p:nvPr/>
          </p:nvSpPr>
          <p:spPr>
            <a:xfrm>
              <a:off x="4601160" y="300780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9" name="Text Box 112"/>
            <p:cNvSpPr/>
            <p:nvPr/>
          </p:nvSpPr>
          <p:spPr>
            <a:xfrm>
              <a:off x="5458320" y="2626560"/>
              <a:ext cx="35640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Text Box 113"/>
            <p:cNvSpPr/>
            <p:nvPr/>
          </p:nvSpPr>
          <p:spPr>
            <a:xfrm>
              <a:off x="5229720" y="2619720"/>
              <a:ext cx="22716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1" name="Group 128"/>
          <p:cNvGrpSpPr/>
          <p:nvPr/>
        </p:nvGrpSpPr>
        <p:grpSpPr>
          <a:xfrm>
            <a:off x="3152880" y="3000240"/>
            <a:ext cx="269640" cy="478080"/>
            <a:chOff x="3152880" y="3000240"/>
            <a:chExt cx="269640" cy="478080"/>
          </a:xfrm>
        </p:grpSpPr>
        <p:sp>
          <p:nvSpPr>
            <p:cNvPr id="902" name="Line 129"/>
            <p:cNvSpPr/>
            <p:nvPr/>
          </p:nvSpPr>
          <p:spPr>
            <a:xfrm>
              <a:off x="3286800" y="3000240"/>
              <a:ext cx="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Line 130"/>
            <p:cNvSpPr/>
            <p:nvPr/>
          </p:nvSpPr>
          <p:spPr>
            <a:xfrm>
              <a:off x="3152880" y="334872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4" name="Line 131"/>
            <p:cNvSpPr/>
            <p:nvPr/>
          </p:nvSpPr>
          <p:spPr>
            <a:xfrm>
              <a:off x="3198240" y="339336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5" name="Line 132"/>
            <p:cNvSpPr/>
            <p:nvPr/>
          </p:nvSpPr>
          <p:spPr>
            <a:xfrm>
              <a:off x="3230640" y="343764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6" name="Line 133"/>
            <p:cNvSpPr/>
            <p:nvPr/>
          </p:nvSpPr>
          <p:spPr>
            <a:xfrm>
              <a:off x="3266640" y="347832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07" name="Text Box 134"/>
          <p:cNvSpPr/>
          <p:nvPr/>
        </p:nvSpPr>
        <p:spPr>
          <a:xfrm>
            <a:off x="2895480" y="3587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Rectangle 135"/>
          <p:cNvSpPr/>
          <p:nvPr/>
        </p:nvSpPr>
        <p:spPr>
          <a:xfrm>
            <a:off x="1555920" y="4051440"/>
            <a:ext cx="5997240" cy="90144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[4]; 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3] = new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9" name="Group 136"/>
          <p:cNvGrpSpPr/>
          <p:nvPr/>
        </p:nvGrpSpPr>
        <p:grpSpPr>
          <a:xfrm>
            <a:off x="2084400" y="5248440"/>
            <a:ext cx="2738520" cy="381960"/>
            <a:chOff x="2084400" y="5248440"/>
            <a:chExt cx="2738520" cy="381960"/>
          </a:xfrm>
        </p:grpSpPr>
        <p:grpSp>
          <p:nvGrpSpPr>
            <p:cNvPr id="910" name="Group 137"/>
            <p:cNvGrpSpPr/>
            <p:nvPr/>
          </p:nvGrpSpPr>
          <p:grpSpPr>
            <a:xfrm>
              <a:off x="2084400" y="5248440"/>
              <a:ext cx="647640" cy="367920"/>
              <a:chOff x="2084400" y="5248440"/>
              <a:chExt cx="647640" cy="367920"/>
            </a:xfrm>
          </p:grpSpPr>
          <p:sp>
            <p:nvSpPr>
              <p:cNvPr id="911" name="Rectangle 138"/>
              <p:cNvSpPr/>
              <p:nvPr/>
            </p:nvSpPr>
            <p:spPr>
              <a:xfrm>
                <a:off x="2349360" y="5248440"/>
                <a:ext cx="382680" cy="367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2" name="Text Box 139"/>
              <p:cNvSpPr/>
              <p:nvPr/>
            </p:nvSpPr>
            <p:spPr>
              <a:xfrm>
                <a:off x="2084400" y="5251320"/>
                <a:ext cx="2649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913" name="Line 140"/>
            <p:cNvSpPr/>
            <p:nvPr/>
          </p:nvSpPr>
          <p:spPr>
            <a:xfrm>
              <a:off x="2541600" y="544032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Rectangle 141"/>
            <p:cNvSpPr/>
            <p:nvPr/>
          </p:nvSpPr>
          <p:spPr>
            <a:xfrm>
              <a:off x="3292560" y="5262480"/>
              <a:ext cx="382680" cy="36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5" name="Rectangle 142"/>
            <p:cNvSpPr/>
            <p:nvPr/>
          </p:nvSpPr>
          <p:spPr>
            <a:xfrm>
              <a:off x="3675240" y="5262480"/>
              <a:ext cx="382680" cy="36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6" name="Rectangle 143"/>
            <p:cNvSpPr/>
            <p:nvPr/>
          </p:nvSpPr>
          <p:spPr>
            <a:xfrm>
              <a:off x="4057920" y="5262480"/>
              <a:ext cx="382320" cy="36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7" name="Rectangle 144"/>
            <p:cNvSpPr/>
            <p:nvPr/>
          </p:nvSpPr>
          <p:spPr>
            <a:xfrm>
              <a:off x="4440240" y="5262480"/>
              <a:ext cx="382680" cy="36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8" name="Group 146"/>
          <p:cNvGrpSpPr/>
          <p:nvPr/>
        </p:nvGrpSpPr>
        <p:grpSpPr>
          <a:xfrm>
            <a:off x="3338640" y="5457960"/>
            <a:ext cx="269640" cy="477720"/>
            <a:chOff x="3338640" y="5457960"/>
            <a:chExt cx="269640" cy="477720"/>
          </a:xfrm>
        </p:grpSpPr>
        <p:sp>
          <p:nvSpPr>
            <p:cNvPr id="919" name="Line 147"/>
            <p:cNvSpPr/>
            <p:nvPr/>
          </p:nvSpPr>
          <p:spPr>
            <a:xfrm>
              <a:off x="3472560" y="545796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0" name="Line 148"/>
            <p:cNvSpPr/>
            <p:nvPr/>
          </p:nvSpPr>
          <p:spPr>
            <a:xfrm>
              <a:off x="3338640" y="5806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Line 149"/>
            <p:cNvSpPr/>
            <p:nvPr/>
          </p:nvSpPr>
          <p:spPr>
            <a:xfrm>
              <a:off x="3384000" y="5850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2" name="Line 150"/>
            <p:cNvSpPr/>
            <p:nvPr/>
          </p:nvSpPr>
          <p:spPr>
            <a:xfrm>
              <a:off x="3416400" y="5895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3" name="Line 151"/>
            <p:cNvSpPr/>
            <p:nvPr/>
          </p:nvSpPr>
          <p:spPr>
            <a:xfrm>
              <a:off x="3452400" y="5935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24" name="Group 152"/>
          <p:cNvGrpSpPr/>
          <p:nvPr/>
        </p:nvGrpSpPr>
        <p:grpSpPr>
          <a:xfrm>
            <a:off x="3753000" y="5457960"/>
            <a:ext cx="269640" cy="477720"/>
            <a:chOff x="3753000" y="5457960"/>
            <a:chExt cx="269640" cy="477720"/>
          </a:xfrm>
        </p:grpSpPr>
        <p:sp>
          <p:nvSpPr>
            <p:cNvPr id="925" name="Line 153"/>
            <p:cNvSpPr/>
            <p:nvPr/>
          </p:nvSpPr>
          <p:spPr>
            <a:xfrm>
              <a:off x="3886920" y="545796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6" name="Line 154"/>
            <p:cNvSpPr/>
            <p:nvPr/>
          </p:nvSpPr>
          <p:spPr>
            <a:xfrm>
              <a:off x="3753000" y="5806080"/>
              <a:ext cx="26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7" name="Line 155"/>
            <p:cNvSpPr/>
            <p:nvPr/>
          </p:nvSpPr>
          <p:spPr>
            <a:xfrm>
              <a:off x="3798360" y="5850720"/>
              <a:ext cx="176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8" name="Line 156"/>
            <p:cNvSpPr/>
            <p:nvPr/>
          </p:nvSpPr>
          <p:spPr>
            <a:xfrm>
              <a:off x="3830760" y="5895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9" name="Line 157"/>
            <p:cNvSpPr/>
            <p:nvPr/>
          </p:nvSpPr>
          <p:spPr>
            <a:xfrm>
              <a:off x="3866760" y="5935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30" name="Group 158"/>
          <p:cNvGrpSpPr/>
          <p:nvPr/>
        </p:nvGrpSpPr>
        <p:grpSpPr>
          <a:xfrm>
            <a:off x="4124160" y="5457960"/>
            <a:ext cx="270000" cy="477720"/>
            <a:chOff x="4124160" y="5457960"/>
            <a:chExt cx="270000" cy="477720"/>
          </a:xfrm>
        </p:grpSpPr>
        <p:sp>
          <p:nvSpPr>
            <p:cNvPr id="931" name="Line 159"/>
            <p:cNvSpPr/>
            <p:nvPr/>
          </p:nvSpPr>
          <p:spPr>
            <a:xfrm>
              <a:off x="4258080" y="545796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2" name="Line 160"/>
            <p:cNvSpPr/>
            <p:nvPr/>
          </p:nvSpPr>
          <p:spPr>
            <a:xfrm>
              <a:off x="4124160" y="5806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3" name="Line 161"/>
            <p:cNvSpPr/>
            <p:nvPr/>
          </p:nvSpPr>
          <p:spPr>
            <a:xfrm>
              <a:off x="4169520" y="5850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4" name="Line 162"/>
            <p:cNvSpPr/>
            <p:nvPr/>
          </p:nvSpPr>
          <p:spPr>
            <a:xfrm>
              <a:off x="4201920" y="5895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5" name="Line 163"/>
            <p:cNvSpPr/>
            <p:nvPr/>
          </p:nvSpPr>
          <p:spPr>
            <a:xfrm>
              <a:off x="4238280" y="5935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36" name="Group 164"/>
          <p:cNvGrpSpPr/>
          <p:nvPr/>
        </p:nvGrpSpPr>
        <p:grpSpPr>
          <a:xfrm>
            <a:off x="4495680" y="5457960"/>
            <a:ext cx="270000" cy="477720"/>
            <a:chOff x="4495680" y="5457960"/>
            <a:chExt cx="270000" cy="477720"/>
          </a:xfrm>
        </p:grpSpPr>
        <p:sp>
          <p:nvSpPr>
            <p:cNvPr id="937" name="Line 165"/>
            <p:cNvSpPr/>
            <p:nvPr/>
          </p:nvSpPr>
          <p:spPr>
            <a:xfrm>
              <a:off x="4629600" y="5457960"/>
              <a:ext cx="0" cy="34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8" name="Line 166"/>
            <p:cNvSpPr/>
            <p:nvPr/>
          </p:nvSpPr>
          <p:spPr>
            <a:xfrm>
              <a:off x="4495680" y="5806080"/>
              <a:ext cx="270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9" name="Line 167"/>
            <p:cNvSpPr/>
            <p:nvPr/>
          </p:nvSpPr>
          <p:spPr>
            <a:xfrm>
              <a:off x="4541040" y="5850720"/>
              <a:ext cx="177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0" name="Line 168"/>
            <p:cNvSpPr/>
            <p:nvPr/>
          </p:nvSpPr>
          <p:spPr>
            <a:xfrm>
              <a:off x="4573440" y="5895000"/>
              <a:ext cx="112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1" name="Line 169"/>
            <p:cNvSpPr/>
            <p:nvPr/>
          </p:nvSpPr>
          <p:spPr>
            <a:xfrm>
              <a:off x="4609800" y="5935680"/>
              <a:ext cx="39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42" name="Group 171"/>
          <p:cNvGrpSpPr/>
          <p:nvPr/>
        </p:nvGrpSpPr>
        <p:grpSpPr>
          <a:xfrm>
            <a:off x="5719680" y="5343480"/>
            <a:ext cx="1919520" cy="866880"/>
            <a:chOff x="5719680" y="5343480"/>
            <a:chExt cx="1919520" cy="866880"/>
          </a:xfrm>
        </p:grpSpPr>
        <p:sp>
          <p:nvSpPr>
            <p:cNvPr id="943" name="AutoShape 172"/>
            <p:cNvSpPr/>
            <p:nvPr/>
          </p:nvSpPr>
          <p:spPr>
            <a:xfrm>
              <a:off x="5719680" y="5343480"/>
              <a:ext cx="1919520" cy="866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4" name="Text Box 173"/>
            <p:cNvSpPr/>
            <p:nvPr/>
          </p:nvSpPr>
          <p:spPr>
            <a:xfrm>
              <a:off x="5945760" y="5441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5" name="Text Box 174"/>
            <p:cNvSpPr/>
            <p:nvPr/>
          </p:nvSpPr>
          <p:spPr>
            <a:xfrm>
              <a:off x="5773680" y="5434200"/>
              <a:ext cx="17064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6" name="Text Box 175"/>
            <p:cNvSpPr/>
            <p:nvPr/>
          </p:nvSpPr>
          <p:spPr>
            <a:xfrm>
              <a:off x="5945760" y="583056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7" name="Text Box 176"/>
            <p:cNvSpPr/>
            <p:nvPr/>
          </p:nvSpPr>
          <p:spPr>
            <a:xfrm>
              <a:off x="5773680" y="5822280"/>
              <a:ext cx="170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8" name="Text Box 177"/>
            <p:cNvSpPr/>
            <p:nvPr/>
          </p:nvSpPr>
          <p:spPr>
            <a:xfrm>
              <a:off x="6592320" y="544104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9" name="Text Box 178"/>
            <p:cNvSpPr/>
            <p:nvPr/>
          </p:nvSpPr>
          <p:spPr>
            <a:xfrm>
              <a:off x="6315480" y="5434200"/>
              <a:ext cx="2739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0" name="Text Box 179"/>
            <p:cNvSpPr/>
            <p:nvPr/>
          </p:nvSpPr>
          <p:spPr>
            <a:xfrm>
              <a:off x="6592320" y="5830560"/>
              <a:ext cx="355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1" name="Text Box 180"/>
            <p:cNvSpPr/>
            <p:nvPr/>
          </p:nvSpPr>
          <p:spPr>
            <a:xfrm>
              <a:off x="6315480" y="5822280"/>
              <a:ext cx="2739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2" name="Text Box 181"/>
            <p:cNvSpPr/>
            <p:nvPr/>
          </p:nvSpPr>
          <p:spPr>
            <a:xfrm>
              <a:off x="7173000" y="5441040"/>
              <a:ext cx="3567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3" name="Text Box 182"/>
            <p:cNvSpPr/>
            <p:nvPr/>
          </p:nvSpPr>
          <p:spPr>
            <a:xfrm>
              <a:off x="6944400" y="5434200"/>
              <a:ext cx="2271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54" name="Line 183"/>
          <p:cNvSpPr/>
          <p:nvPr/>
        </p:nvSpPr>
        <p:spPr>
          <a:xfrm>
            <a:off x="4657680" y="5443560"/>
            <a:ext cx="101448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4" dur="500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500"/>
                            </p:stCondLst>
                            <p:childTnLst>
                              <p:par>
                                <p:cTn id="3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1" dur="500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6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3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fill="hold">
                            <p:stCondLst>
                              <p:cond delay="500"/>
                            </p:stCondLst>
                            <p:childTnLst>
                              <p:par>
                                <p:cTn id="3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5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1" fill="hold">
                            <p:stCondLst>
                              <p:cond delay="500"/>
                            </p:stCondLst>
                            <p:childTnLst>
                              <p:par>
                                <p:cTn id="3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290680" y="1384200"/>
            <a:ext cx="4375080" cy="227484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 window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c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cces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Rectangle 21"/>
          <p:cNvSpPr/>
          <p:nvPr/>
        </p:nvSpPr>
        <p:spPr>
          <a:xfrm>
            <a:off x="3219480" y="3827520"/>
            <a:ext cx="258912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58" name="Group 27"/>
          <p:cNvGrpSpPr/>
          <p:nvPr/>
        </p:nvGrpSpPr>
        <p:grpSpPr>
          <a:xfrm>
            <a:off x="2784600" y="4600440"/>
            <a:ext cx="3054240" cy="1566720"/>
            <a:chOff x="2784600" y="4600440"/>
            <a:chExt cx="3054240" cy="1566720"/>
          </a:xfrm>
        </p:grpSpPr>
        <p:grpSp>
          <p:nvGrpSpPr>
            <p:cNvPr id="959" name="Group 5"/>
            <p:cNvGrpSpPr/>
            <p:nvPr/>
          </p:nvGrpSpPr>
          <p:grpSpPr>
            <a:xfrm>
              <a:off x="2784600" y="4843440"/>
              <a:ext cx="647640" cy="368280"/>
              <a:chOff x="2784600" y="4843440"/>
              <a:chExt cx="647640" cy="368280"/>
            </a:xfrm>
          </p:grpSpPr>
          <p:sp>
            <p:nvSpPr>
              <p:cNvPr id="960" name="Rectangle 6"/>
              <p:cNvSpPr/>
              <p:nvPr/>
            </p:nvSpPr>
            <p:spPr>
              <a:xfrm>
                <a:off x="3049560" y="484344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61" name="Text Box 7"/>
              <p:cNvSpPr/>
              <p:nvPr/>
            </p:nvSpPr>
            <p:spPr>
              <a:xfrm>
                <a:off x="2784600" y="4846680"/>
                <a:ext cx="264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962" name="Line 8"/>
            <p:cNvSpPr/>
            <p:nvPr/>
          </p:nvSpPr>
          <p:spPr>
            <a:xfrm>
              <a:off x="3241800" y="503532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3" name="AutoShape 10"/>
            <p:cNvSpPr/>
            <p:nvPr/>
          </p:nvSpPr>
          <p:spPr>
            <a:xfrm>
              <a:off x="3962520" y="4600440"/>
              <a:ext cx="1876320" cy="1566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4" name="Text Box 11"/>
            <p:cNvSpPr/>
            <p:nvPr/>
          </p:nvSpPr>
          <p:spPr>
            <a:xfrm>
              <a:off x="5002560" y="4698720"/>
              <a:ext cx="585720" cy="2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5" name="Text Box 12"/>
            <p:cNvSpPr/>
            <p:nvPr/>
          </p:nvSpPr>
          <p:spPr>
            <a:xfrm>
              <a:off x="4131000" y="4690800"/>
              <a:ext cx="8143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window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6" name="Text Box 13"/>
            <p:cNvSpPr/>
            <p:nvPr/>
          </p:nvSpPr>
          <p:spPr>
            <a:xfrm>
              <a:off x="5002560" y="5087880"/>
              <a:ext cx="58572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7" name="Text Box 22"/>
            <p:cNvSpPr/>
            <p:nvPr/>
          </p:nvSpPr>
          <p:spPr>
            <a:xfrm>
              <a:off x="4345200" y="5105160"/>
              <a:ext cx="6001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sc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5002560" y="5445000"/>
              <a:ext cx="58572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9" name="Text Box 24"/>
            <p:cNvSpPr/>
            <p:nvPr/>
          </p:nvSpPr>
          <p:spPr>
            <a:xfrm>
              <a:off x="4088160" y="5462280"/>
              <a:ext cx="8571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0" name="Text Box 25"/>
            <p:cNvSpPr/>
            <p:nvPr/>
          </p:nvSpPr>
          <p:spPr>
            <a:xfrm>
              <a:off x="5002560" y="5787720"/>
              <a:ext cx="58572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1" name="Text Box 26"/>
            <p:cNvSpPr/>
            <p:nvPr/>
          </p:nvSpPr>
          <p:spPr>
            <a:xfrm>
              <a:off x="3973680" y="5805360"/>
              <a:ext cx="971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success</a:t>
              </a:r>
              <a:endParaRPr b="0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7" dur="indefinite" restart="never" nodeType="tmRoot">
          <p:childTnLst>
            <p:seq>
              <p:cTn id="3218" dur="indefinite" nodeType="mainSeq">
                <p:childTnLst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ขอข้อมูลหรือบริการ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ul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1255680" y="1293840"/>
            <a:ext cx="6683400" cy="19731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4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สร้างแค่อาเรย์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s.length; i++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s[i].length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4" name="Group 42"/>
          <p:cNvGrpSpPr/>
          <p:nvPr/>
        </p:nvGrpSpPr>
        <p:grpSpPr>
          <a:xfrm>
            <a:off x="2913120" y="4890960"/>
            <a:ext cx="2738520" cy="687600"/>
            <a:chOff x="2913120" y="4890960"/>
            <a:chExt cx="2738520" cy="687600"/>
          </a:xfrm>
        </p:grpSpPr>
        <p:grpSp>
          <p:nvGrpSpPr>
            <p:cNvPr id="975" name="Group 4"/>
            <p:cNvGrpSpPr/>
            <p:nvPr/>
          </p:nvGrpSpPr>
          <p:grpSpPr>
            <a:xfrm>
              <a:off x="2913120" y="4890960"/>
              <a:ext cx="2738520" cy="382680"/>
              <a:chOff x="2913120" y="4890960"/>
              <a:chExt cx="2738520" cy="382680"/>
            </a:xfrm>
          </p:grpSpPr>
          <p:grpSp>
            <p:nvGrpSpPr>
              <p:cNvPr id="976" name="Group 5"/>
              <p:cNvGrpSpPr/>
              <p:nvPr/>
            </p:nvGrpSpPr>
            <p:grpSpPr>
              <a:xfrm>
                <a:off x="2913120" y="4890960"/>
                <a:ext cx="647640" cy="368280"/>
                <a:chOff x="2913120" y="4890960"/>
                <a:chExt cx="647640" cy="368280"/>
              </a:xfrm>
            </p:grpSpPr>
            <p:sp>
              <p:nvSpPr>
                <p:cNvPr id="977" name="Rectangle 6"/>
                <p:cNvSpPr/>
                <p:nvPr/>
              </p:nvSpPr>
              <p:spPr>
                <a:xfrm>
                  <a:off x="3178080" y="4890960"/>
                  <a:ext cx="382680" cy="3682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8" name="Text Box 7"/>
                <p:cNvSpPr/>
                <p:nvPr/>
              </p:nvSpPr>
              <p:spPr>
                <a:xfrm>
                  <a:off x="2913120" y="4894200"/>
                  <a:ext cx="26496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urier New"/>
                      <a:ea typeface="Angsana New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979" name="Line 8"/>
              <p:cNvSpPr/>
              <p:nvPr/>
            </p:nvSpPr>
            <p:spPr>
              <a:xfrm>
                <a:off x="3370320" y="5083200"/>
                <a:ext cx="72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0" name="Rectangle 9"/>
              <p:cNvSpPr/>
              <p:nvPr/>
            </p:nvSpPr>
            <p:spPr>
              <a:xfrm>
                <a:off x="4121280" y="4905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1" name="Rectangle 10"/>
              <p:cNvSpPr/>
              <p:nvPr/>
            </p:nvSpPr>
            <p:spPr>
              <a:xfrm>
                <a:off x="4503960" y="4905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2" name="Rectangle 11"/>
              <p:cNvSpPr/>
              <p:nvPr/>
            </p:nvSpPr>
            <p:spPr>
              <a:xfrm>
                <a:off x="4886640" y="4905360"/>
                <a:ext cx="38232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3" name="Rectangle 12"/>
              <p:cNvSpPr/>
              <p:nvPr/>
            </p:nvSpPr>
            <p:spPr>
              <a:xfrm>
                <a:off x="5268960" y="4905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84" name="Group 14"/>
            <p:cNvGrpSpPr/>
            <p:nvPr/>
          </p:nvGrpSpPr>
          <p:grpSpPr>
            <a:xfrm>
              <a:off x="4167360" y="5100480"/>
              <a:ext cx="269640" cy="478080"/>
              <a:chOff x="4167360" y="5100480"/>
              <a:chExt cx="269640" cy="478080"/>
            </a:xfrm>
          </p:grpSpPr>
          <p:sp>
            <p:nvSpPr>
              <p:cNvPr id="985" name="Line 15"/>
              <p:cNvSpPr/>
              <p:nvPr/>
            </p:nvSpPr>
            <p:spPr>
              <a:xfrm>
                <a:off x="4301280" y="5100480"/>
                <a:ext cx="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6" name="Line 16"/>
              <p:cNvSpPr/>
              <p:nvPr/>
            </p:nvSpPr>
            <p:spPr>
              <a:xfrm>
                <a:off x="4167360" y="5448960"/>
                <a:ext cx="2696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7" name="Line 17"/>
              <p:cNvSpPr/>
              <p:nvPr/>
            </p:nvSpPr>
            <p:spPr>
              <a:xfrm>
                <a:off x="4212720" y="5493600"/>
                <a:ext cx="1767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8" name="Line 18"/>
              <p:cNvSpPr/>
              <p:nvPr/>
            </p:nvSpPr>
            <p:spPr>
              <a:xfrm>
                <a:off x="4245120" y="5537880"/>
                <a:ext cx="112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9" name="Line 19"/>
              <p:cNvSpPr/>
              <p:nvPr/>
            </p:nvSpPr>
            <p:spPr>
              <a:xfrm>
                <a:off x="4281120" y="5578560"/>
                <a:ext cx="39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90" name="Group 20"/>
            <p:cNvGrpSpPr/>
            <p:nvPr/>
          </p:nvGrpSpPr>
          <p:grpSpPr>
            <a:xfrm>
              <a:off x="4581360" y="5100480"/>
              <a:ext cx="270000" cy="478080"/>
              <a:chOff x="4581360" y="5100480"/>
              <a:chExt cx="270000" cy="478080"/>
            </a:xfrm>
          </p:grpSpPr>
          <p:sp>
            <p:nvSpPr>
              <p:cNvPr id="991" name="Line 21"/>
              <p:cNvSpPr/>
              <p:nvPr/>
            </p:nvSpPr>
            <p:spPr>
              <a:xfrm>
                <a:off x="4715280" y="5100480"/>
                <a:ext cx="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2" name="Line 22"/>
              <p:cNvSpPr/>
              <p:nvPr/>
            </p:nvSpPr>
            <p:spPr>
              <a:xfrm>
                <a:off x="4581360" y="5448960"/>
                <a:ext cx="2700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3" name="Line 23"/>
              <p:cNvSpPr/>
              <p:nvPr/>
            </p:nvSpPr>
            <p:spPr>
              <a:xfrm>
                <a:off x="4626720" y="5493600"/>
                <a:ext cx="177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4" name="Line 24"/>
              <p:cNvSpPr/>
              <p:nvPr/>
            </p:nvSpPr>
            <p:spPr>
              <a:xfrm>
                <a:off x="4659120" y="5537880"/>
                <a:ext cx="112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5" name="Line 25"/>
              <p:cNvSpPr/>
              <p:nvPr/>
            </p:nvSpPr>
            <p:spPr>
              <a:xfrm>
                <a:off x="4695480" y="5578560"/>
                <a:ext cx="39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96" name="Group 26"/>
            <p:cNvGrpSpPr/>
            <p:nvPr/>
          </p:nvGrpSpPr>
          <p:grpSpPr>
            <a:xfrm>
              <a:off x="4952880" y="5100480"/>
              <a:ext cx="270000" cy="478080"/>
              <a:chOff x="4952880" y="5100480"/>
              <a:chExt cx="270000" cy="478080"/>
            </a:xfrm>
          </p:grpSpPr>
          <p:sp>
            <p:nvSpPr>
              <p:cNvPr id="997" name="Line 27"/>
              <p:cNvSpPr/>
              <p:nvPr/>
            </p:nvSpPr>
            <p:spPr>
              <a:xfrm>
                <a:off x="5086800" y="5100480"/>
                <a:ext cx="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8" name="Line 28"/>
              <p:cNvSpPr/>
              <p:nvPr/>
            </p:nvSpPr>
            <p:spPr>
              <a:xfrm>
                <a:off x="4952880" y="5448960"/>
                <a:ext cx="2700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9" name="Line 29"/>
              <p:cNvSpPr/>
              <p:nvPr/>
            </p:nvSpPr>
            <p:spPr>
              <a:xfrm>
                <a:off x="4998240" y="5493600"/>
                <a:ext cx="177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0" name="Line 30"/>
              <p:cNvSpPr/>
              <p:nvPr/>
            </p:nvSpPr>
            <p:spPr>
              <a:xfrm>
                <a:off x="5030640" y="5537880"/>
                <a:ext cx="112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1" name="Line 31"/>
              <p:cNvSpPr/>
              <p:nvPr/>
            </p:nvSpPr>
            <p:spPr>
              <a:xfrm>
                <a:off x="5067000" y="5578560"/>
                <a:ext cx="39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002" name="Group 32"/>
            <p:cNvGrpSpPr/>
            <p:nvPr/>
          </p:nvGrpSpPr>
          <p:grpSpPr>
            <a:xfrm>
              <a:off x="5324400" y="5100480"/>
              <a:ext cx="270000" cy="478080"/>
              <a:chOff x="5324400" y="5100480"/>
              <a:chExt cx="270000" cy="478080"/>
            </a:xfrm>
          </p:grpSpPr>
          <p:sp>
            <p:nvSpPr>
              <p:cNvPr id="1003" name="Line 33"/>
              <p:cNvSpPr/>
              <p:nvPr/>
            </p:nvSpPr>
            <p:spPr>
              <a:xfrm>
                <a:off x="5458320" y="5100480"/>
                <a:ext cx="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4" name="Line 34"/>
              <p:cNvSpPr/>
              <p:nvPr/>
            </p:nvSpPr>
            <p:spPr>
              <a:xfrm>
                <a:off x="5324400" y="5448960"/>
                <a:ext cx="2700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5" name="Line 35"/>
              <p:cNvSpPr/>
              <p:nvPr/>
            </p:nvSpPr>
            <p:spPr>
              <a:xfrm>
                <a:off x="5369760" y="5493600"/>
                <a:ext cx="177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6" name="Line 36"/>
              <p:cNvSpPr/>
              <p:nvPr/>
            </p:nvSpPr>
            <p:spPr>
              <a:xfrm>
                <a:off x="5402160" y="5537880"/>
                <a:ext cx="112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7" name="Line 37"/>
              <p:cNvSpPr/>
              <p:nvPr/>
            </p:nvSpPr>
            <p:spPr>
              <a:xfrm>
                <a:off x="5438520" y="5578560"/>
                <a:ext cx="399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1008" name="Text Box 38"/>
          <p:cNvSpPr/>
          <p:nvPr/>
        </p:nvSpPr>
        <p:spPr>
          <a:xfrm>
            <a:off x="1247760" y="358452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ิดสิ่งผิดปกติระหว่างการทำงาน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NullPointerException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09" name="Group 39"/>
          <p:cNvGrpSpPr/>
          <p:nvPr/>
        </p:nvGrpSpPr>
        <p:grpSpPr>
          <a:xfrm>
            <a:off x="2757600" y="2362320"/>
            <a:ext cx="1089000" cy="1264680"/>
            <a:chOff x="2757600" y="2362320"/>
            <a:chExt cx="1089000" cy="1264680"/>
          </a:xfrm>
        </p:grpSpPr>
        <p:sp>
          <p:nvSpPr>
            <p:cNvPr id="1010" name="Oval 40"/>
            <p:cNvSpPr/>
            <p:nvPr/>
          </p:nvSpPr>
          <p:spPr>
            <a:xfrm>
              <a:off x="2757600" y="2362320"/>
              <a:ext cx="1089000" cy="560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1" name="Line 41"/>
            <p:cNvSpPr/>
            <p:nvPr/>
          </p:nvSpPr>
          <p:spPr>
            <a:xfrm>
              <a:off x="3294000" y="2948400"/>
              <a:ext cx="0" cy="67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4" dur="indefinite" restart="never" nodeType="tmRoot">
          <p:childTnLst>
            <p:seq>
              <p:cTn id="3235" dur="indefinite" nodeType="mainSeq">
                <p:childTnLst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0" dur="5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5" dur="500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6" fill="hold">
                      <p:stCondLst>
                        <p:cond delay="indefinite"/>
                      </p:stCondLst>
                      <p:childTnLst>
                        <p:par>
                          <p:cTn id="3267" fill="hold">
                            <p:stCondLst>
                              <p:cond delay="0"/>
                            </p:stCondLst>
                            <p:childTnLst>
                              <p:par>
                                <p:cTn id="3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1" fill="hold">
                            <p:stCondLst>
                              <p:cond delay="500"/>
                            </p:stCondLst>
                            <p:childTnLst>
                              <p:par>
                                <p:cTn id="3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้างอ็อบเจกต์ด้วย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471760" y="1195560"/>
            <a:ext cx="398304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d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2571840" y="4960800"/>
            <a:ext cx="3933720" cy="1149120"/>
            <a:chOff x="2571840" y="4960800"/>
            <a:chExt cx="3933720" cy="1149120"/>
          </a:xfrm>
        </p:grpSpPr>
        <p:sp>
          <p:nvSpPr>
            <p:cNvPr id="143" name="AutoShape 6"/>
            <p:cNvSpPr/>
            <p:nvPr/>
          </p:nvSpPr>
          <p:spPr>
            <a:xfrm>
              <a:off x="2571840" y="4960800"/>
              <a:ext cx="3933720" cy="1149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2955960" y="50734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2689200" y="5063760"/>
              <a:ext cx="265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2955960" y="558936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2689200" y="5578200"/>
              <a:ext cx="2653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4327560" y="507348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3897360" y="5063760"/>
              <a:ext cx="426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327560" y="5589360"/>
              <a:ext cx="7686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3897360" y="5578200"/>
              <a:ext cx="4269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5564160" y="5073480"/>
              <a:ext cx="7700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0.0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5208840" y="5063760"/>
              <a:ext cx="35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54" name="Rectangle 17"/>
          <p:cNvSpPr/>
          <p:nvPr/>
        </p:nvSpPr>
        <p:spPr>
          <a:xfrm>
            <a:off x="2747880" y="4056120"/>
            <a:ext cx="34894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1271520" y="3529080"/>
            <a:ext cx="1459080" cy="498240"/>
          </a:xfrm>
          <a:prstGeom prst="wedgeRoundRectCallout">
            <a:avLst>
              <a:gd name="adj1" fmla="val 84384"/>
              <a:gd name="adj2" fmla="val 67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ชื่อคลาส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2998800" y="3100320"/>
            <a:ext cx="1746360" cy="498600"/>
          </a:xfrm>
          <a:prstGeom prst="wedgeRoundRectCallout">
            <a:avLst>
              <a:gd name="adj1" fmla="val -2273"/>
              <a:gd name="adj2" fmla="val 156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ชื่อตัวแปร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21"/>
          <p:cNvSpPr/>
          <p:nvPr/>
        </p:nvSpPr>
        <p:spPr>
          <a:xfrm>
            <a:off x="5241960" y="3228840"/>
            <a:ext cx="2703600" cy="870120"/>
          </a:xfrm>
          <a:prstGeom prst="wedgeRoundRectCallout">
            <a:avLst>
              <a:gd name="adj1" fmla="val -65148"/>
              <a:gd name="adj2" fmla="val 53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สร้างอ็อบเจกต์ของคลาส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5082840" y="6073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อ็อบเจกต์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9" name="Group 23"/>
          <p:cNvGrpSpPr/>
          <p:nvPr/>
        </p:nvGrpSpPr>
        <p:grpSpPr>
          <a:xfrm>
            <a:off x="1335240" y="5018040"/>
            <a:ext cx="647640" cy="368280"/>
            <a:chOff x="1335240" y="5018040"/>
            <a:chExt cx="647640" cy="368280"/>
          </a:xfrm>
        </p:grpSpPr>
        <p:sp>
          <p:nvSpPr>
            <p:cNvPr id="160" name="Rectangle 24"/>
            <p:cNvSpPr/>
            <p:nvPr/>
          </p:nvSpPr>
          <p:spPr>
            <a:xfrm>
              <a:off x="1600200" y="5018040"/>
              <a:ext cx="38268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1" name="Text Box 25"/>
            <p:cNvSpPr/>
            <p:nvPr/>
          </p:nvSpPr>
          <p:spPr>
            <a:xfrm>
              <a:off x="1335240" y="5021280"/>
              <a:ext cx="2649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ngsana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2" name="Line 26"/>
          <p:cNvSpPr/>
          <p:nvPr/>
        </p:nvSpPr>
        <p:spPr>
          <a:xfrm>
            <a:off x="1792440" y="5210280"/>
            <a:ext cx="72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3" name="Group 33"/>
          <p:cNvGrpSpPr/>
          <p:nvPr/>
        </p:nvGrpSpPr>
        <p:grpSpPr>
          <a:xfrm>
            <a:off x="406080" y="5334120"/>
            <a:ext cx="2704320" cy="1172520"/>
            <a:chOff x="406080" y="5334120"/>
            <a:chExt cx="2704320" cy="1172520"/>
          </a:xfrm>
        </p:grpSpPr>
        <p:sp>
          <p:nvSpPr>
            <p:cNvPr id="164" name="Text Box 28"/>
            <p:cNvSpPr/>
            <p:nvPr/>
          </p:nvSpPr>
          <p:spPr>
            <a:xfrm>
              <a:off x="593640" y="5334120"/>
              <a:ext cx="202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ตัว</a:t>
              </a:r>
              <a:r>
                <a:rPr b="0" lang="th-TH" sz="2400" spc="-1" strike="noStrike">
                  <a:solidFill>
                    <a:srgbClr val="ff0000"/>
                  </a:solidFill>
                  <a:latin typeface="Tahoma"/>
                </a:rPr>
                <a:t>อ้างอิง</a:t>
              </a:r>
              <a:br>
                <a:rPr sz="2400"/>
              </a:br>
              <a:r>
                <a:rPr b="0" lang="th-TH" sz="2400" spc="-1" strike="noStrike">
                  <a:solidFill>
                    <a:srgbClr val="000000"/>
                  </a:solidFill>
                  <a:latin typeface="Tahoma"/>
                </a:rPr>
                <a:t>อ็อบเจกต์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5" name="Text Box 32"/>
            <p:cNvSpPr/>
            <p:nvPr/>
          </p:nvSpPr>
          <p:spPr>
            <a:xfrm>
              <a:off x="406080" y="6046920"/>
              <a:ext cx="270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object reference)</a:t>
              </a: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6" name="Text Box 34"/>
          <p:cNvSpPr/>
          <p:nvPr/>
        </p:nvSpPr>
        <p:spPr>
          <a:xfrm>
            <a:off x="6601320" y="517356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หลัง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Courier New"/>
              </a:rPr>
              <a:t>ได้ค่าศูนย์หมด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ริ่มต้นของตัวแปรประจำอ็อบเจกต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ง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่าของตัวแปรประจำอ็อบเจกต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มีค่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มีค่า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ค่าอื่นตอนประกา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variabl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836720" y="3284640"/>
            <a:ext cx="534672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y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2, dy = 4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 = 10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737400" y="3859200"/>
            <a:ext cx="884160" cy="436680"/>
          </a:xfrm>
          <a:prstGeom prst="leftArrow">
            <a:avLst>
              <a:gd name="adj1" fmla="val 50000"/>
              <a:gd name="adj2" fmla="val 50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489640" y="4238640"/>
            <a:ext cx="884160" cy="436680"/>
          </a:xfrm>
          <a:prstGeom prst="leftArrow">
            <a:avLst>
              <a:gd name="adj1" fmla="val 50000"/>
              <a:gd name="adj2" fmla="val 50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5256360" y="3540240"/>
            <a:ext cx="884160" cy="436320"/>
          </a:xfrm>
          <a:prstGeom prst="leftArrow">
            <a:avLst>
              <a:gd name="adj1" fmla="val 50000"/>
              <a:gd name="adj2" fmla="val 50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ต่ละอ็อบเจกต์มีตัวแปรประจำอ็อบเจกต์ของตัวเ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317680" y="1020600"/>
            <a:ext cx="4378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1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2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all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 big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all();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Group 56"/>
          <p:cNvGrpSpPr/>
          <p:nvPr/>
        </p:nvGrpSpPr>
        <p:grpSpPr>
          <a:xfrm>
            <a:off x="604800" y="2870280"/>
            <a:ext cx="3363840" cy="866520"/>
            <a:chOff x="604800" y="2870280"/>
            <a:chExt cx="3363840" cy="866520"/>
          </a:xfrm>
        </p:grpSpPr>
        <p:grpSp>
          <p:nvGrpSpPr>
            <p:cNvPr id="176" name="Group 23"/>
            <p:cNvGrpSpPr/>
            <p:nvPr/>
          </p:nvGrpSpPr>
          <p:grpSpPr>
            <a:xfrm>
              <a:off x="2049480" y="2870280"/>
              <a:ext cx="1919160" cy="866520"/>
              <a:chOff x="2049480" y="2870280"/>
              <a:chExt cx="1919160" cy="866520"/>
            </a:xfrm>
          </p:grpSpPr>
          <p:sp>
            <p:nvSpPr>
              <p:cNvPr id="177" name="AutoShape 24"/>
              <p:cNvSpPr/>
              <p:nvPr/>
            </p:nvSpPr>
            <p:spPr>
              <a:xfrm>
                <a:off x="204948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8" name="Text Box 25"/>
              <p:cNvSpPr/>
              <p:nvPr/>
            </p:nvSpPr>
            <p:spPr>
              <a:xfrm>
                <a:off x="227556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79" name="Text Box 26"/>
              <p:cNvSpPr/>
              <p:nvPr/>
            </p:nvSpPr>
            <p:spPr>
              <a:xfrm>
                <a:off x="210348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0" name="Text Box 27"/>
              <p:cNvSpPr/>
              <p:nvPr/>
            </p:nvSpPr>
            <p:spPr>
              <a:xfrm>
                <a:off x="227556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1" name="Text Box 28"/>
              <p:cNvSpPr/>
              <p:nvPr/>
            </p:nvSpPr>
            <p:spPr>
              <a:xfrm>
                <a:off x="210348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2" name="Text Box 29"/>
              <p:cNvSpPr/>
              <p:nvPr/>
            </p:nvSpPr>
            <p:spPr>
              <a:xfrm>
                <a:off x="292176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264528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4" name="Text Box 31"/>
              <p:cNvSpPr/>
              <p:nvPr/>
            </p:nvSpPr>
            <p:spPr>
              <a:xfrm>
                <a:off x="292176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5" name="Text Box 32"/>
              <p:cNvSpPr/>
              <p:nvPr/>
            </p:nvSpPr>
            <p:spPr>
              <a:xfrm>
                <a:off x="264528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6" name="Text Box 33"/>
              <p:cNvSpPr/>
              <p:nvPr/>
            </p:nvSpPr>
            <p:spPr>
              <a:xfrm>
                <a:off x="35024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87" name="Text Box 34"/>
              <p:cNvSpPr/>
              <p:nvPr/>
            </p:nvSpPr>
            <p:spPr>
              <a:xfrm>
                <a:off x="327384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88" name="Group 35"/>
            <p:cNvGrpSpPr/>
            <p:nvPr/>
          </p:nvGrpSpPr>
          <p:grpSpPr>
            <a:xfrm>
              <a:off x="604800" y="2889360"/>
              <a:ext cx="887400" cy="368280"/>
              <a:chOff x="604800" y="2889360"/>
              <a:chExt cx="887400" cy="368280"/>
            </a:xfrm>
          </p:grpSpPr>
          <p:sp>
            <p:nvSpPr>
              <p:cNvPr id="189" name="Rectangle 36"/>
              <p:cNvSpPr/>
              <p:nvPr/>
            </p:nvSpPr>
            <p:spPr>
              <a:xfrm>
                <a:off x="110952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0" name="Text Box 37"/>
              <p:cNvSpPr/>
              <p:nvPr/>
            </p:nvSpPr>
            <p:spPr>
              <a:xfrm>
                <a:off x="604800" y="289260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1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91" name="Line 38"/>
            <p:cNvSpPr/>
            <p:nvPr/>
          </p:nvSpPr>
          <p:spPr>
            <a:xfrm>
              <a:off x="130176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92" name="Group 56"/>
          <p:cNvGrpSpPr/>
          <p:nvPr/>
        </p:nvGrpSpPr>
        <p:grpSpPr>
          <a:xfrm>
            <a:off x="604800" y="4319640"/>
            <a:ext cx="3363840" cy="866520"/>
            <a:chOff x="604800" y="4319640"/>
            <a:chExt cx="3363840" cy="866520"/>
          </a:xfrm>
        </p:grpSpPr>
        <p:grpSp>
          <p:nvGrpSpPr>
            <p:cNvPr id="193" name="Group 23"/>
            <p:cNvGrpSpPr/>
            <p:nvPr/>
          </p:nvGrpSpPr>
          <p:grpSpPr>
            <a:xfrm>
              <a:off x="2049480" y="4319640"/>
              <a:ext cx="1919160" cy="866520"/>
              <a:chOff x="2049480" y="4319640"/>
              <a:chExt cx="1919160" cy="866520"/>
            </a:xfrm>
          </p:grpSpPr>
          <p:sp>
            <p:nvSpPr>
              <p:cNvPr id="194" name="AutoShape 24"/>
              <p:cNvSpPr/>
              <p:nvPr/>
            </p:nvSpPr>
            <p:spPr>
              <a:xfrm>
                <a:off x="204948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5" name="Text Box 25"/>
              <p:cNvSpPr/>
              <p:nvPr/>
            </p:nvSpPr>
            <p:spPr>
              <a:xfrm>
                <a:off x="227556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6" name="Text Box 26"/>
              <p:cNvSpPr/>
              <p:nvPr/>
            </p:nvSpPr>
            <p:spPr>
              <a:xfrm>
                <a:off x="210348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7" name="Text Box 27"/>
              <p:cNvSpPr/>
              <p:nvPr/>
            </p:nvSpPr>
            <p:spPr>
              <a:xfrm>
                <a:off x="227556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8" name="Text Box 28"/>
              <p:cNvSpPr/>
              <p:nvPr/>
            </p:nvSpPr>
            <p:spPr>
              <a:xfrm>
                <a:off x="210348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99" name="Text Box 29"/>
              <p:cNvSpPr/>
              <p:nvPr/>
            </p:nvSpPr>
            <p:spPr>
              <a:xfrm>
                <a:off x="292176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0" name="Text Box 30"/>
              <p:cNvSpPr/>
              <p:nvPr/>
            </p:nvSpPr>
            <p:spPr>
              <a:xfrm>
                <a:off x="264528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292176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264528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3" name="Text Box 33"/>
              <p:cNvSpPr/>
              <p:nvPr/>
            </p:nvSpPr>
            <p:spPr>
              <a:xfrm>
                <a:off x="3502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4" name="Text Box 34"/>
              <p:cNvSpPr/>
              <p:nvPr/>
            </p:nvSpPr>
            <p:spPr>
              <a:xfrm>
                <a:off x="327384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05" name="Group 35"/>
            <p:cNvGrpSpPr/>
            <p:nvPr/>
          </p:nvGrpSpPr>
          <p:grpSpPr>
            <a:xfrm>
              <a:off x="604800" y="4338720"/>
              <a:ext cx="887400" cy="368280"/>
              <a:chOff x="604800" y="4338720"/>
              <a:chExt cx="887400" cy="368280"/>
            </a:xfrm>
          </p:grpSpPr>
          <p:sp>
            <p:nvSpPr>
              <p:cNvPr id="206" name="Rectangle 36"/>
              <p:cNvSpPr/>
              <p:nvPr/>
            </p:nvSpPr>
            <p:spPr>
              <a:xfrm>
                <a:off x="1109520" y="433872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07" name="Text Box 37"/>
              <p:cNvSpPr/>
              <p:nvPr/>
            </p:nvSpPr>
            <p:spPr>
              <a:xfrm>
                <a:off x="604800" y="4341960"/>
                <a:ext cx="5047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2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08" name="Line 38"/>
            <p:cNvSpPr/>
            <p:nvPr/>
          </p:nvSpPr>
          <p:spPr>
            <a:xfrm>
              <a:off x="130176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09" name="Group 56"/>
          <p:cNvGrpSpPr/>
          <p:nvPr/>
        </p:nvGrpSpPr>
        <p:grpSpPr>
          <a:xfrm>
            <a:off x="4559400" y="2870280"/>
            <a:ext cx="3503520" cy="866520"/>
            <a:chOff x="4559400" y="2870280"/>
            <a:chExt cx="3503520" cy="866520"/>
          </a:xfrm>
        </p:grpSpPr>
        <p:grpSp>
          <p:nvGrpSpPr>
            <p:cNvPr id="210" name="Group 23"/>
            <p:cNvGrpSpPr/>
            <p:nvPr/>
          </p:nvGrpSpPr>
          <p:grpSpPr>
            <a:xfrm>
              <a:off x="6143760" y="2870280"/>
              <a:ext cx="1919160" cy="866520"/>
              <a:chOff x="6143760" y="2870280"/>
              <a:chExt cx="1919160" cy="866520"/>
            </a:xfrm>
          </p:grpSpPr>
          <p:sp>
            <p:nvSpPr>
              <p:cNvPr id="211" name="AutoShape 24"/>
              <p:cNvSpPr/>
              <p:nvPr/>
            </p:nvSpPr>
            <p:spPr>
              <a:xfrm>
                <a:off x="6143760" y="287028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2" name="Text Box 25"/>
              <p:cNvSpPr/>
              <p:nvPr/>
            </p:nvSpPr>
            <p:spPr>
              <a:xfrm>
                <a:off x="636984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3" name="Text Box 26"/>
              <p:cNvSpPr/>
              <p:nvPr/>
            </p:nvSpPr>
            <p:spPr>
              <a:xfrm>
                <a:off x="6197760" y="296100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Text Box 27"/>
              <p:cNvSpPr/>
              <p:nvPr/>
            </p:nvSpPr>
            <p:spPr>
              <a:xfrm>
                <a:off x="6369840" y="335736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5" name="Text Box 28"/>
              <p:cNvSpPr/>
              <p:nvPr/>
            </p:nvSpPr>
            <p:spPr>
              <a:xfrm>
                <a:off x="6197760" y="334908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6" name="Text Box 29"/>
              <p:cNvSpPr/>
              <p:nvPr/>
            </p:nvSpPr>
            <p:spPr>
              <a:xfrm>
                <a:off x="7016040" y="296784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7" name="Text Box 30"/>
              <p:cNvSpPr/>
              <p:nvPr/>
            </p:nvSpPr>
            <p:spPr>
              <a:xfrm>
                <a:off x="6739560" y="296100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8" name="Text Box 31"/>
              <p:cNvSpPr/>
              <p:nvPr/>
            </p:nvSpPr>
            <p:spPr>
              <a:xfrm>
                <a:off x="7016040" y="335736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9" name="Text Box 32"/>
              <p:cNvSpPr/>
              <p:nvPr/>
            </p:nvSpPr>
            <p:spPr>
              <a:xfrm>
                <a:off x="6739560" y="334908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0" name="Text Box 33"/>
              <p:cNvSpPr/>
              <p:nvPr/>
            </p:nvSpPr>
            <p:spPr>
              <a:xfrm>
                <a:off x="7596720" y="296784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1" name="Text Box 34"/>
              <p:cNvSpPr/>
              <p:nvPr/>
            </p:nvSpPr>
            <p:spPr>
              <a:xfrm>
                <a:off x="7368120" y="296100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22" name="Group 35"/>
            <p:cNvGrpSpPr/>
            <p:nvPr/>
          </p:nvGrpSpPr>
          <p:grpSpPr>
            <a:xfrm>
              <a:off x="4559400" y="2889360"/>
              <a:ext cx="1027080" cy="368280"/>
              <a:chOff x="4559400" y="2889360"/>
              <a:chExt cx="1027080" cy="368280"/>
            </a:xfrm>
          </p:grpSpPr>
          <p:sp>
            <p:nvSpPr>
              <p:cNvPr id="223" name="Rectangle 36"/>
              <p:cNvSpPr/>
              <p:nvPr/>
            </p:nvSpPr>
            <p:spPr>
              <a:xfrm>
                <a:off x="5203800" y="2889360"/>
                <a:ext cx="38268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4" name="Text Box 37"/>
              <p:cNvSpPr/>
              <p:nvPr/>
            </p:nvSpPr>
            <p:spPr>
              <a:xfrm>
                <a:off x="4559400" y="2892600"/>
                <a:ext cx="644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all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25" name="Line 38"/>
            <p:cNvSpPr/>
            <p:nvPr/>
          </p:nvSpPr>
          <p:spPr>
            <a:xfrm>
              <a:off x="5396040" y="308124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6" name="Group 56"/>
          <p:cNvGrpSpPr/>
          <p:nvPr/>
        </p:nvGrpSpPr>
        <p:grpSpPr>
          <a:xfrm>
            <a:off x="4559400" y="4319640"/>
            <a:ext cx="3462120" cy="866520"/>
            <a:chOff x="4559400" y="4319640"/>
            <a:chExt cx="3462120" cy="866520"/>
          </a:xfrm>
        </p:grpSpPr>
        <p:grpSp>
          <p:nvGrpSpPr>
            <p:cNvPr id="227" name="Group 23"/>
            <p:cNvGrpSpPr/>
            <p:nvPr/>
          </p:nvGrpSpPr>
          <p:grpSpPr>
            <a:xfrm>
              <a:off x="6102360" y="4319640"/>
              <a:ext cx="1919160" cy="866520"/>
              <a:chOff x="6102360" y="4319640"/>
              <a:chExt cx="1919160" cy="866520"/>
            </a:xfrm>
          </p:grpSpPr>
          <p:sp>
            <p:nvSpPr>
              <p:cNvPr id="228" name="AutoShape 24"/>
              <p:cNvSpPr/>
              <p:nvPr/>
            </p:nvSpPr>
            <p:spPr>
              <a:xfrm>
                <a:off x="6102360" y="4319640"/>
                <a:ext cx="1919160" cy="86652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29" name="Text Box 25"/>
              <p:cNvSpPr/>
              <p:nvPr/>
            </p:nvSpPr>
            <p:spPr>
              <a:xfrm>
                <a:off x="632844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0" name="Text Box 26"/>
              <p:cNvSpPr/>
              <p:nvPr/>
            </p:nvSpPr>
            <p:spPr>
              <a:xfrm>
                <a:off x="6156360" y="4410360"/>
                <a:ext cx="17028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1" name="Text Box 27"/>
              <p:cNvSpPr/>
              <p:nvPr/>
            </p:nvSpPr>
            <p:spPr>
              <a:xfrm>
                <a:off x="6328440" y="480672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2" name="Text Box 28"/>
              <p:cNvSpPr/>
              <p:nvPr/>
            </p:nvSpPr>
            <p:spPr>
              <a:xfrm>
                <a:off x="6156360" y="4798440"/>
                <a:ext cx="17028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3" name="Text Box 29"/>
              <p:cNvSpPr/>
              <p:nvPr/>
            </p:nvSpPr>
            <p:spPr>
              <a:xfrm>
                <a:off x="6974640" y="441720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4" name="Text Box 30"/>
              <p:cNvSpPr/>
              <p:nvPr/>
            </p:nvSpPr>
            <p:spPr>
              <a:xfrm>
                <a:off x="6698160" y="4410360"/>
                <a:ext cx="2739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5" name="Text Box 31"/>
              <p:cNvSpPr/>
              <p:nvPr/>
            </p:nvSpPr>
            <p:spPr>
              <a:xfrm>
                <a:off x="6974640" y="4806720"/>
                <a:ext cx="35532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6" name="Text Box 32"/>
              <p:cNvSpPr/>
              <p:nvPr/>
            </p:nvSpPr>
            <p:spPr>
              <a:xfrm>
                <a:off x="6698160" y="4798440"/>
                <a:ext cx="273960" cy="21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7" name="Text Box 33"/>
              <p:cNvSpPr/>
              <p:nvPr/>
            </p:nvSpPr>
            <p:spPr>
              <a:xfrm>
                <a:off x="7555320" y="4417200"/>
                <a:ext cx="356400" cy="26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00" bIns="36000" anchor="t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0.0</a:t>
                </a: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8" name="Text Box 34"/>
              <p:cNvSpPr/>
              <p:nvPr/>
            </p:nvSpPr>
            <p:spPr>
              <a:xfrm>
                <a:off x="7326720" y="4410360"/>
                <a:ext cx="22716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39" name="Group 35"/>
            <p:cNvGrpSpPr/>
            <p:nvPr/>
          </p:nvGrpSpPr>
          <p:grpSpPr>
            <a:xfrm>
              <a:off x="4559400" y="4338720"/>
              <a:ext cx="985320" cy="368280"/>
              <a:chOff x="4559400" y="4338720"/>
              <a:chExt cx="985320" cy="368280"/>
            </a:xfrm>
          </p:grpSpPr>
          <p:sp>
            <p:nvSpPr>
              <p:cNvPr id="240" name="Rectangle 36"/>
              <p:cNvSpPr/>
              <p:nvPr/>
            </p:nvSpPr>
            <p:spPr>
              <a:xfrm>
                <a:off x="5162400" y="4338720"/>
                <a:ext cx="382320" cy="368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1" name="Text Box 37"/>
              <p:cNvSpPr/>
              <p:nvPr/>
            </p:nvSpPr>
            <p:spPr>
              <a:xfrm>
                <a:off x="4559400" y="4341960"/>
                <a:ext cx="603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Angsana New"/>
                  </a:rPr>
                  <a:t>big</a:t>
                </a:r>
                <a:endParaRPr b="0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42" name="Line 38"/>
            <p:cNvSpPr/>
            <p:nvPr/>
          </p:nvSpPr>
          <p:spPr>
            <a:xfrm>
              <a:off x="5354640" y="4530600"/>
              <a:ext cx="7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3" name="TextBox 89"/>
          <p:cNvSpPr/>
          <p:nvPr/>
        </p:nvSpPr>
        <p:spPr>
          <a:xfrm>
            <a:off x="1248480" y="5500800"/>
            <a:ext cx="6732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, b2, ball, big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เป็นตัวอ้างอิงอ็อบเจกต์แบ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บางครั้งเราเรียก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็อบเจกต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แทนอ็อบเจกต์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</a:rPr>
              <a:t>อ้างอิงอยู่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3:46:59Z</dcterms:created>
  <dc:creator>chai</dc:creator>
  <dc:description/>
  <dc:language>en-US</dc:language>
  <cp:lastModifiedBy>chai</cp:lastModifiedBy>
  <dcterms:modified xsi:type="dcterms:W3CDTF">2009-06-11T16:32:37Z</dcterms:modified>
  <cp:revision>390</cp:revision>
  <dc:subject/>
  <dc:title>Slide 1</dc:title>
</cp:coreProperties>
</file>