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38B-E721-46D9-8C70-3C7A90B4E487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36F-4F46-4AD2-A665-1AFFF5B0A6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E73-C6CA-4DE6-B515-4A7F3DF433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21CF-460C-4FA8-829C-7DD6F706E1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05160" cy="3830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855680"/>
            <a:ext cx="5670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E87C-569F-48DD-9A65-8739EF658E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0F130447-1859-4428-8F0D-5512DD895BE6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2932-A94E-4A4C-974B-0BB3A523C58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Tahoma"/>
              </a:rPr>
              <a:t>การสร้างคลาสใหม่</a:t>
            </a:r>
            <a:br>
              <a:rPr sz="4800"/>
            </a:br>
            <a:r>
              <a:rPr b="0" lang="th-TH" sz="4800" spc="-1" strike="noStrike">
                <a:solidFill>
                  <a:srgbClr val="000000"/>
                </a:solidFill>
                <a:latin typeface="Tahoma"/>
              </a:rPr>
              <a:t>ด้วยการรับทอด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 extends 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5292360"/>
            <a:ext cx="79200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็อบเจกต์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ตัวแปร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y,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ใช้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าเรียกเมท็อด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m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ับอ็อบเจกต์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ตัวสร้า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(int z1){...}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(){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471680" y="755640"/>
            <a:ext cx="53164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() {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1) {x = x1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1(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m2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z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3() (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2954160" y="3373560"/>
            <a:ext cx="4486320" cy="1919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z1) {z = z1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1(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4(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446960" y="940680"/>
            <a:ext cx="1042920" cy="1387080"/>
            <a:chOff x="7446960" y="940680"/>
            <a:chExt cx="1042920" cy="1387080"/>
          </a:xfrm>
        </p:grpSpPr>
        <p:sp>
          <p:nvSpPr>
            <p:cNvPr id="174" name="Line 7"/>
            <p:cNvSpPr/>
            <p:nvPr/>
          </p:nvSpPr>
          <p:spPr>
            <a:xfrm flipV="1">
              <a:off x="7968240" y="152784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7446960" y="940680"/>
              <a:ext cx="1042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446960" y="1807200"/>
              <a:ext cx="1042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7898400" y="1445400"/>
              <a:ext cx="139320" cy="12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789120" y="3849840"/>
            <a:ext cx="2494080" cy="652680"/>
            <a:chOff x="789120" y="3849840"/>
            <a:chExt cx="2494080" cy="652680"/>
          </a:xfrm>
        </p:grpSpPr>
        <p:sp>
          <p:nvSpPr>
            <p:cNvPr id="179" name="TextBox 40"/>
            <p:cNvSpPr/>
            <p:nvPr/>
          </p:nvSpPr>
          <p:spPr>
            <a:xfrm>
              <a:off x="789120" y="3849840"/>
              <a:ext cx="1468440" cy="642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m1 </a:t>
              </a: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นี้ แทน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m1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ของแม่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80" name="Straight Arrow Connector 41"/>
            <p:cNvCxnSpPr/>
            <p:nvPr/>
          </p:nvCxnSpPr>
          <p:spPr>
            <a:xfrm>
              <a:off x="2257560" y="4197600"/>
              <a:ext cx="1026000" cy="3052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1" name="Group 43"/>
          <p:cNvGrpSpPr/>
          <p:nvPr/>
        </p:nvGrpSpPr>
        <p:grpSpPr>
          <a:xfrm>
            <a:off x="831960" y="4640400"/>
            <a:ext cx="2395800" cy="368280"/>
            <a:chOff x="831960" y="4640400"/>
            <a:chExt cx="2395800" cy="368280"/>
          </a:xfrm>
        </p:grpSpPr>
        <p:sp>
          <p:nvSpPr>
            <p:cNvPr id="182" name="TextBox 44"/>
            <p:cNvSpPr/>
            <p:nvPr/>
          </p:nvSpPr>
          <p:spPr>
            <a:xfrm>
              <a:off x="831960" y="4640400"/>
              <a:ext cx="1190880" cy="36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เพิ่ม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83" name="Straight Arrow Connector 45"/>
            <p:cNvCxnSpPr>
              <a:stCxn id="182" idx="3"/>
            </p:cNvCxnSpPr>
            <p:nvPr/>
          </p:nvCxnSpPr>
          <p:spPr>
            <a:xfrm flipV="1">
              <a:off x="2022840" y="4806720"/>
              <a:ext cx="1205280" cy="17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กตัวสร้างของแม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super(..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1880" y="907920"/>
            <a:ext cx="846000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าควรเขียนตัวสร้างเพื่อตั้งค่าเริ่มต้นของตัวแปรประจำ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็อบเจกต์ เมื่อมีกา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ูกไม่มีตัวสร้างของแม่ แต่ลูกเรียกใช้ตัวสร้างของแม่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(...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พื่อเรียกตัวสร้างของแม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บรรทัดแรกในตัวสร้างของลูก ควรเรียกตัวสร้างของแม่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เรียก  ระบบจะเติ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(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15840" y="3975120"/>
            <a:ext cx="3060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1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379760" y="3975120"/>
            <a:ext cx="42246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z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z1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 = z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8" name="Group 17"/>
          <p:cNvGrpSpPr/>
          <p:nvPr/>
        </p:nvGrpSpPr>
        <p:grpSpPr>
          <a:xfrm>
            <a:off x="4863960" y="5070600"/>
            <a:ext cx="3753000" cy="398880"/>
            <a:chOff x="4863960" y="5070600"/>
            <a:chExt cx="3753000" cy="398880"/>
          </a:xfrm>
        </p:grpSpPr>
        <p:sp>
          <p:nvSpPr>
            <p:cNvPr id="189" name="Rectangle 9"/>
            <p:cNvSpPr/>
            <p:nvPr/>
          </p:nvSpPr>
          <p:spPr>
            <a:xfrm>
              <a:off x="4863960" y="5112360"/>
              <a:ext cx="1397880" cy="304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</a:rPr>
                <a:t>super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)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0" name="TextBox 11"/>
            <p:cNvSpPr/>
            <p:nvPr/>
          </p:nvSpPr>
          <p:spPr>
            <a:xfrm>
              <a:off x="6525360" y="5070600"/>
              <a:ext cx="209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ผิด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: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แม่ไม่มี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()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91" name="Group 13"/>
          <p:cNvGrpSpPr/>
          <p:nvPr/>
        </p:nvGrpSpPr>
        <p:grpSpPr>
          <a:xfrm>
            <a:off x="4903920" y="5045040"/>
            <a:ext cx="2949480" cy="398880"/>
            <a:chOff x="4903920" y="5045040"/>
            <a:chExt cx="2949480" cy="398880"/>
          </a:xfrm>
        </p:grpSpPr>
        <p:sp>
          <p:nvSpPr>
            <p:cNvPr id="192" name="Rectangle 12"/>
            <p:cNvSpPr/>
            <p:nvPr/>
          </p:nvSpPr>
          <p:spPr>
            <a:xfrm>
              <a:off x="4903920" y="5114520"/>
              <a:ext cx="1675440" cy="2905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</a:rPr>
                <a:t>super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 0 )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TextBox 13"/>
            <p:cNvSpPr/>
            <p:nvPr/>
          </p:nvSpPr>
          <p:spPr>
            <a:xfrm>
              <a:off x="6565680" y="5045040"/>
              <a:ext cx="128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ูกต้อ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94" name="Freeform 14"/>
          <p:cNvSpPr/>
          <p:nvPr/>
        </p:nvSpPr>
        <p:spPr>
          <a:xfrm>
            <a:off x="3186000" y="5146560"/>
            <a:ext cx="2936880" cy="887400"/>
          </a:xfrm>
          <a:custGeom>
            <a:avLst/>
            <a:gdLst/>
            <a:ahLst/>
            <a:rect l="l" t="t" r="r" b="b"/>
            <a:pathLst>
              <a:path w="2937387" h="887361">
                <a:moveTo>
                  <a:pt x="2875935" y="294968"/>
                </a:moveTo>
                <a:cubicBezTo>
                  <a:pt x="2906661" y="474407"/>
                  <a:pt x="2937387" y="653846"/>
                  <a:pt x="2743200" y="752168"/>
                </a:cubicBezTo>
                <a:cubicBezTo>
                  <a:pt x="2549013" y="850491"/>
                  <a:pt x="2035278" y="887361"/>
                  <a:pt x="1710813" y="884903"/>
                </a:cubicBezTo>
                <a:cubicBezTo>
                  <a:pt x="1386349" y="882445"/>
                  <a:pt x="1081548" y="884903"/>
                  <a:pt x="796413" y="737419"/>
                </a:cubicBezTo>
                <a:cubicBezTo>
                  <a:pt x="511278" y="589935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Freeform 15"/>
          <p:cNvSpPr/>
          <p:nvPr/>
        </p:nvSpPr>
        <p:spPr>
          <a:xfrm>
            <a:off x="4106880" y="3760920"/>
            <a:ext cx="685800" cy="1474560"/>
          </a:xfrm>
          <a:custGeom>
            <a:avLst/>
            <a:gdLst/>
            <a:ahLst/>
            <a:rect l="l" t="t" r="r" b="b"/>
            <a:pathLst>
              <a:path w="685800" h="1474838">
                <a:moveTo>
                  <a:pt x="626806" y="0"/>
                </a:moveTo>
                <a:cubicBezTo>
                  <a:pt x="412954" y="135193"/>
                  <a:pt x="199103" y="270387"/>
                  <a:pt x="110613" y="457200"/>
                </a:cubicBezTo>
                <a:cubicBezTo>
                  <a:pt x="22123" y="644013"/>
                  <a:pt x="0" y="951271"/>
                  <a:pt x="95864" y="1120877"/>
                </a:cubicBezTo>
                <a:cubicBezTo>
                  <a:pt x="191729" y="1290483"/>
                  <a:pt x="438764" y="1382660"/>
                  <a:pt x="685800" y="14748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int3D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int2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76320" y="985680"/>
            <a:ext cx="5483160" cy="22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976400" y="3332160"/>
            <a:ext cx="6640560" cy="25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2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z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3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z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 y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z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407880" y="2035080"/>
            <a:ext cx="2187720" cy="2846520"/>
          </a:xfrm>
          <a:custGeom>
            <a:avLst/>
            <a:gdLst>
              <a:gd name="textAreaLeft" fmla="*/ 0 w 2187720"/>
              <a:gd name="textAreaRight" fmla="*/ 2188080 w 2187720"/>
              <a:gd name="textAreaTop" fmla="*/ 0 h 2846520"/>
              <a:gd name="textAreaBottom" fmla="*/ 2846880 h 2846520"/>
            </a:gdLst>
            <a:ahLst/>
            <a:rect l="textAreaLeft" t="textAreaTop" r="textAreaRight" b="textAreaBottom"/>
            <a:pathLst>
              <a:path w="2715491" h="2731654">
                <a:moveTo>
                  <a:pt x="2715491" y="2627745"/>
                </a:moveTo>
                <a:cubicBezTo>
                  <a:pt x="2187864" y="2679699"/>
                  <a:pt x="1660237" y="2731654"/>
                  <a:pt x="1288473" y="2655454"/>
                </a:cubicBezTo>
                <a:cubicBezTo>
                  <a:pt x="916710" y="2579254"/>
                  <a:pt x="688110" y="2401454"/>
                  <a:pt x="484910" y="2170545"/>
                </a:cubicBezTo>
                <a:cubicBezTo>
                  <a:pt x="281710" y="1939636"/>
                  <a:pt x="138546" y="1544781"/>
                  <a:pt x="69273" y="1269999"/>
                </a:cubicBezTo>
                <a:cubicBezTo>
                  <a:pt x="0" y="995217"/>
                  <a:pt x="16164" y="720436"/>
                  <a:pt x="69273" y="521854"/>
                </a:cubicBezTo>
                <a:cubicBezTo>
                  <a:pt x="122382" y="323272"/>
                  <a:pt x="242455" y="157018"/>
                  <a:pt x="387928" y="78509"/>
                </a:cubicBezTo>
                <a:cubicBezTo>
                  <a:pt x="533401" y="0"/>
                  <a:pt x="737755" y="25399"/>
                  <a:pt x="942110" y="507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6792840" y="1094040"/>
            <a:ext cx="1657440" cy="1327680"/>
            <a:chOff x="6792840" y="1094040"/>
            <a:chExt cx="1657440" cy="1327680"/>
          </a:xfrm>
        </p:grpSpPr>
        <p:sp>
          <p:nvSpPr>
            <p:cNvPr id="201" name="Line 7"/>
            <p:cNvSpPr/>
            <p:nvPr/>
          </p:nvSpPr>
          <p:spPr>
            <a:xfrm flipV="1">
              <a:off x="7622280" y="165240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6806520" y="1094040"/>
              <a:ext cx="16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int2D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6792840" y="1962000"/>
              <a:ext cx="1657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int3D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AutoShape 6"/>
            <p:cNvSpPr/>
            <p:nvPr/>
          </p:nvSpPr>
          <p:spPr>
            <a:xfrm>
              <a:off x="7552440" y="1569960"/>
              <a:ext cx="139320" cy="12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ublic, private, protecte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42960" y="922320"/>
            <a:ext cx="792000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c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public</a:t>
            </a:r>
            <a:r>
              <a:rPr b="1" lang="th-TH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     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คร ๆ ก็ใช้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c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private</a:t>
            </a:r>
            <a:r>
              <a:rPr b="1" lang="th-TH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     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ช้ได้เฉพาะภายในคลาสตัวเอ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buClr>
                <a:srgbClr val="0000c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protected</a:t>
            </a:r>
            <a:r>
              <a:rPr b="1" lang="th-TH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Angsana New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ห้คลาสลูก ๆ หลาน ๆ ใช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กำกับสมาชิกในคลา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955880" y="2736720"/>
            <a:ext cx="531792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  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z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otect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() {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1) {x = x1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1(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2(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3() (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rookedDick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ce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07880" y="754200"/>
            <a:ext cx="7129440" cy="406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ic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ice() { roll()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1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(6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Value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847880" y="3546360"/>
            <a:ext cx="6815160" cy="311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rookedDice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ice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rookedDice() {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 &lt; 0.9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(5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211" name="Picture 19" descr="dice.gif"/>
          <p:cNvPicPr/>
          <p:nvPr/>
        </p:nvPicPr>
        <p:blipFill>
          <a:blip r:embed="rId1"/>
          <a:stretch/>
        </p:blipFill>
        <p:spPr>
          <a:xfrm>
            <a:off x="7937640" y="885960"/>
            <a:ext cx="799920" cy="9223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1"/>
          <p:cNvGrpSpPr/>
          <p:nvPr/>
        </p:nvGrpSpPr>
        <p:grpSpPr>
          <a:xfrm>
            <a:off x="3879720" y="844560"/>
            <a:ext cx="3532320" cy="916920"/>
            <a:chOff x="3879720" y="844560"/>
            <a:chExt cx="3532320" cy="916920"/>
          </a:xfrm>
        </p:grpSpPr>
        <p:sp>
          <p:nvSpPr>
            <p:cNvPr id="213" name="TextBox 8"/>
            <p:cNvSpPr/>
            <p:nvPr/>
          </p:nvSpPr>
          <p:spPr>
            <a:xfrm>
              <a:off x="4960080" y="844560"/>
              <a:ext cx="2451960" cy="916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ublic </a:t>
              </a: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ไม่ปลอดภัย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rivate </a:t>
              </a: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ลูกใช้ไม่ได้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ต้องใช้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rotected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14" name="Straight Arrow Connector 10"/>
            <p:cNvCxnSpPr/>
            <p:nvPr/>
          </p:nvCxnSpPr>
          <p:spPr>
            <a:xfrm flipH="1">
              <a:off x="3879720" y="1095120"/>
              <a:ext cx="1177560" cy="180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5" name="Group 12"/>
          <p:cNvGrpSpPr/>
          <p:nvPr/>
        </p:nvGrpSpPr>
        <p:grpSpPr>
          <a:xfrm>
            <a:off x="5623920" y="3975120"/>
            <a:ext cx="2883600" cy="642600"/>
            <a:chOff x="5623920" y="3975120"/>
            <a:chExt cx="2883600" cy="642600"/>
          </a:xfrm>
        </p:grpSpPr>
        <p:sp>
          <p:nvSpPr>
            <p:cNvPr id="216" name="TextBox 13"/>
            <p:cNvSpPr/>
            <p:nvPr/>
          </p:nvSpPr>
          <p:spPr>
            <a:xfrm>
              <a:off x="6802560" y="3975120"/>
              <a:ext cx="1704960" cy="642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oll </a:t>
              </a: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นี้ แทน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ol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ของแม่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17" name="Straight Arrow Connector 14"/>
            <p:cNvCxnSpPr/>
            <p:nvPr/>
          </p:nvCxnSpPr>
          <p:spPr>
            <a:xfrm flipH="1">
              <a:off x="5623920" y="4266360"/>
              <a:ext cx="1261800" cy="97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8" name="Group 22"/>
          <p:cNvGrpSpPr/>
          <p:nvPr/>
        </p:nvGrpSpPr>
        <p:grpSpPr>
          <a:xfrm>
            <a:off x="5654520" y="2630520"/>
            <a:ext cx="2214720" cy="1428840"/>
            <a:chOff x="5654520" y="2630520"/>
            <a:chExt cx="2214720" cy="1428840"/>
          </a:xfrm>
        </p:grpSpPr>
        <p:sp>
          <p:nvSpPr>
            <p:cNvPr id="219" name="TextBox 20"/>
            <p:cNvSpPr/>
            <p:nvPr/>
          </p:nvSpPr>
          <p:spPr>
            <a:xfrm>
              <a:off x="6372720" y="2630520"/>
              <a:ext cx="1496520" cy="916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Courier New"/>
                  <a:cs typeface="Tahoma"/>
                </a:rPr>
                <a:t>ระบบเติม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super();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5654520" y="2922840"/>
              <a:ext cx="718200" cy="113652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718127" h="1136073">
                  <a:moveTo>
                    <a:pt x="718127" y="0"/>
                  </a:moveTo>
                  <a:cubicBezTo>
                    <a:pt x="505690" y="71581"/>
                    <a:pt x="293254" y="143163"/>
                    <a:pt x="177800" y="235527"/>
                  </a:cubicBezTo>
                  <a:cubicBezTo>
                    <a:pt x="62346" y="327891"/>
                    <a:pt x="50800" y="404091"/>
                    <a:pt x="25400" y="554182"/>
                  </a:cubicBezTo>
                  <a:cubicBezTo>
                    <a:pt x="0" y="704273"/>
                    <a:pt x="12700" y="920173"/>
                    <a:pt x="25400" y="113607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G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22" name="Picture 4" descr="ballG"/>
          <p:cNvPicPr/>
          <p:nvPr/>
        </p:nvPicPr>
        <p:blipFill>
          <a:blip r:embed="rId1"/>
          <a:stretch/>
        </p:blipFill>
        <p:spPr>
          <a:xfrm>
            <a:off x="3726000" y="858960"/>
            <a:ext cx="16509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5"/>
          <p:cNvGrpSpPr/>
          <p:nvPr/>
        </p:nvGrpSpPr>
        <p:grpSpPr>
          <a:xfrm>
            <a:off x="6132960" y="1181160"/>
            <a:ext cx="1591200" cy="1276920"/>
            <a:chOff x="6132960" y="1181160"/>
            <a:chExt cx="1591200" cy="1276920"/>
          </a:xfrm>
        </p:grpSpPr>
        <p:sp>
          <p:nvSpPr>
            <p:cNvPr id="224" name="Oval 6"/>
            <p:cNvSpPr/>
            <p:nvPr/>
          </p:nvSpPr>
          <p:spPr>
            <a:xfrm>
              <a:off x="6194520" y="1181160"/>
              <a:ext cx="420480" cy="42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6397560" y="139824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6397560" y="1398240"/>
              <a:ext cx="0" cy="55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7177680" y="118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6132960" y="1998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29" name="Text Box 13"/>
          <p:cNvSpPr/>
          <p:nvPr/>
        </p:nvSpPr>
        <p:spPr>
          <a:xfrm>
            <a:off x="2644920" y="2538360"/>
            <a:ext cx="38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มีแรงโน้มถ่ว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มีความเร่งตามแนวดิ่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ร็วเพิ่ม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ในแต่ละรอบ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720720" y="3846600"/>
            <a:ext cx="7661160" cy="29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G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C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vity = 2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(DWindow w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y += gravit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ve(w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in(y, w.getHeight() - 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1" name="Group 20"/>
          <p:cNvGrpSpPr/>
          <p:nvPr/>
        </p:nvGrpSpPr>
        <p:grpSpPr>
          <a:xfrm>
            <a:off x="822240" y="887760"/>
            <a:ext cx="1270080" cy="2213640"/>
            <a:chOff x="822240" y="887760"/>
            <a:chExt cx="1270080" cy="2213640"/>
          </a:xfrm>
        </p:grpSpPr>
        <p:sp>
          <p:nvSpPr>
            <p:cNvPr id="232" name="Line 7"/>
            <p:cNvSpPr/>
            <p:nvPr/>
          </p:nvSpPr>
          <p:spPr>
            <a:xfrm flipV="1">
              <a:off x="1457280" y="144468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935640" y="887760"/>
              <a:ext cx="1042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822240" y="1755000"/>
              <a:ext cx="1270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C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>
              <a:off x="1387440" y="1362240"/>
              <a:ext cx="139320" cy="12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 flipV="1">
              <a:off x="1457280" y="233136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822240" y="2641680"/>
              <a:ext cx="1270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G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>
              <a:off x="1387440" y="2249280"/>
              <a:ext cx="139320" cy="12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39" name="Rounded Rectangular Callout 21"/>
          <p:cNvSpPr/>
          <p:nvPr/>
        </p:nvSpPr>
        <p:spPr>
          <a:xfrm>
            <a:off x="5264280" y="6165720"/>
            <a:ext cx="2549520" cy="443160"/>
          </a:xfrm>
          <a:prstGeom prst="wedgeRoundRectCallout">
            <a:avLst>
              <a:gd name="adj1" fmla="val -61365"/>
              <a:gd name="adj2" fmla="val -5839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ป้องกันลูกบอลจมดิ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07040" y="25495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+= g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imal, Dog, Basenj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2549520" y="746280"/>
            <a:ext cx="4944960" cy="195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nimal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eat(Food f) {...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leep(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Zzzz...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3379680" y="2077920"/>
            <a:ext cx="5064120" cy="19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nimal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ite(Animal a) {...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rk(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Tahoma"/>
                <a:cs typeface="Tahoma"/>
              </a:rPr>
              <a:t>โฮ่ง ๆ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137120" y="3411360"/>
            <a:ext cx="4825800" cy="19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nji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rk(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...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45" name="Group 38"/>
          <p:cNvGrpSpPr/>
          <p:nvPr/>
        </p:nvGrpSpPr>
        <p:grpSpPr>
          <a:xfrm>
            <a:off x="831960" y="1327320"/>
            <a:ext cx="1661400" cy="2019600"/>
            <a:chOff x="831960" y="1327320"/>
            <a:chExt cx="1661400" cy="2019600"/>
          </a:xfrm>
        </p:grpSpPr>
        <p:grpSp>
          <p:nvGrpSpPr>
            <p:cNvPr id="246" name="Group 39"/>
            <p:cNvGrpSpPr/>
            <p:nvPr/>
          </p:nvGrpSpPr>
          <p:grpSpPr>
            <a:xfrm>
              <a:off x="831960" y="1327320"/>
              <a:ext cx="1661400" cy="2019600"/>
              <a:chOff x="831960" y="1327320"/>
              <a:chExt cx="1661400" cy="2019600"/>
            </a:xfrm>
          </p:grpSpPr>
          <p:sp>
            <p:nvSpPr>
              <p:cNvPr id="247" name="Text Box 40"/>
              <p:cNvSpPr/>
              <p:nvPr/>
            </p:nvSpPr>
            <p:spPr>
              <a:xfrm>
                <a:off x="1071000" y="1327320"/>
                <a:ext cx="11876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nimal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8" name="Text Box 41"/>
              <p:cNvSpPr/>
              <p:nvPr/>
            </p:nvSpPr>
            <p:spPr>
              <a:xfrm>
                <a:off x="1154520" y="2117520"/>
                <a:ext cx="1018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Dog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9" name="Text Box 42"/>
              <p:cNvSpPr/>
              <p:nvPr/>
            </p:nvSpPr>
            <p:spPr>
              <a:xfrm>
                <a:off x="831960" y="2948040"/>
                <a:ext cx="16614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Basenji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250" name="AutoShape 43"/>
              <p:cNvCxnSpPr>
                <a:stCxn id="248" idx="0"/>
                <a:endCxn id="247" idx="2"/>
              </p:cNvCxnSpPr>
              <p:nvPr/>
            </p:nvCxnSpPr>
            <p:spPr>
              <a:xfrm flipH="1" flipV="1">
                <a:off x="1664280" y="1726560"/>
                <a:ext cx="1080" cy="39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AutoShape 44"/>
              <p:cNvCxnSpPr>
                <a:stCxn id="249" idx="0"/>
                <a:endCxn id="248" idx="2"/>
              </p:cNvCxnSpPr>
              <p:nvPr/>
            </p:nvCxnSpPr>
            <p:spPr>
              <a:xfrm flipV="1">
                <a:off x="1661760" y="2517480"/>
                <a:ext cx="2520" cy="430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2" name="AutoShape 45"/>
            <p:cNvSpPr/>
            <p:nvPr/>
          </p:nvSpPr>
          <p:spPr>
            <a:xfrm>
              <a:off x="1568160" y="1726920"/>
              <a:ext cx="19512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AutoShape 46"/>
            <p:cNvSpPr/>
            <p:nvPr/>
          </p:nvSpPr>
          <p:spPr>
            <a:xfrm>
              <a:off x="1568160" y="2519280"/>
              <a:ext cx="19512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4" name="Text Box 47"/>
          <p:cNvSpPr/>
          <p:nvPr/>
        </p:nvSpPr>
        <p:spPr>
          <a:xfrm>
            <a:off x="3544920" y="5238720"/>
            <a:ext cx="4464000" cy="140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g lek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g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nji yai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enji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k.bark();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</a:t>
            </a:r>
            <a:r>
              <a:rPr b="1" lang="en-US" sz="1800" spc="-1" strike="noStrike">
                <a:solidFill>
                  <a:srgbClr val="0066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6600"/>
                </a:solidFill>
                <a:latin typeface="Angsana New"/>
              </a:rPr>
              <a:t>  </a:t>
            </a:r>
            <a:r>
              <a:rPr b="0" lang="th-TH" sz="1800" spc="-1" strike="noStrike">
                <a:solidFill>
                  <a:srgbClr val="006600"/>
                </a:solidFill>
                <a:latin typeface="Tahoma"/>
                <a:cs typeface="Tahoma"/>
              </a:rPr>
              <a:t>โฮ่ง ๆ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i.bark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i.sleep();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Zzzz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5" name="Group 17"/>
          <p:cNvGrpSpPr/>
          <p:nvPr/>
        </p:nvGrpSpPr>
        <p:grpSpPr>
          <a:xfrm>
            <a:off x="623880" y="3649680"/>
            <a:ext cx="2320920" cy="2643120"/>
            <a:chOff x="623880" y="3649680"/>
            <a:chExt cx="2320920" cy="2643120"/>
          </a:xfrm>
        </p:grpSpPr>
        <p:pic>
          <p:nvPicPr>
            <p:cNvPr id="256" name="Picture 36" descr=""/>
            <p:cNvPicPr/>
            <p:nvPr/>
          </p:nvPicPr>
          <p:blipFill>
            <a:blip r:embed="rId1">
              <a:lum bright="12000"/>
            </a:blip>
            <a:srcRect l="0" t="0" r="0" b="6724"/>
            <a:stretch/>
          </p:blipFill>
          <p:spPr>
            <a:xfrm>
              <a:off x="623880" y="3649680"/>
              <a:ext cx="2320920" cy="19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48"/>
            <p:cNvSpPr/>
            <p:nvPr/>
          </p:nvSpPr>
          <p:spPr>
            <a:xfrm>
              <a:off x="889920" y="5650200"/>
              <a:ext cx="174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asenj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Barkless dog"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ร้างคลาสใหม่แบบรับท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5240" y="907920"/>
            <a:ext cx="8805960" cy="26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ใหม่ให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กคลาสเดิ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เขียน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 ตัวสร้า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ต้องการให้บริก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เพิ่ม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 ตัวแปรประจำอ็อบเจกต์</a:t>
            </a:r>
            <a:r>
              <a:rPr b="0" lang="th-TH" sz="2400" spc="-1" strike="noStrike">
                <a:solidFill>
                  <a:srgbClr val="ff3300"/>
                </a:solidFill>
                <a:latin typeface="Tahoma"/>
              </a:rPr>
              <a:t>ใหม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จำเป็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เพิ่ม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 เมท็อดประจำอ็อบเจกต์</a:t>
            </a:r>
            <a:r>
              <a:rPr b="0" lang="th-TH" sz="2400" spc="-1" strike="noStrike">
                <a:solidFill>
                  <a:srgbClr val="ff3300"/>
                </a:solidFill>
                <a:latin typeface="Tahoma"/>
              </a:rPr>
              <a:t>ใหม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ที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class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แทน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 เมท็อดประจำอ็อบเจกต์</a:t>
            </a:r>
            <a:r>
              <a:rPr b="0" lang="th-TH" sz="2400" spc="-1" strike="noStrike">
                <a:solidFill>
                  <a:srgbClr val="ff3300"/>
                </a:solidFill>
                <a:latin typeface="Tahoma"/>
              </a:rPr>
              <a:t>เดิ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class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อยากเปลี่ย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iggyBank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ระปุกเก็บเหรียญ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504720" y="754200"/>
            <a:ext cx="8315280" cy="53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gyBank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ne, two, five, te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gyBank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ne = two = five = ten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dd1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s) {one  = one + coins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dd2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s) {two  = two + coins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dd5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s) {five = five + coins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1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s) {ten  = ten + coins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ne + 2*two + 5*five + 10*te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826320" y="898560"/>
            <a:ext cx="17161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neyBox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iggyBan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54040" y="699840"/>
            <a:ext cx="6207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ล่องเก็บเงิน เก็บทั้งเหรียญและธนบัต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52600" y="1211400"/>
            <a:ext cx="8080200" cy="55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Box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gyBank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20, b50, b100, b500, b10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oneyBox() {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sup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clear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20 = b50 = b100 = b500 = b1000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2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 b20 = b20 + b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5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 b50 = b50 + b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10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 b100 = b100 + b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50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 b500 = b500 + b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100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 b1000 = b1000 + b; 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Total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Total() + 20*b20 + 50*b50 +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0*b100 + 500*b500 + 1000*b10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266" name="Picture 2" descr="C:\Documents and Settings\spj\Desktop\untitled1.gif"/>
          <p:cNvPicPr/>
          <p:nvPr/>
        </p:nvPicPr>
        <p:blipFill>
          <a:blip r:embed="rId1"/>
          <a:stretch/>
        </p:blipFill>
        <p:spPr>
          <a:xfrm>
            <a:off x="6799320" y="1620720"/>
            <a:ext cx="17175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คลาสใหม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รับท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Win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Window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ห้มี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llCircl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581040" y="1085760"/>
            <a:ext cx="7939080" cy="471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, h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fillCircle(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r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illEllipse(x, y, 2 * r, 2 * 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fillCircle(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color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r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llEllipse(color, x, y, 2 * r, 2 * 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Rounded Rectangular Callout 7"/>
          <p:cNvSpPr/>
          <p:nvPr/>
        </p:nvSpPr>
        <p:spPr>
          <a:xfrm>
            <a:off x="6359400" y="1413000"/>
            <a:ext cx="2549520" cy="761760"/>
          </a:xfrm>
          <a:prstGeom prst="wedgeRoundRectCallout">
            <a:avLst>
              <a:gd name="adj1" fmla="val -62078"/>
              <a:gd name="adj2" fmla="val -743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ไม่ต้องมีรหัสต้นฉบับ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Window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Inheritance Hierarch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930400" y="4724280"/>
            <a:ext cx="158616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932280" y="2451240"/>
            <a:ext cx="156672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go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788000" y="3789360"/>
            <a:ext cx="17301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ago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1157400" y="3500280"/>
            <a:ext cx="146988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952720" y="3789360"/>
            <a:ext cx="154296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848040" y="1339920"/>
            <a:ext cx="17305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1157400" y="2451240"/>
            <a:ext cx="14698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val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446880" y="2451240"/>
            <a:ext cx="17301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lin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9" name="AutoShape 11"/>
          <p:cNvCxnSpPr>
            <a:stCxn id="272" idx="0"/>
            <a:endCxn id="276" idx="2"/>
          </p:cNvCxnSpPr>
          <p:nvPr/>
        </p:nvCxnSpPr>
        <p:spPr>
          <a:xfrm flipV="1" rot="16200000">
            <a:off x="4415760" y="2150640"/>
            <a:ext cx="597600" cy="39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AutoShape 12"/>
          <p:cNvCxnSpPr>
            <a:stCxn id="277" idx="0"/>
            <a:endCxn id="276" idx="2"/>
          </p:cNvCxnSpPr>
          <p:nvPr/>
        </p:nvCxnSpPr>
        <p:spPr>
          <a:xfrm flipH="1" flipV="1" rot="5400000">
            <a:off x="3003840" y="741960"/>
            <a:ext cx="597600" cy="282168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AutoShape 13"/>
          <p:cNvCxnSpPr>
            <a:stCxn id="278" idx="0"/>
            <a:endCxn id="276" idx="2"/>
          </p:cNvCxnSpPr>
          <p:nvPr/>
        </p:nvCxnSpPr>
        <p:spPr>
          <a:xfrm flipV="1" rot="16200000">
            <a:off x="5713560" y="852840"/>
            <a:ext cx="597600" cy="25995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AutoShape 14"/>
          <p:cNvCxnSpPr>
            <a:stCxn id="275" idx="0"/>
            <a:endCxn id="272" idx="2"/>
          </p:cNvCxnSpPr>
          <p:nvPr/>
        </p:nvCxnSpPr>
        <p:spPr>
          <a:xfrm flipH="1" flipV="1" rot="5400000">
            <a:off x="3808080" y="2880720"/>
            <a:ext cx="824760" cy="99288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5"/>
          <p:cNvCxnSpPr>
            <a:stCxn id="273" idx="0"/>
            <a:endCxn id="272" idx="2"/>
          </p:cNvCxnSpPr>
          <p:nvPr/>
        </p:nvCxnSpPr>
        <p:spPr>
          <a:xfrm flipV="1" rot="16200000">
            <a:off x="4772160" y="2908080"/>
            <a:ext cx="824760" cy="93744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AutoShape 16"/>
          <p:cNvCxnSpPr>
            <a:stCxn id="271" idx="0"/>
            <a:endCxn id="275" idx="2"/>
          </p:cNvCxnSpPr>
          <p:nvPr/>
        </p:nvCxnSpPr>
        <p:spPr>
          <a:xfrm flipV="1">
            <a:off x="3723840" y="4281120"/>
            <a:ext cx="108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5" name="AutoShape 17"/>
          <p:cNvSpPr/>
          <p:nvPr/>
        </p:nvSpPr>
        <p:spPr>
          <a:xfrm>
            <a:off x="4645080" y="1857240"/>
            <a:ext cx="14112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AutoShape 18"/>
          <p:cNvSpPr/>
          <p:nvPr/>
        </p:nvSpPr>
        <p:spPr>
          <a:xfrm>
            <a:off x="4645080" y="2962440"/>
            <a:ext cx="141120" cy="18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87" name="AutoShape 19"/>
          <p:cNvCxnSpPr>
            <a:stCxn id="274" idx="0"/>
            <a:endCxn id="277" idx="2"/>
          </p:cNvCxnSpPr>
          <p:nvPr/>
        </p:nvCxnSpPr>
        <p:spPr>
          <a:xfrm flipV="1">
            <a:off x="1891800" y="2964960"/>
            <a:ext cx="10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AutoShape 20"/>
          <p:cNvSpPr/>
          <p:nvPr/>
        </p:nvSpPr>
        <p:spPr>
          <a:xfrm>
            <a:off x="3635280" y="4292640"/>
            <a:ext cx="14148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1835280" y="2997360"/>
            <a:ext cx="141120" cy="18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้างคลาสใหม่จากเก่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907920"/>
            <a:ext cx="79200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ำสำเน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od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งคลาสเดิม แล้วแก้ไ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ใหม่เก็บอ็อบเจกต์ของคลาสเดิ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ใหม่ให้ขยายความสามารถจากคลาสเดิ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ิธีที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สีดำ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้งสี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7280" y="741240"/>
            <a:ext cx="8561520" cy="611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lab.graphics.DWin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 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 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d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all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y1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r1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x = x1; y = y1; dx = dx1; dy = dy1; r = r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.fillEllipse(        x, y, 2 * r, 2 * r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w.getWidth()  || x &lt; r) dx = -d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w.getHeight() || y &lt; r) dy = -d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65280" y="2963880"/>
            <a:ext cx="75420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130480" y="1332000"/>
            <a:ext cx="7538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C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670200" y="3232080"/>
            <a:ext cx="1471680" cy="298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c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41440" y="2457360"/>
            <a:ext cx="2547720" cy="285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t color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874960" y="4329000"/>
            <a:ext cx="895320" cy="285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899400" y="3513240"/>
            <a:ext cx="1471320" cy="298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=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998880" y="1055520"/>
            <a:ext cx="292428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ำสำเนารหัสต้นฉบับขอ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all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ล้วแก้ไข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all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00" name="Picture 8" descr="BallC"/>
          <p:cNvPicPr/>
          <p:nvPr/>
        </p:nvPicPr>
        <p:blipFill>
          <a:blip r:embed="rId1"/>
          <a:stretch/>
        </p:blipFill>
        <p:spPr>
          <a:xfrm>
            <a:off x="7124760" y="59040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ิธีที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สีดำ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้งสี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87280" y="741240"/>
            <a:ext cx="8561520" cy="531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lab.graphics.DWin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C 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 ball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BallC(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y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y1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1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x1, y1, dx1, dy1, r1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= c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.fillEllipse(color, ball.x, ball.y, 2*ball.r, 2*ball.r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.move(w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Rounded Rectangle 12"/>
          <p:cNvSpPr/>
          <p:nvPr/>
        </p:nvSpPr>
        <p:spPr>
          <a:xfrm>
            <a:off x="539640" y="1606680"/>
            <a:ext cx="2619360" cy="277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Rounded Rectangle 13"/>
          <p:cNvSpPr/>
          <p:nvPr/>
        </p:nvSpPr>
        <p:spPr>
          <a:xfrm>
            <a:off x="776160" y="2965320"/>
            <a:ext cx="5472360" cy="290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Rounded Rectangle 14"/>
          <p:cNvSpPr/>
          <p:nvPr/>
        </p:nvSpPr>
        <p:spPr>
          <a:xfrm>
            <a:off x="831960" y="4890960"/>
            <a:ext cx="1981080" cy="290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4627440" y="955800"/>
            <a:ext cx="39895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และเก็บอ็อบเจกต์แบบเดิมไว้เรียกใช้งาน เขียนเพิ่มเท่าที่จำเป็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4641840" y="5181480"/>
            <a:ext cx="39895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้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all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ลี่ยนพฤติกรรมกา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ov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allC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็เปลี่ยนตามโดยอัตโนมัติ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ิธีที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สีดำ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้งสี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7280" y="741240"/>
            <a:ext cx="8561520" cy="531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lab.graphics.DWin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C 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 ball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BallC(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y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y1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1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(x1, y1, dx1, dy1, r1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= c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.fillEllipse(color, ball.x, ball.y,2* ball.r,2* ball.r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.move(w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5583240" y="955800"/>
            <a:ext cx="30337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คลาสใหม่ให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ขยา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ักษณะจากคลาสเก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868480" y="1320840"/>
            <a:ext cx="2175120" cy="31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Straight Connector 9"/>
          <p:cNvSpPr/>
          <p:nvPr/>
        </p:nvSpPr>
        <p:spPr>
          <a:xfrm>
            <a:off x="595440" y="1746360"/>
            <a:ext cx="2535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804960" y="2984400"/>
            <a:ext cx="2306520" cy="2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4" name="Group 20"/>
          <p:cNvGrpSpPr/>
          <p:nvPr/>
        </p:nvGrpSpPr>
        <p:grpSpPr>
          <a:xfrm>
            <a:off x="3614760" y="4073400"/>
            <a:ext cx="4565520" cy="298440"/>
            <a:chOff x="3614760" y="4073400"/>
            <a:chExt cx="4565520" cy="298440"/>
          </a:xfrm>
        </p:grpSpPr>
        <p:sp>
          <p:nvSpPr>
            <p:cNvPr id="115" name="Rectangle 11"/>
            <p:cNvSpPr/>
            <p:nvPr/>
          </p:nvSpPr>
          <p:spPr>
            <a:xfrm>
              <a:off x="3614760" y="4073400"/>
              <a:ext cx="747720" cy="298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</a:rPr>
                <a:t>super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4707000" y="4073400"/>
              <a:ext cx="747720" cy="298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</a:rPr>
                <a:t>super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073920" y="4073400"/>
              <a:ext cx="747720" cy="298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</a:rPr>
                <a:t>super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7434360" y="4073400"/>
              <a:ext cx="745920" cy="298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0"/>
                  </a:solidFill>
                  <a:latin typeface="Courier New"/>
                </a:rPr>
                <a:t>super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19" name="Rectangle 19"/>
          <p:cNvSpPr/>
          <p:nvPr/>
        </p:nvSpPr>
        <p:spPr>
          <a:xfrm>
            <a:off x="757080" y="4890960"/>
            <a:ext cx="746280" cy="298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Rounded Rectangular Callout 20"/>
          <p:cNvSpPr/>
          <p:nvPr/>
        </p:nvSpPr>
        <p:spPr>
          <a:xfrm>
            <a:off x="5624640" y="4557600"/>
            <a:ext cx="2813040" cy="790560"/>
          </a:xfrm>
          <a:prstGeom prst="wedgeRoundRectCallout">
            <a:avLst>
              <a:gd name="adj1" fmla="val -62194"/>
              <a:gd name="adj2" fmla="val -4901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ทนของที่คลาสนี้ไ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Rounded Rectangular Callout 21"/>
          <p:cNvSpPr/>
          <p:nvPr/>
        </p:nvSpPr>
        <p:spPr>
          <a:xfrm>
            <a:off x="5099040" y="3255840"/>
            <a:ext cx="3699000" cy="636840"/>
          </a:xfrm>
          <a:prstGeom prst="wedgeRoundRectCallout">
            <a:avLst>
              <a:gd name="adj1" fmla="val -64796"/>
              <a:gd name="adj2" fmla="val -3796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(...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ทนตัวสร้างของที่คลาสนี้ไ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Rounded Rectangle 22"/>
          <p:cNvSpPr/>
          <p:nvPr/>
        </p:nvSpPr>
        <p:spPr>
          <a:xfrm>
            <a:off x="554040" y="4627440"/>
            <a:ext cx="4197240" cy="84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Rounded Rectangular Callout 23"/>
          <p:cNvSpPr/>
          <p:nvPr/>
        </p:nvSpPr>
        <p:spPr>
          <a:xfrm>
            <a:off x="3325680" y="5653080"/>
            <a:ext cx="4071960" cy="789120"/>
          </a:xfrm>
          <a:prstGeom prst="wedgeRoundRectCallout">
            <a:avLst>
              <a:gd name="adj1" fmla="val -58453"/>
              <a:gd name="adj2" fmla="val -5428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ถ้าเหมือนของคลาส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าทุกประการ  ไม่ต้องเขียนก็ได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ิธีที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สีดำ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้งสี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87280" y="741240"/>
            <a:ext cx="8561520" cy="531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lab.graphics.DWin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C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lor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BallC(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y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x1,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dy1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1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1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x1, y1, dx1, dy1, r1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lor = c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.fillEllipse(color,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.x,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.y,2*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.r,2*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uper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.r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5583240" y="955800"/>
            <a:ext cx="30337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คลาสใหม่ให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ขยา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br>
              <a:rPr sz="2000"/>
            </a:b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ักษณะจากคลาสเก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4641840" y="5181480"/>
            <a:ext cx="39895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้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all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ลี่ยนพฤติกรรมกา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ov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allC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็เปลี่ยนตามโดยอัตโนมัติ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รับทอด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Inheritanc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3880" y="2228400"/>
            <a:ext cx="809172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ับทอดลักษณะสมบัติจา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็อบเจกต์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ตัวแปรประจำอ็อบเจกต์ทุกตัว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ช้ตัวแปรและเมท็อด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จำคลาสและประจำอ็อบเจกต์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ั้งหมด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ไม่เป็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ได้ตัวสร้างข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เรียกใช้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พิ่มตัวแปรใหม่และเพิ่มเมท็อดใหม่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เมท็อดใหม่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แท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งที่ได้รับทอด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Group 10"/>
          <p:cNvGrpSpPr/>
          <p:nvPr/>
        </p:nvGrpSpPr>
        <p:grpSpPr>
          <a:xfrm>
            <a:off x="6269040" y="1010520"/>
            <a:ext cx="1042920" cy="1387440"/>
            <a:chOff x="6269040" y="1010520"/>
            <a:chExt cx="1042920" cy="1387440"/>
          </a:xfrm>
        </p:grpSpPr>
        <p:sp>
          <p:nvSpPr>
            <p:cNvPr id="131" name="Line 7"/>
            <p:cNvSpPr/>
            <p:nvPr/>
          </p:nvSpPr>
          <p:spPr>
            <a:xfrm flipV="1">
              <a:off x="6790320" y="159768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6269040" y="1010520"/>
              <a:ext cx="1042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6269040" y="1877400"/>
              <a:ext cx="1042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6720480" y="1515240"/>
              <a:ext cx="139320" cy="12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35" name="Rectangle 9"/>
          <p:cNvSpPr/>
          <p:nvPr/>
        </p:nvSpPr>
        <p:spPr>
          <a:xfrm>
            <a:off x="1152360" y="990720"/>
            <a:ext cx="4303800" cy="9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7426440" y="887400"/>
            <a:ext cx="15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ลาสแม่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superclass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7426440" y="1758960"/>
            <a:ext cx="15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ลาสลูก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subclass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3630600" y="5541840"/>
            <a:ext cx="120492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verrid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1471680" y="755640"/>
            <a:ext cx="53164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() {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1) {x = x1;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1(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m2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z) {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3() (...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954160" y="3373560"/>
            <a:ext cx="4303800" cy="963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 extends A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บบง่ายสุด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4360" y="530712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็อบเจกต์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ตัวแปร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ใช้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าเรียกเมท็อด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ับอ็อบเจกต์ขอ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ลาส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ตัวสร้า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ngsana New"/>
              </a:rPr>
              <a:t>B(){}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ระบบเติมให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Group 26"/>
          <p:cNvGrpSpPr/>
          <p:nvPr/>
        </p:nvGrpSpPr>
        <p:grpSpPr>
          <a:xfrm>
            <a:off x="2936520" y="4473720"/>
            <a:ext cx="2352960" cy="581040"/>
            <a:chOff x="2936520" y="4473720"/>
            <a:chExt cx="2352960" cy="581040"/>
          </a:xfrm>
        </p:grpSpPr>
        <p:sp>
          <p:nvSpPr>
            <p:cNvPr id="144" name="AutoShape 22"/>
            <p:cNvSpPr/>
            <p:nvPr/>
          </p:nvSpPr>
          <p:spPr>
            <a:xfrm>
              <a:off x="3865680" y="4473720"/>
              <a:ext cx="1423800" cy="58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45" name="Group 24"/>
            <p:cNvGrpSpPr/>
            <p:nvPr/>
          </p:nvGrpSpPr>
          <p:grpSpPr>
            <a:xfrm>
              <a:off x="3920400" y="4564080"/>
              <a:ext cx="1249560" cy="398880"/>
              <a:chOff x="3920400" y="4564080"/>
              <a:chExt cx="1249560" cy="398880"/>
            </a:xfrm>
          </p:grpSpPr>
          <p:sp>
            <p:nvSpPr>
              <p:cNvPr id="146" name="Rectangle 10"/>
              <p:cNvSpPr/>
              <p:nvPr/>
            </p:nvSpPr>
            <p:spPr>
              <a:xfrm>
                <a:off x="4908240" y="4600440"/>
                <a:ext cx="261720" cy="3333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7" name="Text Box 11"/>
              <p:cNvSpPr/>
              <p:nvPr/>
            </p:nvSpPr>
            <p:spPr>
              <a:xfrm>
                <a:off x="4600800" y="4564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8" name="Rectangle 12"/>
              <p:cNvSpPr/>
              <p:nvPr/>
            </p:nvSpPr>
            <p:spPr>
              <a:xfrm>
                <a:off x="4227120" y="4600440"/>
                <a:ext cx="261720" cy="3333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Text Box 13"/>
              <p:cNvSpPr/>
              <p:nvPr/>
            </p:nvSpPr>
            <p:spPr>
              <a:xfrm>
                <a:off x="3920400" y="4564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50" name="Rectangle 12"/>
            <p:cNvSpPr/>
            <p:nvPr/>
          </p:nvSpPr>
          <p:spPr>
            <a:xfrm>
              <a:off x="3243240" y="4573440"/>
              <a:ext cx="261720" cy="333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2936520" y="4536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2" name="Straight Arrow Connector 11"/>
            <p:cNvCxnSpPr>
              <a:endCxn id="144" idx="1"/>
            </p:cNvCxnSpPr>
            <p:nvPr/>
          </p:nvCxnSpPr>
          <p:spPr>
            <a:xfrm>
              <a:off x="3365640" y="4725360"/>
              <a:ext cx="50004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53" name="Rectangle 30"/>
          <p:cNvSpPr/>
          <p:nvPr/>
        </p:nvSpPr>
        <p:spPr>
          <a:xfrm>
            <a:off x="208080" y="4191120"/>
            <a:ext cx="2327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a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446960" y="940680"/>
            <a:ext cx="1042920" cy="1387080"/>
            <a:chOff x="7446960" y="940680"/>
            <a:chExt cx="1042920" cy="1387080"/>
          </a:xfrm>
        </p:grpSpPr>
        <p:sp>
          <p:nvSpPr>
            <p:cNvPr id="155" name="Line 7"/>
            <p:cNvSpPr/>
            <p:nvPr/>
          </p:nvSpPr>
          <p:spPr>
            <a:xfrm flipV="1">
              <a:off x="7968240" y="152784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7446960" y="940680"/>
              <a:ext cx="1042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7446960" y="1807200"/>
              <a:ext cx="10429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>
              <a:off x="7898400" y="1445400"/>
              <a:ext cx="139320" cy="121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5916240" y="4473720"/>
            <a:ext cx="2352960" cy="581040"/>
            <a:chOff x="5916240" y="4473720"/>
            <a:chExt cx="2352960" cy="581040"/>
          </a:xfrm>
        </p:grpSpPr>
        <p:sp>
          <p:nvSpPr>
            <p:cNvPr id="160" name="AutoShape 22"/>
            <p:cNvSpPr/>
            <p:nvPr/>
          </p:nvSpPr>
          <p:spPr>
            <a:xfrm>
              <a:off x="6845400" y="4473720"/>
              <a:ext cx="1423800" cy="5810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61" name="Group 24"/>
            <p:cNvGrpSpPr/>
            <p:nvPr/>
          </p:nvGrpSpPr>
          <p:grpSpPr>
            <a:xfrm>
              <a:off x="6900120" y="4564080"/>
              <a:ext cx="1249560" cy="398880"/>
              <a:chOff x="6900120" y="4564080"/>
              <a:chExt cx="1249560" cy="398880"/>
            </a:xfrm>
          </p:grpSpPr>
          <p:sp>
            <p:nvSpPr>
              <p:cNvPr id="162" name="Rectangle 10"/>
              <p:cNvSpPr/>
              <p:nvPr/>
            </p:nvSpPr>
            <p:spPr>
              <a:xfrm>
                <a:off x="7887960" y="4600440"/>
                <a:ext cx="26172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3" name="Text Box 11"/>
              <p:cNvSpPr/>
              <p:nvPr/>
            </p:nvSpPr>
            <p:spPr>
              <a:xfrm>
                <a:off x="7580520" y="4564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4" name="Rectangle 12"/>
              <p:cNvSpPr/>
              <p:nvPr/>
            </p:nvSpPr>
            <p:spPr>
              <a:xfrm>
                <a:off x="7206840" y="4600440"/>
                <a:ext cx="261720" cy="33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5" name="Text Box 13"/>
              <p:cNvSpPr/>
              <p:nvPr/>
            </p:nvSpPr>
            <p:spPr>
              <a:xfrm>
                <a:off x="6900120" y="4564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66" name="Rectangle 12"/>
            <p:cNvSpPr/>
            <p:nvPr/>
          </p:nvSpPr>
          <p:spPr>
            <a:xfrm>
              <a:off x="6222960" y="4573440"/>
              <a:ext cx="261720" cy="333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5916240" y="4536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68" name="Straight Arrow Connector 11"/>
            <p:cNvCxnSpPr>
              <a:endCxn id="160" idx="1"/>
            </p:cNvCxnSpPr>
            <p:nvPr/>
          </p:nvCxnSpPr>
          <p:spPr>
            <a:xfrm>
              <a:off x="6345360" y="4725360"/>
              <a:ext cx="500040" cy="3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6-17T15:49:26Z</dcterms:modified>
  <cp:revision>195</cp:revision>
  <dc:subject/>
  <dc:title>การทำโปรแกรมคอมพิวเตอร์</dc:title>
</cp:coreProperties>
</file>