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png" ContentType="image/png"/>
  <Override PartName="/ppt/media/image3.gif" ContentType="image/gif"/>
  <Override PartName="/ppt/media/image6.wmf" ContentType="image/x-wmf"/>
  <Override PartName="/ppt/media/image4.gif" ContentType="image/gif"/>
  <Override PartName="/ppt/media/image7.wmf" ContentType="image/x-wmf"/>
  <Override PartName="/ppt/media/image5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9CFC-FC48-421D-BE88-17F471DA2B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F544-7E0D-45F1-8005-EBB3813E07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6204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972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36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6204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972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3600" y="1080"/>
            <a:ext cx="9147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6204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3972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436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6204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3972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0" y="1080"/>
            <a:ext cx="9147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0" y="6597720"/>
            <a:ext cx="38988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</a:rPr>
              <a:t>2110101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</a:rPr>
              <a:t>วิศวกรรมคอมพิวเตอร์ จุฬาฯ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</a:t>
            </a:r>
            <a:fld id="{A76E001F-2805-4591-A361-B01BF68CB7E3}" type="datetime">
              <a:rPr b="0" lang="th-TH" sz="1200" spc="-1" strike="noStrike">
                <a:solidFill>
                  <a:srgbClr val="000000"/>
                </a:solidFill>
                <a:latin typeface="Tahoma"/>
              </a:rPr>
              <a:t>29/07/26</a:t>
            </a:fld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7885080" y="6597720"/>
            <a:ext cx="125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99B0-73F6-4F8F-9988-FA380525782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เมท็อดแบบเรียกซ้ำ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(recursive)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547640" y="1341360"/>
            <a:ext cx="633744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class Test {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static void main(String[] args) {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System.out.println(fac(3))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static int fac(int n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if (n == 0) return 1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int f = fac(n-1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return n * f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6443640" y="2492280"/>
            <a:ext cx="2016000" cy="3816360"/>
          </a:xfrm>
          <a:prstGeom prst="can">
            <a:avLst>
              <a:gd name="adj" fmla="val 14856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แปรระหว่างการเรียกซ้ำ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973080" y="1341360"/>
            <a:ext cx="50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1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2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3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4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5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6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7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8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9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10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6"/>
          <p:cNvSpPr/>
          <p:nvPr/>
        </p:nvSpPr>
        <p:spPr>
          <a:xfrm rot="16200000">
            <a:off x="6926760" y="58269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6513480" y="5164200"/>
            <a:ext cx="18734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 = 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.main:0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6516720" y="4433760"/>
            <a:ext cx="18730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 = 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.fac:07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6516720" y="3716280"/>
            <a:ext cx="1873080" cy="642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 = 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.fac:07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10"/>
          <p:cNvSpPr/>
          <p:nvPr/>
        </p:nvSpPr>
        <p:spPr>
          <a:xfrm>
            <a:off x="468360" y="2421000"/>
            <a:ext cx="433440" cy="431640"/>
          </a:xfrm>
          <a:prstGeom prst="rightArrow">
            <a:avLst>
              <a:gd name="adj1" fmla="val 50000"/>
              <a:gd name="adj2" fmla="val 251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AutoShape 11"/>
          <p:cNvSpPr/>
          <p:nvPr/>
        </p:nvSpPr>
        <p:spPr>
          <a:xfrm>
            <a:off x="468360" y="2685960"/>
            <a:ext cx="433440" cy="432000"/>
          </a:xfrm>
          <a:prstGeom prst="rightArrow">
            <a:avLst>
              <a:gd name="adj1" fmla="val 50000"/>
              <a:gd name="adj2" fmla="val 250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AutoShape 12"/>
          <p:cNvSpPr/>
          <p:nvPr/>
        </p:nvSpPr>
        <p:spPr>
          <a:xfrm>
            <a:off x="468360" y="2967120"/>
            <a:ext cx="433440" cy="431640"/>
          </a:xfrm>
          <a:prstGeom prst="rightArrow">
            <a:avLst>
              <a:gd name="adj1" fmla="val 50000"/>
              <a:gd name="adj2" fmla="val 251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1547640" y="1341360"/>
            <a:ext cx="633744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class Test {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static void main(String[] args) {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System.out.println(fac(3))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static int fac(int n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if (n == 0) return 1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int f = fac(n-1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return n * f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3"/>
          <p:cNvSpPr/>
          <p:nvPr/>
        </p:nvSpPr>
        <p:spPr>
          <a:xfrm>
            <a:off x="6443640" y="2492280"/>
            <a:ext cx="2016000" cy="3816360"/>
          </a:xfrm>
          <a:prstGeom prst="can">
            <a:avLst>
              <a:gd name="adj" fmla="val 14856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แปรระหว่างการเรียกซ้ำ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973080" y="1341360"/>
            <a:ext cx="50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1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2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3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4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5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6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7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8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9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10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6"/>
          <p:cNvSpPr/>
          <p:nvPr/>
        </p:nvSpPr>
        <p:spPr>
          <a:xfrm rot="16200000">
            <a:off x="6926760" y="58269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6513480" y="5164200"/>
            <a:ext cx="18734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 = 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.main:0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6516720" y="4433760"/>
            <a:ext cx="18730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 = 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.fac:07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6516720" y="3716280"/>
            <a:ext cx="18730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 = 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.fac:07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6516720" y="2997360"/>
            <a:ext cx="1873080" cy="642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 = 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.fac:07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468360" y="2421000"/>
            <a:ext cx="433440" cy="431640"/>
          </a:xfrm>
          <a:prstGeom prst="rightArrow">
            <a:avLst>
              <a:gd name="adj1" fmla="val 50000"/>
              <a:gd name="adj2" fmla="val 251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AutoShape 12"/>
          <p:cNvSpPr/>
          <p:nvPr/>
        </p:nvSpPr>
        <p:spPr>
          <a:xfrm>
            <a:off x="468360" y="2685960"/>
            <a:ext cx="433440" cy="432000"/>
          </a:xfrm>
          <a:prstGeom prst="rightArrow">
            <a:avLst>
              <a:gd name="adj1" fmla="val 50000"/>
              <a:gd name="adj2" fmla="val 250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Oval 13"/>
          <p:cNvSpPr/>
          <p:nvPr/>
        </p:nvSpPr>
        <p:spPr>
          <a:xfrm>
            <a:off x="3746520" y="2639880"/>
            <a:ext cx="1386000" cy="501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1547640" y="1341360"/>
            <a:ext cx="633744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class Test {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static void main(String[] args) {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System.out.println(fac(3))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static int fac(int n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if (n == 0) return 1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int f = fac(n-1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return n * f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6443640" y="2492280"/>
            <a:ext cx="2016000" cy="3816360"/>
          </a:xfrm>
          <a:prstGeom prst="can">
            <a:avLst>
              <a:gd name="adj" fmla="val 14856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แปรระหว่างการเรียกซ้ำ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973080" y="1341360"/>
            <a:ext cx="50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1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2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3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4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5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6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7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8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9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10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6"/>
          <p:cNvSpPr/>
          <p:nvPr/>
        </p:nvSpPr>
        <p:spPr>
          <a:xfrm rot="16200000">
            <a:off x="6926760" y="58269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6513480" y="5164200"/>
            <a:ext cx="18734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 = 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.main:0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516720" y="4433760"/>
            <a:ext cx="18730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 = 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.fac:07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6516720" y="3716280"/>
            <a:ext cx="1873080" cy="642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 = 1,f = 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.fac:07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0"/>
          <p:cNvSpPr/>
          <p:nvPr/>
        </p:nvSpPr>
        <p:spPr>
          <a:xfrm>
            <a:off x="468360" y="2952720"/>
            <a:ext cx="433440" cy="432000"/>
          </a:xfrm>
          <a:prstGeom prst="rightArrow">
            <a:avLst>
              <a:gd name="adj1" fmla="val 50000"/>
              <a:gd name="adj2" fmla="val 250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11"/>
          <p:cNvSpPr/>
          <p:nvPr/>
        </p:nvSpPr>
        <p:spPr>
          <a:xfrm>
            <a:off x="468360" y="3262320"/>
            <a:ext cx="433440" cy="431640"/>
          </a:xfrm>
          <a:prstGeom prst="rightArrow">
            <a:avLst>
              <a:gd name="adj1" fmla="val 50000"/>
              <a:gd name="adj2" fmla="val 251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2013840" y="4478400"/>
            <a:ext cx="387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มื่อ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ระบบลบตัวแปรของเมท็อดออก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และนำตัวแปรชุดล่าสุดมาใช้ต่อ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1547640" y="1341360"/>
            <a:ext cx="633744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class Test {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static void main(String[] args) {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System.out.println(fac(3))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static int fac(int n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if (n == 0) return 1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int f = fac(n-1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return n * f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AutoShape 3"/>
          <p:cNvSpPr/>
          <p:nvPr/>
        </p:nvSpPr>
        <p:spPr>
          <a:xfrm>
            <a:off x="6443640" y="2492280"/>
            <a:ext cx="2016000" cy="3816360"/>
          </a:xfrm>
          <a:prstGeom prst="can">
            <a:avLst>
              <a:gd name="adj" fmla="val 14856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แปรระหว่างการเรียกซ้ำ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973080" y="1341360"/>
            <a:ext cx="50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1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2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3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4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5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6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7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8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9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10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ext Box 6"/>
          <p:cNvSpPr/>
          <p:nvPr/>
        </p:nvSpPr>
        <p:spPr>
          <a:xfrm rot="16200000">
            <a:off x="6926760" y="58269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6513480" y="5164200"/>
            <a:ext cx="18734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 = 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.main:0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6516720" y="4433760"/>
            <a:ext cx="1873080" cy="642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 = 2,f = 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.fac:07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468360" y="2997360"/>
            <a:ext cx="433440" cy="431640"/>
          </a:xfrm>
          <a:prstGeom prst="rightArrow">
            <a:avLst>
              <a:gd name="adj1" fmla="val 50000"/>
              <a:gd name="adj2" fmla="val 251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AutoShape 10"/>
          <p:cNvSpPr/>
          <p:nvPr/>
        </p:nvSpPr>
        <p:spPr>
          <a:xfrm>
            <a:off x="468360" y="3262320"/>
            <a:ext cx="433440" cy="431640"/>
          </a:xfrm>
          <a:prstGeom prst="rightArrow">
            <a:avLst>
              <a:gd name="adj1" fmla="val 50000"/>
              <a:gd name="adj2" fmla="val 251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1547640" y="1341360"/>
            <a:ext cx="633744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class Test {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static void main(String[] args) {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System.out.println(fac(3))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static int fac(int n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if (n == 0) return 1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int f = fac(n-1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return n * f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6443640" y="2492280"/>
            <a:ext cx="2016000" cy="3816360"/>
          </a:xfrm>
          <a:prstGeom prst="can">
            <a:avLst>
              <a:gd name="adj" fmla="val 14856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แปรระหว่างการเรียกซ้ำ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973080" y="1341360"/>
            <a:ext cx="50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1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2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3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4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5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6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7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8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9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10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6"/>
          <p:cNvSpPr/>
          <p:nvPr/>
        </p:nvSpPr>
        <p:spPr>
          <a:xfrm rot="16200000">
            <a:off x="6926760" y="58269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6513480" y="5164200"/>
            <a:ext cx="1873440" cy="642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 = 3,f = 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.main:0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AutoShape 8"/>
          <p:cNvSpPr/>
          <p:nvPr/>
        </p:nvSpPr>
        <p:spPr>
          <a:xfrm>
            <a:off x="468360" y="2997360"/>
            <a:ext cx="433440" cy="431640"/>
          </a:xfrm>
          <a:prstGeom prst="rightArrow">
            <a:avLst>
              <a:gd name="adj1" fmla="val 50000"/>
              <a:gd name="adj2" fmla="val 251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468360" y="3262320"/>
            <a:ext cx="433440" cy="431640"/>
          </a:xfrm>
          <a:prstGeom prst="rightArrow">
            <a:avLst>
              <a:gd name="adj1" fmla="val 50000"/>
              <a:gd name="adj2" fmla="val 251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547640" y="1341360"/>
            <a:ext cx="633744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class Test {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static void main(String[] args) {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System.out.println(fac(3))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static int fac(int n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if (n == 0) return 1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int f = fac(n-1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return n * f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AutoShape 3"/>
          <p:cNvSpPr/>
          <p:nvPr/>
        </p:nvSpPr>
        <p:spPr>
          <a:xfrm>
            <a:off x="6443640" y="2492280"/>
            <a:ext cx="2016000" cy="3816360"/>
          </a:xfrm>
          <a:prstGeom prst="can">
            <a:avLst>
              <a:gd name="adj" fmla="val 14856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แปรระหว่างการเรียกซ้ำ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973080" y="1341360"/>
            <a:ext cx="50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1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2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3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4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5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6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7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8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9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10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6"/>
          <p:cNvSpPr/>
          <p:nvPr/>
        </p:nvSpPr>
        <p:spPr>
          <a:xfrm rot="16200000">
            <a:off x="6926760" y="58269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AutoShape 7"/>
          <p:cNvSpPr/>
          <p:nvPr/>
        </p:nvSpPr>
        <p:spPr>
          <a:xfrm>
            <a:off x="438120" y="1827360"/>
            <a:ext cx="433440" cy="431640"/>
          </a:xfrm>
          <a:prstGeom prst="rightArrow">
            <a:avLst>
              <a:gd name="adj1" fmla="val 50000"/>
              <a:gd name="adj2" fmla="val 251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AutoShape 8"/>
          <p:cNvSpPr/>
          <p:nvPr/>
        </p:nvSpPr>
        <p:spPr>
          <a:xfrm>
            <a:off x="438120" y="2106720"/>
            <a:ext cx="433440" cy="431640"/>
          </a:xfrm>
          <a:prstGeom prst="rightArrow">
            <a:avLst>
              <a:gd name="adj1" fmla="val 50000"/>
              <a:gd name="adj2" fmla="val 251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มท็อดตรวจสอบว่าอาเรย์เรียงลำดับหรือไม่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465120" y="920880"/>
            <a:ext cx="814392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boolean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isSorted(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d) {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for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1; i &lt; d.length; i++) {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d[i - 1] &gt; d[i])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fals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tru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7580160" y="915840"/>
            <a:ext cx="100044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บบ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465120" y="3070080"/>
            <a:ext cx="812952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boolea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sSorted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) {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sSorted(d, d.length)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boolea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sSorted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) {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n &lt;= 1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d[n - 2] &gt; d[n - 1]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a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sSorted(d, n - 1)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7565040" y="3065400"/>
            <a:ext cx="100044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บบ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5" name="Group 6"/>
          <p:cNvGrpSpPr/>
          <p:nvPr/>
        </p:nvGrpSpPr>
        <p:grpSpPr>
          <a:xfrm>
            <a:off x="6286320" y="2243160"/>
            <a:ext cx="2149560" cy="459720"/>
            <a:chOff x="6286320" y="2243160"/>
            <a:chExt cx="2149560" cy="459720"/>
          </a:xfrm>
        </p:grpSpPr>
        <p:sp>
          <p:nvSpPr>
            <p:cNvPr id="236" name="TextBox 7"/>
            <p:cNvSpPr/>
            <p:nvPr/>
          </p:nvSpPr>
          <p:spPr>
            <a:xfrm>
              <a:off x="6286320" y="2243160"/>
              <a:ext cx="363600" cy="4597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TextBox 8"/>
            <p:cNvSpPr/>
            <p:nvPr/>
          </p:nvSpPr>
          <p:spPr>
            <a:xfrm>
              <a:off x="6643440" y="2243160"/>
              <a:ext cx="363600" cy="4597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TextBox 9"/>
            <p:cNvSpPr/>
            <p:nvPr/>
          </p:nvSpPr>
          <p:spPr>
            <a:xfrm>
              <a:off x="7000560" y="2243160"/>
              <a:ext cx="363600" cy="4597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TextBox 10"/>
            <p:cNvSpPr/>
            <p:nvPr/>
          </p:nvSpPr>
          <p:spPr>
            <a:xfrm>
              <a:off x="7358040" y="2243160"/>
              <a:ext cx="363600" cy="4597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6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TextBox 11"/>
            <p:cNvSpPr/>
            <p:nvPr/>
          </p:nvSpPr>
          <p:spPr>
            <a:xfrm>
              <a:off x="7715160" y="2243160"/>
              <a:ext cx="363600" cy="4597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8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TextBox 12"/>
            <p:cNvSpPr/>
            <p:nvPr/>
          </p:nvSpPr>
          <p:spPr>
            <a:xfrm>
              <a:off x="8072280" y="2243160"/>
              <a:ext cx="363600" cy="4597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2" name="TextBox 27"/>
          <p:cNvSpPr/>
          <p:nvPr/>
        </p:nvSpPr>
        <p:spPr>
          <a:xfrm>
            <a:off x="6308640" y="5062680"/>
            <a:ext cx="2179800" cy="4597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3" name="Group 13"/>
          <p:cNvGrpSpPr/>
          <p:nvPr/>
        </p:nvGrpSpPr>
        <p:grpSpPr>
          <a:xfrm>
            <a:off x="6308640" y="5062680"/>
            <a:ext cx="2157120" cy="459720"/>
            <a:chOff x="6308640" y="5062680"/>
            <a:chExt cx="2157120" cy="459720"/>
          </a:xfrm>
        </p:grpSpPr>
        <p:sp>
          <p:nvSpPr>
            <p:cNvPr id="244" name="TextBox 17"/>
            <p:cNvSpPr/>
            <p:nvPr/>
          </p:nvSpPr>
          <p:spPr>
            <a:xfrm>
              <a:off x="6308640" y="5062680"/>
              <a:ext cx="1451160" cy="4597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TextBox 18"/>
            <p:cNvSpPr/>
            <p:nvPr/>
          </p:nvSpPr>
          <p:spPr>
            <a:xfrm>
              <a:off x="7745040" y="5062680"/>
              <a:ext cx="363600" cy="45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urier New"/>
                  <a:ea typeface="Courier New"/>
                </a:rPr>
                <a:t>8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TextBox 19"/>
            <p:cNvSpPr/>
            <p:nvPr/>
          </p:nvSpPr>
          <p:spPr>
            <a:xfrm>
              <a:off x="8102160" y="5062680"/>
              <a:ext cx="363600" cy="45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urier New"/>
                  <a:ea typeface="Courier New"/>
                </a:rPr>
                <a:t>9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7" name="Group 30"/>
          <p:cNvGrpSpPr/>
          <p:nvPr/>
        </p:nvGrpSpPr>
        <p:grpSpPr>
          <a:xfrm>
            <a:off x="6324480" y="5062680"/>
            <a:ext cx="2151000" cy="459720"/>
            <a:chOff x="6324480" y="5062680"/>
            <a:chExt cx="2151000" cy="459720"/>
          </a:xfrm>
        </p:grpSpPr>
        <p:sp>
          <p:nvSpPr>
            <p:cNvPr id="248" name="TextBox 28"/>
            <p:cNvSpPr/>
            <p:nvPr/>
          </p:nvSpPr>
          <p:spPr>
            <a:xfrm>
              <a:off x="6324480" y="5062680"/>
              <a:ext cx="1783080" cy="4597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TextBox 29"/>
            <p:cNvSpPr/>
            <p:nvPr/>
          </p:nvSpPr>
          <p:spPr>
            <a:xfrm>
              <a:off x="8111880" y="5062680"/>
              <a:ext cx="3636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urier New"/>
                  <a:ea typeface="Courier New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คำนวณ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mod m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71240" y="847440"/>
            <a:ext cx="8413560" cy="36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 mod m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ป็นการคำนวณที่ใช้บ่อยในการเข้ารหัสลั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ัวอย่างที่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% 31 =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คำนว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ด้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1048576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จากนั้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% 31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ด้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ัวอย่างที่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0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% 31 =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คำนว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1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ด้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2535301200456458802993406410752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จากนั้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% 31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ด้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อีกแบ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10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% 31 = 2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ahoma"/>
              </a:rPr>
              <a:t>50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% 3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% 31 = 2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% 31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2" name="Group 22"/>
          <p:cNvGrpSpPr/>
          <p:nvPr/>
        </p:nvGrpSpPr>
        <p:grpSpPr>
          <a:xfrm>
            <a:off x="2894040" y="4245120"/>
            <a:ext cx="5262480" cy="642600"/>
            <a:chOff x="2894040" y="4245120"/>
            <a:chExt cx="5262480" cy="642600"/>
          </a:xfrm>
        </p:grpSpPr>
        <p:sp>
          <p:nvSpPr>
            <p:cNvPr id="253" name="Text Box 8"/>
            <p:cNvSpPr/>
            <p:nvPr/>
          </p:nvSpPr>
          <p:spPr>
            <a:xfrm>
              <a:off x="2894040" y="4245120"/>
              <a:ext cx="2314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Arial Rounded MT Bold"/>
                  <a:ea typeface="TF NopScript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Text Box 9"/>
            <p:cNvSpPr/>
            <p:nvPr/>
          </p:nvSpPr>
          <p:spPr>
            <a:xfrm>
              <a:off x="7130880" y="4344840"/>
              <a:ext cx="102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 Rounded MT Bold"/>
                  <a:ea typeface="TF NopScript"/>
                </a:rPr>
                <a:t>k = 0</a:t>
              </a: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5" name="Group 21"/>
          <p:cNvGrpSpPr/>
          <p:nvPr/>
        </p:nvGrpSpPr>
        <p:grpSpPr>
          <a:xfrm>
            <a:off x="2894040" y="5043600"/>
            <a:ext cx="5927400" cy="642600"/>
            <a:chOff x="2894040" y="5043600"/>
            <a:chExt cx="5927400" cy="642600"/>
          </a:xfrm>
        </p:grpSpPr>
        <p:sp>
          <p:nvSpPr>
            <p:cNvPr id="256" name="Text Box 10"/>
            <p:cNvSpPr/>
            <p:nvPr/>
          </p:nvSpPr>
          <p:spPr>
            <a:xfrm>
              <a:off x="2894040" y="5043600"/>
              <a:ext cx="401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Arial Rounded MT Bold"/>
                  <a:ea typeface="TF NopScript"/>
                </a:rPr>
                <a:t>(a</a:t>
              </a:r>
              <a:r>
                <a:rPr b="0" lang="en-US" sz="3600" spc="-1" strike="noStrike" baseline="30000">
                  <a:solidFill>
                    <a:srgbClr val="000066"/>
                  </a:solidFill>
                  <a:latin typeface="Symbol"/>
                  <a:ea typeface="Symbol"/>
                </a:rPr>
                <a:t></a:t>
              </a:r>
              <a:r>
                <a:rPr b="0" lang="en-US" sz="3600" spc="-1" strike="noStrike" baseline="30000">
                  <a:solidFill>
                    <a:srgbClr val="000066"/>
                  </a:solidFill>
                  <a:latin typeface="Arial Rounded MT Bold"/>
                  <a:ea typeface="TF NopScript"/>
                </a:rPr>
                <a:t>k/2</a:t>
              </a:r>
              <a:r>
                <a:rPr b="0" lang="en-US" sz="3600" spc="-1" strike="noStrike" baseline="30000">
                  <a:solidFill>
                    <a:srgbClr val="000066"/>
                  </a:solidFill>
                  <a:latin typeface="Symbol"/>
                  <a:ea typeface="Symbol"/>
                </a:rPr>
                <a:t></a:t>
              </a:r>
              <a:r>
                <a:rPr b="0" lang="en-US" sz="3600" spc="-1" strike="noStrike">
                  <a:solidFill>
                    <a:srgbClr val="000066"/>
                  </a:solidFill>
                  <a:latin typeface="Arial Rounded MT Bold"/>
                  <a:ea typeface="TF NopScript"/>
                </a:rPr>
                <a:t> % m)</a:t>
              </a:r>
              <a:r>
                <a:rPr b="0" lang="en-US" sz="3600" spc="-1" strike="noStrike" baseline="30000">
                  <a:solidFill>
                    <a:srgbClr val="000066"/>
                  </a:solidFill>
                  <a:latin typeface="Arial Rounded MT Bold"/>
                  <a:ea typeface="TF NopScript"/>
                </a:rPr>
                <a:t>2</a:t>
              </a:r>
              <a:r>
                <a:rPr b="0" lang="en-US" sz="3600" spc="-1" strike="noStrike">
                  <a:solidFill>
                    <a:srgbClr val="000066"/>
                  </a:solidFill>
                  <a:latin typeface="Arial Rounded MT Bold"/>
                  <a:ea typeface="TF NopScript"/>
                </a:rPr>
                <a:t> % m</a:t>
              </a: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Text Box 11"/>
            <p:cNvSpPr/>
            <p:nvPr/>
          </p:nvSpPr>
          <p:spPr>
            <a:xfrm>
              <a:off x="7130880" y="5129280"/>
              <a:ext cx="16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 Rounded MT Bold"/>
                  <a:ea typeface="TF NopScript"/>
                </a:rPr>
                <a:t>k is even</a:t>
              </a: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8" name="Group 20"/>
          <p:cNvGrpSpPr/>
          <p:nvPr/>
        </p:nvGrpSpPr>
        <p:grpSpPr>
          <a:xfrm>
            <a:off x="2894040" y="5754600"/>
            <a:ext cx="5927400" cy="642600"/>
            <a:chOff x="2894040" y="5754600"/>
            <a:chExt cx="5927400" cy="642600"/>
          </a:xfrm>
        </p:grpSpPr>
        <p:sp>
          <p:nvSpPr>
            <p:cNvPr id="259" name="Text Box 12"/>
            <p:cNvSpPr/>
            <p:nvPr/>
          </p:nvSpPr>
          <p:spPr>
            <a:xfrm>
              <a:off x="2894040" y="5754600"/>
              <a:ext cx="39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Arial Rounded MT Bold"/>
                  <a:ea typeface="TF NopScript"/>
                </a:rPr>
                <a:t>a(a</a:t>
              </a:r>
              <a:r>
                <a:rPr b="0" lang="en-US" sz="3600" spc="-1" strike="noStrike" baseline="30000">
                  <a:solidFill>
                    <a:srgbClr val="000066"/>
                  </a:solidFill>
                  <a:latin typeface="Symbol"/>
                  <a:ea typeface="Symbol"/>
                </a:rPr>
                <a:t></a:t>
              </a:r>
              <a:r>
                <a:rPr b="0" lang="en-US" sz="3600" spc="-1" strike="noStrike" baseline="30000">
                  <a:solidFill>
                    <a:srgbClr val="000066"/>
                  </a:solidFill>
                  <a:latin typeface="Arial Rounded MT Bold"/>
                  <a:ea typeface="TF NopScript"/>
                </a:rPr>
                <a:t>k/2</a:t>
              </a:r>
              <a:r>
                <a:rPr b="0" lang="en-US" sz="3600" spc="-1" strike="noStrike" baseline="30000">
                  <a:solidFill>
                    <a:srgbClr val="000066"/>
                  </a:solidFill>
                  <a:latin typeface="Symbol"/>
                  <a:ea typeface="Symbol"/>
                </a:rPr>
                <a:t></a:t>
              </a:r>
              <a:r>
                <a:rPr b="0" lang="en-US" sz="3600" spc="-1" strike="noStrike" baseline="30000">
                  <a:solidFill>
                    <a:srgbClr val="000066"/>
                  </a:solidFill>
                  <a:latin typeface="Arial Rounded MT Bold"/>
                  <a:ea typeface="TF NopScript"/>
                </a:rPr>
                <a:t> </a:t>
              </a:r>
              <a:r>
                <a:rPr b="0" lang="en-US" sz="3600" spc="-1" strike="noStrike">
                  <a:solidFill>
                    <a:srgbClr val="000066"/>
                  </a:solidFill>
                  <a:latin typeface="Arial Rounded MT Bold"/>
                  <a:ea typeface="TF NopScript"/>
                </a:rPr>
                <a:t>% m)</a:t>
              </a:r>
              <a:r>
                <a:rPr b="0" lang="en-US" sz="3600" spc="-1" strike="noStrike" baseline="30000">
                  <a:solidFill>
                    <a:srgbClr val="000066"/>
                  </a:solidFill>
                  <a:latin typeface="Arial Rounded MT Bold"/>
                  <a:ea typeface="TF NopScript"/>
                </a:rPr>
                <a:t>2</a:t>
              </a:r>
              <a:r>
                <a:rPr b="0" lang="en-US" sz="3600" spc="-1" strike="noStrike">
                  <a:solidFill>
                    <a:srgbClr val="000066"/>
                  </a:solidFill>
                  <a:latin typeface="Arial Rounded MT Bold"/>
                  <a:ea typeface="TF NopScript"/>
                </a:rPr>
                <a:t> % m</a:t>
              </a: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Text Box 13"/>
            <p:cNvSpPr/>
            <p:nvPr/>
          </p:nvSpPr>
          <p:spPr>
            <a:xfrm>
              <a:off x="7130880" y="5859360"/>
              <a:ext cx="16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 Rounded MT Bold"/>
                  <a:ea typeface="TF NopScript"/>
                </a:rPr>
                <a:t>k is odd</a:t>
              </a: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" name="Group 23"/>
          <p:cNvGrpSpPr/>
          <p:nvPr/>
        </p:nvGrpSpPr>
        <p:grpSpPr>
          <a:xfrm>
            <a:off x="515880" y="4367160"/>
            <a:ext cx="2421000" cy="1987560"/>
            <a:chOff x="515880" y="4367160"/>
            <a:chExt cx="2421000" cy="1987560"/>
          </a:xfrm>
        </p:grpSpPr>
        <p:sp>
          <p:nvSpPr>
            <p:cNvPr id="262" name="Text Box 5"/>
            <p:cNvSpPr/>
            <p:nvPr/>
          </p:nvSpPr>
          <p:spPr>
            <a:xfrm>
              <a:off x="515880" y="5043600"/>
              <a:ext cx="215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Arial Rounded MT Bold"/>
                  <a:ea typeface="TF NopScript"/>
                </a:rPr>
                <a:t>a</a:t>
              </a:r>
              <a:r>
                <a:rPr b="0" lang="en-US" sz="3600" spc="-1" strike="noStrike" baseline="30000">
                  <a:solidFill>
                    <a:srgbClr val="000066"/>
                  </a:solidFill>
                  <a:latin typeface="Arial Rounded MT Bold"/>
                  <a:ea typeface="TF NopScript"/>
                </a:rPr>
                <a:t>k</a:t>
              </a:r>
              <a:r>
                <a:rPr b="0" lang="en-US" sz="3600" spc="-1" strike="noStrike">
                  <a:solidFill>
                    <a:srgbClr val="000066"/>
                  </a:solidFill>
                  <a:latin typeface="Arial Rounded MT Bold"/>
                  <a:ea typeface="TF NopScript"/>
                </a:rPr>
                <a:t> % m =</a:t>
              </a: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AutoShape 15"/>
            <p:cNvSpPr/>
            <p:nvPr/>
          </p:nvSpPr>
          <p:spPr>
            <a:xfrm>
              <a:off x="2603520" y="4367160"/>
              <a:ext cx="333360" cy="1987560"/>
            </a:xfrm>
            <a:custGeom>
              <a:avLst/>
              <a:gdLst>
                <a:gd name="textAreaLeft" fmla="*/ 213120 w 333360"/>
                <a:gd name="textAreaRight" fmla="*/ 333720 w 333360"/>
                <a:gd name="textAreaTop" fmla="*/ 51840 h 1987560"/>
                <a:gd name="textAreaBottom" fmla="*/ 1935720 h 198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149480" y="6494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Rounded MT Bold"/>
                <a:ea typeface="TF NopScript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Rounded MT Bold"/>
                <a:ea typeface="TF NopScript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TF NopScript"/>
              </a:rPr>
              <a:t> mod 10  =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149480" y="138276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Rounded MT Bold"/>
                <a:ea typeface="TF NopScript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Rounded MT Bold"/>
                <a:ea typeface="TF NopScript"/>
              </a:rPr>
              <a:t>30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TF NopScript"/>
              </a:rPr>
              <a:t> mod 10  =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149480" y="21160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Rounded MT Bold"/>
                <a:ea typeface="TF NopScript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Rounded MT Bold"/>
                <a:ea typeface="TF NopScript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TF NopScript"/>
              </a:rPr>
              <a:t> mod 10  =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1149480" y="284940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Rounded MT Bold"/>
                <a:ea typeface="TF NopScript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Rounded MT Bold"/>
                <a:ea typeface="TF NopScript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TF NopScript"/>
              </a:rPr>
              <a:t> mod 10  =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1149480" y="35830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Rounded MT Bold"/>
                <a:ea typeface="TF NopScript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Rounded MT Bold"/>
                <a:ea typeface="TF NopScript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TF NopScript"/>
              </a:rPr>
              <a:t> mod 10  =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1149480" y="431640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Rounded MT Bold"/>
                <a:ea typeface="TF NopScript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Rounded MT Bold"/>
                <a:ea typeface="TF NopScript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TF NopScript"/>
              </a:rPr>
              <a:t> mod 10  =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1149480" y="504972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Rounded MT Bold"/>
                <a:ea typeface="TF NopScript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Rounded MT Bold"/>
                <a:ea typeface="TF NopScript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TF NopScript"/>
              </a:rPr>
              <a:t> mod 10  =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4240080" y="5049720"/>
            <a:ext cx="52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 Rounded MT Bold"/>
                <a:ea typeface="TF NopScript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4138560" y="4316400"/>
            <a:ext cx="35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Rounded MT Bold"/>
                <a:ea typeface="TF NopScrip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c3300"/>
                </a:solidFill>
                <a:latin typeface="Arial Rounded MT Bold"/>
                <a:ea typeface="TF NopScript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Rounded MT Bold"/>
                <a:ea typeface="TF NopScrip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TF NopScript"/>
              </a:rPr>
              <a:t> mod 10  = </a:t>
            </a:r>
            <a:r>
              <a:rPr b="0" lang="en-US" sz="3200" spc="-1" strike="noStrike">
                <a:solidFill>
                  <a:srgbClr val="cc3300"/>
                </a:solidFill>
                <a:latin typeface="Arial Rounded MT Bold"/>
                <a:ea typeface="TF NopScript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4138560" y="3583080"/>
            <a:ext cx="35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Rounded MT Bold"/>
                <a:ea typeface="TF NopScrip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c3300"/>
                </a:solidFill>
                <a:latin typeface="Arial Rounded MT Bold"/>
                <a:ea typeface="TF NopScript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Rounded MT Bold"/>
                <a:ea typeface="TF NopScrip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TF NopScript"/>
              </a:rPr>
              <a:t> mod 10  = </a:t>
            </a:r>
            <a:r>
              <a:rPr b="0" lang="en-US" sz="3200" spc="-1" strike="noStrike">
                <a:solidFill>
                  <a:srgbClr val="cc3300"/>
                </a:solidFill>
                <a:latin typeface="Arial Rounded MT Bold"/>
                <a:ea typeface="TF NopScript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4138560" y="2849400"/>
            <a:ext cx="35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Rounded MT Bold"/>
                <a:ea typeface="TF NopScrip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c3300"/>
                </a:solidFill>
                <a:latin typeface="Arial Rounded MT Bold"/>
                <a:ea typeface="TF NopScript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Rounded MT Bold"/>
                <a:ea typeface="TF NopScrip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TF NopScript"/>
              </a:rPr>
              <a:t> mod 10  = </a:t>
            </a:r>
            <a:r>
              <a:rPr b="0" lang="en-US" sz="3200" spc="-1" strike="noStrike">
                <a:solidFill>
                  <a:srgbClr val="cc3300"/>
                </a:solidFill>
                <a:latin typeface="Arial Rounded MT Bold"/>
                <a:ea typeface="TF NopScript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4138560" y="2116080"/>
            <a:ext cx="35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Rounded MT Bold"/>
                <a:ea typeface="TF NopScrip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c3300"/>
                </a:solidFill>
                <a:latin typeface="Arial Rounded MT Bold"/>
                <a:ea typeface="TF NopScript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Rounded MT Bold"/>
                <a:ea typeface="TF NopScrip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TF NopScript"/>
              </a:rPr>
              <a:t> mod 10  = </a:t>
            </a:r>
            <a:r>
              <a:rPr b="0" lang="en-US" sz="3200" spc="-1" strike="noStrike">
                <a:solidFill>
                  <a:srgbClr val="cc3300"/>
                </a:solidFill>
                <a:latin typeface="Arial Rounded MT Bold"/>
                <a:ea typeface="TF NopScript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4138560" y="1382760"/>
            <a:ext cx="35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 Rounded MT Bold"/>
                <a:ea typeface="TF NopScript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Rounded MT Bold"/>
                <a:ea typeface="TF NopScrip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TF NopScript"/>
              </a:rPr>
              <a:t> mod 10  = </a:t>
            </a:r>
            <a:r>
              <a:rPr b="0" lang="en-US" sz="3200" spc="-1" strike="noStrike">
                <a:solidFill>
                  <a:srgbClr val="cc3300"/>
                </a:solidFill>
                <a:latin typeface="Arial Rounded MT Bold"/>
                <a:ea typeface="TF NopScript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Text Box 16"/>
          <p:cNvSpPr/>
          <p:nvPr/>
        </p:nvSpPr>
        <p:spPr>
          <a:xfrm>
            <a:off x="4138560" y="649440"/>
            <a:ext cx="35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 Rounded MT Bold"/>
                <a:ea typeface="TF NopScript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Rounded MT Bold"/>
                <a:ea typeface="TF NopScrip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TF NopScript"/>
              </a:rPr>
              <a:t> mod 10  = </a:t>
            </a:r>
            <a:r>
              <a:rPr b="0" lang="en-US" sz="3200" spc="-1" strike="noStrike">
                <a:solidFill>
                  <a:srgbClr val="cc3300"/>
                </a:solidFill>
                <a:latin typeface="Arial Rounded MT Bold"/>
                <a:ea typeface="TF NopScript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Line 17"/>
          <p:cNvSpPr/>
          <p:nvPr/>
        </p:nvSpPr>
        <p:spPr>
          <a:xfrm flipV="1">
            <a:off x="4619520" y="4881240"/>
            <a:ext cx="276480" cy="361800"/>
          </a:xfrm>
          <a:prstGeom prst="line">
            <a:avLst/>
          </a:prstGeom>
          <a:ln w="28440">
            <a:solidFill>
              <a:srgbClr val="cc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Freeform 18"/>
          <p:cNvSpPr/>
          <p:nvPr/>
        </p:nvSpPr>
        <p:spPr>
          <a:xfrm>
            <a:off x="5068800" y="4054320"/>
            <a:ext cx="2220840" cy="406440"/>
          </a:xfrm>
          <a:custGeom>
            <a:avLst/>
            <a:gdLst>
              <a:gd name="textAreaLeft" fmla="*/ 0 w 2220840"/>
              <a:gd name="textAreaRight" fmla="*/ 2221200 w 22208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399" h="256">
                <a:moveTo>
                  <a:pt x="1399" y="256"/>
                </a:moveTo>
                <a:lnTo>
                  <a:pt x="1262" y="146"/>
                </a:lnTo>
                <a:lnTo>
                  <a:pt x="220" y="14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33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Freeform 19"/>
          <p:cNvSpPr/>
          <p:nvPr/>
        </p:nvSpPr>
        <p:spPr>
          <a:xfrm>
            <a:off x="5068800" y="3314880"/>
            <a:ext cx="2220840" cy="406080"/>
          </a:xfrm>
          <a:custGeom>
            <a:avLst/>
            <a:gdLst>
              <a:gd name="textAreaLeft" fmla="*/ 0 w 2220840"/>
              <a:gd name="textAreaRight" fmla="*/ 2221200 w 2220840"/>
              <a:gd name="textAreaTop" fmla="*/ 0 h 406080"/>
              <a:gd name="textAreaBottom" fmla="*/ 406440 h 406080"/>
            </a:gdLst>
            <a:ahLst/>
            <a:rect l="textAreaLeft" t="textAreaTop" r="textAreaRight" b="textAreaBottom"/>
            <a:pathLst>
              <a:path w="1399" h="256">
                <a:moveTo>
                  <a:pt x="1399" y="256"/>
                </a:moveTo>
                <a:lnTo>
                  <a:pt x="1262" y="146"/>
                </a:lnTo>
                <a:lnTo>
                  <a:pt x="220" y="14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33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Freeform 20"/>
          <p:cNvSpPr/>
          <p:nvPr/>
        </p:nvSpPr>
        <p:spPr>
          <a:xfrm>
            <a:off x="5068800" y="2558880"/>
            <a:ext cx="2220840" cy="406440"/>
          </a:xfrm>
          <a:custGeom>
            <a:avLst/>
            <a:gdLst>
              <a:gd name="textAreaLeft" fmla="*/ 0 w 2220840"/>
              <a:gd name="textAreaRight" fmla="*/ 2221200 w 22208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399" h="256">
                <a:moveTo>
                  <a:pt x="1399" y="256"/>
                </a:moveTo>
                <a:lnTo>
                  <a:pt x="1262" y="146"/>
                </a:lnTo>
                <a:lnTo>
                  <a:pt x="220" y="14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33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Freeform 21"/>
          <p:cNvSpPr/>
          <p:nvPr/>
        </p:nvSpPr>
        <p:spPr>
          <a:xfrm>
            <a:off x="5068800" y="1847880"/>
            <a:ext cx="2220840" cy="406440"/>
          </a:xfrm>
          <a:custGeom>
            <a:avLst/>
            <a:gdLst>
              <a:gd name="textAreaLeft" fmla="*/ 0 w 2220840"/>
              <a:gd name="textAreaRight" fmla="*/ 2221200 w 22208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399" h="256">
                <a:moveTo>
                  <a:pt x="1399" y="256"/>
                </a:moveTo>
                <a:lnTo>
                  <a:pt x="1262" y="146"/>
                </a:lnTo>
                <a:lnTo>
                  <a:pt x="220" y="14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33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Freeform 22"/>
          <p:cNvSpPr/>
          <p:nvPr/>
        </p:nvSpPr>
        <p:spPr>
          <a:xfrm>
            <a:off x="5068800" y="1136520"/>
            <a:ext cx="2220840" cy="406440"/>
          </a:xfrm>
          <a:custGeom>
            <a:avLst/>
            <a:gdLst>
              <a:gd name="textAreaLeft" fmla="*/ 0 w 2220840"/>
              <a:gd name="textAreaRight" fmla="*/ 2221200 w 22208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399" h="256">
                <a:moveTo>
                  <a:pt x="1399" y="256"/>
                </a:moveTo>
                <a:lnTo>
                  <a:pt x="1262" y="146"/>
                </a:lnTo>
                <a:lnTo>
                  <a:pt x="220" y="14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33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คำนวณ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mod m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506520" y="2859120"/>
            <a:ext cx="814536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owerMod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) {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k == 0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 = powerMod(a, k / 2, m)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 = (p * p) % m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(k % 2) == 1) p = (a * p) % m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 is od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2"/>
              <p:cNvSpPr txBox="1"/>
              <p:nvPr/>
            </p:nvSpPr>
            <p:spPr>
              <a:xfrm>
                <a:off x="917640" y="873000"/>
                <a:ext cx="6946920" cy="16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p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  <m:sup>
                                          <m:d>
                                            <m:dPr>
                                              <m:begChr m:val="⌊"/>
                                              <m:endChr m:val="⌋"/>
                                            </m:dPr>
                                            <m:e>
                                              <m:f>
                                                <m:fPr>
                                                  <m:type m:val="lin"/>
                                                </m:fPr>
                                                <m:num>
                                                  <m:r>
                                                    <m:t xml:space="preserve">k</m:t>
                                                  </m:r>
                                                </m:num>
                                                <m:den>
                                                  <m:r>
                                                    <m:t xml:space="preserve">2</m:t>
                                                  </m:r>
                                                </m:den>
                                              </m:f>
                                            </m:e>
                                          </m:d>
                                        </m:sup>
                                      </m:sSup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od</m:t>
                                      </m:r>
                                      <m:r>
                                        <m:t xml:space="preserve"> </m:t>
                                      </m:r>
                                      <m:r>
                                        <m:t xml:space="preserve">m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mod</m:t>
                              </m:r>
                              <m:r>
                                <m:t xml:space="preserve">m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s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ven</m:t>
                              </m:r>
                            </m:e>
                          </m:mr>
                          <m:mr>
                            <m:e>
                              <m:r>
                                <m:t xml:space="preserve">a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p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  <m:sup>
                                          <m:d>
                                            <m:dPr>
                                              <m:begChr m:val="⌊"/>
                                              <m:endChr m:val="⌋"/>
                                            </m:dPr>
                                            <m:e>
                                              <m:f>
                                                <m:fPr>
                                                  <m:type m:val="lin"/>
                                                </m:fPr>
                                                <m:num>
                                                  <m:r>
                                                    <m:t xml:space="preserve">k</m:t>
                                                  </m:r>
                                                </m:num>
                                                <m:den>
                                                  <m:r>
                                                    <m:t xml:space="preserve">2</m:t>
                                                  </m:r>
                                                </m:den>
                                              </m:f>
                                            </m:e>
                                          </m:d>
                                        </m:sup>
                                      </m:sSup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od</m:t>
                                      </m:r>
                                      <m:r>
                                        <m:t xml:space="preserve"> </m:t>
                                      </m:r>
                                      <m:r>
                                        <m:t xml:space="preserve">m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mod</m:t>
                              </m:r>
                              <m:r>
                                <m:t xml:space="preserve">m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s</m:t>
                              </m:r>
                              <m:r>
                                <m:t xml:space="preserve"> </m:t>
                              </m:r>
                              <m:r>
                                <m:t xml:space="preserve">o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วามสัมพันธ์เวียนเกิด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(Recurrences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เขียนความสัมพันธ์ของจำนวนเต็มในลำดั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727200" y="1689120"/>
            <a:ext cx="764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0, 1, 2, 3, 4, ...  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th-TH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th-TH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th-TH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th-TH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มื่อ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27200" y="2495520"/>
            <a:ext cx="764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3, 5, 7, 9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,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...  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th-TH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th-TH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th-TH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th-TH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24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มื่อ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727200" y="3303720"/>
            <a:ext cx="764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0, 1, 3, 6, 10, 15, ...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th-TH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th-TH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th-TH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th-TH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24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th-TH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มื่อ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727200" y="4111560"/>
            <a:ext cx="805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0, 1, 1, 2, 3, 5, 8,...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th-TH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th-TH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24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th-TH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2400" spc="-1" strike="noStrike" baseline="-25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มื่อ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1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ปัญหา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ower of Hanoi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288" name="Object 7"/>
          <p:cNvGraphicFramePr/>
          <p:nvPr/>
        </p:nvGraphicFramePr>
        <p:xfrm>
          <a:off x="2901960" y="4757760"/>
          <a:ext cx="340056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1960" y="4757760"/>
                    <a:ext cx="340056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95240" y="861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มีเสา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้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ใส่จานกลมมีรูตรงกลางขนาดต่างกัน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ใบ  ในเสาต้นซ้ายกองเรียงตามขนาด ใบใหญ่สุดอยู่ล่างสุ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้องกา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ย้ายจานทุกใบจากเสาซ้ายไปใส่ที่เสาขว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ย้ายได้ครั้งละใ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อนุญาตให้ใบเล็กทับใบใหญ่ได้เท่านั้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ย้ายอย่างไร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1" name="Picture 4" descr="hanoiTower5"/>
          <p:cNvPicPr/>
          <p:nvPr/>
        </p:nvPicPr>
        <p:blipFill>
          <a:blip r:embed="rId3"/>
          <a:stretch/>
        </p:blipFill>
        <p:spPr>
          <a:xfrm>
            <a:off x="2911320" y="4759200"/>
            <a:ext cx="33912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8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8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3" dur="5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8" dur="5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92360" y="4416480"/>
            <a:ext cx="4022640" cy="459720"/>
          </a:xfrm>
          <a:prstGeom prst="rect">
            <a:avLst/>
          </a:prstGeom>
          <a:solidFill>
            <a:srgbClr val="faebd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e n : a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hanoi( n, a, b, c 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8" name="Group 8"/>
          <p:cNvGrpSpPr/>
          <p:nvPr/>
        </p:nvGrpSpPr>
        <p:grpSpPr>
          <a:xfrm>
            <a:off x="1636560" y="1455840"/>
            <a:ext cx="6030720" cy="2099880"/>
            <a:chOff x="1636560" y="1455840"/>
            <a:chExt cx="6030720" cy="2099880"/>
          </a:xfrm>
        </p:grpSpPr>
        <p:grpSp>
          <p:nvGrpSpPr>
            <p:cNvPr id="299" name="Group 9"/>
            <p:cNvGrpSpPr/>
            <p:nvPr/>
          </p:nvGrpSpPr>
          <p:grpSpPr>
            <a:xfrm>
              <a:off x="1636560" y="1455840"/>
              <a:ext cx="6030720" cy="1680480"/>
              <a:chOff x="1636560" y="1455840"/>
              <a:chExt cx="6030720" cy="1680480"/>
            </a:xfrm>
          </p:grpSpPr>
          <p:sp>
            <p:nvSpPr>
              <p:cNvPr id="300" name="AutoShape 10"/>
              <p:cNvSpPr/>
              <p:nvPr/>
            </p:nvSpPr>
            <p:spPr>
              <a:xfrm>
                <a:off x="6541920" y="1455840"/>
                <a:ext cx="135000" cy="1612800"/>
              </a:xfrm>
              <a:custGeom>
                <a:avLst/>
                <a:gdLst>
                  <a:gd name="textAreaLeft" fmla="*/ 19800 w 135000"/>
                  <a:gd name="textAreaRight" fmla="*/ 115200 w 135000"/>
                  <a:gd name="textAreaTop" fmla="*/ 19800 h 1612800"/>
                  <a:gd name="textAreaBottom" fmla="*/ 1593000 h 1612800"/>
                </a:gdLst>
                <a:ahLst/>
                <a:rect l="textAreaLeft" t="textAreaTop" r="textAreaRight" b="textAreaBottom"/>
                <a:pathLst>
                  <a:path w="21600" h="257419">
                    <a:moveTo>
                      <a:pt x="10800" y="0"/>
                    </a:moveTo>
                    <a:arcTo wR="10800" hR="10800" stAng="16200000" swAng="-5400000"/>
                    <a:lnTo>
                      <a:pt x="0" y="246619"/>
                    </a:lnTo>
                    <a:arcTo wR="10800" hR="10800" stAng="10800000" swAng="-5400000"/>
                    <a:lnTo>
                      <a:pt x="10800" y="25741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5c5c5c"/>
                  </a:gs>
                  <a:gs pos="50000">
                    <a:srgbClr val="ffffff"/>
                  </a:gs>
                  <a:gs pos="100000">
                    <a:srgbClr val="5c5c5c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AutoShape 11"/>
              <p:cNvSpPr/>
              <p:nvPr/>
            </p:nvSpPr>
            <p:spPr>
              <a:xfrm>
                <a:off x="4589280" y="1455840"/>
                <a:ext cx="135000" cy="1612800"/>
              </a:xfrm>
              <a:custGeom>
                <a:avLst/>
                <a:gdLst>
                  <a:gd name="textAreaLeft" fmla="*/ 19800 w 135000"/>
                  <a:gd name="textAreaRight" fmla="*/ 115200 w 135000"/>
                  <a:gd name="textAreaTop" fmla="*/ 19800 h 1612800"/>
                  <a:gd name="textAreaBottom" fmla="*/ 1593000 h 1612800"/>
                </a:gdLst>
                <a:ahLst/>
                <a:rect l="textAreaLeft" t="textAreaTop" r="textAreaRight" b="textAreaBottom"/>
                <a:pathLst>
                  <a:path w="21600" h="257419">
                    <a:moveTo>
                      <a:pt x="10800" y="0"/>
                    </a:moveTo>
                    <a:arcTo wR="10800" hR="10800" stAng="16200000" swAng="-5400000"/>
                    <a:lnTo>
                      <a:pt x="0" y="246619"/>
                    </a:lnTo>
                    <a:arcTo wR="10800" hR="10800" stAng="10800000" swAng="-5400000"/>
                    <a:lnTo>
                      <a:pt x="10800" y="25741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5c5c5c"/>
                  </a:gs>
                  <a:gs pos="50000">
                    <a:srgbClr val="ffffff"/>
                  </a:gs>
                  <a:gs pos="100000">
                    <a:srgbClr val="5c5c5c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AutoShape 12"/>
              <p:cNvSpPr/>
              <p:nvPr/>
            </p:nvSpPr>
            <p:spPr>
              <a:xfrm>
                <a:off x="2636640" y="1455840"/>
                <a:ext cx="135000" cy="1612800"/>
              </a:xfrm>
              <a:custGeom>
                <a:avLst/>
                <a:gdLst>
                  <a:gd name="textAreaLeft" fmla="*/ 19800 w 135000"/>
                  <a:gd name="textAreaRight" fmla="*/ 115200 w 135000"/>
                  <a:gd name="textAreaTop" fmla="*/ 19800 h 1612800"/>
                  <a:gd name="textAreaBottom" fmla="*/ 1593000 h 1612800"/>
                </a:gdLst>
                <a:ahLst/>
                <a:rect l="textAreaLeft" t="textAreaTop" r="textAreaRight" b="textAreaBottom"/>
                <a:pathLst>
                  <a:path w="21600" h="257419">
                    <a:moveTo>
                      <a:pt x="10800" y="0"/>
                    </a:moveTo>
                    <a:arcTo wR="10800" hR="10800" stAng="16200000" swAng="-5400000"/>
                    <a:lnTo>
                      <a:pt x="0" y="246619"/>
                    </a:lnTo>
                    <a:arcTo wR="10800" hR="10800" stAng="10800000" swAng="-5400000"/>
                    <a:lnTo>
                      <a:pt x="10800" y="25741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5c5c5c"/>
                  </a:gs>
                  <a:gs pos="50000">
                    <a:srgbClr val="ffffff"/>
                  </a:gs>
                  <a:gs pos="100000">
                    <a:srgbClr val="5c5c5c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3"/>
              <p:cNvSpPr/>
              <p:nvPr/>
            </p:nvSpPr>
            <p:spPr>
              <a:xfrm>
                <a:off x="1636560" y="2997000"/>
                <a:ext cx="6030720" cy="139320"/>
              </a:xfrm>
              <a:prstGeom prst="rect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04" name="Text Box 14"/>
            <p:cNvSpPr/>
            <p:nvPr/>
          </p:nvSpPr>
          <p:spPr>
            <a:xfrm>
              <a:off x="2420640" y="3098880"/>
              <a:ext cx="5526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  <a:ea typeface="Angsana New"/>
                </a:rPr>
                <a:t>a</a:t>
              </a: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Text Box 15"/>
            <p:cNvSpPr/>
            <p:nvPr/>
          </p:nvSpPr>
          <p:spPr>
            <a:xfrm>
              <a:off x="4371840" y="3098880"/>
              <a:ext cx="5522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  <a:ea typeface="Angsana New"/>
                </a:rPr>
                <a:t>b</a:t>
              </a: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Text Box 16"/>
            <p:cNvSpPr/>
            <p:nvPr/>
          </p:nvSpPr>
          <p:spPr>
            <a:xfrm>
              <a:off x="6329160" y="3098880"/>
              <a:ext cx="5526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  <a:ea typeface="Angsana New"/>
                </a:rPr>
                <a:t>c</a:t>
              </a: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7" name="Group 17"/>
          <p:cNvGrpSpPr/>
          <p:nvPr/>
        </p:nvGrpSpPr>
        <p:grpSpPr>
          <a:xfrm>
            <a:off x="1969920" y="1735200"/>
            <a:ext cx="1449360" cy="947520"/>
            <a:chOff x="1969920" y="1735200"/>
            <a:chExt cx="1449360" cy="947520"/>
          </a:xfrm>
        </p:grpSpPr>
        <p:sp>
          <p:nvSpPr>
            <p:cNvPr id="308" name="AutoShape 18"/>
            <p:cNvSpPr/>
            <p:nvPr/>
          </p:nvSpPr>
          <p:spPr>
            <a:xfrm flipV="1">
              <a:off x="1969920" y="1735200"/>
              <a:ext cx="1449360" cy="947520"/>
            </a:xfrm>
            <a:custGeom>
              <a:avLst/>
              <a:gdLst>
                <a:gd name="textAreaLeft" fmla="*/ 390600 w 1449360"/>
                <a:gd name="textAreaRight" fmla="*/ 1058760 w 1449360"/>
                <a:gd name="textAreaTop" fmla="*/ 255600 h 947520"/>
                <a:gd name="textAreaBottom" fmla="*/ 691920 h 94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026" y="21600"/>
                  </a:lnTo>
                  <a:lnTo>
                    <a:pt x="1357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50000">
                  <a:srgbClr val="c0c0c0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Text Box 19"/>
            <p:cNvSpPr/>
            <p:nvPr/>
          </p:nvSpPr>
          <p:spPr>
            <a:xfrm>
              <a:off x="2209680" y="1962000"/>
              <a:ext cx="9586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  <a:ea typeface="Angsana New"/>
                </a:rPr>
                <a:t>n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Angsana New"/>
                </a:rPr>
                <a:t>–1</a:t>
              </a: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0" name="AutoShape 20"/>
          <p:cNvSpPr/>
          <p:nvPr/>
        </p:nvSpPr>
        <p:spPr>
          <a:xfrm>
            <a:off x="1854360" y="2755800"/>
            <a:ext cx="1699920" cy="1778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3333"/>
              </a:gs>
              <a:gs pos="50000">
                <a:srgbClr val="c0c0c0"/>
              </a:gs>
              <a:gs pos="100000">
                <a:srgbClr val="333333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Freeform 21"/>
          <p:cNvSpPr/>
          <p:nvPr/>
        </p:nvSpPr>
        <p:spPr>
          <a:xfrm>
            <a:off x="4765680" y="104760"/>
            <a:ext cx="1353960" cy="219240"/>
          </a:xfrm>
          <a:custGeom>
            <a:avLst/>
            <a:gdLst>
              <a:gd name="textAreaLeft" fmla="*/ 0 w 1353960"/>
              <a:gd name="textAreaRight" fmla="*/ 1354320 w 135396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7" h="140">
                <a:moveTo>
                  <a:pt x="0" y="112"/>
                </a:moveTo>
                <a:cubicBezTo>
                  <a:pt x="53" y="75"/>
                  <a:pt x="107" y="38"/>
                  <a:pt x="211" y="21"/>
                </a:cubicBezTo>
                <a:cubicBezTo>
                  <a:pt x="315" y="4"/>
                  <a:pt x="503" y="12"/>
                  <a:pt x="622" y="12"/>
                </a:cubicBezTo>
                <a:cubicBezTo>
                  <a:pt x="741" y="12"/>
                  <a:pt x="827" y="0"/>
                  <a:pt x="924" y="21"/>
                </a:cubicBezTo>
                <a:cubicBezTo>
                  <a:pt x="1021" y="42"/>
                  <a:pt x="1114" y="91"/>
                  <a:pt x="1207" y="14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2" name="Group 22"/>
          <p:cNvGrpSpPr/>
          <p:nvPr/>
        </p:nvGrpSpPr>
        <p:grpSpPr>
          <a:xfrm>
            <a:off x="2595600" y="3684600"/>
            <a:ext cx="4021200" cy="564120"/>
            <a:chOff x="2595600" y="3684600"/>
            <a:chExt cx="4021200" cy="564120"/>
          </a:xfrm>
        </p:grpSpPr>
        <p:sp>
          <p:nvSpPr>
            <p:cNvPr id="313" name="Text Box 23"/>
            <p:cNvSpPr/>
            <p:nvPr/>
          </p:nvSpPr>
          <p:spPr>
            <a:xfrm>
              <a:off x="2595600" y="3789000"/>
              <a:ext cx="4021200" cy="4597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hanoi(n – 1, a, c, b)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Freeform 24"/>
            <p:cNvSpPr/>
            <p:nvPr/>
          </p:nvSpPr>
          <p:spPr>
            <a:xfrm>
              <a:off x="5138640" y="3684600"/>
              <a:ext cx="1073160" cy="234720"/>
            </a:xfrm>
            <a:custGeom>
              <a:avLst/>
              <a:gdLst>
                <a:gd name="textAreaLeft" fmla="*/ 0 w 1073160"/>
                <a:gd name="textAreaRight" fmla="*/ 1073520 w 107316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667" h="130">
                  <a:moveTo>
                    <a:pt x="0" y="130"/>
                  </a:moveTo>
                  <a:cubicBezTo>
                    <a:pt x="55" y="85"/>
                    <a:pt x="111" y="40"/>
                    <a:pt x="173" y="20"/>
                  </a:cubicBezTo>
                  <a:cubicBezTo>
                    <a:pt x="235" y="0"/>
                    <a:pt x="312" y="10"/>
                    <a:pt x="374" y="11"/>
                  </a:cubicBezTo>
                  <a:cubicBezTo>
                    <a:pt x="436" y="12"/>
                    <a:pt x="499" y="11"/>
                    <a:pt x="548" y="29"/>
                  </a:cubicBezTo>
                  <a:cubicBezTo>
                    <a:pt x="597" y="47"/>
                    <a:pt x="632" y="84"/>
                    <a:pt x="667" y="12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5" name="Group 25"/>
          <p:cNvGrpSpPr/>
          <p:nvPr/>
        </p:nvGrpSpPr>
        <p:grpSpPr>
          <a:xfrm>
            <a:off x="2595600" y="4917960"/>
            <a:ext cx="4021200" cy="586440"/>
            <a:chOff x="2595600" y="4917960"/>
            <a:chExt cx="4021200" cy="586440"/>
          </a:xfrm>
        </p:grpSpPr>
        <p:sp>
          <p:nvSpPr>
            <p:cNvPr id="316" name="Text Box 26"/>
            <p:cNvSpPr/>
            <p:nvPr/>
          </p:nvSpPr>
          <p:spPr>
            <a:xfrm>
              <a:off x="2595600" y="5044680"/>
              <a:ext cx="4021200" cy="4597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hanoi(n – 1, b, a, c)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Freeform 27"/>
            <p:cNvSpPr/>
            <p:nvPr/>
          </p:nvSpPr>
          <p:spPr>
            <a:xfrm>
              <a:off x="5138640" y="4917960"/>
              <a:ext cx="1073160" cy="234720"/>
            </a:xfrm>
            <a:custGeom>
              <a:avLst/>
              <a:gdLst>
                <a:gd name="textAreaLeft" fmla="*/ 0 w 1073160"/>
                <a:gd name="textAreaRight" fmla="*/ 1073520 w 107316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667" h="130">
                  <a:moveTo>
                    <a:pt x="0" y="130"/>
                  </a:moveTo>
                  <a:cubicBezTo>
                    <a:pt x="55" y="85"/>
                    <a:pt x="111" y="40"/>
                    <a:pt x="173" y="20"/>
                  </a:cubicBezTo>
                  <a:cubicBezTo>
                    <a:pt x="235" y="0"/>
                    <a:pt x="312" y="10"/>
                    <a:pt x="374" y="11"/>
                  </a:cubicBezTo>
                  <a:cubicBezTo>
                    <a:pt x="436" y="12"/>
                    <a:pt x="499" y="11"/>
                    <a:pt x="548" y="29"/>
                  </a:cubicBezTo>
                  <a:cubicBezTo>
                    <a:pt x="597" y="47"/>
                    <a:pt x="632" y="84"/>
                    <a:pt x="667" y="12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5.54913E-006 L -8.33333E-007 -0.19236 L 0.21424 -0.19236 L 0.21424 0.0444 E">
                                      <p:cBhvr>
                                        <p:cTn id="808" dur="2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23699E-006 L 8.33333E-007 -0.2326 L 0.42709 -0.2326 L 0.42709 0.00855 E">
                                      <p:cBhvr>
                                        <p:cTn id="817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424 0.0444 L 0.21424 -0.19468 L 0.42865 -0.19468 L 0.42865 0.01041 E">
                                      <p:cBhvr>
                                        <p:cTn id="826" dur="2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8" descr="hanoiTower3"/>
          <p:cNvPicPr/>
          <p:nvPr/>
        </p:nvPicPr>
        <p:blipFill>
          <a:blip r:embed="rId1"/>
          <a:stretch/>
        </p:blipFill>
        <p:spPr>
          <a:xfrm>
            <a:off x="1160640" y="2444760"/>
            <a:ext cx="3390840" cy="140976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แก้ปัญหา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ower of Hanoi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1703160" y="265284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2724120" y="265284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3704040" y="265284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5694480" y="2158920"/>
            <a:ext cx="2238120" cy="2014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 1 : A -&gt; C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 2 : A -&gt; B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 1 : C -&gt; B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 3 : A -&gt; C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 1 : B -&gt; 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 2 : B -&gt; C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 1 : A -&gt; C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แก้ปัญหา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ower of Hanoi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122400" y="1044720"/>
            <a:ext cx="6308640" cy="40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rivat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hanoi(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n,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th-TH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</a:t>
            </a:r>
            <a:r>
              <a:rPr b="1" lang="th-TH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ng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th-TH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n == 0)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oi(n - 1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move 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+ n +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 : 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 -&gt; 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noi(n - 1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27" name="Object 1"/>
          <p:cNvGraphicFramePr/>
          <p:nvPr/>
        </p:nvGraphicFramePr>
        <p:xfrm>
          <a:off x="6524640" y="838080"/>
          <a:ext cx="257328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4640" y="838080"/>
                    <a:ext cx="25732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0" name="Object 3"/>
          <p:cNvGraphicFramePr/>
          <p:nvPr/>
        </p:nvGraphicFramePr>
        <p:xfrm>
          <a:off x="6524640" y="1866960"/>
          <a:ext cx="257328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24640" y="1866960"/>
                    <a:ext cx="25732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3" name="Object 5"/>
          <p:cNvGraphicFramePr/>
          <p:nvPr/>
        </p:nvGraphicFramePr>
        <p:xfrm>
          <a:off x="6524640" y="2978280"/>
          <a:ext cx="2573280" cy="94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24640" y="2978280"/>
                    <a:ext cx="25732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6" name="Object 7"/>
          <p:cNvGraphicFramePr/>
          <p:nvPr/>
        </p:nvGraphicFramePr>
        <p:xfrm>
          <a:off x="6524640" y="4121280"/>
          <a:ext cx="2573280" cy="94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24640" y="4121280"/>
                    <a:ext cx="25732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00"/>
                            </p:stCondLst>
                            <p:childTnLst>
                              <p:par>
                                <p:cTn id="8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9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000"/>
                            </p:stCondLst>
                            <p:childTnLst>
                              <p:par>
                                <p:cTn id="8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8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3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6" dur="500"/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000"/>
                            </p:stCondLst>
                            <p:childTnLst>
                              <p:par>
                                <p:cTn id="8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500"/>
                            </p:stCondLst>
                            <p:childTnLst>
                              <p:par>
                                <p:cTn id="8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9" dur="500"/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1000"/>
                            </p:stCondLst>
                            <p:childTnLst>
                              <p:par>
                                <p:cTn id="8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0, 1, 3, 6, 10, 15, ...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4360" y="907920"/>
            <a:ext cx="7920000" cy="12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123480" indent="-123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รู้ว่า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0+1+2+...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23480" indent="-123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23480" indent="-123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23480" indent="-123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23480" indent="-123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23480" indent="-123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รู้ว่า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n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มื่อ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23480" indent="-123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185840" y="4062240"/>
            <a:ext cx="656100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) {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n &lt;= 0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els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(n-1) + n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Freeform 12"/>
          <p:cNvSpPr/>
          <p:nvPr/>
        </p:nvSpPr>
        <p:spPr>
          <a:xfrm>
            <a:off x="3516480" y="3798720"/>
            <a:ext cx="2482560" cy="1151280"/>
          </a:xfrm>
          <a:custGeom>
            <a:avLst/>
            <a:gdLst>
              <a:gd name="textAreaLeft" fmla="*/ 0 w 2482560"/>
              <a:gd name="textAreaRight" fmla="*/ 2482920 w 2482560"/>
              <a:gd name="textAreaTop" fmla="*/ 0 h 1151280"/>
              <a:gd name="textAreaBottom" fmla="*/ 1151640 h 1151280"/>
            </a:gdLst>
            <a:ahLst/>
            <a:rect l="textAreaLeft" t="textAreaTop" r="textAreaRight" b="textAreaBottom"/>
            <a:pathLst>
              <a:path w="2482948" h="1151206">
                <a:moveTo>
                  <a:pt x="2405575" y="0"/>
                </a:moveTo>
                <a:cubicBezTo>
                  <a:pt x="2444261" y="316523"/>
                  <a:pt x="2482948" y="633046"/>
                  <a:pt x="2335237" y="815926"/>
                </a:cubicBezTo>
                <a:cubicBezTo>
                  <a:pt x="2187526" y="998806"/>
                  <a:pt x="1908516" y="1043354"/>
                  <a:pt x="1519310" y="1097280"/>
                </a:cubicBezTo>
                <a:cubicBezTo>
                  <a:pt x="1130104" y="1151206"/>
                  <a:pt x="565052" y="1145344"/>
                  <a:pt x="0" y="1139483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3"/>
          <p:cNvSpPr/>
          <p:nvPr/>
        </p:nvSpPr>
        <p:spPr>
          <a:xfrm>
            <a:off x="3137040" y="3811680"/>
            <a:ext cx="298440" cy="1590480"/>
          </a:xfrm>
          <a:custGeom>
            <a:avLst/>
            <a:gdLst>
              <a:gd name="textAreaLeft" fmla="*/ 0 w 298440"/>
              <a:gd name="textAreaRight" fmla="*/ 298800 w 298440"/>
              <a:gd name="textAreaTop" fmla="*/ 0 h 1590480"/>
              <a:gd name="textAreaBottom" fmla="*/ 1590840 h 1590480"/>
            </a:gdLst>
            <a:ahLst/>
            <a:rect l="textAreaLeft" t="textAreaTop" r="textAreaRight" b="textAreaBottom"/>
            <a:pathLst>
              <a:path w="297766" h="1589650">
                <a:moveTo>
                  <a:pt x="0" y="0"/>
                </a:moveTo>
                <a:cubicBezTo>
                  <a:pt x="87923" y="41031"/>
                  <a:pt x="175846" y="82062"/>
                  <a:pt x="225083" y="196948"/>
                </a:cubicBezTo>
                <a:cubicBezTo>
                  <a:pt x="274320" y="311834"/>
                  <a:pt x="293076" y="457200"/>
                  <a:pt x="295421" y="689317"/>
                </a:cubicBezTo>
                <a:cubicBezTo>
                  <a:pt x="297766" y="921434"/>
                  <a:pt x="239151" y="1589650"/>
                  <a:pt x="239151" y="158965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" name="Group 9"/>
          <p:cNvGrpSpPr/>
          <p:nvPr/>
        </p:nvGrpSpPr>
        <p:grpSpPr>
          <a:xfrm>
            <a:off x="1181160" y="1428840"/>
            <a:ext cx="6678720" cy="1926360"/>
            <a:chOff x="1181160" y="1428840"/>
            <a:chExt cx="6678720" cy="1926360"/>
          </a:xfrm>
        </p:grpSpPr>
        <p:sp>
          <p:nvSpPr>
            <p:cNvPr id="99" name="Text Box 4"/>
            <p:cNvSpPr/>
            <p:nvPr/>
          </p:nvSpPr>
          <p:spPr>
            <a:xfrm>
              <a:off x="1181160" y="1431720"/>
              <a:ext cx="6678720" cy="19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000" spc="-1" strike="noStrike">
                  <a:solidFill>
                    <a:srgbClr val="0000c0"/>
                  </a:solidFill>
                  <a:latin typeface="Courier New"/>
                </a:rPr>
                <a:t>public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000" spc="-1" strike="noStrike">
                  <a:solidFill>
                    <a:srgbClr val="0000c0"/>
                  </a:solidFill>
                  <a:latin typeface="Courier New"/>
                </a:rPr>
                <a:t>static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000" spc="-1" strike="noStrike">
                  <a:solidFill>
                    <a:srgbClr val="0000c0"/>
                  </a:solidFill>
                  <a:latin typeface="Courier New"/>
                </a:rPr>
                <a:t>int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a(</a:t>
              </a:r>
              <a:r>
                <a:rPr b="1" lang="en-US" sz="2000" spc="-1" strike="noStrike">
                  <a:solidFill>
                    <a:srgbClr val="0000c0"/>
                  </a:solidFill>
                  <a:latin typeface="Courier New"/>
                </a:rPr>
                <a:t>int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n) {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2000" spc="-1" strike="noStrike">
                  <a:solidFill>
                    <a:srgbClr val="0000c0"/>
                  </a:solidFill>
                  <a:latin typeface="Courier New"/>
                </a:rPr>
                <a:t>int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s = 0;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n-NO" sz="20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nn-NO" sz="2000" spc="-1" strike="noStrike">
                  <a:solidFill>
                    <a:srgbClr val="0000c0"/>
                  </a:solidFill>
                  <a:latin typeface="Courier New"/>
                </a:rPr>
                <a:t>for</a:t>
              </a:r>
              <a:r>
                <a:rPr b="1" lang="nn-NO" sz="2000" spc="-1" strike="noStrike">
                  <a:solidFill>
                    <a:srgbClr val="000000"/>
                  </a:solidFill>
                  <a:latin typeface="Courier New"/>
                </a:rPr>
                <a:t> (</a:t>
              </a:r>
              <a:r>
                <a:rPr b="1" lang="nn-NO" sz="2000" spc="-1" strike="noStrike">
                  <a:solidFill>
                    <a:srgbClr val="0000c0"/>
                  </a:solidFill>
                  <a:latin typeface="Courier New"/>
                </a:rPr>
                <a:t>int</a:t>
              </a:r>
              <a:r>
                <a:rPr b="1" lang="nn-NO" sz="2000" spc="-1" strike="noStrike">
                  <a:solidFill>
                    <a:srgbClr val="000000"/>
                  </a:solidFill>
                  <a:latin typeface="Courier New"/>
                </a:rPr>
                <a:t> i = 0; i &lt;= n; i++)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s += i;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2000" spc="-1" strike="noStrike">
                  <a:solidFill>
                    <a:srgbClr val="0000c0"/>
                  </a:solidFill>
                  <a:latin typeface="Courier New"/>
                </a:rPr>
                <a:t>return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s;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Text Box 4"/>
            <p:cNvSpPr/>
            <p:nvPr/>
          </p:nvSpPr>
          <p:spPr>
            <a:xfrm>
              <a:off x="6829920" y="1428840"/>
              <a:ext cx="10004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</a:rPr>
                <a:t>แบบที่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1" name="Text Box 6"/>
          <p:cNvSpPr/>
          <p:nvPr/>
        </p:nvSpPr>
        <p:spPr>
          <a:xfrm>
            <a:off x="6717240" y="4059360"/>
            <a:ext cx="100044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บบ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0, 1, 1, 2, 3, 5, 8, 13, ..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165320" y="3533760"/>
            <a:ext cx="658656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ib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) {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n &lt; 2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n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n2 = 0, fn1 = 1, fn = 1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 = 2; i &lt;= n; i++) {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n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168560" y="865080"/>
            <a:ext cx="658332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fib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n) {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n &lt; 2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n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f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n + 1]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[0] = 0; f[1] = 1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for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2; i &lt;= n; i++)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[i] = f[i-1] + f[i-2]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f[n]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717240" y="852480"/>
            <a:ext cx="100044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บบ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717240" y="3525840"/>
            <a:ext cx="100044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บบ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ounded Rectangular Callout 6"/>
          <p:cNvSpPr/>
          <p:nvPr/>
        </p:nvSpPr>
        <p:spPr>
          <a:xfrm>
            <a:off x="4143240" y="6072120"/>
            <a:ext cx="2117880" cy="549360"/>
          </a:xfrm>
          <a:prstGeom prst="wedgeRoundRectCallout">
            <a:avLst>
              <a:gd name="adj1" fmla="val -71912"/>
              <a:gd name="adj2" fmla="val -52777"/>
              <a:gd name="adj3" fmla="val 16667"/>
            </a:avLst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ลองเขียนดู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" name="Group 18"/>
          <p:cNvGrpSpPr/>
          <p:nvPr/>
        </p:nvGrpSpPr>
        <p:grpSpPr>
          <a:xfrm>
            <a:off x="5509440" y="2928960"/>
            <a:ext cx="2149560" cy="459720"/>
            <a:chOff x="5509440" y="2928960"/>
            <a:chExt cx="2149560" cy="459720"/>
          </a:xfrm>
        </p:grpSpPr>
        <p:sp>
          <p:nvSpPr>
            <p:cNvPr id="109" name="TextBox 9"/>
            <p:cNvSpPr/>
            <p:nvPr/>
          </p:nvSpPr>
          <p:spPr>
            <a:xfrm>
              <a:off x="5509440" y="2928960"/>
              <a:ext cx="363600" cy="4597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TextBox 10"/>
            <p:cNvSpPr/>
            <p:nvPr/>
          </p:nvSpPr>
          <p:spPr>
            <a:xfrm>
              <a:off x="5866560" y="2928960"/>
              <a:ext cx="363600" cy="4597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TextBox 11"/>
            <p:cNvSpPr/>
            <p:nvPr/>
          </p:nvSpPr>
          <p:spPr>
            <a:xfrm>
              <a:off x="6223680" y="2928960"/>
              <a:ext cx="363600" cy="4597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TextBox 12"/>
            <p:cNvSpPr/>
            <p:nvPr/>
          </p:nvSpPr>
          <p:spPr>
            <a:xfrm>
              <a:off x="6580800" y="2928960"/>
              <a:ext cx="363600" cy="4597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TextBox 16"/>
            <p:cNvSpPr/>
            <p:nvPr/>
          </p:nvSpPr>
          <p:spPr>
            <a:xfrm>
              <a:off x="6938280" y="2928960"/>
              <a:ext cx="363600" cy="4597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TextBox 17"/>
            <p:cNvSpPr/>
            <p:nvPr/>
          </p:nvSpPr>
          <p:spPr>
            <a:xfrm>
              <a:off x="7295400" y="2928960"/>
              <a:ext cx="363600" cy="4597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5" name="Group 33"/>
          <p:cNvGrpSpPr/>
          <p:nvPr/>
        </p:nvGrpSpPr>
        <p:grpSpPr>
          <a:xfrm>
            <a:off x="6572160" y="4572000"/>
            <a:ext cx="2357640" cy="1923480"/>
            <a:chOff x="6572160" y="4572000"/>
            <a:chExt cx="2357640" cy="1923480"/>
          </a:xfrm>
        </p:grpSpPr>
        <p:sp>
          <p:nvSpPr>
            <p:cNvPr id="116" name="TextBox 19"/>
            <p:cNvSpPr/>
            <p:nvPr/>
          </p:nvSpPr>
          <p:spPr>
            <a:xfrm>
              <a:off x="6572160" y="4572000"/>
              <a:ext cx="2357640" cy="192348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n2  fn1   fn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  + 1  = 1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  + 1  = 2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  + 2  = 3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  + 3  = 5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  + 5  = 8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117" name="Straight Arrow Connector 21"/>
            <p:cNvCxnSpPr/>
            <p:nvPr/>
          </p:nvCxnSpPr>
          <p:spPr>
            <a:xfrm flipH="1">
              <a:off x="7142760" y="5070600"/>
              <a:ext cx="57204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8" name="Straight Arrow Connector 22"/>
            <p:cNvCxnSpPr/>
            <p:nvPr/>
          </p:nvCxnSpPr>
          <p:spPr>
            <a:xfrm flipH="1">
              <a:off x="7929000" y="5070600"/>
              <a:ext cx="50076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9" name="Straight Arrow Connector 27"/>
            <p:cNvCxnSpPr/>
            <p:nvPr/>
          </p:nvCxnSpPr>
          <p:spPr>
            <a:xfrm flipH="1">
              <a:off x="7142760" y="5427720"/>
              <a:ext cx="57204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0" name="Straight Arrow Connector 28"/>
            <p:cNvCxnSpPr/>
            <p:nvPr/>
          </p:nvCxnSpPr>
          <p:spPr>
            <a:xfrm flipH="1">
              <a:off x="7929000" y="5427720"/>
              <a:ext cx="50076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1" name="Straight Arrow Connector 29"/>
            <p:cNvCxnSpPr/>
            <p:nvPr/>
          </p:nvCxnSpPr>
          <p:spPr>
            <a:xfrm flipH="1">
              <a:off x="7142760" y="5713560"/>
              <a:ext cx="57204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2" name="Straight Arrow Connector 30"/>
            <p:cNvCxnSpPr/>
            <p:nvPr/>
          </p:nvCxnSpPr>
          <p:spPr>
            <a:xfrm flipH="1">
              <a:off x="7929000" y="5713560"/>
              <a:ext cx="50076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3" name="Straight Arrow Connector 31"/>
            <p:cNvCxnSpPr/>
            <p:nvPr/>
          </p:nvCxnSpPr>
          <p:spPr>
            <a:xfrm flipH="1">
              <a:off x="7142760" y="6070680"/>
              <a:ext cx="57204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4" name="Straight Arrow Connector 32"/>
            <p:cNvCxnSpPr/>
            <p:nvPr/>
          </p:nvCxnSpPr>
          <p:spPr>
            <a:xfrm flipH="1">
              <a:off x="7929000" y="6070680"/>
              <a:ext cx="50076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0, 1, 1, 2, 3, 5, 8, 13, ..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247760" y="1940040"/>
            <a:ext cx="656100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ib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) {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n &lt; 2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n2 = fib(n-2)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n1 = fib(n-1)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fn1 + fn2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6771240" y="1927080"/>
            <a:ext cx="100044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บบ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233360" y="4191120"/>
            <a:ext cx="656136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ib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) {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n &lt; 2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c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fib(n-1) + fib(n-2)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824120" y="1139760"/>
            <a:ext cx="5126040" cy="5101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th-TH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th-TH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24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th-TH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th-TH" sz="2400" spc="-1" strike="noStrike" baseline="-25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มื่อ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1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549360" y="968400"/>
            <a:ext cx="803592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fac(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n) {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fac = 1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for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1; i &lt;= n; i++) {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 = fac * i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fac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547760" y="963720"/>
            <a:ext cx="100044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บบ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549360" y="3403440"/>
            <a:ext cx="803592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fac(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n) {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n == 0)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1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f = fac(n-1)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n * f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7547760" y="3398760"/>
            <a:ext cx="100044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แบบ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3208680" y="2658960"/>
            <a:ext cx="533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2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4525920" y="3670200"/>
            <a:ext cx="2424600" cy="398880"/>
            <a:chOff x="4525920" y="3670200"/>
            <a:chExt cx="2424600" cy="398880"/>
          </a:xfrm>
        </p:grpSpPr>
        <p:sp>
          <p:nvSpPr>
            <p:cNvPr id="136" name="Text Box 10"/>
            <p:cNvSpPr/>
            <p:nvPr/>
          </p:nvSpPr>
          <p:spPr>
            <a:xfrm>
              <a:off x="5587200" y="3670200"/>
              <a:ext cx="1363320" cy="398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</a:rPr>
                <a:t>กรณีเล็กสุ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Line 11"/>
            <p:cNvSpPr/>
            <p:nvPr/>
          </p:nvSpPr>
          <p:spPr>
            <a:xfrm flipH="1">
              <a:off x="4525920" y="3895560"/>
              <a:ext cx="10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8" name="Group 12"/>
          <p:cNvGrpSpPr/>
          <p:nvPr/>
        </p:nvGrpSpPr>
        <p:grpSpPr>
          <a:xfrm>
            <a:off x="3564000" y="4289400"/>
            <a:ext cx="3935520" cy="398880"/>
            <a:chOff x="3564000" y="4289400"/>
            <a:chExt cx="3935520" cy="398880"/>
          </a:xfrm>
        </p:grpSpPr>
        <p:sp>
          <p:nvSpPr>
            <p:cNvPr id="139" name="Text Box 13"/>
            <p:cNvSpPr/>
            <p:nvPr/>
          </p:nvSpPr>
          <p:spPr>
            <a:xfrm>
              <a:off x="4635000" y="4289400"/>
              <a:ext cx="2864520" cy="398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</a:rPr>
                <a:t>ตามนิยามของแฟกตอเรียล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Line 14"/>
            <p:cNvSpPr/>
            <p:nvPr/>
          </p:nvSpPr>
          <p:spPr>
            <a:xfrm flipH="1" flipV="1">
              <a:off x="3564000" y="4365000"/>
              <a:ext cx="1017360" cy="147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มท็อดหาค่า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th-TH" sz="40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42" name="Object 16"/>
          <p:cNvGraphicFramePr/>
          <p:nvPr/>
        </p:nvGraphicFramePr>
        <p:xfrm>
          <a:off x="2832120" y="5300640"/>
          <a:ext cx="3459240" cy="12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32120" y="5300640"/>
                    <a:ext cx="3459240" cy="12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แบบ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ecursiv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30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โปรแกรมที่มีการเรียกตัวเอ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ทำงานแบ่งเป็นกรณี 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กรณีพื้นฐาน ทำเสร็จได้ทันท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กรณีอื่น เรียกตัวเอง โดยขนาดของปัญหาต้องเล็กล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เรียกแต่ละครั้ง จะมีการสร้างตัวแปรชุดใหม่ของเมท็อดในระบ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163520" y="3873600"/>
            <a:ext cx="686592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Angsana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Angsana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Angsana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Angsana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main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Angsana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[] args) {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jeng3(10)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Angsana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Angsana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Angsana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jeng3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Angsana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n) {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Angsana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.out.println(n)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jeng3(n-1);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4425480" y="55990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มื่อสั่งทำงาน จะเกิดอะไรขึ้น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5592600" y="861840"/>
            <a:ext cx="342900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fac(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) {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n == 0)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1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f = fac(n-1)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 * f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1547640" y="1341360"/>
            <a:ext cx="633744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class Test {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static void main(String[] args) {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System.out.println(fac(3))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static int fac(int n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if (n == 0) return 1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int f = fac(n-1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return n * f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73080" y="1341360"/>
            <a:ext cx="50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1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2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3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4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5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6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7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8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9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10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438120" y="1577880"/>
            <a:ext cx="433440" cy="432000"/>
          </a:xfrm>
          <a:prstGeom prst="rightArrow">
            <a:avLst>
              <a:gd name="adj1" fmla="val 50000"/>
              <a:gd name="adj2" fmla="val 250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443640" y="2492280"/>
            <a:ext cx="2016000" cy="3816360"/>
          </a:xfrm>
          <a:prstGeom prst="can">
            <a:avLst>
              <a:gd name="adj" fmla="val 14856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7"/>
          <p:cNvSpPr/>
          <p:nvPr/>
        </p:nvSpPr>
        <p:spPr>
          <a:xfrm rot="16200000">
            <a:off x="6926760" y="58269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6513480" y="5154480"/>
            <a:ext cx="1873440" cy="642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 = 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.main:0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438120" y="1857240"/>
            <a:ext cx="433440" cy="432000"/>
          </a:xfrm>
          <a:prstGeom prst="rightArrow">
            <a:avLst>
              <a:gd name="adj1" fmla="val 50000"/>
              <a:gd name="adj2" fmla="val 250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438120" y="2417760"/>
            <a:ext cx="433440" cy="431640"/>
          </a:xfrm>
          <a:prstGeom prst="rightArrow">
            <a:avLst>
              <a:gd name="adj1" fmla="val 50000"/>
              <a:gd name="adj2" fmla="val 251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438120" y="2697120"/>
            <a:ext cx="433440" cy="432000"/>
          </a:xfrm>
          <a:prstGeom prst="rightArrow">
            <a:avLst>
              <a:gd name="adj1" fmla="val 50000"/>
              <a:gd name="adj2" fmla="val 250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AutoShape 12"/>
          <p:cNvSpPr/>
          <p:nvPr/>
        </p:nvSpPr>
        <p:spPr>
          <a:xfrm>
            <a:off x="438120" y="2992320"/>
            <a:ext cx="433440" cy="432000"/>
          </a:xfrm>
          <a:prstGeom prst="rightArrow">
            <a:avLst>
              <a:gd name="adj1" fmla="val 50000"/>
              <a:gd name="adj2" fmla="val 250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2052360" y="4711680"/>
            <a:ext cx="35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มื่อระบบเรียกเมท็อ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ระบบจะสร้างตัวแปรของ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แปรระหว่างการเรียกซ้ำ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547640" y="1341360"/>
            <a:ext cx="633744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class Test {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static void main(String[] args) {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System.out.println(fac(3))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public static int fac(int n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if (n == 0) return 1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int f = fac(n-1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return n * f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  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6443640" y="2492280"/>
            <a:ext cx="2016000" cy="3816360"/>
          </a:xfrm>
          <a:prstGeom prst="can">
            <a:avLst>
              <a:gd name="adj" fmla="val 14856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แปรระหว่างการเรียกซ้ำ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973080" y="1341360"/>
            <a:ext cx="50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1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2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3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4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5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6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7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8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09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ngsana New"/>
              </a:rPr>
              <a:t>10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468360" y="2421000"/>
            <a:ext cx="433440" cy="431640"/>
          </a:xfrm>
          <a:prstGeom prst="rightArrow">
            <a:avLst>
              <a:gd name="adj1" fmla="val 50000"/>
              <a:gd name="adj2" fmla="val 251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7"/>
          <p:cNvSpPr/>
          <p:nvPr/>
        </p:nvSpPr>
        <p:spPr>
          <a:xfrm rot="16200000">
            <a:off x="6926760" y="58269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6513480" y="5164200"/>
            <a:ext cx="18734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 = 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.main:0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6516720" y="4433760"/>
            <a:ext cx="1873080" cy="642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 = 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.fac:07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468360" y="2685960"/>
            <a:ext cx="433440" cy="432000"/>
          </a:xfrm>
          <a:prstGeom prst="rightArrow">
            <a:avLst>
              <a:gd name="adj1" fmla="val 50000"/>
              <a:gd name="adj2" fmla="val 250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468360" y="2967120"/>
            <a:ext cx="433440" cy="431640"/>
          </a:xfrm>
          <a:prstGeom prst="rightArrow">
            <a:avLst>
              <a:gd name="adj1" fmla="val 50000"/>
              <a:gd name="adj2" fmla="val 251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1677240" y="4305240"/>
            <a:ext cx="434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มื่อเรียกเมท็อ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อีก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ระบบจะสร้างตัวแปรชุดใหม่ของ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ชุดใหม่ทับชุดเก่า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จะนำตัวแปรชุดเก่ากลับมาใช้ใหม่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มื่อ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03:46:59Z</dcterms:created>
  <dc:creator>chai</dc:creator>
  <dc:description/>
  <dc:language>en-US</dc:language>
  <cp:lastModifiedBy>chai</cp:lastModifiedBy>
  <dcterms:modified xsi:type="dcterms:W3CDTF">2009-06-18T08:59:21Z</dcterms:modified>
  <cp:revision>291</cp:revision>
  <dc:subject/>
  <dc:title>Slide 1</dc:title>
</cp:coreProperties>
</file>