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0" y="6597720"/>
            <a:ext cx="356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11010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ิศวกรรมคอมพิวเตอร์ จุฬาฯ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fld id="{E9938BCF-3C02-4979-852C-CB9FD57E24C2}" type="datetime"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31/07/26</a:t>
            </a:fld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885080" y="6597720"/>
            <a:ext cx="125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5324-36BF-4C80-AB41-0C9959B757C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การทำงานแบบวงวนและเลือกทำ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สดงเลขนับขึ้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439560" y="938160"/>
            <a:ext cx="645984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k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k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 = k + 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k == 5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463680" y="3705120"/>
            <a:ext cx="292104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  <a:cs typeface="Tahoma"/>
              </a:rPr>
              <a:t>โปรแกรมนี้แสดงอะไร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1438200" y="4457880"/>
            <a:ext cx="114948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 = 1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 = 2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 = 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 = 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 = 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341520" y="4457880"/>
            <a:ext cx="114948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 = 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 = 1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 = 2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 = 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 = 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 = 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243400" y="4457880"/>
            <a:ext cx="114948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 = 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 = 1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 = 2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 = 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 = 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85" name="Group 23"/>
          <p:cNvGrpSpPr/>
          <p:nvPr/>
        </p:nvGrpSpPr>
        <p:grpSpPr>
          <a:xfrm>
            <a:off x="7203960" y="841320"/>
            <a:ext cx="1683000" cy="3940200"/>
            <a:chOff x="7203960" y="841320"/>
            <a:chExt cx="1683000" cy="3940200"/>
          </a:xfrm>
        </p:grpSpPr>
        <p:sp>
          <p:nvSpPr>
            <p:cNvPr id="286" name="Rectangle 22"/>
            <p:cNvSpPr/>
            <p:nvPr/>
          </p:nvSpPr>
          <p:spPr>
            <a:xfrm>
              <a:off x="7203960" y="1897920"/>
              <a:ext cx="789840" cy="216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7" name="AutoShape 14"/>
            <p:cNvSpPr/>
            <p:nvPr/>
          </p:nvSpPr>
          <p:spPr>
            <a:xfrm>
              <a:off x="7594560" y="4524480"/>
              <a:ext cx="812880" cy="257040"/>
            </a:xfrm>
            <a:prstGeom prst="flowChartTerminator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op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8" name="AutoShape 7"/>
            <p:cNvSpPr/>
            <p:nvPr/>
          </p:nvSpPr>
          <p:spPr>
            <a:xfrm>
              <a:off x="7594560" y="841320"/>
              <a:ext cx="812880" cy="257040"/>
            </a:xfrm>
            <a:prstGeom prst="flowChartTerminator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9" name="AutoShape 23"/>
            <p:cNvSpPr/>
            <p:nvPr/>
          </p:nvSpPr>
          <p:spPr>
            <a:xfrm>
              <a:off x="7516440" y="2049480"/>
              <a:ext cx="966960" cy="382320"/>
            </a:xfrm>
            <a:prstGeom prst="flowChartDisplay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0" name="AutoShape 16"/>
            <p:cNvSpPr/>
            <p:nvPr/>
          </p:nvSpPr>
          <p:spPr>
            <a:xfrm>
              <a:off x="7341840" y="3255840"/>
              <a:ext cx="1316160" cy="623880"/>
            </a:xfrm>
            <a:prstGeom prst="flowChartDecision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 = 5 ?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1" name="TextBox 22"/>
            <p:cNvSpPr/>
            <p:nvPr/>
          </p:nvSpPr>
          <p:spPr>
            <a:xfrm>
              <a:off x="8512560" y="3228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2" name="TextBox 23"/>
            <p:cNvSpPr/>
            <p:nvPr/>
          </p:nvSpPr>
          <p:spPr>
            <a:xfrm>
              <a:off x="7999920" y="379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3" name="AutoShape 11"/>
            <p:cNvSpPr/>
            <p:nvPr/>
          </p:nvSpPr>
          <p:spPr>
            <a:xfrm>
              <a:off x="7507080" y="1328400"/>
              <a:ext cx="985680" cy="347400"/>
            </a:xfrm>
            <a:prstGeom prst="flowChartProcess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 = 0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4" name="AutoShape 11"/>
            <p:cNvSpPr/>
            <p:nvPr/>
          </p:nvSpPr>
          <p:spPr>
            <a:xfrm>
              <a:off x="7507080" y="2673360"/>
              <a:ext cx="985680" cy="345960"/>
            </a:xfrm>
            <a:prstGeom prst="flowChartProcess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 = k+1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95" name="Straight Arrow Connector 44"/>
            <p:cNvCxnSpPr>
              <a:stCxn id="288" idx="2"/>
              <a:endCxn id="293" idx="0"/>
            </p:cNvCxnSpPr>
            <p:nvPr/>
          </p:nvCxnSpPr>
          <p:spPr>
            <a:xfrm flipH="1">
              <a:off x="7999200" y="1099080"/>
              <a:ext cx="2160" cy="230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6" name="Straight Arrow Connector 46"/>
            <p:cNvCxnSpPr>
              <a:stCxn id="293" idx="2"/>
              <a:endCxn id="289" idx="0"/>
            </p:cNvCxnSpPr>
            <p:nvPr/>
          </p:nvCxnSpPr>
          <p:spPr>
            <a:xfrm flipH="1">
              <a:off x="7999200" y="1676160"/>
              <a:ext cx="2160" cy="374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7" name="Straight Arrow Connector 48"/>
            <p:cNvCxnSpPr>
              <a:stCxn id="289" idx="2"/>
              <a:endCxn id="294" idx="0"/>
            </p:cNvCxnSpPr>
            <p:nvPr/>
          </p:nvCxnSpPr>
          <p:spPr>
            <a:xfrm flipH="1">
              <a:off x="7999200" y="2432160"/>
              <a:ext cx="2160" cy="24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8" name="Straight Arrow Connector 50"/>
            <p:cNvCxnSpPr>
              <a:stCxn id="294" idx="2"/>
              <a:endCxn id="290" idx="0"/>
            </p:cNvCxnSpPr>
            <p:nvPr/>
          </p:nvCxnSpPr>
          <p:spPr>
            <a:xfrm>
              <a:off x="7999200" y="3020040"/>
              <a:ext cx="1080" cy="236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9" name="Shape 54"/>
            <p:cNvCxnSpPr>
              <a:stCxn id="290" idx="3"/>
              <a:endCxn id="287" idx="0"/>
            </p:cNvCxnSpPr>
            <p:nvPr/>
          </p:nvCxnSpPr>
          <p:spPr>
            <a:xfrm flipH="1">
              <a:off x="7999560" y="3567600"/>
              <a:ext cx="659160" cy="957600"/>
            </a:xfrm>
            <a:prstGeom prst="bentConnector4">
              <a:avLst>
                <a:gd name="adj1" fmla="val -34699"/>
                <a:gd name="adj2" fmla="val 66265"/>
              </a:avLst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ขียนได้หลายแบบ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679320" y="987480"/>
            <a:ext cx="527868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k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k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 = k + 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k == 5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887480" y="2624040"/>
            <a:ext cx="528012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k == 5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k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k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 = k + 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3171960" y="4290840"/>
            <a:ext cx="527832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k &gt;= 5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k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k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 = k + 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ช้บ่อย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พิ่มอีกหนึ่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++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ดลงหนึ่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--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4360" y="907560"/>
            <a:ext cx="7920000" cy="19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 = c + 1; c += 1; c++; ++c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 = c - 1; c -= 1; c--; --c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ับ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ช้กับตัวแปรเท่านั้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 + b)+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ได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2687760" y="3021120"/>
            <a:ext cx="3782880" cy="22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tru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k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=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break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//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++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7" name="Right Arrow 4"/>
          <p:cNvSpPr/>
          <p:nvPr/>
        </p:nvSpPr>
        <p:spPr>
          <a:xfrm>
            <a:off x="2479680" y="4170240"/>
            <a:ext cx="595440" cy="4986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งวนแบ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whil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830160" y="1066680"/>
            <a:ext cx="333396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k &gt;= 5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++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4586400" y="1081080"/>
            <a:ext cx="328284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k &lt; 5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++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4579920" y="2614680"/>
            <a:ext cx="328932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ส่วนใหญ่เขียนแบบนี้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2" name="Rounded Rectangle 6"/>
          <p:cNvSpPr/>
          <p:nvPr/>
        </p:nvSpPr>
        <p:spPr>
          <a:xfrm>
            <a:off x="750960" y="1393920"/>
            <a:ext cx="3289320" cy="663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3" name="Rounded Rectangle 7"/>
          <p:cNvSpPr/>
          <p:nvPr/>
        </p:nvSpPr>
        <p:spPr>
          <a:xfrm>
            <a:off x="4422600" y="1407960"/>
            <a:ext cx="2795760" cy="339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14" name="Group 96"/>
          <p:cNvGrpSpPr/>
          <p:nvPr/>
        </p:nvGrpSpPr>
        <p:grpSpPr>
          <a:xfrm>
            <a:off x="1606680" y="3137040"/>
            <a:ext cx="1835640" cy="3097440"/>
            <a:chOff x="1606680" y="3137040"/>
            <a:chExt cx="1835640" cy="3097440"/>
          </a:xfrm>
        </p:grpSpPr>
        <p:sp>
          <p:nvSpPr>
            <p:cNvPr id="315" name="Rectangle 92"/>
            <p:cNvSpPr/>
            <p:nvPr/>
          </p:nvSpPr>
          <p:spPr>
            <a:xfrm>
              <a:off x="1606680" y="3865320"/>
              <a:ext cx="956160" cy="203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6" name="AutoShape 16"/>
            <p:cNvSpPr/>
            <p:nvPr/>
          </p:nvSpPr>
          <p:spPr>
            <a:xfrm>
              <a:off x="1897200" y="4032360"/>
              <a:ext cx="1317600" cy="484200"/>
            </a:xfrm>
            <a:prstGeom prst="flowChartDecision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k ≥ 5 ?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7" name="TextBox 17"/>
            <p:cNvSpPr/>
            <p:nvPr/>
          </p:nvSpPr>
          <p:spPr>
            <a:xfrm>
              <a:off x="3081960" y="3948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Courier New"/>
                  <a:ea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8" name="TextBox 18"/>
            <p:cNvSpPr/>
            <p:nvPr/>
          </p:nvSpPr>
          <p:spPr>
            <a:xfrm>
              <a:off x="261072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9" name="AutoShape 11"/>
            <p:cNvSpPr/>
            <p:nvPr/>
          </p:nvSpPr>
          <p:spPr>
            <a:xfrm>
              <a:off x="2063880" y="3365640"/>
              <a:ext cx="984240" cy="347400"/>
            </a:xfrm>
            <a:prstGeom prst="flowChartProcess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 = 0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0" name="AutoShape 11"/>
            <p:cNvSpPr/>
            <p:nvPr/>
          </p:nvSpPr>
          <p:spPr>
            <a:xfrm>
              <a:off x="1940040" y="5332680"/>
              <a:ext cx="1231920" cy="347400"/>
            </a:xfrm>
            <a:prstGeom prst="flowChartProcess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 = k+1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21" name="Straight Arrow Connector 21"/>
            <p:cNvCxnSpPr>
              <a:endCxn id="319" idx="0"/>
            </p:cNvCxnSpPr>
            <p:nvPr/>
          </p:nvCxnSpPr>
          <p:spPr>
            <a:xfrm flipH="1">
              <a:off x="2554920" y="3137040"/>
              <a:ext cx="2160" cy="230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22" name="Straight Arrow Connector 22"/>
            <p:cNvCxnSpPr>
              <a:stCxn id="319" idx="2"/>
              <a:endCxn id="316" idx="0"/>
            </p:cNvCxnSpPr>
            <p:nvPr/>
          </p:nvCxnSpPr>
          <p:spPr>
            <a:xfrm>
              <a:off x="2554920" y="3712680"/>
              <a:ext cx="1080" cy="31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23" name="Straight Arrow Connector 23"/>
            <p:cNvCxnSpPr/>
            <p:nvPr/>
          </p:nvCxnSpPr>
          <p:spPr>
            <a:xfrm flipH="1">
              <a:off x="2568600" y="5098680"/>
              <a:ext cx="2160" cy="23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24" name="Shape 26"/>
            <p:cNvCxnSpPr>
              <a:stCxn id="316" idx="3"/>
            </p:cNvCxnSpPr>
            <p:nvPr/>
          </p:nvCxnSpPr>
          <p:spPr>
            <a:xfrm flipH="1">
              <a:off x="2562120" y="4274280"/>
              <a:ext cx="651960" cy="1960560"/>
            </a:xfrm>
            <a:prstGeom prst="bentConnector4">
              <a:avLst>
                <a:gd name="adj1" fmla="val -35082"/>
                <a:gd name="adj2" fmla="val 89384"/>
              </a:avLst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25" name="AutoShape 11"/>
            <p:cNvSpPr/>
            <p:nvPr/>
          </p:nvSpPr>
          <p:spPr>
            <a:xfrm>
              <a:off x="2063880" y="4751640"/>
              <a:ext cx="984240" cy="347400"/>
            </a:xfrm>
            <a:prstGeom prst="flowChartProcess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26" name="Straight Arrow Connector 28"/>
            <p:cNvCxnSpPr>
              <a:stCxn id="316" idx="2"/>
              <a:endCxn id="325" idx="0"/>
            </p:cNvCxnSpPr>
            <p:nvPr/>
          </p:nvCxnSpPr>
          <p:spPr>
            <a:xfrm flipH="1">
              <a:off x="2555280" y="4516200"/>
              <a:ext cx="1080" cy="23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7" name="Group 97"/>
          <p:cNvGrpSpPr/>
          <p:nvPr/>
        </p:nvGrpSpPr>
        <p:grpSpPr>
          <a:xfrm>
            <a:off x="5264280" y="3137040"/>
            <a:ext cx="1835640" cy="3097440"/>
            <a:chOff x="5264280" y="3137040"/>
            <a:chExt cx="1835640" cy="3097440"/>
          </a:xfrm>
        </p:grpSpPr>
        <p:sp>
          <p:nvSpPr>
            <p:cNvPr id="328" name="Rectangle 98"/>
            <p:cNvSpPr/>
            <p:nvPr/>
          </p:nvSpPr>
          <p:spPr>
            <a:xfrm>
              <a:off x="5264280" y="3865320"/>
              <a:ext cx="956160" cy="203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9" name="AutoShape 16"/>
            <p:cNvSpPr/>
            <p:nvPr/>
          </p:nvSpPr>
          <p:spPr>
            <a:xfrm>
              <a:off x="5554800" y="4032360"/>
              <a:ext cx="1317600" cy="484200"/>
            </a:xfrm>
            <a:prstGeom prst="flowChartDecision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k &lt; 5 ?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0" name="TextBox 100"/>
            <p:cNvSpPr/>
            <p:nvPr/>
          </p:nvSpPr>
          <p:spPr>
            <a:xfrm>
              <a:off x="6753600" y="3962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1" name="TextBox 101"/>
            <p:cNvSpPr/>
            <p:nvPr/>
          </p:nvSpPr>
          <p:spPr>
            <a:xfrm>
              <a:off x="626832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Courier New"/>
                  <a:ea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2" name="AutoShape 11"/>
            <p:cNvSpPr/>
            <p:nvPr/>
          </p:nvSpPr>
          <p:spPr>
            <a:xfrm>
              <a:off x="5721480" y="3365640"/>
              <a:ext cx="984240" cy="347400"/>
            </a:xfrm>
            <a:prstGeom prst="flowChartProcess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 = 0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3" name="AutoShape 11"/>
            <p:cNvSpPr/>
            <p:nvPr/>
          </p:nvSpPr>
          <p:spPr>
            <a:xfrm>
              <a:off x="5597640" y="5332680"/>
              <a:ext cx="1233360" cy="347400"/>
            </a:xfrm>
            <a:prstGeom prst="flowChartProcess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 = k+1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34" name="Straight Arrow Connector 104"/>
            <p:cNvCxnSpPr>
              <a:endCxn id="332" idx="0"/>
            </p:cNvCxnSpPr>
            <p:nvPr/>
          </p:nvCxnSpPr>
          <p:spPr>
            <a:xfrm flipH="1">
              <a:off x="6212520" y="3137040"/>
              <a:ext cx="2160" cy="230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105"/>
            <p:cNvCxnSpPr>
              <a:stCxn id="332" idx="2"/>
              <a:endCxn id="329" idx="0"/>
            </p:cNvCxnSpPr>
            <p:nvPr/>
          </p:nvCxnSpPr>
          <p:spPr>
            <a:xfrm>
              <a:off x="6212520" y="3712680"/>
              <a:ext cx="1080" cy="31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Straight Arrow Connector 106"/>
            <p:cNvCxnSpPr/>
            <p:nvPr/>
          </p:nvCxnSpPr>
          <p:spPr>
            <a:xfrm flipH="1">
              <a:off x="6226200" y="5098680"/>
              <a:ext cx="2160" cy="23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7" name="Shape 107"/>
            <p:cNvCxnSpPr>
              <a:stCxn id="329" idx="3"/>
            </p:cNvCxnSpPr>
            <p:nvPr/>
          </p:nvCxnSpPr>
          <p:spPr>
            <a:xfrm flipH="1">
              <a:off x="6219720" y="4274280"/>
              <a:ext cx="651960" cy="1960560"/>
            </a:xfrm>
            <a:prstGeom prst="bentConnector4">
              <a:avLst>
                <a:gd name="adj1" fmla="val -35082"/>
                <a:gd name="adj2" fmla="val 89384"/>
              </a:avLst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8" name="AutoShape 11"/>
            <p:cNvSpPr/>
            <p:nvPr/>
          </p:nvSpPr>
          <p:spPr>
            <a:xfrm>
              <a:off x="5721480" y="4751640"/>
              <a:ext cx="984240" cy="347400"/>
            </a:xfrm>
            <a:prstGeom prst="flowChartProcess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39" name="Straight Arrow Connector 109"/>
            <p:cNvCxnSpPr>
              <a:stCxn id="329" idx="2"/>
              <a:endCxn id="338" idx="0"/>
            </p:cNvCxnSpPr>
            <p:nvPr/>
          </p:nvCxnSpPr>
          <p:spPr>
            <a:xfrm flipH="1">
              <a:off x="6212880" y="4516200"/>
              <a:ext cx="1080" cy="23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่าเฉลี่ยของข้อมูล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0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752400" y="773280"/>
            <a:ext cx="7972560" cy="545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Average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kb =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k &lt; 10)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2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ข้อมูล</a:t>
            </a:r>
            <a:r>
              <a:rPr b="0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 = kb.nextDouble(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sum = sum + data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k = k + 1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average = sum / 10.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2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ค่าเฉลี่ย</a:t>
            </a:r>
            <a:r>
              <a:rPr b="0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averag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3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3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่าเฉลี่ยของข้อมูล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752400" y="676440"/>
            <a:ext cx="7972560" cy="612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Average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kb =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&lt; 10 )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2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ข้อมูล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 = kb.nextDouble(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sum = sum + data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k = k + 1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average = sum / 10.0 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2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ค่าเฉลี่ย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averag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1432080" y="2006640"/>
            <a:ext cx="5452920" cy="1099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2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จำนวนข้อมูล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n = kb.nextInt(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3422520" y="3349800"/>
            <a:ext cx="588960" cy="429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6" name="Text Box 12"/>
          <p:cNvSpPr/>
          <p:nvPr/>
        </p:nvSpPr>
        <p:spPr>
          <a:xfrm>
            <a:off x="5324400" y="5359320"/>
            <a:ext cx="785880" cy="429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่าเฉลี่ยของชุดข้อมูล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ลิกเมื่อพบลบ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752400" y="773280"/>
            <a:ext cx="7972560" cy="579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Average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kb =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&lt; 10 )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2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ข้อมูล</a:t>
            </a:r>
            <a:r>
              <a:rPr b="0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 = kb.nextDouble(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sum = sum + data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k = k + 1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average = sum / 10.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2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ค่าเฉลี่ย</a:t>
            </a:r>
            <a:r>
              <a:rPr b="0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averag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1763640" y="3780000"/>
            <a:ext cx="3695760" cy="429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(data &lt; 0) break;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2774880" y="2795760"/>
            <a:ext cx="1187640" cy="429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5283360" y="5122800"/>
            <a:ext cx="785520" cy="429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ารากที่ส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บาบิโลน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บบใช้วงว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500040" y="1003320"/>
            <a:ext cx="8239320" cy="378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th-TH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kb =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a = "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a = kb.nextDouble(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0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a/x) / 2.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a/x) / 2.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a/x) / 2.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a/x) / 2.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2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รากที่สอง</a:t>
            </a:r>
            <a:r>
              <a:rPr b="0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x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855720" y="2695680"/>
            <a:ext cx="531324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(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a/x) / 2.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3013200" y="4565520"/>
            <a:ext cx="3152520" cy="6969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|  &lt; 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ahoma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1498680" y="3425760"/>
            <a:ext cx="37893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(x*x == a)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break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1495440" y="3448080"/>
            <a:ext cx="71182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abs(x*x - a) &lt;= 0.00001)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break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5869080" y="3441600"/>
            <a:ext cx="12538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e-5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59" name="Object 2"/>
          <p:cNvGraphicFramePr/>
          <p:nvPr/>
        </p:nvGraphicFramePr>
        <p:xfrm>
          <a:off x="6008760" y="2214720"/>
          <a:ext cx="2560680" cy="99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8760" y="2214720"/>
                    <a:ext cx="256068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Box 10"/>
          <p:cNvSpPr/>
          <p:nvPr/>
        </p:nvSpPr>
        <p:spPr>
          <a:xfrm>
            <a:off x="2032560" y="5413320"/>
            <a:ext cx="4966200" cy="1008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ต้องระวังเรื่องความเท่ากันของ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เช่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0.1+0.1+0.1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ไม่เท่ากับ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(0.1+0.1+0.1 – 0.3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5.6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  <a:ea typeface="Tahoma"/>
              </a:rPr>
              <a:t>-17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ouble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ะเอียดแต่ไม่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00%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895320" y="1073160"/>
            <a:ext cx="7477200" cy="176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void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(</a:t>
            </a:r>
            <a:r>
              <a:rPr b="1" lang="th-TH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a = 0.1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b = a + a + a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b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– 0.3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2472120" y="3173400"/>
            <a:ext cx="4236120" cy="520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Tahoma"/>
              </a:rPr>
              <a:t>5.551115123125783E-17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916200" y="3836880"/>
            <a:ext cx="77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คอมพิวเตอร์เก็บ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ouble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หนึ่งตัวด้วยเนื้อที่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64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บิต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มีขนาดจำกัด จึงมีบางค่าเก็บได้ไม่แม่นยำ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จึงต้องระวังการเปรียบเทียบความเท่ากันของ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ควรใช้การเปรียบเทียบการมีค่าใกล้กันมาก ๆ แท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870120" y="5627520"/>
            <a:ext cx="2695320" cy="605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|  &lt; 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ahoma"/>
              </a:rPr>
              <a:t>-1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4129200" y="5627520"/>
            <a:ext cx="4403520" cy="605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| / max(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,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b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) &lt; 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ahoma"/>
              </a:rPr>
              <a:t>-1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ผังงา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หารากที่สอง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4157640" y="1177920"/>
            <a:ext cx="812880" cy="2570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70" name="Group 22"/>
          <p:cNvGrpSpPr/>
          <p:nvPr/>
        </p:nvGrpSpPr>
        <p:grpSpPr>
          <a:xfrm>
            <a:off x="4044960" y="1434960"/>
            <a:ext cx="1036800" cy="669960"/>
            <a:chOff x="4044960" y="1434960"/>
            <a:chExt cx="1036800" cy="669960"/>
          </a:xfrm>
        </p:grpSpPr>
        <p:sp>
          <p:nvSpPr>
            <p:cNvPr id="371" name="AutoShape 9"/>
            <p:cNvSpPr/>
            <p:nvPr/>
          </p:nvSpPr>
          <p:spPr>
            <a:xfrm>
              <a:off x="4044960" y="1695600"/>
              <a:ext cx="1036800" cy="409320"/>
            </a:xfrm>
            <a:prstGeom prst="flowChartManualIn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72" name="AutoShape 10"/>
            <p:cNvCxnSpPr>
              <a:stCxn id="369" idx="2"/>
              <a:endCxn id="371" idx="0"/>
            </p:cNvCxnSpPr>
            <p:nvPr/>
          </p:nvCxnSpPr>
          <p:spPr>
            <a:xfrm>
              <a:off x="4563720" y="1434960"/>
              <a:ext cx="1080" cy="302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373" name="Group 23"/>
          <p:cNvGrpSpPr/>
          <p:nvPr/>
        </p:nvGrpSpPr>
        <p:grpSpPr>
          <a:xfrm>
            <a:off x="4060800" y="2104560"/>
            <a:ext cx="1004760" cy="624240"/>
            <a:chOff x="4060800" y="2104560"/>
            <a:chExt cx="1004760" cy="624240"/>
          </a:xfrm>
        </p:grpSpPr>
        <p:sp>
          <p:nvSpPr>
            <p:cNvPr id="374" name="AutoShape 7"/>
            <p:cNvSpPr/>
            <p:nvPr/>
          </p:nvSpPr>
          <p:spPr>
            <a:xfrm>
              <a:off x="4060800" y="2333520"/>
              <a:ext cx="1004760" cy="395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x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75" name="AutoShape 11"/>
            <p:cNvCxnSpPr>
              <a:stCxn id="371" idx="2"/>
              <a:endCxn id="374" idx="0"/>
            </p:cNvCxnSpPr>
            <p:nvPr/>
          </p:nvCxnSpPr>
          <p:spPr>
            <a:xfrm>
              <a:off x="4563360" y="210456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376" name="Group 24"/>
          <p:cNvGrpSpPr/>
          <p:nvPr/>
        </p:nvGrpSpPr>
        <p:grpSpPr>
          <a:xfrm>
            <a:off x="3357720" y="2728440"/>
            <a:ext cx="2409840" cy="824400"/>
            <a:chOff x="3357720" y="2728440"/>
            <a:chExt cx="2409840" cy="824400"/>
          </a:xfrm>
        </p:grpSpPr>
        <p:sp>
          <p:nvSpPr>
            <p:cNvPr id="377" name="AutoShape 8"/>
            <p:cNvSpPr/>
            <p:nvPr/>
          </p:nvSpPr>
          <p:spPr>
            <a:xfrm>
              <a:off x="3357720" y="3157560"/>
              <a:ext cx="2409840" cy="395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x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(x + (a/x)) / 2 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78" name="AutoShape 12"/>
            <p:cNvCxnSpPr>
              <a:stCxn id="374" idx="2"/>
              <a:endCxn id="377" idx="0"/>
            </p:cNvCxnSpPr>
            <p:nvPr/>
          </p:nvCxnSpPr>
          <p:spPr>
            <a:xfrm flipH="1">
              <a:off x="4562280" y="2728440"/>
              <a:ext cx="2160" cy="42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cxnSp>
        <p:nvCxnSpPr>
          <p:cNvPr id="379" name="AutoShape 13"/>
          <p:cNvCxnSpPr>
            <a:stCxn id="377" idx="2"/>
          </p:cNvCxnSpPr>
          <p:nvPr/>
        </p:nvCxnSpPr>
        <p:spPr>
          <a:xfrm flipH="1">
            <a:off x="4558680" y="3552480"/>
            <a:ext cx="3960" cy="120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380" name="Group 29"/>
          <p:cNvGrpSpPr/>
          <p:nvPr/>
        </p:nvGrpSpPr>
        <p:grpSpPr>
          <a:xfrm>
            <a:off x="4138560" y="4146480"/>
            <a:ext cx="1944720" cy="1681200"/>
            <a:chOff x="4138560" y="4146480"/>
            <a:chExt cx="1944720" cy="1681200"/>
          </a:xfrm>
        </p:grpSpPr>
        <p:cxnSp>
          <p:nvCxnSpPr>
            <p:cNvPr id="381" name="AutoShape 17"/>
            <p:cNvCxnSpPr>
              <a:stCxn id="382" idx="3"/>
              <a:endCxn id="383" idx="0"/>
            </p:cNvCxnSpPr>
            <p:nvPr/>
          </p:nvCxnSpPr>
          <p:spPr>
            <a:xfrm flipH="1">
              <a:off x="4559040" y="4146480"/>
              <a:ext cx="1296000" cy="1210320"/>
            </a:xfrm>
            <a:prstGeom prst="bentConnector4">
              <a:avLst>
                <a:gd name="adj1" fmla="val -17643"/>
                <a:gd name="adj2" fmla="val 6626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383" name="AutoShape 18"/>
            <p:cNvSpPr/>
            <p:nvPr/>
          </p:nvSpPr>
          <p:spPr>
            <a:xfrm>
              <a:off x="4138560" y="5356080"/>
              <a:ext cx="839880" cy="4716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84" name="Group 30"/>
          <p:cNvGrpSpPr/>
          <p:nvPr/>
        </p:nvGrpSpPr>
        <p:grpSpPr>
          <a:xfrm>
            <a:off x="4157640" y="5827320"/>
            <a:ext cx="812880" cy="448200"/>
            <a:chOff x="4157640" y="5827320"/>
            <a:chExt cx="812880" cy="448200"/>
          </a:xfrm>
        </p:grpSpPr>
        <p:sp>
          <p:nvSpPr>
            <p:cNvPr id="385" name="AutoShape 5"/>
            <p:cNvSpPr/>
            <p:nvPr/>
          </p:nvSpPr>
          <p:spPr>
            <a:xfrm>
              <a:off x="4157640" y="6018120"/>
              <a:ext cx="812880" cy="25740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op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86" name="AutoShape 19"/>
            <p:cNvCxnSpPr>
              <a:stCxn id="383" idx="2"/>
              <a:endCxn id="385" idx="0"/>
            </p:cNvCxnSpPr>
            <p:nvPr/>
          </p:nvCxnSpPr>
          <p:spPr>
            <a:xfrm>
              <a:off x="4559040" y="5827320"/>
              <a:ext cx="540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387" name="Group 28"/>
          <p:cNvGrpSpPr/>
          <p:nvPr/>
        </p:nvGrpSpPr>
        <p:grpSpPr>
          <a:xfrm>
            <a:off x="3263760" y="3747960"/>
            <a:ext cx="2670120" cy="1145160"/>
            <a:chOff x="3263760" y="3747960"/>
            <a:chExt cx="2670120" cy="1145160"/>
          </a:xfrm>
        </p:grpSpPr>
        <p:sp>
          <p:nvSpPr>
            <p:cNvPr id="382" name="AutoShape 16"/>
            <p:cNvSpPr/>
            <p:nvPr/>
          </p:nvSpPr>
          <p:spPr>
            <a:xfrm>
              <a:off x="3263760" y="3749760"/>
              <a:ext cx="2590560" cy="79200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|x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– a| &lt; 10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-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8" name="Text Box 20"/>
            <p:cNvSpPr/>
            <p:nvPr/>
          </p:nvSpPr>
          <p:spPr>
            <a:xfrm>
              <a:off x="5611320" y="3747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9" name="Text Box 21"/>
            <p:cNvSpPr/>
            <p:nvPr/>
          </p:nvSpPr>
          <p:spPr>
            <a:xfrm>
              <a:off x="4601520" y="449424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90" name="Line 26"/>
          <p:cNvSpPr/>
          <p:nvPr/>
        </p:nvSpPr>
        <p:spPr>
          <a:xfrm flipH="1">
            <a:off x="2924280" y="4756320"/>
            <a:ext cx="16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1" name="Freeform 27"/>
          <p:cNvSpPr/>
          <p:nvPr/>
        </p:nvSpPr>
        <p:spPr>
          <a:xfrm>
            <a:off x="2940120" y="2895480"/>
            <a:ext cx="1630440" cy="1852560"/>
          </a:xfrm>
          <a:custGeom>
            <a:avLst/>
            <a:gdLst>
              <a:gd name="textAreaLeft" fmla="*/ 0 w 1630440"/>
              <a:gd name="textAreaRight" fmla="*/ 1630800 w 1630440"/>
              <a:gd name="textAreaTop" fmla="*/ 0 h 1852560"/>
              <a:gd name="textAreaBottom" fmla="*/ 1852920 h 1852560"/>
            </a:gdLst>
            <a:ahLst/>
            <a:rect l="textAreaLeft" t="textAreaTop" r="textAreaRight" b="textAreaBottom"/>
            <a:pathLst>
              <a:path w="1027" h="1113">
                <a:moveTo>
                  <a:pt x="0" y="1113"/>
                </a:moveTo>
                <a:cubicBezTo>
                  <a:pt x="0" y="742"/>
                  <a:pt x="0" y="371"/>
                  <a:pt x="0" y="0"/>
                </a:cubicBezTo>
                <a:lnTo>
                  <a:pt x="102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92" name="Object 2"/>
          <p:cNvGraphicFramePr/>
          <p:nvPr/>
        </p:nvGraphicFramePr>
        <p:xfrm>
          <a:off x="5773680" y="1341360"/>
          <a:ext cx="2560680" cy="9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3680" y="1341360"/>
                    <a:ext cx="25606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งว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loop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81" name="Picture 17" descr="clock"/>
          <p:cNvPicPr/>
          <p:nvPr/>
        </p:nvPicPr>
        <p:blipFill>
          <a:blip r:embed="rId1"/>
          <a:stretch/>
        </p:blipFill>
        <p:spPr>
          <a:xfrm>
            <a:off x="2967120" y="1714680"/>
            <a:ext cx="318276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ปรับวงวนของการหารากที่สอ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00040" y="1106640"/>
            <a:ext cx="64753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a/x) / 2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abs(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*x – a) &lt;= 1e-5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238400" y="2700360"/>
            <a:ext cx="64753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abs(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*x – a) &lt;= 1e-5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a/x) / 2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1871640" y="4322880"/>
            <a:ext cx="647532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abs(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*x – a) &gt; 1e-5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a/x) / 2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8"/>
          <p:cNvSpPr/>
          <p:nvPr/>
        </p:nvSpPr>
        <p:spPr>
          <a:xfrm>
            <a:off x="1143000" y="1643040"/>
            <a:ext cx="685800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jlab.graphics.DWindow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Eye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ahoma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Window w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DWindow(250, 20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w.drawEllipse(125, 100, 100, 6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w.fillEllipse(125, 100, 50, 5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4494240" y="4070520"/>
            <a:ext cx="2457360" cy="2228760"/>
          </a:xfrm>
          <a:prstGeom prst="rect">
            <a:avLst/>
          </a:prstGeom>
          <a:ln w="0">
            <a:noFill/>
          </a:ln>
        </p:spPr>
      </p:pic>
      <p:sp>
        <p:nvSpPr>
          <p:cNvPr id="400" name="Oval 41"/>
          <p:cNvSpPr/>
          <p:nvPr/>
        </p:nvSpPr>
        <p:spPr>
          <a:xfrm>
            <a:off x="5253120" y="5032440"/>
            <a:ext cx="939600" cy="56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Window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71720" y="928800"/>
            <a:ext cx="701496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ลาสเสริมของ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Lab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ช่วยวาดเส้น วงรี สี่เหลี่ย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Group 30"/>
          <p:cNvGrpSpPr/>
          <p:nvPr/>
        </p:nvGrpSpPr>
        <p:grpSpPr>
          <a:xfrm>
            <a:off x="3143160" y="4357440"/>
            <a:ext cx="1297080" cy="1038600"/>
            <a:chOff x="3143160" y="4357440"/>
            <a:chExt cx="1297080" cy="1038600"/>
          </a:xfrm>
        </p:grpSpPr>
        <p:sp>
          <p:nvSpPr>
            <p:cNvPr id="404" name="Text Box 11"/>
            <p:cNvSpPr/>
            <p:nvPr/>
          </p:nvSpPr>
          <p:spPr>
            <a:xfrm>
              <a:off x="3143160" y="4875480"/>
              <a:ext cx="126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(0, 0)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3714840" y="4357440"/>
              <a:ext cx="72540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06" name="Group 29"/>
          <p:cNvGrpSpPr/>
          <p:nvPr/>
        </p:nvGrpSpPr>
        <p:grpSpPr>
          <a:xfrm>
            <a:off x="7000920" y="5000760"/>
            <a:ext cx="1928520" cy="1269360"/>
            <a:chOff x="7000920" y="5000760"/>
            <a:chExt cx="1928520" cy="1269360"/>
          </a:xfrm>
        </p:grpSpPr>
        <p:sp>
          <p:nvSpPr>
            <p:cNvPr id="407" name="Text Box 16"/>
            <p:cNvSpPr/>
            <p:nvPr/>
          </p:nvSpPr>
          <p:spPr>
            <a:xfrm>
              <a:off x="7196040" y="5000760"/>
              <a:ext cx="17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(250, 200)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8" name="Line 18"/>
            <p:cNvSpPr/>
            <p:nvPr/>
          </p:nvSpPr>
          <p:spPr>
            <a:xfrm flipH="1">
              <a:off x="7000920" y="5500440"/>
              <a:ext cx="846720" cy="76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09" name="Group 30"/>
          <p:cNvGrpSpPr/>
          <p:nvPr/>
        </p:nvGrpSpPr>
        <p:grpSpPr>
          <a:xfrm>
            <a:off x="5208480" y="2841480"/>
            <a:ext cx="1051560" cy="2014920"/>
            <a:chOff x="5208480" y="2841480"/>
            <a:chExt cx="1051560" cy="2014920"/>
          </a:xfrm>
        </p:grpSpPr>
        <p:cxnSp>
          <p:nvCxnSpPr>
            <p:cNvPr id="410" name="Straight Arrow Connector 16"/>
            <p:cNvCxnSpPr/>
            <p:nvPr/>
          </p:nvCxnSpPr>
          <p:spPr>
            <a:xfrm>
              <a:off x="5208480" y="4854600"/>
              <a:ext cx="1051920" cy="2160"/>
            </a:xfrm>
            <a:prstGeom prst="straightConnector1">
              <a:avLst/>
            </a:prstGeom>
            <a:ln w="19080">
              <a:solidFill>
                <a:srgbClr val="c00000"/>
              </a:solidFill>
              <a:prstDash val="dash"/>
              <a:miter/>
              <a:headEnd len="med" type="triangle" w="lg"/>
              <a:tailEnd len="med" type="triangle" w="lg"/>
            </a:ln>
          </p:spPr>
        </p:cxnSp>
        <p:sp>
          <p:nvSpPr>
            <p:cNvPr id="411" name="Oval 27"/>
            <p:cNvSpPr/>
            <p:nvPr/>
          </p:nvSpPr>
          <p:spPr>
            <a:xfrm>
              <a:off x="5440320" y="2841480"/>
              <a:ext cx="655200" cy="407880"/>
            </a:xfrm>
            <a:prstGeom prst="ellipse">
              <a:avLst/>
            </a:pr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2" name="Freeform 28"/>
            <p:cNvSpPr/>
            <p:nvPr/>
          </p:nvSpPr>
          <p:spPr>
            <a:xfrm>
              <a:off x="5358600" y="3192840"/>
              <a:ext cx="384480" cy="165996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1659960"/>
                <a:gd name="textAreaBottom" fmla="*/ 1660320 h 1659960"/>
              </a:gdLst>
              <a:ahLst/>
              <a:rect l="textAreaLeft" t="textAreaTop" r="textAreaRight" b="textAreaBottom"/>
              <a:pathLst>
                <a:path w="396239" h="1659988">
                  <a:moveTo>
                    <a:pt x="168812" y="0"/>
                  </a:moveTo>
                  <a:cubicBezTo>
                    <a:pt x="84406" y="195775"/>
                    <a:pt x="0" y="391551"/>
                    <a:pt x="28135" y="590843"/>
                  </a:cubicBezTo>
                  <a:cubicBezTo>
                    <a:pt x="56270" y="790135"/>
                    <a:pt x="279009" y="1017563"/>
                    <a:pt x="337624" y="1195754"/>
                  </a:cubicBezTo>
                  <a:cubicBezTo>
                    <a:pt x="396239" y="1373945"/>
                    <a:pt x="370449" y="1580271"/>
                    <a:pt x="379827" y="1659988"/>
                  </a:cubicBezTo>
                </a:path>
              </a:pathLst>
            </a:custGeom>
            <a:noFill/>
            <a:ln w="19080">
              <a:solidFill>
                <a:srgbClr val="c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13" name="Group 33"/>
          <p:cNvGrpSpPr/>
          <p:nvPr/>
        </p:nvGrpSpPr>
        <p:grpSpPr>
          <a:xfrm>
            <a:off x="6218280" y="2855880"/>
            <a:ext cx="925560" cy="2757600"/>
            <a:chOff x="6218280" y="2855880"/>
            <a:chExt cx="925560" cy="2757600"/>
          </a:xfrm>
        </p:grpSpPr>
        <p:cxnSp>
          <p:nvCxnSpPr>
            <p:cNvPr id="414" name="Straight Arrow Connector 24"/>
            <p:cNvCxnSpPr/>
            <p:nvPr/>
          </p:nvCxnSpPr>
          <p:spPr>
            <a:xfrm flipH="1">
              <a:off x="6357600" y="4980600"/>
              <a:ext cx="2160" cy="633240"/>
            </a:xfrm>
            <a:prstGeom prst="straightConnector1">
              <a:avLst/>
            </a:prstGeom>
            <a:ln w="19080">
              <a:solidFill>
                <a:srgbClr val="c00000"/>
              </a:solidFill>
              <a:prstDash val="dash"/>
              <a:miter/>
              <a:headEnd len="med" type="triangle" w="lg"/>
              <a:tailEnd len="med" type="triangle" w="lg"/>
            </a:ln>
          </p:spPr>
        </p:cxnSp>
        <p:sp>
          <p:nvSpPr>
            <p:cNvPr id="415" name="Oval 31"/>
            <p:cNvSpPr/>
            <p:nvPr/>
          </p:nvSpPr>
          <p:spPr>
            <a:xfrm>
              <a:off x="6218280" y="2855880"/>
              <a:ext cx="435960" cy="393840"/>
            </a:xfrm>
            <a:prstGeom prst="ellipse">
              <a:avLst/>
            </a:pr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6" name="Freeform 32"/>
            <p:cNvSpPr/>
            <p:nvPr/>
          </p:nvSpPr>
          <p:spPr>
            <a:xfrm>
              <a:off x="6372720" y="3137040"/>
              <a:ext cx="771120" cy="2194200"/>
            </a:xfrm>
            <a:custGeom>
              <a:avLst/>
              <a:gdLst>
                <a:gd name="textAreaLeft" fmla="*/ 0 w 771120"/>
                <a:gd name="textAreaRight" fmla="*/ 771480 w 771120"/>
                <a:gd name="textAreaTop" fmla="*/ 0 h 2194200"/>
                <a:gd name="textAreaBottom" fmla="*/ 2194560 h 2194200"/>
              </a:gdLst>
              <a:ahLst/>
              <a:rect l="textAreaLeft" t="textAreaTop" r="textAreaRight" b="textAreaBottom"/>
              <a:pathLst>
                <a:path w="771377" h="2194560">
                  <a:moveTo>
                    <a:pt x="225083" y="0"/>
                  </a:moveTo>
                  <a:cubicBezTo>
                    <a:pt x="378655" y="188741"/>
                    <a:pt x="532227" y="377483"/>
                    <a:pt x="618978" y="604911"/>
                  </a:cubicBezTo>
                  <a:cubicBezTo>
                    <a:pt x="705729" y="832339"/>
                    <a:pt x="740898" y="1174653"/>
                    <a:pt x="745587" y="1364567"/>
                  </a:cubicBezTo>
                  <a:cubicBezTo>
                    <a:pt x="750276" y="1554481"/>
                    <a:pt x="771377" y="1606062"/>
                    <a:pt x="647113" y="1744394"/>
                  </a:cubicBezTo>
                  <a:cubicBezTo>
                    <a:pt x="522849" y="1882726"/>
                    <a:pt x="105508" y="2121877"/>
                    <a:pt x="0" y="2194560"/>
                  </a:cubicBezTo>
                </a:path>
              </a:pathLst>
            </a:custGeom>
            <a:noFill/>
            <a:ln w="19080">
              <a:solidFill>
                <a:srgbClr val="c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17" name="Group 45"/>
          <p:cNvGrpSpPr/>
          <p:nvPr/>
        </p:nvGrpSpPr>
        <p:grpSpPr>
          <a:xfrm>
            <a:off x="3897360" y="2884320"/>
            <a:ext cx="1828800" cy="2433960"/>
            <a:chOff x="3897360" y="2884320"/>
            <a:chExt cx="1828800" cy="2433960"/>
          </a:xfrm>
        </p:grpSpPr>
        <p:sp>
          <p:nvSpPr>
            <p:cNvPr id="418" name="Oval 34"/>
            <p:cNvSpPr/>
            <p:nvPr/>
          </p:nvSpPr>
          <p:spPr>
            <a:xfrm>
              <a:off x="3897360" y="2884320"/>
              <a:ext cx="1434960" cy="337680"/>
            </a:xfrm>
            <a:prstGeom prst="ellipse">
              <a:avLst/>
            </a:pr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9" name="Freeform 35"/>
            <p:cNvSpPr/>
            <p:nvPr/>
          </p:nvSpPr>
          <p:spPr>
            <a:xfrm>
              <a:off x="4574880" y="3222000"/>
              <a:ext cx="1151280" cy="2096280"/>
            </a:xfrm>
            <a:custGeom>
              <a:avLst/>
              <a:gdLst>
                <a:gd name="textAreaLeft" fmla="*/ 0 w 1151280"/>
                <a:gd name="textAreaRight" fmla="*/ 1151640 w 1151280"/>
                <a:gd name="textAreaTop" fmla="*/ 0 h 2096280"/>
                <a:gd name="textAreaBottom" fmla="*/ 2096640 h 2096280"/>
              </a:gdLst>
              <a:ahLst/>
              <a:rect l="textAreaLeft" t="textAreaTop" r="textAreaRight" b="textAreaBottom"/>
              <a:pathLst>
                <a:path w="1151207" h="2096086">
                  <a:moveTo>
                    <a:pt x="25791" y="0"/>
                  </a:moveTo>
                  <a:cubicBezTo>
                    <a:pt x="12895" y="273147"/>
                    <a:pt x="0" y="546295"/>
                    <a:pt x="67994" y="829993"/>
                  </a:cubicBezTo>
                  <a:cubicBezTo>
                    <a:pt x="135988" y="1113691"/>
                    <a:pt x="253219" y="1491175"/>
                    <a:pt x="433754" y="1702190"/>
                  </a:cubicBezTo>
                  <a:cubicBezTo>
                    <a:pt x="614289" y="1913205"/>
                    <a:pt x="975361" y="2030437"/>
                    <a:pt x="1151207" y="2096086"/>
                  </a:cubicBezTo>
                </a:path>
              </a:pathLst>
            </a:custGeom>
            <a:noFill/>
            <a:ln w="19080">
              <a:solidFill>
                <a:srgbClr val="c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20" name="Group 46"/>
          <p:cNvGrpSpPr/>
          <p:nvPr/>
        </p:nvGrpSpPr>
        <p:grpSpPr>
          <a:xfrm>
            <a:off x="5484960" y="5079960"/>
            <a:ext cx="474480" cy="474840"/>
            <a:chOff x="5484960" y="5079960"/>
            <a:chExt cx="474480" cy="474840"/>
          </a:xfrm>
        </p:grpSpPr>
        <p:sp>
          <p:nvSpPr>
            <p:cNvPr id="421" name="Oval 42"/>
            <p:cNvSpPr/>
            <p:nvPr/>
          </p:nvSpPr>
          <p:spPr>
            <a:xfrm>
              <a:off x="5484960" y="5079960"/>
              <a:ext cx="474480" cy="47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422" name="Straight Arrow Connector 37"/>
            <p:cNvCxnSpPr/>
            <p:nvPr/>
          </p:nvCxnSpPr>
          <p:spPr>
            <a:xfrm>
              <a:off x="5514120" y="5233320"/>
              <a:ext cx="244440" cy="842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8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เคลื่อนที่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912960" y="954000"/>
            <a:ext cx="7640640" cy="43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jlab.graphics.DWindow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MovingBall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ahoma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Window w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DWindow(250, 20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  <a:ea typeface="Tahoma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x = 0, y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w.fade(1);     //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ภาพในวินโดว์จางลง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100% (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ลบหมด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w.fillEllipse(x, y, 50, 5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x = x + 2;     //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ปรับตำแหน่ง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ใช้ในรอบถัดไป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y = y + 1;     //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ปรับตำแหน่ง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ใช้ในรอบถัดไป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w.sleep(100);  //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หยุดการทำงาน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100msec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6686640" y="4363920"/>
            <a:ext cx="2457360" cy="2229120"/>
          </a:xfrm>
          <a:prstGeom prst="rect">
            <a:avLst/>
          </a:prstGeom>
          <a:ln w="0">
            <a:noFill/>
          </a:ln>
        </p:spPr>
      </p:pic>
      <p:sp>
        <p:nvSpPr>
          <p:cNvPr id="426" name="Oval 7"/>
          <p:cNvSpPr/>
          <p:nvPr/>
        </p:nvSpPr>
        <p:spPr>
          <a:xfrm>
            <a:off x="6718320" y="4651200"/>
            <a:ext cx="476280" cy="47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2859120" y="5637240"/>
            <a:ext cx="292248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Courier New"/>
              </a:rPr>
              <a:t>ลอง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fade(0.1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Courier New"/>
              </a:rPr>
              <a:t>ดู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4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4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7 L 0.26771 0.06875 E">
                                      <p:cBhvr>
                                        <p:cTn id="1096" dur="5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ดำเนินการเสริม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00200" y="933120"/>
            <a:ext cx="77724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ศษจากการหาร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2655720" y="1409760"/>
            <a:ext cx="374508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5 % 2 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cs typeface="Tahoma"/>
              </a:rPr>
              <a:t>ได้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5.2 % 2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cs typeface="Tahoma"/>
              </a:rPr>
              <a:t>ได้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942840" y="2306520"/>
            <a:ext cx="6932880" cy="43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jlab.graphics.DWindow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MovingBall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ahoma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Window w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DWindow(250, 20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  <a:ea typeface="Tahoma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x = 0, y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w.fade(1); 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w.fillEllipse(x, y, 50, 5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x =  x + 2; 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y =  y + 1; 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w.sleep(100);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2462040" y="4756320"/>
            <a:ext cx="32306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(x + 2)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ahoma"/>
              </a:rPr>
              <a:t>% 250; 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(y + 1)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ahoma"/>
              </a:rPr>
              <a:t>% 200; 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3139920" y="5859360"/>
            <a:ext cx="5443560" cy="9169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246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246 + 2) % 250 = 248 % 250 =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248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248 + 2) % 250 = 250 % 250 =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4" name="TextBox 9"/>
          <p:cNvSpPr/>
          <p:nvPr/>
        </p:nvSpPr>
        <p:spPr>
          <a:xfrm>
            <a:off x="5418000" y="3672000"/>
            <a:ext cx="3372120" cy="703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ต้องการให้ลูกบอลออกขวา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วนกลับมาทางซ้าย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5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0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ทำอย่างไรให้ลูกบอลเด้งขอบวินโดว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3139920" y="1495440"/>
            <a:ext cx="2457720" cy="2228760"/>
          </a:xfrm>
          <a:prstGeom prst="rect">
            <a:avLst/>
          </a:prstGeom>
          <a:ln w="0">
            <a:noFill/>
          </a:ln>
        </p:spPr>
      </p:pic>
      <p:sp>
        <p:nvSpPr>
          <p:cNvPr id="437" name="Oval 7"/>
          <p:cNvSpPr/>
          <p:nvPr/>
        </p:nvSpPr>
        <p:spPr>
          <a:xfrm>
            <a:off x="3186000" y="1782720"/>
            <a:ext cx="476280" cy="47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8" name="TextBox 6"/>
          <p:cNvSpPr/>
          <p:nvPr/>
        </p:nvSpPr>
        <p:spPr>
          <a:xfrm>
            <a:off x="1948320" y="4307040"/>
            <a:ext cx="4810680" cy="947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urier New"/>
                <a:cs typeface="Tahoma"/>
              </a:rPr>
              <a:t>ต้องใช้คำสั่งทดสอบ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urier New"/>
                <a:cs typeface="Tahoma"/>
              </a:rPr>
              <a:t>ให้กลับทิศการเคลื่อนที่เมื่อชนขอบ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972 0.07314 L -0.00312 0.17847 L 0.04844 0.21504 L 0.20816 0.12893 L -0.00156 0.05578 L 0.12917 -0.00232 L 0.20816 0.02152 L -0.00312 0.1118 L 0.18229 0.21064 E">
                                      <p:cBhvr>
                                        <p:cTn id="1152" dur="5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if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: 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จริงถึงทำ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1695600" y="4156200"/>
            <a:ext cx="579564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if ( </a:t>
            </a:r>
            <a:r>
              <a:rPr b="0" i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นิพจน์ที่ได้ค่า จริง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i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หรือ เท็จ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0" i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กลุ่มคำสั่งที่ทำงานเมื่อเงื่อนไขใน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if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i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เป็น จริง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41" name="Group 5"/>
          <p:cNvGrpSpPr/>
          <p:nvPr/>
        </p:nvGrpSpPr>
        <p:grpSpPr>
          <a:xfrm>
            <a:off x="2836800" y="1220760"/>
            <a:ext cx="4176720" cy="2665080"/>
            <a:chOff x="2836800" y="1220760"/>
            <a:chExt cx="4176720" cy="2665080"/>
          </a:xfrm>
        </p:grpSpPr>
        <p:sp>
          <p:nvSpPr>
            <p:cNvPr id="442" name="AutoShape 6"/>
            <p:cNvSpPr/>
            <p:nvPr/>
          </p:nvSpPr>
          <p:spPr>
            <a:xfrm>
              <a:off x="4361040" y="2479680"/>
              <a:ext cx="2652480" cy="70380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th-TH" sz="2000" spc="-1" strike="noStrike">
                  <a:solidFill>
                    <a:srgbClr val="000000"/>
                  </a:solidFill>
                  <a:latin typeface="Courier New"/>
                  <a:cs typeface="Tahoma"/>
                </a:rPr>
                <a:t>กลุ่มคำสั่งที่ทำงานเมื่อเงื่อนไขใน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if </a:t>
              </a:r>
              <a:r>
                <a:rPr b="0" i="1" lang="th-TH" sz="2000" spc="-1" strike="noStrike">
                  <a:solidFill>
                    <a:srgbClr val="000000"/>
                  </a:solidFill>
                  <a:latin typeface="Courier New"/>
                  <a:cs typeface="Tahoma"/>
                </a:rPr>
                <a:t>เป็น จริง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3" name="AutoShape 7"/>
            <p:cNvSpPr/>
            <p:nvPr/>
          </p:nvSpPr>
          <p:spPr>
            <a:xfrm>
              <a:off x="2836800" y="1677960"/>
              <a:ext cx="2438640" cy="761760"/>
            </a:xfrm>
            <a:prstGeom prst="flowChartDecision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th-TH" sz="2000" spc="-1" strike="noStrike">
                  <a:solidFill>
                    <a:srgbClr val="000000"/>
                  </a:solidFill>
                  <a:latin typeface="Courier New"/>
                  <a:cs typeface="Tahoma"/>
                </a:rPr>
                <a:t>นิพจน์บูลีน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444" name="AutoShape 8"/>
            <p:cNvCxnSpPr>
              <a:stCxn id="443" idx="2"/>
            </p:cNvCxnSpPr>
            <p:nvPr/>
          </p:nvCxnSpPr>
          <p:spPr>
            <a:xfrm>
              <a:off x="4055760" y="2439360"/>
              <a:ext cx="2520" cy="144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5" name="Text Box 9"/>
            <p:cNvSpPr/>
            <p:nvPr/>
          </p:nvSpPr>
          <p:spPr>
            <a:xfrm>
              <a:off x="3141720" y="2377800"/>
              <a:ext cx="111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6" name="Text Box 10"/>
            <p:cNvSpPr/>
            <p:nvPr/>
          </p:nvSpPr>
          <p:spPr>
            <a:xfrm>
              <a:off x="5122800" y="1676160"/>
              <a:ext cx="9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447" name="AutoShape 11"/>
            <p:cNvCxnSpPr>
              <a:stCxn id="443" idx="3"/>
              <a:endCxn id="442" idx="0"/>
            </p:cNvCxnSpPr>
            <p:nvPr/>
          </p:nvCxnSpPr>
          <p:spPr>
            <a:xfrm>
              <a:off x="5275440" y="2058840"/>
              <a:ext cx="413280" cy="41832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AutoShape 12"/>
            <p:cNvCxnSpPr>
              <a:stCxn id="442" idx="2"/>
            </p:cNvCxnSpPr>
            <p:nvPr/>
          </p:nvCxnSpPr>
          <p:spPr>
            <a:xfrm rot="5400000">
              <a:off x="4702680" y="2542320"/>
              <a:ext cx="340200" cy="16308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9" name="AutoShape 13"/>
            <p:cNvCxnSpPr>
              <a:endCxn id="443" idx="0"/>
            </p:cNvCxnSpPr>
            <p:nvPr/>
          </p:nvCxnSpPr>
          <p:spPr>
            <a:xfrm>
              <a:off x="4055760" y="1220760"/>
              <a:ext cx="108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2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5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0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เด้งผนั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853920" y="934920"/>
            <a:ext cx="7832880" cy="46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ahoma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Window w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DWindow(250, 20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  <a:ea typeface="Tahoma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x = 0, y = 0, dx = 2, dy = 1, r = 25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w.fade(1); 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w.fillEllipse(x, y, 2*r, 2*r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x =  x + dx; 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y =  y + dy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w.sleep(100);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1739880" y="3397320"/>
            <a:ext cx="5059440" cy="1313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x + r &gt; 250) { dx = -dx; 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x - r &lt; 0  ) { dx = -dx; 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y + r &gt; 200) { dy = -dy; 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y - r &lt; 0  ) { dy = -dy; 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3" name="Rectangle 13"/>
          <p:cNvSpPr/>
          <p:nvPr/>
        </p:nvSpPr>
        <p:spPr>
          <a:xfrm>
            <a:off x="4911840" y="4853160"/>
            <a:ext cx="2609640" cy="147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4" name="Oval 14"/>
          <p:cNvSpPr/>
          <p:nvPr/>
        </p:nvSpPr>
        <p:spPr>
          <a:xfrm>
            <a:off x="6637320" y="4970520"/>
            <a:ext cx="708120" cy="708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55" name="Group 46"/>
          <p:cNvGrpSpPr/>
          <p:nvPr/>
        </p:nvGrpSpPr>
        <p:grpSpPr>
          <a:xfrm>
            <a:off x="6842160" y="4836960"/>
            <a:ext cx="339840" cy="1326960"/>
            <a:chOff x="6842160" y="4836960"/>
            <a:chExt cx="339840" cy="1326960"/>
          </a:xfrm>
        </p:grpSpPr>
        <p:sp>
          <p:nvSpPr>
            <p:cNvPr id="456" name="Straight Connector 19"/>
            <p:cNvSpPr/>
            <p:nvPr/>
          </p:nvSpPr>
          <p:spPr>
            <a:xfrm>
              <a:off x="6990480" y="4836960"/>
              <a:ext cx="18720" cy="1064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7" name="Text Box 4"/>
            <p:cNvSpPr/>
            <p:nvPr/>
          </p:nvSpPr>
          <p:spPr>
            <a:xfrm>
              <a:off x="6842160" y="5765040"/>
              <a:ext cx="33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cxnSp>
        <p:nvCxnSpPr>
          <p:cNvPr id="458" name="Straight Arrow Connector 27"/>
          <p:cNvCxnSpPr/>
          <p:nvPr/>
        </p:nvCxnSpPr>
        <p:spPr>
          <a:xfrm>
            <a:off x="4911840" y="5810400"/>
            <a:ext cx="20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59" name="Group 47"/>
          <p:cNvGrpSpPr/>
          <p:nvPr/>
        </p:nvGrpSpPr>
        <p:grpSpPr>
          <a:xfrm>
            <a:off x="7027920" y="4911840"/>
            <a:ext cx="723960" cy="1854000"/>
            <a:chOff x="7027920" y="4911840"/>
            <a:chExt cx="723960" cy="1854000"/>
          </a:xfrm>
        </p:grpSpPr>
        <p:sp>
          <p:nvSpPr>
            <p:cNvPr id="460" name="Straight Connector 24"/>
            <p:cNvSpPr/>
            <p:nvPr/>
          </p:nvSpPr>
          <p:spPr>
            <a:xfrm flipH="1">
              <a:off x="7345080" y="4911840"/>
              <a:ext cx="14400" cy="156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1" name="Text Box 4"/>
            <p:cNvSpPr/>
            <p:nvPr/>
          </p:nvSpPr>
          <p:spPr>
            <a:xfrm>
              <a:off x="7027920" y="6366960"/>
              <a:ext cx="72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x+r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cxnSp>
        <p:nvCxnSpPr>
          <p:cNvPr id="462" name="Straight Arrow Connector 40"/>
          <p:cNvCxnSpPr/>
          <p:nvPr/>
        </p:nvCxnSpPr>
        <p:spPr>
          <a:xfrm>
            <a:off x="4911840" y="6179760"/>
            <a:ext cx="245160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รวจสอบความถูกต้องก่อนทำงา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824040" y="885960"/>
            <a:ext cx="7597800" cy="47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th-TH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kb =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a = "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a = kb.nextDouble(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(a &lt; 0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th-TH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en-US" sz="2200" spc="-1" strike="noStrike">
                <a:solidFill>
                  <a:srgbClr val="ff00ff"/>
                </a:solidFill>
                <a:latin typeface="Microsoft Sans Serif"/>
                <a:ea typeface="Microsoft Sans Serif"/>
              </a:rPr>
              <a:t>a </a:t>
            </a:r>
            <a:r>
              <a:rPr b="0" lang="th-TH" sz="22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ต้องไม่เป็นลบ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-1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0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abs(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*x – a) &gt; 1e-5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a/x) / 2.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2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รากที่สอง</a:t>
            </a:r>
            <a:r>
              <a:rPr b="0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x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5" name="Rounded Rectangular Callout 10"/>
          <p:cNvSpPr/>
          <p:nvPr/>
        </p:nvSpPr>
        <p:spPr>
          <a:xfrm>
            <a:off x="5014800" y="3052800"/>
            <a:ext cx="2727360" cy="560520"/>
          </a:xfrm>
          <a:prstGeom prst="wedgeRoundRectCallout">
            <a:avLst>
              <a:gd name="adj1" fmla="val -62245"/>
              <a:gd name="adj2" fmla="val -35578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cs typeface="Courier New"/>
              </a:rPr>
              <a:t>ใช้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cs typeface="Courier New"/>
              </a:rPr>
              <a:t>ก็ได้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6" name="TextBox 12"/>
          <p:cNvSpPr/>
          <p:nvPr/>
        </p:nvSpPr>
        <p:spPr>
          <a:xfrm>
            <a:off x="601920" y="5840280"/>
            <a:ext cx="78858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  <a:cs typeface="Tahoma"/>
              </a:rPr>
              <a:t>ถ้า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  <a:cs typeface="Tahoma"/>
              </a:rPr>
              <a:t>เป็นลบ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|x*x – a|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  <a:cs typeface="Tahoma"/>
              </a:rPr>
              <a:t>มีค่า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(x*x + |a|),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  <a:cs typeface="Tahoma"/>
              </a:rPr>
              <a:t>วนไม่รู้จบ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6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9" dur="500"/>
                                        <p:tgtEl>
                                          <p:spTgt spid="4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4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6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0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4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9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1" dur="500"/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3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5" dur="500"/>
                                        <p:tgtEl>
                                          <p:spTgt spid="4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7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9" dur="500"/>
                                        <p:tgtEl>
                                          <p:spTgt spid="4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1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4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3" dur="50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6" dur="500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1" dur="5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6" dur="500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ันใดของสัปดาห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7"/>
              <p:cNvSpPr txBox="1"/>
              <p:nvPr/>
            </p:nvSpPr>
            <p:spPr>
              <a:xfrm>
                <a:off x="1503360" y="855720"/>
                <a:ext cx="58705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d>
                          <m:dPr>
                            <m:begChr m:val="⌊"/>
                            <m:endChr m:val="⌋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6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d>
                          <m:dPr>
                            <m:begChr m:val="⌊"/>
                            <m:endChr m:val="⌋"/>
                          </m:dPr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⌊"/>
                            <m:endChr m:val="⌋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c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7"/>
              <p:cNvSpPr txBox="1"/>
              <p:nvPr/>
            </p:nvSpPr>
            <p:spPr>
              <a:xfrm>
                <a:off x="2903400" y="1693800"/>
                <a:ext cx="31575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0" name="TextBox 11"/>
          <p:cNvSpPr/>
          <p:nvPr/>
        </p:nvSpPr>
        <p:spPr>
          <a:xfrm>
            <a:off x="1023840" y="3887640"/>
            <a:ext cx="7043760" cy="2533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ตัวอย่าง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: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วันที่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2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มิถุนายน ปี ค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.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ศ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2009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เป็นวันอะไร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 = 2, m = 6, y = 2009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k = 9, c = 2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w = (2 + 18 + 9 + 2 + 5 + 100) % 7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= 136 % 7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= 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0 –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เสาร์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, 1 –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อาทิตย์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, 2 –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จันทร์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, ..., 6 –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ศุกร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วันที่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2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มิถุนายน ปี ค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.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ศ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2009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คือ วันอังคาร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1" name="TextBox 12"/>
          <p:cNvSpPr/>
          <p:nvPr/>
        </p:nvSpPr>
        <p:spPr>
          <a:xfrm>
            <a:off x="797040" y="2567160"/>
            <a:ext cx="749124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คือเลขปี ค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ศ ส่วน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คือเลขเดือน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= 3, 4, ..., 13, 14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แปลกเล็กน้อย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= 13 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แทนมกราคม แล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14 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แทนกุมภาพันธ์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ถ้าเป็นสองเดือนพิเศษนี้ให้ลดค่าปีลง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1 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ด้วย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6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1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6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1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6" dur="5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1" dur="5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6" dur="500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1" dur="500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ผังงา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ันใดของสัปดาห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73" name="Group 79"/>
          <p:cNvGrpSpPr/>
          <p:nvPr/>
        </p:nvGrpSpPr>
        <p:grpSpPr>
          <a:xfrm>
            <a:off x="133200" y="993600"/>
            <a:ext cx="5234040" cy="5583240"/>
            <a:chOff x="133200" y="993600"/>
            <a:chExt cx="5234040" cy="5583240"/>
          </a:xfrm>
        </p:grpSpPr>
        <p:grpSp>
          <p:nvGrpSpPr>
            <p:cNvPr id="474" name="Group 32"/>
            <p:cNvGrpSpPr/>
            <p:nvPr/>
          </p:nvGrpSpPr>
          <p:grpSpPr>
            <a:xfrm>
              <a:off x="133200" y="993600"/>
              <a:ext cx="5234040" cy="5199120"/>
              <a:chOff x="133200" y="993600"/>
              <a:chExt cx="5234040" cy="5199120"/>
            </a:xfrm>
          </p:grpSpPr>
          <p:sp>
            <p:nvSpPr>
              <p:cNvPr id="475" name="AutoShape 3"/>
              <p:cNvSpPr/>
              <p:nvPr/>
            </p:nvSpPr>
            <p:spPr>
              <a:xfrm>
                <a:off x="2261880" y="993600"/>
                <a:ext cx="976320" cy="379440"/>
              </a:xfrm>
              <a:prstGeom prst="flowChartTermina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start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476" name="AutoShape 4"/>
              <p:cNvCxnSpPr>
                <a:stCxn id="475" idx="2"/>
                <a:endCxn id="477" idx="0"/>
              </p:cNvCxnSpPr>
              <p:nvPr/>
            </p:nvCxnSpPr>
            <p:spPr>
              <a:xfrm>
                <a:off x="2751120" y="1371960"/>
                <a:ext cx="1080" cy="227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78" name="Text Box 5"/>
              <p:cNvSpPr/>
              <p:nvPr/>
            </p:nvSpPr>
            <p:spPr>
              <a:xfrm>
                <a:off x="3328920" y="2099160"/>
                <a:ext cx="619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true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79" name="AutoShape 6"/>
              <p:cNvSpPr/>
              <p:nvPr/>
            </p:nvSpPr>
            <p:spPr>
              <a:xfrm>
                <a:off x="2111040" y="2174760"/>
                <a:ext cx="1280880" cy="560160"/>
              </a:xfrm>
              <a:prstGeom prst="flowChartDecis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8000" bIns="18000" anchor="ctr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m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 &lt; 3?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480" name="AutoShape 7"/>
              <p:cNvCxnSpPr>
                <a:stCxn id="479" idx="3"/>
                <a:endCxn id="481" idx="0"/>
              </p:cNvCxnSpPr>
              <p:nvPr/>
            </p:nvCxnSpPr>
            <p:spPr>
              <a:xfrm>
                <a:off x="3391920" y="2454480"/>
                <a:ext cx="694800" cy="1807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77" name="AutoShape 8"/>
              <p:cNvSpPr/>
              <p:nvPr/>
            </p:nvSpPr>
            <p:spPr>
              <a:xfrm>
                <a:off x="2319120" y="1561680"/>
                <a:ext cx="861840" cy="387360"/>
              </a:xfrm>
              <a:prstGeom prst="flowChartManualInpu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8000" bIns="18000" anchor="ctr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d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Cordia New"/>
                  </a:rPr>
                  <a:t>,</a:t>
                </a:r>
                <a:r>
                  <a:rPr b="0" i="1" lang="th-TH" sz="2000" spc="-1" strike="noStrike">
                    <a:solidFill>
                      <a:srgbClr val="000000"/>
                    </a:solidFill>
                    <a:latin typeface="Cordia New"/>
                    <a:ea typeface="Cordia New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m, y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482" name="AutoShape 9"/>
              <p:cNvCxnSpPr>
                <a:stCxn id="477" idx="2"/>
                <a:endCxn id="479" idx="0"/>
              </p:cNvCxnSpPr>
              <p:nvPr/>
            </p:nvCxnSpPr>
            <p:spPr>
              <a:xfrm>
                <a:off x="2751120" y="1949400"/>
                <a:ext cx="1080" cy="225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81" name="AutoShape 10"/>
              <p:cNvSpPr/>
              <p:nvPr/>
            </p:nvSpPr>
            <p:spPr>
              <a:xfrm>
                <a:off x="3429000" y="2635200"/>
                <a:ext cx="1314360" cy="62856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8000" bIns="18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m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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m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 + 12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y –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83" name="AutoShape 11"/>
              <p:cNvSpPr/>
              <p:nvPr/>
            </p:nvSpPr>
            <p:spPr>
              <a:xfrm>
                <a:off x="133200" y="3537000"/>
                <a:ext cx="5234040" cy="68112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8000" bIns="18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c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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 / 100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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,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k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 % 100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w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 (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d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 +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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26(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m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+1)/10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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 +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k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 +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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k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 / 4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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 +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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/ 4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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 + 5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) % 7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484" name="AutoShape 12"/>
              <p:cNvCxnSpPr>
                <a:stCxn id="479" idx="2"/>
                <a:endCxn id="483" idx="0"/>
              </p:cNvCxnSpPr>
              <p:nvPr/>
            </p:nvCxnSpPr>
            <p:spPr>
              <a:xfrm flipH="1">
                <a:off x="2748600" y="2734920"/>
                <a:ext cx="2880" cy="802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5" name="AutoShape 13"/>
              <p:cNvCxnSpPr>
                <a:stCxn id="481" idx="2"/>
                <a:endCxn id="483" idx="0"/>
              </p:cNvCxnSpPr>
              <p:nvPr/>
            </p:nvCxnSpPr>
            <p:spPr>
              <a:xfrm rot="5400000">
                <a:off x="3280320" y="2731320"/>
                <a:ext cx="273960" cy="1337760"/>
              </a:xfrm>
              <a:prstGeom prst="bentConnector3">
                <a:avLst>
                  <a:gd name="adj1" fmla="val 49736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86" name="Text Box 14"/>
              <p:cNvSpPr/>
              <p:nvPr/>
            </p:nvSpPr>
            <p:spPr>
              <a:xfrm>
                <a:off x="2136600" y="264636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false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487" name="Group 15"/>
              <p:cNvGrpSpPr/>
              <p:nvPr/>
            </p:nvGrpSpPr>
            <p:grpSpPr>
              <a:xfrm>
                <a:off x="2122560" y="4511880"/>
                <a:ext cx="2715840" cy="881280"/>
                <a:chOff x="2122560" y="4511880"/>
                <a:chExt cx="2715840" cy="881280"/>
              </a:xfrm>
            </p:grpSpPr>
            <p:sp>
              <p:nvSpPr>
                <p:cNvPr id="488" name="AutoShape 16"/>
                <p:cNvSpPr/>
                <p:nvPr/>
              </p:nvSpPr>
              <p:spPr>
                <a:xfrm>
                  <a:off x="3676320" y="4682880"/>
                  <a:ext cx="1162080" cy="381240"/>
                </a:xfrm>
                <a:prstGeom prst="flowChartDisp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h-TH" sz="2400" spc="-1" strike="noStrike">
                      <a:solidFill>
                        <a:srgbClr val="000000"/>
                      </a:solidFill>
                      <a:latin typeface="Browallia New"/>
                      <a:cs typeface="Browallia New"/>
                    </a:rPr>
                    <a:t>เสาร์</a:t>
                  </a:r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489" name="AutoShape 17"/>
                <p:cNvSpPr/>
                <p:nvPr/>
              </p:nvSpPr>
              <p:spPr>
                <a:xfrm>
                  <a:off x="2123280" y="4602240"/>
                  <a:ext cx="1278000" cy="51768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w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 =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Cordia New"/>
                    </a:rPr>
                    <a:t>0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?</a:t>
                  </a:r>
                  <a:endParaRPr b="0" lang="en-US" sz="1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490" name="Line 18"/>
                <p:cNvSpPr/>
                <p:nvPr/>
              </p:nvSpPr>
              <p:spPr>
                <a:xfrm>
                  <a:off x="2763000" y="5112720"/>
                  <a:ext cx="0" cy="28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491" name="Freeform 19"/>
                <p:cNvSpPr/>
                <p:nvPr/>
              </p:nvSpPr>
              <p:spPr>
                <a:xfrm>
                  <a:off x="2763000" y="5070600"/>
                  <a:ext cx="1500480" cy="140040"/>
                </a:xfrm>
                <a:custGeom>
                  <a:avLst/>
                  <a:gdLst>
                    <a:gd name="textAreaLeft" fmla="*/ 0 w 1500480"/>
                    <a:gd name="textAreaRight" fmla="*/ 1500840 w 1500480"/>
                    <a:gd name="textAreaTop" fmla="*/ 0 h 140040"/>
                    <a:gd name="textAreaBottom" fmla="*/ 140400 h 140040"/>
                  </a:gdLst>
                  <a:ahLst/>
                  <a:rect l="textAreaLeft" t="textAreaTop" r="textAreaRight" b="textAreaBottom"/>
                  <a:pathLst>
                    <a:path w="1230" h="135">
                      <a:moveTo>
                        <a:pt x="1230" y="0"/>
                      </a:moveTo>
                      <a:lnTo>
                        <a:pt x="1230" y="135"/>
                      </a:lnTo>
                      <a:lnTo>
                        <a:pt x="0" y="13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492" name="Line 20"/>
                <p:cNvSpPr/>
                <p:nvPr/>
              </p:nvSpPr>
              <p:spPr>
                <a:xfrm>
                  <a:off x="3394080" y="4860360"/>
                  <a:ext cx="28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493" name="Text Box 21"/>
                <p:cNvSpPr/>
                <p:nvPr/>
              </p:nvSpPr>
              <p:spPr>
                <a:xfrm>
                  <a:off x="3174480" y="4511880"/>
                  <a:ext cx="61884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true</a:t>
                  </a:r>
                  <a:endParaRPr b="0" lang="en-US" sz="1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494" name="Text Box 22"/>
                <p:cNvSpPr/>
                <p:nvPr/>
              </p:nvSpPr>
              <p:spPr>
                <a:xfrm>
                  <a:off x="2122560" y="4988520"/>
                  <a:ext cx="69372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false</a:t>
                  </a:r>
                  <a:endParaRPr b="0" lang="en-US" sz="1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495" name="Group 23"/>
              <p:cNvGrpSpPr/>
              <p:nvPr/>
            </p:nvGrpSpPr>
            <p:grpSpPr>
              <a:xfrm>
                <a:off x="2122560" y="5311440"/>
                <a:ext cx="2715840" cy="881280"/>
                <a:chOff x="2122560" y="5311440"/>
                <a:chExt cx="2715840" cy="881280"/>
              </a:xfrm>
            </p:grpSpPr>
            <p:sp>
              <p:nvSpPr>
                <p:cNvPr id="496" name="AutoShape 24"/>
                <p:cNvSpPr/>
                <p:nvPr/>
              </p:nvSpPr>
              <p:spPr>
                <a:xfrm>
                  <a:off x="3676320" y="5483160"/>
                  <a:ext cx="1162080" cy="381240"/>
                </a:xfrm>
                <a:prstGeom prst="flowChartDisp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h-TH" sz="2400" spc="-1" strike="noStrike">
                      <a:solidFill>
                        <a:srgbClr val="000000"/>
                      </a:solidFill>
                      <a:latin typeface="Browallia New"/>
                      <a:cs typeface="Browallia New"/>
                    </a:rPr>
                    <a:t>อาทิตย์</a:t>
                  </a:r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497" name="AutoShape 25"/>
                <p:cNvSpPr/>
                <p:nvPr/>
              </p:nvSpPr>
              <p:spPr>
                <a:xfrm>
                  <a:off x="2123280" y="5401800"/>
                  <a:ext cx="1278000" cy="51768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w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 = 1?</a:t>
                  </a:r>
                  <a:endParaRPr b="0" lang="en-US" sz="1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498" name="Line 26"/>
                <p:cNvSpPr/>
                <p:nvPr/>
              </p:nvSpPr>
              <p:spPr>
                <a:xfrm>
                  <a:off x="2763000" y="5912280"/>
                  <a:ext cx="0" cy="28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499" name="Freeform 27"/>
                <p:cNvSpPr/>
                <p:nvPr/>
              </p:nvSpPr>
              <p:spPr>
                <a:xfrm>
                  <a:off x="2763000" y="5870160"/>
                  <a:ext cx="1500480" cy="140040"/>
                </a:xfrm>
                <a:custGeom>
                  <a:avLst/>
                  <a:gdLst>
                    <a:gd name="textAreaLeft" fmla="*/ 0 w 1500480"/>
                    <a:gd name="textAreaRight" fmla="*/ 1500840 w 1500480"/>
                    <a:gd name="textAreaTop" fmla="*/ 0 h 140040"/>
                    <a:gd name="textAreaBottom" fmla="*/ 140400 h 140040"/>
                  </a:gdLst>
                  <a:ahLst/>
                  <a:rect l="textAreaLeft" t="textAreaTop" r="textAreaRight" b="textAreaBottom"/>
                  <a:pathLst>
                    <a:path w="1230" h="135">
                      <a:moveTo>
                        <a:pt x="1230" y="0"/>
                      </a:moveTo>
                      <a:lnTo>
                        <a:pt x="1230" y="135"/>
                      </a:lnTo>
                      <a:lnTo>
                        <a:pt x="0" y="13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00" name="Line 28"/>
                <p:cNvSpPr/>
                <p:nvPr/>
              </p:nvSpPr>
              <p:spPr>
                <a:xfrm>
                  <a:off x="3394080" y="5659920"/>
                  <a:ext cx="28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01" name="Text Box 29"/>
                <p:cNvSpPr/>
                <p:nvPr/>
              </p:nvSpPr>
              <p:spPr>
                <a:xfrm>
                  <a:off x="3174480" y="5311440"/>
                  <a:ext cx="61884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true</a:t>
                  </a:r>
                  <a:endParaRPr b="0" lang="en-US" sz="1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02" name="Text Box 30"/>
                <p:cNvSpPr/>
                <p:nvPr/>
              </p:nvSpPr>
              <p:spPr>
                <a:xfrm>
                  <a:off x="2122560" y="5788080"/>
                  <a:ext cx="69372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false</a:t>
                  </a:r>
                  <a:endParaRPr b="0" lang="en-US" sz="1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cxnSp>
            <p:nvCxnSpPr>
              <p:cNvPr id="503" name="AutoShape 31"/>
              <p:cNvCxnSpPr/>
              <p:nvPr/>
            </p:nvCxnSpPr>
            <p:spPr>
              <a:xfrm>
                <a:off x="2748960" y="4217400"/>
                <a:ext cx="2880" cy="381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504" name="Oval 75"/>
            <p:cNvSpPr/>
            <p:nvPr/>
          </p:nvSpPr>
          <p:spPr>
            <a:xfrm>
              <a:off x="2551680" y="6178680"/>
              <a:ext cx="411120" cy="398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05" name="Group 80"/>
          <p:cNvGrpSpPr/>
          <p:nvPr/>
        </p:nvGrpSpPr>
        <p:grpSpPr>
          <a:xfrm>
            <a:off x="5865840" y="1254240"/>
            <a:ext cx="2864880" cy="5182920"/>
            <a:chOff x="5865840" y="1254240"/>
            <a:chExt cx="2864880" cy="5182920"/>
          </a:xfrm>
        </p:grpSpPr>
        <p:grpSp>
          <p:nvGrpSpPr>
            <p:cNvPr id="506" name="Group 33"/>
            <p:cNvGrpSpPr/>
            <p:nvPr/>
          </p:nvGrpSpPr>
          <p:grpSpPr>
            <a:xfrm>
              <a:off x="5865840" y="1823400"/>
              <a:ext cx="2864880" cy="4613760"/>
              <a:chOff x="5865840" y="1823400"/>
              <a:chExt cx="2864880" cy="4613760"/>
            </a:xfrm>
          </p:grpSpPr>
          <p:sp>
            <p:nvSpPr>
              <p:cNvPr id="507" name="AutoShape 2"/>
              <p:cNvSpPr/>
              <p:nvPr/>
            </p:nvSpPr>
            <p:spPr>
              <a:xfrm>
                <a:off x="6013440" y="6053040"/>
                <a:ext cx="1055520" cy="384120"/>
              </a:xfrm>
              <a:prstGeom prst="flowChartTermina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ordia New"/>
                  </a:rPr>
                  <a:t>stop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508" name="Group 35"/>
              <p:cNvGrpSpPr/>
              <p:nvPr/>
            </p:nvGrpSpPr>
            <p:grpSpPr>
              <a:xfrm>
                <a:off x="5865840" y="1823400"/>
                <a:ext cx="2864880" cy="929160"/>
                <a:chOff x="5865840" y="1823400"/>
                <a:chExt cx="2864880" cy="929160"/>
              </a:xfrm>
            </p:grpSpPr>
            <p:sp>
              <p:nvSpPr>
                <p:cNvPr id="509" name="AutoShape 4"/>
                <p:cNvSpPr/>
                <p:nvPr/>
              </p:nvSpPr>
              <p:spPr>
                <a:xfrm>
                  <a:off x="7506000" y="2004480"/>
                  <a:ext cx="1224720" cy="401040"/>
                </a:xfrm>
                <a:prstGeom prst="flowChartDisp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h-TH" sz="2400" spc="-1" strike="noStrike">
                      <a:solidFill>
                        <a:srgbClr val="000000"/>
                      </a:solidFill>
                      <a:latin typeface="Browallia New"/>
                      <a:cs typeface="Browallia New"/>
                    </a:rPr>
                    <a:t>วันจันทร์</a:t>
                  </a:r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10" name="AutoShape 5"/>
                <p:cNvSpPr/>
                <p:nvPr/>
              </p:nvSpPr>
              <p:spPr>
                <a:xfrm>
                  <a:off x="5867640" y="1918800"/>
                  <a:ext cx="1351080" cy="5490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w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 = 2?</a:t>
                  </a:r>
                  <a:endParaRPr b="0" lang="en-US" sz="1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11" name="Line 6"/>
                <p:cNvSpPr/>
                <p:nvPr/>
              </p:nvSpPr>
              <p:spPr>
                <a:xfrm>
                  <a:off x="6541560" y="2457000"/>
                  <a:ext cx="0" cy="29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12" name="Freeform 7"/>
                <p:cNvSpPr/>
                <p:nvPr/>
              </p:nvSpPr>
              <p:spPr>
                <a:xfrm>
                  <a:off x="6541560" y="2412720"/>
                  <a:ext cx="1582920" cy="147600"/>
                </a:xfrm>
                <a:custGeom>
                  <a:avLst/>
                  <a:gdLst>
                    <a:gd name="textAreaLeft" fmla="*/ 0 w 1582920"/>
                    <a:gd name="textAreaRight" fmla="*/ 1583280 w 15829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1230" h="135">
                      <a:moveTo>
                        <a:pt x="1230" y="0"/>
                      </a:moveTo>
                      <a:lnTo>
                        <a:pt x="1230" y="135"/>
                      </a:lnTo>
                      <a:lnTo>
                        <a:pt x="0" y="13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13" name="Line 8"/>
                <p:cNvSpPr/>
                <p:nvPr/>
              </p:nvSpPr>
              <p:spPr>
                <a:xfrm>
                  <a:off x="7207200" y="2190960"/>
                  <a:ext cx="295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14" name="Text Box 9"/>
                <p:cNvSpPr/>
                <p:nvPr/>
              </p:nvSpPr>
              <p:spPr>
                <a:xfrm>
                  <a:off x="6975360" y="1823400"/>
                  <a:ext cx="652680" cy="41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true</a:t>
                  </a:r>
                  <a:endParaRPr b="0" lang="en-US" sz="1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15" name="Text Box 10"/>
                <p:cNvSpPr/>
                <p:nvPr/>
              </p:nvSpPr>
              <p:spPr>
                <a:xfrm>
                  <a:off x="5865840" y="2325960"/>
                  <a:ext cx="731880" cy="41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false</a:t>
                  </a:r>
                  <a:endParaRPr b="0" lang="en-US" sz="1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516" name="Group 11"/>
              <p:cNvGrpSpPr/>
              <p:nvPr/>
            </p:nvGrpSpPr>
            <p:grpSpPr>
              <a:xfrm>
                <a:off x="5865840" y="2637000"/>
                <a:ext cx="2864880" cy="929160"/>
                <a:chOff x="5865840" y="2637000"/>
                <a:chExt cx="2864880" cy="929160"/>
              </a:xfrm>
            </p:grpSpPr>
            <p:sp>
              <p:nvSpPr>
                <p:cNvPr id="517" name="AutoShape 12"/>
                <p:cNvSpPr/>
                <p:nvPr/>
              </p:nvSpPr>
              <p:spPr>
                <a:xfrm>
                  <a:off x="7506000" y="2820240"/>
                  <a:ext cx="1224720" cy="399960"/>
                </a:xfrm>
                <a:prstGeom prst="flowChartDisp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h-TH" sz="2400" spc="-1" strike="noStrike">
                      <a:solidFill>
                        <a:srgbClr val="000000"/>
                      </a:solidFill>
                      <a:latin typeface="Browallia New"/>
                      <a:cs typeface="Browallia New"/>
                    </a:rPr>
                    <a:t>วันอังคาร</a:t>
                  </a:r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18" name="AutoShape 13"/>
                <p:cNvSpPr/>
                <p:nvPr/>
              </p:nvSpPr>
              <p:spPr>
                <a:xfrm>
                  <a:off x="5867640" y="2734200"/>
                  <a:ext cx="1351080" cy="54396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w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 = 3?</a:t>
                  </a:r>
                  <a:endParaRPr b="0" lang="en-US" sz="1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19" name="Line 14"/>
                <p:cNvSpPr/>
                <p:nvPr/>
              </p:nvSpPr>
              <p:spPr>
                <a:xfrm>
                  <a:off x="6541560" y="3270600"/>
                  <a:ext cx="0" cy="29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20" name="Freeform 15"/>
                <p:cNvSpPr/>
                <p:nvPr/>
              </p:nvSpPr>
              <p:spPr>
                <a:xfrm>
                  <a:off x="6541560" y="3226320"/>
                  <a:ext cx="1582920" cy="147600"/>
                </a:xfrm>
                <a:custGeom>
                  <a:avLst/>
                  <a:gdLst>
                    <a:gd name="textAreaLeft" fmla="*/ 0 w 1582920"/>
                    <a:gd name="textAreaRight" fmla="*/ 1583280 w 15829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1230" h="135">
                      <a:moveTo>
                        <a:pt x="1230" y="0"/>
                      </a:moveTo>
                      <a:lnTo>
                        <a:pt x="1230" y="135"/>
                      </a:lnTo>
                      <a:lnTo>
                        <a:pt x="0" y="13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21" name="Line 16"/>
                <p:cNvSpPr/>
                <p:nvPr/>
              </p:nvSpPr>
              <p:spPr>
                <a:xfrm>
                  <a:off x="7207200" y="3004560"/>
                  <a:ext cx="295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22" name="Text Box 17"/>
                <p:cNvSpPr/>
                <p:nvPr/>
              </p:nvSpPr>
              <p:spPr>
                <a:xfrm>
                  <a:off x="6975360" y="2637000"/>
                  <a:ext cx="652680" cy="41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true</a:t>
                  </a:r>
                  <a:endParaRPr b="0" lang="en-US" sz="1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23" name="Text Box 18"/>
                <p:cNvSpPr/>
                <p:nvPr/>
              </p:nvSpPr>
              <p:spPr>
                <a:xfrm>
                  <a:off x="5865840" y="3139560"/>
                  <a:ext cx="731880" cy="41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false</a:t>
                  </a:r>
                  <a:endParaRPr b="0" lang="en-US" sz="1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524" name="Group 19"/>
              <p:cNvGrpSpPr/>
              <p:nvPr/>
            </p:nvGrpSpPr>
            <p:grpSpPr>
              <a:xfrm>
                <a:off x="5865840" y="3450960"/>
                <a:ext cx="2864880" cy="929160"/>
                <a:chOff x="5865840" y="3450960"/>
                <a:chExt cx="2864880" cy="929160"/>
              </a:xfrm>
            </p:grpSpPr>
            <p:sp>
              <p:nvSpPr>
                <p:cNvPr id="525" name="AutoShape 20"/>
                <p:cNvSpPr/>
                <p:nvPr/>
              </p:nvSpPr>
              <p:spPr>
                <a:xfrm>
                  <a:off x="7506000" y="3632040"/>
                  <a:ext cx="1224720" cy="401040"/>
                </a:xfrm>
                <a:prstGeom prst="flowChartDisp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h-TH" sz="2400" spc="-1" strike="noStrike">
                      <a:solidFill>
                        <a:srgbClr val="000000"/>
                      </a:solidFill>
                      <a:latin typeface="Browallia New"/>
                      <a:cs typeface="Browallia New"/>
                    </a:rPr>
                    <a:t>วันพุธ</a:t>
                  </a:r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26" name="AutoShape 21"/>
                <p:cNvSpPr/>
                <p:nvPr/>
              </p:nvSpPr>
              <p:spPr>
                <a:xfrm>
                  <a:off x="5867640" y="3546360"/>
                  <a:ext cx="1351080" cy="5490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w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 = 4?</a:t>
                  </a:r>
                  <a:endParaRPr b="0" lang="en-US" sz="1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27" name="Line 22"/>
                <p:cNvSpPr/>
                <p:nvPr/>
              </p:nvSpPr>
              <p:spPr>
                <a:xfrm>
                  <a:off x="6541560" y="4084560"/>
                  <a:ext cx="0" cy="29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28" name="Freeform 23"/>
                <p:cNvSpPr/>
                <p:nvPr/>
              </p:nvSpPr>
              <p:spPr>
                <a:xfrm>
                  <a:off x="6541560" y="4040280"/>
                  <a:ext cx="1582920" cy="147600"/>
                </a:xfrm>
                <a:custGeom>
                  <a:avLst/>
                  <a:gdLst>
                    <a:gd name="textAreaLeft" fmla="*/ 0 w 1582920"/>
                    <a:gd name="textAreaRight" fmla="*/ 1583280 w 15829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1230" h="135">
                      <a:moveTo>
                        <a:pt x="1230" y="0"/>
                      </a:moveTo>
                      <a:lnTo>
                        <a:pt x="1230" y="135"/>
                      </a:lnTo>
                      <a:lnTo>
                        <a:pt x="0" y="13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29" name="Line 24"/>
                <p:cNvSpPr/>
                <p:nvPr/>
              </p:nvSpPr>
              <p:spPr>
                <a:xfrm>
                  <a:off x="7207200" y="3818520"/>
                  <a:ext cx="295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30" name="Text Box 25"/>
                <p:cNvSpPr/>
                <p:nvPr/>
              </p:nvSpPr>
              <p:spPr>
                <a:xfrm>
                  <a:off x="6975360" y="3450960"/>
                  <a:ext cx="652680" cy="41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true</a:t>
                  </a:r>
                  <a:endParaRPr b="0" lang="en-US" sz="1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31" name="Text Box 26"/>
                <p:cNvSpPr/>
                <p:nvPr/>
              </p:nvSpPr>
              <p:spPr>
                <a:xfrm>
                  <a:off x="5865840" y="3953520"/>
                  <a:ext cx="731880" cy="41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false</a:t>
                  </a:r>
                  <a:endParaRPr b="0" lang="en-US" sz="1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532" name="Group 27"/>
              <p:cNvGrpSpPr/>
              <p:nvPr/>
            </p:nvGrpSpPr>
            <p:grpSpPr>
              <a:xfrm>
                <a:off x="5865840" y="4279320"/>
                <a:ext cx="2864880" cy="929160"/>
                <a:chOff x="5865840" y="4279320"/>
                <a:chExt cx="2864880" cy="929160"/>
              </a:xfrm>
            </p:grpSpPr>
            <p:sp>
              <p:nvSpPr>
                <p:cNvPr id="533" name="AutoShape 28"/>
                <p:cNvSpPr/>
                <p:nvPr/>
              </p:nvSpPr>
              <p:spPr>
                <a:xfrm>
                  <a:off x="7506000" y="4460400"/>
                  <a:ext cx="1224720" cy="401040"/>
                </a:xfrm>
                <a:prstGeom prst="flowChartDisp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h-TH" sz="2400" spc="-1" strike="noStrike">
                      <a:solidFill>
                        <a:srgbClr val="000000"/>
                      </a:solidFill>
                      <a:latin typeface="Browallia New"/>
                      <a:cs typeface="Browallia New"/>
                    </a:rPr>
                    <a:t>วันพฤหัส</a:t>
                  </a:r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34" name="AutoShape 29"/>
                <p:cNvSpPr/>
                <p:nvPr/>
              </p:nvSpPr>
              <p:spPr>
                <a:xfrm>
                  <a:off x="5867640" y="4374720"/>
                  <a:ext cx="1351080" cy="5461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w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 = 5?</a:t>
                  </a:r>
                  <a:endParaRPr b="0" lang="en-US" sz="1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35" name="Line 30"/>
                <p:cNvSpPr/>
                <p:nvPr/>
              </p:nvSpPr>
              <p:spPr>
                <a:xfrm>
                  <a:off x="6541560" y="4912920"/>
                  <a:ext cx="0" cy="29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36" name="Freeform 31"/>
                <p:cNvSpPr/>
                <p:nvPr/>
              </p:nvSpPr>
              <p:spPr>
                <a:xfrm>
                  <a:off x="6541560" y="4868640"/>
                  <a:ext cx="1582920" cy="147600"/>
                </a:xfrm>
                <a:custGeom>
                  <a:avLst/>
                  <a:gdLst>
                    <a:gd name="textAreaLeft" fmla="*/ 0 w 1582920"/>
                    <a:gd name="textAreaRight" fmla="*/ 1583280 w 15829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1230" h="135">
                      <a:moveTo>
                        <a:pt x="1230" y="0"/>
                      </a:moveTo>
                      <a:lnTo>
                        <a:pt x="1230" y="135"/>
                      </a:lnTo>
                      <a:lnTo>
                        <a:pt x="0" y="13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37" name="Line 32"/>
                <p:cNvSpPr/>
                <p:nvPr/>
              </p:nvSpPr>
              <p:spPr>
                <a:xfrm>
                  <a:off x="7207200" y="4646880"/>
                  <a:ext cx="295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38" name="Text Box 33"/>
                <p:cNvSpPr/>
                <p:nvPr/>
              </p:nvSpPr>
              <p:spPr>
                <a:xfrm>
                  <a:off x="6975360" y="4279320"/>
                  <a:ext cx="652680" cy="41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true</a:t>
                  </a:r>
                  <a:endParaRPr b="0" lang="en-US" sz="1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39" name="Text Box 34"/>
                <p:cNvSpPr/>
                <p:nvPr/>
              </p:nvSpPr>
              <p:spPr>
                <a:xfrm>
                  <a:off x="5865840" y="4781880"/>
                  <a:ext cx="731880" cy="41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false</a:t>
                  </a:r>
                  <a:endParaRPr b="0" lang="en-US" sz="1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540" name="Group 35"/>
              <p:cNvGrpSpPr/>
              <p:nvPr/>
            </p:nvGrpSpPr>
            <p:grpSpPr>
              <a:xfrm>
                <a:off x="5865840" y="5108040"/>
                <a:ext cx="2864880" cy="929160"/>
                <a:chOff x="5865840" y="5108040"/>
                <a:chExt cx="2864880" cy="929160"/>
              </a:xfrm>
            </p:grpSpPr>
            <p:sp>
              <p:nvSpPr>
                <p:cNvPr id="541" name="AutoShape 36"/>
                <p:cNvSpPr/>
                <p:nvPr/>
              </p:nvSpPr>
              <p:spPr>
                <a:xfrm>
                  <a:off x="7506000" y="5289120"/>
                  <a:ext cx="1224720" cy="401040"/>
                </a:xfrm>
                <a:prstGeom prst="flowChartDisp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h-TH" sz="2400" spc="-1" strike="noStrike">
                      <a:solidFill>
                        <a:srgbClr val="000000"/>
                      </a:solidFill>
                      <a:latin typeface="Browallia New"/>
                      <a:cs typeface="Browallia New"/>
                    </a:rPr>
                    <a:t>วันศุกร์</a:t>
                  </a:r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42" name="AutoShape 37"/>
                <p:cNvSpPr/>
                <p:nvPr/>
              </p:nvSpPr>
              <p:spPr>
                <a:xfrm>
                  <a:off x="5867640" y="5203440"/>
                  <a:ext cx="1351080" cy="5461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w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 = 6?</a:t>
                  </a:r>
                  <a:endParaRPr b="0" lang="en-US" sz="1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43" name="Line 38"/>
                <p:cNvSpPr/>
                <p:nvPr/>
              </p:nvSpPr>
              <p:spPr>
                <a:xfrm>
                  <a:off x="6541560" y="5741640"/>
                  <a:ext cx="0" cy="29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44" name="Freeform 39"/>
                <p:cNvSpPr/>
                <p:nvPr/>
              </p:nvSpPr>
              <p:spPr>
                <a:xfrm>
                  <a:off x="6541560" y="5697360"/>
                  <a:ext cx="1582920" cy="147600"/>
                </a:xfrm>
                <a:custGeom>
                  <a:avLst/>
                  <a:gdLst>
                    <a:gd name="textAreaLeft" fmla="*/ 0 w 1582920"/>
                    <a:gd name="textAreaRight" fmla="*/ 1583280 w 15829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1230" h="135">
                      <a:moveTo>
                        <a:pt x="1230" y="0"/>
                      </a:moveTo>
                      <a:lnTo>
                        <a:pt x="1230" y="135"/>
                      </a:lnTo>
                      <a:lnTo>
                        <a:pt x="0" y="13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45" name="Line 40"/>
                <p:cNvSpPr/>
                <p:nvPr/>
              </p:nvSpPr>
              <p:spPr>
                <a:xfrm>
                  <a:off x="7207200" y="5475600"/>
                  <a:ext cx="295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46" name="Text Box 41"/>
                <p:cNvSpPr/>
                <p:nvPr/>
              </p:nvSpPr>
              <p:spPr>
                <a:xfrm>
                  <a:off x="6975360" y="5108040"/>
                  <a:ext cx="652680" cy="41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true</a:t>
                  </a:r>
                  <a:endParaRPr b="0" lang="en-US" sz="1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47" name="Text Box 42"/>
                <p:cNvSpPr/>
                <p:nvPr/>
              </p:nvSpPr>
              <p:spPr>
                <a:xfrm>
                  <a:off x="5865840" y="5610600"/>
                  <a:ext cx="731880" cy="41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Cordia New"/>
                    </a:rPr>
                    <a:t>false</a:t>
                  </a:r>
                  <a:endParaRPr b="0" lang="en-US" sz="1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</p:grpSp>
        <p:sp>
          <p:nvSpPr>
            <p:cNvPr id="548" name="Oval 76"/>
            <p:cNvSpPr/>
            <p:nvPr/>
          </p:nvSpPr>
          <p:spPr>
            <a:xfrm>
              <a:off x="6342480" y="1254240"/>
              <a:ext cx="411120" cy="397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549" name="Straight Arrow Connector 78"/>
            <p:cNvCxnSpPr>
              <a:stCxn id="548" idx="4"/>
              <a:endCxn id="510" idx="0"/>
            </p:cNvCxnSpPr>
            <p:nvPr/>
          </p:nvCxnSpPr>
          <p:spPr>
            <a:xfrm flipH="1">
              <a:off x="6542640" y="1652040"/>
              <a:ext cx="540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ัวข้อ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8245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ผังงา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วงวนไม่รู้จบ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true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ดำเนินการ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+ -- % &lt; == &gt; !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กระโดดออกจากวงวน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...) brea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วงวนมาตรฐาน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เลือกทำ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, if-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อย่าง ๆ 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ันใดของสัปดาห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853920" y="870120"/>
            <a:ext cx="7596360" cy="55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วัน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d = kb.nextInt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เลขเดือน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m = kb.nextInt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ปี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(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.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.)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y = kb.nextInt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m &lt; 3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m = m + 12;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y = y - 1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s-E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c = y / 100, k = y % 10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pl-PL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w = (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26*(m+1)/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k/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c/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5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*c) % 7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0) {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เสาร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1) {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อาทิตย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2) {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จันทร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3) {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อังคาร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4) {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พุธ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5) {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พฤหัสบดี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6) {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ศุกร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2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6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0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4" dur="5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8" dur="5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2" dur="5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6" dur="5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1" dur="500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5" dur="500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9" dur="500"/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3" dur="500"/>
                                        <p:tgtEl>
                                          <p:spTgt spid="5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8" dur="500"/>
                                        <p:tgtEl>
                                          <p:spTgt spid="5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2" dur="500"/>
                                        <p:tgtEl>
                                          <p:spTgt spid="5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7" dur="500"/>
                                        <p:tgtEl>
                                          <p:spTgt spid="5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1" dur="500"/>
                                        <p:tgtEl>
                                          <p:spTgt spid="5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5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9" dur="500"/>
                                        <p:tgtEl>
                                          <p:spTgt spid="5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5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7" dur="500"/>
                                        <p:tgtEl>
                                          <p:spTgt spid="55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1" dur="500"/>
                                        <p:tgtEl>
                                          <p:spTgt spid="5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if-else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จริงทำอย่าง เท็จทำอย่า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1581120" y="3914640"/>
            <a:ext cx="58960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( </a:t>
            </a:r>
            <a:r>
              <a:rPr b="0" i="1" lang="th-TH" sz="2000" spc="-1" strike="noStrike">
                <a:solidFill>
                  <a:srgbClr val="996633"/>
                </a:solidFill>
                <a:latin typeface="Courier New"/>
                <a:cs typeface="Tahoma"/>
              </a:rPr>
              <a:t>นิพจน์ที่ได้ค่า </a:t>
            </a:r>
            <a:r>
              <a:rPr b="0" i="1" lang="th-TH" sz="2000" spc="-1" strike="noStrike">
                <a:solidFill>
                  <a:srgbClr val="ff0000"/>
                </a:solidFill>
                <a:latin typeface="Courier New"/>
                <a:cs typeface="Tahoma"/>
              </a:rPr>
              <a:t>จริง</a:t>
            </a:r>
            <a:r>
              <a:rPr b="0" i="1" lang="en-US" sz="2000" spc="-1" strike="noStrike">
                <a:solidFill>
                  <a:srgbClr val="996633"/>
                </a:solidFill>
                <a:latin typeface="Courier New"/>
                <a:ea typeface="Tahoma"/>
              </a:rPr>
              <a:t> </a:t>
            </a:r>
            <a:r>
              <a:rPr b="0" i="1" lang="th-TH" sz="2000" spc="-1" strike="noStrike">
                <a:solidFill>
                  <a:srgbClr val="996633"/>
                </a:solidFill>
                <a:latin typeface="Courier New"/>
                <a:cs typeface="Tahoma"/>
              </a:rPr>
              <a:t>หรือ </a:t>
            </a:r>
            <a:r>
              <a:rPr b="0" i="1" lang="th-TH" sz="2000" spc="-1" strike="noStrike">
                <a:solidFill>
                  <a:srgbClr val="cc00cc"/>
                </a:solidFill>
                <a:latin typeface="Courier New"/>
                <a:cs typeface="Tahoma"/>
              </a:rPr>
              <a:t>เท็จ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0" i="1" lang="th-TH" sz="2000" spc="-1" strike="noStrike">
                <a:solidFill>
                  <a:srgbClr val="996633"/>
                </a:solidFill>
                <a:latin typeface="Courier New"/>
                <a:cs typeface="Tahoma"/>
              </a:rPr>
              <a:t>กลุ่มคำสั่งที่ทำงานเมื่อเงื่อนไขใน </a:t>
            </a:r>
            <a:r>
              <a:rPr b="1" i="1" lang="en-US" sz="2000" spc="-1" strike="noStrike">
                <a:solidFill>
                  <a:srgbClr val="996633"/>
                </a:solidFill>
                <a:latin typeface="Courier New"/>
                <a:ea typeface="Tahoma"/>
              </a:rPr>
              <a:t>if</a:t>
            </a:r>
            <a:r>
              <a:rPr b="0" i="1" lang="en-US" sz="2000" spc="-1" strike="noStrike">
                <a:solidFill>
                  <a:srgbClr val="996633"/>
                </a:solidFill>
                <a:latin typeface="Courier New"/>
                <a:ea typeface="Tahoma"/>
              </a:rPr>
              <a:t> </a:t>
            </a:r>
            <a:r>
              <a:rPr b="0" i="1" lang="th-TH" sz="2000" spc="-1" strike="noStrike">
                <a:solidFill>
                  <a:srgbClr val="996633"/>
                </a:solidFill>
                <a:latin typeface="Courier New"/>
                <a:cs typeface="Tahoma"/>
              </a:rPr>
              <a:t>เป็น </a:t>
            </a:r>
            <a:r>
              <a:rPr b="0" i="1" lang="th-TH" sz="2000" spc="-1" strike="noStrike">
                <a:solidFill>
                  <a:srgbClr val="ff3300"/>
                </a:solidFill>
                <a:latin typeface="Courier New"/>
                <a:cs typeface="Tahoma"/>
              </a:rPr>
              <a:t>จริง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0" i="1" lang="th-TH" sz="2000" spc="-1" strike="noStrike">
                <a:solidFill>
                  <a:srgbClr val="996633"/>
                </a:solidFill>
                <a:latin typeface="Courier New"/>
                <a:cs typeface="Tahoma"/>
              </a:rPr>
              <a:t>กลุ่มคำสั่งที่ทำงานเมื่อเงื่อนไขใน </a:t>
            </a:r>
            <a:r>
              <a:rPr b="1" i="1" lang="en-US" sz="2000" spc="-1" strike="noStrike">
                <a:solidFill>
                  <a:srgbClr val="996633"/>
                </a:solidFill>
                <a:latin typeface="Courier New"/>
                <a:ea typeface="Tahoma"/>
              </a:rPr>
              <a:t>if</a:t>
            </a:r>
            <a:r>
              <a:rPr b="0" i="1" lang="en-US" sz="2000" spc="-1" strike="noStrike">
                <a:solidFill>
                  <a:srgbClr val="996633"/>
                </a:solidFill>
                <a:latin typeface="Courier New"/>
                <a:ea typeface="Tahoma"/>
              </a:rPr>
              <a:t> </a:t>
            </a:r>
            <a:r>
              <a:rPr b="0" i="1" lang="th-TH" sz="2000" spc="-1" strike="noStrike">
                <a:solidFill>
                  <a:srgbClr val="996633"/>
                </a:solidFill>
                <a:latin typeface="Courier New"/>
                <a:cs typeface="Tahoma"/>
              </a:rPr>
              <a:t>เป็น </a:t>
            </a:r>
            <a:r>
              <a:rPr b="0" i="1" lang="th-TH" sz="2000" spc="-1" strike="noStrike">
                <a:solidFill>
                  <a:srgbClr val="cc00cc"/>
                </a:solidFill>
                <a:latin typeface="Courier New"/>
                <a:cs typeface="Tahoma"/>
              </a:rPr>
              <a:t>เท็จ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54" name="Group 18"/>
          <p:cNvGrpSpPr/>
          <p:nvPr/>
        </p:nvGrpSpPr>
        <p:grpSpPr>
          <a:xfrm>
            <a:off x="1249200" y="1026720"/>
            <a:ext cx="6368760" cy="2698920"/>
            <a:chOff x="1249200" y="1026720"/>
            <a:chExt cx="6368760" cy="2698920"/>
          </a:xfrm>
        </p:grpSpPr>
        <p:sp>
          <p:nvSpPr>
            <p:cNvPr id="555" name="AutoShape 6"/>
            <p:cNvSpPr/>
            <p:nvPr/>
          </p:nvSpPr>
          <p:spPr>
            <a:xfrm>
              <a:off x="4863960" y="2482560"/>
              <a:ext cx="2754000" cy="39888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000" spc="-1" strike="noStrike">
                  <a:solidFill>
                    <a:srgbClr val="996633"/>
                  </a:solidFill>
                  <a:latin typeface="Courier New"/>
                </a:rPr>
                <a:t>do this </a:t>
              </a:r>
              <a:r>
                <a:rPr b="1" i="1" lang="en-US" sz="2000" spc="-1" strike="noStrike">
                  <a:solidFill>
                    <a:srgbClr val="996633"/>
                  </a:solidFill>
                  <a:latin typeface="Courier New"/>
                </a:rPr>
                <a:t>if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Courier New"/>
                </a:rPr>
                <a:t>true</a:t>
              </a:r>
              <a:r>
                <a:rPr b="1" i="1" lang="th-TH" sz="2000" spc="-1" strike="noStrike">
                  <a:solidFill>
                    <a:srgbClr val="996633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6" name="AutoShape 7"/>
            <p:cNvSpPr/>
            <p:nvPr/>
          </p:nvSpPr>
          <p:spPr>
            <a:xfrm>
              <a:off x="3142440" y="1449360"/>
              <a:ext cx="2754360" cy="858960"/>
            </a:xfrm>
            <a:prstGeom prst="flowChartDecision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6633"/>
                  </a:solidFill>
                  <a:latin typeface="Courier New"/>
                </a:rPr>
                <a:t>Boolean expr.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7" name="Text Box 8"/>
            <p:cNvSpPr/>
            <p:nvPr/>
          </p:nvSpPr>
          <p:spPr>
            <a:xfrm>
              <a:off x="2453760" y="1449360"/>
              <a:ext cx="103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cc00cc"/>
                  </a:solidFill>
                  <a:latin typeface="Courier New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8" name="Text Box 9"/>
            <p:cNvSpPr/>
            <p:nvPr/>
          </p:nvSpPr>
          <p:spPr>
            <a:xfrm>
              <a:off x="5724360" y="1449360"/>
              <a:ext cx="86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0000"/>
                  </a:solidFill>
                  <a:latin typeface="Courier New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559" name="AutoShape 10"/>
            <p:cNvCxnSpPr>
              <a:stCxn id="556" idx="3"/>
              <a:endCxn id="555" idx="0"/>
            </p:cNvCxnSpPr>
            <p:nvPr/>
          </p:nvCxnSpPr>
          <p:spPr>
            <a:xfrm>
              <a:off x="5896440" y="1878480"/>
              <a:ext cx="344520" cy="60372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0" name="AutoShape 11"/>
            <p:cNvCxnSpPr>
              <a:endCxn id="556" idx="0"/>
            </p:cNvCxnSpPr>
            <p:nvPr/>
          </p:nvCxnSpPr>
          <p:spPr>
            <a:xfrm flipH="1">
              <a:off x="4519440" y="1026720"/>
              <a:ext cx="3960" cy="412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1" name="AutoShape 12"/>
            <p:cNvSpPr/>
            <p:nvPr/>
          </p:nvSpPr>
          <p:spPr>
            <a:xfrm>
              <a:off x="1249200" y="2493360"/>
              <a:ext cx="2754000" cy="39888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000" spc="-1" strike="noStrike">
                  <a:solidFill>
                    <a:srgbClr val="996633"/>
                  </a:solidFill>
                  <a:latin typeface="Courier New"/>
                </a:rPr>
                <a:t>do this </a:t>
              </a:r>
              <a:r>
                <a:rPr b="1" i="1" lang="en-US" sz="2000" spc="-1" strike="noStrike">
                  <a:solidFill>
                    <a:srgbClr val="996633"/>
                  </a:solidFill>
                  <a:latin typeface="Courier New"/>
                </a:rPr>
                <a:t>if </a:t>
              </a:r>
              <a:r>
                <a:rPr b="1" i="1" lang="en-US" sz="2000" spc="-1" strike="noStrike">
                  <a:solidFill>
                    <a:srgbClr val="cc00cc"/>
                  </a:solidFill>
                  <a:latin typeface="Courier New"/>
                </a:rPr>
                <a:t>false</a:t>
              </a:r>
              <a:r>
                <a:rPr b="1" i="1" lang="th-TH" sz="2000" spc="-1" strike="noStrike">
                  <a:solidFill>
                    <a:srgbClr val="996633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2" name="Line 13"/>
            <p:cNvSpPr/>
            <p:nvPr/>
          </p:nvSpPr>
          <p:spPr>
            <a:xfrm>
              <a:off x="4519440" y="3425040"/>
              <a:ext cx="0" cy="30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3" name="AutoShape 14"/>
            <p:cNvSpPr/>
            <p:nvPr/>
          </p:nvSpPr>
          <p:spPr>
            <a:xfrm>
              <a:off x="4433400" y="3253320"/>
              <a:ext cx="172080" cy="171360"/>
            </a:xfrm>
            <a:prstGeom prst="flowChartConnector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564" name="AutoShape 15"/>
            <p:cNvCxnSpPr>
              <a:stCxn id="555" idx="2"/>
              <a:endCxn id="563" idx="6"/>
            </p:cNvCxnSpPr>
            <p:nvPr/>
          </p:nvCxnSpPr>
          <p:spPr>
            <a:xfrm rot="5400000">
              <a:off x="5193360" y="2292480"/>
              <a:ext cx="458640" cy="163548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5" name="AutoShape 16"/>
            <p:cNvCxnSpPr>
              <a:stCxn id="561" idx="2"/>
              <a:endCxn id="563" idx="2"/>
            </p:cNvCxnSpPr>
            <p:nvPr/>
          </p:nvCxnSpPr>
          <p:spPr>
            <a:xfrm flipH="1" rot="16200000">
              <a:off x="3305520" y="2211480"/>
              <a:ext cx="448200" cy="180792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6" name="AutoShape 17"/>
            <p:cNvCxnSpPr>
              <a:stCxn id="556" idx="1"/>
              <a:endCxn id="561" idx="0"/>
            </p:cNvCxnSpPr>
            <p:nvPr/>
          </p:nvCxnSpPr>
          <p:spPr>
            <a:xfrm flipV="1" rot="10800000">
              <a:off x="2625120" y="1877760"/>
              <a:ext cx="516960" cy="61452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6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9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2" dur="5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7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2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น้อย ตัวมา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00200" y="1214280"/>
            <a:ext cx="777240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ีข้อมูลในตัวแปร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ับ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้องการให้ตัวแป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ก็บตัวน้อยของ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ับ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ก็บตัวมากของ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ับ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utoShape 7"/>
          <p:cNvSpPr/>
          <p:nvPr/>
        </p:nvSpPr>
        <p:spPr>
          <a:xfrm>
            <a:off x="2170080" y="3781440"/>
            <a:ext cx="1328760" cy="636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0" name="Text Box 32"/>
          <p:cNvSpPr/>
          <p:nvPr/>
        </p:nvSpPr>
        <p:spPr>
          <a:xfrm>
            <a:off x="3394080" y="4449600"/>
            <a:ext cx="137484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1" name="Text Box 33"/>
          <p:cNvSpPr/>
          <p:nvPr/>
        </p:nvSpPr>
        <p:spPr>
          <a:xfrm>
            <a:off x="873000" y="4449600"/>
            <a:ext cx="140364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572" name="AutoShape 34"/>
          <p:cNvCxnSpPr>
            <a:stCxn id="569" idx="3"/>
            <a:endCxn id="570" idx="0"/>
          </p:cNvCxnSpPr>
          <p:nvPr/>
        </p:nvCxnSpPr>
        <p:spPr>
          <a:xfrm>
            <a:off x="3498840" y="4100400"/>
            <a:ext cx="583200" cy="349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AutoShape 35"/>
          <p:cNvCxnSpPr>
            <a:stCxn id="569" idx="1"/>
            <a:endCxn id="571" idx="0"/>
          </p:cNvCxnSpPr>
          <p:nvPr/>
        </p:nvCxnSpPr>
        <p:spPr>
          <a:xfrm flipV="1" rot="10800000">
            <a:off x="1573920" y="4100040"/>
            <a:ext cx="596160" cy="349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4" name="Oval 36"/>
          <p:cNvSpPr/>
          <p:nvPr/>
        </p:nvSpPr>
        <p:spPr>
          <a:xfrm>
            <a:off x="2762280" y="5191200"/>
            <a:ext cx="128520" cy="147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575" name="AutoShape 37"/>
          <p:cNvCxnSpPr>
            <a:stCxn id="571" idx="2"/>
            <a:endCxn id="574" idx="2"/>
          </p:cNvCxnSpPr>
          <p:nvPr/>
        </p:nvCxnSpPr>
        <p:spPr>
          <a:xfrm flipH="1" rot="16200000">
            <a:off x="2071440" y="4575600"/>
            <a:ext cx="192960" cy="11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AutoShape 38"/>
          <p:cNvCxnSpPr>
            <a:stCxn id="570" idx="2"/>
            <a:endCxn id="574" idx="6"/>
          </p:cNvCxnSpPr>
          <p:nvPr/>
        </p:nvCxnSpPr>
        <p:spPr>
          <a:xfrm rot="5400000">
            <a:off x="3389040" y="4574160"/>
            <a:ext cx="192960" cy="1191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7" name="Line 39"/>
          <p:cNvSpPr/>
          <p:nvPr/>
        </p:nvSpPr>
        <p:spPr>
          <a:xfrm>
            <a:off x="2836800" y="35193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8" name="Line 40"/>
          <p:cNvSpPr/>
          <p:nvPr/>
        </p:nvSpPr>
        <p:spPr>
          <a:xfrm>
            <a:off x="2836800" y="53211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9" name="Text Box 41"/>
          <p:cNvSpPr/>
          <p:nvPr/>
        </p:nvSpPr>
        <p:spPr>
          <a:xfrm>
            <a:off x="3384720" y="3811680"/>
            <a:ext cx="7794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0" name="Text Box 42"/>
          <p:cNvSpPr/>
          <p:nvPr/>
        </p:nvSpPr>
        <p:spPr>
          <a:xfrm>
            <a:off x="1494000" y="3825720"/>
            <a:ext cx="7794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1" name="Rectangle 44"/>
          <p:cNvSpPr/>
          <p:nvPr/>
        </p:nvSpPr>
        <p:spPr>
          <a:xfrm>
            <a:off x="5508720" y="3625920"/>
            <a:ext cx="289872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a &lt; b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=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ls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=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2" name="Rectangle 45"/>
          <p:cNvSpPr/>
          <p:nvPr/>
        </p:nvSpPr>
        <p:spPr>
          <a:xfrm>
            <a:off x="5516640" y="1339920"/>
            <a:ext cx="287640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=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 &gt; b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=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9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4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9" dur="5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4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nodeType="clickEffect" fill="hold">
                      <p:stCondLst>
                        <p:cond delay="indefinite"/>
                      </p:stCondLst>
                      <p:childTnLst>
                        <p:par>
                          <p:cTn id="1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1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4" dur="5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7" dur="500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3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nodeType="clickEffect" fill="hold">
                      <p:stCondLst>
                        <p:cond delay="indefinite"/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5" dur="5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9" dur="500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nodeType="clickEffect" fill="hold">
                      <p:stCondLst>
                        <p:cond delay="indefinite"/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7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0" dur="5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nodeType="clickEffect" fill="hold">
                      <p:stCondLst>
                        <p:cond delay="indefinite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5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8" dur="5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3" dur="5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7" dur="5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าค่าประมาณของ </a:t>
            </a:r>
            <a:r>
              <a:rPr b="0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ที่ดีกว่า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22/7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4360" y="907560"/>
            <a:ext cx="7920000" cy="10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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/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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001264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าค่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ล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ี่ทำให้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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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&lt;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14"/>
          <p:cNvGrpSpPr/>
          <p:nvPr/>
        </p:nvGrpSpPr>
        <p:grpSpPr>
          <a:xfrm>
            <a:off x="6777000" y="1082520"/>
            <a:ext cx="1952640" cy="3864960"/>
            <a:chOff x="6777000" y="1082520"/>
            <a:chExt cx="1952640" cy="3864960"/>
          </a:xfrm>
        </p:grpSpPr>
        <p:sp>
          <p:nvSpPr>
            <p:cNvPr id="586" name="Text Box 6"/>
            <p:cNvSpPr/>
            <p:nvPr/>
          </p:nvSpPr>
          <p:spPr>
            <a:xfrm>
              <a:off x="6777000" y="3018960"/>
              <a:ext cx="1952640" cy="19285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</a:rPr>
                <a:t>祖沖之</a:t>
              </a: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</a:rPr>
                <a:t> </a:t>
              </a:r>
              <a:br>
                <a:rPr sz="2800"/>
              </a:b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</a:rPr>
                <a:t>พบ </a:t>
              </a:r>
              <a:r>
                <a:rPr b="0" lang="en-US" sz="2800" spc="-1" strike="noStrike">
                  <a:solidFill>
                    <a:srgbClr val="000000"/>
                  </a:solidFill>
                  <a:latin typeface="Angsana New"/>
                </a:rPr>
                <a:t> 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55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13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</a:rPr>
                <a:t>เมื่อปี ค</a:t>
              </a: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</a:rPr>
                <a:t>.</a:t>
              </a: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</a:rPr>
                <a:t>ศ</a:t>
              </a: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</a:rPr>
                <a:t>. </a:t>
              </a:r>
              <a:r>
                <a:rPr b="0" lang="en-US" sz="2800" spc="-1" strike="noStrike">
                  <a:solidFill>
                    <a:srgbClr val="000000"/>
                  </a:solidFill>
                  <a:latin typeface="Angsana New"/>
                </a:rPr>
                <a:t>48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pic>
          <p:nvPicPr>
            <p:cNvPr id="587" name="Picture 7" descr=""/>
            <p:cNvPicPr/>
            <p:nvPr/>
          </p:nvPicPr>
          <p:blipFill>
            <a:blip r:embed="rId1"/>
            <a:stretch/>
          </p:blipFill>
          <p:spPr>
            <a:xfrm>
              <a:off x="7024680" y="1082520"/>
              <a:ext cx="1457280" cy="19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Text Box 12"/>
          <p:cNvSpPr/>
          <p:nvPr/>
        </p:nvSpPr>
        <p:spPr>
          <a:xfrm>
            <a:off x="1063800" y="2509920"/>
            <a:ext cx="4511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2/7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0.14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0.392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3/7     0.287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0.267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3/8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0.14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0.586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4/8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0.017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0.47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5/8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0.108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0.36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6/8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0.23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0.25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7/8     0.358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0.142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7/9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0.03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0.442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8/9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0.08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0.342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     ...         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53/112  0.019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0.018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53/113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9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0.04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54/113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0.036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89" name="Group 13"/>
          <p:cNvGrpSpPr/>
          <p:nvPr/>
        </p:nvGrpSpPr>
        <p:grpSpPr>
          <a:xfrm>
            <a:off x="1084320" y="1898640"/>
            <a:ext cx="4638600" cy="1008000"/>
            <a:chOff x="1084320" y="1898640"/>
            <a:chExt cx="4638600" cy="1008000"/>
          </a:xfrm>
        </p:grpSpPr>
        <p:sp>
          <p:nvSpPr>
            <p:cNvPr id="590" name="Rectangle 15"/>
            <p:cNvSpPr/>
            <p:nvPr/>
          </p:nvSpPr>
          <p:spPr>
            <a:xfrm>
              <a:off x="1086480" y="1898640"/>
              <a:ext cx="46364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Angsana New"/>
                </a:rPr>
                <a:t> 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1)/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Angsana New"/>
                </a:rPr>
                <a:t> –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/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1)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1" name="Line 17"/>
            <p:cNvSpPr/>
            <p:nvPr/>
          </p:nvSpPr>
          <p:spPr>
            <a:xfrm>
              <a:off x="1084320" y="2425320"/>
              <a:ext cx="449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592" name="Rounded Rectangular Callout 12"/>
          <p:cNvSpPr/>
          <p:nvPr/>
        </p:nvSpPr>
        <p:spPr>
          <a:xfrm>
            <a:off x="3805200" y="2832120"/>
            <a:ext cx="1828800" cy="574560"/>
          </a:xfrm>
          <a:prstGeom prst="wedgeRoundRectCallout">
            <a:avLst>
              <a:gd name="adj1" fmla="val -73083"/>
              <a:gd name="adj2" fmla="val -66106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เลือกตัวน้อย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93" name="Group 16"/>
          <p:cNvGrpSpPr/>
          <p:nvPr/>
        </p:nvGrpSpPr>
        <p:grpSpPr>
          <a:xfrm>
            <a:off x="3362400" y="5138640"/>
            <a:ext cx="4925880" cy="1535040"/>
            <a:chOff x="3362400" y="5138640"/>
            <a:chExt cx="4925880" cy="1535040"/>
          </a:xfrm>
        </p:grpSpPr>
        <p:sp>
          <p:nvSpPr>
            <p:cNvPr id="594" name="Text Box 12"/>
            <p:cNvSpPr/>
            <p:nvPr/>
          </p:nvSpPr>
          <p:spPr>
            <a:xfrm>
              <a:off x="6298560" y="5138640"/>
              <a:ext cx="198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55/113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5" name="Freeform 15"/>
            <p:cNvSpPr/>
            <p:nvPr/>
          </p:nvSpPr>
          <p:spPr>
            <a:xfrm>
              <a:off x="3362400" y="5574600"/>
              <a:ext cx="3318480" cy="1099080"/>
            </a:xfrm>
            <a:custGeom>
              <a:avLst/>
              <a:gdLst>
                <a:gd name="textAreaLeft" fmla="*/ 0 w 3318480"/>
                <a:gd name="textAreaRight" fmla="*/ 3318840 w 3318480"/>
                <a:gd name="textAreaTop" fmla="*/ 0 h 1099080"/>
                <a:gd name="textAreaBottom" fmla="*/ 1099440 h 1099080"/>
              </a:gdLst>
              <a:ahLst/>
              <a:rect l="textAreaLeft" t="textAreaTop" r="textAreaRight" b="textAreaBottom"/>
              <a:pathLst>
                <a:path w="3318387" h="1098755">
                  <a:moveTo>
                    <a:pt x="0" y="766916"/>
                  </a:moveTo>
                  <a:cubicBezTo>
                    <a:pt x="223684" y="871384"/>
                    <a:pt x="447368" y="975852"/>
                    <a:pt x="766916" y="1017639"/>
                  </a:cubicBezTo>
                  <a:cubicBezTo>
                    <a:pt x="1086464" y="1059426"/>
                    <a:pt x="1585452" y="1098755"/>
                    <a:pt x="1917291" y="1017639"/>
                  </a:cubicBezTo>
                  <a:cubicBezTo>
                    <a:pt x="2249130" y="936523"/>
                    <a:pt x="2524433" y="700549"/>
                    <a:pt x="2757949" y="530942"/>
                  </a:cubicBezTo>
                  <a:cubicBezTo>
                    <a:pt x="2991465" y="361335"/>
                    <a:pt x="3154926" y="180667"/>
                    <a:pt x="331838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9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9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6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1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nodeType="clickEffect" fill="hold">
                      <p:stCondLst>
                        <p:cond delay="indefinite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6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0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4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8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2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6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0" dur="500"/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4" dur="500"/>
                                        <p:tgtEl>
                                          <p:spTgt spid="5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8" dur="500"/>
                                        <p:tgtEl>
                                          <p:spTgt spid="5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37"/>
          <p:cNvGrpSpPr/>
          <p:nvPr/>
        </p:nvGrpSpPr>
        <p:grpSpPr>
          <a:xfrm>
            <a:off x="2163600" y="93600"/>
            <a:ext cx="4871880" cy="6720120"/>
            <a:chOff x="2163600" y="93600"/>
            <a:chExt cx="4871880" cy="6720120"/>
          </a:xfrm>
        </p:grpSpPr>
        <p:sp>
          <p:nvSpPr>
            <p:cNvPr id="597" name="AutoShape 2"/>
            <p:cNvSpPr/>
            <p:nvPr/>
          </p:nvSpPr>
          <p:spPr>
            <a:xfrm>
              <a:off x="4006800" y="6388560"/>
              <a:ext cx="1214280" cy="42516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stop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8" name="AutoShape 3"/>
            <p:cNvSpPr/>
            <p:nvPr/>
          </p:nvSpPr>
          <p:spPr>
            <a:xfrm>
              <a:off x="3952800" y="93600"/>
              <a:ext cx="1184400" cy="40932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star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599" name="AutoShape 4"/>
            <p:cNvCxnSpPr/>
            <p:nvPr/>
          </p:nvCxnSpPr>
          <p:spPr>
            <a:xfrm>
              <a:off x="4545720" y="501840"/>
              <a:ext cx="108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0" name="AutoShape 5"/>
            <p:cNvSpPr/>
            <p:nvPr/>
          </p:nvSpPr>
          <p:spPr>
            <a:xfrm>
              <a:off x="3498840" y="3768840"/>
              <a:ext cx="2097000" cy="7268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Calibri"/>
                  <a:ea typeface="Cordia New"/>
                </a:rPr>
                <a:t>n</a:t>
              </a:r>
              <a:r>
                <a:rPr b="0" lang="th-TH" sz="24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&lt;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Calibri"/>
                  <a:ea typeface="Cordia New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1" name="AutoShape 6"/>
            <p:cNvSpPr/>
            <p:nvPr/>
          </p:nvSpPr>
          <p:spPr>
            <a:xfrm>
              <a:off x="5343480" y="4394160"/>
              <a:ext cx="1278000" cy="6699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n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Calibri"/>
                  <a:ea typeface="Cordia New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602" name="AutoShape 7"/>
            <p:cNvCxnSpPr/>
            <p:nvPr/>
          </p:nvCxnSpPr>
          <p:spPr>
            <a:xfrm>
              <a:off x="4548600" y="2865960"/>
              <a:ext cx="1080" cy="92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3" name="AutoShape 8"/>
            <p:cNvCxnSpPr/>
            <p:nvPr/>
          </p:nvCxnSpPr>
          <p:spPr>
            <a:xfrm>
              <a:off x="5596560" y="4132800"/>
              <a:ext cx="386640" cy="250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4" name="Text Box 9"/>
            <p:cNvSpPr/>
            <p:nvPr/>
          </p:nvSpPr>
          <p:spPr>
            <a:xfrm>
              <a:off x="5454720" y="3766680"/>
              <a:ext cx="752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2933280" y="3698280"/>
              <a:ext cx="843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6" name="AutoShape 12"/>
            <p:cNvSpPr/>
            <p:nvPr/>
          </p:nvSpPr>
          <p:spPr>
            <a:xfrm>
              <a:off x="3242880" y="2803680"/>
              <a:ext cx="2668680" cy="7808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Calibri"/>
                  <a:ea typeface="Cordia New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pi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–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+1)/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Calibri"/>
                  <a:ea typeface="Cordia New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pi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–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/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+1)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7" name="AutoShape 13"/>
            <p:cNvSpPr/>
            <p:nvPr/>
          </p:nvSpPr>
          <p:spPr>
            <a:xfrm>
              <a:off x="2450880" y="4394160"/>
              <a:ext cx="1339920" cy="6699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d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Calibri"/>
                  <a:ea typeface="Cordia New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8" name="Freeform 14"/>
            <p:cNvSpPr/>
            <p:nvPr/>
          </p:nvSpPr>
          <p:spPr>
            <a:xfrm>
              <a:off x="3115080" y="4121280"/>
              <a:ext cx="374760" cy="27252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330" h="300">
                  <a:moveTo>
                    <a:pt x="330" y="0"/>
                  </a:moveTo>
                  <a:lnTo>
                    <a:pt x="0" y="0"/>
                  </a:lnTo>
                  <a:lnTo>
                    <a:pt x="0" y="3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9" name="Freeform 15"/>
            <p:cNvSpPr/>
            <p:nvPr/>
          </p:nvSpPr>
          <p:spPr>
            <a:xfrm>
              <a:off x="3115080" y="5058360"/>
              <a:ext cx="2878920" cy="204120"/>
            </a:xfrm>
            <a:custGeom>
              <a:avLst/>
              <a:gdLst>
                <a:gd name="textAreaLeft" fmla="*/ 0 w 2878920"/>
                <a:gd name="textAreaRight" fmla="*/ 2879280 w 287892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2535" h="180">
                  <a:moveTo>
                    <a:pt x="0" y="0"/>
                  </a:moveTo>
                  <a:lnTo>
                    <a:pt x="0" y="180"/>
                  </a:lnTo>
                  <a:lnTo>
                    <a:pt x="2535" y="180"/>
                  </a:lnTo>
                  <a:lnTo>
                    <a:pt x="253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0" name="AutoShape 16"/>
            <p:cNvSpPr/>
            <p:nvPr/>
          </p:nvSpPr>
          <p:spPr>
            <a:xfrm>
              <a:off x="3471840" y="1830240"/>
              <a:ext cx="2200320" cy="7095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th-TH" sz="24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≥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  <a:ea typeface="Cordia New"/>
                </a:rPr>
                <a:t>–6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alibri"/>
                  <a:ea typeface="Cordia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1" name="Line 17"/>
            <p:cNvSpPr/>
            <p:nvPr/>
          </p:nvSpPr>
          <p:spPr>
            <a:xfrm>
              <a:off x="4614120" y="526284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2" name="Freeform 18"/>
            <p:cNvSpPr/>
            <p:nvPr/>
          </p:nvSpPr>
          <p:spPr>
            <a:xfrm>
              <a:off x="2246400" y="1710360"/>
              <a:ext cx="2367720" cy="3774600"/>
            </a:xfrm>
            <a:custGeom>
              <a:avLst/>
              <a:gdLst>
                <a:gd name="textAreaLeft" fmla="*/ 0 w 2367720"/>
                <a:gd name="textAreaRight" fmla="*/ 2368080 w 2367720"/>
                <a:gd name="textAreaTop" fmla="*/ 0 h 3774600"/>
                <a:gd name="textAreaBottom" fmla="*/ 3774960 h 3774600"/>
              </a:gdLst>
              <a:ahLst/>
              <a:rect l="textAreaLeft" t="textAreaTop" r="textAreaRight" b="textAreaBottom"/>
              <a:pathLst>
                <a:path w="2235" h="3615">
                  <a:moveTo>
                    <a:pt x="2235" y="3435"/>
                  </a:moveTo>
                  <a:lnTo>
                    <a:pt x="2235" y="3615"/>
                  </a:lnTo>
                  <a:lnTo>
                    <a:pt x="0" y="3615"/>
                  </a:lnTo>
                  <a:lnTo>
                    <a:pt x="0" y="0"/>
                  </a:lnTo>
                  <a:lnTo>
                    <a:pt x="219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3" name="Line 19"/>
            <p:cNvSpPr/>
            <p:nvPr/>
          </p:nvSpPr>
          <p:spPr>
            <a:xfrm>
              <a:off x="4563000" y="146484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4" name="Text Box 21"/>
            <p:cNvSpPr/>
            <p:nvPr/>
          </p:nvSpPr>
          <p:spPr>
            <a:xfrm>
              <a:off x="4616280" y="2441880"/>
              <a:ext cx="752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5" name="Text Box 22"/>
            <p:cNvSpPr/>
            <p:nvPr/>
          </p:nvSpPr>
          <p:spPr>
            <a:xfrm>
              <a:off x="5440680" y="1809360"/>
              <a:ext cx="843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6" name="AutoShape 23"/>
            <p:cNvSpPr/>
            <p:nvPr/>
          </p:nvSpPr>
          <p:spPr>
            <a:xfrm>
              <a:off x="2163600" y="3355560"/>
              <a:ext cx="161640" cy="161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7" name="AutoShape 24"/>
            <p:cNvSpPr/>
            <p:nvPr/>
          </p:nvSpPr>
          <p:spPr>
            <a:xfrm>
              <a:off x="4137120" y="5760720"/>
              <a:ext cx="954000" cy="4086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n,  d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618" name="AutoShape 25"/>
            <p:cNvCxnSpPr/>
            <p:nvPr/>
          </p:nvCxnSpPr>
          <p:spPr>
            <a:xfrm>
              <a:off x="4616640" y="6188760"/>
              <a:ext cx="1080" cy="207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9" name="Shape 30"/>
            <p:cNvCxnSpPr>
              <a:stCxn id="610" idx="3"/>
              <a:endCxn id="617" idx="0"/>
            </p:cNvCxnSpPr>
            <p:nvPr/>
          </p:nvCxnSpPr>
          <p:spPr>
            <a:xfrm flipH="1">
              <a:off x="4613400" y="2184120"/>
              <a:ext cx="1058040" cy="3576600"/>
            </a:xfrm>
            <a:prstGeom prst="bentConnector4">
              <a:avLst>
                <a:gd name="adj1" fmla="val -128999"/>
                <a:gd name="adj2" fmla="val 96204"/>
              </a:avLst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620" name="Straight Arrow Connector 34"/>
            <p:cNvCxnSpPr>
              <a:stCxn id="610" idx="2"/>
              <a:endCxn id="606" idx="0"/>
            </p:cNvCxnSpPr>
            <p:nvPr/>
          </p:nvCxnSpPr>
          <p:spPr>
            <a:xfrm>
              <a:off x="4571280" y="2539440"/>
              <a:ext cx="6480" cy="26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21" name="AutoShape 11"/>
            <p:cNvSpPr/>
            <p:nvPr/>
          </p:nvSpPr>
          <p:spPr>
            <a:xfrm>
              <a:off x="2685600" y="649080"/>
              <a:ext cx="3715200" cy="9144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22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7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pi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 </a:t>
              </a:r>
              <a:r>
                <a:rPr b="0" lang="th-TH" sz="2800" spc="-1" strike="noStrike">
                  <a:solidFill>
                    <a:srgbClr val="000000"/>
                  </a:solidFill>
                  <a:latin typeface="Browallia New"/>
                  <a:cs typeface="Browallia New"/>
                </a:rPr>
                <a:t>ค่าประมาณของ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Browallia New"/>
                  <a:ea typeface="Browallia New"/>
                </a:rPr>
                <a:t> </a:t>
              </a:r>
              <a:r>
                <a:rPr b="0" lang="th-TH" sz="2800" spc="-1" strike="noStrike">
                  <a:solidFill>
                    <a:srgbClr val="000000"/>
                  </a:solidFill>
                  <a:latin typeface="Browallia New"/>
                  <a:cs typeface="Browallia New"/>
                </a:rPr>
                <a:t>ที่ละเอียด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ordia New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าค่าประมาณของ </a:t>
            </a:r>
            <a:r>
              <a:rPr b="0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ที่ดีกว่า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22/7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469800" y="870120"/>
            <a:ext cx="8364600" cy="527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n = 22, d = 7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i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PI;  // 3.141592653589793;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iff = 100, diffN, diffD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iff &gt;= 1e-6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iffN = </a:t>
            </a:r>
            <a:r>
              <a:rPr b="1" lang="pt-BR" sz="20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abs(pi - (n + 1) / d);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iffD = </a:t>
            </a:r>
            <a:r>
              <a:rPr b="1" lang="pt-BR" sz="20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abs(pi - n / (d + 1));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iffN &lt; diff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n + 1;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ff = diffN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= d + 1;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ff = diffD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n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/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d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(n/d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1688" dur="indefinite" restart="never" nodeType="tmRoot">
          <p:childTnLst>
            <p:seq>
              <p:cTn id="1689" dur="indefinite" nodeType="mainSeq">
                <p:childTnLst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7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0" dur="500"/>
                                        <p:tgtEl>
                                          <p:spTgt spid="6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5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0" dur="50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nodeType="clickEffect" fill="hold">
                      <p:stCondLst>
                        <p:cond delay="indefinite"/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5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0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3" dur="500"/>
                                        <p:tgtEl>
                                          <p:spTgt spid="6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8" dur="50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nodeType="clickEffect" fill="hold">
                      <p:stCondLst>
                        <p:cond delay="indefinite"/>
                      </p:stCondLst>
                      <p:childTnLst>
                        <p:par>
                          <p:cTn id="1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3" dur="50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8" dur="50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2" dur="500"/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6" dur="500"/>
                                        <p:tgtEl>
                                          <p:spTgt spid="6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nodeType="clickEffect" fill="hold">
                      <p:stCondLst>
                        <p:cond delay="indefinite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1" dur="50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5" dur="500"/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nodeType="clickEffect" fill="hold">
                      <p:stCondLst>
                        <p:cond delay="indefinite"/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0" dur="500"/>
                                        <p:tgtEl>
                                          <p:spTgt spid="6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4" dur="500"/>
                                        <p:tgtEl>
                                          <p:spTgt spid="6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9" dur="500"/>
                                        <p:tgtEl>
                                          <p:spTgt spid="6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ลุ่มคำสั่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Block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00200" y="9489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Block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ือกลุ่มคำสั่ง ครอบด้ว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มี</a:t>
            </a:r>
            <a:r>
              <a:rPr b="0" lang="th-TH" sz="2800" spc="-1" strike="noStrike" u="sng">
                <a:solidFill>
                  <a:srgbClr val="000000"/>
                </a:solidFill>
                <a:uFillTx/>
                <a:latin typeface="Tahoma"/>
              </a:rPr>
              <a:t>คำสั่งเดียว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ลัง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, else, while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ไม่ต้องใส่ใ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็ได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701640" y="3033720"/>
            <a:ext cx="236844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x &lt; 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-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3238560" y="3033720"/>
            <a:ext cx="215424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x &lt; 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-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5533920" y="3033720"/>
            <a:ext cx="297036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x &lt; 0) x = -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1487520" y="5767560"/>
            <a:ext cx="57690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abs(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*x – a) &gt; 1e-5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a/x) / 2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0" name="Rectangle 44"/>
          <p:cNvSpPr/>
          <p:nvPr/>
        </p:nvSpPr>
        <p:spPr>
          <a:xfrm>
            <a:off x="3244680" y="4230720"/>
            <a:ext cx="216864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a &lt; b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=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=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6224760" y="752400"/>
            <a:ext cx="29192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diffN &lt; diffD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n + 1;   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ff = diffN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= d + 1;   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ff = diffD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2" name="Freeform 15"/>
          <p:cNvSpPr/>
          <p:nvPr/>
        </p:nvSpPr>
        <p:spPr>
          <a:xfrm>
            <a:off x="6283440" y="811080"/>
            <a:ext cx="2787480" cy="1106640"/>
          </a:xfrm>
          <a:custGeom>
            <a:avLst/>
            <a:gdLst>
              <a:gd name="textAreaLeft" fmla="*/ 0 w 2787480"/>
              <a:gd name="textAreaRight" fmla="*/ 2787840 w 2787480"/>
              <a:gd name="textAreaTop" fmla="*/ 0 h 1106640"/>
              <a:gd name="textAreaBottom" fmla="*/ 1107000 h 1106640"/>
            </a:gdLst>
            <a:ahLst/>
            <a:rect l="textAreaLeft" t="textAreaTop" r="textAreaRight" b="textAreaBottom"/>
            <a:pathLst>
              <a:path w="2787445" h="1106129">
                <a:moveTo>
                  <a:pt x="2521974" y="0"/>
                </a:moveTo>
                <a:lnTo>
                  <a:pt x="2521974" y="265471"/>
                </a:lnTo>
                <a:lnTo>
                  <a:pt x="0" y="265471"/>
                </a:lnTo>
                <a:lnTo>
                  <a:pt x="0" y="1106129"/>
                </a:lnTo>
                <a:lnTo>
                  <a:pt x="206477" y="1091381"/>
                </a:lnTo>
                <a:lnTo>
                  <a:pt x="206477" y="796413"/>
                </a:lnTo>
                <a:lnTo>
                  <a:pt x="2787445" y="796413"/>
                </a:lnTo>
                <a:lnTo>
                  <a:pt x="2787445" y="0"/>
                </a:lnTo>
                <a:lnTo>
                  <a:pt x="2521974" y="0"/>
                </a:lnTo>
                <a:close/>
              </a:path>
            </a:pathLst>
          </a:custGeom>
          <a:solidFill>
            <a:srgbClr val="ffccff">
              <a:alpha val="45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3" name="Freeform 16"/>
          <p:cNvSpPr/>
          <p:nvPr/>
        </p:nvSpPr>
        <p:spPr>
          <a:xfrm>
            <a:off x="6267600" y="1608120"/>
            <a:ext cx="2198520" cy="1104840"/>
          </a:xfrm>
          <a:custGeom>
            <a:avLst/>
            <a:gdLst/>
            <a:ahLst/>
            <a:rect l="l" t="t" r="r" b="b"/>
            <a:pathLst>
              <a:path w="2197509" h="1106129">
                <a:moveTo>
                  <a:pt x="958645" y="0"/>
                </a:moveTo>
                <a:lnTo>
                  <a:pt x="958645" y="280220"/>
                </a:lnTo>
                <a:lnTo>
                  <a:pt x="0" y="265471"/>
                </a:lnTo>
                <a:lnTo>
                  <a:pt x="0" y="1106129"/>
                </a:lnTo>
                <a:lnTo>
                  <a:pt x="2197509" y="1106129"/>
                </a:lnTo>
                <a:lnTo>
                  <a:pt x="2197509" y="14749"/>
                </a:lnTo>
                <a:lnTo>
                  <a:pt x="958645" y="0"/>
                </a:lnTo>
                <a:close/>
              </a:path>
            </a:pathLst>
          </a:custGeom>
          <a:solidFill>
            <a:srgbClr val="d2d2f4">
              <a:alpha val="45000"/>
            </a:srgbClr>
          </a:solidFill>
          <a:ln w="28440">
            <a:solidFill>
              <a:srgbClr val="7878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0" dur="indefinite" restart="never" nodeType="tmRoot">
          <p:childTnLst>
            <p:seq>
              <p:cTn id="1771" dur="indefinite" nodeType="mainSeq">
                <p:childTnLst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6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nodeType="clickEffect" fill="hold">
                      <p:stCondLst>
                        <p:cond delay="indefinite"/>
                      </p:stCondLst>
                      <p:childTnLst>
                        <p:par>
                          <p:cTn id="1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nodeType="clickEffect" fill="hold">
                      <p:stCondLst>
                        <p:cond delay="indefinite"/>
                      </p:stCondLst>
                      <p:childTnLst>
                        <p:par>
                          <p:cTn id="1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5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nodeType="clickEffect" fill="hold">
                      <p:stCondLst>
                        <p:cond delay="indefinite"/>
                      </p:stCondLst>
                      <p:childTnLst>
                        <p:par>
                          <p:cTn id="1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nodeType="clickEffect" fill="hold">
                      <p:stCondLst>
                        <p:cond delay="indefinite"/>
                      </p:stCondLst>
                      <p:childTnLst>
                        <p:par>
                          <p:cTn id="1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nodeType="clickEffect" fill="hold">
                      <p:stCondLst>
                        <p:cond delay="indefinite"/>
                      </p:stCondLst>
                      <p:childTnLst>
                        <p:par>
                          <p:cTn id="1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nodeType="clickEffect" fill="hold">
                      <p:stCondLst>
                        <p:cond delay="indefinite"/>
                      </p:stCondLst>
                      <p:childTnLst>
                        <p:par>
                          <p:cTn id="1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ด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{   } 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ลั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f, else, while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้องระวั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853920" y="870120"/>
            <a:ext cx="7596360" cy="55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วัน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d = kb.nextInt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เลขเดือน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m = kb.nextInt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ปี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(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.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.)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y = kb.nextInt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m &lt; 3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m = m + 12;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y = y - 1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s-E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c = y / 100, k = y % 10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pl-PL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w = (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26*(m+1)/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k/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c/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2*c) % 7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0)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เสาร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1)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อาทิตย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2)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จันทร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3)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อังคาร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4)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พุธ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5)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พฤหัสบดี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6)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ศุกร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3095640" y="2787480"/>
            <a:ext cx="48243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m &lt; 3)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m = m + 12; y = y - 1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37" name="Group 7"/>
          <p:cNvGrpSpPr/>
          <p:nvPr/>
        </p:nvGrpSpPr>
        <p:grpSpPr>
          <a:xfrm>
            <a:off x="6226200" y="2863440"/>
            <a:ext cx="1474920" cy="987840"/>
            <a:chOff x="6226200" y="2863440"/>
            <a:chExt cx="1474920" cy="987840"/>
          </a:xfrm>
        </p:grpSpPr>
        <p:sp>
          <p:nvSpPr>
            <p:cNvPr id="638" name="Straight Connector 5"/>
            <p:cNvSpPr/>
            <p:nvPr/>
          </p:nvSpPr>
          <p:spPr>
            <a:xfrm>
              <a:off x="6226200" y="2863800"/>
              <a:ext cx="1474920" cy="987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9" name="Straight Connector 6"/>
            <p:cNvSpPr/>
            <p:nvPr/>
          </p:nvSpPr>
          <p:spPr>
            <a:xfrm flipV="1">
              <a:off x="6226200" y="2863440"/>
              <a:ext cx="1474920" cy="987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40" name="Freeform 8"/>
          <p:cNvSpPr/>
          <p:nvPr/>
        </p:nvSpPr>
        <p:spPr>
          <a:xfrm>
            <a:off x="6858000" y="4984920"/>
            <a:ext cx="944640" cy="944280"/>
          </a:xfrm>
          <a:custGeom>
            <a:avLst/>
            <a:gdLst>
              <a:gd name="textAreaLeft" fmla="*/ 0 w 944640"/>
              <a:gd name="textAreaRight" fmla="*/ 945000 w 944640"/>
              <a:gd name="textAreaTop" fmla="*/ 0 h 944280"/>
              <a:gd name="textAreaBottom" fmla="*/ 944640 h 944280"/>
            </a:gdLst>
            <a:ahLst/>
            <a:rect l="textAreaLeft" t="textAreaTop" r="textAreaRight" b="textAreaBottom"/>
            <a:pathLst>
              <a:path w="943897" h="943897">
                <a:moveTo>
                  <a:pt x="0" y="560439"/>
                </a:moveTo>
                <a:lnTo>
                  <a:pt x="309716" y="943897"/>
                </a:lnTo>
                <a:lnTo>
                  <a:pt x="943897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1821" dur="indefinite" restart="never" nodeType="tmRoot">
          <p:childTnLst>
            <p:seq>
              <p:cTn id="1822" dur="indefinite" nodeType="mainSeq">
                <p:childTnLst>
                  <p:par>
                    <p:cTn id="1823" nodeType="clickEffect" fill="hold">
                      <p:stCondLst>
                        <p:cond delay="indefinite"/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nodeType="clickEffect" fill="hold">
                      <p:stCondLst>
                        <p:cond delay="indefinite"/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นิพจน์บูลี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00200" y="874800"/>
            <a:ext cx="741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ป็นจำนวนคี่</a:t>
            </a:r>
            <a:br>
              <a:rPr sz="2800"/>
            </a:b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หลักสิบของ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ป็นเลข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ีค่าตั้งแต่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ึง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1198440" y="1398600"/>
            <a:ext cx="3152880" cy="49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% 2 == 1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1168560" y="4630680"/>
            <a:ext cx="4751280" cy="49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&lt;= a &amp;&amp; a &lt;= 100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1168560" y="2760840"/>
            <a:ext cx="4883040" cy="49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(int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/10)%10 == 7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6" name="Text Box 8"/>
          <p:cNvSpPr/>
          <p:nvPr/>
        </p:nvSpPr>
        <p:spPr>
          <a:xfrm>
            <a:off x="2305080" y="4087800"/>
            <a:ext cx="25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7" name="Text Box 8"/>
          <p:cNvSpPr/>
          <p:nvPr/>
        </p:nvSpPr>
        <p:spPr>
          <a:xfrm>
            <a:off x="1900080" y="5045040"/>
            <a:ext cx="348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 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แล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8" name="Rounded Rectangular Callout 11"/>
          <p:cNvSpPr/>
          <p:nvPr/>
        </p:nvSpPr>
        <p:spPr>
          <a:xfrm>
            <a:off x="3701880" y="5662440"/>
            <a:ext cx="3289320" cy="914400"/>
          </a:xfrm>
          <a:prstGeom prst="wedgeRoundRectCallout">
            <a:avLst>
              <a:gd name="adj1" fmla="val -58699"/>
              <a:gd name="adj2" fmla="val -48791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จะนำเสนอเรื่อง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แล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"  "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หรื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"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ในโอกาสต่อไป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9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9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9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นิพจน์บูลี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จุดสองจุดบนระนาบสองมิติห่างกันเกิ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วงกลมสองวงแตะหรือทับกั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โยนเหรียญแล้วได้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้อ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1123920" y="1471680"/>
            <a:ext cx="7886880" cy="49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1-x2)*(x1-x2)+(y1-y2)*(y1-y2) &gt; 100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1123920" y="3154320"/>
            <a:ext cx="6639120" cy="89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1-x2)*(x1-x2)+(y1-y2)*(y1-y2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(r1+r2)*(r1+r2)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1123920" y="4881600"/>
            <a:ext cx="4942080" cy="49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h.random() &lt; 0.5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54" name="Object 2"/>
          <p:cNvGraphicFramePr/>
          <p:nvPr/>
        </p:nvGraphicFramePr>
        <p:xfrm>
          <a:off x="2784600" y="2031840"/>
          <a:ext cx="3809880" cy="6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4600" y="2031840"/>
                    <a:ext cx="38098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6" name="Group 15"/>
          <p:cNvGrpSpPr/>
          <p:nvPr/>
        </p:nvGrpSpPr>
        <p:grpSpPr>
          <a:xfrm>
            <a:off x="6400800" y="3598920"/>
            <a:ext cx="1976400" cy="1062000"/>
            <a:chOff x="6400800" y="3598920"/>
            <a:chExt cx="1976400" cy="1062000"/>
          </a:xfrm>
        </p:grpSpPr>
        <p:sp>
          <p:nvSpPr>
            <p:cNvPr id="657" name="Oval 10"/>
            <p:cNvSpPr/>
            <p:nvPr/>
          </p:nvSpPr>
          <p:spPr>
            <a:xfrm>
              <a:off x="6400800" y="3967200"/>
              <a:ext cx="693720" cy="693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7404120" y="3598920"/>
              <a:ext cx="973080" cy="9730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6702480" y="4268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7845480" y="4041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1" name="Line 14"/>
            <p:cNvSpPr/>
            <p:nvPr/>
          </p:nvSpPr>
          <p:spPr>
            <a:xfrm flipV="1">
              <a:off x="6740640" y="4069800"/>
              <a:ext cx="114912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0" dur="indefinite" restart="never" nodeType="tmRoot">
          <p:childTnLst>
            <p:seq>
              <p:cTn id="1891" dur="indefinite" nodeType="mainSeq">
                <p:childTnLst>
                  <p:par>
                    <p:cTn id="1892" nodeType="clickEffect" fill="hold">
                      <p:stCondLst>
                        <p:cond delay="indefinite"/>
                      </p:stCondLst>
                      <p:childTnLst>
                        <p:par>
                          <p:cTn id="1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6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nodeType="clickEffect" fill="hold">
                      <p:stCondLst>
                        <p:cond delay="indefinite"/>
                      </p:stCondLst>
                      <p:childTnLst>
                        <p:par>
                          <p:cTn id="1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1" dur="50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nodeType="clickEffect" fill="hold">
                      <p:stCondLst>
                        <p:cond delay="indefinite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6" dur="5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nodeType="clickEffect" fill="hold">
                      <p:stCondLst>
                        <p:cond delay="indefinite"/>
                      </p:stCondLst>
                      <p:childTnLst>
                        <p:par>
                          <p:cTn id="1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ผังงา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Flowchart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85" name="Group 355"/>
          <p:cNvGrpSpPr/>
          <p:nvPr/>
        </p:nvGrpSpPr>
        <p:grpSpPr>
          <a:xfrm>
            <a:off x="2162520" y="1343160"/>
            <a:ext cx="1750680" cy="4520880"/>
            <a:chOff x="2162520" y="1343160"/>
            <a:chExt cx="1750680" cy="4520880"/>
          </a:xfrm>
        </p:grpSpPr>
        <p:sp>
          <p:nvSpPr>
            <p:cNvPr id="86" name="AutoShape 7"/>
            <p:cNvSpPr/>
            <p:nvPr/>
          </p:nvSpPr>
          <p:spPr>
            <a:xfrm>
              <a:off x="2819160" y="1343160"/>
              <a:ext cx="811440" cy="257040"/>
            </a:xfrm>
            <a:prstGeom prst="flowChartTerminator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87" name="Group 35"/>
            <p:cNvGrpSpPr/>
            <p:nvPr/>
          </p:nvGrpSpPr>
          <p:grpSpPr>
            <a:xfrm>
              <a:off x="2721600" y="2396880"/>
              <a:ext cx="1036440" cy="549360"/>
              <a:chOff x="2721600" y="2396880"/>
              <a:chExt cx="1036440" cy="549360"/>
            </a:xfrm>
          </p:grpSpPr>
          <p:cxnSp>
            <p:nvCxnSpPr>
              <p:cNvPr id="88" name="AutoShape 16"/>
              <p:cNvCxnSpPr/>
              <p:nvPr/>
            </p:nvCxnSpPr>
            <p:spPr>
              <a:xfrm>
                <a:off x="3244320" y="239688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89" name="AutoShape 22"/>
              <p:cNvSpPr/>
              <p:nvPr/>
            </p:nvSpPr>
            <p:spPr>
              <a:xfrm>
                <a:off x="2721600" y="2583000"/>
                <a:ext cx="1036440" cy="363240"/>
              </a:xfrm>
              <a:prstGeom prst="flowChartManualInpu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90" name="Group 34"/>
            <p:cNvGrpSpPr/>
            <p:nvPr/>
          </p:nvGrpSpPr>
          <p:grpSpPr>
            <a:xfrm>
              <a:off x="2671920" y="1599840"/>
              <a:ext cx="1102680" cy="844920"/>
              <a:chOff x="2671920" y="1599840"/>
              <a:chExt cx="1102680" cy="844920"/>
            </a:xfrm>
          </p:grpSpPr>
          <p:cxnSp>
            <p:nvCxnSpPr>
              <p:cNvPr id="91" name="AutoShape 15"/>
              <p:cNvCxnSpPr>
                <a:stCxn id="86" idx="2"/>
                <a:endCxn id="92" idx="0"/>
              </p:cNvCxnSpPr>
              <p:nvPr/>
            </p:nvCxnSpPr>
            <p:spPr>
              <a:xfrm flipH="1">
                <a:off x="3221640" y="1599840"/>
                <a:ext cx="15840" cy="415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92" name="AutoShape 23"/>
              <p:cNvSpPr/>
              <p:nvPr/>
            </p:nvSpPr>
            <p:spPr>
              <a:xfrm>
                <a:off x="2671920" y="2014560"/>
                <a:ext cx="1102680" cy="430200"/>
              </a:xfrm>
              <a:prstGeom prst="flowChartDisplay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18000" bIns="18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93" name="Group 38"/>
            <p:cNvGrpSpPr/>
            <p:nvPr/>
          </p:nvGrpSpPr>
          <p:grpSpPr>
            <a:xfrm>
              <a:off x="2597040" y="4135320"/>
              <a:ext cx="1316160" cy="888840"/>
              <a:chOff x="2597040" y="4135320"/>
              <a:chExt cx="1316160" cy="888840"/>
            </a:xfrm>
          </p:grpSpPr>
          <p:sp>
            <p:nvSpPr>
              <p:cNvPr id="94" name="AutoShape 11"/>
              <p:cNvSpPr/>
              <p:nvPr/>
            </p:nvSpPr>
            <p:spPr>
              <a:xfrm>
                <a:off x="2597040" y="4309920"/>
                <a:ext cx="1316160" cy="714240"/>
              </a:xfrm>
              <a:prstGeom prst="flowChartProcess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95" name="AutoShape 30"/>
              <p:cNvCxnSpPr/>
              <p:nvPr/>
            </p:nvCxnSpPr>
            <p:spPr>
              <a:xfrm>
                <a:off x="3248280" y="4135320"/>
                <a:ext cx="1080" cy="200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</p:grpSp>
        <p:grpSp>
          <p:nvGrpSpPr>
            <p:cNvPr id="96" name="Group 37"/>
            <p:cNvGrpSpPr/>
            <p:nvPr/>
          </p:nvGrpSpPr>
          <p:grpSpPr>
            <a:xfrm>
              <a:off x="2721600" y="3590640"/>
              <a:ext cx="1036440" cy="549360"/>
              <a:chOff x="2721600" y="3590640"/>
              <a:chExt cx="1036440" cy="549360"/>
            </a:xfrm>
          </p:grpSpPr>
          <p:cxnSp>
            <p:nvCxnSpPr>
              <p:cNvPr id="97" name="AutoShape 29"/>
              <p:cNvCxnSpPr/>
              <p:nvPr/>
            </p:nvCxnSpPr>
            <p:spPr>
              <a:xfrm>
                <a:off x="3244320" y="359064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98" name="AutoShape 31"/>
              <p:cNvSpPr/>
              <p:nvPr/>
            </p:nvSpPr>
            <p:spPr>
              <a:xfrm>
                <a:off x="2721600" y="3776760"/>
                <a:ext cx="1036440" cy="363240"/>
              </a:xfrm>
              <a:prstGeom prst="flowChartManualInpu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99" name="Group 36"/>
            <p:cNvGrpSpPr/>
            <p:nvPr/>
          </p:nvGrpSpPr>
          <p:grpSpPr>
            <a:xfrm>
              <a:off x="2658240" y="2941560"/>
              <a:ext cx="1130400" cy="660240"/>
              <a:chOff x="2658240" y="2941560"/>
              <a:chExt cx="1130400" cy="660240"/>
            </a:xfrm>
          </p:grpSpPr>
          <p:cxnSp>
            <p:nvCxnSpPr>
              <p:cNvPr id="100" name="AutoShape 17"/>
              <p:cNvCxnSpPr/>
              <p:nvPr/>
            </p:nvCxnSpPr>
            <p:spPr>
              <a:xfrm>
                <a:off x="3235680" y="2941560"/>
                <a:ext cx="1080" cy="200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101" name="AutoShape 32"/>
              <p:cNvSpPr/>
              <p:nvPr/>
            </p:nvSpPr>
            <p:spPr>
              <a:xfrm>
                <a:off x="2658240" y="3125880"/>
                <a:ext cx="1130400" cy="475920"/>
              </a:xfrm>
              <a:prstGeom prst="flowChartDisplay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18000" bIns="18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02" name="Group 41"/>
            <p:cNvGrpSpPr/>
            <p:nvPr/>
          </p:nvGrpSpPr>
          <p:grpSpPr>
            <a:xfrm>
              <a:off x="2751840" y="5024880"/>
              <a:ext cx="944280" cy="610920"/>
              <a:chOff x="2751840" y="5024880"/>
              <a:chExt cx="944280" cy="610920"/>
            </a:xfrm>
          </p:grpSpPr>
          <p:cxnSp>
            <p:nvCxnSpPr>
              <p:cNvPr id="103" name="AutoShape 20"/>
              <p:cNvCxnSpPr/>
              <p:nvPr/>
            </p:nvCxnSpPr>
            <p:spPr>
              <a:xfrm>
                <a:off x="3258720" y="5024880"/>
                <a:ext cx="1080" cy="259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104" name="AutoShape 33"/>
              <p:cNvSpPr/>
              <p:nvPr/>
            </p:nvSpPr>
            <p:spPr>
              <a:xfrm>
                <a:off x="2751840" y="5281920"/>
                <a:ext cx="944280" cy="353880"/>
              </a:xfrm>
              <a:prstGeom prst="flowChartDisplay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cxnSp>
          <p:nvCxnSpPr>
            <p:cNvPr id="105" name="Elbow Connector 51"/>
            <p:cNvCxnSpPr/>
            <p:nvPr/>
          </p:nvCxnSpPr>
          <p:spPr>
            <a:xfrm flipV="1" rot="16200000">
              <a:off x="1412640" y="3823920"/>
              <a:ext cx="3621960" cy="1440"/>
            </a:xfrm>
            <a:prstGeom prst="bentConnector5">
              <a:avLst>
                <a:gd name="adj1" fmla="val -6312"/>
                <a:gd name="adj2" fmla="val 98300000"/>
                <a:gd name="adj3" fmla="val 106312"/>
              </a:avLst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</p:grpSp>
      <p:grpSp>
        <p:nvGrpSpPr>
          <p:cNvPr id="106" name="Group 356"/>
          <p:cNvGrpSpPr/>
          <p:nvPr/>
        </p:nvGrpSpPr>
        <p:grpSpPr>
          <a:xfrm>
            <a:off x="484200" y="1343160"/>
            <a:ext cx="1317600" cy="5019120"/>
            <a:chOff x="484200" y="1343160"/>
            <a:chExt cx="1317600" cy="5019120"/>
          </a:xfrm>
        </p:grpSpPr>
        <p:sp>
          <p:nvSpPr>
            <p:cNvPr id="107" name="AutoShape 7"/>
            <p:cNvSpPr/>
            <p:nvPr/>
          </p:nvSpPr>
          <p:spPr>
            <a:xfrm>
              <a:off x="706320" y="1343160"/>
              <a:ext cx="812880" cy="257040"/>
            </a:xfrm>
            <a:prstGeom prst="flowChartTerminator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08" name="Group 35"/>
            <p:cNvGrpSpPr/>
            <p:nvPr/>
          </p:nvGrpSpPr>
          <p:grpSpPr>
            <a:xfrm>
              <a:off x="608760" y="2396880"/>
              <a:ext cx="1037520" cy="549360"/>
              <a:chOff x="608760" y="2396880"/>
              <a:chExt cx="1037520" cy="549360"/>
            </a:xfrm>
          </p:grpSpPr>
          <p:cxnSp>
            <p:nvCxnSpPr>
              <p:cNvPr id="109" name="AutoShape 16"/>
              <p:cNvCxnSpPr/>
              <p:nvPr/>
            </p:nvCxnSpPr>
            <p:spPr>
              <a:xfrm>
                <a:off x="1132200" y="239688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110" name="AutoShape 22"/>
              <p:cNvSpPr/>
              <p:nvPr/>
            </p:nvSpPr>
            <p:spPr>
              <a:xfrm>
                <a:off x="608760" y="2583000"/>
                <a:ext cx="1037520" cy="363240"/>
              </a:xfrm>
              <a:prstGeom prst="flowChartManualInpu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11" name="Group 34"/>
            <p:cNvGrpSpPr/>
            <p:nvPr/>
          </p:nvGrpSpPr>
          <p:grpSpPr>
            <a:xfrm>
              <a:off x="559080" y="1600200"/>
              <a:ext cx="1103760" cy="843840"/>
              <a:chOff x="559080" y="1600200"/>
              <a:chExt cx="1103760" cy="843840"/>
            </a:xfrm>
          </p:grpSpPr>
          <p:cxnSp>
            <p:nvCxnSpPr>
              <p:cNvPr id="112" name="AutoShape 15"/>
              <p:cNvCxnSpPr>
                <a:stCxn id="107" idx="2"/>
                <a:endCxn id="113" idx="0"/>
              </p:cNvCxnSpPr>
              <p:nvPr/>
            </p:nvCxnSpPr>
            <p:spPr>
              <a:xfrm flipH="1">
                <a:off x="1109160" y="1600200"/>
                <a:ext cx="15840" cy="414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113" name="AutoShape 23"/>
              <p:cNvSpPr/>
              <p:nvPr/>
            </p:nvSpPr>
            <p:spPr>
              <a:xfrm>
                <a:off x="559080" y="2014200"/>
                <a:ext cx="1103760" cy="429840"/>
              </a:xfrm>
              <a:prstGeom prst="flowChartDisplay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18000" bIns="18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14" name="Group 38"/>
            <p:cNvGrpSpPr/>
            <p:nvPr/>
          </p:nvGrpSpPr>
          <p:grpSpPr>
            <a:xfrm>
              <a:off x="484200" y="4134960"/>
              <a:ext cx="1317600" cy="888840"/>
              <a:chOff x="484200" y="4134960"/>
              <a:chExt cx="1317600" cy="888840"/>
            </a:xfrm>
          </p:grpSpPr>
          <p:sp>
            <p:nvSpPr>
              <p:cNvPr id="115" name="AutoShape 11"/>
              <p:cNvSpPr/>
              <p:nvPr/>
            </p:nvSpPr>
            <p:spPr>
              <a:xfrm>
                <a:off x="484200" y="4309560"/>
                <a:ext cx="1317600" cy="714240"/>
              </a:xfrm>
              <a:prstGeom prst="flowChartProcess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116" name="AutoShape 30"/>
              <p:cNvCxnSpPr/>
              <p:nvPr/>
            </p:nvCxnSpPr>
            <p:spPr>
              <a:xfrm>
                <a:off x="1136160" y="4134960"/>
                <a:ext cx="1080" cy="200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</p:grpSp>
        <p:grpSp>
          <p:nvGrpSpPr>
            <p:cNvPr id="117" name="Group 37"/>
            <p:cNvGrpSpPr/>
            <p:nvPr/>
          </p:nvGrpSpPr>
          <p:grpSpPr>
            <a:xfrm>
              <a:off x="608760" y="3590640"/>
              <a:ext cx="1037520" cy="549360"/>
              <a:chOff x="608760" y="3590640"/>
              <a:chExt cx="1037520" cy="549360"/>
            </a:xfrm>
          </p:grpSpPr>
          <p:cxnSp>
            <p:nvCxnSpPr>
              <p:cNvPr id="118" name="AutoShape 29"/>
              <p:cNvCxnSpPr/>
              <p:nvPr/>
            </p:nvCxnSpPr>
            <p:spPr>
              <a:xfrm>
                <a:off x="1132200" y="359064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119" name="AutoShape 31"/>
              <p:cNvSpPr/>
              <p:nvPr/>
            </p:nvSpPr>
            <p:spPr>
              <a:xfrm>
                <a:off x="608760" y="3776760"/>
                <a:ext cx="1037520" cy="363240"/>
              </a:xfrm>
              <a:prstGeom prst="flowChartManualInpu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20" name="Group 36"/>
            <p:cNvGrpSpPr/>
            <p:nvPr/>
          </p:nvGrpSpPr>
          <p:grpSpPr>
            <a:xfrm>
              <a:off x="545400" y="2941200"/>
              <a:ext cx="1131480" cy="660240"/>
              <a:chOff x="545400" y="2941200"/>
              <a:chExt cx="1131480" cy="660240"/>
            </a:xfrm>
          </p:grpSpPr>
          <p:cxnSp>
            <p:nvCxnSpPr>
              <p:cNvPr id="121" name="AutoShape 17"/>
              <p:cNvCxnSpPr/>
              <p:nvPr/>
            </p:nvCxnSpPr>
            <p:spPr>
              <a:xfrm>
                <a:off x="1122120" y="2941200"/>
                <a:ext cx="1080" cy="200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122" name="AutoShape 32"/>
              <p:cNvSpPr/>
              <p:nvPr/>
            </p:nvSpPr>
            <p:spPr>
              <a:xfrm>
                <a:off x="545400" y="3125520"/>
                <a:ext cx="1131480" cy="475920"/>
              </a:xfrm>
              <a:prstGeom prst="flowChartDisplay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18000" bIns="18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23" name="Group 41"/>
            <p:cNvGrpSpPr/>
            <p:nvPr/>
          </p:nvGrpSpPr>
          <p:grpSpPr>
            <a:xfrm>
              <a:off x="639000" y="5024520"/>
              <a:ext cx="945360" cy="610920"/>
              <a:chOff x="639000" y="5024520"/>
              <a:chExt cx="945360" cy="610920"/>
            </a:xfrm>
          </p:grpSpPr>
          <p:cxnSp>
            <p:nvCxnSpPr>
              <p:cNvPr id="124" name="AutoShape 20"/>
              <p:cNvCxnSpPr/>
              <p:nvPr/>
            </p:nvCxnSpPr>
            <p:spPr>
              <a:xfrm>
                <a:off x="1146240" y="5024520"/>
                <a:ext cx="1080" cy="259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125" name="AutoShape 33"/>
              <p:cNvSpPr/>
              <p:nvPr/>
            </p:nvSpPr>
            <p:spPr>
              <a:xfrm>
                <a:off x="639000" y="5281560"/>
                <a:ext cx="945360" cy="353880"/>
              </a:xfrm>
              <a:prstGeom prst="flowChartDisplay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26" name="Group 40"/>
            <p:cNvGrpSpPr/>
            <p:nvPr/>
          </p:nvGrpSpPr>
          <p:grpSpPr>
            <a:xfrm>
              <a:off x="702000" y="5635800"/>
              <a:ext cx="813240" cy="726480"/>
              <a:chOff x="702000" y="5635800"/>
              <a:chExt cx="813240" cy="726480"/>
            </a:xfrm>
          </p:grpSpPr>
          <p:sp>
            <p:nvSpPr>
              <p:cNvPr id="127" name="AutoShape 14"/>
              <p:cNvSpPr/>
              <p:nvPr/>
            </p:nvSpPr>
            <p:spPr>
              <a:xfrm>
                <a:off x="702000" y="6105240"/>
                <a:ext cx="813240" cy="257040"/>
              </a:xfrm>
              <a:prstGeom prst="flowChartTerminator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stop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128" name="AutoShape 21"/>
              <p:cNvCxnSpPr>
                <a:stCxn id="125" idx="2"/>
                <a:endCxn id="127" idx="0"/>
              </p:cNvCxnSpPr>
              <p:nvPr/>
            </p:nvCxnSpPr>
            <p:spPr>
              <a:xfrm flipH="1">
                <a:off x="1107720" y="5635800"/>
                <a:ext cx="3960" cy="470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</p:grpSp>
      </p:grpSp>
      <p:grpSp>
        <p:nvGrpSpPr>
          <p:cNvPr id="129" name="Group 354"/>
          <p:cNvGrpSpPr/>
          <p:nvPr/>
        </p:nvGrpSpPr>
        <p:grpSpPr>
          <a:xfrm>
            <a:off x="4494240" y="1343160"/>
            <a:ext cx="1756440" cy="5295600"/>
            <a:chOff x="4494240" y="1343160"/>
            <a:chExt cx="1756440" cy="5295600"/>
          </a:xfrm>
        </p:grpSpPr>
        <p:sp>
          <p:nvSpPr>
            <p:cNvPr id="130" name="AutoShape 14"/>
            <p:cNvSpPr/>
            <p:nvPr/>
          </p:nvSpPr>
          <p:spPr>
            <a:xfrm>
              <a:off x="4930560" y="6381720"/>
              <a:ext cx="812880" cy="257040"/>
            </a:xfrm>
            <a:prstGeom prst="flowChartTerminator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op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1" name="AutoShape 7"/>
            <p:cNvSpPr/>
            <p:nvPr/>
          </p:nvSpPr>
          <p:spPr>
            <a:xfrm>
              <a:off x="4930560" y="1343160"/>
              <a:ext cx="812880" cy="257040"/>
            </a:xfrm>
            <a:prstGeom prst="flowChartTerminator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32" name="Group 35"/>
            <p:cNvGrpSpPr/>
            <p:nvPr/>
          </p:nvGrpSpPr>
          <p:grpSpPr>
            <a:xfrm>
              <a:off x="4848120" y="2396520"/>
              <a:ext cx="1037520" cy="549360"/>
              <a:chOff x="4848120" y="2396520"/>
              <a:chExt cx="1037520" cy="549360"/>
            </a:xfrm>
          </p:grpSpPr>
          <p:cxnSp>
            <p:nvCxnSpPr>
              <p:cNvPr id="133" name="AutoShape 16"/>
              <p:cNvCxnSpPr/>
              <p:nvPr/>
            </p:nvCxnSpPr>
            <p:spPr>
              <a:xfrm>
                <a:off x="5363280" y="23965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134" name="AutoShape 22"/>
              <p:cNvSpPr/>
              <p:nvPr/>
            </p:nvSpPr>
            <p:spPr>
              <a:xfrm>
                <a:off x="4848120" y="2582640"/>
                <a:ext cx="1037520" cy="363240"/>
              </a:xfrm>
              <a:prstGeom prst="flowChartManualInpu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35" name="Group 34"/>
            <p:cNvGrpSpPr/>
            <p:nvPr/>
          </p:nvGrpSpPr>
          <p:grpSpPr>
            <a:xfrm>
              <a:off x="4783320" y="1600200"/>
              <a:ext cx="1103400" cy="843840"/>
              <a:chOff x="4783320" y="1600200"/>
              <a:chExt cx="1103400" cy="843840"/>
            </a:xfrm>
          </p:grpSpPr>
          <p:cxnSp>
            <p:nvCxnSpPr>
              <p:cNvPr id="136" name="AutoShape 15"/>
              <p:cNvCxnSpPr>
                <a:stCxn id="131" idx="2"/>
                <a:endCxn id="137" idx="0"/>
              </p:cNvCxnSpPr>
              <p:nvPr/>
            </p:nvCxnSpPr>
            <p:spPr>
              <a:xfrm flipH="1">
                <a:off x="5334480" y="1600200"/>
                <a:ext cx="15840" cy="414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137" name="AutoShape 23"/>
              <p:cNvSpPr/>
              <p:nvPr/>
            </p:nvSpPr>
            <p:spPr>
              <a:xfrm>
                <a:off x="4783320" y="2014200"/>
                <a:ext cx="1103400" cy="429840"/>
              </a:xfrm>
              <a:prstGeom prst="flowChartDisplay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18000" bIns="18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38" name="Group 61"/>
            <p:cNvGrpSpPr/>
            <p:nvPr/>
          </p:nvGrpSpPr>
          <p:grpSpPr>
            <a:xfrm>
              <a:off x="4708440" y="3950280"/>
              <a:ext cx="1317240" cy="1072800"/>
              <a:chOff x="4708440" y="3950280"/>
              <a:chExt cx="1317240" cy="1072800"/>
            </a:xfrm>
          </p:grpSpPr>
          <p:sp>
            <p:nvSpPr>
              <p:cNvPr id="139" name="AutoShape 11"/>
              <p:cNvSpPr/>
              <p:nvPr/>
            </p:nvSpPr>
            <p:spPr>
              <a:xfrm>
                <a:off x="4708440" y="4308840"/>
                <a:ext cx="1317240" cy="714240"/>
              </a:xfrm>
              <a:prstGeom prst="flowChartProcess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140" name="AutoShape 30"/>
              <p:cNvCxnSpPr>
                <a:stCxn id="141" idx="2"/>
                <a:endCxn id="139" idx="0"/>
              </p:cNvCxnSpPr>
              <p:nvPr/>
            </p:nvCxnSpPr>
            <p:spPr>
              <a:xfrm flipH="1">
                <a:off x="5365800" y="3950280"/>
                <a:ext cx="1080" cy="358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</p:grpSp>
        <p:grpSp>
          <p:nvGrpSpPr>
            <p:cNvPr id="142" name="Group 41"/>
            <p:cNvGrpSpPr/>
            <p:nvPr/>
          </p:nvGrpSpPr>
          <p:grpSpPr>
            <a:xfrm>
              <a:off x="4863240" y="5023440"/>
              <a:ext cx="945000" cy="610920"/>
              <a:chOff x="4863240" y="5023440"/>
              <a:chExt cx="945000" cy="610920"/>
            </a:xfrm>
          </p:grpSpPr>
          <p:cxnSp>
            <p:nvCxnSpPr>
              <p:cNvPr id="143" name="AutoShape 20"/>
              <p:cNvCxnSpPr/>
              <p:nvPr/>
            </p:nvCxnSpPr>
            <p:spPr>
              <a:xfrm>
                <a:off x="5366160" y="5023440"/>
                <a:ext cx="1080" cy="26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144" name="AutoShape 33"/>
              <p:cNvSpPr/>
              <p:nvPr/>
            </p:nvSpPr>
            <p:spPr>
              <a:xfrm>
                <a:off x="4863240" y="5284080"/>
                <a:ext cx="945000" cy="350280"/>
              </a:xfrm>
              <a:prstGeom prst="flowChartDisplay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cxnSp>
          <p:nvCxnSpPr>
            <p:cNvPr id="145" name="Elbow Connector 51"/>
            <p:cNvCxnSpPr>
              <a:endCxn id="141" idx="0"/>
            </p:cNvCxnSpPr>
            <p:nvPr/>
          </p:nvCxnSpPr>
          <p:spPr>
            <a:xfrm flipH="1" flipV="1" rot="5400000">
              <a:off x="4257000" y="4524840"/>
              <a:ext cx="2188800" cy="31680"/>
            </a:xfrm>
            <a:prstGeom prst="bentConnector5">
              <a:avLst>
                <a:gd name="adj1" fmla="val -10429"/>
                <a:gd name="adj2" fmla="val -2687356"/>
                <a:gd name="adj3" fmla="val 110429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141" name="AutoShape 16"/>
            <p:cNvSpPr/>
            <p:nvPr/>
          </p:nvSpPr>
          <p:spPr>
            <a:xfrm>
              <a:off x="4851360" y="3446280"/>
              <a:ext cx="1032120" cy="502920"/>
            </a:xfrm>
            <a:prstGeom prst="flowChartDecision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46" name="Straight Arrow Connector 86"/>
            <p:cNvCxnSpPr>
              <a:endCxn id="141" idx="0"/>
            </p:cNvCxnSpPr>
            <p:nvPr/>
          </p:nvCxnSpPr>
          <p:spPr>
            <a:xfrm flipH="1">
              <a:off x="5365800" y="2946960"/>
              <a:ext cx="2160" cy="501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47" name="Shape 92"/>
            <p:cNvCxnSpPr>
              <a:stCxn id="141" idx="3"/>
              <a:endCxn id="130" idx="0"/>
            </p:cNvCxnSpPr>
            <p:nvPr/>
          </p:nvCxnSpPr>
          <p:spPr>
            <a:xfrm flipH="1">
              <a:off x="5337000" y="3697920"/>
              <a:ext cx="546480" cy="2683800"/>
            </a:xfrm>
            <a:prstGeom prst="bentConnector4">
              <a:avLst>
                <a:gd name="adj1" fmla="val -67303"/>
                <a:gd name="adj2" fmla="val 88234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148" name="TextBox 346"/>
            <p:cNvSpPr/>
            <p:nvPr/>
          </p:nvSpPr>
          <p:spPr>
            <a:xfrm>
              <a:off x="5728320" y="3299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9" name="TextBox 347"/>
            <p:cNvSpPr/>
            <p:nvPr/>
          </p:nvSpPr>
          <p:spPr>
            <a:xfrm>
              <a:off x="5409360" y="3867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50" name="Group 353"/>
          <p:cNvGrpSpPr/>
          <p:nvPr/>
        </p:nvGrpSpPr>
        <p:grpSpPr>
          <a:xfrm>
            <a:off x="6719760" y="1343160"/>
            <a:ext cx="2105280" cy="5309640"/>
            <a:chOff x="6719760" y="1343160"/>
            <a:chExt cx="2105280" cy="5309640"/>
          </a:xfrm>
        </p:grpSpPr>
        <p:sp>
          <p:nvSpPr>
            <p:cNvPr id="151" name="AutoShape 7"/>
            <p:cNvSpPr/>
            <p:nvPr/>
          </p:nvSpPr>
          <p:spPr>
            <a:xfrm>
              <a:off x="7313400" y="1343160"/>
              <a:ext cx="812880" cy="257040"/>
            </a:xfrm>
            <a:prstGeom prst="flowChartTerminator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52" name="Group 35"/>
            <p:cNvGrpSpPr/>
            <p:nvPr/>
          </p:nvGrpSpPr>
          <p:grpSpPr>
            <a:xfrm>
              <a:off x="7201440" y="2396520"/>
              <a:ext cx="1036080" cy="549360"/>
              <a:chOff x="7201440" y="2396520"/>
              <a:chExt cx="1036080" cy="549360"/>
            </a:xfrm>
          </p:grpSpPr>
          <p:cxnSp>
            <p:nvCxnSpPr>
              <p:cNvPr id="153" name="AutoShape 16"/>
              <p:cNvCxnSpPr/>
              <p:nvPr/>
            </p:nvCxnSpPr>
            <p:spPr>
              <a:xfrm>
                <a:off x="7724160" y="23965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154" name="AutoShape 22"/>
              <p:cNvSpPr/>
              <p:nvPr/>
            </p:nvSpPr>
            <p:spPr>
              <a:xfrm>
                <a:off x="7201440" y="2582640"/>
                <a:ext cx="1036080" cy="363240"/>
              </a:xfrm>
              <a:prstGeom prst="flowChartManualInpu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55" name="Group 34"/>
            <p:cNvGrpSpPr/>
            <p:nvPr/>
          </p:nvGrpSpPr>
          <p:grpSpPr>
            <a:xfrm>
              <a:off x="7168680" y="1600200"/>
              <a:ext cx="1102320" cy="843840"/>
              <a:chOff x="7168680" y="1600200"/>
              <a:chExt cx="1102320" cy="843840"/>
            </a:xfrm>
          </p:grpSpPr>
          <p:cxnSp>
            <p:nvCxnSpPr>
              <p:cNvPr id="156" name="AutoShape 15"/>
              <p:cNvCxnSpPr>
                <a:stCxn id="151" idx="2"/>
                <a:endCxn id="157" idx="0"/>
              </p:cNvCxnSpPr>
              <p:nvPr/>
            </p:nvCxnSpPr>
            <p:spPr>
              <a:xfrm flipH="1">
                <a:off x="7718400" y="1600200"/>
                <a:ext cx="1440" cy="414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157" name="AutoShape 23"/>
              <p:cNvSpPr/>
              <p:nvPr/>
            </p:nvSpPr>
            <p:spPr>
              <a:xfrm>
                <a:off x="7168680" y="2014200"/>
                <a:ext cx="1102320" cy="429840"/>
              </a:xfrm>
              <a:prstGeom prst="flowChartDisplay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18000" bIns="18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158" name="AutoShape 33"/>
            <p:cNvSpPr/>
            <p:nvPr/>
          </p:nvSpPr>
          <p:spPr>
            <a:xfrm>
              <a:off x="7248240" y="5683320"/>
              <a:ext cx="943200" cy="353880"/>
            </a:xfrm>
            <a:prstGeom prst="flowChartDisplay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9" name="AutoShape 16"/>
            <p:cNvSpPr/>
            <p:nvPr/>
          </p:nvSpPr>
          <p:spPr>
            <a:xfrm>
              <a:off x="7203960" y="3197160"/>
              <a:ext cx="1032120" cy="502920"/>
            </a:xfrm>
            <a:prstGeom prst="flowChartDecision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60" name="Straight Arrow Connector 117"/>
            <p:cNvCxnSpPr>
              <a:stCxn id="154" idx="2"/>
              <a:endCxn id="159" idx="0"/>
            </p:cNvCxnSpPr>
            <p:nvPr/>
          </p:nvCxnSpPr>
          <p:spPr>
            <a:xfrm flipH="1">
              <a:off x="7718760" y="2946600"/>
              <a:ext cx="2160" cy="25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1" name="AutoShape 11"/>
            <p:cNvSpPr/>
            <p:nvPr/>
          </p:nvSpPr>
          <p:spPr>
            <a:xfrm>
              <a:off x="8118720" y="3659040"/>
              <a:ext cx="706320" cy="318960"/>
            </a:xfrm>
            <a:prstGeom prst="flowChartProcess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62" name="Shape 127"/>
            <p:cNvCxnSpPr>
              <a:stCxn id="159" idx="3"/>
              <a:endCxn id="161" idx="0"/>
            </p:cNvCxnSpPr>
            <p:nvPr/>
          </p:nvCxnSpPr>
          <p:spPr>
            <a:xfrm>
              <a:off x="8235000" y="3448800"/>
              <a:ext cx="237240" cy="20988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grpSp>
          <p:nvGrpSpPr>
            <p:cNvPr id="163" name="Group 40"/>
            <p:cNvGrpSpPr/>
            <p:nvPr/>
          </p:nvGrpSpPr>
          <p:grpSpPr>
            <a:xfrm>
              <a:off x="7313400" y="6037200"/>
              <a:ext cx="812520" cy="615600"/>
              <a:chOff x="7313400" y="6037200"/>
              <a:chExt cx="812520" cy="615600"/>
            </a:xfrm>
          </p:grpSpPr>
          <p:sp>
            <p:nvSpPr>
              <p:cNvPr id="164" name="AutoShape 14"/>
              <p:cNvSpPr/>
              <p:nvPr/>
            </p:nvSpPr>
            <p:spPr>
              <a:xfrm>
                <a:off x="7313400" y="6395760"/>
                <a:ext cx="812520" cy="257040"/>
              </a:xfrm>
              <a:prstGeom prst="flowChartTerminator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stop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165" name="AutoShape 21"/>
              <p:cNvCxnSpPr>
                <a:stCxn id="158" idx="2"/>
                <a:endCxn id="164" idx="0"/>
              </p:cNvCxnSpPr>
              <p:nvPr/>
            </p:nvCxnSpPr>
            <p:spPr>
              <a:xfrm flipH="1">
                <a:off x="7718760" y="6037200"/>
                <a:ext cx="1080" cy="358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</p:grpSp>
        <p:sp>
          <p:nvSpPr>
            <p:cNvPr id="166" name="AutoShape 16"/>
            <p:cNvSpPr/>
            <p:nvPr/>
          </p:nvSpPr>
          <p:spPr>
            <a:xfrm>
              <a:off x="7203960" y="4486320"/>
              <a:ext cx="1032120" cy="502920"/>
            </a:xfrm>
            <a:prstGeom prst="flowChartDecision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7" name="AutoShape 11"/>
            <p:cNvSpPr/>
            <p:nvPr/>
          </p:nvSpPr>
          <p:spPr>
            <a:xfrm>
              <a:off x="7994880" y="5031000"/>
              <a:ext cx="704880" cy="318960"/>
            </a:xfrm>
            <a:prstGeom prst="flowChartProcess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8" name="AutoShape 11"/>
            <p:cNvSpPr/>
            <p:nvPr/>
          </p:nvSpPr>
          <p:spPr>
            <a:xfrm>
              <a:off x="6719760" y="5016600"/>
              <a:ext cx="706320" cy="318960"/>
            </a:xfrm>
            <a:prstGeom prst="flowChartProcess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69" name="Shape 265"/>
            <p:cNvCxnSpPr>
              <a:stCxn id="166" idx="3"/>
              <a:endCxn id="167" idx="0"/>
            </p:cNvCxnSpPr>
            <p:nvPr/>
          </p:nvCxnSpPr>
          <p:spPr>
            <a:xfrm>
              <a:off x="8235000" y="4737600"/>
              <a:ext cx="112680" cy="29304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70" name="Shape 267"/>
            <p:cNvCxnSpPr>
              <a:stCxn id="166" idx="1"/>
              <a:endCxn id="168" idx="0"/>
            </p:cNvCxnSpPr>
            <p:nvPr/>
          </p:nvCxnSpPr>
          <p:spPr>
            <a:xfrm flipV="1" rot="10800000">
              <a:off x="7072200" y="4737240"/>
              <a:ext cx="132120" cy="2793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71" name="Elbow Connector 269"/>
            <p:cNvCxnSpPr>
              <a:stCxn id="168" idx="2"/>
              <a:endCxn id="158" idx="0"/>
            </p:cNvCxnSpPr>
            <p:nvPr/>
          </p:nvCxnSpPr>
          <p:spPr>
            <a:xfrm flipH="1" rot="16200000">
              <a:off x="7221960" y="5185800"/>
              <a:ext cx="347760" cy="647640"/>
            </a:xfrm>
            <a:prstGeom prst="bentConnector3">
              <a:avLst>
                <a:gd name="adj1" fmla="val 49948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72" name="Elbow Connector 273"/>
            <p:cNvCxnSpPr>
              <a:stCxn id="167" idx="2"/>
              <a:endCxn id="158" idx="0"/>
            </p:cNvCxnSpPr>
            <p:nvPr/>
          </p:nvCxnSpPr>
          <p:spPr>
            <a:xfrm rot="5400000">
              <a:off x="7866000" y="5202720"/>
              <a:ext cx="334080" cy="627840"/>
            </a:xfrm>
            <a:prstGeom prst="bentConnector3">
              <a:avLst>
                <a:gd name="adj1" fmla="val 49946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73" name="Straight Arrow Connector 343"/>
            <p:cNvCxnSpPr>
              <a:stCxn id="159" idx="2"/>
              <a:endCxn id="166" idx="0"/>
            </p:cNvCxnSpPr>
            <p:nvPr/>
          </p:nvCxnSpPr>
          <p:spPr>
            <a:xfrm flipH="1">
              <a:off x="7718760" y="3701520"/>
              <a:ext cx="2160" cy="78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Elbow Connector 345"/>
            <p:cNvCxnSpPr>
              <a:stCxn id="161" idx="2"/>
              <a:endCxn id="166" idx="0"/>
            </p:cNvCxnSpPr>
            <p:nvPr/>
          </p:nvCxnSpPr>
          <p:spPr>
            <a:xfrm rot="5400000">
              <a:off x="7841160" y="3855600"/>
              <a:ext cx="508320" cy="75276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175" name="TextBox 348"/>
            <p:cNvSpPr/>
            <p:nvPr/>
          </p:nvSpPr>
          <p:spPr>
            <a:xfrm>
              <a:off x="8153640" y="3133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6" name="TextBox 349"/>
            <p:cNvSpPr/>
            <p:nvPr/>
          </p:nvSpPr>
          <p:spPr>
            <a:xfrm>
              <a:off x="8195400" y="4407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7" name="TextBox 350"/>
            <p:cNvSpPr/>
            <p:nvPr/>
          </p:nvSpPr>
          <p:spPr>
            <a:xfrm>
              <a:off x="6906960" y="4421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8" name="TextBox 351"/>
            <p:cNvSpPr/>
            <p:nvPr/>
          </p:nvSpPr>
          <p:spPr>
            <a:xfrm>
              <a:off x="7377840" y="3659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79" name="TextBox 96"/>
          <p:cNvSpPr/>
          <p:nvPr/>
        </p:nvSpPr>
        <p:spPr>
          <a:xfrm>
            <a:off x="496080" y="797040"/>
            <a:ext cx="125352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แบบลำดับ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0" name="TextBox 97"/>
          <p:cNvSpPr/>
          <p:nvPr/>
        </p:nvSpPr>
        <p:spPr>
          <a:xfrm>
            <a:off x="2467080" y="797040"/>
            <a:ext cx="144108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วงวนไม่รู้จบ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1" name="TextBox 98"/>
          <p:cNvSpPr/>
          <p:nvPr/>
        </p:nvSpPr>
        <p:spPr>
          <a:xfrm>
            <a:off x="4965840" y="797040"/>
            <a:ext cx="75240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วงว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2" name="TextBox 99"/>
          <p:cNvSpPr/>
          <p:nvPr/>
        </p:nvSpPr>
        <p:spPr>
          <a:xfrm>
            <a:off x="7213320" y="797040"/>
            <a:ext cx="100512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เลือกทำ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ผังงา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บรรยายการทำงานหลั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84" name="Group 52"/>
          <p:cNvGrpSpPr/>
          <p:nvPr/>
        </p:nvGrpSpPr>
        <p:grpSpPr>
          <a:xfrm>
            <a:off x="1222200" y="1004760"/>
            <a:ext cx="2867040" cy="4770360"/>
            <a:chOff x="1222200" y="1004760"/>
            <a:chExt cx="2867040" cy="4770360"/>
          </a:xfrm>
        </p:grpSpPr>
        <p:sp>
          <p:nvSpPr>
            <p:cNvPr id="185" name="AutoShape 4"/>
            <p:cNvSpPr/>
            <p:nvPr/>
          </p:nvSpPr>
          <p:spPr>
            <a:xfrm>
              <a:off x="2219400" y="1004760"/>
              <a:ext cx="812880" cy="257040"/>
            </a:xfrm>
            <a:prstGeom prst="flowChartTerminator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6" name="AutoShape 6"/>
            <p:cNvSpPr/>
            <p:nvPr/>
          </p:nvSpPr>
          <p:spPr>
            <a:xfrm>
              <a:off x="2233440" y="5517720"/>
              <a:ext cx="812880" cy="257400"/>
            </a:xfrm>
            <a:prstGeom prst="flowChartTerminator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op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87" name="AutoShape 7"/>
            <p:cNvCxnSpPr>
              <a:endCxn id="186" idx="0"/>
            </p:cNvCxnSpPr>
            <p:nvPr/>
          </p:nvCxnSpPr>
          <p:spPr>
            <a:xfrm flipH="1">
              <a:off x="2639160" y="5195160"/>
              <a:ext cx="2520" cy="32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188" name="AutoShape 9"/>
            <p:cNvCxnSpPr/>
            <p:nvPr/>
          </p:nvCxnSpPr>
          <p:spPr>
            <a:xfrm>
              <a:off x="2641320" y="205848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89" name="AutoShape 10"/>
            <p:cNvSpPr/>
            <p:nvPr/>
          </p:nvSpPr>
          <p:spPr>
            <a:xfrm>
              <a:off x="2122560" y="2244600"/>
              <a:ext cx="1036440" cy="363240"/>
            </a:xfrm>
            <a:prstGeom prst="flowChartManualInpu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eigh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90" name="AutoShape 12"/>
            <p:cNvCxnSpPr>
              <a:stCxn id="185" idx="2"/>
              <a:endCxn id="191" idx="0"/>
            </p:cNvCxnSpPr>
            <p:nvPr/>
          </p:nvCxnSpPr>
          <p:spPr>
            <a:xfrm flipH="1">
              <a:off x="2623320" y="1261440"/>
              <a:ext cx="25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91" name="AutoShape 13"/>
            <p:cNvSpPr/>
            <p:nvPr/>
          </p:nvSpPr>
          <p:spPr>
            <a:xfrm>
              <a:off x="1879560" y="1676160"/>
              <a:ext cx="1488960" cy="430200"/>
            </a:xfrm>
            <a:prstGeom prst="flowChartDisplay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้ำหนัก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2" name="AutoShape 15"/>
            <p:cNvSpPr/>
            <p:nvPr/>
          </p:nvSpPr>
          <p:spPr>
            <a:xfrm>
              <a:off x="1222200" y="3971520"/>
              <a:ext cx="2867040" cy="714600"/>
            </a:xfrm>
            <a:prstGeom prst="flowChartProcess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hm = height/10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bmi = weight/(hm*hm)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93" name="AutoShape 16"/>
            <p:cNvCxnSpPr/>
            <p:nvPr/>
          </p:nvCxnSpPr>
          <p:spPr>
            <a:xfrm>
              <a:off x="2641320" y="3796920"/>
              <a:ext cx="1080" cy="20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194" name="AutoShape 18"/>
            <p:cNvCxnSpPr/>
            <p:nvPr/>
          </p:nvCxnSpPr>
          <p:spPr>
            <a:xfrm>
              <a:off x="2641320" y="325224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95" name="AutoShape 19"/>
            <p:cNvSpPr/>
            <p:nvPr/>
          </p:nvSpPr>
          <p:spPr>
            <a:xfrm>
              <a:off x="2122560" y="3438360"/>
              <a:ext cx="1036440" cy="363240"/>
            </a:xfrm>
            <a:prstGeom prst="flowChartManualInpu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heigh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96" name="AutoShape 21"/>
            <p:cNvCxnSpPr/>
            <p:nvPr/>
          </p:nvCxnSpPr>
          <p:spPr>
            <a:xfrm>
              <a:off x="2641320" y="2603160"/>
              <a:ext cx="1080" cy="20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97" name="AutoShape 22"/>
            <p:cNvSpPr/>
            <p:nvPr/>
          </p:nvSpPr>
          <p:spPr>
            <a:xfrm>
              <a:off x="1833480" y="2787480"/>
              <a:ext cx="1581120" cy="476280"/>
            </a:xfrm>
            <a:prstGeom prst="flowChartDisplay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ความสู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 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98" name="AutoShape 24"/>
            <p:cNvCxnSpPr/>
            <p:nvPr/>
          </p:nvCxnSpPr>
          <p:spPr>
            <a:xfrm>
              <a:off x="2655360" y="4686120"/>
              <a:ext cx="1080" cy="259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99" name="AutoShape 25"/>
            <p:cNvSpPr/>
            <p:nvPr/>
          </p:nvSpPr>
          <p:spPr>
            <a:xfrm>
              <a:off x="2152800" y="4943160"/>
              <a:ext cx="944280" cy="353880"/>
            </a:xfrm>
            <a:prstGeom prst="flowChartDisplay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bmi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00" name="Group 41"/>
          <p:cNvGrpSpPr/>
          <p:nvPr/>
        </p:nvGrpSpPr>
        <p:grpSpPr>
          <a:xfrm>
            <a:off x="4727520" y="983880"/>
            <a:ext cx="3814920" cy="4807080"/>
            <a:chOff x="4727520" y="983880"/>
            <a:chExt cx="3814920" cy="4807080"/>
          </a:xfrm>
        </p:grpSpPr>
        <p:grpSp>
          <p:nvGrpSpPr>
            <p:cNvPr id="201" name="Group 57"/>
            <p:cNvGrpSpPr/>
            <p:nvPr/>
          </p:nvGrpSpPr>
          <p:grpSpPr>
            <a:xfrm>
              <a:off x="5754600" y="5211720"/>
              <a:ext cx="812880" cy="579240"/>
              <a:chOff x="5754600" y="5211720"/>
              <a:chExt cx="812880" cy="579240"/>
            </a:xfrm>
          </p:grpSpPr>
          <p:sp>
            <p:nvSpPr>
              <p:cNvPr id="202" name="AutoShape 28"/>
              <p:cNvSpPr/>
              <p:nvPr/>
            </p:nvSpPr>
            <p:spPr>
              <a:xfrm>
                <a:off x="5754600" y="5534280"/>
                <a:ext cx="812880" cy="256680"/>
              </a:xfrm>
              <a:prstGeom prst="flowChartTermina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stop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203" name="AutoShape 29"/>
              <p:cNvCxnSpPr>
                <a:endCxn id="202" idx="0"/>
              </p:cNvCxnSpPr>
              <p:nvPr/>
            </p:nvCxnSpPr>
            <p:spPr>
              <a:xfrm flipH="1">
                <a:off x="6160320" y="5211720"/>
                <a:ext cx="2520" cy="322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</p:grpSp>
        <p:grpSp>
          <p:nvGrpSpPr>
            <p:cNvPr id="204" name="Group 53"/>
            <p:cNvGrpSpPr/>
            <p:nvPr/>
          </p:nvGrpSpPr>
          <p:grpSpPr>
            <a:xfrm>
              <a:off x="5384520" y="983880"/>
              <a:ext cx="1552320" cy="1319040"/>
              <a:chOff x="5384520" y="983880"/>
              <a:chExt cx="1552320" cy="1319040"/>
            </a:xfrm>
          </p:grpSpPr>
          <p:cxnSp>
            <p:nvCxnSpPr>
              <p:cNvPr id="205" name="AutoShape 34"/>
              <p:cNvCxnSpPr>
                <a:stCxn id="206" idx="2"/>
                <a:endCxn id="207" idx="0"/>
              </p:cNvCxnSpPr>
              <p:nvPr/>
            </p:nvCxnSpPr>
            <p:spPr>
              <a:xfrm flipH="1">
                <a:off x="6159960" y="983880"/>
                <a:ext cx="252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207" name="AutoShape 32"/>
              <p:cNvSpPr/>
              <p:nvPr/>
            </p:nvSpPr>
            <p:spPr>
              <a:xfrm>
                <a:off x="5384520" y="1574640"/>
                <a:ext cx="1552320" cy="728280"/>
              </a:xfrm>
              <a:prstGeom prst="flowChartManualInpu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weight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(kg.)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208" name="Group 55"/>
            <p:cNvGrpSpPr/>
            <p:nvPr/>
          </p:nvGrpSpPr>
          <p:grpSpPr>
            <a:xfrm>
              <a:off x="4727520" y="3268440"/>
              <a:ext cx="2867040" cy="1251360"/>
              <a:chOff x="4727520" y="3268440"/>
              <a:chExt cx="2867040" cy="1251360"/>
            </a:xfrm>
          </p:grpSpPr>
          <p:sp>
            <p:nvSpPr>
              <p:cNvPr id="209" name="AutoShape 37"/>
              <p:cNvSpPr/>
              <p:nvPr/>
            </p:nvSpPr>
            <p:spPr>
              <a:xfrm>
                <a:off x="4727520" y="3576600"/>
                <a:ext cx="2867040" cy="94320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hm = height/100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bmi = weight/(hm*hm)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210" name="AutoShape 40"/>
              <p:cNvCxnSpPr>
                <a:endCxn id="209" idx="0"/>
              </p:cNvCxnSpPr>
              <p:nvPr/>
            </p:nvCxnSpPr>
            <p:spPr>
              <a:xfrm>
                <a:off x="6160680" y="3268440"/>
                <a:ext cx="1080" cy="308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</p:grpSp>
        <p:grpSp>
          <p:nvGrpSpPr>
            <p:cNvPr id="211" name="Group 56"/>
            <p:cNvGrpSpPr/>
            <p:nvPr/>
          </p:nvGrpSpPr>
          <p:grpSpPr>
            <a:xfrm>
              <a:off x="5427360" y="4511880"/>
              <a:ext cx="1463760" cy="811080"/>
              <a:chOff x="5427360" y="4511880"/>
              <a:chExt cx="1463760" cy="811080"/>
            </a:xfrm>
          </p:grpSpPr>
          <p:cxnSp>
            <p:nvCxnSpPr>
              <p:cNvPr id="212" name="AutoShape 46"/>
              <p:cNvCxnSpPr/>
              <p:nvPr/>
            </p:nvCxnSpPr>
            <p:spPr>
              <a:xfrm>
                <a:off x="6160320" y="4511880"/>
                <a:ext cx="1080" cy="259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213" name="AutoShape 47"/>
              <p:cNvSpPr/>
              <p:nvPr/>
            </p:nvSpPr>
            <p:spPr>
              <a:xfrm>
                <a:off x="5427360" y="4789440"/>
                <a:ext cx="1463760" cy="533520"/>
              </a:xfrm>
              <a:prstGeom prst="flowChartDisp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bmi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214" name="Group 54"/>
            <p:cNvGrpSpPr/>
            <p:nvPr/>
          </p:nvGrpSpPr>
          <p:grpSpPr>
            <a:xfrm>
              <a:off x="5384520" y="2302920"/>
              <a:ext cx="1552320" cy="930600"/>
              <a:chOff x="5384520" y="2302920"/>
              <a:chExt cx="1552320" cy="930600"/>
            </a:xfrm>
          </p:grpSpPr>
          <p:sp>
            <p:nvSpPr>
              <p:cNvPr id="215" name="AutoShape 48"/>
              <p:cNvSpPr/>
              <p:nvPr/>
            </p:nvSpPr>
            <p:spPr>
              <a:xfrm>
                <a:off x="5384520" y="2504880"/>
                <a:ext cx="1552320" cy="728640"/>
              </a:xfrm>
              <a:prstGeom prst="flowChartManualInpu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height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(cm.)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216" name="AutoShape 49"/>
              <p:cNvCxnSpPr>
                <a:stCxn id="207" idx="2"/>
                <a:endCxn id="215" idx="0"/>
              </p:cNvCxnSpPr>
              <p:nvPr/>
            </p:nvCxnSpPr>
            <p:spPr>
              <a:xfrm flipH="1">
                <a:off x="6159960" y="2302920"/>
                <a:ext cx="2520" cy="275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</p:grpSp>
        <p:sp>
          <p:nvSpPr>
            <p:cNvPr id="217" name="Text Box 50"/>
            <p:cNvSpPr/>
            <p:nvPr/>
          </p:nvSpPr>
          <p:spPr>
            <a:xfrm>
              <a:off x="6935760" y="1569960"/>
              <a:ext cx="160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รับข้อมูลจากแป้นพิมพ์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8" name="Text Box 51"/>
            <p:cNvSpPr/>
            <p:nvPr/>
          </p:nvSpPr>
          <p:spPr>
            <a:xfrm>
              <a:off x="6905520" y="4724640"/>
              <a:ext cx="160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แสดงผลทางจอภาพ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6" name="AutoShape 26"/>
            <p:cNvSpPr/>
            <p:nvPr/>
          </p:nvSpPr>
          <p:spPr>
            <a:xfrm>
              <a:off x="5754600" y="1020600"/>
              <a:ext cx="812880" cy="25704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งวนไม่รู้จ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while(true) { ... }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2714760" y="1071720"/>
            <a:ext cx="3744720" cy="176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Tahoma"/>
              </a:rPr>
              <a:t>whi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(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Tahoma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คำสั่ง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คำสั่ง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คำสั่ง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3030480" y="1474920"/>
            <a:ext cx="219240" cy="309600"/>
          </a:xfrm>
          <a:prstGeom prst="rightArrow">
            <a:avLst>
              <a:gd name="adj1" fmla="val 50000"/>
              <a:gd name="adj2" fmla="val 344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3030480" y="1814400"/>
            <a:ext cx="219240" cy="309600"/>
          </a:xfrm>
          <a:prstGeom prst="rightArrow">
            <a:avLst>
              <a:gd name="adj1" fmla="val 50000"/>
              <a:gd name="adj2" fmla="val 344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3030480" y="2155680"/>
            <a:ext cx="219240" cy="309600"/>
          </a:xfrm>
          <a:prstGeom prst="rightArrow">
            <a:avLst>
              <a:gd name="adj1" fmla="val 50000"/>
              <a:gd name="adj2" fmla="val 344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357200" y="3214800"/>
            <a:ext cx="664380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ahoma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k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ahoma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"k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+ k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k = k + 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25" name="Straight Arrow Connector 10"/>
          <p:cNvCxnSpPr/>
          <p:nvPr/>
        </p:nvCxnSpPr>
        <p:spPr>
          <a:xfrm flipH="1">
            <a:off x="3284280" y="1500120"/>
            <a:ext cx="2160" cy="9295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lg" type="arrow" w="lg"/>
          </a:ln>
        </p:spPr>
      </p:cxnSp>
      <p:sp>
        <p:nvSpPr>
          <p:cNvPr id="226" name="Arc 11"/>
          <p:cNvSpPr/>
          <p:nvPr/>
        </p:nvSpPr>
        <p:spPr>
          <a:xfrm rot="16200000">
            <a:off x="2821680" y="1605240"/>
            <a:ext cx="928440" cy="714240"/>
          </a:xfrm>
          <a:custGeom>
            <a:avLst/>
            <a:gdLst/>
            <a:ahLst/>
            <a:rect l="l" t="t" r="r" b="b"/>
            <a:pathLst>
              <a:path stroke="0" w="928688" h="714375">
                <a:moveTo>
                  <a:pt x="2228" y="322236"/>
                </a:moveTo>
                <a:cubicBezTo>
                  <a:pt x="24519" y="147839"/>
                  <a:pt x="207988" y="11637"/>
                  <a:pt x="435352" y="696"/>
                </a:cubicBezTo>
                <a:cubicBezTo>
                  <a:pt x="648393" y="-9556"/>
                  <a:pt x="843078" y="93239"/>
                  <a:pt x="907225" y="249848"/>
                </a:cubicBezTo>
                <a:lnTo>
                  <a:pt x="464344" y="357188"/>
                </a:lnTo>
                <a:lnTo>
                  <a:pt x="2228" y="322236"/>
                </a:lnTo>
                <a:close/>
              </a:path>
              <a:path fill="none" w="928688" h="714375">
                <a:moveTo>
                  <a:pt x="2228" y="322236"/>
                </a:moveTo>
                <a:cubicBezTo>
                  <a:pt x="24519" y="147839"/>
                  <a:pt x="207988" y="11637"/>
                  <a:pt x="435352" y="696"/>
                </a:cubicBezTo>
                <a:cubicBezTo>
                  <a:pt x="648393" y="-9556"/>
                  <a:pt x="843078" y="93239"/>
                  <a:pt x="907225" y="249848"/>
                </a:cubicBezTo>
              </a:path>
            </a:pathLst>
          </a:custGeom>
          <a:noFill/>
          <a:ln w="28440">
            <a:solidFill>
              <a:srgbClr val="c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27" name="Group 12"/>
          <p:cNvGrpSpPr/>
          <p:nvPr/>
        </p:nvGrpSpPr>
        <p:grpSpPr>
          <a:xfrm>
            <a:off x="500040" y="1066680"/>
            <a:ext cx="1301760" cy="1338480"/>
            <a:chOff x="500040" y="1066680"/>
            <a:chExt cx="1301760" cy="1338480"/>
          </a:xfrm>
        </p:grpSpPr>
        <p:sp>
          <p:nvSpPr>
            <p:cNvPr id="228" name="AutoShape 11"/>
            <p:cNvSpPr/>
            <p:nvPr/>
          </p:nvSpPr>
          <p:spPr>
            <a:xfrm>
              <a:off x="824040" y="1662120"/>
              <a:ext cx="977760" cy="513000"/>
            </a:xfrm>
            <a:prstGeom prst="flowChartProcess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29" name="Straight Arrow Connector 54"/>
            <p:cNvCxnSpPr>
              <a:endCxn id="228" idx="0"/>
            </p:cNvCxnSpPr>
            <p:nvPr/>
          </p:nvCxnSpPr>
          <p:spPr>
            <a:xfrm flipH="1">
              <a:off x="1312560" y="1066680"/>
              <a:ext cx="3600" cy="596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30" name="Shape 56"/>
            <p:cNvCxnSpPr>
              <a:stCxn id="228" idx="2"/>
              <a:endCxn id="228" idx="0"/>
            </p:cNvCxnSpPr>
            <p:nvPr/>
          </p:nvCxnSpPr>
          <p:spPr>
            <a:xfrm flipV="1" rot="16200000">
              <a:off x="1054440" y="1917720"/>
              <a:ext cx="515160" cy="2160"/>
            </a:xfrm>
            <a:prstGeom prst="bentConnector5">
              <a:avLst>
                <a:gd name="adj1" fmla="val -44475"/>
                <a:gd name="adj2" fmla="val 45160000"/>
                <a:gd name="adj3" fmla="val 144475"/>
              </a:avLst>
            </a:prstGeom>
            <a:ln w="9360">
              <a:solidFill>
                <a:srgbClr val="000000"/>
              </a:solidFill>
              <a:round/>
              <a:tailEnd len="lg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ดัชนีมวลกาย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00040" y="1071720"/>
            <a:ext cx="8224920" cy="512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dyMassIndex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kb =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Tahoma"/>
                <a:cs typeface="Tahoma"/>
              </a:rPr>
              <a:t>น้ำหนัก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(kg.)</a:t>
            </a:r>
            <a:r>
              <a:rPr b="1" lang="en-US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 = "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ight = kb.nextDouble(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Tahoma"/>
                <a:cs typeface="Tahoma"/>
              </a:rPr>
              <a:t>ความสูง</a:t>
            </a:r>
            <a:r>
              <a:rPr b="0" lang="en-US" sz="2000" spc="-1" strike="noStrike">
                <a:solidFill>
                  <a:srgbClr val="ff00ff"/>
                </a:solidFill>
                <a:latin typeface="Tahoma"/>
                <a:ea typeface="Tahoma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(cm.)</a:t>
            </a:r>
            <a:r>
              <a:rPr b="1" lang="en-US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 = "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= kb.nextDouble(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hm = height / 100.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bmi = weight / (hm * hm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Tahoma"/>
                <a:cs typeface="Tahoma"/>
              </a:rPr>
              <a:t>ดัชนีมวลกาย 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= 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bmi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3" name="Arc 6"/>
          <p:cNvSpPr/>
          <p:nvPr/>
        </p:nvSpPr>
        <p:spPr>
          <a:xfrm rot="5400000">
            <a:off x="7536240" y="2179080"/>
            <a:ext cx="500040" cy="571320"/>
          </a:xfrm>
          <a:custGeom>
            <a:avLst/>
            <a:gdLst/>
            <a:ahLst/>
            <a:rect l="l" t="t" r="r" b="b"/>
            <a:pathLst>
              <a:path stroke="0" w="500062" h="571500">
                <a:moveTo>
                  <a:pt x="29080" y="419499"/>
                </a:moveTo>
                <a:cubicBezTo>
                  <a:pt x="-22552" y="308093"/>
                  <a:pt x="-4201" y="171181"/>
                  <a:pt x="74242" y="82547"/>
                </a:cubicBezTo>
                <a:cubicBezTo>
                  <a:pt x="169938" y="-25581"/>
                  <a:pt x="323351" y="-27753"/>
                  <a:pt x="421361" y="77632"/>
                </a:cubicBezTo>
                <a:cubicBezTo>
                  <a:pt x="501838" y="164164"/>
                  <a:pt x="523072" y="300807"/>
                  <a:pt x="473589" y="413718"/>
                </a:cubicBezTo>
                <a:lnTo>
                  <a:pt x="250031" y="285750"/>
                </a:lnTo>
                <a:lnTo>
                  <a:pt x="29080" y="419499"/>
                </a:lnTo>
                <a:close/>
              </a:path>
              <a:path fill="none" w="500062" h="571500">
                <a:moveTo>
                  <a:pt x="29080" y="419499"/>
                </a:moveTo>
                <a:cubicBezTo>
                  <a:pt x="-22552" y="308093"/>
                  <a:pt x="-4201" y="171181"/>
                  <a:pt x="74242" y="82547"/>
                </a:cubicBezTo>
                <a:cubicBezTo>
                  <a:pt x="169938" y="-25581"/>
                  <a:pt x="323351" y="-27753"/>
                  <a:pt x="421361" y="77632"/>
                </a:cubicBezTo>
                <a:cubicBezTo>
                  <a:pt x="501838" y="164164"/>
                  <a:pt x="523072" y="300807"/>
                  <a:pt x="473589" y="413718"/>
                </a:cubicBezTo>
              </a:path>
            </a:pathLst>
          </a:custGeom>
          <a:noFill/>
          <a:ln w="38160">
            <a:solidFill>
              <a:srgbClr val="c000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000080" y="2071800"/>
            <a:ext cx="71438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kb =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1211400" y="2714760"/>
            <a:ext cx="2880" cy="2176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6" name="Freeform 11"/>
          <p:cNvSpPr/>
          <p:nvPr/>
        </p:nvSpPr>
        <p:spPr>
          <a:xfrm>
            <a:off x="714240" y="2500200"/>
            <a:ext cx="497160" cy="2710080"/>
          </a:xfrm>
          <a:custGeom>
            <a:avLst/>
            <a:gdLst>
              <a:gd name="textAreaLeft" fmla="*/ 0 w 497160"/>
              <a:gd name="textAreaRight" fmla="*/ 497520 w 497160"/>
              <a:gd name="textAreaTop" fmla="*/ 0 h 2710080"/>
              <a:gd name="textAreaBottom" fmla="*/ 2710440 h 2710080"/>
            </a:gdLst>
            <a:ahLst/>
            <a:rect l="textAreaLeft" t="textAreaTop" r="textAreaRight" b="textAreaBottom"/>
            <a:pathLst>
              <a:path w="366" h="776">
                <a:moveTo>
                  <a:pt x="366" y="621"/>
                </a:moveTo>
                <a:cubicBezTo>
                  <a:pt x="363" y="653"/>
                  <a:pt x="361" y="685"/>
                  <a:pt x="340" y="711"/>
                </a:cubicBezTo>
                <a:cubicBezTo>
                  <a:pt x="319" y="737"/>
                  <a:pt x="280" y="776"/>
                  <a:pt x="237" y="776"/>
                </a:cubicBezTo>
                <a:cubicBezTo>
                  <a:pt x="194" y="776"/>
                  <a:pt x="117" y="748"/>
                  <a:pt x="83" y="711"/>
                </a:cubicBezTo>
                <a:cubicBezTo>
                  <a:pt x="49" y="674"/>
                  <a:pt x="43" y="649"/>
                  <a:pt x="32" y="557"/>
                </a:cubicBezTo>
                <a:cubicBezTo>
                  <a:pt x="21" y="465"/>
                  <a:pt x="0" y="249"/>
                  <a:pt x="19" y="159"/>
                </a:cubicBezTo>
                <a:cubicBezTo>
                  <a:pt x="38" y="69"/>
                  <a:pt x="102" y="34"/>
                  <a:pt x="147" y="17"/>
                </a:cubicBezTo>
                <a:cubicBezTo>
                  <a:pt x="192" y="0"/>
                  <a:pt x="240" y="28"/>
                  <a:pt x="289" y="56"/>
                </a:cubicBezTo>
              </a:path>
            </a:pathLst>
          </a:custGeom>
          <a:noFill/>
          <a:ln w="28440">
            <a:solidFill>
              <a:srgbClr val="c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5805720" y="5365800"/>
            <a:ext cx="2751840" cy="703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ทำงานในวงวนไม่รู้จบ</a:t>
            </a:r>
            <a:br>
              <a:rPr sz="2000"/>
            </a:b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ผู้ใช้ต้องหยุดโปรแกรมเอง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238" name="Object 2"/>
          <p:cNvGraphicFramePr/>
          <p:nvPr/>
        </p:nvGraphicFramePr>
        <p:xfrm>
          <a:off x="2928960" y="5222880"/>
          <a:ext cx="2320920" cy="8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8960" y="5222880"/>
                    <a:ext cx="23209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กระโดดออกจากวงว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2525760" y="1397160"/>
            <a:ext cx="4232160" cy="244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while ( true 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0" lang="th-TH" sz="2200" spc="-1" strike="noStrike">
                <a:solidFill>
                  <a:srgbClr val="000000"/>
                </a:solidFill>
                <a:latin typeface="Courier New"/>
                <a:cs typeface="Tahoma"/>
              </a:rPr>
              <a:t>คำสั่ง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if (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cs typeface="Tahoma"/>
              </a:rPr>
              <a:t>เงื่อนไข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) break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0" lang="th-TH" sz="2200" spc="-1" strike="noStrike">
                <a:solidFill>
                  <a:srgbClr val="000000"/>
                </a:solidFill>
                <a:latin typeface="Courier New"/>
                <a:cs typeface="Tahoma"/>
              </a:rPr>
              <a:t>คำสั่ง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0" lang="th-TH" sz="2200" spc="-1" strike="noStrike">
                <a:solidFill>
                  <a:srgbClr val="000000"/>
                </a:solidFill>
                <a:latin typeface="Courier New"/>
                <a:cs typeface="Tahoma"/>
              </a:rPr>
              <a:t>คำสั่ง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2" name="AutoShape 19"/>
          <p:cNvSpPr/>
          <p:nvPr/>
        </p:nvSpPr>
        <p:spPr>
          <a:xfrm>
            <a:off x="2567160" y="1738440"/>
            <a:ext cx="218880" cy="433440"/>
          </a:xfrm>
          <a:prstGeom prst="rightArrow">
            <a:avLst>
              <a:gd name="adj1" fmla="val 50000"/>
              <a:gd name="adj2" fmla="val 344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3" name="AutoShape 20"/>
          <p:cNvSpPr/>
          <p:nvPr/>
        </p:nvSpPr>
        <p:spPr>
          <a:xfrm>
            <a:off x="2567160" y="2077920"/>
            <a:ext cx="218880" cy="433440"/>
          </a:xfrm>
          <a:prstGeom prst="rightArrow">
            <a:avLst>
              <a:gd name="adj1" fmla="val 50000"/>
              <a:gd name="adj2" fmla="val 344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4" name="AutoShape 21"/>
          <p:cNvSpPr/>
          <p:nvPr/>
        </p:nvSpPr>
        <p:spPr>
          <a:xfrm>
            <a:off x="2567160" y="2419200"/>
            <a:ext cx="218880" cy="433440"/>
          </a:xfrm>
          <a:prstGeom prst="rightArrow">
            <a:avLst>
              <a:gd name="adj1" fmla="val 50000"/>
              <a:gd name="adj2" fmla="val 344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5" name="Text Box 22"/>
          <p:cNvSpPr/>
          <p:nvPr/>
        </p:nvSpPr>
        <p:spPr>
          <a:xfrm>
            <a:off x="3646440" y="2043000"/>
            <a:ext cx="101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  <a:cs typeface="Tahoma"/>
              </a:rPr>
              <a:t>เท็จ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6" name="Text Box 23"/>
          <p:cNvSpPr/>
          <p:nvPr/>
        </p:nvSpPr>
        <p:spPr>
          <a:xfrm>
            <a:off x="3646440" y="2046240"/>
            <a:ext cx="101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ahoma"/>
                <a:cs typeface="Tahoma"/>
              </a:rPr>
              <a:t>จริง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7" name="Oval 24"/>
          <p:cNvSpPr/>
          <p:nvPr/>
        </p:nvSpPr>
        <p:spPr>
          <a:xfrm>
            <a:off x="4911840" y="1932120"/>
            <a:ext cx="1164960" cy="73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8" name="Freeform 25"/>
          <p:cNvSpPr/>
          <p:nvPr/>
        </p:nvSpPr>
        <p:spPr>
          <a:xfrm>
            <a:off x="2835360" y="2620800"/>
            <a:ext cx="2400120" cy="52560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18" h="324">
                <a:moveTo>
                  <a:pt x="1718" y="0"/>
                </a:moveTo>
                <a:cubicBezTo>
                  <a:pt x="1662" y="70"/>
                  <a:pt x="1606" y="141"/>
                  <a:pt x="1488" y="183"/>
                </a:cubicBezTo>
                <a:cubicBezTo>
                  <a:pt x="1370" y="225"/>
                  <a:pt x="1256" y="231"/>
                  <a:pt x="1008" y="250"/>
                </a:cubicBezTo>
                <a:cubicBezTo>
                  <a:pt x="760" y="269"/>
                  <a:pt x="144" y="324"/>
                  <a:pt x="0" y="29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9" name="AutoShape 26"/>
          <p:cNvSpPr/>
          <p:nvPr/>
        </p:nvSpPr>
        <p:spPr>
          <a:xfrm>
            <a:off x="2446200" y="3090960"/>
            <a:ext cx="219240" cy="433440"/>
          </a:xfrm>
          <a:prstGeom prst="rightArrow">
            <a:avLst>
              <a:gd name="adj1" fmla="val 50000"/>
              <a:gd name="adj2" fmla="val 344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1166760" y="4076640"/>
            <a:ext cx="723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บรรยายเงื่อนไขด้วย นิพจน์ตรรก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Boolean expression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ใช้การเปรียบเทียบในการกำหนดเงื่อนไข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ด้วยตัวเปรียบเทียบข้อมูล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&lt;    &gt;    &lt;=   &gt;=   !=   ==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2030400" y="5392800"/>
            <a:ext cx="5088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if (         ) break;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3340800" y="5394240"/>
            <a:ext cx="124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a &lt; b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3339360" y="5394240"/>
            <a:ext cx="124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a &gt; b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4" name="Text Box 32"/>
          <p:cNvSpPr/>
          <p:nvPr/>
        </p:nvSpPr>
        <p:spPr>
          <a:xfrm>
            <a:off x="3249360" y="5394240"/>
            <a:ext cx="14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a &lt;= b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5" name="Text Box 33"/>
          <p:cNvSpPr/>
          <p:nvPr/>
        </p:nvSpPr>
        <p:spPr>
          <a:xfrm>
            <a:off x="3249360" y="5394240"/>
            <a:ext cx="14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a &gt;= b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6" name="Text Box 34"/>
          <p:cNvSpPr/>
          <p:nvPr/>
        </p:nvSpPr>
        <p:spPr>
          <a:xfrm>
            <a:off x="3249360" y="5394240"/>
            <a:ext cx="14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a != b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3249360" y="5394240"/>
            <a:ext cx="14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a == b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8" name="Text Box 37"/>
          <p:cNvSpPr/>
          <p:nvPr/>
        </p:nvSpPr>
        <p:spPr>
          <a:xfrm>
            <a:off x="7273800" y="1730520"/>
            <a:ext cx="14608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a =&lt; b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a =&gt; b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a !&lt; b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a !&gt; b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59" name="Group 41"/>
          <p:cNvGrpSpPr/>
          <p:nvPr/>
        </p:nvGrpSpPr>
        <p:grpSpPr>
          <a:xfrm>
            <a:off x="7146720" y="1539720"/>
            <a:ext cx="1509840" cy="1905120"/>
            <a:chOff x="7146720" y="1539720"/>
            <a:chExt cx="1509840" cy="1905120"/>
          </a:xfrm>
        </p:grpSpPr>
        <p:sp>
          <p:nvSpPr>
            <p:cNvPr id="260" name="Line 39"/>
            <p:cNvSpPr/>
            <p:nvPr/>
          </p:nvSpPr>
          <p:spPr>
            <a:xfrm>
              <a:off x="7147080" y="1539720"/>
              <a:ext cx="1509480" cy="190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1" name="Line 40"/>
            <p:cNvSpPr/>
            <p:nvPr/>
          </p:nvSpPr>
          <p:spPr>
            <a:xfrm flipH="1">
              <a:off x="7146720" y="1539720"/>
              <a:ext cx="1509480" cy="190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62" name="Group 48"/>
          <p:cNvGrpSpPr/>
          <p:nvPr/>
        </p:nvGrpSpPr>
        <p:grpSpPr>
          <a:xfrm>
            <a:off x="429120" y="996480"/>
            <a:ext cx="1503000" cy="3091680"/>
            <a:chOff x="429120" y="996480"/>
            <a:chExt cx="1503000" cy="3091680"/>
          </a:xfrm>
        </p:grpSpPr>
        <p:sp>
          <p:nvSpPr>
            <p:cNvPr id="263" name="AutoShape 11"/>
            <p:cNvSpPr/>
            <p:nvPr/>
          </p:nvSpPr>
          <p:spPr>
            <a:xfrm>
              <a:off x="742680" y="1384200"/>
              <a:ext cx="771480" cy="360360"/>
            </a:xfrm>
            <a:prstGeom prst="flowChartProcess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4" name="AutoShape 16"/>
            <p:cNvSpPr/>
            <p:nvPr/>
          </p:nvSpPr>
          <p:spPr>
            <a:xfrm>
              <a:off x="612720" y="1976400"/>
              <a:ext cx="1030320" cy="503280"/>
            </a:xfrm>
            <a:prstGeom prst="flowChartDecision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5" name="AutoShape 11"/>
            <p:cNvSpPr/>
            <p:nvPr/>
          </p:nvSpPr>
          <p:spPr>
            <a:xfrm>
              <a:off x="739440" y="2673360"/>
              <a:ext cx="776520" cy="363240"/>
            </a:xfrm>
            <a:prstGeom prst="flowChartProcess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6" name="AutoShape 11"/>
            <p:cNvSpPr/>
            <p:nvPr/>
          </p:nvSpPr>
          <p:spPr>
            <a:xfrm>
              <a:off x="739440" y="3505320"/>
              <a:ext cx="776520" cy="363240"/>
            </a:xfrm>
            <a:prstGeom prst="flowChartProcess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67" name="Straight Arrow Connector 33"/>
            <p:cNvCxnSpPr>
              <a:stCxn id="263" idx="2"/>
              <a:endCxn id="264" idx="0"/>
            </p:cNvCxnSpPr>
            <p:nvPr/>
          </p:nvCxnSpPr>
          <p:spPr>
            <a:xfrm flipH="1">
              <a:off x="1126800" y="1746000"/>
              <a:ext cx="2160" cy="231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8" name="Straight Arrow Connector 35"/>
            <p:cNvCxnSpPr>
              <a:endCxn id="263" idx="0"/>
            </p:cNvCxnSpPr>
            <p:nvPr/>
          </p:nvCxnSpPr>
          <p:spPr>
            <a:xfrm>
              <a:off x="1122480" y="996480"/>
              <a:ext cx="5760" cy="387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9" name="Straight Arrow Connector 37"/>
            <p:cNvCxnSpPr>
              <a:stCxn id="264" idx="2"/>
              <a:endCxn id="265" idx="0"/>
            </p:cNvCxnSpPr>
            <p:nvPr/>
          </p:nvCxnSpPr>
          <p:spPr>
            <a:xfrm flipH="1">
              <a:off x="1126800" y="2480760"/>
              <a:ext cx="2160" cy="19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0" name="Straight Arrow Connector 39"/>
            <p:cNvCxnSpPr>
              <a:stCxn id="266" idx="2"/>
            </p:cNvCxnSpPr>
            <p:nvPr/>
          </p:nvCxnSpPr>
          <p:spPr>
            <a:xfrm flipH="1">
              <a:off x="1122120" y="3868920"/>
              <a:ext cx="5760" cy="21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1" name="Shape 41"/>
            <p:cNvCxnSpPr>
              <a:stCxn id="265" idx="2"/>
              <a:endCxn id="263" idx="0"/>
            </p:cNvCxnSpPr>
            <p:nvPr/>
          </p:nvCxnSpPr>
          <p:spPr>
            <a:xfrm flipV="1" rot="16200000">
              <a:off x="300960" y="2209680"/>
              <a:ext cx="1653840" cy="2160"/>
            </a:xfrm>
            <a:prstGeom prst="bentConnector5">
              <a:avLst>
                <a:gd name="adj1" fmla="val -13825"/>
                <a:gd name="adj2" fmla="val 38860000"/>
                <a:gd name="adj3" fmla="val 113825"/>
              </a:avLst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272" name="Shape 43"/>
            <p:cNvCxnSpPr>
              <a:stCxn id="264" idx="3"/>
              <a:endCxn id="266" idx="0"/>
            </p:cNvCxnSpPr>
            <p:nvPr/>
          </p:nvCxnSpPr>
          <p:spPr>
            <a:xfrm flipH="1">
              <a:off x="1127160" y="2227680"/>
              <a:ext cx="515880" cy="1277640"/>
            </a:xfrm>
            <a:prstGeom prst="bentConnector4">
              <a:avLst>
                <a:gd name="adj1" fmla="val -44343"/>
                <a:gd name="adj2" fmla="val 89177"/>
              </a:avLst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</p:cxnSp>
        <p:sp>
          <p:nvSpPr>
            <p:cNvPr id="273" name="TextBox 45"/>
            <p:cNvSpPr/>
            <p:nvPr/>
          </p:nvSpPr>
          <p:spPr>
            <a:xfrm>
              <a:off x="1599120" y="1883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  <a:ea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4" name="TextBox 46"/>
            <p:cNvSpPr/>
            <p:nvPr/>
          </p:nvSpPr>
          <p:spPr>
            <a:xfrm>
              <a:off x="1252800" y="2355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75" name="TextBox 36"/>
          <p:cNvSpPr/>
          <p:nvPr/>
        </p:nvSpPr>
        <p:spPr>
          <a:xfrm>
            <a:off x="1908360" y="6095880"/>
            <a:ext cx="503784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ผลการเปรียบเทียบจะได้ค่า </a:t>
            </a:r>
            <a:r>
              <a:rPr b="1" lang="en-US" sz="2000" spc="-1" strike="noStrike">
                <a:solidFill>
                  <a:srgbClr val="22228b"/>
                </a:solidFill>
                <a:latin typeface="Courier New"/>
                <a:ea typeface="Tahoma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หรือ </a:t>
            </a:r>
            <a:r>
              <a:rPr b="1" lang="en-US" sz="2000" spc="-1" strike="noStrike">
                <a:solidFill>
                  <a:srgbClr val="22228b"/>
                </a:solidFill>
                <a:latin typeface="Courier New"/>
                <a:ea typeface="Tahoma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ดัชนีมวลกาย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ลิกโปรแกรมเมื่อน้ำหนักเป็นลบ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500040" y="1071720"/>
            <a:ext cx="8224920" cy="545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dyMassIndex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kb =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Tahoma"/>
                <a:cs typeface="Tahoma"/>
              </a:rPr>
              <a:t>น้ำหนัก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(kg.)</a:t>
            </a:r>
            <a:r>
              <a:rPr b="1" lang="en-US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 = "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ight = kb.nextDouble(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Tahoma"/>
                <a:cs typeface="Tahoma"/>
              </a:rPr>
              <a:t>ความสูง</a:t>
            </a:r>
            <a:r>
              <a:rPr b="0" lang="en-US" sz="2000" spc="-1" strike="noStrike">
                <a:solidFill>
                  <a:srgbClr val="ff00ff"/>
                </a:solidFill>
                <a:latin typeface="Tahoma"/>
                <a:ea typeface="Tahoma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(cm.)</a:t>
            </a:r>
            <a:r>
              <a:rPr b="1" lang="en-US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 = "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= kb.nextDouble(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hm = height / 100.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bmi = weight / (hm * hm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Tahoma"/>
                <a:cs typeface="Tahoma"/>
              </a:rPr>
              <a:t>ดัชนีมวลกาย 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= 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bmi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525680" y="3427560"/>
            <a:ext cx="4057560" cy="429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(weight &lt; 0)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break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09:05:11Z</dcterms:created>
  <dc:creator>Somchai</dc:creator>
  <dc:description/>
  <dc:language>en-US</dc:language>
  <cp:lastModifiedBy>Somchai</cp:lastModifiedBy>
  <dcterms:modified xsi:type="dcterms:W3CDTF">2010-11-22T08:59:44Z</dcterms:modified>
  <cp:revision>210</cp:revision>
  <dc:subject/>
  <dc:title>การทำโปรแกรมคอมพิวเตอร์</dc:title>
</cp:coreProperties>
</file>