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F877-4907-4A7F-A018-FC61E3EED927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4E33-05F0-424B-9395-B796166E5B65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70B7F6CE-3CF9-4655-81DF-9548962156D8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C37C-5B30-4807-9DA7-645ADC30179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การประมวลผลข้อความ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ิการ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122560" y="1981080"/>
            <a:ext cx="502596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toLowerCase(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806400" y="2625840"/>
            <a:ext cx="75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คืนสตริงใหม่เหมือนเก่า</a:t>
            </a:r>
            <a:br>
              <a:rPr sz="2400"/>
            </a:b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แต่เปลี่ยนเป็นตัวอังกฤษ</a:t>
            </a:r>
            <a:r>
              <a:rPr b="0" lang="th-TH" sz="2400" spc="-1" strike="noStrike">
                <a:solidFill>
                  <a:srgbClr val="ff0000"/>
                </a:solidFill>
                <a:latin typeface="Courier New"/>
                <a:cs typeface="Tahoma"/>
              </a:rPr>
              <a:t>เล็ก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หมด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503360" y="3543480"/>
            <a:ext cx="62164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s = "HeLLo"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t = s.toLowerCase()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// t </a:t>
            </a:r>
            <a:r>
              <a:rPr b="0" lang="th-TH" sz="2800" spc="-1" strike="noStrike">
                <a:solidFill>
                  <a:srgbClr val="000066"/>
                </a:solidFill>
                <a:latin typeface="Courier New"/>
                <a:cs typeface="Tahoma"/>
              </a:rPr>
              <a:t>เก็บ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"hello",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// s </a:t>
            </a:r>
            <a:r>
              <a:rPr b="0" lang="th-TH" sz="2800" spc="-1" strike="noStrike">
                <a:solidFill>
                  <a:srgbClr val="000066"/>
                </a:solidFill>
                <a:latin typeface="Courier New"/>
                <a:cs typeface="Tahoma"/>
              </a:rPr>
              <a:t>ไม่เปลี่ย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ิการ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122560" y="1982880"/>
            <a:ext cx="502596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substring(i,j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809720" y="265428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คืนสตริงใหม่ซึ่งเป็นสตริงย่อย</a:t>
            </a:r>
            <a:br>
              <a:rPr sz="2400"/>
            </a:b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ตั้งแต่ตัวที่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ถึงตัวที่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j-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11120" y="3544920"/>
            <a:ext cx="660096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s = "hello"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t = s.substring(1,4)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// t </a:t>
            </a:r>
            <a:r>
              <a:rPr b="0" lang="th-TH" sz="2800" spc="-1" strike="noStrike">
                <a:solidFill>
                  <a:srgbClr val="000066"/>
                </a:solidFill>
                <a:latin typeface="Courier New"/>
                <a:cs typeface="Tahoma"/>
              </a:rPr>
              <a:t>เก็บ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"ell",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// s </a:t>
            </a:r>
            <a:r>
              <a:rPr b="0" lang="th-TH" sz="2800" spc="-1" strike="noStrike">
                <a:solidFill>
                  <a:srgbClr val="000066"/>
                </a:solidFill>
                <a:latin typeface="Courier New"/>
                <a:cs typeface="Tahoma"/>
              </a:rPr>
              <a:t>ไม่เปลี่ย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4057560" y="3571920"/>
            <a:ext cx="1335240" cy="788760"/>
            <a:chOff x="4057560" y="3571920"/>
            <a:chExt cx="1335240" cy="788760"/>
          </a:xfrm>
        </p:grpSpPr>
        <p:sp>
          <p:nvSpPr>
            <p:cNvPr id="150" name="Text Box 8"/>
            <p:cNvSpPr/>
            <p:nvPr/>
          </p:nvSpPr>
          <p:spPr>
            <a:xfrm>
              <a:off x="4057560" y="3840120"/>
              <a:ext cx="13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urier New"/>
                  <a:ea typeface="Tahoma"/>
                </a:rPr>
                <a:t>0123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1" name="Rectangle 9"/>
            <p:cNvSpPr/>
            <p:nvPr/>
          </p:nvSpPr>
          <p:spPr>
            <a:xfrm>
              <a:off x="4351320" y="3571920"/>
              <a:ext cx="635040" cy="71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ิการ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946160" y="1982880"/>
            <a:ext cx="5378400" cy="1068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Tahom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indexOf(</a:t>
            </a:r>
            <a:r>
              <a:rPr b="1" lang="th-TH" sz="32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Tahoma"/>
              </a:rPr>
              <a:t>2 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327320" y="279576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คืนดัชนีของสตริง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ที่มีข้อความเหมือนกับสตริง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708200" y="3544920"/>
            <a:ext cx="5807160" cy="1169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s = "hello hello"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int k = s.indexOf("el")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56" name="Group 13"/>
          <p:cNvGrpSpPr/>
          <p:nvPr/>
        </p:nvGrpSpPr>
        <p:grpSpPr>
          <a:xfrm>
            <a:off x="4457880" y="3543480"/>
            <a:ext cx="1334880" cy="817200"/>
            <a:chOff x="4457880" y="3543480"/>
            <a:chExt cx="1334880" cy="817200"/>
          </a:xfrm>
        </p:grpSpPr>
        <p:sp>
          <p:nvSpPr>
            <p:cNvPr id="157" name="Text Box 10"/>
            <p:cNvSpPr/>
            <p:nvPr/>
          </p:nvSpPr>
          <p:spPr>
            <a:xfrm>
              <a:off x="4457880" y="3840120"/>
              <a:ext cx="13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0</a:t>
              </a:r>
              <a:r>
                <a:rPr b="0" lang="en-US" sz="2800" spc="-1" strike="noStrike">
                  <a:solidFill>
                    <a:srgbClr val="ff0000"/>
                  </a:solidFill>
                  <a:latin typeface="Courier New"/>
                  <a:ea typeface="Tahoma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23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8" name="Text Box 12"/>
            <p:cNvSpPr/>
            <p:nvPr/>
          </p:nvSpPr>
          <p:spPr>
            <a:xfrm>
              <a:off x="4680000" y="3543480"/>
              <a:ext cx="62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urier New"/>
                  <a:ea typeface="Tahoma"/>
                </a:rPr>
                <a:t>el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ิการ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946160" y="1982880"/>
            <a:ext cx="53784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Tahom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equals(</a:t>
            </a:r>
            <a:r>
              <a:rPr b="1" lang="th-TH" sz="32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Tahoma"/>
              </a:rPr>
              <a:t>2 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809720" y="27957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คืน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true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ถ้าสตริง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1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เหมือนสตริง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17760" y="3544920"/>
            <a:ext cx="6188040" cy="1169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ans = kb.nextLine()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if (ans.equals("yes")) {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517760" y="5091120"/>
            <a:ext cx="61880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if (ans == "yes") {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3178080" y="4869000"/>
            <a:ext cx="1123920" cy="1001520"/>
            <a:chOff x="3178080" y="4869000"/>
            <a:chExt cx="1123920" cy="1001520"/>
          </a:xfrm>
        </p:grpSpPr>
        <p:sp>
          <p:nvSpPr>
            <p:cNvPr id="165" name="Straight Connector 7"/>
            <p:cNvSpPr/>
            <p:nvPr/>
          </p:nvSpPr>
          <p:spPr>
            <a:xfrm>
              <a:off x="3178080" y="4869000"/>
              <a:ext cx="1123920" cy="1001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6" name="Straight Connector 8"/>
            <p:cNvSpPr/>
            <p:nvPr/>
          </p:nvSpPr>
          <p:spPr>
            <a:xfrm flipH="1">
              <a:off x="3178080" y="4869000"/>
              <a:ext cx="1123920" cy="1001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67" name="Rounded Rectangular Callout 10"/>
          <p:cNvSpPr/>
          <p:nvPr/>
        </p:nvSpPr>
        <p:spPr>
          <a:xfrm>
            <a:off x="4791240" y="5718240"/>
            <a:ext cx="2279520" cy="772920"/>
          </a:xfrm>
          <a:prstGeom prst="wedgeRoundRectCallout">
            <a:avLst>
              <a:gd name="adj1" fmla="val -64550"/>
              <a:gd name="adj2" fmla="val -4926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ม่ใช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==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ับสตริงในภาษาจาว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ิการ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87320" y="1982880"/>
            <a:ext cx="769644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Tahom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equalsIgnoreCase(</a:t>
            </a:r>
            <a:r>
              <a:rPr b="1" lang="th-TH" sz="32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Tahoma"/>
              </a:rPr>
              <a:t>2 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09720" y="265428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คืน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true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ถ้าสตริง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1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เหมือนสตริง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ahoma"/>
              </a:rPr>
              <a:t>2</a:t>
            </a:r>
            <a:br>
              <a:rPr sz="2400"/>
            </a:b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แบบไม่สนใจตัวอังกฤษใหญ่เล็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25400" y="3544920"/>
            <a:ext cx="7772400" cy="1169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ans = kb.nextLine()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if (ans.equalsIgnoreCase("yes")) {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190600" y="4910040"/>
            <a:ext cx="463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yes, Yes, yEs, YEs,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yeS, YeS, yES, Y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รุปบริการ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09480" y="928800"/>
            <a:ext cx="7963200" cy="506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"12345".length()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  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" a bc  ".trim()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  "a bc"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"0123".substring(1,3)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  "12"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"abcbc".indexOf("bc")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  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"AbC2".toUpperCase()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  "ABC2"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"AbC2".toLowerCase()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  "abc2"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"AB".equals("Ab")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  fals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"AB".equalsIgnoreCase("Ab")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 tru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นับช่องว่างในสตริ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34880" y="928800"/>
            <a:ext cx="8286840" cy="524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ntBlank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สตริง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t = k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ount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k &lt; t.length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nn-NO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 = t.substring(k, k + 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c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) count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มีช่องว่าง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 count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098960" y="5610240"/>
            <a:ext cx="3962520" cy="1008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JLab&gt;java CountBlank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สตริ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=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ahoma"/>
              </a:rPr>
              <a:t>VA JA JA VA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มีช่องว่า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3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ตั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349280" y="4022640"/>
            <a:ext cx="7077240" cy="604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t.substring(k, k+1).equals(" ")) count++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2600" y="1000080"/>
            <a:ext cx="80312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หมาะกับวงวนที่ทำเป็นจำนวนครั้งตามที่กำหน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ตัวแปรเพิ่ม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ลด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ามวงว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71680" y="2093760"/>
            <a:ext cx="30780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&lt; n 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787920" y="2093760"/>
            <a:ext cx="46767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      ;      ;     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1374840" y="2128680"/>
            <a:ext cx="892080" cy="341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2022480" y="2422440"/>
            <a:ext cx="892080" cy="34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 n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1079640" y="3057480"/>
            <a:ext cx="556920" cy="34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++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4898880" y="2433600"/>
            <a:ext cx="892440" cy="341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6037200" y="2433600"/>
            <a:ext cx="892080" cy="34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 n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7145280" y="2433600"/>
            <a:ext cx="557280" cy="34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++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538200" y="3808440"/>
            <a:ext cx="30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ค่าขอ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ในวงวนคือ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, 1, ..., n-1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90" name="Group 25"/>
          <p:cNvGrpSpPr/>
          <p:nvPr/>
        </p:nvGrpSpPr>
        <p:grpSpPr>
          <a:xfrm>
            <a:off x="984240" y="4995720"/>
            <a:ext cx="7086600" cy="1008720"/>
            <a:chOff x="984240" y="4995720"/>
            <a:chExt cx="7086600" cy="1008720"/>
          </a:xfrm>
        </p:grpSpPr>
        <p:sp>
          <p:nvSpPr>
            <p:cNvPr id="191" name="Text Box 26"/>
            <p:cNvSpPr/>
            <p:nvPr/>
          </p:nvSpPr>
          <p:spPr>
            <a:xfrm>
              <a:off x="984240" y="4995720"/>
              <a:ext cx="70866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(               ;</a:t>
              </a:r>
              <a:r>
                <a:rPr b="1" i="1" lang="en-US" sz="2000" spc="-1" strike="noStrike">
                  <a:solidFill>
                    <a:srgbClr val="996633"/>
                  </a:solidFill>
                  <a:latin typeface="Courier New"/>
                </a:rPr>
                <a:t>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;      </a:t>
              </a:r>
              <a:r>
                <a:rPr b="1" i="1" lang="en-US" sz="2000" spc="-1" strike="noStrike">
                  <a:solidFill>
                    <a:srgbClr val="996633"/>
                  </a:solidFill>
                  <a:latin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) {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th-TH" sz="2000" spc="-1" strike="noStrike">
                  <a:solidFill>
                    <a:srgbClr val="996633"/>
                  </a:solidFill>
                  <a:latin typeface="Courier New"/>
                </a:rPr>
                <a:t>do thi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930320" y="5041800"/>
              <a:ext cx="213984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itialization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4346280" y="5041800"/>
              <a:ext cx="1457640" cy="341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6276960" y="5041800"/>
              <a:ext cx="1014120" cy="341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updat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95" name="Text Box 8"/>
          <p:cNvSpPr/>
          <p:nvPr/>
        </p:nvSpPr>
        <p:spPr>
          <a:xfrm>
            <a:off x="4270320" y="3281400"/>
            <a:ext cx="45007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=0; i&lt;n; i++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Rounded Rectangular Callout 8"/>
          <p:cNvSpPr/>
          <p:nvPr/>
        </p:nvSpPr>
        <p:spPr>
          <a:xfrm>
            <a:off x="6568920" y="3713040"/>
            <a:ext cx="1871640" cy="803520"/>
          </a:xfrm>
          <a:prstGeom prst="wedgeRoundRectCallout">
            <a:avLst>
              <a:gd name="adj1" fmla="val -73273"/>
              <a:gd name="adj2" fmla="val -56347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ใช้ตัวแป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ด้เฉพาะในวงว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4495320" y="2019240"/>
            <a:ext cx="1753200" cy="2667600"/>
            <a:chOff x="4495320" y="2019240"/>
            <a:chExt cx="1753200" cy="2667600"/>
          </a:xfrm>
        </p:grpSpPr>
        <p:sp>
          <p:nvSpPr>
            <p:cNvPr id="199" name="Text Box 7"/>
            <p:cNvSpPr/>
            <p:nvPr/>
          </p:nvSpPr>
          <p:spPr>
            <a:xfrm>
              <a:off x="5334120" y="2019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00" name="AutoShape 9"/>
            <p:cNvCxnSpPr>
              <a:stCxn id="201" idx="3"/>
            </p:cNvCxnSpPr>
            <p:nvPr/>
          </p:nvCxnSpPr>
          <p:spPr>
            <a:xfrm flipH="1">
              <a:off x="4495320" y="2400480"/>
              <a:ext cx="991440" cy="2286720"/>
            </a:xfrm>
            <a:prstGeom prst="bentConnector4">
              <a:avLst>
                <a:gd name="adj1" fmla="val -54631"/>
                <a:gd name="adj2" fmla="val 895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2" name="Group 19"/>
          <p:cNvGrpSpPr/>
          <p:nvPr/>
        </p:nvGrpSpPr>
        <p:grpSpPr>
          <a:xfrm>
            <a:off x="3505320" y="1790280"/>
            <a:ext cx="1981080" cy="914760"/>
            <a:chOff x="3505320" y="1790280"/>
            <a:chExt cx="1981080" cy="914760"/>
          </a:xfrm>
        </p:grpSpPr>
        <p:sp>
          <p:nvSpPr>
            <p:cNvPr id="201" name="AutoShape 6"/>
            <p:cNvSpPr/>
            <p:nvPr/>
          </p:nvSpPr>
          <p:spPr>
            <a:xfrm>
              <a:off x="3505320" y="2095560"/>
              <a:ext cx="1981080" cy="609480"/>
            </a:xfrm>
            <a:prstGeom prst="flowChartDecision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03" name="AutoShape 10"/>
            <p:cNvCxnSpPr>
              <a:stCxn id="204" idx="2"/>
              <a:endCxn id="201" idx="0"/>
            </p:cNvCxnSpPr>
            <p:nvPr/>
          </p:nvCxnSpPr>
          <p:spPr>
            <a:xfrm>
              <a:off x="4495320" y="179028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5" name="Group 22"/>
          <p:cNvGrpSpPr/>
          <p:nvPr/>
        </p:nvGrpSpPr>
        <p:grpSpPr>
          <a:xfrm>
            <a:off x="2297880" y="1938240"/>
            <a:ext cx="2198880" cy="2322720"/>
            <a:chOff x="2297880" y="1938240"/>
            <a:chExt cx="2198880" cy="2322720"/>
          </a:xfrm>
        </p:grpSpPr>
        <p:cxnSp>
          <p:nvCxnSpPr>
            <p:cNvPr id="206" name="AutoShape 12"/>
            <p:cNvCxnSpPr>
              <a:stCxn id="207" idx="2"/>
            </p:cNvCxnSpPr>
            <p:nvPr/>
          </p:nvCxnSpPr>
          <p:spPr>
            <a:xfrm flipH="1" flipV="1" rot="5400000">
              <a:off x="3809520" y="2779920"/>
              <a:ext cx="1372320" cy="2520"/>
            </a:xfrm>
            <a:prstGeom prst="bentConnector5">
              <a:avLst>
                <a:gd name="adj1" fmla="val -57858"/>
                <a:gd name="adj2" fmla="val -101700000"/>
                <a:gd name="adj3" fmla="val 1114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AutoShape 13"/>
            <p:cNvSpPr/>
            <p:nvPr/>
          </p:nvSpPr>
          <p:spPr>
            <a:xfrm>
              <a:off x="2819520" y="30099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9" name="Group 21"/>
          <p:cNvGrpSpPr/>
          <p:nvPr/>
        </p:nvGrpSpPr>
        <p:grpSpPr>
          <a:xfrm>
            <a:off x="3276720" y="2612880"/>
            <a:ext cx="2438280" cy="866160"/>
            <a:chOff x="3276720" y="2612880"/>
            <a:chExt cx="2438280" cy="866160"/>
          </a:xfrm>
        </p:grpSpPr>
        <p:sp>
          <p:nvSpPr>
            <p:cNvPr id="210" name="Text Box 8"/>
            <p:cNvSpPr/>
            <p:nvPr/>
          </p:nvSpPr>
          <p:spPr>
            <a:xfrm>
              <a:off x="4595760" y="26128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11" name="AutoShape 11"/>
            <p:cNvCxnSpPr>
              <a:stCxn id="201" idx="2"/>
              <a:endCxn id="207" idx="0"/>
            </p:cNvCxnSpPr>
            <p:nvPr/>
          </p:nvCxnSpPr>
          <p:spPr>
            <a:xfrm>
              <a:off x="4495320" y="2705040"/>
              <a:ext cx="1080" cy="3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" name="AutoShape 15"/>
            <p:cNvSpPr/>
            <p:nvPr/>
          </p:nvSpPr>
          <p:spPr>
            <a:xfrm>
              <a:off x="3276720" y="3080160"/>
              <a:ext cx="2438280" cy="398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996633"/>
                  </a:solidFill>
                  <a:latin typeface="Courier New"/>
                </a:rPr>
                <a:t>do this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12" name="Group 18"/>
          <p:cNvGrpSpPr/>
          <p:nvPr/>
        </p:nvGrpSpPr>
        <p:grpSpPr>
          <a:xfrm>
            <a:off x="3276720" y="1104840"/>
            <a:ext cx="2438280" cy="697680"/>
            <a:chOff x="3276720" y="1104840"/>
            <a:chExt cx="2438280" cy="697680"/>
          </a:xfrm>
        </p:grpSpPr>
        <p:sp>
          <p:nvSpPr>
            <p:cNvPr id="204" name="AutoShape 14"/>
            <p:cNvSpPr/>
            <p:nvPr/>
          </p:nvSpPr>
          <p:spPr>
            <a:xfrm>
              <a:off x="3276720" y="1403640"/>
              <a:ext cx="2438280" cy="398880"/>
            </a:xfrm>
            <a:prstGeom prst="flowChartProcess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00"/>
                  </a:solidFill>
                  <a:latin typeface="Courier New"/>
                </a:rPr>
                <a:t>initialization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13" name="AutoShape 17"/>
            <p:cNvCxnSpPr>
              <a:endCxn id="204" idx="0"/>
            </p:cNvCxnSpPr>
            <p:nvPr/>
          </p:nvCxnSpPr>
          <p:spPr>
            <a:xfrm>
              <a:off x="4495320" y="1104840"/>
              <a:ext cx="108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4" name="Group 23"/>
          <p:cNvGrpSpPr/>
          <p:nvPr/>
        </p:nvGrpSpPr>
        <p:grpSpPr>
          <a:xfrm>
            <a:off x="3276720" y="3466800"/>
            <a:ext cx="2438280" cy="617040"/>
            <a:chOff x="3276720" y="3466800"/>
            <a:chExt cx="2438280" cy="617040"/>
          </a:xfrm>
        </p:grpSpPr>
        <p:cxnSp>
          <p:nvCxnSpPr>
            <p:cNvPr id="215" name="AutoShape 16"/>
            <p:cNvCxnSpPr>
              <a:stCxn id="207" idx="2"/>
              <a:endCxn id="216" idx="0"/>
            </p:cNvCxnSpPr>
            <p:nvPr/>
          </p:nvCxnSpPr>
          <p:spPr>
            <a:xfrm>
              <a:off x="4495320" y="346680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AutoShape 5"/>
            <p:cNvSpPr/>
            <p:nvPr/>
          </p:nvSpPr>
          <p:spPr>
            <a:xfrm>
              <a:off x="3276720" y="3684960"/>
              <a:ext cx="2438280" cy="398880"/>
            </a:xfrm>
            <a:prstGeom prst="flowChart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00"/>
                  </a:solidFill>
                  <a:latin typeface="Courier New"/>
                </a:rPr>
                <a:t>update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990720" y="4889520"/>
            <a:ext cx="7086600" cy="1008720"/>
            <a:chOff x="990720" y="4889520"/>
            <a:chExt cx="7086600" cy="1008720"/>
          </a:xfrm>
        </p:grpSpPr>
        <p:sp>
          <p:nvSpPr>
            <p:cNvPr id="218" name="Text Box 3"/>
            <p:cNvSpPr/>
            <p:nvPr/>
          </p:nvSpPr>
          <p:spPr>
            <a:xfrm>
              <a:off x="990720" y="4889520"/>
              <a:ext cx="70866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(               ;</a:t>
              </a:r>
              <a:r>
                <a:rPr b="1" i="1" lang="en-US" sz="2000" spc="-1" strike="noStrike">
                  <a:solidFill>
                    <a:srgbClr val="996633"/>
                  </a:solidFill>
                  <a:latin typeface="Courier New"/>
                </a:rPr>
                <a:t>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;      </a:t>
              </a:r>
              <a:r>
                <a:rPr b="1" i="1" lang="en-US" sz="2000" spc="-1" strike="noStrike">
                  <a:solidFill>
                    <a:srgbClr val="996633"/>
                  </a:solidFill>
                  <a:latin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) {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th-TH" sz="2000" spc="-1" strike="noStrike">
                  <a:solidFill>
                    <a:srgbClr val="996633"/>
                  </a:solidFill>
                  <a:latin typeface="Courier New"/>
                </a:rPr>
                <a:t>do thi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9" name="Rectangle 25"/>
            <p:cNvSpPr/>
            <p:nvPr/>
          </p:nvSpPr>
          <p:spPr>
            <a:xfrm>
              <a:off x="1936800" y="4935600"/>
              <a:ext cx="213984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itialization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4352760" y="4935600"/>
              <a:ext cx="1457640" cy="341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6283440" y="4935600"/>
              <a:ext cx="1014120" cy="341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updat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714680" y="1000080"/>
            <a:ext cx="48574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10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i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714680" y="2333520"/>
            <a:ext cx="51433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0; i &gt;= 0; i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i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714680" y="3666960"/>
            <a:ext cx="58575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11; i = i +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i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714680" y="5000760"/>
            <a:ext cx="58575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11; i = i +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i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ข้ารหัสลั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ot1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4897440" y="1027080"/>
            <a:ext cx="3643200" cy="324072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V frr gerrf bs terra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erq ebfrf gbb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V frr rz oybbz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sbe zr naq sbe lbh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Naq V guvax gb zlfry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jung n jbaqreshy jbeyq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47640" y="1027080"/>
            <a:ext cx="3716280" cy="324072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I see trees of gree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red roses too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I see em bloom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for me and for you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And I think to myself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what a wonderful worl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4040280" y="2075040"/>
            <a:ext cx="855720" cy="630000"/>
          </a:xfrm>
          <a:prstGeom prst="rightArrow">
            <a:avLst>
              <a:gd name="adj1" fmla="val 50000"/>
              <a:gd name="adj2" fmla="val 40239"/>
            </a:avLst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0" y="2795760"/>
            <a:ext cx="1825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92" name="Object 2"/>
          <p:cNvGraphicFramePr/>
          <p:nvPr/>
        </p:nvGraphicFramePr>
        <p:xfrm>
          <a:off x="2449440" y="4811760"/>
          <a:ext cx="434808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4811760"/>
                    <a:ext cx="4348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Oval 20"/>
          <p:cNvSpPr/>
          <p:nvPr/>
        </p:nvSpPr>
        <p:spPr>
          <a:xfrm>
            <a:off x="5113440" y="4714920"/>
            <a:ext cx="315720" cy="157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47560" y="870120"/>
            <a:ext cx="471600" cy="73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4853160" y="871560"/>
            <a:ext cx="471240" cy="73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AutoShape 23"/>
          <p:cNvSpPr/>
          <p:nvPr/>
        </p:nvSpPr>
        <p:spPr>
          <a:xfrm flipH="1">
            <a:off x="4039560" y="2638440"/>
            <a:ext cx="855720" cy="630360"/>
          </a:xfrm>
          <a:prstGeom prst="rightArrow">
            <a:avLst>
              <a:gd name="adj1" fmla="val 50000"/>
              <a:gd name="adj2" fmla="val 40216"/>
            </a:avLst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ตริงที่รับมามี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"A"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ี่ตัว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34880" y="928800"/>
            <a:ext cx="8286840" cy="49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ntA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สตริง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t = k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ount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k &lt; t.length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t.substring(k, k+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A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) count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มี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A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 count + 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749600" y="5460840"/>
            <a:ext cx="3708360" cy="1008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JLab&gt;java CountA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สตริ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=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ahoma"/>
              </a:rPr>
              <a:t>JAVA Programming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มี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 2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ตั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0" name="Rounded Rectangular Callout 5"/>
          <p:cNvSpPr/>
          <p:nvPr/>
        </p:nvSpPr>
        <p:spPr>
          <a:xfrm>
            <a:off x="6429240" y="5457960"/>
            <a:ext cx="2448000" cy="815760"/>
          </a:xfrm>
          <a:prstGeom prst="wedgeRoundRectCallout">
            <a:avLst>
              <a:gd name="adj1" fmla="val -73120"/>
              <a:gd name="adj2" fmla="val -7039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ำอย่างไรจึงจะนับทั้ง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A"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a"  ?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1068480" y="3432240"/>
            <a:ext cx="3784680" cy="1519200"/>
          </a:xfrm>
          <a:custGeom>
            <a:avLst/>
            <a:gdLst>
              <a:gd name="textAreaLeft" fmla="*/ 0 w 3784680"/>
              <a:gd name="textAreaRight" fmla="*/ 3785040 w 378468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3784209" h="1519311">
                <a:moveTo>
                  <a:pt x="14067" y="0"/>
                </a:moveTo>
                <a:lnTo>
                  <a:pt x="3784209" y="0"/>
                </a:lnTo>
                <a:lnTo>
                  <a:pt x="3784209" y="618978"/>
                </a:lnTo>
                <a:lnTo>
                  <a:pt x="337624" y="618978"/>
                </a:lnTo>
                <a:lnTo>
                  <a:pt x="337624" y="914400"/>
                </a:lnTo>
                <a:lnTo>
                  <a:pt x="1012873" y="914400"/>
                </a:lnTo>
                <a:lnTo>
                  <a:pt x="1012873" y="1519311"/>
                </a:lnTo>
                <a:lnTo>
                  <a:pt x="0" y="1519311"/>
                </a:lnTo>
                <a:lnTo>
                  <a:pt x="14067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2" name="Group 10"/>
          <p:cNvGrpSpPr/>
          <p:nvPr/>
        </p:nvGrpSpPr>
        <p:grpSpPr>
          <a:xfrm>
            <a:off x="1039680" y="3390840"/>
            <a:ext cx="6316920" cy="1519200"/>
            <a:chOff x="1039680" y="3390840"/>
            <a:chExt cx="6316920" cy="1519200"/>
          </a:xfrm>
        </p:grpSpPr>
        <p:sp>
          <p:nvSpPr>
            <p:cNvPr id="233" name="Rectangle 5"/>
            <p:cNvSpPr/>
            <p:nvPr/>
          </p:nvSpPr>
          <p:spPr>
            <a:xfrm>
              <a:off x="1039680" y="3390840"/>
              <a:ext cx="6316920" cy="576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Microsoft Sans Serif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Microsoft Sans Serif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k = 0; k &lt; t.length(); k++) {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1039680" y="4333320"/>
              <a:ext cx="1829520" cy="576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r cod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มาตรฐา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AN-1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36" name="Object 2"/>
          <p:cNvGraphicFramePr/>
          <p:nvPr/>
        </p:nvGraphicFramePr>
        <p:xfrm>
          <a:off x="2786040" y="1928880"/>
          <a:ext cx="299736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1928880"/>
                    <a:ext cx="299736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85880" y="92844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าตรฐา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 cod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ประกอบด้วยเล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ขวาสุดคือเลขตรวจสอ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heck digi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851040" y="3794040"/>
            <a:ext cx="7788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9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8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9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2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9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1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9+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+ 8+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+ 9+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 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+ 2+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+ 9+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+ 1+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24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=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  <a:ea typeface="Tahoma"/>
              </a:rPr>
              <a:t>13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         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  <a:ea typeface="Tahoma"/>
              </a:rPr>
              <a:t>13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% 10  =  7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10 – 7    =  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3 % 10   =  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40" name="Group 27"/>
          <p:cNvGrpSpPr/>
          <p:nvPr/>
        </p:nvGrpSpPr>
        <p:grpSpPr>
          <a:xfrm>
            <a:off x="5286240" y="2000160"/>
            <a:ext cx="1428480" cy="1623960"/>
            <a:chOff x="5286240" y="2000160"/>
            <a:chExt cx="1428480" cy="1623960"/>
          </a:xfrm>
        </p:grpSpPr>
        <p:sp>
          <p:nvSpPr>
            <p:cNvPr id="241" name="Rectangle 23"/>
            <p:cNvSpPr/>
            <p:nvPr/>
          </p:nvSpPr>
          <p:spPr>
            <a:xfrm>
              <a:off x="5286240" y="3098880"/>
              <a:ext cx="386640" cy="525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Freeform 26"/>
            <p:cNvSpPr/>
            <p:nvPr/>
          </p:nvSpPr>
          <p:spPr>
            <a:xfrm>
              <a:off x="5786280" y="2000160"/>
              <a:ext cx="928440" cy="142884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106" h="837">
                  <a:moveTo>
                    <a:pt x="1106" y="0"/>
                  </a:moveTo>
                  <a:cubicBezTo>
                    <a:pt x="1041" y="137"/>
                    <a:pt x="976" y="274"/>
                    <a:pt x="877" y="402"/>
                  </a:cubicBezTo>
                  <a:cubicBezTo>
                    <a:pt x="778" y="530"/>
                    <a:pt x="658" y="699"/>
                    <a:pt x="512" y="768"/>
                  </a:cubicBezTo>
                  <a:cubicBezTo>
                    <a:pt x="366" y="837"/>
                    <a:pt x="183" y="825"/>
                    <a:pt x="0" y="81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3" name="Group 30"/>
          <p:cNvGrpSpPr/>
          <p:nvPr/>
        </p:nvGrpSpPr>
        <p:grpSpPr>
          <a:xfrm>
            <a:off x="5326200" y="3692520"/>
            <a:ext cx="1017360" cy="2450880"/>
            <a:chOff x="5326200" y="3692520"/>
            <a:chExt cx="1017360" cy="2450880"/>
          </a:xfrm>
        </p:grpSpPr>
        <p:sp>
          <p:nvSpPr>
            <p:cNvPr id="244" name="Oval 28"/>
            <p:cNvSpPr/>
            <p:nvPr/>
          </p:nvSpPr>
          <p:spPr>
            <a:xfrm>
              <a:off x="5326200" y="5405400"/>
              <a:ext cx="603000" cy="738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Freeform 29"/>
            <p:cNvSpPr/>
            <p:nvPr/>
          </p:nvSpPr>
          <p:spPr>
            <a:xfrm>
              <a:off x="5573880" y="3692520"/>
              <a:ext cx="769680" cy="200952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2009520"/>
                <a:gd name="textAreaBottom" fmla="*/ 2009520 h 2009520"/>
              </a:gdLst>
              <a:ahLst/>
              <a:rect l="textAreaLeft" t="textAreaTop" r="textAreaRight" b="textAreaBottom"/>
              <a:pathLst>
                <a:path w="485" h="1289">
                  <a:moveTo>
                    <a:pt x="228" y="1289"/>
                  </a:moveTo>
                  <a:cubicBezTo>
                    <a:pt x="319" y="1200"/>
                    <a:pt x="411" y="1111"/>
                    <a:pt x="448" y="1014"/>
                  </a:cubicBezTo>
                  <a:cubicBezTo>
                    <a:pt x="485" y="917"/>
                    <a:pt x="471" y="814"/>
                    <a:pt x="448" y="704"/>
                  </a:cubicBezTo>
                  <a:cubicBezTo>
                    <a:pt x="425" y="594"/>
                    <a:pt x="386" y="473"/>
                    <a:pt x="311" y="356"/>
                  </a:cubicBezTo>
                  <a:cubicBezTo>
                    <a:pt x="236" y="239"/>
                    <a:pt x="118" y="119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46" name="Rounded Rectangular Callout 8"/>
          <p:cNvSpPr/>
          <p:nvPr/>
        </p:nvSpPr>
        <p:spPr>
          <a:xfrm>
            <a:off x="7229520" y="2982960"/>
            <a:ext cx="1703520" cy="730080"/>
          </a:xfrm>
          <a:prstGeom prst="wedgeRoundRectCallout">
            <a:avLst>
              <a:gd name="adj1" fmla="val -60050"/>
              <a:gd name="adj2" fmla="val 5955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ตำแหน่งคี่ ต้องคู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eger.parseInt(…), Double.parseDouble(…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4360" y="907920"/>
            <a:ext cx="8316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12" + "23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1223"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ม่ได้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35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มีสตริงที่ภายในเป็นตัวเล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แปลงเป็น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่อน ด้ว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.parseInt( 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.parseDouble( 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 = Integer.parseInt("123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 = Double.parseDouble("123.45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06280" y="714240"/>
            <a:ext cx="86518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AN13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เลข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12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หลัก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 = k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s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k = 0; k &lt; 12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k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Integ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parseInt(d.substring(k, k+1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k % 2 =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s = s + dk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s = s + 3*dk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Check Digit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ือ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(10-s%10)%1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EAN-1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51" name="Object 3"/>
          <p:cNvGraphicFramePr/>
          <p:nvPr/>
        </p:nvGraphicFramePr>
        <p:xfrm>
          <a:off x="6572160" y="2170080"/>
          <a:ext cx="20005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2170080"/>
                    <a:ext cx="2000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Box 6"/>
          <p:cNvSpPr/>
          <p:nvPr/>
        </p:nvSpPr>
        <p:spPr>
          <a:xfrm>
            <a:off x="4219560" y="743040"/>
            <a:ext cx="463860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ับเลข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12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ลักเก็บใส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t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ม่ได้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พราะมีค่าเกิน สองพันล้าน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t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ับไม่ไหว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3"/>
          <a:stretch/>
        </p:blipFill>
        <p:spPr>
          <a:xfrm>
            <a:off x="3768840" y="4235400"/>
            <a:ext cx="4981320" cy="12398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6456240" y="2897280"/>
            <a:ext cx="1828800" cy="39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2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อ่านเขียนแฟ้มข้อควา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text file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9840" y="890280"/>
            <a:ext cx="804852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แฟ้มข้อความ</a:t>
            </a:r>
            <a:br>
              <a:rPr sz="2800"/>
            </a:b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แฟ้มข้อควา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154160" y="1392120"/>
            <a:ext cx="7130880" cy="19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 in =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File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c:/data-in.txt"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 line = in.nextLine();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163520" y="3860640"/>
            <a:ext cx="7685280" cy="208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PrintStream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 out =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PrintStream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File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c:/data-out.txt"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out.print( ... );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out.println( ... );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Tahoma"/>
              </a:rPr>
              <a:t>out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0" name="Rounded Rectangular Callout 4"/>
          <p:cNvSpPr/>
          <p:nvPr/>
        </p:nvSpPr>
        <p:spPr>
          <a:xfrm>
            <a:off x="6076800" y="2166840"/>
            <a:ext cx="2097360" cy="463680"/>
          </a:xfrm>
          <a:prstGeom prst="wedgeRoundRectCallout">
            <a:avLst>
              <a:gd name="adj1" fmla="val -73120"/>
              <a:gd name="adj2" fmla="val -7039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ีการเปิดแฟ้มที่นี่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1" name="Rounded Rectangular Callout 5"/>
          <p:cNvSpPr/>
          <p:nvPr/>
        </p:nvSpPr>
        <p:spPr>
          <a:xfrm>
            <a:off x="3446640" y="2700360"/>
            <a:ext cx="2054160" cy="465120"/>
          </a:xfrm>
          <a:prstGeom prst="wedgeRoundRectCallout">
            <a:avLst>
              <a:gd name="adj1" fmla="val -73805"/>
              <a:gd name="adj2" fmla="val 4453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ลิกใช้ก็ปิดแฟ้ม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อ่านแฟ้มข้อควา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text file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00040" y="958680"/>
            <a:ext cx="802944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TextFile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i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Fi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data.txt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i=0; i&lt;4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s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อ่านจนหมดแฟ้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500040" y="958680"/>
            <a:ext cx="802944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TextFile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i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Fi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data.txt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i=0; i&lt;4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s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09520" y="3071880"/>
            <a:ext cx="41371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hasNext() 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7" name="Rounded Rectangular Callout 5"/>
          <p:cNvSpPr/>
          <p:nvPr/>
        </p:nvSpPr>
        <p:spPr>
          <a:xfrm>
            <a:off x="6006960" y="3137040"/>
            <a:ext cx="2376720" cy="815760"/>
          </a:xfrm>
          <a:prstGeom prst="wedgeRoundRectCallout">
            <a:avLst>
              <a:gd name="adj1" fmla="val -77226"/>
              <a:gd name="adj2" fmla="val -23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asNext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ื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rue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ถ้ายังมีข้อมูลให้อ่า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ทำสำเนาแฟ้มข้อควา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63600" y="958680"/>
            <a:ext cx="841536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io.*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ritingTextFile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file1.java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  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PrintStrea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ut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PrintStrea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file2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in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.println(t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6537240" y="1278000"/>
            <a:ext cx="2183400" cy="146556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130120321    74.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130293921    85.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130294121    58.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130338421    90.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71" name="Group 47"/>
          <p:cNvGrpSpPr/>
          <p:nvPr/>
        </p:nvGrpSpPr>
        <p:grpSpPr>
          <a:xfrm>
            <a:off x="2602080" y="1030320"/>
            <a:ext cx="3588480" cy="5384880"/>
            <a:chOff x="2602080" y="1030320"/>
            <a:chExt cx="3588480" cy="5384880"/>
          </a:xfrm>
        </p:grpSpPr>
        <p:sp>
          <p:nvSpPr>
            <p:cNvPr id="272" name="Rectangle 38"/>
            <p:cNvSpPr/>
            <p:nvPr/>
          </p:nvSpPr>
          <p:spPr>
            <a:xfrm>
              <a:off x="2602080" y="2616480"/>
              <a:ext cx="1843200" cy="253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3843000" y="1030320"/>
              <a:ext cx="1197000" cy="2570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74" name="AutoShape 9"/>
            <p:cNvCxnSpPr>
              <a:stCxn id="275" idx="2"/>
              <a:endCxn id="276" idx="0"/>
            </p:cNvCxnSpPr>
            <p:nvPr/>
          </p:nvCxnSpPr>
          <p:spPr>
            <a:xfrm flipH="1">
              <a:off x="4440960" y="2462040"/>
              <a:ext cx="108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76" name="AutoShape 12"/>
            <p:cNvSpPr/>
            <p:nvPr/>
          </p:nvSpPr>
          <p:spPr>
            <a:xfrm>
              <a:off x="3146040" y="2728800"/>
              <a:ext cx="2591280" cy="6411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ยังเหลือข้อมูล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AutoShape 5"/>
            <p:cNvSpPr/>
            <p:nvPr/>
          </p:nvSpPr>
          <p:spPr>
            <a:xfrm>
              <a:off x="3843000" y="6158160"/>
              <a:ext cx="1197000" cy="2570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78" name="AutoShape 13"/>
            <p:cNvCxnSpPr>
              <a:stCxn id="276" idx="3"/>
              <a:endCxn id="279" idx="0"/>
            </p:cNvCxnSpPr>
            <p:nvPr/>
          </p:nvCxnSpPr>
          <p:spPr>
            <a:xfrm flipH="1">
              <a:off x="4440960" y="3049560"/>
              <a:ext cx="1296360" cy="2523600"/>
            </a:xfrm>
            <a:prstGeom prst="bentConnector4">
              <a:avLst>
                <a:gd name="adj1" fmla="val -35000"/>
                <a:gd name="adj2" fmla="val 89798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79" name="AutoShape 14"/>
            <p:cNvSpPr/>
            <p:nvPr/>
          </p:nvSpPr>
          <p:spPr>
            <a:xfrm>
              <a:off x="3566880" y="5572800"/>
              <a:ext cx="1749600" cy="38088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m / n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0" name="AutoShape 15"/>
            <p:cNvCxnSpPr>
              <a:stCxn id="279" idx="2"/>
              <a:endCxn id="277" idx="0"/>
            </p:cNvCxnSpPr>
            <p:nvPr/>
          </p:nvCxnSpPr>
          <p:spPr>
            <a:xfrm flipH="1">
              <a:off x="4440600" y="5954400"/>
              <a:ext cx="21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81" name="Text Box 19"/>
            <p:cNvSpPr/>
            <p:nvPr/>
          </p:nvSpPr>
          <p:spPr>
            <a:xfrm>
              <a:off x="5697720" y="2693880"/>
              <a:ext cx="306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2" name="AutoShape 8"/>
            <p:cNvCxnSpPr>
              <a:stCxn id="273" idx="2"/>
              <a:endCxn id="283" idx="1"/>
            </p:cNvCxnSpPr>
            <p:nvPr/>
          </p:nvCxnSpPr>
          <p:spPr>
            <a:xfrm flipH="1">
              <a:off x="4440600" y="1287720"/>
              <a:ext cx="2160" cy="24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83" name="AutoShape 21"/>
            <p:cNvSpPr/>
            <p:nvPr/>
          </p:nvSpPr>
          <p:spPr>
            <a:xfrm>
              <a:off x="3228120" y="1535040"/>
              <a:ext cx="2427120" cy="3585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ปิดแฟ้มคะแนน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Text Box 16"/>
            <p:cNvSpPr/>
            <p:nvPr/>
          </p:nvSpPr>
          <p:spPr>
            <a:xfrm>
              <a:off x="4548600" y="3317760"/>
              <a:ext cx="3225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5" name="AutoShape 18"/>
            <p:cNvCxnSpPr>
              <a:stCxn id="276" idx="2"/>
              <a:endCxn id="286" idx="1"/>
            </p:cNvCxnSpPr>
            <p:nvPr/>
          </p:nvCxnSpPr>
          <p:spPr>
            <a:xfrm>
              <a:off x="4439880" y="3383280"/>
              <a:ext cx="1080" cy="20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86" name="AutoShape 22"/>
            <p:cNvSpPr/>
            <p:nvPr/>
          </p:nvSpPr>
          <p:spPr>
            <a:xfrm>
              <a:off x="2903040" y="3592440"/>
              <a:ext cx="3077280" cy="64764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อ่านส่วนที่เป็น</a:t>
              </a:r>
              <a:br>
                <a:rPr sz="2000"/>
              </a:b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คะแนน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AutoShape 7"/>
            <p:cNvSpPr/>
            <p:nvPr/>
          </p:nvSpPr>
          <p:spPr>
            <a:xfrm>
              <a:off x="3144240" y="2066760"/>
              <a:ext cx="2594520" cy="395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0, n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0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7" name="AutoShape 24"/>
            <p:cNvCxnSpPr>
              <a:stCxn id="283" idx="4"/>
              <a:endCxn id="275" idx="0"/>
            </p:cNvCxnSpPr>
            <p:nvPr/>
          </p:nvCxnSpPr>
          <p:spPr>
            <a:xfrm flipH="1">
              <a:off x="4440600" y="1894680"/>
              <a:ext cx="2160" cy="17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88" name="AutoShape 17"/>
            <p:cNvSpPr/>
            <p:nvPr/>
          </p:nvSpPr>
          <p:spPr>
            <a:xfrm>
              <a:off x="3125160" y="4489920"/>
              <a:ext cx="2632680" cy="50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sum+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n + 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9" name="AutoShape 25"/>
            <p:cNvCxnSpPr>
              <a:endCxn id="288" idx="0"/>
            </p:cNvCxnSpPr>
            <p:nvPr/>
          </p:nvCxnSpPr>
          <p:spPr>
            <a:xfrm flipH="1">
              <a:off x="4440600" y="4301640"/>
              <a:ext cx="2160" cy="18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ผังงานการหาค่าเฉลี่ยคะแนนที่เก็บในแฟ้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หาค่าเฉลี่ยคะแน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58840" y="617400"/>
            <a:ext cx="864540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io.*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verageScore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ata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 = in.next(); 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่านสตริงมาหนึ่งก้อ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คั่นด้วยช่องว่า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in.next();  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่านเป็นสตริงแล้วค่อยแปล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parseDouble(t); 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ป็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p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ะแนนเฉลี่ย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 (sum / n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6487920" y="622440"/>
            <a:ext cx="2412000" cy="131076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1301203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74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1302939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85.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1302941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8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1303384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90.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185840" y="4035600"/>
            <a:ext cx="7421760" cy="633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 = in.nextDouble(); 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่านเป็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uble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ลยก็ได้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95" name="Group 8"/>
          <p:cNvGrpSpPr/>
          <p:nvPr/>
        </p:nvGrpSpPr>
        <p:grpSpPr>
          <a:xfrm>
            <a:off x="4417920" y="660240"/>
            <a:ext cx="3502080" cy="3095640"/>
            <a:chOff x="4417920" y="660240"/>
            <a:chExt cx="3502080" cy="3095640"/>
          </a:xfrm>
        </p:grpSpPr>
        <p:sp>
          <p:nvSpPr>
            <p:cNvPr id="296" name="Rounded Rectangle 6"/>
            <p:cNvSpPr/>
            <p:nvPr/>
          </p:nvSpPr>
          <p:spPr>
            <a:xfrm>
              <a:off x="6373080" y="660240"/>
              <a:ext cx="1546920" cy="295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4417920" y="970200"/>
              <a:ext cx="2939760" cy="2785680"/>
            </a:xfrm>
            <a:custGeom>
              <a:avLst/>
              <a:gdLst>
                <a:gd name="textAreaLeft" fmla="*/ 0 w 2939760"/>
                <a:gd name="textAreaRight" fmla="*/ 2940120 w 2939760"/>
                <a:gd name="textAreaTop" fmla="*/ 0 h 2785680"/>
                <a:gd name="textAreaBottom" fmla="*/ 2786040 h 2785680"/>
              </a:gdLst>
              <a:ahLst/>
              <a:rect l="textAreaLeft" t="textAreaTop" r="textAreaRight" b="textAreaBottom"/>
              <a:pathLst>
                <a:path w="2912013" h="2096086">
                  <a:moveTo>
                    <a:pt x="0" y="2096086"/>
                  </a:moveTo>
                  <a:cubicBezTo>
                    <a:pt x="540434" y="1998784"/>
                    <a:pt x="1080868" y="1901483"/>
                    <a:pt x="1477108" y="1716258"/>
                  </a:cubicBezTo>
                  <a:cubicBezTo>
                    <a:pt x="1873348" y="1531033"/>
                    <a:pt x="2138289" y="1270781"/>
                    <a:pt x="2377440" y="984738"/>
                  </a:cubicBezTo>
                  <a:cubicBezTo>
                    <a:pt x="2616591" y="698695"/>
                    <a:pt x="2764302" y="349347"/>
                    <a:pt x="2912013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98" name="Group 8"/>
          <p:cNvGrpSpPr/>
          <p:nvPr/>
        </p:nvGrpSpPr>
        <p:grpSpPr>
          <a:xfrm>
            <a:off x="4417920" y="646200"/>
            <a:ext cx="4443480" cy="3531960"/>
            <a:chOff x="4417920" y="646200"/>
            <a:chExt cx="4443480" cy="3531960"/>
          </a:xfrm>
        </p:grpSpPr>
        <p:sp>
          <p:nvSpPr>
            <p:cNvPr id="299" name="Rounded Rectangle 6"/>
            <p:cNvSpPr/>
            <p:nvPr/>
          </p:nvSpPr>
          <p:spPr>
            <a:xfrm>
              <a:off x="8299440" y="646200"/>
              <a:ext cx="561960" cy="281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>
              <a:off x="4417920" y="928080"/>
              <a:ext cx="4036320" cy="3250080"/>
            </a:xfrm>
            <a:custGeom>
              <a:avLst/>
              <a:gdLst>
                <a:gd name="textAreaLeft" fmla="*/ 0 w 4036320"/>
                <a:gd name="textAreaRight" fmla="*/ 4036680 w 4036320"/>
                <a:gd name="textAreaTop" fmla="*/ 0 h 3250080"/>
                <a:gd name="textAreaBottom" fmla="*/ 3250440 h 3250080"/>
              </a:gdLst>
              <a:ahLst/>
              <a:rect l="textAreaLeft" t="textAreaTop" r="textAreaRight" b="textAreaBottom"/>
              <a:pathLst>
                <a:path w="2912013" h="2096086">
                  <a:moveTo>
                    <a:pt x="0" y="2096086"/>
                  </a:moveTo>
                  <a:cubicBezTo>
                    <a:pt x="540434" y="1998784"/>
                    <a:pt x="1080868" y="1901483"/>
                    <a:pt x="1477108" y="1716258"/>
                  </a:cubicBezTo>
                  <a:cubicBezTo>
                    <a:pt x="1873348" y="1531033"/>
                    <a:pt x="2138289" y="1270781"/>
                    <a:pt x="2377440" y="984738"/>
                  </a:cubicBezTo>
                  <a:cubicBezTo>
                    <a:pt x="2616591" y="698695"/>
                    <a:pt x="2764302" y="349347"/>
                    <a:pt x="2912013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2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2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6" dur="500"/>
                                        <p:tgtEl>
                                          <p:spTgt spid="2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9" dur="500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2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1" dur="500"/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อ่านสตริงจากแป้นพิมพ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ริการของสตริ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งวนแบ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อ่านเขียนแฟ้มข้อควา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หาสถิติต่าง ๆ ของคะแน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58840" y="744480"/>
            <a:ext cx="8645400" cy="58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ava.io.*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coreStat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data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um = 0.0, min = 1000.0, max = 0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 = 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d = in.nex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 = in.nextDoubl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p &lt; min) min = p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p &gt; max) max = p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sum + p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ะแนนเฉลี่ย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 (sum / n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ะแนนน้อยสุด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 min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ะแนนมากสุด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 max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485040" y="3516480"/>
            <a:ext cx="2417760" cy="131076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1301203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74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1302939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85.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1302941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8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1303384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90.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4" name="Rounded Rectangular Callout 5"/>
          <p:cNvSpPr/>
          <p:nvPr/>
        </p:nvSpPr>
        <p:spPr>
          <a:xfrm>
            <a:off x="6977160" y="2546280"/>
            <a:ext cx="1703160" cy="674640"/>
          </a:xfrm>
          <a:prstGeom prst="wedgeRoundRectCallout">
            <a:avLst>
              <a:gd name="adj1" fmla="val -73120"/>
              <a:gd name="adj2" fmla="val -7039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ริ่มต้นให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x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มีค่าน้อ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Rounded Rectangular Callout 6"/>
          <p:cNvSpPr/>
          <p:nvPr/>
        </p:nvSpPr>
        <p:spPr>
          <a:xfrm>
            <a:off x="4726080" y="2546280"/>
            <a:ext cx="1703160" cy="674640"/>
          </a:xfrm>
          <a:prstGeom prst="wedgeRoundRectCallout">
            <a:avLst>
              <a:gd name="adj1" fmla="val -73120"/>
              <a:gd name="adj2" fmla="val -7039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ริ่มต้นให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in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มีค่ามา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5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3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3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3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3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3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2" dur="5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7"/>
          <p:cNvSpPr/>
          <p:nvPr/>
        </p:nvSpPr>
        <p:spPr>
          <a:xfrm>
            <a:off x="1557360" y="1733400"/>
            <a:ext cx="26352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ะแนน  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ร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A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 &lt; 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B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 &lt; 7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C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 &lt; 6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D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 &lt; 5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F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952880" y="1317600"/>
            <a:ext cx="2124000" cy="1884600"/>
            <a:chOff x="4952880" y="1317600"/>
            <a:chExt cx="2124000" cy="1884600"/>
          </a:xfrm>
        </p:grpSpPr>
        <p:sp>
          <p:nvSpPr>
            <p:cNvPr id="308" name="Text Box 4"/>
            <p:cNvSpPr/>
            <p:nvPr/>
          </p:nvSpPr>
          <p:spPr>
            <a:xfrm>
              <a:off x="4952880" y="1736640"/>
              <a:ext cx="2124000" cy="1465560"/>
            </a:xfrm>
            <a:prstGeom prst="rect">
              <a:avLst/>
            </a:prstGeom>
            <a:solidFill>
              <a:srgbClr val="cceed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130120321   74.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130293921   85.5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130294121   58.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130338421   90.2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5464080" y="131760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10" name="Group 14"/>
          <p:cNvGrpSpPr/>
          <p:nvPr/>
        </p:nvGrpSpPr>
        <p:grpSpPr>
          <a:xfrm>
            <a:off x="4987440" y="3468600"/>
            <a:ext cx="2529360" cy="1612080"/>
            <a:chOff x="4987440" y="3468600"/>
            <a:chExt cx="2529360" cy="1612080"/>
          </a:xfrm>
        </p:grpSpPr>
        <p:sp>
          <p:nvSpPr>
            <p:cNvPr id="311" name="Text Box 5"/>
            <p:cNvSpPr/>
            <p:nvPr/>
          </p:nvSpPr>
          <p:spPr>
            <a:xfrm>
              <a:off x="4987440" y="3889440"/>
              <a:ext cx="2529360" cy="1191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130120321   74.0    B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130293921   85.5    A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130294121   58.0    D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130338421   90.2    A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2" name="Text Box 10"/>
            <p:cNvSpPr/>
            <p:nvPr/>
          </p:nvSpPr>
          <p:spPr>
            <a:xfrm>
              <a:off x="5669280" y="346860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อ่านคะแนนแล้วให้เกร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ตัดเกรดเก็บลงแฟ้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58840" y="744480"/>
            <a:ext cx="8645400" cy="61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ava.io.*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rading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data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PrintStrea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ut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PrintStrea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grade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d = in.nex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 = in.nextDoubl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rade = "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p &gt;= 80) grade = "A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70 &lt;= p &amp;&amp; p &lt; 80) grade = "B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60 &lt;= p &amp;&amp; p &lt; 70) grade = "C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50 &lt;= p &amp;&amp; p &lt; 60) grade = "D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p &lt; 50) grade = "F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println(id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grade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523200" y="3139920"/>
            <a:ext cx="2381040" cy="1739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คะแนน           เกร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8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7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p &lt; 8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6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p &lt; 7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p &lt; 6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 &lt; 5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Rounded Rectangular Callout 8"/>
          <p:cNvSpPr/>
          <p:nvPr/>
        </p:nvSpPr>
        <p:spPr>
          <a:xfrm>
            <a:off x="4317840" y="5388120"/>
            <a:ext cx="2730600" cy="1012680"/>
          </a:xfrm>
          <a:prstGeom prst="wedgeRoundRectCallout">
            <a:avLst>
              <a:gd name="adj1" fmla="val -65004"/>
              <a:gd name="adj2" fmla="val -6161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ามารถเขีย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หลาย ๆ บรรทัดนี้ได้หลายแบบ จะนำเสนอหลั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id-ter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4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3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3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3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1" dur="500"/>
                                        <p:tgtEl>
                                          <p:spTgt spid="3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6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3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5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3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2" dur="500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2" dur="500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ข้ารหัสลั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ot1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4897440" y="1027080"/>
            <a:ext cx="3643200" cy="324072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V frr gerrf bs terra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erq ebfrf gbb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V frr rz oybbz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sbe zr naq sbe lbh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Naq V guvax gb zlfry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jung n jbaqreshy jbeyq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647640" y="1027080"/>
            <a:ext cx="3716280" cy="324072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I see trees of gree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red roses too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I see em bloom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for me and for you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And I think to myself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what a wonderful worl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1" name="AutoShape 17"/>
          <p:cNvSpPr/>
          <p:nvPr/>
        </p:nvSpPr>
        <p:spPr>
          <a:xfrm>
            <a:off x="4040280" y="2075040"/>
            <a:ext cx="855720" cy="630000"/>
          </a:xfrm>
          <a:prstGeom prst="rightArrow">
            <a:avLst>
              <a:gd name="adj1" fmla="val 50000"/>
              <a:gd name="adj2" fmla="val 40239"/>
            </a:avLst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0" y="2795760"/>
            <a:ext cx="1825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23" name="Object 2"/>
          <p:cNvGraphicFramePr/>
          <p:nvPr/>
        </p:nvGraphicFramePr>
        <p:xfrm>
          <a:off x="2449440" y="4811760"/>
          <a:ext cx="434808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4811760"/>
                    <a:ext cx="4348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Oval 20"/>
          <p:cNvSpPr/>
          <p:nvPr/>
        </p:nvSpPr>
        <p:spPr>
          <a:xfrm>
            <a:off x="5113440" y="4714920"/>
            <a:ext cx="315720" cy="157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Oval 21"/>
          <p:cNvSpPr/>
          <p:nvPr/>
        </p:nvSpPr>
        <p:spPr>
          <a:xfrm>
            <a:off x="547560" y="870120"/>
            <a:ext cx="471600" cy="73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4853160" y="871560"/>
            <a:ext cx="471240" cy="73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AutoShape 23"/>
          <p:cNvSpPr/>
          <p:nvPr/>
        </p:nvSpPr>
        <p:spPr>
          <a:xfrm flipH="1">
            <a:off x="4039560" y="2638440"/>
            <a:ext cx="855720" cy="630360"/>
          </a:xfrm>
          <a:prstGeom prst="rightArrow">
            <a:avLst>
              <a:gd name="adj1" fmla="val 50000"/>
              <a:gd name="adj2" fmla="val 40216"/>
            </a:avLst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2382840" y="2073240"/>
            <a:ext cx="4362480" cy="1373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Julius Caesar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ใช้วิธีนี้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มานานแล้ว แต่เป็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ot-3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otate-1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31" name="Group 16"/>
          <p:cNvGrpSpPr/>
          <p:nvPr/>
        </p:nvGrpSpPr>
        <p:grpSpPr>
          <a:xfrm>
            <a:off x="731880" y="900000"/>
            <a:ext cx="7807320" cy="1209600"/>
            <a:chOff x="731880" y="900000"/>
            <a:chExt cx="7807320" cy="1209600"/>
          </a:xfrm>
        </p:grpSpPr>
        <p:sp>
          <p:nvSpPr>
            <p:cNvPr id="332" name="TextBox 3"/>
            <p:cNvSpPr/>
            <p:nvPr/>
          </p:nvSpPr>
          <p:spPr>
            <a:xfrm>
              <a:off x="2786040" y="1589040"/>
              <a:ext cx="57531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BCDEFGHIJKLMNOPQRSTUVWXYZ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3" name="TextBox 4"/>
            <p:cNvSpPr/>
            <p:nvPr/>
          </p:nvSpPr>
          <p:spPr>
            <a:xfrm>
              <a:off x="3220200" y="900000"/>
              <a:ext cx="493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2400" spc="-1" strike="noStrike">
                  <a:solidFill>
                    <a:srgbClr val="7f7f7f"/>
                  </a:solidFill>
                  <a:latin typeface="Courier New"/>
                  <a:ea typeface="Courier New"/>
                </a:rPr>
                <a:t>1         2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ourier New"/>
                  <a:ea typeface="Courier New"/>
                </a:rPr>
                <a:t>01234567890123456789012345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4" name="TextBox 6"/>
            <p:cNvSpPr/>
            <p:nvPr/>
          </p:nvSpPr>
          <p:spPr>
            <a:xfrm>
              <a:off x="731880" y="1646280"/>
              <a:ext cx="20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upperCase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5" name="TextBox 7"/>
          <p:cNvSpPr/>
          <p:nvPr/>
        </p:nvSpPr>
        <p:spPr>
          <a:xfrm>
            <a:off x="844560" y="2532240"/>
            <a:ext cx="804528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j = upperCase.indexOf("I"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 = upperCase.substring(j+13, j+14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6" name="Rounded Rectangle 8"/>
          <p:cNvSpPr/>
          <p:nvPr/>
        </p:nvSpPr>
        <p:spPr>
          <a:xfrm>
            <a:off x="4557600" y="1012680"/>
            <a:ext cx="239760" cy="1293840"/>
          </a:xfrm>
          <a:custGeom>
            <a:avLst/>
            <a:gdLst>
              <a:gd name="textAreaLeft" fmla="*/ 11520 w 239760"/>
              <a:gd name="textAreaRight" fmla="*/ 228240 w 239760"/>
              <a:gd name="textAreaTop" fmla="*/ 11520 h 1293840"/>
              <a:gd name="textAreaBottom" fmla="*/ 1282320 h 1293840"/>
            </a:gdLst>
            <a:ahLst/>
            <a:rect l="textAreaLeft" t="textAreaTop" r="textAreaRight" b="textAreaBottom"/>
            <a:pathLst>
              <a:path w="21600" h="116420">
                <a:moveTo>
                  <a:pt x="3600" y="0"/>
                </a:moveTo>
                <a:arcTo wR="3600" hR="3600" stAng="16200000" swAng="-5400000"/>
                <a:lnTo>
                  <a:pt x="0" y="112820"/>
                </a:lnTo>
                <a:arcTo wR="3600" hR="3600" stAng="10800000" swAng="-5400000"/>
                <a:lnTo>
                  <a:pt x="18000" y="116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7" name="Rounded Rectangle 10"/>
          <p:cNvSpPr/>
          <p:nvPr/>
        </p:nvSpPr>
        <p:spPr>
          <a:xfrm>
            <a:off x="7329600" y="1012680"/>
            <a:ext cx="239760" cy="1293840"/>
          </a:xfrm>
          <a:custGeom>
            <a:avLst/>
            <a:gdLst>
              <a:gd name="textAreaLeft" fmla="*/ 11520 w 239760"/>
              <a:gd name="textAreaRight" fmla="*/ 228240 w 239760"/>
              <a:gd name="textAreaTop" fmla="*/ 11520 h 1293840"/>
              <a:gd name="textAreaBottom" fmla="*/ 1282320 h 1293840"/>
            </a:gdLst>
            <a:ahLst/>
            <a:rect l="textAreaLeft" t="textAreaTop" r="textAreaRight" b="textAreaBottom"/>
            <a:pathLst>
              <a:path w="21600" h="116420">
                <a:moveTo>
                  <a:pt x="3600" y="0"/>
                </a:moveTo>
                <a:arcTo wR="3600" hR="3600" stAng="16200000" swAng="-5400000"/>
                <a:lnTo>
                  <a:pt x="0" y="112820"/>
                </a:lnTo>
                <a:arcTo wR="3600" hR="3600" stAng="10800000" swAng="-5400000"/>
                <a:lnTo>
                  <a:pt x="18000" y="116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436680" y="2517840"/>
            <a:ext cx="379440" cy="407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436680" y="3024360"/>
            <a:ext cx="379440" cy="407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844560" y="3897360"/>
            <a:ext cx="80452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j = upperCase.indexOf("V"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 = upperCase.substring(j+13, j+14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309600" y="3882960"/>
            <a:ext cx="506520" cy="407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Explosion 1 17"/>
          <p:cNvSpPr/>
          <p:nvPr/>
        </p:nvSpPr>
        <p:spPr>
          <a:xfrm>
            <a:off x="6907320" y="3503520"/>
            <a:ext cx="1773000" cy="111132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กขอ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3" name="TextBox 18"/>
          <p:cNvSpPr/>
          <p:nvPr/>
        </p:nvSpPr>
        <p:spPr>
          <a:xfrm>
            <a:off x="844560" y="5106960"/>
            <a:ext cx="80452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 = (j+13) % 26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upperCase.substring(j, j+1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TextBox 19"/>
          <p:cNvSpPr/>
          <p:nvPr/>
        </p:nvSpPr>
        <p:spPr>
          <a:xfrm>
            <a:off x="436680" y="5613480"/>
            <a:ext cx="379440" cy="407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436680" y="5106960"/>
            <a:ext cx="379440" cy="407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7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nodeType="clickEffect" fill="hold">
                      <p:stCondLst>
                        <p:cond delay="indefinite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nodeType="clickEffect" fill="hold">
                      <p:stCondLst>
                        <p:cond delay="indefinite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เข้า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/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อดรหัสแฟ้ม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ot-1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258840" y="744480"/>
            <a:ext cx="8645400" cy="58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data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PrintStrea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ut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PrintStrea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dataX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upperCase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ABCDEFGHIJKLMNOPQRSTUVWXYZ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ext = in.nextLine().toUpperCa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ot13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 = 0; k &lt; text.length(); k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nn-NO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c = text.substring(k, k+1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 = upperCase.indexOf(c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j &gt;= 0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 = (j + 13) % 26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13 = rot13 + upperCase.substring(j, j+1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13 = rot13 + c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println( rot13 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 out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3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3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0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3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2" dur="500"/>
                                        <p:tgtEl>
                                          <p:spTgt spid="3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1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5" dur="500"/>
                                        <p:tgtEl>
                                          <p:spTgt spid="3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5" dur="500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9" dur="500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3" dur="500"/>
                                        <p:tgtEl>
                                          <p:spTgt spid="3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3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3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1" dur="500"/>
                                        <p:tgtEl>
                                          <p:spTgt spid="3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พิ่มเติ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ักขระหลีก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cape char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การเก็บ   </a:t>
            </a:r>
            <a:r>
              <a:rPr b="0" lang="th-TH" sz="3200" spc="-1" strike="noStrike">
                <a:solidFill>
                  <a:srgbClr val="3333cc"/>
                </a:solidFill>
                <a:latin typeface="Tahoma"/>
              </a:rPr>
              <a:t>พูดว่า</a:t>
            </a:r>
            <a:r>
              <a:rPr b="0" lang="th-TH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"</a:t>
            </a:r>
            <a:r>
              <a:rPr b="0" lang="th-TH" sz="3200" spc="-1" strike="noStrike">
                <a:solidFill>
                  <a:srgbClr val="3333cc"/>
                </a:solidFill>
                <a:latin typeface="Tahoma"/>
              </a:rPr>
              <a:t>สวัสดี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"</a:t>
            </a:r>
            <a:r>
              <a:rPr b="0" lang="th-TH" sz="3200" spc="-1" strike="noStrike">
                <a:solidFill>
                  <a:srgbClr val="3333cc"/>
                </a:solidFill>
                <a:latin typeface="Tahoma"/>
              </a:rPr>
              <a:t>พูดว่า</a:t>
            </a:r>
            <a:r>
              <a:rPr b="0" lang="th-TH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"</a:t>
            </a:r>
            <a:r>
              <a:rPr b="0" lang="th-TH" sz="3200" spc="-1" strike="noStrike">
                <a:solidFill>
                  <a:srgbClr val="3333cc"/>
                </a:solidFill>
                <a:latin typeface="Tahoma"/>
              </a:rPr>
              <a:t>สวัสดี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ผิ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"</a:t>
            </a:r>
            <a:r>
              <a:rPr b="0" lang="th-TH" sz="3200" spc="-1" strike="noStrike">
                <a:solidFill>
                  <a:srgbClr val="3333cc"/>
                </a:solidFill>
                <a:latin typeface="Tahoma"/>
              </a:rPr>
              <a:t>พูดว่า</a:t>
            </a:r>
            <a:r>
              <a:rPr b="0" lang="th-TH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\"</a:t>
            </a:r>
            <a:r>
              <a:rPr b="0" lang="th-TH" sz="3200" spc="-1" strike="noStrike">
                <a:solidFill>
                  <a:srgbClr val="3333cc"/>
                </a:solidFill>
                <a:latin typeface="Tahoma"/>
              </a:rPr>
              <a:t>สวัสดี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\"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ู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1362240" y="3821040"/>
            <a:ext cx="6400800" cy="466560"/>
            <a:chOff x="1362240" y="3821040"/>
            <a:chExt cx="6400800" cy="466560"/>
          </a:xfrm>
        </p:grpSpPr>
        <p:sp>
          <p:nvSpPr>
            <p:cNvPr id="351" name="Rectangle 5"/>
            <p:cNvSpPr/>
            <p:nvPr/>
          </p:nvSpPr>
          <p:spPr>
            <a:xfrm>
              <a:off x="13622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cs typeface="Tahoma"/>
                </a:rPr>
                <a:t>พ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18194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 </a:t>
              </a: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 ู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22766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cs typeface="Tahoma"/>
                </a:rPr>
                <a:t>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27338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cs typeface="Tahoma"/>
                </a:rPr>
                <a:t>ว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31910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 ่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41054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"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7" name="Rectangle 11"/>
            <p:cNvSpPr/>
            <p:nvPr/>
          </p:nvSpPr>
          <p:spPr>
            <a:xfrm>
              <a:off x="45626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cs typeface="Tahoma"/>
                </a:rPr>
                <a:t>ส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50198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cs typeface="Tahoma"/>
                </a:rPr>
                <a:t>ว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>
              <a:off x="54770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 ั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0" name="Rectangle 14"/>
            <p:cNvSpPr/>
            <p:nvPr/>
          </p:nvSpPr>
          <p:spPr>
            <a:xfrm>
              <a:off x="59342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cs typeface="Tahoma"/>
                </a:rPr>
                <a:t>ส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1" name="Rectangle 15"/>
            <p:cNvSpPr/>
            <p:nvPr/>
          </p:nvSpPr>
          <p:spPr>
            <a:xfrm>
              <a:off x="63914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cs typeface="Tahoma"/>
                </a:rPr>
                <a:t>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2" name="Rectangle 16"/>
            <p:cNvSpPr/>
            <p:nvPr/>
          </p:nvSpPr>
          <p:spPr>
            <a:xfrm>
              <a:off x="68486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 ี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3" name="Rectangle 17"/>
            <p:cNvSpPr/>
            <p:nvPr/>
          </p:nvSpPr>
          <p:spPr>
            <a:xfrm>
              <a:off x="36482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3333cc"/>
                  </a:solidFill>
                  <a:latin typeface="Tahoma"/>
                  <a:cs typeface="Tahoma"/>
                </a:rPr>
                <a:t>า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4" name="Rectangle 18"/>
            <p:cNvSpPr/>
            <p:nvPr/>
          </p:nvSpPr>
          <p:spPr>
            <a:xfrm>
              <a:off x="7305840" y="38210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"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65" name="Text Box 19"/>
          <p:cNvSpPr/>
          <p:nvPr/>
        </p:nvSpPr>
        <p:spPr>
          <a:xfrm>
            <a:off x="1069200" y="4597560"/>
            <a:ext cx="7220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ราเรีย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\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ขียนในสตริงว่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scape characte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66" name="Group 20"/>
          <p:cNvGrpSpPr/>
          <p:nvPr/>
        </p:nvGrpSpPr>
        <p:grpSpPr>
          <a:xfrm>
            <a:off x="4127400" y="2282760"/>
            <a:ext cx="3427200" cy="1501560"/>
            <a:chOff x="4127400" y="2282760"/>
            <a:chExt cx="3427200" cy="1501560"/>
          </a:xfrm>
        </p:grpSpPr>
        <p:sp>
          <p:nvSpPr>
            <p:cNvPr id="367" name="Oval 21"/>
            <p:cNvSpPr/>
            <p:nvPr/>
          </p:nvSpPr>
          <p:spPr>
            <a:xfrm>
              <a:off x="4127400" y="2303280"/>
              <a:ext cx="501480" cy="73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8" name="Line 22"/>
            <p:cNvSpPr/>
            <p:nvPr/>
          </p:nvSpPr>
          <p:spPr>
            <a:xfrm flipH="1">
              <a:off x="4360320" y="3038400"/>
              <a:ext cx="42840" cy="7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9" name="Oval 23"/>
            <p:cNvSpPr/>
            <p:nvPr/>
          </p:nvSpPr>
          <p:spPr>
            <a:xfrm>
              <a:off x="5557680" y="2282760"/>
              <a:ext cx="534960" cy="73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6035400" y="2882880"/>
              <a:ext cx="151920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delay="indefinite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3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ักขระหลีก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cape char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055960" y="1122480"/>
            <a:ext cx="5945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ท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ท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ท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การขึ้นบรรทัดใหม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ท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รหัส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585720" y="3387600"/>
            <a:ext cx="801684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 = 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400" spc="-1" strike="noStrike">
                <a:solidFill>
                  <a:srgbClr val="ff00ff"/>
                </a:solidFill>
                <a:latin typeface="Courier New"/>
                <a:cs typeface="Tahoma"/>
              </a:rPr>
              <a:t>แฟ้ม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Courier New"/>
              </a:rPr>
              <a:t>\"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Tahoma"/>
              </a:rPr>
              <a:t>data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Courier New"/>
              </a:rPr>
              <a:t>\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2400" spc="-1" strike="noStrike">
                <a:solidFill>
                  <a:srgbClr val="ff00ff"/>
                </a:solidFill>
                <a:latin typeface="Courier New"/>
                <a:cs typeface="Tahoma"/>
              </a:rPr>
              <a:t>อยู่ที่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Courier New"/>
              </a:rPr>
              <a:t>\n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Tahoma"/>
              </a:rPr>
              <a:t>c:\\data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251160" y="4827600"/>
            <a:ext cx="3022560" cy="1014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ฟ้ม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ata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อยู่ที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:\dat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3962520" y="3343320"/>
            <a:ext cx="1538280" cy="1533600"/>
            <a:chOff x="3962520" y="3343320"/>
            <a:chExt cx="1538280" cy="1533600"/>
          </a:xfrm>
        </p:grpSpPr>
        <p:sp>
          <p:nvSpPr>
            <p:cNvPr id="376" name="Oval 7"/>
            <p:cNvSpPr/>
            <p:nvPr/>
          </p:nvSpPr>
          <p:spPr>
            <a:xfrm>
              <a:off x="3962520" y="3343320"/>
              <a:ext cx="412560" cy="525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Oval 8"/>
            <p:cNvSpPr/>
            <p:nvPr/>
          </p:nvSpPr>
          <p:spPr>
            <a:xfrm>
              <a:off x="5022720" y="3348000"/>
              <a:ext cx="478080" cy="51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4208400" y="3889440"/>
              <a:ext cx="87480" cy="9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 flipH="1">
              <a:off x="5152680" y="3889440"/>
              <a:ext cx="158760" cy="9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80" name="Group 11"/>
          <p:cNvGrpSpPr/>
          <p:nvPr/>
        </p:nvGrpSpPr>
        <p:grpSpPr>
          <a:xfrm>
            <a:off x="3083040" y="3343320"/>
            <a:ext cx="3528360" cy="2198520"/>
            <a:chOff x="3083040" y="3343320"/>
            <a:chExt cx="3528360" cy="2198520"/>
          </a:xfrm>
        </p:grpSpPr>
        <p:sp>
          <p:nvSpPr>
            <p:cNvPr id="381" name="Oval 12"/>
            <p:cNvSpPr/>
            <p:nvPr/>
          </p:nvSpPr>
          <p:spPr>
            <a:xfrm>
              <a:off x="6194520" y="3343320"/>
              <a:ext cx="416880" cy="525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2" name="Freeform 13"/>
            <p:cNvSpPr/>
            <p:nvPr/>
          </p:nvSpPr>
          <p:spPr>
            <a:xfrm>
              <a:off x="3083040" y="3875040"/>
              <a:ext cx="3375360" cy="1666800"/>
            </a:xfrm>
            <a:custGeom>
              <a:avLst/>
              <a:gdLst>
                <a:gd name="textAreaLeft" fmla="*/ 0 w 3375360"/>
                <a:gd name="textAreaRight" fmla="*/ 3375720 w 3375360"/>
                <a:gd name="textAreaTop" fmla="*/ 0 h 1666800"/>
                <a:gd name="textAreaBottom" fmla="*/ 1667160 h 1666800"/>
              </a:gdLst>
              <a:ahLst/>
              <a:rect l="textAreaLeft" t="textAreaTop" r="textAreaRight" b="textAreaBottom"/>
              <a:pathLst>
                <a:path w="2008" h="1061">
                  <a:moveTo>
                    <a:pt x="2008" y="0"/>
                  </a:moveTo>
                  <a:cubicBezTo>
                    <a:pt x="1978" y="92"/>
                    <a:pt x="1949" y="185"/>
                    <a:pt x="1743" y="247"/>
                  </a:cubicBezTo>
                  <a:cubicBezTo>
                    <a:pt x="1537" y="309"/>
                    <a:pt x="1023" y="351"/>
                    <a:pt x="773" y="375"/>
                  </a:cubicBezTo>
                  <a:cubicBezTo>
                    <a:pt x="523" y="399"/>
                    <a:pt x="366" y="343"/>
                    <a:pt x="243" y="393"/>
                  </a:cubicBezTo>
                  <a:cubicBezTo>
                    <a:pt x="120" y="443"/>
                    <a:pt x="66" y="589"/>
                    <a:pt x="33" y="677"/>
                  </a:cubicBezTo>
                  <a:cubicBezTo>
                    <a:pt x="0" y="765"/>
                    <a:pt x="16" y="860"/>
                    <a:pt x="42" y="924"/>
                  </a:cubicBezTo>
                  <a:cubicBezTo>
                    <a:pt x="68" y="988"/>
                    <a:pt x="128" y="1024"/>
                    <a:pt x="188" y="106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83" name="Group 14"/>
          <p:cNvGrpSpPr/>
          <p:nvPr/>
        </p:nvGrpSpPr>
        <p:grpSpPr>
          <a:xfrm>
            <a:off x="3903840" y="3287880"/>
            <a:ext cx="3411000" cy="2803320"/>
            <a:chOff x="3903840" y="3287880"/>
            <a:chExt cx="3411000" cy="2803320"/>
          </a:xfrm>
        </p:grpSpPr>
        <p:sp>
          <p:nvSpPr>
            <p:cNvPr id="384" name="Oval 15"/>
            <p:cNvSpPr/>
            <p:nvPr/>
          </p:nvSpPr>
          <p:spPr>
            <a:xfrm>
              <a:off x="6897240" y="3287880"/>
              <a:ext cx="417600" cy="63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Freeform 16"/>
            <p:cNvSpPr/>
            <p:nvPr/>
          </p:nvSpPr>
          <p:spPr>
            <a:xfrm>
              <a:off x="3903840" y="3875040"/>
              <a:ext cx="3327120" cy="2216160"/>
            </a:xfrm>
            <a:custGeom>
              <a:avLst/>
              <a:gdLst>
                <a:gd name="textAreaLeft" fmla="*/ 0 w 3327120"/>
                <a:gd name="textAreaRight" fmla="*/ 3327480 w 3327120"/>
                <a:gd name="textAreaTop" fmla="*/ 0 h 2216160"/>
                <a:gd name="textAreaBottom" fmla="*/ 2216520 h 2216160"/>
              </a:gdLst>
              <a:ahLst/>
              <a:rect l="textAreaLeft" t="textAreaTop" r="textAreaRight" b="textAreaBottom"/>
              <a:pathLst>
                <a:path w="1984" h="1432">
                  <a:moveTo>
                    <a:pt x="1984" y="0"/>
                  </a:moveTo>
                  <a:cubicBezTo>
                    <a:pt x="1870" y="371"/>
                    <a:pt x="1757" y="742"/>
                    <a:pt x="1591" y="969"/>
                  </a:cubicBezTo>
                  <a:cubicBezTo>
                    <a:pt x="1425" y="1196"/>
                    <a:pt x="1183" y="1292"/>
                    <a:pt x="988" y="1362"/>
                  </a:cubicBezTo>
                  <a:cubicBezTo>
                    <a:pt x="793" y="1432"/>
                    <a:pt x="586" y="1416"/>
                    <a:pt x="421" y="1390"/>
                  </a:cubicBezTo>
                  <a:cubicBezTo>
                    <a:pt x="256" y="1364"/>
                    <a:pt x="128" y="1285"/>
                    <a:pt x="0" y="12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5" dur="indefinite" restart="never" nodeType="tmRoot">
          <p:childTnLst>
            <p:seq>
              <p:cTn id="1846" dur="indefinite" nodeType="mainSeq">
                <p:childTnLst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nodeType="clickEffect" fill="hold">
                      <p:stCondLst>
                        <p:cond delay="indefinite"/>
                      </p:stCondLst>
                      <p:childTnLst>
                        <p:par>
                          <p:cTn id="1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71720" y="1071720"/>
            <a:ext cx="6943680" cy="32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String1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ff00ff"/>
                </a:solidFill>
                <a:latin typeface="Tahoma"/>
                <a:cs typeface="Tahoma"/>
              </a:rPr>
              <a:t>ชื่อ </a:t>
            </a:r>
            <a:r>
              <a:rPr b="1" lang="th-TH" sz="2000" spc="-1" strike="noStrike">
                <a:solidFill>
                  <a:srgbClr val="ff00ff"/>
                </a:solidFill>
                <a:latin typeface="Tahoma"/>
                <a:ea typeface="Tahoma"/>
              </a:rPr>
              <a:t>=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 = k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ff00ff"/>
                </a:solidFill>
                <a:latin typeface="Tahoma"/>
                <a:cs typeface="Tahoma"/>
              </a:rPr>
              <a:t>สวัสดีจ้ะ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nam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43160" y="3857760"/>
            <a:ext cx="3730680" cy="1081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JLab&gt;java ReadString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ชื่อ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3300"/>
                </a:solidFill>
                <a:latin typeface="Tahoma"/>
                <a:cs typeface="Tahoma"/>
              </a:rPr>
              <a:t>จาวา แซ่ซั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สวัสดีจ้ะ จาวา แซ่ซั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xtLine( )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ากแป้นพิมพ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ตริ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 ?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็ได้สตริ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ตริ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ตริง คือการต่อสตริ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AB" + "C"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ABC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ตริ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ำนวน  หรือ  จำนว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ตริง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ะแปลงจำนวนเป็นสตริงก่อน แล้วต่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A" + 2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A2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5 + "A"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2.5A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A" + (4+2)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A6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A" + 4 +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A42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+ "A" + 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2A4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+ 4 +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6A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  /  –  %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กับสตริงไม่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2" *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ผิ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ตริง คือ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ำดับของอักขระ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2084400" y="2852640"/>
            <a:ext cx="5029200" cy="466560"/>
            <a:chOff x="2084400" y="2852640"/>
            <a:chExt cx="5029200" cy="466560"/>
          </a:xfrm>
        </p:grpSpPr>
        <p:sp>
          <p:nvSpPr>
            <p:cNvPr id="107" name="Rectangle 5"/>
            <p:cNvSpPr/>
            <p:nvPr/>
          </p:nvSpPr>
          <p:spPr>
            <a:xfrm>
              <a:off x="20844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25416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9988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4560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39132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48276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52848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57420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61992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66564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370400" y="2852640"/>
              <a:ext cx="4572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ff0000"/>
                  </a:solidFill>
                  <a:latin typeface="Arial Rounded MT Bold"/>
                  <a:ea typeface="TF Intano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18" name="Text Box 20"/>
          <p:cNvSpPr/>
          <p:nvPr/>
        </p:nvSpPr>
        <p:spPr>
          <a:xfrm>
            <a:off x="2166840" y="2473200"/>
            <a:ext cx="50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0  1  2  3  4  5  6  7  8  9  1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992320" y="147312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ahoma"/>
              </a:rPr>
              <a:t>"HELLO World"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20" name="Group 24"/>
          <p:cNvGrpSpPr/>
          <p:nvPr/>
        </p:nvGrpSpPr>
        <p:grpSpPr>
          <a:xfrm>
            <a:off x="1143000" y="1428840"/>
            <a:ext cx="1132920" cy="1256760"/>
            <a:chOff x="1143000" y="1428840"/>
            <a:chExt cx="1132920" cy="1256760"/>
          </a:xfrm>
        </p:grpSpPr>
        <p:sp>
          <p:nvSpPr>
            <p:cNvPr id="121" name="Text Box 22"/>
            <p:cNvSpPr/>
            <p:nvPr/>
          </p:nvSpPr>
          <p:spPr>
            <a:xfrm>
              <a:off x="1243440" y="1428840"/>
              <a:ext cx="1032480" cy="1008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ตำแหน่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ดัชนี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de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1143000" y="2160360"/>
              <a:ext cx="1008000" cy="52524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635" h="527">
                  <a:moveTo>
                    <a:pt x="133" y="0"/>
                  </a:moveTo>
                  <a:cubicBezTo>
                    <a:pt x="69" y="106"/>
                    <a:pt x="6" y="213"/>
                    <a:pt x="3" y="297"/>
                  </a:cubicBezTo>
                  <a:cubicBezTo>
                    <a:pt x="0" y="381"/>
                    <a:pt x="9" y="477"/>
                    <a:pt x="114" y="502"/>
                  </a:cubicBezTo>
                  <a:cubicBezTo>
                    <a:pt x="219" y="527"/>
                    <a:pt x="548" y="457"/>
                    <a:pt x="635" y="4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23" name="Text Box 25"/>
          <p:cNvSpPr/>
          <p:nvPr/>
        </p:nvSpPr>
        <p:spPr>
          <a:xfrm>
            <a:off x="1702440" y="382572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ดัชนีของอักขระตัว</a:t>
            </a:r>
            <a:r>
              <a:rPr b="0" lang="th-TH" sz="2800" spc="-1" strike="noStrike">
                <a:solidFill>
                  <a:srgbClr val="3333cc"/>
                </a:solidFill>
                <a:latin typeface="Tahoma"/>
                <a:cs typeface="Tahoma"/>
              </a:rPr>
              <a:t>ซ้ายสุด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ในสตริงคือ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สม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2003760" y="4548240"/>
            <a:ext cx="53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ตริงยาว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มีดัชนีตั้งแต่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ถึ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 – 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Freeform 27"/>
          <p:cNvSpPr/>
          <p:nvPr/>
        </p:nvSpPr>
        <p:spPr>
          <a:xfrm>
            <a:off x="2255760" y="3392640"/>
            <a:ext cx="2405160" cy="5252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1515" h="316">
                <a:moveTo>
                  <a:pt x="1515" y="316"/>
                </a:moveTo>
                <a:cubicBezTo>
                  <a:pt x="1462" y="260"/>
                  <a:pt x="1409" y="205"/>
                  <a:pt x="1245" y="186"/>
                </a:cubicBezTo>
                <a:cubicBezTo>
                  <a:pt x="1081" y="167"/>
                  <a:pt x="700" y="193"/>
                  <a:pt x="530" y="204"/>
                </a:cubicBezTo>
                <a:cubicBezTo>
                  <a:pt x="360" y="215"/>
                  <a:pt x="303" y="248"/>
                  <a:pt x="223" y="251"/>
                </a:cubicBezTo>
                <a:cubicBezTo>
                  <a:pt x="143" y="254"/>
                  <a:pt x="84" y="265"/>
                  <a:pt x="47" y="223"/>
                </a:cubicBezTo>
                <a:cubicBezTo>
                  <a:pt x="10" y="181"/>
                  <a:pt x="5" y="90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ิการ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076480" y="3402000"/>
            <a:ext cx="5070600" cy="181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String s = "12345"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int a = s.length()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F NopScript"/>
              </a:rPr>
              <a:t>a = "Hello".length()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165400" y="1260360"/>
            <a:ext cx="487980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</a:t>
            </a: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ชื่อบริการ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697120" y="1982880"/>
            <a:ext cx="387684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length(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65440" y="265572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คืนความยาวของสตริ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65400" y="1258920"/>
            <a:ext cx="487980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</a:t>
            </a: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ชื่อเมท็อด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180200" y="128916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  <a:ea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ิการ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928880" y="3571920"/>
            <a:ext cx="54640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s = "  ab c "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t = s.trim()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// t </a:t>
            </a:r>
            <a:r>
              <a:rPr b="0" lang="th-TH" sz="2800" spc="-1" strike="noStrike">
                <a:solidFill>
                  <a:srgbClr val="000066"/>
                </a:solidFill>
                <a:latin typeface="Courier New"/>
                <a:cs typeface="Tahoma"/>
              </a:rPr>
              <a:t>เก็บ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"ab c",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// s </a:t>
            </a:r>
            <a:r>
              <a:rPr b="0" lang="th-TH" sz="2800" spc="-1" strike="noStrike">
                <a:solidFill>
                  <a:srgbClr val="000066"/>
                </a:solidFill>
                <a:latin typeface="Courier New"/>
                <a:cs typeface="Tahoma"/>
              </a:rPr>
              <a:t>ไม่เปลี่ย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697120" y="1982880"/>
            <a:ext cx="387684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trim(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806400" y="2627280"/>
            <a:ext cx="75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คืนสตริงใหม่เหมือนเก่า</a:t>
            </a:r>
            <a:br>
              <a:rPr sz="2400"/>
            </a:b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แต่ตัดช่องว่าง</a:t>
            </a:r>
            <a:r>
              <a:rPr b="0" lang="th-TH" sz="2400" spc="-1" strike="noStrike">
                <a:solidFill>
                  <a:srgbClr val="ff0000"/>
                </a:solidFill>
                <a:latin typeface="Courier New"/>
                <a:cs typeface="Tahoma"/>
              </a:rPr>
              <a:t>ซ้ายขวา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ทิ้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ิการ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122560" y="1982880"/>
            <a:ext cx="502596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Courier New"/>
                <a:cs typeface="Tahoma"/>
              </a:rPr>
              <a:t>สตริง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.</a:t>
            </a:r>
            <a:r>
              <a:rPr b="1" lang="en-US" sz="3200" spc="-1" strike="noStrike">
                <a:solidFill>
                  <a:srgbClr val="000066"/>
                </a:solidFill>
                <a:latin typeface="Courier New"/>
                <a:ea typeface="Courier New"/>
              </a:rPr>
              <a:t>toUpperCase(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06400" y="2627280"/>
            <a:ext cx="75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คืนสตริงใหม่เหมือนเก่า</a:t>
            </a:r>
            <a:br>
              <a:rPr sz="2400"/>
            </a:b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แต่เปลี่ยนเป็นตัวอังกฤษ</a:t>
            </a:r>
            <a:r>
              <a:rPr b="0" lang="th-TH" sz="2400" spc="-1" strike="noStrike">
                <a:solidFill>
                  <a:srgbClr val="ff0000"/>
                </a:solidFill>
                <a:latin typeface="Courier New"/>
                <a:cs typeface="Tahoma"/>
              </a:rPr>
              <a:t>ใหญ่</a:t>
            </a:r>
            <a:r>
              <a:rPr b="0" lang="th-TH" sz="2400" spc="-1" strike="noStrike">
                <a:solidFill>
                  <a:srgbClr val="000066"/>
                </a:solidFill>
                <a:latin typeface="Courier New"/>
                <a:cs typeface="Tahoma"/>
              </a:rPr>
              <a:t>หมด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517760" y="3544920"/>
            <a:ext cx="618804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s = "HeLLo"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String t = s.toUpperCase();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// t </a:t>
            </a:r>
            <a:r>
              <a:rPr b="0" lang="th-TH" sz="2800" spc="-1" strike="noStrike">
                <a:solidFill>
                  <a:srgbClr val="000066"/>
                </a:solidFill>
                <a:latin typeface="Courier New"/>
                <a:cs typeface="Tahoma"/>
              </a:rPr>
              <a:t>เก็บ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"HELLO",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Tahoma"/>
              </a:rPr>
              <a:t>// s </a:t>
            </a:r>
            <a:r>
              <a:rPr b="0" lang="th-TH" sz="2800" spc="-1" strike="noStrike">
                <a:solidFill>
                  <a:srgbClr val="000066"/>
                </a:solidFill>
                <a:latin typeface="Courier New"/>
                <a:cs typeface="Tahoma"/>
              </a:rPr>
              <a:t>ไม่เปลี่ย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Somchai</cp:lastModifiedBy>
  <dcterms:modified xsi:type="dcterms:W3CDTF">2010-11-22T09:05:28Z</dcterms:modified>
  <cp:revision>170</cp:revision>
  <dc:subject/>
  <dc:title>การทำโปรแกรมคอมพิวเตอร์</dc:title>
</cp:coreProperties>
</file>