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24D-129A-4B9E-8BAE-B4AFB105DB9E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B036-8631-4D04-B0B1-3AEC04B9D120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171284CE-36C5-4F3A-A0F3-826EB9E9B3C9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0CB-9703-43A6-9992-58B1E94F683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ตัวอย่างเพิ่มเติม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กมทายตัวเลข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907560"/>
            <a:ext cx="81136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โปรแกรมสุ่มจำนวนเต็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โอกาสทา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รั้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ทายไม่ถูก โปรแกรมจะบอ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้อยกว่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 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ากกว่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521080" y="2617920"/>
            <a:ext cx="4128840" cy="344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มทายตัวเลข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ุณมีโอกาส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าก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2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3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4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ูกต้องแล้วคร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uessMyNu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85720" y="741240"/>
            <a:ext cx="796284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กมทายตัวเลข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: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ุณมีโอกาส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7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รั้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yNumber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(100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ourGuess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1; k &lt;= 7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การทายครั้งที่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: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yourGuess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== yourGuess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&gt; yourGuess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มากกว่า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น้อยกว่า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== yourGues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ถูกต้องแล้วครับ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ียใจครับ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ผมกำลังนึกถึงเลข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myNumbe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รรณยุกต์ตัวใดใช้มากสุ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907560"/>
            <a:ext cx="79200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้เอก  ไม้โท  ไม้ตรี  หรือไม้จัตว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ใช้วิธีนับจากคำศัพท์ในพจนานุกรมราชบัณฑิต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words0.tx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ศัพท์ บรรทัดละคำหรือวล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2897280" y="2687760"/>
            <a:ext cx="4462200" cy="3448080"/>
            <a:chOff x="2897280" y="2687760"/>
            <a:chExt cx="4462200" cy="3448080"/>
          </a:xfrm>
        </p:grpSpPr>
        <p:sp>
          <p:nvSpPr>
            <p:cNvPr id="135" name="TextBox 5"/>
            <p:cNvSpPr/>
            <p:nvPr/>
          </p:nvSpPr>
          <p:spPr>
            <a:xfrm>
              <a:off x="2897280" y="2687760"/>
              <a:ext cx="2415240" cy="3448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๊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โดรมิเตอร์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ไฟ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โล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ฮ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6" name="TextBox 6"/>
            <p:cNvSpPr/>
            <p:nvPr/>
          </p:nvSpPr>
          <p:spPr>
            <a:xfrm>
              <a:off x="5375160" y="4117680"/>
              <a:ext cx="19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สามหมื่นกว่าคำ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one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95200" y="712800"/>
            <a:ext cx="8599680" cy="59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riwords0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1 = 0, c2 = 0, c3 = 0, c4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1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่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2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้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3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๊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4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๋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line = in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line = line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0; k &lt; line.length()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h = line.substring(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1)) c1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2)) c2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3)) c3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4)) c4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เอก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1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โท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2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ตรี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3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จัตวา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4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ปลคำอังกฤษเป็นไท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4360" y="907560"/>
            <a:ext cx="792000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ct.tx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คำกริยาภาษาอังกฤ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รทั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ามด้วยคำแปลภาษาไท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รทั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I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รั้งแรกจากแฟ้มจะได้จำนวนค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28680" y="2992320"/>
            <a:ext cx="8551800" cy="2838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026  ab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เบ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,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น้อย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รรเทา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ล้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ะง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brevi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บรี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ิเอ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ย่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id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ไบดฺ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ักษาหรือ ปฏิบัติตา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าศัยอยู่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น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ืดถื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อคอ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wl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ยาลฺ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้องเสียงยาวแสดงความไม่พอใจหรือผิดหวั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้าย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!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สียงร้องดังกล่า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236520" y="2801880"/>
            <a:ext cx="89856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Eng2Tha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3440" y="741240"/>
            <a:ext cx="825336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g2Thai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ict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in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eng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thai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eng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g[i]  = in.nextLine()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ai[i] = in.nextLine()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876400" y="4876920"/>
            <a:ext cx="608832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026  ab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เบ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,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น้อย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รรเทา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ล้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ะง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brevi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บรี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ิเอ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ย่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Eng2Tha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33440" y="741240"/>
            <a:ext cx="825336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eng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ord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ord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i = 0; i &lt; n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ord.equals(eng[i]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== 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คำแปลข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word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thai[i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Rounded Rectangle 4"/>
          <p:cNvSpPr/>
          <p:nvPr/>
        </p:nvSpPr>
        <p:spPr>
          <a:xfrm>
            <a:off x="3186000" y="5029200"/>
            <a:ext cx="4046760" cy="8031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ย่าใช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==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เปรียบเทียบสต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word == eng[i] )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Rounded Rectangular Callout 5"/>
          <p:cNvSpPr/>
          <p:nvPr/>
        </p:nvSpPr>
        <p:spPr>
          <a:xfrm>
            <a:off x="6016680" y="1946160"/>
            <a:ext cx="2832120" cy="782640"/>
          </a:xfrm>
          <a:prstGeom prst="wedgeRoundRectCallout">
            <a:avLst>
              <a:gd name="adj1" fmla="val -71699"/>
              <a:gd name="adj2" fmla="val 2664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ประกาศ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อก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พราะจะใช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อก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5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ี่จะนำเสน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ตอบของสมการเชิงเส้นสอง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รร่วมมา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ากสุดอันดับส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มทายตัวเล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รรณยุกต์ใดใช้มากสุ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ปลคำอังกฤษเป็นไท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-36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ำตอบของสมการเชิงเส้นสอง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907560"/>
            <a:ext cx="792000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Unknowns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พื่อคำนวณหาค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กสมการ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ับค่าคงตัว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่าง ๆ จาก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714680" y="3286080"/>
            <a:ext cx="3500280" cy="314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TwoUnknown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11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12 = -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21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22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1 = 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2 = 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2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 = 1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572080" y="3956040"/>
            <a:ext cx="3143160" cy="143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 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5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3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7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ได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2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14200" y="3714840"/>
            <a:ext cx="1428480" cy="2357280"/>
            <a:chOff x="214200" y="3714840"/>
            <a:chExt cx="1428480" cy="2357280"/>
          </a:xfrm>
        </p:grpSpPr>
        <p:sp>
          <p:nvSpPr>
            <p:cNvPr id="94" name="TextBox 5"/>
            <p:cNvSpPr/>
            <p:nvPr/>
          </p:nvSpPr>
          <p:spPr>
            <a:xfrm>
              <a:off x="357120" y="435780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TextBox 6"/>
            <p:cNvSpPr/>
            <p:nvPr/>
          </p:nvSpPr>
          <p:spPr>
            <a:xfrm>
              <a:off x="214200" y="5572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Left Brace 7"/>
            <p:cNvSpPr/>
            <p:nvPr/>
          </p:nvSpPr>
          <p:spPr>
            <a:xfrm>
              <a:off x="1357200" y="3714840"/>
              <a:ext cx="285480" cy="171432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25560 h 1714320"/>
                <a:gd name="textAreaBottom" fmla="*/ 1688760 h 17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21"/>
                    <a:pt x="10800" y="1041"/>
                  </a:cubicBezTo>
                  <a:lnTo>
                    <a:pt x="10800" y="9759"/>
                  </a:lnTo>
                  <a:cubicBezTo>
                    <a:pt x="10800" y="10280"/>
                    <a:pt x="5400" y="10800"/>
                    <a:pt x="0" y="10800"/>
                  </a:cubicBezTo>
                  <a:cubicBezTo>
                    <a:pt x="5400" y="10800"/>
                    <a:pt x="10800" y="11321"/>
                    <a:pt x="10800" y="11841"/>
                  </a:cubicBezTo>
                  <a:lnTo>
                    <a:pt x="10800" y="20559"/>
                  </a:lnTo>
                  <a:cubicBezTo>
                    <a:pt x="10800" y="2108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Left Brace 8"/>
            <p:cNvSpPr/>
            <p:nvPr/>
          </p:nvSpPr>
          <p:spPr>
            <a:xfrm>
              <a:off x="1357200" y="5500800"/>
              <a:ext cx="285480" cy="57132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16560 h 571320"/>
                <a:gd name="textAreaBottom" fmla="*/ 5547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16"/>
                    <a:pt x="10800" y="2032"/>
                  </a:cubicBezTo>
                  <a:lnTo>
                    <a:pt x="10800" y="8768"/>
                  </a:lnTo>
                  <a:cubicBezTo>
                    <a:pt x="10800" y="9784"/>
                    <a:pt x="5400" y="10800"/>
                    <a:pt x="0" y="10800"/>
                  </a:cubicBezTo>
                  <a:cubicBezTo>
                    <a:pt x="5400" y="10800"/>
                    <a:pt x="10800" y="11816"/>
                    <a:pt x="10800" y="12832"/>
                  </a:cubicBezTo>
                  <a:lnTo>
                    <a:pt x="10800" y="19568"/>
                  </a:lnTo>
                  <a:cubicBezTo>
                    <a:pt x="10800" y="2058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woUnknow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3254400" y="857160"/>
                <a:ext cx="2460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3214800" y="5143680"/>
                <a:ext cx="279072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214800" y="3929040"/>
                <a:ext cx="2757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2468520" y="2000160"/>
                <a:ext cx="3675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2549520" y="3214800"/>
                <a:ext cx="4594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woUnknow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785880"/>
            <a:ext cx="84294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cann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1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1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2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2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2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2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x1 = (b1*a22 – b2*a12)/(a11*a22 – a21*a1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x2 = (b1*a21 – b2*a11)/(a12*a21 – a11*a2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x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x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786280" y="3357720"/>
                <a:ext cx="27910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5786280" y="2143080"/>
                <a:ext cx="2757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รับ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าง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ค่าหารร่วมมากของ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ามผังงานด้านขว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5786280" y="857160"/>
          <a:ext cx="2571840" cy="58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857160"/>
                    <a:ext cx="2571840" cy="58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1671480" y="3022560"/>
            <a:ext cx="32544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m      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211   1122   108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122   1089     3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9     33     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5840" y="928800"/>
            <a:ext cx="58579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n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m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&g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n %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115" name="Object 22"/>
          <p:cNvGraphicFramePr/>
          <p:nvPr/>
        </p:nvGraphicFramePr>
        <p:xfrm>
          <a:off x="6286680" y="785880"/>
          <a:ext cx="257148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785880"/>
                    <a:ext cx="257148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SecondMa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ชื่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.tx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จำนวนเต็มมากม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งเขียนโปรแกร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Max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หาและแสด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เต็มบวก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มีค่ามากสุดเป็นอันดับสอ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น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มีจำนวนมากสุดซ้ำกัน ให้ถือว่า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มากสุดเหล่านั้นเป็นอันดับหนึ่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ทุกจำนวนในแฟ้มมีค่าเท่ากันหมด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แฟ้มนี้มีข้อมูลน้อยกว่าสองจำนวน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แสดงว่า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</a:rPr>
              <a:t>ไม่มีตัวมากสุดอันดับส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21480" y="2943360"/>
            <a:ext cx="47304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221600" y="2943360"/>
            <a:ext cx="47160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821720" y="2943360"/>
            <a:ext cx="47124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8420040" y="2943360"/>
            <a:ext cx="4730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562800" y="3259080"/>
            <a:ext cx="442800" cy="442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7182000" y="3259080"/>
            <a:ext cx="442800" cy="442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SecondMa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85840" y="785880"/>
            <a:ext cx="842940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data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-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2 = -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v = in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v &gt; ma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ax2 = ma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ax =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ax2 &lt; v &amp;&amp; v &lt; max) max2 =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ax2 == -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มีตัวมากสุดอันดับสอ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มากที่สุดอันดับส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max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09-12-01T02:54:31Z</dcterms:modified>
  <cp:revision>191</cp:revision>
  <dc:subject/>
  <dc:title>การทำโปรแกรมคอมพิวเตอร์</dc:title>
</cp:coreProperties>
</file>