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E55-C8AE-42AE-8465-85F53F2DE7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AA0-5FE9-44C4-8D58-5B069AE340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8988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fld id="{109489D2-8F08-481B-943A-F00AF4A45DEE}" type="datetime">
              <a:rPr b="0" lang="th-TH" sz="12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F0D-D740-443C-BA23-150B3E86B2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เมท็อดแบบเรียกซ้ำ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recursive)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516720" y="371628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468360" y="242100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68360" y="268596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468360" y="29671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6516720" y="371628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516720" y="299736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468360" y="242100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468360" y="268596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3746520" y="2639880"/>
            <a:ext cx="1386000" cy="501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516720" y="371628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1,f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68360" y="295272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468360" y="32623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2013840" y="447840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ลบตัวแปรของเมท็อดออก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นำตัวแปรชุดล่าสุดมาใช้ต่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,f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68360" y="29973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68360" y="32623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,f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468360" y="29973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468360" y="32623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438120" y="18273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438120" y="21067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ตรวจสอบว่าอาเรย์เรียงลำดับหรือไ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65120" y="920880"/>
            <a:ext cx="814392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orted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1; i &lt; d.length; i++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d[i - 1] &gt; d[i])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a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7580160" y="91584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65120" y="3070080"/>
            <a:ext cx="81295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d, d.length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= 1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n - 2] &gt; d[n - 1]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d, n - 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7565040" y="306540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6286320" y="2243160"/>
            <a:ext cx="2149560" cy="459720"/>
            <a:chOff x="6286320" y="2243160"/>
            <a:chExt cx="2149560" cy="459720"/>
          </a:xfrm>
        </p:grpSpPr>
        <p:sp>
          <p:nvSpPr>
            <p:cNvPr id="236" name="TextBox 7"/>
            <p:cNvSpPr/>
            <p:nvPr/>
          </p:nvSpPr>
          <p:spPr>
            <a:xfrm>
              <a:off x="628632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TextBox 8"/>
            <p:cNvSpPr/>
            <p:nvPr/>
          </p:nvSpPr>
          <p:spPr>
            <a:xfrm>
              <a:off x="664344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TextBox 9"/>
            <p:cNvSpPr/>
            <p:nvPr/>
          </p:nvSpPr>
          <p:spPr>
            <a:xfrm>
              <a:off x="700056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TextBox 10"/>
            <p:cNvSpPr/>
            <p:nvPr/>
          </p:nvSpPr>
          <p:spPr>
            <a:xfrm>
              <a:off x="735804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Box 11"/>
            <p:cNvSpPr/>
            <p:nvPr/>
          </p:nvSpPr>
          <p:spPr>
            <a:xfrm>
              <a:off x="771516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TextBox 12"/>
            <p:cNvSpPr/>
            <p:nvPr/>
          </p:nvSpPr>
          <p:spPr>
            <a:xfrm>
              <a:off x="807228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2" name="TextBox 27"/>
          <p:cNvSpPr/>
          <p:nvPr/>
        </p:nvSpPr>
        <p:spPr>
          <a:xfrm>
            <a:off x="6308640" y="5062680"/>
            <a:ext cx="217980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6308640" y="5062680"/>
            <a:ext cx="2157120" cy="459720"/>
            <a:chOff x="6308640" y="5062680"/>
            <a:chExt cx="2157120" cy="459720"/>
          </a:xfrm>
        </p:grpSpPr>
        <p:sp>
          <p:nvSpPr>
            <p:cNvPr id="244" name="TextBox 17"/>
            <p:cNvSpPr/>
            <p:nvPr/>
          </p:nvSpPr>
          <p:spPr>
            <a:xfrm>
              <a:off x="6308640" y="5062680"/>
              <a:ext cx="145116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TextBox 18"/>
            <p:cNvSpPr/>
            <p:nvPr/>
          </p:nvSpPr>
          <p:spPr>
            <a:xfrm>
              <a:off x="7745040" y="5062680"/>
              <a:ext cx="36360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urier New"/>
                  <a:ea typeface="Courier New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TextBox 19"/>
            <p:cNvSpPr/>
            <p:nvPr/>
          </p:nvSpPr>
          <p:spPr>
            <a:xfrm>
              <a:off x="8102160" y="5062680"/>
              <a:ext cx="36360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urier New"/>
                  <a:ea typeface="Courier New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Group 30"/>
          <p:cNvGrpSpPr/>
          <p:nvPr/>
        </p:nvGrpSpPr>
        <p:grpSpPr>
          <a:xfrm>
            <a:off x="6324480" y="5062680"/>
            <a:ext cx="2151000" cy="459720"/>
            <a:chOff x="6324480" y="5062680"/>
            <a:chExt cx="2151000" cy="459720"/>
          </a:xfrm>
        </p:grpSpPr>
        <p:sp>
          <p:nvSpPr>
            <p:cNvPr id="248" name="TextBox 28"/>
            <p:cNvSpPr/>
            <p:nvPr/>
          </p:nvSpPr>
          <p:spPr>
            <a:xfrm>
              <a:off x="6324480" y="5062680"/>
              <a:ext cx="178308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TextBox 29"/>
            <p:cNvSpPr/>
            <p:nvPr/>
          </p:nvSpPr>
          <p:spPr>
            <a:xfrm>
              <a:off x="8111880" y="5062680"/>
              <a:ext cx="3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urier New"/>
                  <a:ea typeface="Courier New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ำนว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mod 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1240" y="847440"/>
            <a:ext cx="841356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mod m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การคำนวณที่ใช้บ่อยในการเข้ารหัสล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ที่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% 31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ำนว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048576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ากนั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3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ที่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% 31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ำนว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2535301200456458802993406410752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ากนั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3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ีกแบ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0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31 = 2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50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% 3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% 31 = 2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% 31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Group 22"/>
          <p:cNvGrpSpPr/>
          <p:nvPr/>
        </p:nvGrpSpPr>
        <p:grpSpPr>
          <a:xfrm>
            <a:off x="2894040" y="4245120"/>
            <a:ext cx="5262480" cy="642600"/>
            <a:chOff x="2894040" y="4245120"/>
            <a:chExt cx="5262480" cy="642600"/>
          </a:xfrm>
        </p:grpSpPr>
        <p:sp>
          <p:nvSpPr>
            <p:cNvPr id="253" name="Text Box 8"/>
            <p:cNvSpPr/>
            <p:nvPr/>
          </p:nvSpPr>
          <p:spPr>
            <a:xfrm>
              <a:off x="2894040" y="4245120"/>
              <a:ext cx="23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7130880" y="4344840"/>
              <a:ext cx="10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k = 0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Group 21"/>
          <p:cNvGrpSpPr/>
          <p:nvPr/>
        </p:nvGrpSpPr>
        <p:grpSpPr>
          <a:xfrm>
            <a:off x="2894040" y="5043600"/>
            <a:ext cx="5927400" cy="642600"/>
            <a:chOff x="2894040" y="5043600"/>
            <a:chExt cx="5927400" cy="642600"/>
          </a:xfrm>
        </p:grpSpPr>
        <p:sp>
          <p:nvSpPr>
            <p:cNvPr id="256" name="Text Box 10"/>
            <p:cNvSpPr/>
            <p:nvPr/>
          </p:nvSpPr>
          <p:spPr>
            <a:xfrm>
              <a:off x="2894040" y="5043600"/>
              <a:ext cx="40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(a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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k/2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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)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2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7130880" y="5129280"/>
              <a:ext cx="16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k is even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Group 20"/>
          <p:cNvGrpSpPr/>
          <p:nvPr/>
        </p:nvGrpSpPr>
        <p:grpSpPr>
          <a:xfrm>
            <a:off x="2894040" y="5754600"/>
            <a:ext cx="5927400" cy="642600"/>
            <a:chOff x="2894040" y="5754600"/>
            <a:chExt cx="5927400" cy="642600"/>
          </a:xfrm>
        </p:grpSpPr>
        <p:sp>
          <p:nvSpPr>
            <p:cNvPr id="259" name="Text Box 12"/>
            <p:cNvSpPr/>
            <p:nvPr/>
          </p:nvSpPr>
          <p:spPr>
            <a:xfrm>
              <a:off x="2894040" y="5754600"/>
              <a:ext cx="39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a(a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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k/2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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 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% m)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2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7130880" y="5859360"/>
              <a:ext cx="16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k is odd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Group 23"/>
          <p:cNvGrpSpPr/>
          <p:nvPr/>
        </p:nvGrpSpPr>
        <p:grpSpPr>
          <a:xfrm>
            <a:off x="515880" y="4367160"/>
            <a:ext cx="2421000" cy="1987560"/>
            <a:chOff x="515880" y="4367160"/>
            <a:chExt cx="2421000" cy="1987560"/>
          </a:xfrm>
        </p:grpSpPr>
        <p:sp>
          <p:nvSpPr>
            <p:cNvPr id="262" name="Text Box 5"/>
            <p:cNvSpPr/>
            <p:nvPr/>
          </p:nvSpPr>
          <p:spPr>
            <a:xfrm>
              <a:off x="515880" y="5043600"/>
              <a:ext cx="215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a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k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 =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AutoShape 15"/>
            <p:cNvSpPr/>
            <p:nvPr/>
          </p:nvSpPr>
          <p:spPr>
            <a:xfrm>
              <a:off x="2603520" y="4367160"/>
              <a:ext cx="333360" cy="198756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51840 h 1987560"/>
                <a:gd name="textAreaBottom" fmla="*/ 1935720 h 198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49480" y="6494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49480" y="13827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149480" y="2116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149480" y="28494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149480" y="3583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149480" y="43164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149480" y="5049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240080" y="5049720"/>
            <a:ext cx="5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4138560" y="431640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138560" y="358308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138560" y="284940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138560" y="211608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4138560" y="138276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4138560" y="64944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17"/>
          <p:cNvSpPr/>
          <p:nvPr/>
        </p:nvSpPr>
        <p:spPr>
          <a:xfrm flipV="1">
            <a:off x="4619520" y="4881240"/>
            <a:ext cx="276480" cy="361800"/>
          </a:xfrm>
          <a:prstGeom prst="line">
            <a:avLst/>
          </a:prstGeom>
          <a:ln w="28440">
            <a:solidFill>
              <a:srgbClr val="cc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5068800" y="405432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5068800" y="3314880"/>
            <a:ext cx="2220840" cy="4060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080"/>
              <a:gd name="textAreaBottom" fmla="*/ 406440 h 40608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reeform 20"/>
          <p:cNvSpPr/>
          <p:nvPr/>
        </p:nvSpPr>
        <p:spPr>
          <a:xfrm>
            <a:off x="5068800" y="255888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Freeform 21"/>
          <p:cNvSpPr/>
          <p:nvPr/>
        </p:nvSpPr>
        <p:spPr>
          <a:xfrm>
            <a:off x="5068800" y="184788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reeform 22"/>
          <p:cNvSpPr/>
          <p:nvPr/>
        </p:nvSpPr>
        <p:spPr>
          <a:xfrm>
            <a:off x="5068800" y="113652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ำนว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mod 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506520" y="2859120"/>
            <a:ext cx="81453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owerMo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== 0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 = powerMod(a, k / 2, m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(p * p) % m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k % 2) == 1) p = (a * p) % m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 is od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917640" y="873000"/>
                <a:ext cx="694692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p>
                                          <m:d>
                                            <m:dPr>
                                              <m:begChr m:val="⌊"/>
                                              <m:endChr m:val="⌋"/>
                                            </m:dPr>
                                            <m:e>
                                              <m:f>
                                                <m:fPr>
                                                  <m:type m:val="lin"/>
                                                </m:fPr>
                                                <m:num>
                                                  <m:r>
                                                    <m:t xml:space="preserve">k</m:t>
                                                  </m:r>
                                                </m:num>
                                                <m:den>
                                                  <m:r>
                                                    <m:t xml:space="preserve">2</m:t>
                                                  </m:r>
                                                </m:den>
                                              </m:f>
                                            </m:e>
                                          </m:d>
                                        </m:sup>
                                      </m:s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od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m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mod</m:t>
                              </m:r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p>
                                          <m:d>
                                            <m:dPr>
                                              <m:begChr m:val="⌊"/>
                                              <m:endChr m:val="⌋"/>
                                            </m:dPr>
                                            <m:e>
                                              <m:f>
                                                <m:fPr>
                                                  <m:type m:val="lin"/>
                                                </m:fPr>
                                                <m:num>
                                                  <m:r>
                                                    <m:t xml:space="preserve">k</m:t>
                                                  </m:r>
                                                </m:num>
                                                <m:den>
                                                  <m:r>
                                                    <m:t xml:space="preserve">2</m:t>
                                                  </m:r>
                                                </m:den>
                                              </m:f>
                                            </m:e>
                                          </m:d>
                                        </m:sup>
                                      </m:s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od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m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mod</m:t>
                              </m:r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t xml:space="preserve">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วามสัมพันธ์เวียนเกิด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Recurrences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ขียนความสัมพันธ์ของจำนวนเต็มใน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27200" y="1689120"/>
            <a:ext cx="764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0, 1, 2, 3, 4, ...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27200" y="2495520"/>
            <a:ext cx="764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3, 5, 7, 9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,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...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27200" y="3303720"/>
            <a:ext cx="764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0, 1, 3, 6, 10, 15, ..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27200" y="4111560"/>
            <a:ext cx="805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0, 1, 1, 2, 3, 5, 8,..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ัญ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wer of Hano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88" name="Object 7"/>
          <p:cNvGraphicFramePr/>
          <p:nvPr/>
        </p:nvGraphicFramePr>
        <p:xfrm>
          <a:off x="2901960" y="4757760"/>
          <a:ext cx="34005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1960" y="4757760"/>
                    <a:ext cx="34005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95240" y="86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เส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ส่จานกลมมีรูตรงกลางขนาดต่างกั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บ  ในเสาต้นซ้ายกองเรียงตามขนาด ใบใหญ่สุดอยู่ล่างสุ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ย้ายจานทุกใบจากเสาซ้ายไปใส่ที่เสาขว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ย้ายได้ครั้งละใ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นุญาตให้ใบเล็กทับใบใหญ่ได้เท่านั้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ย้ายอย่างไ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4" descr="hanoiTower5"/>
          <p:cNvPicPr/>
          <p:nvPr/>
        </p:nvPicPr>
        <p:blipFill>
          <a:blip r:embed="rId3"/>
          <a:stretch/>
        </p:blipFill>
        <p:spPr>
          <a:xfrm>
            <a:off x="2911320" y="4759200"/>
            <a:ext cx="339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92360" y="4416480"/>
            <a:ext cx="4022640" cy="4597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e n : 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hanoi( n, a, b, c 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1636560" y="1455840"/>
            <a:ext cx="6030720" cy="2099880"/>
            <a:chOff x="1636560" y="1455840"/>
            <a:chExt cx="6030720" cy="2099880"/>
          </a:xfrm>
        </p:grpSpPr>
        <p:grpSp>
          <p:nvGrpSpPr>
            <p:cNvPr id="299" name="Group 9"/>
            <p:cNvGrpSpPr/>
            <p:nvPr/>
          </p:nvGrpSpPr>
          <p:grpSpPr>
            <a:xfrm>
              <a:off x="1636560" y="1455840"/>
              <a:ext cx="6030720" cy="1680480"/>
              <a:chOff x="1636560" y="1455840"/>
              <a:chExt cx="6030720" cy="1680480"/>
            </a:xfrm>
          </p:grpSpPr>
          <p:sp>
            <p:nvSpPr>
              <p:cNvPr id="300" name="AutoShape 10"/>
              <p:cNvSpPr/>
              <p:nvPr/>
            </p:nvSpPr>
            <p:spPr>
              <a:xfrm>
                <a:off x="6541920" y="1455840"/>
                <a:ext cx="135000" cy="1612800"/>
              </a:xfrm>
              <a:custGeom>
                <a:avLst/>
                <a:gdLst>
                  <a:gd name="textAreaLeft" fmla="*/ 19800 w 135000"/>
                  <a:gd name="textAreaRight" fmla="*/ 115200 w 135000"/>
                  <a:gd name="textAreaTop" fmla="*/ 19800 h 1612800"/>
                  <a:gd name="textAreaBottom" fmla="*/ 1593000 h 1612800"/>
                </a:gdLst>
                <a:ahLst/>
                <a:rect l="textAreaLeft" t="textAreaTop" r="textAreaRight" b="textAreaBottom"/>
                <a:pathLst>
                  <a:path w="21600" h="257419">
                    <a:moveTo>
                      <a:pt x="10800" y="0"/>
                    </a:moveTo>
                    <a:arcTo wR="10800" hR="10800" stAng="16200000" swAng="-5400000"/>
                    <a:lnTo>
                      <a:pt x="0" y="246619"/>
                    </a:lnTo>
                    <a:arcTo wR="10800" hR="10800" stAng="10800000" swAng="-5400000"/>
                    <a:lnTo>
                      <a:pt x="10800" y="2574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AutoShape 11"/>
              <p:cNvSpPr/>
              <p:nvPr/>
            </p:nvSpPr>
            <p:spPr>
              <a:xfrm>
                <a:off x="4589280" y="1455840"/>
                <a:ext cx="135000" cy="1612800"/>
              </a:xfrm>
              <a:custGeom>
                <a:avLst/>
                <a:gdLst>
                  <a:gd name="textAreaLeft" fmla="*/ 19800 w 135000"/>
                  <a:gd name="textAreaRight" fmla="*/ 115200 w 135000"/>
                  <a:gd name="textAreaTop" fmla="*/ 19800 h 1612800"/>
                  <a:gd name="textAreaBottom" fmla="*/ 1593000 h 1612800"/>
                </a:gdLst>
                <a:ahLst/>
                <a:rect l="textAreaLeft" t="textAreaTop" r="textAreaRight" b="textAreaBottom"/>
                <a:pathLst>
                  <a:path w="21600" h="257419">
                    <a:moveTo>
                      <a:pt x="10800" y="0"/>
                    </a:moveTo>
                    <a:arcTo wR="10800" hR="10800" stAng="16200000" swAng="-5400000"/>
                    <a:lnTo>
                      <a:pt x="0" y="246619"/>
                    </a:lnTo>
                    <a:arcTo wR="10800" hR="10800" stAng="10800000" swAng="-5400000"/>
                    <a:lnTo>
                      <a:pt x="10800" y="2574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AutoShape 12"/>
              <p:cNvSpPr/>
              <p:nvPr/>
            </p:nvSpPr>
            <p:spPr>
              <a:xfrm>
                <a:off x="2636640" y="1455840"/>
                <a:ext cx="135000" cy="1612800"/>
              </a:xfrm>
              <a:custGeom>
                <a:avLst/>
                <a:gdLst>
                  <a:gd name="textAreaLeft" fmla="*/ 19800 w 135000"/>
                  <a:gd name="textAreaRight" fmla="*/ 115200 w 135000"/>
                  <a:gd name="textAreaTop" fmla="*/ 19800 h 1612800"/>
                  <a:gd name="textAreaBottom" fmla="*/ 1593000 h 1612800"/>
                </a:gdLst>
                <a:ahLst/>
                <a:rect l="textAreaLeft" t="textAreaTop" r="textAreaRight" b="textAreaBottom"/>
                <a:pathLst>
                  <a:path w="21600" h="257419">
                    <a:moveTo>
                      <a:pt x="10800" y="0"/>
                    </a:moveTo>
                    <a:arcTo wR="10800" hR="10800" stAng="16200000" swAng="-5400000"/>
                    <a:lnTo>
                      <a:pt x="0" y="246619"/>
                    </a:lnTo>
                    <a:arcTo wR="10800" hR="10800" stAng="10800000" swAng="-5400000"/>
                    <a:lnTo>
                      <a:pt x="10800" y="2574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3"/>
              <p:cNvSpPr/>
              <p:nvPr/>
            </p:nvSpPr>
            <p:spPr>
              <a:xfrm>
                <a:off x="1636560" y="2997000"/>
                <a:ext cx="6030720" cy="1393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" name="Text Box 14"/>
            <p:cNvSpPr/>
            <p:nvPr/>
          </p:nvSpPr>
          <p:spPr>
            <a:xfrm>
              <a:off x="2420640" y="3098880"/>
              <a:ext cx="552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5"/>
            <p:cNvSpPr/>
            <p:nvPr/>
          </p:nvSpPr>
          <p:spPr>
            <a:xfrm>
              <a:off x="4371840" y="3098880"/>
              <a:ext cx="552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b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16"/>
            <p:cNvSpPr/>
            <p:nvPr/>
          </p:nvSpPr>
          <p:spPr>
            <a:xfrm>
              <a:off x="6329160" y="3098880"/>
              <a:ext cx="552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Group 17"/>
          <p:cNvGrpSpPr/>
          <p:nvPr/>
        </p:nvGrpSpPr>
        <p:grpSpPr>
          <a:xfrm>
            <a:off x="1969920" y="1735200"/>
            <a:ext cx="1449360" cy="947520"/>
            <a:chOff x="1969920" y="1735200"/>
            <a:chExt cx="1449360" cy="947520"/>
          </a:xfrm>
        </p:grpSpPr>
        <p:sp>
          <p:nvSpPr>
            <p:cNvPr id="308" name="AutoShape 18"/>
            <p:cNvSpPr/>
            <p:nvPr/>
          </p:nvSpPr>
          <p:spPr>
            <a:xfrm flipV="1">
              <a:off x="1969920" y="1735200"/>
              <a:ext cx="1449360" cy="947520"/>
            </a:xfrm>
            <a:custGeom>
              <a:avLst/>
              <a:gdLst>
                <a:gd name="textAreaLeft" fmla="*/ 390600 w 1449360"/>
                <a:gd name="textAreaRight" fmla="*/ 1058760 w 1449360"/>
                <a:gd name="textAreaTop" fmla="*/ 255600 h 947520"/>
                <a:gd name="textAreaBottom" fmla="*/ 691920 h 94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026" y="21600"/>
                  </a:lnTo>
                  <a:lnTo>
                    <a:pt x="1357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c0c0c0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2209680" y="1962000"/>
              <a:ext cx="9586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–1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0" name="AutoShape 20"/>
          <p:cNvSpPr/>
          <p:nvPr/>
        </p:nvSpPr>
        <p:spPr>
          <a:xfrm>
            <a:off x="1854360" y="2755800"/>
            <a:ext cx="1699920" cy="177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333"/>
              </a:gs>
              <a:gs pos="50000">
                <a:srgbClr val="c0c0c0"/>
              </a:gs>
              <a:gs pos="100000">
                <a:srgbClr val="333333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Freeform 21"/>
          <p:cNvSpPr/>
          <p:nvPr/>
        </p:nvSpPr>
        <p:spPr>
          <a:xfrm>
            <a:off x="4765680" y="104760"/>
            <a:ext cx="1353960" cy="219240"/>
          </a:xfrm>
          <a:custGeom>
            <a:avLst/>
            <a:gdLst>
              <a:gd name="textAreaLeft" fmla="*/ 0 w 1353960"/>
              <a:gd name="textAreaRight" fmla="*/ 1354320 w 13539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7" h="140">
                <a:moveTo>
                  <a:pt x="0" y="112"/>
                </a:moveTo>
                <a:cubicBezTo>
                  <a:pt x="53" y="75"/>
                  <a:pt x="107" y="38"/>
                  <a:pt x="211" y="21"/>
                </a:cubicBezTo>
                <a:cubicBezTo>
                  <a:pt x="315" y="4"/>
                  <a:pt x="503" y="12"/>
                  <a:pt x="622" y="12"/>
                </a:cubicBezTo>
                <a:cubicBezTo>
                  <a:pt x="741" y="12"/>
                  <a:pt x="827" y="0"/>
                  <a:pt x="924" y="21"/>
                </a:cubicBezTo>
                <a:cubicBezTo>
                  <a:pt x="1021" y="42"/>
                  <a:pt x="1114" y="91"/>
                  <a:pt x="1207" y="1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" name="Group 22"/>
          <p:cNvGrpSpPr/>
          <p:nvPr/>
        </p:nvGrpSpPr>
        <p:grpSpPr>
          <a:xfrm>
            <a:off x="2595600" y="3684600"/>
            <a:ext cx="4021200" cy="564120"/>
            <a:chOff x="2595600" y="3684600"/>
            <a:chExt cx="4021200" cy="564120"/>
          </a:xfrm>
        </p:grpSpPr>
        <p:sp>
          <p:nvSpPr>
            <p:cNvPr id="313" name="Text Box 23"/>
            <p:cNvSpPr/>
            <p:nvPr/>
          </p:nvSpPr>
          <p:spPr>
            <a:xfrm>
              <a:off x="2595600" y="3789000"/>
              <a:ext cx="4021200" cy="459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hanoi(n – 1, a, c, b)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5138640" y="3684600"/>
              <a:ext cx="1073160" cy="23472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667" h="130">
                  <a:moveTo>
                    <a:pt x="0" y="130"/>
                  </a:moveTo>
                  <a:cubicBezTo>
                    <a:pt x="55" y="85"/>
                    <a:pt x="111" y="40"/>
                    <a:pt x="173" y="20"/>
                  </a:cubicBezTo>
                  <a:cubicBezTo>
                    <a:pt x="235" y="0"/>
                    <a:pt x="312" y="10"/>
                    <a:pt x="374" y="11"/>
                  </a:cubicBezTo>
                  <a:cubicBezTo>
                    <a:pt x="436" y="12"/>
                    <a:pt x="499" y="11"/>
                    <a:pt x="548" y="29"/>
                  </a:cubicBezTo>
                  <a:cubicBezTo>
                    <a:pt x="597" y="47"/>
                    <a:pt x="632" y="84"/>
                    <a:pt x="667" y="1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25"/>
          <p:cNvGrpSpPr/>
          <p:nvPr/>
        </p:nvGrpSpPr>
        <p:grpSpPr>
          <a:xfrm>
            <a:off x="2595600" y="4917960"/>
            <a:ext cx="4021200" cy="586440"/>
            <a:chOff x="2595600" y="4917960"/>
            <a:chExt cx="4021200" cy="586440"/>
          </a:xfrm>
        </p:grpSpPr>
        <p:sp>
          <p:nvSpPr>
            <p:cNvPr id="316" name="Text Box 26"/>
            <p:cNvSpPr/>
            <p:nvPr/>
          </p:nvSpPr>
          <p:spPr>
            <a:xfrm>
              <a:off x="2595600" y="5044680"/>
              <a:ext cx="4021200" cy="459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hanoi(n – 1, b, a, c)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5138640" y="4917960"/>
              <a:ext cx="1073160" cy="23472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667" h="130">
                  <a:moveTo>
                    <a:pt x="0" y="130"/>
                  </a:moveTo>
                  <a:cubicBezTo>
                    <a:pt x="55" y="85"/>
                    <a:pt x="111" y="40"/>
                    <a:pt x="173" y="20"/>
                  </a:cubicBezTo>
                  <a:cubicBezTo>
                    <a:pt x="235" y="0"/>
                    <a:pt x="312" y="10"/>
                    <a:pt x="374" y="11"/>
                  </a:cubicBezTo>
                  <a:cubicBezTo>
                    <a:pt x="436" y="12"/>
                    <a:pt x="499" y="11"/>
                    <a:pt x="548" y="29"/>
                  </a:cubicBezTo>
                  <a:cubicBezTo>
                    <a:pt x="597" y="47"/>
                    <a:pt x="632" y="84"/>
                    <a:pt x="667" y="1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54913E-006 L -8.33333E-007 -0.19236 L 0.21424 -0.19236 L 0.21424 0.0444 E">
                                      <p:cBhvr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3699E-006 L 8.33333E-007 -0.2326 L 0.42709 -0.2326 L 0.42709 0.00855 E">
                                      <p:cBhvr>
                                        <p:cTn id="81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24 0.0444 L 0.21424 -0.19468 L 0.42865 -0.19468 L 0.42865 0.01041 E">
                                      <p:cBhvr>
                                        <p:cTn id="82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8" descr="hanoiTower3"/>
          <p:cNvPicPr/>
          <p:nvPr/>
        </p:nvPicPr>
        <p:blipFill>
          <a:blip r:embed="rId1"/>
          <a:stretch/>
        </p:blipFill>
        <p:spPr>
          <a:xfrm>
            <a:off x="1160640" y="2444760"/>
            <a:ext cx="3390840" cy="1409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ก้ปัญ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wer of Hano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703160" y="26528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724120" y="26528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3704040" y="26528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694480" y="2158920"/>
            <a:ext cx="2238120" cy="201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A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2 : A -&gt; 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C -&gt; 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3 : A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B -&gt; 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2 : B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A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ก้ปัญ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wer of Hano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22400" y="1044720"/>
            <a:ext cx="63086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oi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,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== 0)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oi(n - 1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move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 +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: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-&gt;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oi(n - 1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Object 1"/>
          <p:cNvGraphicFramePr/>
          <p:nvPr/>
        </p:nvGraphicFramePr>
        <p:xfrm>
          <a:off x="6524640" y="838080"/>
          <a:ext cx="25732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83808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6524640" y="1866960"/>
          <a:ext cx="2573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24640" y="186696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6524640" y="2978280"/>
          <a:ext cx="257328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4640" y="297828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6" name="Object 7"/>
          <p:cNvGraphicFramePr/>
          <p:nvPr/>
        </p:nvGraphicFramePr>
        <p:xfrm>
          <a:off x="6524640" y="4121280"/>
          <a:ext cx="2573280" cy="94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4640" y="412128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0, 1, 3, 6, 10, 15, ...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907920"/>
            <a:ext cx="792000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ู้ว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0+1+2+...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ู้ว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85840" y="4062240"/>
            <a:ext cx="65610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= 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(n-1) + 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3516480" y="3798720"/>
            <a:ext cx="2482560" cy="1151280"/>
          </a:xfrm>
          <a:custGeom>
            <a:avLst/>
            <a:gdLst>
              <a:gd name="textAreaLeft" fmla="*/ 0 w 2482560"/>
              <a:gd name="textAreaRight" fmla="*/ 2482920 w 2482560"/>
              <a:gd name="textAreaTop" fmla="*/ 0 h 1151280"/>
              <a:gd name="textAreaBottom" fmla="*/ 1151640 h 1151280"/>
            </a:gdLst>
            <a:ahLst/>
            <a:rect l="textAreaLeft" t="textAreaTop" r="textAreaRight" b="textAreaBottom"/>
            <a:pathLst>
              <a:path w="2482948" h="1151206">
                <a:moveTo>
                  <a:pt x="2405575" y="0"/>
                </a:moveTo>
                <a:cubicBezTo>
                  <a:pt x="2444261" y="316523"/>
                  <a:pt x="2482948" y="633046"/>
                  <a:pt x="2335237" y="815926"/>
                </a:cubicBezTo>
                <a:cubicBezTo>
                  <a:pt x="2187526" y="998806"/>
                  <a:pt x="1908516" y="1043354"/>
                  <a:pt x="1519310" y="1097280"/>
                </a:cubicBezTo>
                <a:cubicBezTo>
                  <a:pt x="1130104" y="1151206"/>
                  <a:pt x="565052" y="1145344"/>
                  <a:pt x="0" y="1139483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3"/>
          <p:cNvSpPr/>
          <p:nvPr/>
        </p:nvSpPr>
        <p:spPr>
          <a:xfrm>
            <a:off x="3137040" y="3811680"/>
            <a:ext cx="298440" cy="1590480"/>
          </a:xfrm>
          <a:custGeom>
            <a:avLst/>
            <a:gdLst>
              <a:gd name="textAreaLeft" fmla="*/ 0 w 298440"/>
              <a:gd name="textAreaRight" fmla="*/ 298800 w 2984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297766" h="1589650">
                <a:moveTo>
                  <a:pt x="0" y="0"/>
                </a:moveTo>
                <a:cubicBezTo>
                  <a:pt x="87923" y="41031"/>
                  <a:pt x="175846" y="82062"/>
                  <a:pt x="225083" y="196948"/>
                </a:cubicBezTo>
                <a:cubicBezTo>
                  <a:pt x="274320" y="311834"/>
                  <a:pt x="293076" y="457200"/>
                  <a:pt x="295421" y="689317"/>
                </a:cubicBezTo>
                <a:cubicBezTo>
                  <a:pt x="297766" y="921434"/>
                  <a:pt x="239151" y="1589650"/>
                  <a:pt x="239151" y="158965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1181160" y="1428840"/>
            <a:ext cx="6678720" cy="1926360"/>
            <a:chOff x="1181160" y="1428840"/>
            <a:chExt cx="6678720" cy="1926360"/>
          </a:xfrm>
        </p:grpSpPr>
        <p:sp>
          <p:nvSpPr>
            <p:cNvPr id="99" name="Text Box 4"/>
            <p:cNvSpPr/>
            <p:nvPr/>
          </p:nvSpPr>
          <p:spPr>
            <a:xfrm>
              <a:off x="1181160" y="1431720"/>
              <a:ext cx="667872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publi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stati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a(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n) {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s = 0;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n-NO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nn-NO" sz="2000" spc="-1" strike="noStrike">
                  <a:solidFill>
                    <a:srgbClr val="0000c0"/>
                  </a:solidFill>
                  <a:latin typeface="Courier New"/>
                </a:rPr>
                <a:t>for</a:t>
              </a:r>
              <a:r>
                <a:rPr b="1" lang="nn-NO" sz="2000" spc="-1" strike="noStrike">
                  <a:solidFill>
                    <a:srgbClr val="000000"/>
                  </a:solidFill>
                  <a:latin typeface="Courier New"/>
                </a:rPr>
                <a:t> (</a:t>
              </a:r>
              <a:r>
                <a:rPr b="1" lang="nn-NO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nn-NO" sz="2000" spc="-1" strike="noStrike">
                  <a:solidFill>
                    <a:srgbClr val="000000"/>
                  </a:solidFill>
                  <a:latin typeface="Courier New"/>
                </a:rPr>
                <a:t> i = 0; i &lt;= n; i++)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 += i;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return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s;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Text Box 4"/>
            <p:cNvSpPr/>
            <p:nvPr/>
          </p:nvSpPr>
          <p:spPr>
            <a:xfrm>
              <a:off x="6829920" y="1428840"/>
              <a:ext cx="10004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แบบที่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Text Box 6"/>
          <p:cNvSpPr/>
          <p:nvPr/>
        </p:nvSpPr>
        <p:spPr>
          <a:xfrm>
            <a:off x="6717240" y="405936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0, 1, 1, 2, 3, 5, 8, 13, ..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65320" y="3533760"/>
            <a:ext cx="658656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2 = 0, fn1 = 1, fn =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2; i &lt;= n; i++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168560" y="865080"/>
            <a:ext cx="65833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f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n + 1]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[0] = 0; f[1] =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2; i &lt;= n; i++)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[i] = f[i-1] + f[i-2]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[n]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717240" y="85248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717240" y="352584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ounded Rectangular Callout 6"/>
          <p:cNvSpPr/>
          <p:nvPr/>
        </p:nvSpPr>
        <p:spPr>
          <a:xfrm>
            <a:off x="4143240" y="6072120"/>
            <a:ext cx="2117880" cy="549360"/>
          </a:xfrm>
          <a:prstGeom prst="wedgeRoundRectCallout">
            <a:avLst>
              <a:gd name="adj1" fmla="val -71912"/>
              <a:gd name="adj2" fmla="val -52777"/>
              <a:gd name="adj3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ลองเขียนดู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Group 18"/>
          <p:cNvGrpSpPr/>
          <p:nvPr/>
        </p:nvGrpSpPr>
        <p:grpSpPr>
          <a:xfrm>
            <a:off x="5509440" y="2928960"/>
            <a:ext cx="2149560" cy="459720"/>
            <a:chOff x="5509440" y="2928960"/>
            <a:chExt cx="2149560" cy="459720"/>
          </a:xfrm>
        </p:grpSpPr>
        <p:sp>
          <p:nvSpPr>
            <p:cNvPr id="109" name="TextBox 9"/>
            <p:cNvSpPr/>
            <p:nvPr/>
          </p:nvSpPr>
          <p:spPr>
            <a:xfrm>
              <a:off x="550944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TextBox 10"/>
            <p:cNvSpPr/>
            <p:nvPr/>
          </p:nvSpPr>
          <p:spPr>
            <a:xfrm>
              <a:off x="586656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Box 11"/>
            <p:cNvSpPr/>
            <p:nvPr/>
          </p:nvSpPr>
          <p:spPr>
            <a:xfrm>
              <a:off x="622368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TextBox 12"/>
            <p:cNvSpPr/>
            <p:nvPr/>
          </p:nvSpPr>
          <p:spPr>
            <a:xfrm>
              <a:off x="658080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TextBox 16"/>
            <p:cNvSpPr/>
            <p:nvPr/>
          </p:nvSpPr>
          <p:spPr>
            <a:xfrm>
              <a:off x="693828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TextBox 17"/>
            <p:cNvSpPr/>
            <p:nvPr/>
          </p:nvSpPr>
          <p:spPr>
            <a:xfrm>
              <a:off x="729540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Group 33"/>
          <p:cNvGrpSpPr/>
          <p:nvPr/>
        </p:nvGrpSpPr>
        <p:grpSpPr>
          <a:xfrm>
            <a:off x="6572160" y="4572000"/>
            <a:ext cx="2357640" cy="1923480"/>
            <a:chOff x="6572160" y="4572000"/>
            <a:chExt cx="2357640" cy="1923480"/>
          </a:xfrm>
        </p:grpSpPr>
        <p:sp>
          <p:nvSpPr>
            <p:cNvPr id="116" name="TextBox 19"/>
            <p:cNvSpPr/>
            <p:nvPr/>
          </p:nvSpPr>
          <p:spPr>
            <a:xfrm>
              <a:off x="6572160" y="4572000"/>
              <a:ext cx="2357640" cy="19234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n2  fn1   fn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+ 1  = 1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  + 1  = 2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  + 2  = 3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  + 3  = 5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  + 5  = 8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7" name="Straight Arrow Connector 21"/>
            <p:cNvCxnSpPr/>
            <p:nvPr/>
          </p:nvCxnSpPr>
          <p:spPr>
            <a:xfrm flipH="1">
              <a:off x="7142760" y="507060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Straight Arrow Connector 22"/>
            <p:cNvCxnSpPr/>
            <p:nvPr/>
          </p:nvCxnSpPr>
          <p:spPr>
            <a:xfrm flipH="1">
              <a:off x="7929000" y="507060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Straight Arrow Connector 27"/>
            <p:cNvCxnSpPr/>
            <p:nvPr/>
          </p:nvCxnSpPr>
          <p:spPr>
            <a:xfrm flipH="1">
              <a:off x="7142760" y="542772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Straight Arrow Connector 28"/>
            <p:cNvCxnSpPr/>
            <p:nvPr/>
          </p:nvCxnSpPr>
          <p:spPr>
            <a:xfrm flipH="1">
              <a:off x="7929000" y="542772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Straight Arrow Connector 29"/>
            <p:cNvCxnSpPr/>
            <p:nvPr/>
          </p:nvCxnSpPr>
          <p:spPr>
            <a:xfrm flipH="1">
              <a:off x="7142760" y="571356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Straight Arrow Connector 30"/>
            <p:cNvCxnSpPr/>
            <p:nvPr/>
          </p:nvCxnSpPr>
          <p:spPr>
            <a:xfrm flipH="1">
              <a:off x="7929000" y="571356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31"/>
            <p:cNvCxnSpPr/>
            <p:nvPr/>
          </p:nvCxnSpPr>
          <p:spPr>
            <a:xfrm flipH="1">
              <a:off x="7142760" y="607068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Straight Arrow Connector 32"/>
            <p:cNvCxnSpPr/>
            <p:nvPr/>
          </p:nvCxnSpPr>
          <p:spPr>
            <a:xfrm flipH="1">
              <a:off x="7929000" y="607068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0, 1, 1, 2, 3, 5, 8, 13, ..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47760" y="1940040"/>
            <a:ext cx="65610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2 = fib(n-2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1 = fib(n-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fn1 + fn2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771240" y="192708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33360" y="4191120"/>
            <a:ext cx="65613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fib(n-1) + fib(n-2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4120" y="1139760"/>
            <a:ext cx="5126040" cy="5101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549360" y="968400"/>
            <a:ext cx="8035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 =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1; i &lt;= n; i++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 = fac * i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547760" y="96372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49360" y="3403440"/>
            <a:ext cx="8035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== 0)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 = fac(n-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* f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547760" y="339876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208680" y="2658960"/>
            <a:ext cx="53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4525920" y="3670200"/>
            <a:ext cx="2424600" cy="398880"/>
            <a:chOff x="4525920" y="3670200"/>
            <a:chExt cx="2424600" cy="398880"/>
          </a:xfrm>
        </p:grpSpPr>
        <p:sp>
          <p:nvSpPr>
            <p:cNvPr id="136" name="Text Box 10"/>
            <p:cNvSpPr/>
            <p:nvPr/>
          </p:nvSpPr>
          <p:spPr>
            <a:xfrm>
              <a:off x="5587200" y="3670200"/>
              <a:ext cx="1363320" cy="398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กรณีเล็กสุ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 flipH="1">
              <a:off x="4525920" y="3895560"/>
              <a:ext cx="10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Group 12"/>
          <p:cNvGrpSpPr/>
          <p:nvPr/>
        </p:nvGrpSpPr>
        <p:grpSpPr>
          <a:xfrm>
            <a:off x="3564000" y="4289400"/>
            <a:ext cx="3935520" cy="398880"/>
            <a:chOff x="3564000" y="4289400"/>
            <a:chExt cx="3935520" cy="398880"/>
          </a:xfrm>
        </p:grpSpPr>
        <p:sp>
          <p:nvSpPr>
            <p:cNvPr id="139" name="Text Box 13"/>
            <p:cNvSpPr/>
            <p:nvPr/>
          </p:nvSpPr>
          <p:spPr>
            <a:xfrm>
              <a:off x="4635000" y="4289400"/>
              <a:ext cx="2864520" cy="398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ตามนิยามของแฟกตอเรียล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 flipH="1" flipV="1">
              <a:off x="3564000" y="4365000"/>
              <a:ext cx="101736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หาค่า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th-TH" sz="4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42" name="Object 16"/>
          <p:cNvGraphicFramePr/>
          <p:nvPr/>
        </p:nvGraphicFramePr>
        <p:xfrm>
          <a:off x="2832120" y="5300640"/>
          <a:ext cx="3459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5300640"/>
                    <a:ext cx="345924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cursiv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โปรแกรมที่มีการเรียกตัวเ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ทำงานแบ่งเป็นกรณี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รณีพื้นฐาน ทำเสร็จได้ทันท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รณีอื่น เรียกตัวเอง โดยขนาดของปัญหาต้องเล็กล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รียกแต่ละครั้ง จะมีการสร้างตัวแปรชุดใหม่ของเมท็อดในระบ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163520" y="3873600"/>
            <a:ext cx="6865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ngsana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[] args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jeng3(10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jeng3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ngsana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out.println(n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jeng3(n-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4425480" y="55990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สั่งทำงาน จะเกิดอะไรขึ้น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592600" y="861840"/>
            <a:ext cx="3429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== 0)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 = fac(n-1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 * f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38120" y="157788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513480" y="5154480"/>
            <a:ext cx="18734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438120" y="185724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438120" y="24177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438120" y="269712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438120" y="299232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052360" y="471168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ระบบเรียกเมท็อ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จะสร้างตัวแปร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242100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7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468360" y="268596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468360" y="29671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677240" y="4305240"/>
            <a:ext cx="434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เรียกเมท็อ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ีก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จะสร้างตัวแปรชุดใหม่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ุดใหม่ทับชุดเก่า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ะนำตัวแปรชุดเก่ากลับมาใช้ใหม่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3:46:59Z</dcterms:created>
  <dc:creator>chai</dc:creator>
  <dc:description/>
  <dc:language>en-US</dc:language>
  <cp:lastModifiedBy>Somchai</cp:lastModifiedBy>
  <dcterms:modified xsi:type="dcterms:W3CDTF">2009-09-01T02:36:04Z</dcterms:modified>
  <cp:revision>292</cp:revision>
  <dc:subject/>
  <dc:title>Slide 1</dc:title>
</cp:coreProperties>
</file>