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8F2-2B54-4139-8BF5-8B960451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D5B-5904-4657-80B6-F9BCCBC3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EFF-BF6D-44DA-93E0-707A6963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FEF-08E8-4B50-A5AA-FA09D221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4763-A133-41B3-B1E1-1803B85A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4F80-D17E-4A6C-9240-100A6E17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EDB0-667E-4B43-82E9-0AE0F17B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2D4D-0870-42E0-84EC-D0BCD53E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D6D5-24FB-4108-A8AC-ADF6B2F9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4D06-78A0-4C63-9D4C-A2089BA3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B196-9378-4C4B-B587-4114E06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453-EAFF-4C2B-B775-137DC3A8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B484-EAA6-482E-B0A6-0202822B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211C-2848-4654-9963-5C18115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0B07-2EFB-4657-90BA-4F139418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B461-6482-45C5-AA1B-A2C793C3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D740-43F9-4A87-8FC5-AC9C1842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85B-A948-49C2-862C-CC3C4767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40C-7717-4B91-BE3A-E437445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4B6-9EC4-4351-9F27-852224C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570-06CC-4CAD-BB29-FA7F7FE9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791-FCC3-4A00-B57E-D5B69413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283-CEF0-4635-8C1C-A0CC9C9A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8C5-8C99-499B-8F53-504D65F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ECE1-762C-41D0-BEF6-9D59CDAB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2286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154F-4556-4ADA-9913-8B74B1398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awt/Graphics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Graphics and Java 2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4000" y="260280"/>
            <a:ext cx="8424720" cy="597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24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Listener() {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anonymous inner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25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26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isplay JColorChooser when user clicks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27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actionPerformed( ActionEvent event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28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29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color = JColorChooser.showDialog(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0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ShowColors.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Choose a color"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colo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1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2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default color, if no color is retur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3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( color ==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4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   color =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LIGHT_GRA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5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6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hange content pane's background 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7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   container.setBackground( colo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8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39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}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anonymous inner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0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);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all to add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1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2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container.add( changeColorButton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3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4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0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3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5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6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ShowColor2 constructor</a:t>
            </a: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8000" y="1773360"/>
            <a:ext cx="3779640" cy="1374840"/>
            <a:chOff x="108000" y="1773360"/>
            <a:chExt cx="3779640" cy="1374840"/>
          </a:xfrm>
        </p:grpSpPr>
        <p:sp>
          <p:nvSpPr>
            <p:cNvPr id="221" name=""/>
            <p:cNvSpPr/>
            <p:nvPr/>
          </p:nvSpPr>
          <p:spPr>
            <a:xfrm flipV="1">
              <a:off x="2484360" y="1773360"/>
              <a:ext cx="1403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000" y="2324160"/>
              <a:ext cx="2376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ColorChoo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lows user to choose from among several col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51280" y="1773360"/>
            <a:ext cx="3097440" cy="2940120"/>
            <a:chOff x="5651280" y="1773360"/>
            <a:chExt cx="3097440" cy="2940120"/>
          </a:xfrm>
        </p:grpSpPr>
        <p:sp>
          <p:nvSpPr>
            <p:cNvPr id="224" name=""/>
            <p:cNvSpPr/>
            <p:nvPr/>
          </p:nvSpPr>
          <p:spPr>
            <a:xfrm flipH="1" flipV="1">
              <a:off x="5651280" y="1773360"/>
              <a:ext cx="887400" cy="25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39040" y="388944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th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howDialo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splays the color chooser dialo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49D-3C6E-48D5-AA53-56AC211F1B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5280" y="227160"/>
            <a:ext cx="8353440" cy="183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7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xecut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8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49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50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howColors application =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ShowColor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51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application.setDefaultCloseOperation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52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</a:rPr>
              <a:t>53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ShowColor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809880" cy="1238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162320" cy="3800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95280" y="4869000"/>
            <a:ext cx="3809880" cy="123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9C2-7197-4444-A350-CFF7271D60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Font Control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ass </a:t>
            </a:r>
            <a:r>
              <a:rPr b="0" lang="en-US" sz="3200" spc="-1" strike="noStrike">
                <a:solidFill>
                  <a:srgbClr val="0000cc"/>
                </a:solidFill>
                <a:latin typeface="Lucida Console"/>
              </a:rPr>
              <a:t>Fo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ains methods and constants for font contro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nt constructor takes three argu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nt na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Monospace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SansSeri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Seri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etc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nt sty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Font.PLAI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Font.ITALIC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Font.BOL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nt siz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asured in points (1/72 of inch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6B8-B0CA-4A19-B3FD-4B5AD491D7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ont-related methods and constants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35240" y="1420920"/>
          <a:ext cx="630864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420920"/>
                    <a:ext cx="630864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BE9-B16A-47B7-ACEF-C5449FE9EA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2637000"/>
            <a:ext cx="6937200" cy="316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font to Serif (Times), bold, 12pt and draw a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.setFont(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erif"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Font.BOL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.drawString(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erif 12 point bold."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font to Monospaced (Courier), italic, 24pt and draw a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.setFont(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Monospaced"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Font.ITA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.drawString(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Monospaced 24 point italic."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font to SansSerif (Helvetica), plain, 14pt and draw a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.setFont(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ansSerif"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Font.PLAIN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.drawString(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ansSerif 14 point plain."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font to Serif (Times), bold/italic, 18pt and draw a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.setColor( Color.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.setFont(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Font(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Serif"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Font.BOL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Font.ITA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.drawString( g.getFont().getName() +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+ g.getFont().getSize()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Lucida Console"/>
                <a:ea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 point bold italic."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10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ont-related methods and constants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763640" y="836640"/>
          <a:ext cx="8520120" cy="232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836640"/>
                    <a:ext cx="852012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84720" y="5516640"/>
            <a:ext cx="4141800" cy="123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662-C7F7-41AE-ADBE-5DCB8E36D5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Java 2D API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Java 2D AP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vides advanced 2D graphics capabilit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java.aw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java.awt.imag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java.awt.colo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java.awt.fon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java.awt.geo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java.awt.prin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java.awt.image.renderabl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es class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java.awt.Graphics2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xtends class </a:t>
            </a: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java.awt.Graphic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A9A-1BE8-4001-A731-A4A7ED55B1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Java 2D API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using Swing overide </a:t>
            </a:r>
            <a:r>
              <a:rPr b="0" lang="en-US" sz="3200" spc="-1" strike="noStrike">
                <a:solidFill>
                  <a:srgbClr val="0000ff"/>
                </a:solidFill>
                <a:latin typeface="Lucida Console"/>
              </a:rPr>
              <a:t>paintComponen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stead of </a:t>
            </a:r>
            <a:r>
              <a:rPr b="0" lang="en-US" sz="3200" spc="-1" strike="noStrike">
                <a:solidFill>
                  <a:srgbClr val="0000ff"/>
                </a:solidFill>
                <a:latin typeface="Lucida Console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C53-70C4-4929-BC5A-3EC071830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Java 2D API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ava 2D shap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ckage </a:t>
            </a:r>
            <a:r>
              <a:rPr b="0" lang="en-US" sz="2800" spc="-1" strike="noStrike">
                <a:solidFill>
                  <a:srgbClr val="0000cc"/>
                </a:solidFill>
                <a:latin typeface="Lucida Console"/>
              </a:rPr>
              <a:t>java.awt.geo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Ellipse2D.Doub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Rectangle2D.Doub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RoundRectangle2D.Doub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Arc3D.Doub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Lines2D.Doub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1F4-74D6-4FF0-921A-F8639E3737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Java 2D API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Java 2D API introduces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java.awt.Graphics2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, a new type of Graphics object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2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extends the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Lucida Console"/>
                <a:hlinkClick r:id="rId1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class to provide access to the enhanced graphics and rendering features of the Java 2D API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 use Java 2D API features, you cast the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bject passed into a component's rendering method to a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2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bject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4437000"/>
            <a:ext cx="5616720" cy="1295640"/>
          </a:xfrm>
          <a:prstGeom prst="rect">
            <a:avLst/>
          </a:prstGeom>
          <a:solidFill>
            <a:srgbClr val="ffe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Lucida Console"/>
              </a:rPr>
              <a:t>public void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Paint(Graphics 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phics2D g2 = (Graphics2D) 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0F6-938A-4105-A0C2-5942CD07A3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Java 2D Drawing Process: Step 1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st </a:t>
            </a:r>
            <a:r>
              <a:rPr b="0" lang="en-US" sz="2800" spc="-1" strike="noStrike">
                <a:solidFill>
                  <a:srgbClr val="0000cc"/>
                </a:solidFill>
                <a:latin typeface="Lucida Console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bject to </a:t>
            </a:r>
            <a:r>
              <a:rPr b="0" lang="en-US" sz="2800" spc="-1" strike="noStrike">
                <a:solidFill>
                  <a:srgbClr val="0000cc"/>
                </a:solidFill>
                <a:latin typeface="Lucida Console"/>
              </a:rPr>
              <a:t>Graphics 2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Lucida Console"/>
              </a:rPr>
              <a:t>public void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paintComponent(Graphics g) {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uper.paingComponent(g);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// Typical Swing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raphics2d g2d = (Graphics2d) g;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2d.doSomeStuff(...);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 methods that return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n Java 1.1 return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2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n Java 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paint, paintComponen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getGraphic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E1D-2B04-4C0F-B96D-4719CAA5E6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ava’s graphics capabiliti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rawing 2D shap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rolling colo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rolling fo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ava 2D AP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re sophisticated graphics capabil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rawing custom 2D shap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lling shapes with colors and patter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D9A-61A3-418B-A50C-30BF040EE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Java 2D Drawing Process: Step 2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t pen paramete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setPain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fillColorOrPattern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setStroke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penThicknessOrPattern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setComposite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someAlphaComposite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setFon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someFont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...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rotate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...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scale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...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shear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...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setTransform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someAffineTransform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14E-A7B6-4605-8B79-C4E6E68551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Java 2D Drawing Process: Step 3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eate a Shape objec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Rectangle2D.Double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rect = ...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Ellepse2D.Double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ellipse = ...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poly = ...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GeneralPath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path = ...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Lucida Console"/>
              </a:rPr>
              <a:t>// satisfies Shape interfa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SomeShapeYouDefined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shape = ...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shapes are in the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java.awt.ge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acka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re is a corresponding Shape class for most of the draw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Xxx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thods of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528-7321-4608-AF24-06D081EA3D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Java 2D Drawing Process: Step 4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raw an outlined or filled version of the Shap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someShape)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g2d.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fill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someShape)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legacy methods are still supporte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Console"/>
              </a:rPr>
              <a:t>drawSt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Lucida Console"/>
              </a:rPr>
              <a:t>drawLine, drawRect, fillRec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08C-6861-4728-8104-E1E26BF00A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Introducti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lasses and Interfaces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71640" y="1413000"/>
            <a:ext cx="6855840" cy="5105160"/>
            <a:chOff x="971640" y="1413000"/>
            <a:chExt cx="6855840" cy="5105160"/>
          </a:xfrm>
        </p:grpSpPr>
        <p:sp>
          <p:nvSpPr>
            <p:cNvPr id="91" name=""/>
            <p:cNvSpPr/>
            <p:nvPr/>
          </p:nvSpPr>
          <p:spPr>
            <a:xfrm>
              <a:off x="971640" y="1413000"/>
              <a:ext cx="6855840" cy="51051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97160" y="3600360"/>
              <a:ext cx="1559520" cy="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66560" y="2889360"/>
              <a:ext cx="1866240" cy="177840"/>
              <a:chOff x="2266560" y="2889360"/>
              <a:chExt cx="1866240" cy="177840"/>
            </a:xfrm>
          </p:grpSpPr>
          <p:sp>
            <p:nvSpPr>
              <p:cNvPr id="94" name=""/>
              <p:cNvSpPr/>
              <p:nvPr/>
            </p:nvSpPr>
            <p:spPr>
              <a:xfrm>
                <a:off x="2266560" y="288936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66560" y="288936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266560" y="2660760"/>
              <a:ext cx="1866240" cy="177840"/>
              <a:chOff x="2266560" y="2660760"/>
              <a:chExt cx="1866240" cy="177840"/>
            </a:xfrm>
          </p:grpSpPr>
          <p:sp>
            <p:nvSpPr>
              <p:cNvPr id="97" name=""/>
              <p:cNvSpPr/>
              <p:nvPr/>
            </p:nvSpPr>
            <p:spPr>
              <a:xfrm>
                <a:off x="2266560" y="266076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66560" y="266076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560" y="2432160"/>
              <a:ext cx="1866240" cy="177840"/>
              <a:chOff x="2266560" y="2432160"/>
              <a:chExt cx="1866240" cy="1778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66560" y="243216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66560" y="243216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66560" y="2178000"/>
              <a:ext cx="1866240" cy="177840"/>
              <a:chOff x="2266560" y="2178000"/>
              <a:chExt cx="1866240" cy="177840"/>
            </a:xfrm>
          </p:grpSpPr>
          <p:sp>
            <p:nvSpPr>
              <p:cNvPr id="103" name=""/>
              <p:cNvSpPr/>
              <p:nvPr/>
            </p:nvSpPr>
            <p:spPr>
              <a:xfrm>
                <a:off x="2266560" y="217800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66560" y="217800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66560" y="1720800"/>
              <a:ext cx="1866240" cy="177840"/>
              <a:chOff x="2266560" y="1720800"/>
              <a:chExt cx="1866240" cy="177840"/>
            </a:xfrm>
          </p:grpSpPr>
          <p:sp>
            <p:nvSpPr>
              <p:cNvPr id="106" name=""/>
              <p:cNvSpPr/>
              <p:nvPr/>
            </p:nvSpPr>
            <p:spPr>
              <a:xfrm>
                <a:off x="2266560" y="172080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560" y="172080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66560" y="1949400"/>
              <a:ext cx="1866240" cy="177840"/>
              <a:chOff x="2266560" y="1949400"/>
              <a:chExt cx="1866240" cy="177840"/>
            </a:xfrm>
          </p:grpSpPr>
          <p:sp>
            <p:nvSpPr>
              <p:cNvPr id="109" name=""/>
              <p:cNvSpPr/>
              <p:nvPr/>
            </p:nvSpPr>
            <p:spPr>
              <a:xfrm>
                <a:off x="2266560" y="194940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66560" y="1949400"/>
                <a:ext cx="186624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276560" y="1492200"/>
              <a:ext cx="1485000" cy="177840"/>
              <a:chOff x="1276560" y="1492200"/>
              <a:chExt cx="1485000" cy="177840"/>
            </a:xfrm>
          </p:grpSpPr>
          <p:sp>
            <p:nvSpPr>
              <p:cNvPr id="112" name=""/>
              <p:cNvSpPr/>
              <p:nvPr/>
            </p:nvSpPr>
            <p:spPr>
              <a:xfrm>
                <a:off x="1276560" y="1492200"/>
                <a:ext cx="148500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7" y="0"/>
                    </a:moveTo>
                    <a:lnTo>
                      <a:pt x="1998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87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76560" y="1492200"/>
                <a:ext cx="1485000" cy="177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7" y="0"/>
                    </a:moveTo>
                    <a:lnTo>
                      <a:pt x="1998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87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035440" y="1830240"/>
              <a:ext cx="22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35440" y="2058840"/>
              <a:ext cx="22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35440" y="2287440"/>
              <a:ext cx="22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35440" y="2516040"/>
              <a:ext cx="22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5440" y="2744640"/>
              <a:ext cx="22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35440" y="5430960"/>
              <a:ext cx="22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71280" y="5888160"/>
              <a:ext cx="230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1280" y="6116760"/>
              <a:ext cx="230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71280" y="6345360"/>
              <a:ext cx="230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35440" y="4194360"/>
              <a:ext cx="22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35440" y="4422960"/>
              <a:ext cx="228600" cy="1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61520" y="3278160"/>
              <a:ext cx="29329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000" spc="-1" strike="noStrike">
                  <a:solidFill>
                    <a:srgbClr val="000000"/>
                  </a:solidFill>
                  <a:latin typeface="Times New Roman"/>
                </a:rPr>
                <a:t>Classes and interfaces from the Java2D API that appear in package java.aw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35440" y="3965760"/>
              <a:ext cx="228600" cy="1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35440" y="4973760"/>
              <a:ext cx="22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35440" y="5202360"/>
              <a:ext cx="22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76560" y="1542960"/>
              <a:ext cx="14850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38320" y="1670040"/>
              <a:ext cx="360" cy="3759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7"/>
                  </a:move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5960" y="5522760"/>
              <a:ext cx="360" cy="819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4"/>
                  </a:move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66560" y="1771560"/>
              <a:ext cx="1866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Co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66560" y="2000160"/>
              <a:ext cx="1866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66560" y="2228760"/>
              <a:ext cx="1866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F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6560" y="2479680"/>
              <a:ext cx="18662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FontMetr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66560" y="2711520"/>
              <a:ext cx="18662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200" spc="-1" strike="noStrike">
                  <a:solidFill>
                    <a:srgbClr val="000000"/>
                  </a:solidFill>
                  <a:latin typeface="Times New Roman"/>
                </a:rPr>
                <a:t>Graph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04720" y="2936880"/>
              <a:ext cx="18277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olyg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38320" y="2965320"/>
              <a:ext cx="228240" cy="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6680" y="2762280"/>
              <a:ext cx="360" cy="838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32800" y="2762280"/>
              <a:ext cx="15238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266560" y="3524400"/>
              <a:ext cx="1866240" cy="179280"/>
              <a:chOff x="2266560" y="3524400"/>
              <a:chExt cx="1866240" cy="179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2267640" y="3524400"/>
                <a:ext cx="1865160" cy="178560"/>
                <a:chOff x="2267640" y="3524400"/>
                <a:chExt cx="1865160" cy="1785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267640" y="3524400"/>
                  <a:ext cx="1865160" cy="178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67640" y="3524400"/>
                  <a:ext cx="1865160" cy="178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2266560" y="3575520"/>
                <a:ext cx="1866240" cy="1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sz="1200" spc="-1" strike="noStrike">
                    <a:solidFill>
                      <a:srgbClr val="000000"/>
                    </a:solidFill>
                    <a:latin typeface="Times New Roman"/>
                  </a:rPr>
                  <a:t>Graphics2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968080" y="3524400"/>
              <a:ext cx="1485360" cy="1058760"/>
              <a:chOff x="5968080" y="3524400"/>
              <a:chExt cx="1485360" cy="105876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5968080" y="3524400"/>
                <a:ext cx="1485360" cy="310680"/>
                <a:chOff x="5968080" y="3524400"/>
                <a:chExt cx="1485360" cy="31068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5968800" y="3524400"/>
                  <a:ext cx="1484640" cy="310680"/>
                  <a:chOff x="5968800" y="3524400"/>
                  <a:chExt cx="1484640" cy="3106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968800" y="3524400"/>
                    <a:ext cx="1484640" cy="31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7" y="0"/>
                        </a:moveTo>
                        <a:lnTo>
                          <a:pt x="19987" y="19959"/>
                        </a:lnTo>
                        <a:lnTo>
                          <a:pt x="0" y="19959"/>
                        </a:lnTo>
                        <a:lnTo>
                          <a:pt x="0" y="0"/>
                        </a:lnTo>
                        <a:lnTo>
                          <a:pt x="19987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68800" y="3524400"/>
                    <a:ext cx="1484640" cy="31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7" y="0"/>
                        </a:moveTo>
                        <a:lnTo>
                          <a:pt x="19987" y="19959"/>
                        </a:lnTo>
                        <a:lnTo>
                          <a:pt x="0" y="19959"/>
                        </a:lnTo>
                        <a:lnTo>
                          <a:pt x="0" y="0"/>
                        </a:lnTo>
                        <a:lnTo>
                          <a:pt x="19987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5968080" y="3570480"/>
                  <a:ext cx="148536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erface </a:t>
                  </a:r>
                  <a:br>
                    <a:rPr sz="1000"/>
                  </a:br>
                  <a:r>
                    <a:rPr b="0" sz="1000" spc="-1" strike="noStrike">
                      <a:solidFill>
                        <a:srgbClr val="000000"/>
                      </a:solidFill>
                      <a:latin typeface="Times New Roman"/>
                    </a:rPr>
                    <a:t>java.awt.Pai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68080" y="3898800"/>
                <a:ext cx="1485360" cy="310680"/>
                <a:chOff x="5968080" y="3898800"/>
                <a:chExt cx="1485360" cy="3106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5968800" y="3898800"/>
                  <a:ext cx="1484640" cy="310680"/>
                  <a:chOff x="5968800" y="3898800"/>
                  <a:chExt cx="1484640" cy="3106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5968800" y="3898800"/>
                    <a:ext cx="1484640" cy="31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7" y="0"/>
                        </a:moveTo>
                        <a:lnTo>
                          <a:pt x="19987" y="19959"/>
                        </a:lnTo>
                        <a:lnTo>
                          <a:pt x="0" y="19959"/>
                        </a:lnTo>
                        <a:lnTo>
                          <a:pt x="0" y="0"/>
                        </a:lnTo>
                        <a:lnTo>
                          <a:pt x="19987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968800" y="3898800"/>
                    <a:ext cx="1484640" cy="31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7" y="0"/>
                        </a:moveTo>
                        <a:lnTo>
                          <a:pt x="19987" y="19959"/>
                        </a:lnTo>
                        <a:lnTo>
                          <a:pt x="0" y="19959"/>
                        </a:lnTo>
                        <a:lnTo>
                          <a:pt x="0" y="0"/>
                        </a:lnTo>
                        <a:lnTo>
                          <a:pt x="19987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5968080" y="3944880"/>
                  <a:ext cx="14853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erface </a:t>
                  </a:r>
                  <a:br>
                    <a:rPr sz="1000"/>
                  </a:br>
                  <a:r>
                    <a:rPr b="0" sz="1000" spc="-1" strike="noStrike">
                      <a:solidFill>
                        <a:srgbClr val="000000"/>
                      </a:solidFill>
                      <a:latin typeface="Times New Roman"/>
                    </a:rPr>
                    <a:t>java.awt.Shap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68080" y="4272120"/>
                <a:ext cx="1485360" cy="311040"/>
                <a:chOff x="5968080" y="4272120"/>
                <a:chExt cx="1485360" cy="31104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5968800" y="4272120"/>
                  <a:ext cx="1484640" cy="311040"/>
                  <a:chOff x="5968800" y="4272120"/>
                  <a:chExt cx="1484640" cy="31104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5968800" y="4272120"/>
                    <a:ext cx="14846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7" y="0"/>
                        </a:moveTo>
                        <a:lnTo>
                          <a:pt x="19987" y="19959"/>
                        </a:lnTo>
                        <a:lnTo>
                          <a:pt x="0" y="19959"/>
                        </a:lnTo>
                        <a:lnTo>
                          <a:pt x="0" y="0"/>
                        </a:lnTo>
                        <a:lnTo>
                          <a:pt x="19987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968800" y="4272120"/>
                    <a:ext cx="14846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7" y="0"/>
                        </a:moveTo>
                        <a:lnTo>
                          <a:pt x="19987" y="19959"/>
                        </a:lnTo>
                        <a:lnTo>
                          <a:pt x="0" y="19959"/>
                        </a:lnTo>
                        <a:lnTo>
                          <a:pt x="0" y="0"/>
                        </a:lnTo>
                        <a:lnTo>
                          <a:pt x="19987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>
                  <a:off x="5968080" y="4318560"/>
                  <a:ext cx="148536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sz="1000" spc="-1" strike="noStrike">
                      <a:solidFill>
                        <a:srgbClr val="000000"/>
                      </a:solidFill>
                      <a:latin typeface="Times New Roman"/>
                    </a:rPr>
                    <a:t>interface </a:t>
                  </a:r>
                  <a:br>
                    <a:rPr sz="1000"/>
                  </a:br>
                  <a:r>
                    <a:rPr b="0" sz="1000" spc="-1" strike="noStrike">
                      <a:solidFill>
                        <a:srgbClr val="000000"/>
                      </a:solidFill>
                      <a:latin typeface="Times New Roman"/>
                    </a:rPr>
                    <a:t>java.awt.Strok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2261520" y="4640400"/>
              <a:ext cx="2770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000" spc="-1" strike="noStrike">
                  <a:solidFill>
                    <a:srgbClr val="000000"/>
                  </a:solidFill>
                  <a:latin typeface="Times New Roman"/>
                </a:rPr>
                <a:t>Classes from the Java2D API that appear in package java.awt.ge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266560" y="3854520"/>
              <a:ext cx="1866240" cy="636480"/>
              <a:chOff x="2266560" y="3854520"/>
              <a:chExt cx="1866240" cy="63648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2267640" y="4312440"/>
                <a:ext cx="1865160" cy="178200"/>
                <a:chOff x="2267640" y="4312440"/>
                <a:chExt cx="1865160" cy="178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267640" y="4312440"/>
                  <a:ext cx="1865160" cy="178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267640" y="4312440"/>
                  <a:ext cx="1865160" cy="178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267640" y="4083480"/>
                <a:ext cx="1865160" cy="177840"/>
                <a:chOff x="2267640" y="4083480"/>
                <a:chExt cx="1865160" cy="1778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267640" y="4083480"/>
                  <a:ext cx="1865160" cy="177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267640" y="4083480"/>
                  <a:ext cx="1865160" cy="177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267640" y="3854520"/>
                <a:ext cx="1865160" cy="178200"/>
                <a:chOff x="2267640" y="3854520"/>
                <a:chExt cx="1865160" cy="178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267640" y="3854520"/>
                  <a:ext cx="1865160" cy="178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267640" y="3854520"/>
                  <a:ext cx="1865160" cy="178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2266560" y="4134240"/>
                <a:ext cx="186624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</a:rPr>
                  <a:t>GradientPa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66560" y="3905280"/>
                <a:ext cx="186624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</a:rPr>
                  <a:t>BasicStrok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66560" y="4363200"/>
                <a:ext cx="186624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</a:rPr>
                  <a:t>TexturePa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69080" y="4888080"/>
              <a:ext cx="1863360" cy="177480"/>
              <a:chOff x="2269080" y="4888080"/>
              <a:chExt cx="1863360" cy="177480"/>
            </a:xfrm>
          </p:grpSpPr>
          <p:sp>
            <p:nvSpPr>
              <p:cNvPr id="177" name=""/>
              <p:cNvSpPr/>
              <p:nvPr/>
            </p:nvSpPr>
            <p:spPr>
              <a:xfrm>
                <a:off x="2269080" y="4888080"/>
                <a:ext cx="1863360" cy="177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9080" y="4888080"/>
                <a:ext cx="1863360" cy="177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269080" y="5116680"/>
              <a:ext cx="1863360" cy="177480"/>
              <a:chOff x="2269080" y="5116680"/>
              <a:chExt cx="1863360" cy="177480"/>
            </a:xfrm>
          </p:grpSpPr>
          <p:sp>
            <p:nvSpPr>
              <p:cNvPr id="180" name=""/>
              <p:cNvSpPr/>
              <p:nvPr/>
            </p:nvSpPr>
            <p:spPr>
              <a:xfrm>
                <a:off x="2269080" y="5116680"/>
                <a:ext cx="1863360" cy="177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69080" y="5116680"/>
                <a:ext cx="1863360" cy="177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269080" y="5345280"/>
              <a:ext cx="1863360" cy="177480"/>
              <a:chOff x="2269080" y="5345280"/>
              <a:chExt cx="1863360" cy="177480"/>
            </a:xfrm>
          </p:grpSpPr>
          <p:sp>
            <p:nvSpPr>
              <p:cNvPr id="183" name=""/>
              <p:cNvSpPr/>
              <p:nvPr/>
            </p:nvSpPr>
            <p:spPr>
              <a:xfrm>
                <a:off x="2269080" y="5345280"/>
                <a:ext cx="1863360" cy="177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69080" y="5345280"/>
                <a:ext cx="1863360" cy="177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0"/>
                    </a:moveTo>
                    <a:lnTo>
                      <a:pt x="19990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266560" y="5391000"/>
              <a:ext cx="186624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RectangularSha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66560" y="4938840"/>
              <a:ext cx="18662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GeneralPa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6560" y="5167440"/>
              <a:ext cx="18662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Line2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904560" y="5573880"/>
              <a:ext cx="1866240" cy="863280"/>
              <a:chOff x="3904560" y="5573880"/>
              <a:chExt cx="1866240" cy="86328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3905280" y="6259680"/>
                <a:ext cx="1865520" cy="177480"/>
                <a:chOff x="3905280" y="6259680"/>
                <a:chExt cx="1865520" cy="1774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905280" y="6259680"/>
                  <a:ext cx="1865520" cy="17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905280" y="6259680"/>
                  <a:ext cx="1865520" cy="17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905280" y="6031080"/>
                <a:ext cx="1865520" cy="177840"/>
                <a:chOff x="3905280" y="6031080"/>
                <a:chExt cx="1865520" cy="1778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905280" y="6031080"/>
                  <a:ext cx="1865520" cy="177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905280" y="6031080"/>
                  <a:ext cx="1865520" cy="177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905280" y="5802480"/>
                <a:ext cx="1865520" cy="177480"/>
                <a:chOff x="3905280" y="5802480"/>
                <a:chExt cx="1865520" cy="1774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905280" y="5802480"/>
                  <a:ext cx="1865520" cy="17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905280" y="5802480"/>
                  <a:ext cx="1865520" cy="17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905280" y="5573880"/>
                <a:ext cx="1865520" cy="177840"/>
                <a:chOff x="3905280" y="5573880"/>
                <a:chExt cx="1865520" cy="1778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905280" y="5573880"/>
                  <a:ext cx="1865520" cy="177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905280" y="5573880"/>
                  <a:ext cx="1865520" cy="177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0"/>
                      </a:moveTo>
                      <a:lnTo>
                        <a:pt x="19990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904560" y="6306480"/>
                <a:ext cx="1866240" cy="1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</a:rPr>
                  <a:t>RoundRectangle2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04560" y="5624640"/>
                <a:ext cx="1866240" cy="1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</a:rPr>
                  <a:t>Arc2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04560" y="5849280"/>
                <a:ext cx="1866240" cy="1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</a:rPr>
                  <a:t>Ellipse2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04560" y="6077880"/>
                <a:ext cx="1866240" cy="1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</a:rPr>
                  <a:t>Rectangle2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206-B9DE-48E9-973A-677CD737A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ava’s coordinate syste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cheme for identifying all points on scree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pper-left corner has coordinates (0,0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ordinate point composed of x-coordinate and y-coordinat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140360" y="2530440"/>
            <a:ext cx="4722480" cy="356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B0B-3FDF-47D6-828B-13A69ABE1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Graphics Contexts and Graphics Objects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phics contex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ables drawing on scree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bject manages graphics contex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trols how information is draw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ass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abstrac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nnot be instantiat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tributes to Java’s portabil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ass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Componen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method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akes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public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Lucida Console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pain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lled through method </a:t>
            </a:r>
            <a:r>
              <a:rPr b="0" lang="en-US" sz="2400" spc="-1" strike="noStrike">
                <a:solidFill>
                  <a:srgbClr val="0000cc"/>
                </a:solidFill>
                <a:latin typeface="Lucida Console"/>
              </a:rPr>
              <a:t>repai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BBE-67A5-419D-91E1-3B6AA752C4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Color Control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ass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fines methods and constants for manipulating colo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lors are created from red, green and blue compon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GB valu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292-A912-4765-A885-6F2B64DD0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Color constant and value</a:t>
            </a:r>
            <a:endParaRPr b="1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82520" y="1555920"/>
          <a:ext cx="8686800" cy="45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555920"/>
                    <a:ext cx="868680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EF3-CF30-402C-9260-3E8508644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olor methods &amp; color-related Graphic methods</a:t>
            </a:r>
            <a:endParaRPr b="1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42920" y="1481040"/>
          <a:ext cx="6821640" cy="483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1040"/>
                    <a:ext cx="682164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BCE-6187-48D9-9180-39375C7B9B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260280"/>
            <a:ext cx="8353440" cy="5977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  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ahoma"/>
              </a:rPr>
              <a:t>// ShowColors.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2  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ahoma"/>
              </a:rPr>
              <a:t>// Choosing colors with JColorChoo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3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4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5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6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7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ShowColor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extend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JFram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8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privat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JButton changeColorButt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9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privat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Color color =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ahoma"/>
              </a:rPr>
              <a:t>Color.LIGHT_GRA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0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privat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Container contai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1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2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ahoma"/>
              </a:rPr>
              <a:t>// set up G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3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ShowColor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4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5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ahoma"/>
              </a:rPr>
              <a:t>"Using JColorChooser"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6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7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   container = getContentPa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8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   container.setLayout(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FlowLayout(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19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20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ahoma"/>
              </a:rPr>
              <a:t>// set up changeColorButton and register its event 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21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   changeColorButton =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ahoma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JButton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ahoma"/>
              </a:rPr>
              <a:t>"Change Color"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22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ahoma"/>
              </a:rPr>
              <a:t>      changeColorButton.addActionListener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Lucida Console"/>
                <a:ea typeface="Tahoma"/>
              </a:rPr>
              <a:t>23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BE5-1D5B-4A0C-9E11-B233E25B66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2:45:30Z</dcterms:created>
  <dc:creator>user</dc:creator>
  <dc:description/>
  <dc:language>en-US</dc:language>
  <cp:lastModifiedBy>user</cp:lastModifiedBy>
  <dcterms:modified xsi:type="dcterms:W3CDTF">2004-08-10T10:49:15Z</dcterms:modified>
  <cp:revision>4</cp:revision>
  <dc:subject/>
  <dc:title>Graphics and Java 2D</dc:title>
</cp:coreProperties>
</file>