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54.wmf" ContentType="image/x-wmf"/>
  <Override PartName="/ppt/media/image14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34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  <p:custShowLst>
    <p:custShow name="Custom Show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5"/>
        <p:sld r:id="rId16"/>
        <p:sld r:id="rId17"/>
        <p:sld r:id="rId18"/>
        <p:sld r:id="rId19"/>
        <p:sld r:id="rId20"/>
        <p:sld r:id="rId21"/>
        <p:sld r:id="rId24"/>
        <p:sld r:id="rId25"/>
        <p:sld r:id="rId26"/>
        <p:sld r:id="rId27"/>
        <p:sld r:id="rId28"/>
        <p:sld r:id="rId29"/>
        <p:sld r:id="rId30"/>
        <p:sld r:id="rId31"/>
        <p:sld r:id="rId34"/>
        <p:sld r:id="rId35"/>
        <p:sld r:id="rId36"/>
        <p:sld r:id="rId37"/>
        <p:sld r:id="rId39"/>
        <p:sld r:id="rId40"/>
        <p:sld r:id="rId41"/>
        <p:sld r:id="rId43"/>
        <p:sld r:id="rId44"/>
        <p:sld r:id="rId45"/>
        <p:sld r:id="rId46"/>
        <p:sld r:id="rId47"/>
        <p:sld r:id="rId49"/>
        <p:sld r:id="rId50"/>
        <p:sld r:id="rId51"/>
        <p:sld r:id="rId52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4"/>
        <p:sld r:id="rId65"/>
        <p:sld r:id="rId66"/>
        <p:sld r:id="rId67"/>
        <p:sld r:id="rId68"/>
        <p:sld r:id="rId69"/>
        <p:sld r:id="rId71"/>
        <p:sld r:id="rId72"/>
        <p:sld r:id="rId73"/>
        <p:sld r:id="rId75"/>
        <p:sld r:id="rId76"/>
        <p:sld r:id="rId77"/>
        <p:sld r:id="rId78"/>
        <p:sld r:id="rId79"/>
        <p:sld r:id="rId82"/>
        <p:sld r:id="rId83"/>
        <p:sld r:id="rId84"/>
        <p:sld r:id="rId85"/>
        <p:sld r:id="rId86"/>
        <p:sld r:id="rId87"/>
        <p:sld r:id="rId89"/>
        <p:sld r:id="rId90"/>
        <p:sld r:id="rId91"/>
        <p:sld r:id="rId92"/>
        <p:sld r:id="rId93"/>
        <p:sld r:id="rId95"/>
        <p:sld r:id="rId96"/>
        <p:sld r:id="rId97"/>
        <p:sld r:id="rId98"/>
        <p:sld r:id="rId100"/>
        <p:sld r:id="rId101"/>
        <p:sld r:id="rId102"/>
        <p:sld r:id="rId103"/>
        <p:sld r:id="rId105"/>
        <p:sld r:id="rId106"/>
        <p:sld r:id="rId107"/>
        <p:sld r:id="rId108"/>
        <p:sld r:id="rId109"/>
        <p:sld r:id="rId110"/>
        <p:sld r:id="rId1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9C75-A2C9-47C1-B5B1-C44569BA2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693D-ECD5-4EC2-AE2F-0708D855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DF69-4498-4432-8C48-12DAD4EF0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FA8E-CA3E-4915-8654-BD16057D0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FD7E-5F12-4F6F-8EF9-F56229E48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34DB-4ADB-4D2E-A329-217561884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DF9A-FD69-4356-BE1F-0435FC36F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3D3C-5127-45E6-9E36-87B4EA4F9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79CF-AD4E-42A4-8037-34D7092E4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6E80-4AF6-4F13-9E25-A7EF82AE0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C529-2148-47B3-A73B-D379EA3BA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387E-2E71-4010-8CBC-CF2220866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E9D5-57F7-4C22-9B20-C919670203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36F5-917F-4AD9-8F33-2C80C7F73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5AF5-B416-48D9-A511-4BF87232E7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A8D2-148A-418E-8827-A70ED55B46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0D95-53A6-453D-8792-B8BA9E580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71A2-C916-4CC7-8795-ACA098641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32C5-9ADA-4164-BBD1-D6F4C3F63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0F0F-3042-468A-99FF-D3528BD18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C7D5-ABD6-46CB-BEBA-5E1514B15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E858-8724-4039-B625-3DF46C61E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EB24-72C5-4ECD-B76F-AF34856CB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F91A-E9CE-491B-B9E9-23D1CBABB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DBF3-4E44-47F2-87FF-B521D78D8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9E2E-84FC-49EA-961C-C8DB4AA39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752480"/>
            <a:ext cx="77724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view of Swing Componen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Labe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ent Handl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xtFiel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ow Event Handling Work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Butt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CheckBox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JLis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election Lis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ouse Event Handl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dapter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Key Even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User Interface Components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3041280" y="1433520"/>
            <a:ext cx="292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from Deitel’s sl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Label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example, we want to create labels on a window like this (3 labels, 2 of them with icon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124080" cy="193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124080" cy="1932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4647960" y="46483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760" y="4405320"/>
            <a:ext cx="1991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en highlight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’ll show tool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6  Pan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organiz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b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components (and other panels) added to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Panel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buttons in a panel, and put the panel at the bottom of a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4864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nel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7: Panel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ing a JPanel to help lay out compon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nel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Panel buttonPan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button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nel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anel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buttons arra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panel and set its layout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Pan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Panel();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Panel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buttons.length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0400" y="4648320"/>
            <a:ext cx="4649760" cy="337320"/>
            <a:chOff x="3200400" y="4648320"/>
            <a:chExt cx="4649760" cy="337320"/>
          </a:xfrm>
        </p:grpSpPr>
        <p:sp>
          <p:nvSpPr>
            <p:cNvPr id="1040" name=""/>
            <p:cNvSpPr/>
            <p:nvPr/>
          </p:nvSpPr>
          <p:spPr>
            <a:xfrm>
              <a:off x="4724640" y="4648320"/>
              <a:ext cx="3125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hol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200400" y="4800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7" dur="1" fill="hold"/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nel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192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and add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count &lt; button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tton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( count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Panel.add( button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Panel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SOUTH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42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Panel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anel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nel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Panel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419360" y="797040"/>
            <a:ext cx="4115160" cy="337320"/>
            <a:chOff x="4419360" y="797040"/>
            <a:chExt cx="4115160" cy="337320"/>
          </a:xfrm>
        </p:grpSpPr>
        <p:sp>
          <p:nvSpPr>
            <p:cNvPr id="1045" name=""/>
            <p:cNvSpPr/>
            <p:nvPr/>
          </p:nvSpPr>
          <p:spPr>
            <a:xfrm>
              <a:off x="5943600" y="797040"/>
              <a:ext cx="2590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4419360" y="9493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346280" y="1676160"/>
            <a:ext cx="3349440" cy="809280"/>
            <a:chOff x="4346280" y="1676160"/>
            <a:chExt cx="3349440" cy="809280"/>
          </a:xfrm>
        </p:grpSpPr>
        <p:sp>
          <p:nvSpPr>
            <p:cNvPr id="1048" name=""/>
            <p:cNvSpPr/>
            <p:nvPr/>
          </p:nvSpPr>
          <p:spPr>
            <a:xfrm>
              <a:off x="5489280" y="1904760"/>
              <a:ext cx="2206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n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OUTH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on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4346280" y="1676160"/>
              <a:ext cx="1145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1" dur="1" fill="hold"/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7  (Optional Case Study) Thinking About Objects: Use Ca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resents capabilities that systems provide to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-teller-machine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 Money,” “Withdraw Money,” “Transfer Fun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7  (Optional Case Study) Thinking About Objects: Use Ca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-case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s use cases i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ystem-requirements gath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ck figure repres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or represents set of rol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ernal ent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em b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ctangle) contains system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s represent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7  (Optional Case Study) Thinking About Objects: Use Ca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or-simulation u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Pers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user’s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ocate Person” (move to other flo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“Create Person” u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28  Use case diagram for elevator simulation from user’s persp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62120" y="1828800"/>
            <a:ext cx="7238520" cy="3428640"/>
            <a:chOff x="762120" y="1828800"/>
            <a:chExt cx="7238520" cy="3428640"/>
          </a:xfrm>
        </p:grpSpPr>
        <p:sp>
          <p:nvSpPr>
            <p:cNvPr id="1058" name=""/>
            <p:cNvSpPr/>
            <p:nvPr/>
          </p:nvSpPr>
          <p:spPr>
            <a:xfrm>
              <a:off x="762120" y="1828800"/>
              <a:ext cx="7238520" cy="3428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969920" y="2611080"/>
              <a:ext cx="401400" cy="1936800"/>
              <a:chOff x="1969920" y="2611080"/>
              <a:chExt cx="401400" cy="1936800"/>
            </a:xfrm>
          </p:grpSpPr>
          <p:sp>
            <p:nvSpPr>
              <p:cNvPr id="1060" name=""/>
              <p:cNvSpPr/>
              <p:nvPr/>
            </p:nvSpPr>
            <p:spPr>
              <a:xfrm>
                <a:off x="2169360" y="3057840"/>
                <a:ext cx="1080" cy="819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5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48760" y="2611080"/>
                <a:ext cx="241560" cy="4485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69920" y="3281400"/>
                <a:ext cx="20052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3" name=""/>
              <p:cNvGrpSpPr/>
              <p:nvPr/>
            </p:nvGrpSpPr>
            <p:grpSpPr>
              <a:xfrm>
                <a:off x="2009880" y="3877560"/>
                <a:ext cx="321120" cy="670320"/>
                <a:chOff x="2009880" y="3877560"/>
                <a:chExt cx="321120" cy="6703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2009880" y="3877560"/>
                  <a:ext cx="160560" cy="670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4"/>
                      </a:moveTo>
                      <a:lnTo>
                        <a:pt x="19875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170440" y="3877560"/>
                  <a:ext cx="160560" cy="670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75" y="1994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2170440" y="3281400"/>
                <a:ext cx="20088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3938760" y="2983680"/>
              <a:ext cx="2655360" cy="1118880"/>
              <a:chOff x="3938760" y="2983680"/>
              <a:chExt cx="2655360" cy="1118880"/>
            </a:xfrm>
          </p:grpSpPr>
          <p:sp>
            <p:nvSpPr>
              <p:cNvPr id="1068" name=""/>
              <p:cNvSpPr/>
              <p:nvPr/>
            </p:nvSpPr>
            <p:spPr>
              <a:xfrm>
                <a:off x="3938760" y="2983680"/>
                <a:ext cx="2655360" cy="11188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938760" y="3430440"/>
                <a:ext cx="265536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rial"/>
                  </a:rPr>
                  <a:t>Create Pers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2250360" y="3505680"/>
              <a:ext cx="168840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29240" y="4629960"/>
              <a:ext cx="48492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29  Use case diagram from the perspective of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ers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762120" y="1828800"/>
            <a:ext cx="7238880" cy="3429000"/>
            <a:chOff x="762120" y="1828800"/>
            <a:chExt cx="7238880" cy="3429000"/>
          </a:xfrm>
        </p:grpSpPr>
        <p:sp>
          <p:nvSpPr>
            <p:cNvPr id="1074" name=""/>
            <p:cNvSpPr/>
            <p:nvPr/>
          </p:nvSpPr>
          <p:spPr>
            <a:xfrm>
              <a:off x="762120" y="1828800"/>
              <a:ext cx="7238880" cy="34290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1882800" y="2290680"/>
              <a:ext cx="399960" cy="2032200"/>
              <a:chOff x="1882800" y="2290680"/>
              <a:chExt cx="399960" cy="2032200"/>
            </a:xfrm>
          </p:grpSpPr>
          <p:sp>
            <p:nvSpPr>
              <p:cNvPr id="1076" name=""/>
              <p:cNvSpPr/>
              <p:nvPr/>
            </p:nvSpPr>
            <p:spPr>
              <a:xfrm>
                <a:off x="2081880" y="2759400"/>
                <a:ext cx="1080" cy="859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5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961640" y="2290680"/>
                <a:ext cx="241200" cy="4708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882800" y="2994120"/>
                <a:ext cx="20016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1922760" y="3619440"/>
                <a:ext cx="320040" cy="703440"/>
                <a:chOff x="1922760" y="3619440"/>
                <a:chExt cx="320040" cy="70344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1922760" y="3619440"/>
                  <a:ext cx="159840" cy="70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4"/>
                      </a:moveTo>
                      <a:lnTo>
                        <a:pt x="19875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082600" y="3619440"/>
                  <a:ext cx="160200" cy="70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75" y="1994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>
                <a:off x="2082960" y="2994120"/>
                <a:ext cx="1998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3841920" y="2681280"/>
              <a:ext cx="2639880" cy="1174680"/>
              <a:chOff x="3841920" y="2681280"/>
              <a:chExt cx="2639880" cy="1174680"/>
            </a:xfrm>
          </p:grpSpPr>
          <p:sp>
            <p:nvSpPr>
              <p:cNvPr id="1084" name=""/>
              <p:cNvSpPr/>
              <p:nvPr/>
            </p:nvSpPr>
            <p:spPr>
              <a:xfrm>
                <a:off x="3841920" y="2681280"/>
                <a:ext cx="2639880" cy="1174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841920" y="3150360"/>
                <a:ext cx="2639880" cy="3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rial"/>
                  </a:rPr>
                  <a:t>Relocate Pers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>
              <a:off x="1752480" y="4419720"/>
              <a:ext cx="673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62160" y="3228840"/>
              <a:ext cx="167976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ab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72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4: Label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the JLabel clas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abel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 label1, label2, label3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abel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sting JLabel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JLabel constructor with a string argum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abel with tex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1.setToolTip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his is label1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label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859200" y="1600200"/>
            <a:ext cx="3114720" cy="337320"/>
            <a:chOff x="3859200" y="1600200"/>
            <a:chExt cx="3114720" cy="337320"/>
          </a:xfrm>
        </p:grpSpPr>
        <p:sp>
          <p:nvSpPr>
            <p:cNvPr id="157" name=""/>
            <p:cNvSpPr/>
            <p:nvPr/>
          </p:nvSpPr>
          <p:spPr>
            <a:xfrm flipH="1">
              <a:off x="3859200" y="1752480"/>
              <a:ext cx="9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3600" y="1600200"/>
              <a:ext cx="22003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040" y="3429000"/>
            <a:ext cx="3804120" cy="761760"/>
            <a:chOff x="4343040" y="3429000"/>
            <a:chExt cx="3804120" cy="761760"/>
          </a:xfrm>
        </p:grpSpPr>
        <p:sp>
          <p:nvSpPr>
            <p:cNvPr id="160" name=""/>
            <p:cNvSpPr/>
            <p:nvPr/>
          </p:nvSpPr>
          <p:spPr>
            <a:xfrm flipH="1">
              <a:off x="4343040" y="3733560"/>
              <a:ext cx="1243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3429000"/>
              <a:ext cx="258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ext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Labe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with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19720" y="4267080"/>
            <a:ext cx="3988800" cy="580680"/>
            <a:chOff x="4419720" y="4267080"/>
            <a:chExt cx="3988800" cy="580680"/>
          </a:xfrm>
        </p:grpSpPr>
        <p:sp>
          <p:nvSpPr>
            <p:cNvPr id="163" name=""/>
            <p:cNvSpPr/>
            <p:nvPr/>
          </p:nvSpPr>
          <p:spPr>
            <a:xfrm flipH="1" flipV="1">
              <a:off x="4419720" y="4419360"/>
              <a:ext cx="915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3760" y="4267080"/>
              <a:ext cx="3074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ol tip is text that appears when user moves cursor ov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200040" y="457200"/>
            <a:ext cx="3727440" cy="1066320"/>
            <a:chOff x="3200040" y="457200"/>
            <a:chExt cx="3727440" cy="1066320"/>
          </a:xfrm>
        </p:grpSpPr>
        <p:sp>
          <p:nvSpPr>
            <p:cNvPr id="166" name=""/>
            <p:cNvSpPr/>
            <p:nvPr/>
          </p:nvSpPr>
          <p:spPr>
            <a:xfrm flipH="1">
              <a:off x="3200040" y="883440"/>
              <a:ext cx="121788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95240" y="457200"/>
              <a:ext cx="2532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class will be our window when we create this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123720" y="2362320"/>
            <a:ext cx="3804120" cy="580680"/>
            <a:chOff x="3123720" y="2362320"/>
            <a:chExt cx="3804120" cy="580680"/>
          </a:xfrm>
        </p:grpSpPr>
        <p:sp>
          <p:nvSpPr>
            <p:cNvPr id="169" name=""/>
            <p:cNvSpPr/>
            <p:nvPr/>
          </p:nvSpPr>
          <p:spPr>
            <a:xfrm flipH="1">
              <a:off x="3123720" y="2514600"/>
              <a:ext cx="1243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3400" y="2362320"/>
              <a:ext cx="258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text will be on window 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abel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6-1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2-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JLabel constructor with string, Icon and alignment argum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con bug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1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abel with text and ic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bug,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SwingConstants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LEF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2.setToolTip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his is label2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label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JLabel constructor no arguments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);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abel with icon and text at bottom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.setIcon( bug );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.setHorizontalTextPosi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wingConstants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.setVerticalTextPosi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wingConstants.BOTTOM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3.setToolTip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his is label3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label3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7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7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abel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62360" y="2057400"/>
            <a:ext cx="2971800" cy="1067400"/>
            <a:chOff x="5562360" y="2057400"/>
            <a:chExt cx="2971800" cy="1067400"/>
          </a:xfrm>
        </p:grpSpPr>
        <p:sp>
          <p:nvSpPr>
            <p:cNvPr id="174" name=""/>
            <p:cNvSpPr/>
            <p:nvPr/>
          </p:nvSpPr>
          <p:spPr>
            <a:xfrm flipH="1">
              <a:off x="5562360" y="236232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0680" y="2057400"/>
              <a:ext cx="2103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hir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ext below image. By default, text is to the right of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66720" y="228600"/>
            <a:ext cx="2971800" cy="337320"/>
            <a:chOff x="4266720" y="228600"/>
            <a:chExt cx="2971800" cy="337320"/>
          </a:xfrm>
        </p:grpSpPr>
        <p:sp>
          <p:nvSpPr>
            <p:cNvPr id="177" name=""/>
            <p:cNvSpPr/>
            <p:nvPr/>
          </p:nvSpPr>
          <p:spPr>
            <a:xfrm flipH="1">
              <a:off x="4266720" y="53316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35040" y="228600"/>
              <a:ext cx="2103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 be jpg, p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240" y="685800"/>
            <a:ext cx="2971800" cy="824040"/>
            <a:chOff x="4800240" y="685800"/>
            <a:chExt cx="2971800" cy="824040"/>
          </a:xfrm>
        </p:grpSpPr>
        <p:sp>
          <p:nvSpPr>
            <p:cNvPr id="180" name=""/>
            <p:cNvSpPr/>
            <p:nvPr/>
          </p:nvSpPr>
          <p:spPr>
            <a:xfrm flipH="1">
              <a:off x="4800240" y="99072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68560" y="685800"/>
              <a:ext cx="2103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second JLabel with text to left of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866920" y="4800600"/>
            <a:ext cx="2971800" cy="580680"/>
            <a:chOff x="5866920" y="4800600"/>
            <a:chExt cx="2971800" cy="580680"/>
          </a:xfrm>
        </p:grpSpPr>
        <p:sp>
          <p:nvSpPr>
            <p:cNvPr id="183" name=""/>
            <p:cNvSpPr/>
            <p:nvPr/>
          </p:nvSpPr>
          <p:spPr>
            <a:xfrm flipH="1">
              <a:off x="5866920" y="510516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5240" y="4800600"/>
              <a:ext cx="2103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is is like System.exit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abel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34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Label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124080" cy="1932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590920" y="3809880"/>
            <a:ext cx="3124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4  Event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user interacts with 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moving mouse, pressing button, typing in text fiel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.AWT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event classes of package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.awt.ev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23880" y="1752480"/>
            <a:ext cx="5790960" cy="3657240"/>
            <a:chOff x="1523880" y="1752480"/>
            <a:chExt cx="5790960" cy="3657240"/>
          </a:xfrm>
        </p:grpSpPr>
        <p:sp>
          <p:nvSpPr>
            <p:cNvPr id="193" name=""/>
            <p:cNvSpPr/>
            <p:nvPr/>
          </p:nvSpPr>
          <p:spPr>
            <a:xfrm>
              <a:off x="1523880" y="1752480"/>
              <a:ext cx="5790960" cy="36572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44440" y="2502720"/>
              <a:ext cx="12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75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44440" y="2898000"/>
              <a:ext cx="12852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75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44440" y="3295080"/>
              <a:ext cx="12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75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2032560"/>
              <a:ext cx="192600" cy="271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9"/>
                  </a:lnTo>
                  <a:lnTo>
                    <a:pt x="19917" y="199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54080" y="2427840"/>
              <a:ext cx="192600" cy="27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9"/>
                  </a:lnTo>
                  <a:lnTo>
                    <a:pt x="19917" y="199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592280" y="1802520"/>
              <a:ext cx="1447560" cy="229680"/>
              <a:chOff x="1592280" y="1802520"/>
              <a:chExt cx="1447560" cy="22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1638720" y="1867320"/>
                <a:ext cx="13431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Objec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592280" y="1802520"/>
                <a:ext cx="1447560" cy="229680"/>
                <a:chOff x="1592280" y="1802520"/>
                <a:chExt cx="1447560" cy="2296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592280" y="180252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592280" y="180252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873440" y="2199600"/>
              <a:ext cx="1447560" cy="227880"/>
              <a:chOff x="1873440" y="2199600"/>
              <a:chExt cx="1447560" cy="227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919880" y="2263320"/>
                <a:ext cx="134316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EventObjec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873440" y="2199600"/>
                <a:ext cx="1447560" cy="227880"/>
                <a:chOff x="1873440" y="2199600"/>
                <a:chExt cx="1447560" cy="227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873440" y="2199600"/>
                  <a:ext cx="1447560" cy="227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73440" y="2199600"/>
                  <a:ext cx="1447560" cy="227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2155320" y="2594520"/>
              <a:ext cx="1447560" cy="229680"/>
              <a:chOff x="2155320" y="2594520"/>
              <a:chExt cx="1447560" cy="229680"/>
            </a:xfrm>
          </p:grpSpPr>
          <p:sp>
            <p:nvSpPr>
              <p:cNvPr id="210" name=""/>
              <p:cNvSpPr/>
              <p:nvPr/>
            </p:nvSpPr>
            <p:spPr>
              <a:xfrm>
                <a:off x="2202120" y="2658960"/>
                <a:ext cx="134280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AW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2155320" y="2594520"/>
                <a:ext cx="1447560" cy="229680"/>
                <a:chOff x="2155320" y="2594520"/>
                <a:chExt cx="1447560" cy="2296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55320" y="259452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155320" y="259452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972960" y="1990800"/>
              <a:ext cx="1447560" cy="229680"/>
              <a:chOff x="3972960" y="1990800"/>
              <a:chExt cx="1447560" cy="229680"/>
            </a:xfrm>
          </p:grpSpPr>
          <p:sp>
            <p:nvSpPr>
              <p:cNvPr id="215" name=""/>
              <p:cNvSpPr/>
              <p:nvPr/>
            </p:nvSpPr>
            <p:spPr>
              <a:xfrm>
                <a:off x="4019400" y="2055600"/>
                <a:ext cx="13435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Action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972960" y="1990800"/>
                <a:ext cx="1447560" cy="229680"/>
                <a:chOff x="3972960" y="1990800"/>
                <a:chExt cx="1447560" cy="2296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972960" y="199080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72960" y="199080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5201280" y="3804840"/>
              <a:ext cx="387720" cy="271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9"/>
                  </a:lnTo>
                  <a:lnTo>
                    <a:pt x="19959" y="199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972960" y="2387880"/>
              <a:ext cx="1447560" cy="229680"/>
              <a:chOff x="3972960" y="2387880"/>
              <a:chExt cx="1447560" cy="229680"/>
            </a:xfrm>
          </p:grpSpPr>
          <p:sp>
            <p:nvSpPr>
              <p:cNvPr id="221" name=""/>
              <p:cNvSpPr/>
              <p:nvPr/>
            </p:nvSpPr>
            <p:spPr>
              <a:xfrm>
                <a:off x="4019400" y="2452320"/>
                <a:ext cx="134316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Adjustmen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3972960" y="2387880"/>
                <a:ext cx="1447560" cy="229680"/>
                <a:chOff x="3972960" y="2387880"/>
                <a:chExt cx="1447560" cy="229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72960" y="238788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72960" y="238788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3972960" y="2784960"/>
              <a:ext cx="1447560" cy="227160"/>
              <a:chOff x="3972960" y="2784960"/>
              <a:chExt cx="1447560" cy="227160"/>
            </a:xfrm>
          </p:grpSpPr>
          <p:sp>
            <p:nvSpPr>
              <p:cNvPr id="226" name=""/>
              <p:cNvSpPr/>
              <p:nvPr/>
            </p:nvSpPr>
            <p:spPr>
              <a:xfrm>
                <a:off x="4019400" y="2848680"/>
                <a:ext cx="134316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Item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3972960" y="2784960"/>
                <a:ext cx="1447560" cy="227160"/>
                <a:chOff x="3972960" y="2784960"/>
                <a:chExt cx="1447560" cy="227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72960" y="278496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72960" y="278496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3972960" y="3179880"/>
              <a:ext cx="1447560" cy="229680"/>
              <a:chOff x="3972960" y="3179880"/>
              <a:chExt cx="1447560" cy="229680"/>
            </a:xfrm>
          </p:grpSpPr>
          <p:sp>
            <p:nvSpPr>
              <p:cNvPr id="231" name=""/>
              <p:cNvSpPr/>
              <p:nvPr/>
            </p:nvSpPr>
            <p:spPr>
              <a:xfrm>
                <a:off x="4019400" y="3244320"/>
                <a:ext cx="134316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Tex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972960" y="3179880"/>
                <a:ext cx="1447560" cy="229680"/>
                <a:chOff x="3972960" y="3179880"/>
                <a:chExt cx="1447560" cy="229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972960" y="317988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2960" y="317988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5716080" y="2586600"/>
              <a:ext cx="1447560" cy="227160"/>
              <a:chOff x="5716080" y="2586600"/>
              <a:chExt cx="1447560" cy="227160"/>
            </a:xfrm>
          </p:grpSpPr>
          <p:sp>
            <p:nvSpPr>
              <p:cNvPr id="236" name=""/>
              <p:cNvSpPr/>
              <p:nvPr/>
            </p:nvSpPr>
            <p:spPr>
              <a:xfrm>
                <a:off x="5762520" y="2650320"/>
                <a:ext cx="13435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Container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5716080" y="2586600"/>
                <a:ext cx="1447560" cy="227160"/>
                <a:chOff x="5716080" y="2586600"/>
                <a:chExt cx="1447560" cy="227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716080" y="258660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16080" y="258660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5716080" y="2981160"/>
              <a:ext cx="1447560" cy="229680"/>
              <a:chOff x="5716080" y="2981160"/>
              <a:chExt cx="1447560" cy="229680"/>
            </a:xfrm>
          </p:grpSpPr>
          <p:sp>
            <p:nvSpPr>
              <p:cNvPr id="241" name=""/>
              <p:cNvSpPr/>
              <p:nvPr/>
            </p:nvSpPr>
            <p:spPr>
              <a:xfrm>
                <a:off x="5762520" y="3045600"/>
                <a:ext cx="134352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Focus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5716080" y="2981160"/>
                <a:ext cx="1447560" cy="229680"/>
                <a:chOff x="5716080" y="2981160"/>
                <a:chExt cx="1447560" cy="2296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716080" y="298116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16080" y="298116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5716080" y="3378600"/>
              <a:ext cx="1447560" cy="227880"/>
              <a:chOff x="5716080" y="3378600"/>
              <a:chExt cx="1447560" cy="227880"/>
            </a:xfrm>
          </p:grpSpPr>
          <p:sp>
            <p:nvSpPr>
              <p:cNvPr id="246" name=""/>
              <p:cNvSpPr/>
              <p:nvPr/>
            </p:nvSpPr>
            <p:spPr>
              <a:xfrm>
                <a:off x="5762520" y="3442680"/>
                <a:ext cx="13435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Pain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5716080" y="3378600"/>
                <a:ext cx="1447560" cy="227880"/>
                <a:chOff x="5716080" y="3378600"/>
                <a:chExt cx="1447560" cy="2278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716080" y="3378600"/>
                  <a:ext cx="1447560" cy="227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16080" y="3378600"/>
                  <a:ext cx="1447560" cy="227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5716080" y="3775680"/>
              <a:ext cx="1447560" cy="227160"/>
              <a:chOff x="5716080" y="3775680"/>
              <a:chExt cx="1447560" cy="227160"/>
            </a:xfrm>
          </p:grpSpPr>
          <p:sp>
            <p:nvSpPr>
              <p:cNvPr id="251" name=""/>
              <p:cNvSpPr/>
              <p:nvPr/>
            </p:nvSpPr>
            <p:spPr>
              <a:xfrm>
                <a:off x="5762520" y="3839400"/>
                <a:ext cx="13435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Window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5716080" y="3775680"/>
                <a:ext cx="1447560" cy="227160"/>
                <a:chOff x="5716080" y="3775680"/>
                <a:chExt cx="1447560" cy="227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716080" y="377568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16080" y="3775680"/>
                  <a:ext cx="1447560" cy="227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716080" y="4170240"/>
              <a:ext cx="1447560" cy="229680"/>
              <a:chOff x="5716080" y="4170240"/>
              <a:chExt cx="1447560" cy="229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762520" y="4234680"/>
                <a:ext cx="134352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Inpu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716080" y="4170240"/>
                <a:ext cx="1447560" cy="229680"/>
                <a:chOff x="5716080" y="4170240"/>
                <a:chExt cx="1447560" cy="229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716080" y="41702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16080" y="41702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3603240" y="2701080"/>
              <a:ext cx="241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41920" y="2105280"/>
              <a:ext cx="2160" cy="1582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7560" y="2699280"/>
              <a:ext cx="360" cy="157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3600" y="4271040"/>
              <a:ext cx="12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7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583600" y="2699280"/>
              <a:ext cx="128520" cy="1189080"/>
              <a:chOff x="5583600" y="2699280"/>
              <a:chExt cx="128520" cy="1189080"/>
            </a:xfrm>
          </p:grpSpPr>
          <p:sp>
            <p:nvSpPr>
              <p:cNvPr id="265" name=""/>
              <p:cNvSpPr/>
              <p:nvPr/>
            </p:nvSpPr>
            <p:spPr>
              <a:xfrm>
                <a:off x="5583600" y="2699280"/>
                <a:ext cx="1285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3600" y="3095640"/>
                <a:ext cx="1285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83600" y="3491640"/>
                <a:ext cx="1285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83600" y="3887640"/>
                <a:ext cx="1285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440400" y="4879080"/>
              <a:ext cx="360" cy="250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716080" y="5129640"/>
              <a:ext cx="1447560" cy="229680"/>
              <a:chOff x="5716080" y="5129640"/>
              <a:chExt cx="1447560" cy="229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62520" y="5194080"/>
                <a:ext cx="134352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MouseWheel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5716080" y="5129640"/>
                <a:ext cx="1447560" cy="229680"/>
                <a:chOff x="5716080" y="5129640"/>
                <a:chExt cx="1447560" cy="229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6080" y="51296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16080" y="51296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3972960" y="3572640"/>
              <a:ext cx="1447560" cy="229680"/>
              <a:chOff x="3972960" y="3572640"/>
              <a:chExt cx="1447560" cy="229680"/>
            </a:xfrm>
          </p:grpSpPr>
          <p:sp>
            <p:nvSpPr>
              <p:cNvPr id="276" name=""/>
              <p:cNvSpPr/>
              <p:nvPr/>
            </p:nvSpPr>
            <p:spPr>
              <a:xfrm>
                <a:off x="4019400" y="3637080"/>
                <a:ext cx="134316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ComponentEv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3972960" y="3572640"/>
                <a:ext cx="1447560" cy="229680"/>
                <a:chOff x="3972960" y="3572640"/>
                <a:chExt cx="1447560" cy="229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972960" y="35726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72960" y="3572640"/>
                  <a:ext cx="1447560" cy="2296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9" y="0"/>
                      </a:moveTo>
                      <a:lnTo>
                        <a:pt x="19989" y="19927"/>
                      </a:lnTo>
                      <a:lnTo>
                        <a:pt x="0" y="19927"/>
                      </a:lnTo>
                      <a:lnTo>
                        <a:pt x="0" y="0"/>
                      </a:lnTo>
                      <a:lnTo>
                        <a:pt x="19989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3844440" y="2105280"/>
              <a:ext cx="128520" cy="1582200"/>
              <a:chOff x="3844440" y="2105280"/>
              <a:chExt cx="128520" cy="1582200"/>
            </a:xfrm>
          </p:grpSpPr>
          <p:sp>
            <p:nvSpPr>
              <p:cNvPr id="281" name=""/>
              <p:cNvSpPr/>
              <p:nvPr/>
            </p:nvSpPr>
            <p:spPr>
              <a:xfrm>
                <a:off x="3844440" y="2105280"/>
                <a:ext cx="1285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4440" y="3687120"/>
                <a:ext cx="1285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8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402520" y="4400280"/>
              <a:ext cx="1037520" cy="250560"/>
              <a:chOff x="5402520" y="4400280"/>
              <a:chExt cx="1037520" cy="250560"/>
            </a:xfrm>
          </p:grpSpPr>
          <p:sp>
            <p:nvSpPr>
              <p:cNvPr id="284" name=""/>
              <p:cNvSpPr/>
              <p:nvPr/>
            </p:nvSpPr>
            <p:spPr>
              <a:xfrm>
                <a:off x="5402520" y="4410000"/>
                <a:ext cx="349560" cy="240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4" y="0"/>
                    </a:moveTo>
                    <a:lnTo>
                      <a:pt x="0" y="19931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9320" y="4400280"/>
                <a:ext cx="720" cy="243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1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1560" y="4650840"/>
              <a:ext cx="3052080" cy="227880"/>
              <a:chOff x="4111560" y="4650840"/>
              <a:chExt cx="3052080" cy="2278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4111560" y="4650840"/>
                <a:ext cx="1447920" cy="227880"/>
                <a:chOff x="4111560" y="4650840"/>
                <a:chExt cx="1447920" cy="2278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158720" y="4714560"/>
                  <a:ext cx="134352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KeyEv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4111560" y="4650840"/>
                  <a:ext cx="1447920" cy="227880"/>
                  <a:chOff x="4111560" y="4650840"/>
                  <a:chExt cx="1447920" cy="2278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4111560" y="4650840"/>
                    <a:ext cx="144792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111560" y="4650840"/>
                    <a:ext cx="144792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5716080" y="4650840"/>
                <a:ext cx="1447560" cy="227880"/>
                <a:chOff x="5716080" y="4650840"/>
                <a:chExt cx="1447560" cy="227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762520" y="4714560"/>
                  <a:ext cx="134352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MouseEv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5716080" y="4650840"/>
                  <a:ext cx="1447560" cy="227880"/>
                  <a:chOff x="5716080" y="4650840"/>
                  <a:chExt cx="1447560" cy="2278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5716080" y="4650840"/>
                    <a:ext cx="1447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716080" y="4650840"/>
                    <a:ext cx="1447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7" name=""/>
          <p:cNvSpPr/>
          <p:nvPr/>
        </p:nvSpPr>
        <p:spPr>
          <a:xfrm>
            <a:off x="1984680" y="17827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62440" y="216360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vent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42600" y="25448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W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8640" y="353520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mponen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9440" y="31543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5440" y="2773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tem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9000" y="23623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djustmen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9840" y="198108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ction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2320" y="376380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Window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8280" y="41450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npu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10120" y="46483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ouse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23680" y="46483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Key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80080" y="5105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ouseWheel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10120" y="2971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ocus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2320" y="3352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aint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1120" y="254484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ntainer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4  Event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-handl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 component with which user inte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s information about event that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s event object when notified, then resp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perform two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event listener for even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event-handling method (event 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6  Event-listener interfaces of package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.awt.ev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47920" y="1143000"/>
            <a:ext cx="6398280" cy="5046120"/>
            <a:chOff x="1447920" y="1143000"/>
            <a:chExt cx="6398280" cy="5046120"/>
          </a:xfrm>
        </p:grpSpPr>
        <p:grpSp>
          <p:nvGrpSpPr>
            <p:cNvPr id="317" name=""/>
            <p:cNvGrpSpPr/>
            <p:nvPr/>
          </p:nvGrpSpPr>
          <p:grpSpPr>
            <a:xfrm>
              <a:off x="1447920" y="1143000"/>
              <a:ext cx="6398280" cy="5046120"/>
              <a:chOff x="1447920" y="1143000"/>
              <a:chExt cx="6398280" cy="5046120"/>
            </a:xfrm>
          </p:grpSpPr>
          <p:sp>
            <p:nvSpPr>
              <p:cNvPr id="318" name=""/>
              <p:cNvSpPr/>
              <p:nvPr/>
            </p:nvSpPr>
            <p:spPr>
              <a:xfrm>
                <a:off x="1447920" y="1143000"/>
                <a:ext cx="6398280" cy="504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98280" y="1827360"/>
                <a:ext cx="372600" cy="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98280" y="22755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98280" y="27219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98280" y="31683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98280" y="361440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98280" y="4060800"/>
                <a:ext cx="372600" cy="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98280" y="4506840"/>
                <a:ext cx="372600" cy="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98280" y="495324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98280" y="5399640"/>
                <a:ext cx="372600" cy="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42520" y="3614400"/>
                <a:ext cx="4460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00080" y="1380960"/>
                <a:ext cx="360" cy="446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2547000" y="3423960"/>
                <a:ext cx="1599480" cy="381240"/>
                <a:chOff x="2547000" y="3423960"/>
                <a:chExt cx="1599480" cy="3812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598120" y="3479400"/>
                  <a:ext cx="1483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Event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547000" y="3423960"/>
                  <a:ext cx="1599480" cy="381240"/>
                  <a:chOff x="2547000" y="3423960"/>
                  <a:chExt cx="1599480" cy="381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547000" y="3423960"/>
                    <a:ext cx="15994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547000" y="3423960"/>
                    <a:ext cx="15994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4969080" y="1191960"/>
                <a:ext cx="1777320" cy="381240"/>
                <a:chOff x="4969080" y="1191960"/>
                <a:chExt cx="1777320" cy="3812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026680" y="12470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Action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4969080" y="1191960"/>
                  <a:ext cx="1777320" cy="381240"/>
                  <a:chOff x="4969080" y="1191960"/>
                  <a:chExt cx="1777320" cy="3812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969080" y="11919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969080" y="11919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4969080" y="1638360"/>
                <a:ext cx="1777320" cy="381240"/>
                <a:chOff x="4969080" y="1638360"/>
                <a:chExt cx="1777320" cy="3812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26680" y="1693440"/>
                  <a:ext cx="16488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Adjustment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4969080" y="1638360"/>
                  <a:ext cx="1777320" cy="381240"/>
                  <a:chOff x="4969080" y="1638360"/>
                  <a:chExt cx="1777320" cy="3812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4969080" y="16383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969080" y="16383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4969080" y="2084760"/>
                <a:ext cx="1777320" cy="381240"/>
                <a:chOff x="4969080" y="2084760"/>
                <a:chExt cx="1777320" cy="381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26680" y="214020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Component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4969080" y="2084760"/>
                  <a:ext cx="1777320" cy="381240"/>
                  <a:chOff x="4969080" y="2084760"/>
                  <a:chExt cx="1777320" cy="3812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69080" y="20847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969080" y="20847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4969080" y="2531160"/>
                <a:ext cx="1777320" cy="383040"/>
                <a:chOff x="4969080" y="2531160"/>
                <a:chExt cx="1777320" cy="3830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026680" y="2586960"/>
                  <a:ext cx="164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Container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"/>
                <p:cNvGrpSpPr/>
                <p:nvPr/>
              </p:nvGrpSpPr>
              <p:grpSpPr>
                <a:xfrm>
                  <a:off x="4969080" y="2531160"/>
                  <a:ext cx="1777320" cy="383040"/>
                  <a:chOff x="4969080" y="2531160"/>
                  <a:chExt cx="1777320" cy="3830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4969080" y="2531160"/>
                    <a:ext cx="17773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969080" y="2531160"/>
                    <a:ext cx="17773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4969080" y="2979360"/>
                <a:ext cx="1777320" cy="381240"/>
                <a:chOff x="4969080" y="2979360"/>
                <a:chExt cx="1777320" cy="3812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026680" y="30344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Focus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4969080" y="2979360"/>
                  <a:ext cx="1777320" cy="381240"/>
                  <a:chOff x="4969080" y="2979360"/>
                  <a:chExt cx="1777320" cy="3812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4969080" y="29793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969080" y="297936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0" name=""/>
              <p:cNvSpPr/>
              <p:nvPr/>
            </p:nvSpPr>
            <p:spPr>
              <a:xfrm>
                <a:off x="5027040" y="3480840"/>
                <a:ext cx="1648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</a:rPr>
                  <a:t> </a:t>
                </a: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</a:rPr>
                  <a:t>interfac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ItemListen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969080" y="3425400"/>
                <a:ext cx="1777320" cy="381240"/>
                <a:chOff x="4969080" y="3425400"/>
                <a:chExt cx="1777320" cy="381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969080" y="3425400"/>
                  <a:ext cx="177732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60"/>
                      </a:lnTo>
                      <a:lnTo>
                        <a:pt x="0" y="19960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969080" y="3425400"/>
                  <a:ext cx="177732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60"/>
                      </a:lnTo>
                      <a:lnTo>
                        <a:pt x="0" y="19960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5027040" y="3927240"/>
                <a:ext cx="16484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</a:rPr>
                  <a:t> </a:t>
                </a: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</a:rPr>
                  <a:t>interfac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KeyListen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69080" y="3871800"/>
                <a:ext cx="177732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60"/>
                    </a:lnTo>
                    <a:lnTo>
                      <a:pt x="0" y="19960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69080" y="3871800"/>
                <a:ext cx="177732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60"/>
                    </a:lnTo>
                    <a:lnTo>
                      <a:pt x="0" y="19960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4969080" y="4318200"/>
                <a:ext cx="1777320" cy="381240"/>
                <a:chOff x="4969080" y="4318200"/>
                <a:chExt cx="1777320" cy="3812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026680" y="43736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Mouse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4969080" y="4318200"/>
                  <a:ext cx="1777320" cy="381240"/>
                  <a:chOff x="4969080" y="4318200"/>
                  <a:chExt cx="1777320" cy="38124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4969080" y="43182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969080" y="43182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4969080" y="4764600"/>
                <a:ext cx="1777320" cy="381240"/>
                <a:chOff x="4969080" y="4764600"/>
                <a:chExt cx="1777320" cy="3812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026680" y="48200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MouseMotion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4969080" y="4764600"/>
                  <a:ext cx="1777320" cy="381240"/>
                  <a:chOff x="4969080" y="4764600"/>
                  <a:chExt cx="1777320" cy="3812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969080" y="47646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969080" y="47646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7" name=""/>
              <p:cNvGrpSpPr/>
              <p:nvPr/>
            </p:nvGrpSpPr>
            <p:grpSpPr>
              <a:xfrm>
                <a:off x="4969080" y="5211000"/>
                <a:ext cx="1777320" cy="381240"/>
                <a:chOff x="4969080" y="5211000"/>
                <a:chExt cx="1777320" cy="381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026680" y="526572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Text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4969080" y="5211000"/>
                  <a:ext cx="1777320" cy="381240"/>
                  <a:chOff x="4969080" y="5211000"/>
                  <a:chExt cx="1777320" cy="3812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4969080" y="52110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969080" y="521100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4969080" y="5656680"/>
                <a:ext cx="1777320" cy="381240"/>
                <a:chOff x="4969080" y="5656680"/>
                <a:chExt cx="1777320" cy="3812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026680" y="5711400"/>
                  <a:ext cx="16488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</a:rPr>
                    <a:t>interface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WindowListen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4969080" y="5656680"/>
                  <a:ext cx="1777320" cy="381240"/>
                  <a:chOff x="4969080" y="5656680"/>
                  <a:chExt cx="1777320" cy="3812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4969080" y="565668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969080" y="5656680"/>
                    <a:ext cx="177732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4598280" y="1380960"/>
                <a:ext cx="372600" cy="4466160"/>
                <a:chOff x="4598280" y="1380960"/>
                <a:chExt cx="372600" cy="4466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598280" y="1380960"/>
                  <a:ext cx="372600" cy="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2" y="0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598280" y="5846400"/>
                  <a:ext cx="37260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2" y="0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2620800" y="339336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vent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3480" y="1195920"/>
              <a:ext cx="149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60360" y="165348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djustment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60360" y="205812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mponent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60360" y="251604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0400" y="297360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ocus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3480" y="3393360"/>
              <a:ext cx="149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tem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0400" y="3850920"/>
              <a:ext cx="127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Key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0400" y="430884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67280" y="476640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Motion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0400" y="522432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0400" y="562860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Lis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5  Text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Tex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area in which user can enter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Passwor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Text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es characters that user e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TextField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dialog box according to which textfield we press enter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8040" cy="12668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4117680" cy="1266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410080" y="4191120"/>
            <a:ext cx="3395880" cy="1457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195280" y="36432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Type “hell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35812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46483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13040" y="563868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enter in the text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752480"/>
            <a:ext cx="7772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yout Mana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5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5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5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Lucida Console"/>
              </a:rPr>
              <a:t>GridLayou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nel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3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(Optional Case Study) Thinking About Objects: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User Interface Components: Part 1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118040" cy="126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39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114800" cy="1266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572000" y="1447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410080" y="274320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989000" y="403848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enter in the text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41640" y="220968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enter in the text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3526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4191120" cy="12891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3456000" cy="1482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065320" y="594360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enter in the text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1055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extField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-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4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411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7: TextField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the JTextField clas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extField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 textField1, textField2, textField3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PasswordField passwordField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extField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sting JTextField and JPasswordFie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onstruct textfield with default siz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textField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onstruct textfield with default text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Enter text her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textField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733560" y="1523880"/>
            <a:ext cx="4572360" cy="824040"/>
            <a:chOff x="3733560" y="1523880"/>
            <a:chExt cx="4572360" cy="824040"/>
          </a:xfrm>
        </p:grpSpPr>
        <p:sp>
          <p:nvSpPr>
            <p:cNvPr id="429" name=""/>
            <p:cNvSpPr/>
            <p:nvPr/>
          </p:nvSpPr>
          <p:spPr>
            <a:xfrm flipH="1">
              <a:off x="3733560" y="19810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1523880"/>
              <a:ext cx="22100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nd on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ssword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5257800" y="175212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09520" y="3809880"/>
            <a:ext cx="4419720" cy="1067400"/>
            <a:chOff x="3809520" y="3809880"/>
            <a:chExt cx="4419720" cy="1067400"/>
          </a:xfrm>
        </p:grpSpPr>
        <p:sp>
          <p:nvSpPr>
            <p:cNvPr id="433" name=""/>
            <p:cNvSpPr/>
            <p:nvPr/>
          </p:nvSpPr>
          <p:spPr>
            <a:xfrm flipH="1">
              <a:off x="3809520" y="4136040"/>
              <a:ext cx="2317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61320" y="3809880"/>
              <a:ext cx="2167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empty string and has 10 columns of text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105520" y="4876920"/>
            <a:ext cx="3352680" cy="1067400"/>
            <a:chOff x="5105520" y="4876920"/>
            <a:chExt cx="3352680" cy="1067400"/>
          </a:xfrm>
        </p:grpSpPr>
        <p:sp>
          <p:nvSpPr>
            <p:cNvPr id="436" name=""/>
            <p:cNvSpPr/>
            <p:nvPr/>
          </p:nvSpPr>
          <p:spPr>
            <a:xfrm flipH="1">
              <a:off x="510552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62720" y="487692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ext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. The width of the field follows this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extField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9-4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onstruct textfield with default text,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20 visible elements and no event handler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3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Uneditable text fie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3.setEdita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textField3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onstruct passwordfield with default text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asswordFie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Password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den tex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passwordField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gister event handle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Handler 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extField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1.addAction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2.addAction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3.addAction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asswordField.addActionListener( handl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2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TextField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Field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extField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486400" y="609480"/>
            <a:ext cx="2590920" cy="580680"/>
            <a:chOff x="5486400" y="609480"/>
            <a:chExt cx="2590920" cy="580680"/>
          </a:xfrm>
        </p:grpSpPr>
        <p:sp>
          <p:nvSpPr>
            <p:cNvPr id="441" name=""/>
            <p:cNvSpPr/>
            <p:nvPr/>
          </p:nvSpPr>
          <p:spPr>
            <a:xfrm flipH="1">
              <a:off x="5486400" y="9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43600" y="60948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r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uneditable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1295280"/>
            <a:ext cx="3352680" cy="824040"/>
            <a:chOff x="5334120" y="1295280"/>
            <a:chExt cx="3352680" cy="824040"/>
          </a:xfrm>
        </p:grpSpPr>
        <p:sp>
          <p:nvSpPr>
            <p:cNvPr id="444" name=""/>
            <p:cNvSpPr/>
            <p:nvPr/>
          </p:nvSpPr>
          <p:spPr>
            <a:xfrm>
              <a:off x="5791320" y="12952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Password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text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Hidd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” but text appears as series of asterisks (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334120" y="17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266720" y="2822400"/>
            <a:ext cx="3657960" cy="976320"/>
            <a:chOff x="4266720" y="2822400"/>
            <a:chExt cx="3657960" cy="976320"/>
          </a:xfrm>
        </p:grpSpPr>
        <p:sp>
          <p:nvSpPr>
            <p:cNvPr id="447" name=""/>
            <p:cNvSpPr/>
            <p:nvPr/>
          </p:nvSpPr>
          <p:spPr>
            <a:xfrm>
              <a:off x="5105520" y="2974680"/>
              <a:ext cx="2819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GUI components with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register 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Ev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4266720" y="2822400"/>
              <a:ext cx="838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4266720" y="297432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4266720" y="312696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495680" y="3355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extField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ivate inner class for event handl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extField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textfield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String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er pressed Enter in JTextField textField1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textField1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xtField1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ActionCommand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er pressed Enter in JTextField textField2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textField2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xtField2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ActionCommand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er pressed Enter in JTextField textField3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textField3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xtField3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ActionCommand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er pressed Enter in JTextField passwordFiel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passwordField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string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asswordFiel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( passwordField.getPassword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648320" y="837720"/>
            <a:ext cx="4343400" cy="581040"/>
            <a:chOff x="4648320" y="837720"/>
            <a:chExt cx="4343400" cy="581040"/>
          </a:xfrm>
        </p:grpSpPr>
        <p:sp>
          <p:nvSpPr>
            <p:cNvPr id="455" name=""/>
            <p:cNvSpPr/>
            <p:nvPr/>
          </p:nvSpPr>
          <p:spPr>
            <a:xfrm flipH="1" flipV="1">
              <a:off x="4648320" y="8377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32360" y="838080"/>
              <a:ext cx="3159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r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 is a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952880" y="1371600"/>
            <a:ext cx="3463920" cy="1208160"/>
            <a:chOff x="4952880" y="1371600"/>
            <a:chExt cx="3463920" cy="1208160"/>
          </a:xfrm>
        </p:grpSpPr>
        <p:sp>
          <p:nvSpPr>
            <p:cNvPr id="458" name=""/>
            <p:cNvSpPr/>
            <p:nvPr/>
          </p:nvSpPr>
          <p:spPr>
            <a:xfrm flipH="1" flipV="1">
              <a:off x="4952880" y="137160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755720"/>
              <a:ext cx="285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d when user pr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GUI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334120" y="2743200"/>
            <a:ext cx="3463920" cy="964800"/>
            <a:chOff x="5334120" y="2743200"/>
            <a:chExt cx="3463920" cy="964800"/>
          </a:xfrm>
        </p:grpSpPr>
        <p:sp>
          <p:nvSpPr>
            <p:cNvPr id="461" name=""/>
            <p:cNvSpPr/>
            <p:nvPr/>
          </p:nvSpPr>
          <p:spPr>
            <a:xfrm flipH="1" flipV="1">
              <a:off x="5334120" y="274320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960" y="312732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ctionCommand() returns the text in the tex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105520" y="4343400"/>
            <a:ext cx="3463920" cy="964800"/>
            <a:chOff x="5105520" y="4343400"/>
            <a:chExt cx="3463920" cy="964800"/>
          </a:xfrm>
        </p:grpSpPr>
        <p:sp>
          <p:nvSpPr>
            <p:cNvPr id="464" name=""/>
            <p:cNvSpPr/>
            <p:nvPr/>
          </p:nvSpPr>
          <p:spPr>
            <a:xfrm flipH="1" flipV="1">
              <a:off x="5105520" y="434340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15360" y="472752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though uneditable, it can create event from the enter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343400" y="5333760"/>
            <a:ext cx="3463920" cy="1208160"/>
            <a:chOff x="4343400" y="5333760"/>
            <a:chExt cx="3463920" cy="1208160"/>
          </a:xfrm>
        </p:grpSpPr>
        <p:sp>
          <p:nvSpPr>
            <p:cNvPr id="467" name=""/>
            <p:cNvSpPr/>
            <p:nvPr/>
          </p:nvSpPr>
          <p:spPr>
            <a:xfrm flipH="1" flipV="1">
              <a:off x="4343400" y="5333760"/>
              <a:ext cx="1981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3240" y="5717880"/>
              <a:ext cx="285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Password()returns a character array, so we have to convert its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extField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1830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JOptionPane.showMessageDialog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ul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strin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method actionPerform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rivate inner class TextField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TextField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114800" cy="1266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5410080" y="274320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666880" y="3581280"/>
            <a:ext cx="914400" cy="91440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6  How Event Handling Wor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n questions from Section 1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did event handler get register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component’s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dd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39-42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extFieldTes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does component know to call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actionPerform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is dispatched only to listeners of appropriat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vent type has corresponding event-listen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ID specifies event type that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8  Event registration for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Field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143000" y="1752480"/>
            <a:ext cx="6171840" cy="3389040"/>
            <a:chOff x="1143000" y="1752480"/>
            <a:chExt cx="6171840" cy="3389040"/>
          </a:xfrm>
        </p:grpSpPr>
        <p:sp>
          <p:nvSpPr>
            <p:cNvPr id="478" name=""/>
            <p:cNvSpPr/>
            <p:nvPr/>
          </p:nvSpPr>
          <p:spPr>
            <a:xfrm>
              <a:off x="1143000" y="1752480"/>
              <a:ext cx="6071040" cy="3389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288080" y="2114640"/>
              <a:ext cx="201960" cy="246240"/>
              <a:chOff x="1288080" y="2114640"/>
              <a:chExt cx="201960" cy="246240"/>
            </a:xfrm>
          </p:grpSpPr>
          <p:sp>
            <p:nvSpPr>
              <p:cNvPr id="480" name=""/>
              <p:cNvSpPr/>
              <p:nvPr/>
            </p:nvSpPr>
            <p:spPr>
              <a:xfrm>
                <a:off x="1288080" y="2114640"/>
                <a:ext cx="2019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54680" y="2196720"/>
                <a:ext cx="68040" cy="8280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198880" y="2882880"/>
              <a:ext cx="201960" cy="246960"/>
              <a:chOff x="2198880" y="2882880"/>
              <a:chExt cx="201960" cy="246960"/>
            </a:xfrm>
          </p:grpSpPr>
          <p:sp>
            <p:nvSpPr>
              <p:cNvPr id="483" name=""/>
              <p:cNvSpPr/>
              <p:nvPr/>
            </p:nvSpPr>
            <p:spPr>
              <a:xfrm>
                <a:off x="2198880" y="2882880"/>
                <a:ext cx="201960" cy="246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65120" y="2964960"/>
                <a:ext cx="68040" cy="8316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19888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66200" y="4109040"/>
              <a:ext cx="67320" cy="82080"/>
            </a:xfrm>
            <a:prstGeom prst="ellips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01200" y="4026600"/>
              <a:ext cx="20268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0388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0584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5040" y="2114640"/>
              <a:ext cx="202680" cy="246240"/>
              <a:chOff x="3965040" y="2114640"/>
              <a:chExt cx="202680" cy="2462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5040" y="2114640"/>
                <a:ext cx="20268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31640" y="2196720"/>
                <a:ext cx="68400" cy="8280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288080" y="1909080"/>
              <a:ext cx="1068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textFiel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88080" y="211464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55400" y="2197080"/>
              <a:ext cx="6732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91400" y="2237760"/>
              <a:ext cx="337320" cy="411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0" y="1995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98880" y="2882880"/>
              <a:ext cx="201960" cy="246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66200" y="2964960"/>
              <a:ext cx="67320" cy="84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00040" y="3019320"/>
              <a:ext cx="360" cy="100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34200" y="2718360"/>
              <a:ext cx="10792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listener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9888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66200" y="4109040"/>
              <a:ext cx="6732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01200" y="4026600"/>
              <a:ext cx="20268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0388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5840" y="4026600"/>
              <a:ext cx="2019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2000" y="4067640"/>
              <a:ext cx="50544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5040" y="1909080"/>
              <a:ext cx="718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hand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65040" y="2114640"/>
              <a:ext cx="20268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2720" y="2197080"/>
              <a:ext cx="6768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6560" y="2237760"/>
              <a:ext cx="370800" cy="411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5" y="1995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0040" y="3247560"/>
              <a:ext cx="2160720" cy="110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4971" y="0"/>
                  </a:lnTo>
                  <a:lnTo>
                    <a:pt x="14971" y="19981"/>
                  </a:lnTo>
                  <a:lnTo>
                    <a:pt x="0" y="19981"/>
                  </a:lnTo>
                  <a:lnTo>
                    <a:pt x="0" y="1626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61560" y="4561200"/>
              <a:ext cx="45532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This reference is created by the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SansTypewriter"/>
                </a:rPr>
                <a:t>   </a:t>
              </a: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textField1.addActionListener( handler 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52800" y="4231800"/>
              <a:ext cx="235800" cy="28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29" y="199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456800" y="2643840"/>
              <a:ext cx="2487240" cy="1176840"/>
              <a:chOff x="4456800" y="2643840"/>
              <a:chExt cx="2487240" cy="1176840"/>
            </a:xfrm>
          </p:grpSpPr>
          <p:sp>
            <p:nvSpPr>
              <p:cNvPr id="515" name=""/>
              <p:cNvSpPr/>
              <p:nvPr/>
            </p:nvSpPr>
            <p:spPr>
              <a:xfrm>
                <a:off x="4533480" y="2730240"/>
                <a:ext cx="2332440" cy="10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public void actionPerformed(</a:t>
                </a:r>
                <a:br>
                  <a:rPr sz="800"/>
                </a:b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   ActionEvent event )</a:t>
                </a:r>
                <a:br>
                  <a:rPr sz="800"/>
                </a:b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{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  </a:t>
                </a: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// event handled he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</a:rPr>
                  <a:t>}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456800" y="2643840"/>
                <a:ext cx="2487240" cy="1176840"/>
                <a:chOff x="4456800" y="2643840"/>
                <a:chExt cx="2487240" cy="11768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456800" y="2643840"/>
                  <a:ext cx="2487240" cy="1176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3" y="0"/>
                      </a:moveTo>
                      <a:lnTo>
                        <a:pt x="19993" y="19983"/>
                      </a:lnTo>
                      <a:lnTo>
                        <a:pt x="0" y="19983"/>
                      </a:lnTo>
                      <a:lnTo>
                        <a:pt x="0" y="0"/>
                      </a:lnTo>
                      <a:lnTo>
                        <a:pt x="19993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456800" y="2643840"/>
                  <a:ext cx="2487240" cy="1176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3" y="0"/>
                      </a:moveTo>
                      <a:lnTo>
                        <a:pt x="19993" y="19983"/>
                      </a:lnTo>
                      <a:lnTo>
                        <a:pt x="0" y="19983"/>
                      </a:lnTo>
                      <a:lnTo>
                        <a:pt x="0" y="0"/>
                      </a:lnTo>
                      <a:lnTo>
                        <a:pt x="19993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9" name=""/>
            <p:cNvGrpSpPr/>
            <p:nvPr/>
          </p:nvGrpSpPr>
          <p:grpSpPr>
            <a:xfrm>
              <a:off x="1729080" y="2643840"/>
              <a:ext cx="1852560" cy="1176840"/>
              <a:chOff x="1729080" y="2643840"/>
              <a:chExt cx="1852560" cy="1176840"/>
            </a:xfrm>
          </p:grpSpPr>
          <p:sp>
            <p:nvSpPr>
              <p:cNvPr id="520" name=""/>
              <p:cNvSpPr/>
              <p:nvPr/>
            </p:nvSpPr>
            <p:spPr>
              <a:xfrm>
                <a:off x="1729080" y="2643840"/>
                <a:ext cx="1852560" cy="1176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83"/>
                    </a:lnTo>
                    <a:lnTo>
                      <a:pt x="0" y="19983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29080" y="2643840"/>
                <a:ext cx="1852560" cy="1176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83"/>
                    </a:lnTo>
                    <a:lnTo>
                      <a:pt x="0" y="19983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013480" y="3101400"/>
              <a:ext cx="12834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JTextField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14640" y="3101400"/>
              <a:ext cx="17686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</a:rPr>
                <a:t>TextFieldHandler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7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 user clicks to trigger a specific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different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ggle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x.swing.AbstractBut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b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 buttons are created with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ctionEv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when user clicks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9  Swing button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838080" y="1447920"/>
            <a:ext cx="7467840" cy="3427200"/>
            <a:chOff x="838080" y="1447920"/>
            <a:chExt cx="7467840" cy="3427200"/>
          </a:xfrm>
        </p:grpSpPr>
        <p:sp>
          <p:nvSpPr>
            <p:cNvPr id="528" name=""/>
            <p:cNvSpPr/>
            <p:nvPr/>
          </p:nvSpPr>
          <p:spPr>
            <a:xfrm>
              <a:off x="838080" y="1447920"/>
              <a:ext cx="7467840" cy="34272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074240" y="1708200"/>
              <a:ext cx="6996240" cy="2904840"/>
              <a:chOff x="1074240" y="1708200"/>
              <a:chExt cx="6996240" cy="2904840"/>
            </a:xfrm>
          </p:grpSpPr>
          <p:sp>
            <p:nvSpPr>
              <p:cNvPr id="530" name=""/>
              <p:cNvSpPr/>
              <p:nvPr/>
            </p:nvSpPr>
            <p:spPr>
              <a:xfrm>
                <a:off x="2697480" y="2177280"/>
                <a:ext cx="248400" cy="558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9"/>
                    </a:lnTo>
                    <a:lnTo>
                      <a:pt x="19917" y="1993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1074240" y="1708200"/>
                <a:ext cx="1866960" cy="469080"/>
                <a:chOff x="1074240" y="1708200"/>
                <a:chExt cx="1866960" cy="4690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1134360" y="1839960"/>
                  <a:ext cx="173232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JCompon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1074240" y="1708200"/>
                  <a:ext cx="1866960" cy="469080"/>
                  <a:chOff x="1074240" y="1708200"/>
                  <a:chExt cx="1866960" cy="4690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2951280" y="2520000"/>
                <a:ext cx="1866960" cy="469080"/>
                <a:chOff x="2951280" y="2520000"/>
                <a:chExt cx="1866960" cy="4690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012480" y="2651760"/>
                  <a:ext cx="17319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</a:rPr>
                    <a:t>AbstractButt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2951280" y="2520000"/>
                  <a:ext cx="1866960" cy="469080"/>
                  <a:chOff x="2951280" y="2520000"/>
                  <a:chExt cx="1866960" cy="4690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4590000" y="2989440"/>
                <a:ext cx="2124360" cy="811440"/>
                <a:chOff x="4590000" y="2989440"/>
                <a:chExt cx="2124360" cy="8114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590000" y="2989440"/>
                  <a:ext cx="248400" cy="5580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4847760" y="3331800"/>
                  <a:ext cx="1866600" cy="469080"/>
                  <a:chOff x="4847760" y="3331800"/>
                  <a:chExt cx="1866600" cy="4690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4907520" y="346356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</a:rPr>
                      <a:t>JToggleButt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4847760" y="3331800"/>
                    <a:ext cx="1866600" cy="469080"/>
                    <a:chOff x="4847760" y="3331800"/>
                    <a:chExt cx="1866600" cy="46908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8" name=""/>
              <p:cNvGrpSpPr/>
              <p:nvPr/>
            </p:nvGrpSpPr>
            <p:grpSpPr>
              <a:xfrm>
                <a:off x="5946480" y="3801240"/>
                <a:ext cx="2124000" cy="811800"/>
                <a:chOff x="5946480" y="3801240"/>
                <a:chExt cx="2124000" cy="8118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946480" y="3801240"/>
                  <a:ext cx="248760" cy="558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203520" y="4143600"/>
                  <a:ext cx="1866960" cy="469440"/>
                  <a:chOff x="6203520" y="4143600"/>
                  <a:chExt cx="1866960" cy="46944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626472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</a:rPr>
                      <a:t>JRadioButt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6203520" y="4143600"/>
                    <a:ext cx="1866960" cy="469440"/>
                    <a:chOff x="6203520" y="4143600"/>
                    <a:chExt cx="1866960" cy="4694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3479040" y="3801240"/>
                <a:ext cx="2118600" cy="811800"/>
                <a:chOff x="3479040" y="3801240"/>
                <a:chExt cx="2118600" cy="8118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349240" y="3801240"/>
                  <a:ext cx="248400" cy="558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3479040" y="4143600"/>
                  <a:ext cx="1866600" cy="469440"/>
                  <a:chOff x="3479040" y="4143600"/>
                  <a:chExt cx="1866600" cy="46944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353916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</a:rPr>
                      <a:t>JCheckBox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3479040" y="4143600"/>
                    <a:ext cx="1866600" cy="469440"/>
                    <a:chOff x="3479040" y="4143600"/>
                    <a:chExt cx="1866600" cy="46944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62" name=""/>
              <p:cNvGrpSpPr/>
              <p:nvPr/>
            </p:nvGrpSpPr>
            <p:grpSpPr>
              <a:xfrm>
                <a:off x="1074240" y="2989440"/>
                <a:ext cx="2118600" cy="811800"/>
                <a:chOff x="1074240" y="2989440"/>
                <a:chExt cx="2118600" cy="8118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944440" y="2989440"/>
                  <a:ext cx="248400" cy="558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1074240" y="3332160"/>
                  <a:ext cx="1867320" cy="469080"/>
                  <a:chOff x="1074240" y="3332160"/>
                  <a:chExt cx="1867320" cy="4690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1134360" y="346392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</a:rPr>
                      <a:t>JButt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1074240" y="3332160"/>
                    <a:ext cx="1867320" cy="469080"/>
                    <a:chOff x="1074240" y="3332160"/>
                    <a:chExt cx="1867320" cy="46908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69" name=""/>
          <p:cNvSpPr/>
          <p:nvPr/>
        </p:nvSpPr>
        <p:spPr>
          <a:xfrm>
            <a:off x="1298520" y="1797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5760" y="26352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bstract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50440" y="34290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80520" y="34732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oggle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6800" y="42354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heck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52120" y="4235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Radio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Button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2 buttons. A dialog box will pop up according to the button that we p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one button has an icon that will change when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we move a mouse 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3609720" cy="1312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3517920" cy="15094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267080" y="42670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3880" y="4952880"/>
            <a:ext cx="914400" cy="91440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(GU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program distinctive “look” and “feel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users with basic level of famili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GUI components (controls, widget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acts with GUI component via mouse, keyboar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09720" cy="1312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3610080" cy="13129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517920" cy="15094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438280" y="2895480"/>
            <a:ext cx="419400" cy="482760"/>
          </a:xfrm>
          <a:custGeom>
            <a:avLst/>
            <a:gdLst/>
            <a:ahLst/>
            <a:rect l="l" t="t" r="r" b="b"/>
            <a:pathLst>
              <a:path w="264" h="304">
                <a:moveTo>
                  <a:pt x="0" y="304"/>
                </a:moveTo>
                <a:cubicBezTo>
                  <a:pt x="4" y="232"/>
                  <a:pt x="8" y="160"/>
                  <a:pt x="48" y="112"/>
                </a:cubicBezTo>
                <a:cubicBezTo>
                  <a:pt x="88" y="64"/>
                  <a:pt x="216" y="32"/>
                  <a:pt x="240" y="16"/>
                </a:cubicBezTo>
                <a:cubicBezTo>
                  <a:pt x="264" y="0"/>
                  <a:pt x="228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2971800"/>
            <a:ext cx="419400" cy="482760"/>
          </a:xfrm>
          <a:custGeom>
            <a:avLst/>
            <a:gdLst/>
            <a:ahLst/>
            <a:rect l="l" t="t" r="r" b="b"/>
            <a:pathLst>
              <a:path w="264" h="304">
                <a:moveTo>
                  <a:pt x="0" y="304"/>
                </a:moveTo>
                <a:cubicBezTo>
                  <a:pt x="4" y="232"/>
                  <a:pt x="8" y="160"/>
                  <a:pt x="48" y="112"/>
                </a:cubicBezTo>
                <a:cubicBezTo>
                  <a:pt x="88" y="64"/>
                  <a:pt x="216" y="32"/>
                  <a:pt x="240" y="16"/>
                </a:cubicBezTo>
                <a:cubicBezTo>
                  <a:pt x="264" y="0"/>
                  <a:pt x="228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14600" y="3048120"/>
            <a:ext cx="419040" cy="482400"/>
          </a:xfrm>
          <a:custGeom>
            <a:avLst/>
            <a:gdLst/>
            <a:ahLst/>
            <a:rect l="l" t="t" r="r" b="b"/>
            <a:pathLst>
              <a:path w="264" h="304">
                <a:moveTo>
                  <a:pt x="0" y="304"/>
                </a:moveTo>
                <a:cubicBezTo>
                  <a:pt x="4" y="232"/>
                  <a:pt x="8" y="160"/>
                  <a:pt x="48" y="112"/>
                </a:cubicBezTo>
                <a:cubicBezTo>
                  <a:pt x="88" y="64"/>
                  <a:pt x="216" y="32"/>
                  <a:pt x="240" y="16"/>
                </a:cubicBezTo>
                <a:cubicBezTo>
                  <a:pt x="264" y="0"/>
                  <a:pt x="228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5257800"/>
            <a:ext cx="914400" cy="91440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4572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4-2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0: Button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ing JButton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plainButton, fancy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sting Button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lain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lain 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plain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con bug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1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con bug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2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ancy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Fancy 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bug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ancyButton.setRolloverIcon( bug2 );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fancy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114800" y="1447920"/>
            <a:ext cx="2681280" cy="580680"/>
            <a:chOff x="4114800" y="1447920"/>
            <a:chExt cx="2681280" cy="580680"/>
          </a:xfrm>
        </p:grpSpPr>
        <p:sp>
          <p:nvSpPr>
            <p:cNvPr id="594" name=""/>
            <p:cNvSpPr/>
            <p:nvPr/>
          </p:nvSpPr>
          <p:spPr>
            <a:xfrm flipH="1">
              <a:off x="4114800" y="1752480"/>
              <a:ext cx="5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24640" y="1447920"/>
              <a:ext cx="207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two references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647960" y="4057560"/>
            <a:ext cx="3353040" cy="337320"/>
            <a:chOff x="4647960" y="4057560"/>
            <a:chExt cx="3353040" cy="337320"/>
          </a:xfrm>
        </p:grpSpPr>
        <p:sp>
          <p:nvSpPr>
            <p:cNvPr id="597" name=""/>
            <p:cNvSpPr/>
            <p:nvPr/>
          </p:nvSpPr>
          <p:spPr>
            <a:xfrm flipH="1">
              <a:off x="4647960" y="4209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57800" y="405756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962160" y="4952880"/>
            <a:ext cx="4343760" cy="1310760"/>
            <a:chOff x="3962160" y="4952880"/>
            <a:chExt cx="4343760" cy="1310760"/>
          </a:xfrm>
        </p:grpSpPr>
        <p:sp>
          <p:nvSpPr>
            <p:cNvPr id="600" name=""/>
            <p:cNvSpPr/>
            <p:nvPr/>
          </p:nvSpPr>
          <p:spPr>
            <a:xfrm>
              <a:off x="5867280" y="4952880"/>
              <a:ext cx="24386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image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llov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age, bug2 will be displayed when the mouse is over th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343040" y="5029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1811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962160" y="54100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9" dur="1" fill="hold"/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2-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an instance of inner class Button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to use for button event handling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Handler 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Handler();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ancyButton.addActionListener( handler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lainButton.addActionListener( handler );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7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ButtonTest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inner class for button event handl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button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JOptionPane.showMessageDialog( ButtonTest.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You presse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ActionCommand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571640" y="457200"/>
            <a:ext cx="3886560" cy="580680"/>
            <a:chOff x="4571640" y="457200"/>
            <a:chExt cx="3886560" cy="580680"/>
          </a:xfrm>
        </p:grpSpPr>
        <p:sp>
          <p:nvSpPr>
            <p:cNvPr id="607" name=""/>
            <p:cNvSpPr/>
            <p:nvPr/>
          </p:nvSpPr>
          <p:spPr>
            <a:xfrm>
              <a:off x="5638680" y="45720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vent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571640" y="76176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19720" y="1066680"/>
            <a:ext cx="3646440" cy="580680"/>
            <a:chOff x="4419720" y="1066680"/>
            <a:chExt cx="3646440" cy="580680"/>
          </a:xfrm>
        </p:grpSpPr>
        <p:sp>
          <p:nvSpPr>
            <p:cNvPr id="610" name=""/>
            <p:cNvSpPr/>
            <p:nvPr/>
          </p:nvSpPr>
          <p:spPr>
            <a:xfrm flipH="1">
              <a:off x="4419720" y="137160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81840" y="1066680"/>
              <a:ext cx="2884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receive events fr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952520" y="4254480"/>
            <a:ext cx="3429360" cy="1067400"/>
            <a:chOff x="4952520" y="4254480"/>
            <a:chExt cx="3429360" cy="1067400"/>
          </a:xfrm>
        </p:grpSpPr>
        <p:sp>
          <p:nvSpPr>
            <p:cNvPr id="613" name=""/>
            <p:cNvSpPr/>
            <p:nvPr/>
          </p:nvSpPr>
          <p:spPr>
            <a:xfrm flipH="1">
              <a:off x="4952520" y="4787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8680" y="425448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click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Perform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ll registered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419720" y="5486400"/>
            <a:ext cx="3463920" cy="964800"/>
            <a:chOff x="4419720" y="5486400"/>
            <a:chExt cx="3463920" cy="964800"/>
          </a:xfrm>
        </p:grpSpPr>
        <p:sp>
          <p:nvSpPr>
            <p:cNvPr id="616" name=""/>
            <p:cNvSpPr/>
            <p:nvPr/>
          </p:nvSpPr>
          <p:spPr>
            <a:xfrm flipH="1" flipV="1">
              <a:off x="4419720" y="548640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29560" y="587052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ActionCommand() returns the text on th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3" dur="1" fill="hold"/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utton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99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rivate inner class Button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Button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609720" cy="13129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517920" cy="15098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2743200" y="3809880"/>
            <a:ext cx="914400" cy="91440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31240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8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CheckBox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/Off or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provides thre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Toggle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Check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Radio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CheckBox exampl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font style when a check box is ti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579840" cy="13017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579840" cy="1301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579840" cy="1301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3581640" cy="13017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343400" y="26668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1981080" y="3809520"/>
            <a:ext cx="838440" cy="381240"/>
          </a:xfrm>
          <a:prstGeom prst="leftArrow">
            <a:avLst>
              <a:gd name="adj1" fmla="val 50000"/>
              <a:gd name="adj2" fmla="val 5498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43400" y="47242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6324480" y="3809520"/>
            <a:ext cx="838440" cy="381240"/>
          </a:xfrm>
          <a:prstGeom prst="leftArrow">
            <a:avLst>
              <a:gd name="adj1" fmla="val 50000"/>
              <a:gd name="adj2" fmla="val 5498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heckBox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1: CheckBox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ing JCheckBox button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heckBox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 field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CheckBox bold, italic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heckBox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JCheckBox T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TextField and set its fo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ie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Watch the font style chang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ield.setFon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field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276720" y="1828800"/>
            <a:ext cx="4031640" cy="337320"/>
            <a:chOff x="3276720" y="1828800"/>
            <a:chExt cx="4031640" cy="337320"/>
          </a:xfrm>
        </p:grpSpPr>
        <p:sp>
          <p:nvSpPr>
            <p:cNvPr id="639" name=""/>
            <p:cNvSpPr/>
            <p:nvPr/>
          </p:nvSpPr>
          <p:spPr>
            <a:xfrm flipH="1">
              <a:off x="3276720" y="1981080"/>
              <a:ext cx="91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14800" y="1828800"/>
              <a:ext cx="3193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tw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409720" y="4286160"/>
            <a:ext cx="3048480" cy="580680"/>
            <a:chOff x="5409720" y="4286160"/>
            <a:chExt cx="3048480" cy="580680"/>
          </a:xfrm>
        </p:grpSpPr>
        <p:sp>
          <p:nvSpPr>
            <p:cNvPr id="642" name=""/>
            <p:cNvSpPr/>
            <p:nvPr/>
          </p:nvSpPr>
          <p:spPr>
            <a:xfrm>
              <a:off x="6324480" y="428616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nt to Serif, 14-point pl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09720" y="4591080"/>
              <a:ext cx="9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7" dur="1" fill="hold"/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heckBox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6 and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4-3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4802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checkbox objec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CheckBox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o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old );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talic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CheckBox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Italic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italic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gister listeners for JCheckBoxes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heckBoxHandler handle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heckBoxHandl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.addItemListener( handler );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talic.addItemListener( handler );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7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heckBoxText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heckBox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heckBox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581280" y="609480"/>
            <a:ext cx="5029200" cy="580680"/>
            <a:chOff x="3581280" y="609480"/>
            <a:chExt cx="5029200" cy="580680"/>
          </a:xfrm>
        </p:grpSpPr>
        <p:sp>
          <p:nvSpPr>
            <p:cNvPr id="647" name=""/>
            <p:cNvSpPr/>
            <p:nvPr/>
          </p:nvSpPr>
          <p:spPr>
            <a:xfrm>
              <a:off x="4724280" y="609480"/>
              <a:ext cx="388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bolding and italicizing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xt, respectiv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581280" y="609480"/>
              <a:ext cx="1146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961800" y="9140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657600" y="1924200"/>
            <a:ext cx="4572000" cy="580680"/>
            <a:chOff x="3657600" y="1924200"/>
            <a:chExt cx="4572000" cy="580680"/>
          </a:xfrm>
        </p:grpSpPr>
        <p:sp>
          <p:nvSpPr>
            <p:cNvPr id="651" name=""/>
            <p:cNvSpPr/>
            <p:nvPr/>
          </p:nvSpPr>
          <p:spPr>
            <a:xfrm flipH="1">
              <a:off x="3657600" y="2228760"/>
              <a:ext cx="156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55920" y="1924200"/>
              <a:ext cx="3073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receive events fr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heckBox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1" dur="1" fill="hold"/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heckBox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6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4954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ivate inner class for ItemListener event handl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heckBox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valBold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valItalic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spond to checkbox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StateChanged( Item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bold checkbox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bold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valBold = bold.isSelected() ?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BOL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italic checkbox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italic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valItalic = italic.isSelected() ?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ITA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text field fo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field.setFon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valBold + valItalic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method itemStateChang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rivate inner class CheckBox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CheckBox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876920" y="838080"/>
            <a:ext cx="3429000" cy="1067400"/>
            <a:chOff x="4876920" y="838080"/>
            <a:chExt cx="3429000" cy="1067400"/>
          </a:xfrm>
        </p:grpSpPr>
        <p:sp>
          <p:nvSpPr>
            <p:cNvPr id="656" name=""/>
            <p:cNvSpPr/>
            <p:nvPr/>
          </p:nvSpPr>
          <p:spPr>
            <a:xfrm flipH="1">
              <a:off x="4876920" y="13716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57800" y="83808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heckBox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temStateChang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ll registered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657240" y="2895480"/>
            <a:ext cx="5029560" cy="838080"/>
            <a:chOff x="3657240" y="2895480"/>
            <a:chExt cx="5029560" cy="838080"/>
          </a:xfrm>
        </p:grpSpPr>
        <p:sp>
          <p:nvSpPr>
            <p:cNvPr id="659" name=""/>
            <p:cNvSpPr/>
            <p:nvPr/>
          </p:nvSpPr>
          <p:spPr>
            <a:xfrm>
              <a:off x="5181480" y="28954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nt, depending on which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heck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as 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657240" y="320004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419720" y="1981080"/>
            <a:ext cx="4572000" cy="580680"/>
            <a:chOff x="4419720" y="1981080"/>
            <a:chExt cx="4572000" cy="580680"/>
          </a:xfrm>
        </p:grpSpPr>
        <p:sp>
          <p:nvSpPr>
            <p:cNvPr id="662" name=""/>
            <p:cNvSpPr/>
            <p:nvPr/>
          </p:nvSpPr>
          <p:spPr>
            <a:xfrm flipH="1">
              <a:off x="4419720" y="2286000"/>
              <a:ext cx="156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8040" y="1981080"/>
              <a:ext cx="3073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st check if it is selected or de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0" dur="1" fill="hold"/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RadioButton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hange font, but can only select one button at a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581280" cy="11937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581640" cy="1193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3581280" cy="11937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3581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 window with GUI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2057400"/>
            <a:ext cx="8077320" cy="3289320"/>
            <a:chOff x="685800" y="2057400"/>
            <a:chExt cx="8077320" cy="32893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22400" y="2298600"/>
              <a:ext cx="66405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81560" y="2057400"/>
              <a:ext cx="876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nu 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35560" y="2216160"/>
              <a:ext cx="409320" cy="374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6"/>
                  </a:moveTo>
                  <a:lnTo>
                    <a:pt x="1996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2095560"/>
              <a:ext cx="471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t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2286000"/>
              <a:ext cx="30456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2" y="1997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840" y="2095560"/>
              <a:ext cx="8506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bo 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2286000"/>
              <a:ext cx="1067040" cy="49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6"/>
                  </a:moveTo>
                  <a:lnTo>
                    <a:pt x="199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9400" y="2095560"/>
              <a:ext cx="546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n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2260440"/>
              <a:ext cx="539640" cy="343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3"/>
                  </a:moveTo>
                  <a:lnTo>
                    <a:pt x="199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16160" y="2260440"/>
              <a:ext cx="36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6160" y="2260440"/>
              <a:ext cx="396720" cy="338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8" y="1996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4240" y="4280040"/>
              <a:ext cx="758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roll b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4397400"/>
              <a:ext cx="905040" cy="560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7"/>
                  </a:moveTo>
                  <a:lnTo>
                    <a:pt x="1998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67640" y="4397400"/>
              <a:ext cx="324000" cy="2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412"/>
                  </a:moveTo>
                  <a:lnTo>
                    <a:pt x="1996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adio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0-1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2: RadioButton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ing radio buttons using ButtonGroup and JRadioButton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 field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 plainFont, boldFont, italicFont, boldItalicFon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RadioButton plainButton, boldButton, italicButton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ItalicButton;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Group radioGroup;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GUI and fo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RadioButton T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TextFiel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ield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Fiel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Watch the font style chang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field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276360" y="2305080"/>
            <a:ext cx="5333760" cy="580680"/>
            <a:chOff x="3276360" y="2305080"/>
            <a:chExt cx="5333760" cy="580680"/>
          </a:xfrm>
        </p:grpSpPr>
        <p:sp>
          <p:nvSpPr>
            <p:cNvPr id="673" name=""/>
            <p:cNvSpPr/>
            <p:nvPr/>
          </p:nvSpPr>
          <p:spPr>
            <a:xfrm flipH="1">
              <a:off x="3276360" y="260964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19560" y="230508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normally appear as 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724280" y="1390680"/>
            <a:ext cx="3657600" cy="762120"/>
            <a:chOff x="4724280" y="1390680"/>
            <a:chExt cx="3657600" cy="762120"/>
          </a:xfrm>
        </p:grpSpPr>
        <p:sp>
          <p:nvSpPr>
            <p:cNvPr id="676" name=""/>
            <p:cNvSpPr/>
            <p:nvPr/>
          </p:nvSpPr>
          <p:spPr>
            <a:xfrm flipH="1">
              <a:off x="5562000" y="1695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4280" y="13906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f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adio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8-3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1-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radio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lain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Radio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lai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plain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Radio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ol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old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talic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Radio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Italic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italic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Italic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Radio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old/Italic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oldItalic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logical relationship between JRadio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Group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uttonGroup(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Group.add( plainButton );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Group.add( boldButton );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Group.add( italicButton 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Group.add( boldItalicButton );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font objec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lainFon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PLAI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Fon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BOL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talicFon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ITA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ItalicFon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er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BOL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Font.ITA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ield.setFont( plainFont )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initial fo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657600" y="762120"/>
            <a:ext cx="4800600" cy="1361520"/>
            <a:chOff x="3657600" y="762120"/>
            <a:chExt cx="4800600" cy="1361520"/>
          </a:xfrm>
        </p:grpSpPr>
        <p:sp>
          <p:nvSpPr>
            <p:cNvPr id="681" name=""/>
            <p:cNvSpPr/>
            <p:nvPr/>
          </p:nvSpPr>
          <p:spPr>
            <a:xfrm>
              <a:off x="5105520" y="154296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or manipulating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xt fo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3657600" y="762120"/>
              <a:ext cx="1447920" cy="10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657600" y="1371240"/>
              <a:ext cx="14479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657600" y="1847880"/>
              <a:ext cx="144792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57600" y="2895480"/>
            <a:ext cx="3962520" cy="580680"/>
            <a:chOff x="3657600" y="2895480"/>
            <a:chExt cx="3962520" cy="580680"/>
          </a:xfrm>
        </p:grpSpPr>
        <p:sp>
          <p:nvSpPr>
            <p:cNvPr id="686" name=""/>
            <p:cNvSpPr/>
            <p:nvPr/>
          </p:nvSpPr>
          <p:spPr>
            <a:xfrm flipH="1">
              <a:off x="3657600" y="3200400"/>
              <a:ext cx="17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57800" y="289548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belong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utton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876920" y="533160"/>
            <a:ext cx="3463920" cy="964800"/>
            <a:chOff x="4876920" y="533160"/>
            <a:chExt cx="3463920" cy="964800"/>
          </a:xfrm>
        </p:grpSpPr>
        <p:sp>
          <p:nvSpPr>
            <p:cNvPr id="689" name=""/>
            <p:cNvSpPr/>
            <p:nvPr/>
          </p:nvSpPr>
          <p:spPr>
            <a:xfrm flipH="1" flipV="1">
              <a:off x="4876920" y="533160"/>
              <a:ext cx="1981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6760" y="91728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ue” means this one is selected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3" dur="1" fill="hold"/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adio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55-6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gister events for JRadioButtons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lainButton.addItem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( plainFon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Button.addItem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( boldFont )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talicButton.addItemListener(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( italicFont ) );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ldItalicButton.addItemListener(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( boldItalicFont ) );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RadioButtonTest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adioButton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ivate inner class to handle radio button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ont fon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RadioButtonHandler( Font f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font = f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03640" y="533520"/>
            <a:ext cx="3682800" cy="824040"/>
            <a:chOff x="5003640" y="533520"/>
            <a:chExt cx="3682800" cy="824040"/>
          </a:xfrm>
        </p:grpSpPr>
        <p:sp>
          <p:nvSpPr>
            <p:cNvPr id="694" name=""/>
            <p:cNvSpPr/>
            <p:nvPr/>
          </p:nvSpPr>
          <p:spPr>
            <a:xfrm flipH="1">
              <a:off x="5003640" y="990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46640" y="533520"/>
              <a:ext cx="2539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to receive events fr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adioButton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09880" y="4952880"/>
            <a:ext cx="3463920" cy="964800"/>
            <a:chOff x="3809880" y="4952880"/>
            <a:chExt cx="3463920" cy="964800"/>
          </a:xfrm>
        </p:grpSpPr>
        <p:sp>
          <p:nvSpPr>
            <p:cNvPr id="697" name=""/>
            <p:cNvSpPr/>
            <p:nvPr/>
          </p:nvSpPr>
          <p:spPr>
            <a:xfrm flipH="1" flipV="1">
              <a:off x="3809880" y="495288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533700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nt to be set comes from construct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adioButt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135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radio button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StateChanged( Item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field.setFont( fo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rivate inner class RadioButton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RadioButtonTest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876920" y="457200"/>
            <a:ext cx="3657600" cy="1067400"/>
            <a:chOff x="4876920" y="457200"/>
            <a:chExt cx="3657600" cy="1067400"/>
          </a:xfrm>
        </p:grpSpPr>
        <p:sp>
          <p:nvSpPr>
            <p:cNvPr id="702" name=""/>
            <p:cNvSpPr/>
            <p:nvPr/>
          </p:nvSpPr>
          <p:spPr>
            <a:xfrm flipH="1" flipV="1">
              <a:off x="4876920" y="8377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57800" y="457200"/>
              <a:ext cx="32767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user selec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RadioButton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vokes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itemState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all registered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124080" y="1219320"/>
            <a:ext cx="4876920" cy="1113840"/>
            <a:chOff x="3124080" y="1219320"/>
            <a:chExt cx="4876920" cy="1113840"/>
          </a:xfrm>
        </p:grpSpPr>
        <p:sp>
          <p:nvSpPr>
            <p:cNvPr id="705" name=""/>
            <p:cNvSpPr/>
            <p:nvPr/>
          </p:nvSpPr>
          <p:spPr>
            <a:xfrm>
              <a:off x="5562720" y="17524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ont corresponding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JRadio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3124080" y="1219320"/>
              <a:ext cx="2438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5562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1" dur="1" fill="hold"/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9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Combo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of items from which user can sel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rop-down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ComboBox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an icon to display from the combo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637080" cy="14335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638520" cy="14335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3637080" cy="14335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4952880" y="4343400"/>
            <a:ext cx="3637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boBox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106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3: ComboBox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ing a JComboBox to select an image to display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mboBox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ComboBox imagesComboBox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 label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names[] =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1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2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ravelbug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uganim.gif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con icons[] = {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name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 )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name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 ),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name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 )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mageIcon( name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 )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mboBox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esting JComboBox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257800" y="2666880"/>
            <a:ext cx="3463920" cy="964800"/>
            <a:chOff x="5257800" y="2666880"/>
            <a:chExt cx="3463920" cy="964800"/>
          </a:xfrm>
        </p:grpSpPr>
        <p:sp>
          <p:nvSpPr>
            <p:cNvPr id="719" name=""/>
            <p:cNvSpPr/>
            <p:nvPr/>
          </p:nvSpPr>
          <p:spPr>
            <a:xfrm flipH="1" flipV="1">
              <a:off x="5257800" y="2666880"/>
              <a:ext cx="1981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67640" y="3051000"/>
              <a:ext cx="285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ay that we use to display strings in our combo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28640" y="3276720"/>
            <a:ext cx="3844800" cy="751320"/>
            <a:chOff x="3428640" y="3276720"/>
            <a:chExt cx="3844800" cy="751320"/>
          </a:xfrm>
        </p:grpSpPr>
        <p:sp>
          <p:nvSpPr>
            <p:cNvPr id="722" name=""/>
            <p:cNvSpPr/>
            <p:nvPr/>
          </p:nvSpPr>
          <p:spPr>
            <a:xfrm flipH="1" flipV="1">
              <a:off x="3428640" y="3276720"/>
              <a:ext cx="219924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05800" y="3690720"/>
              <a:ext cx="3167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rresponding array of real i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5" dur="1" fill="hold"/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boBox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7-2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8-3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ComboBox and register its event 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magesComboBox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ComboBox( names );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magesComboBox.setMaximumRowCou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imagesComboBox.addItem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JComboBox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temStateChanged( Item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termine whether check box select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tateChange() == ItemEven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ELECTE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label.setIcon( icons[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   imagesComboBox.getSelectedIndex()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all to addItemListener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imagesComboBox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Label to display ImageIc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bel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 ic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label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580920" y="990720"/>
            <a:ext cx="5258160" cy="1037880"/>
            <a:chOff x="3580920" y="990720"/>
            <a:chExt cx="5258160" cy="1037880"/>
          </a:xfrm>
        </p:grpSpPr>
        <p:sp>
          <p:nvSpPr>
            <p:cNvPr id="727" name=""/>
            <p:cNvSpPr/>
            <p:nvPr/>
          </p:nvSpPr>
          <p:spPr>
            <a:xfrm flipH="1" flipV="1">
              <a:off x="3580920" y="990720"/>
              <a:ext cx="1870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34120" y="1447920"/>
              <a:ext cx="3504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ceive events from anonymou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tem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190760" y="380880"/>
            <a:ext cx="4419720" cy="824040"/>
            <a:chOff x="4190760" y="380880"/>
            <a:chExt cx="4419720" cy="824040"/>
          </a:xfrm>
        </p:grpSpPr>
        <p:sp>
          <p:nvSpPr>
            <p:cNvPr id="730" name=""/>
            <p:cNvSpPr/>
            <p:nvPr/>
          </p:nvSpPr>
          <p:spPr>
            <a:xfrm flipH="1" flipV="1">
              <a:off x="4267080" y="53352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95880" y="3808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omboBo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show thre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fr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4190760" y="761760"/>
              <a:ext cx="19047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0" y="2666520"/>
            <a:ext cx="4343400" cy="2017440"/>
            <a:chOff x="4572000" y="2666520"/>
            <a:chExt cx="4343400" cy="2017440"/>
          </a:xfrm>
        </p:grpSpPr>
        <p:sp>
          <p:nvSpPr>
            <p:cNvPr id="734" name=""/>
            <p:cNvSpPr/>
            <p:nvPr/>
          </p:nvSpPr>
          <p:spPr>
            <a:xfrm flipH="1" flipV="1">
              <a:off x="5410080" y="2666520"/>
              <a:ext cx="99072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2000" y="3616560"/>
              <a:ext cx="43434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fact there are 2 events – select one and deselect another. We only want to execute the code for the item getting selected only. That is why this check is nee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581280" y="3124080"/>
            <a:ext cx="4343040" cy="3229200"/>
            <a:chOff x="3581280" y="3124080"/>
            <a:chExt cx="4343040" cy="3229200"/>
          </a:xfrm>
        </p:grpSpPr>
        <p:sp>
          <p:nvSpPr>
            <p:cNvPr id="737" name=""/>
            <p:cNvSpPr/>
            <p:nvPr/>
          </p:nvSpPr>
          <p:spPr>
            <a:xfrm>
              <a:off x="5378400" y="5042520"/>
              <a:ext cx="2545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ppropri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pending on user selection, the getSelectedIndex() returns the index of the string array that is 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3581280" y="3124080"/>
              <a:ext cx="1797120" cy="25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9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boBox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59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mboBoxTest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mboBox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mboBox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ComboBox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5867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0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JLis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can select one or mor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election vs. multiple-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2  Some basic GUI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1528920"/>
          <a:ext cx="7659720" cy="31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8920"/>
                    <a:ext cx="765972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List (one item selection)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background colour according to the selected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2343240" y="2209680"/>
            <a:ext cx="4267080" cy="18288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4267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ist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4: List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lecting colors from a JLis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ist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ist colorLis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ntainer contain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color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lack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ya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ark 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Gree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ight 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agenta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Orang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ink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R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Whit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Yellow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lor color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BLAC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BL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CYA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DARK_GRAY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GRAY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GREE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LIGHT_GRAY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MAGENTA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ORANG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PIN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RE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WHI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YELLO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ist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ist T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571640" y="2666880"/>
            <a:ext cx="4419720" cy="1067400"/>
            <a:chOff x="4571640" y="2666880"/>
            <a:chExt cx="4419720" cy="1067400"/>
          </a:xfrm>
        </p:grpSpPr>
        <p:sp>
          <p:nvSpPr>
            <p:cNvPr id="751" name=""/>
            <p:cNvSpPr/>
            <p:nvPr/>
          </p:nvSpPr>
          <p:spPr>
            <a:xfrm flipH="1" flipV="1">
              <a:off x="4647960" y="2819520"/>
              <a:ext cx="1828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76760" y="2666880"/>
              <a:ext cx="25146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ain, array of strings to display and the corresponding real color arr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4571640" y="3047760"/>
              <a:ext cx="19047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8" dur="1" fill="hold"/>
                                  <p:tgtEl>
                                    <p:spTgt spid="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ist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5-4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a list with items in colorNames arra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ist( colorNames );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.setVisibleRowCou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o not allow multiple selections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.setSelectionMode( ListSelectionModel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INGLE_SELECTIO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dd a JScrollPane containing JList to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ScrollPane( colorList ) );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.addListSele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istSele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list selection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valueChanged( ListSele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container.setBackground(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colors[ colorList.getSelectedIndex()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all to addListSele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3962160" y="457200"/>
            <a:ext cx="3886560" cy="580680"/>
            <a:chOff x="3962160" y="457200"/>
            <a:chExt cx="3886560" cy="580680"/>
          </a:xfrm>
        </p:grpSpPr>
        <p:sp>
          <p:nvSpPr>
            <p:cNvPr id="757" name=""/>
            <p:cNvSpPr/>
            <p:nvPr/>
          </p:nvSpPr>
          <p:spPr>
            <a:xfrm>
              <a:off x="5486400" y="45720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lor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to popul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962160" y="762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715000" y="1600200"/>
            <a:ext cx="2895480" cy="718200"/>
            <a:chOff x="5715000" y="1600200"/>
            <a:chExt cx="2895480" cy="718200"/>
          </a:xfrm>
        </p:grpSpPr>
        <p:sp>
          <p:nvSpPr>
            <p:cNvPr id="760" name=""/>
            <p:cNvSpPr/>
            <p:nvPr/>
          </p:nvSpPr>
          <p:spPr>
            <a:xfrm>
              <a:off x="5715000" y="198108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single sel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6476760" y="16002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885840" y="2438280"/>
            <a:ext cx="5029560" cy="733320"/>
            <a:chOff x="3885840" y="2438280"/>
            <a:chExt cx="5029560" cy="733320"/>
          </a:xfrm>
        </p:grpSpPr>
        <p:sp>
          <p:nvSpPr>
            <p:cNvPr id="763" name=""/>
            <p:cNvSpPr/>
            <p:nvPr/>
          </p:nvSpPr>
          <p:spPr>
            <a:xfrm flipH="1" flipV="1">
              <a:off x="3885840" y="24382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5520" y="259092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ceive events from anonymou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ListSelection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409720" y="3505320"/>
            <a:ext cx="3429360" cy="1752840"/>
            <a:chOff x="5409720" y="3505320"/>
            <a:chExt cx="3429360" cy="1752840"/>
          </a:xfrm>
        </p:grpSpPr>
        <p:sp>
          <p:nvSpPr>
            <p:cNvPr id="766" name=""/>
            <p:cNvSpPr/>
            <p:nvPr/>
          </p:nvSpPr>
          <p:spPr>
            <a:xfrm flipH="1" flipV="1">
              <a:off x="5409720" y="3505320"/>
              <a:ext cx="167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62720" y="4190760"/>
              <a:ext cx="327636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selects item i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ListSelec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vokes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valueChan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all registered liste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343040" y="4114440"/>
            <a:ext cx="4038840" cy="1876680"/>
            <a:chOff x="4343040" y="4114440"/>
            <a:chExt cx="4038840" cy="1876680"/>
          </a:xfrm>
        </p:grpSpPr>
        <p:sp>
          <p:nvSpPr>
            <p:cNvPr id="769" name=""/>
            <p:cNvSpPr/>
            <p:nvPr/>
          </p:nvSpPr>
          <p:spPr>
            <a:xfrm>
              <a:off x="5790960" y="541044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appropriate background depending on user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4343040" y="411444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7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List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59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ListTest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st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List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List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6019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1  Multiple-Selection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selectio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many items fro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continuous range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– copy the selected string to the right hand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4724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ultipleSelecti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0-12 and 2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6-2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7927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5: MultipleSelectionTest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opying items from one List to another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ultipleSelectionTest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ist colorList, copyLis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copy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color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lack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lu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ya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ark 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Gree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ight Gra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agenta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Orang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ink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Red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Whit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Yellow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ultipleSelectionTest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ultiple Selection List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List colorLi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ist( colorName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.setVisibleRowCou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lorList.setSelectionMode(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ListSelectionModel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MULTIPLE_INTERVAL_SELECTIO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ScrollPane( colorLis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962160" y="2514240"/>
            <a:ext cx="4724640" cy="2438640"/>
            <a:chOff x="3962160" y="2514240"/>
            <a:chExt cx="4724640" cy="2438640"/>
          </a:xfrm>
        </p:grpSpPr>
        <p:sp>
          <p:nvSpPr>
            <p:cNvPr id="780" name=""/>
            <p:cNvSpPr/>
            <p:nvPr/>
          </p:nvSpPr>
          <p:spPr>
            <a:xfrm>
              <a:off x="6324480" y="360036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lorNam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 to popul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876560" y="2514240"/>
              <a:ext cx="144756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962160" y="3905280"/>
              <a:ext cx="236196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028840" y="5257800"/>
            <a:ext cx="3809880" cy="580680"/>
            <a:chOff x="5028840" y="5257800"/>
            <a:chExt cx="3809880" cy="580680"/>
          </a:xfrm>
        </p:grpSpPr>
        <p:sp>
          <p:nvSpPr>
            <p:cNvPr id="784" name=""/>
            <p:cNvSpPr/>
            <p:nvPr/>
          </p:nvSpPr>
          <p:spPr>
            <a:xfrm flipH="1">
              <a:off x="5028840" y="55623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86360" y="5257800"/>
              <a:ext cx="2952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lo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multiple selection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1" dur="1" fill="hold"/>
                                  <p:tgtEl>
                                    <p:spTgt spid="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ultipleSelectionTest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54-5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7927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copy button and register its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opy &gt;&gt;&gt;"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button eve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lace selected values in copyLi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copyList.setListData( colorList.getSelectedValues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copy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List copyLi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Lis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ist(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List.setVisibleRowCoun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List.setFixedCellWidth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List.setFixedCellHeigh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pyList.setSelectionMode(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ListSelectionModel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INGLE_INTERVAL_SELECTIO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ScrollPane( copyList 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800240" y="2742840"/>
            <a:ext cx="4115160" cy="1969200"/>
            <a:chOff x="4800240" y="2742840"/>
            <a:chExt cx="4115160" cy="1969200"/>
          </a:xfrm>
        </p:grpSpPr>
        <p:sp>
          <p:nvSpPr>
            <p:cNvPr id="789" name=""/>
            <p:cNvSpPr/>
            <p:nvPr/>
          </p:nvSpPr>
          <p:spPr>
            <a:xfrm>
              <a:off x="5486400" y="2914560"/>
              <a:ext cx="34290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electedValues() returns an array of objects representing the selected items.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We can’t make an event from multiple selection because we don’t know when the user wants to end the process of selec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4800240" y="2742840"/>
              <a:ext cx="68580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181120" y="5257800"/>
            <a:ext cx="2972160" cy="580680"/>
            <a:chOff x="5181120" y="5257800"/>
            <a:chExt cx="2972160" cy="580680"/>
          </a:xfrm>
        </p:grpSpPr>
        <p:sp>
          <p:nvSpPr>
            <p:cNvPr id="792" name=""/>
            <p:cNvSpPr/>
            <p:nvPr/>
          </p:nvSpPr>
          <p:spPr>
            <a:xfrm flipH="1">
              <a:off x="5181120" y="5562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43600" y="525780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lor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single sel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352680" y="685800"/>
            <a:ext cx="2895480" cy="1204920"/>
            <a:chOff x="3352680" y="685800"/>
            <a:chExt cx="2895480" cy="1204920"/>
          </a:xfrm>
        </p:grpSpPr>
        <p:sp>
          <p:nvSpPr>
            <p:cNvPr id="795" name=""/>
            <p:cNvSpPr/>
            <p:nvPr/>
          </p:nvSpPr>
          <p:spPr>
            <a:xfrm>
              <a:off x="3352680" y="1066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 have to create a button in order to read JList when the button is press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4114440" y="685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0" dur="1" fill="hold"/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ultipleSelectionTest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2744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3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MultipleSelection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MultipleSelectionTest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ultipleSelectionTes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MultipleSelectionTes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556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2  Mouse Event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-listener interfaces for mous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Mouse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MouseMo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en for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MouseEv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ouse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ouseMo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face metho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535040" y="1220760"/>
          <a:ext cx="5703840" cy="50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220760"/>
                    <a:ext cx="570384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2  Overview of Swing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GUI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x.sw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s originate from AWT (packag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.aw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ook and f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 and how users interact with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ightweight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ten completely i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ouseListener &amp; MouseMotionListener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window will detect and show events that take place, including where the events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352680" cy="12193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3352680" cy="12193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352680" cy="12189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4419720" y="3733920"/>
            <a:ext cx="3352680" cy="121896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3352680" cy="121896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6"/>
          <a:stretch/>
        </p:blipFill>
        <p:spPr>
          <a:xfrm>
            <a:off x="685800" y="5105520"/>
            <a:ext cx="3352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Track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0-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7: MouseTracker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mouse ev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Track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Listener, MouseMo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 statusBa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 and register mouse event handle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Tracker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emonstrating Mouse Event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);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etContentPane().add( statusBar, BorderLayou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ddMouse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listens for own mouse an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ddMouseMotion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mouse-motion events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7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48120" y="3886200"/>
            <a:ext cx="4038120" cy="580680"/>
            <a:chOff x="3048120" y="3886200"/>
            <a:chExt cx="4038120" cy="580680"/>
          </a:xfrm>
        </p:grpSpPr>
        <p:sp>
          <p:nvSpPr>
            <p:cNvPr id="816" name=""/>
            <p:cNvSpPr/>
            <p:nvPr/>
          </p:nvSpPr>
          <p:spPr>
            <a:xfrm flipH="1">
              <a:off x="3581280" y="4191120"/>
              <a:ext cx="152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05160" y="388620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receive mouse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48120" y="419112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Track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MouseListener event handle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mouse released immediately after pre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Click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lick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mouse press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Pres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ress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mouse released after dragg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Releas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Releas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mouse enters are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Enter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419360" y="457200"/>
            <a:ext cx="4038840" cy="580680"/>
            <a:chOff x="4419360" y="457200"/>
            <a:chExt cx="4038840" cy="580680"/>
          </a:xfrm>
        </p:grpSpPr>
        <p:sp>
          <p:nvSpPr>
            <p:cNvPr id="822" name=""/>
            <p:cNvSpPr/>
            <p:nvPr/>
          </p:nvSpPr>
          <p:spPr>
            <a:xfrm>
              <a:off x="6019920" y="4572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presses and releases mous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19360" y="762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495680" y="1847880"/>
            <a:ext cx="3276360" cy="580680"/>
            <a:chOff x="4495680" y="1847880"/>
            <a:chExt cx="3276360" cy="580680"/>
          </a:xfrm>
        </p:grpSpPr>
        <p:sp>
          <p:nvSpPr>
            <p:cNvPr id="825" name=""/>
            <p:cNvSpPr/>
            <p:nvPr/>
          </p:nvSpPr>
          <p:spPr>
            <a:xfrm>
              <a:off x="5793840" y="1847880"/>
              <a:ext cx="1978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presses mous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495680" y="2152800"/>
              <a:ext cx="129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495320" y="3295800"/>
            <a:ext cx="4115160" cy="580680"/>
            <a:chOff x="4495320" y="3295800"/>
            <a:chExt cx="4115160" cy="580680"/>
          </a:xfrm>
        </p:grpSpPr>
        <p:sp>
          <p:nvSpPr>
            <p:cNvPr id="828" name=""/>
            <p:cNvSpPr/>
            <p:nvPr/>
          </p:nvSpPr>
          <p:spPr>
            <a:xfrm>
              <a:off x="5486040" y="329580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releases mouse button after dragging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495320" y="36003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419720" y="4724280"/>
            <a:ext cx="3809880" cy="580680"/>
            <a:chOff x="4419720" y="4724280"/>
            <a:chExt cx="3809880" cy="580680"/>
          </a:xfrm>
        </p:grpSpPr>
        <p:sp>
          <p:nvSpPr>
            <p:cNvPr id="831" name=""/>
            <p:cNvSpPr/>
            <p:nvPr/>
          </p:nvSpPr>
          <p:spPr>
            <a:xfrm>
              <a:off x="6029280" y="4724280"/>
              <a:ext cx="2200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mouse cursor enter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419720" y="5029200"/>
              <a:ext cx="16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3" dur="1" fill="hold"/>
                                  <p:tgtEl>
                                    <p:spTgt spid="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Track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6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7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ouse enter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etContentPane()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GREE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mouse exits are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Exit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ouse outside window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etContentPane().setBackground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WHI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MouseMotionListener event handle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user drags mouse with button press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Dragg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ragg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event when user moves mous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Mov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atusBar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oved at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X(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Y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4343400" y="1238400"/>
            <a:ext cx="3809880" cy="580680"/>
            <a:chOff x="4343400" y="1238400"/>
            <a:chExt cx="3809880" cy="580680"/>
          </a:xfrm>
        </p:grpSpPr>
        <p:sp>
          <p:nvSpPr>
            <p:cNvPr id="836" name=""/>
            <p:cNvSpPr/>
            <p:nvPr/>
          </p:nvSpPr>
          <p:spPr>
            <a:xfrm>
              <a:off x="5952960" y="1238400"/>
              <a:ext cx="2200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mouse cursor exit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343400" y="1543320"/>
              <a:ext cx="16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495320" y="2895480"/>
            <a:ext cx="3353040" cy="580680"/>
            <a:chOff x="4495320" y="2895480"/>
            <a:chExt cx="3353040" cy="580680"/>
          </a:xfrm>
        </p:grpSpPr>
        <p:sp>
          <p:nvSpPr>
            <p:cNvPr id="839" name=""/>
            <p:cNvSpPr/>
            <p:nvPr/>
          </p:nvSpPr>
          <p:spPr>
            <a:xfrm>
              <a:off x="5911920" y="2895480"/>
              <a:ext cx="1936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drags mouse cur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95320" y="3200400"/>
              <a:ext cx="14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495320" y="4286160"/>
            <a:ext cx="3353400" cy="580680"/>
            <a:chOff x="4495320" y="4286160"/>
            <a:chExt cx="3353400" cy="580680"/>
          </a:xfrm>
        </p:grpSpPr>
        <p:sp>
          <p:nvSpPr>
            <p:cNvPr id="842" name=""/>
            <p:cNvSpPr/>
            <p:nvPr/>
          </p:nvSpPr>
          <p:spPr>
            <a:xfrm>
              <a:off x="5916600" y="4286160"/>
              <a:ext cx="1932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 when user moves mouse cur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4495320" y="4571640"/>
              <a:ext cx="142092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2" dur="1" fill="hold"/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Tracker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152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MouseTracker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Track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MouseTrack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5943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3  Adapter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s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default implementation of each interface method – it has empty method body for all methods of the implemented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all methods in interface is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g. 13.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-adapter classes and the interfaces they implement in packag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.awt.event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014480" y="1982880"/>
          <a:ext cx="6910200" cy="228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982880"/>
                    <a:ext cx="691020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apter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rawing program that draw big dots as the user drag the mouse to various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int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1069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19: Painter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Using class MouseMotionAdapter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int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oint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rray of 1000 java.awt.Point references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oint points[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oint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 and register mouse event 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inter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A simple paint program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a label and place it in SOUTH of Border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etContentPane().ad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Label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rag the mouse to draw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,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ddMouseMo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MotionAdapt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971800" y="4286160"/>
            <a:ext cx="4876560" cy="580680"/>
            <a:chOff x="2971800" y="4286160"/>
            <a:chExt cx="4876560" cy="580680"/>
          </a:xfrm>
        </p:grpSpPr>
        <p:sp>
          <p:nvSpPr>
            <p:cNvPr id="858" name=""/>
            <p:cNvSpPr/>
            <p:nvPr/>
          </p:nvSpPr>
          <p:spPr>
            <a:xfrm>
              <a:off x="4145400" y="4286160"/>
              <a:ext cx="3702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MotionListe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isten for window’s mouse-motion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971800" y="4590720"/>
              <a:ext cx="11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1" dur="1" fill="hold"/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inter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tore drag coordinates and repaint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Dragged( MouseEvent event )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pointCount &lt; points.length ) {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points[ pointCount ] = event.getPo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++pointCount;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   repaint();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}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all to addMouseMo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ainter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raw oval in a 4-by-4 bounding box at specified location on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i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.paint( g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lears drawing are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i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i &lt; points.length &amp;&amp; points[ i ] !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ul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i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g.fillOval( points[ i ].x, points[ i ].y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105520" y="228600"/>
            <a:ext cx="3809880" cy="580680"/>
            <a:chOff x="5105520" y="228600"/>
            <a:chExt cx="3809880" cy="580680"/>
          </a:xfrm>
        </p:grpSpPr>
        <p:sp>
          <p:nvSpPr>
            <p:cNvPr id="863" name=""/>
            <p:cNvSpPr/>
            <p:nvPr/>
          </p:nvSpPr>
          <p:spPr>
            <a:xfrm>
              <a:off x="5715000" y="2286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e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Dragg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ut not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Mo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105520" y="53352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114800" y="1219320"/>
            <a:ext cx="4495680" cy="580680"/>
            <a:chOff x="4114800" y="1219320"/>
            <a:chExt cx="4495680" cy="580680"/>
          </a:xfrm>
        </p:grpSpPr>
        <p:sp>
          <p:nvSpPr>
            <p:cNvPr id="866" name=""/>
            <p:cNvSpPr/>
            <p:nvPr/>
          </p:nvSpPr>
          <p:spPr>
            <a:xfrm>
              <a:off x="5410080" y="12193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coordinates where mouse was dragged, then repain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4114800" y="1294920"/>
              <a:ext cx="1292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333760" y="5105520"/>
            <a:ext cx="3429000" cy="580680"/>
            <a:chOff x="5333760" y="5105520"/>
            <a:chExt cx="3429000" cy="580680"/>
          </a:xfrm>
        </p:grpSpPr>
        <p:sp>
          <p:nvSpPr>
            <p:cNvPr id="869" name=""/>
            <p:cNvSpPr/>
            <p:nvPr/>
          </p:nvSpPr>
          <p:spPr>
            <a:xfrm>
              <a:off x="6362640" y="5105520"/>
              <a:ext cx="2400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circle of diame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re user dragged cur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333760" y="5410080"/>
              <a:ext cx="102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0" dur="1" fill="hold"/>
                                  <p:tgtEl>
                                    <p:spTgt spid="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2  Overview of Swing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tho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p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rawing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related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tho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dding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luggable look and fe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customizing look and f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cut keys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nemon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event-handling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ainter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175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Painter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inte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Paint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other Adapter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indow detects and shows where it is click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17305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038480" cy="1730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3"/>
          <a:stretch/>
        </p:blipFill>
        <p:spPr>
          <a:xfrm>
            <a:off x="2514600" y="4191120"/>
            <a:ext cx="40384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Details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411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0: MouseDetails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mouse clicks and distinguishing between mouse button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Details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xPos, yPos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title bar String; register mouse listener; size and show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Details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ouse clicks and button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ddMouse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ClickHandler() );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raw String at location where mouse was click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paint( Graphics g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all superclass paint metho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.paint( g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952880" y="3006720"/>
            <a:ext cx="3200040" cy="337320"/>
            <a:chOff x="4952880" y="3006720"/>
            <a:chExt cx="3200040" cy="337320"/>
          </a:xfrm>
        </p:grpSpPr>
        <p:sp>
          <p:nvSpPr>
            <p:cNvPr id="881" name=""/>
            <p:cNvSpPr/>
            <p:nvPr/>
          </p:nvSpPr>
          <p:spPr>
            <a:xfrm>
              <a:off x="5912640" y="3006720"/>
              <a:ext cx="2240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mouse liste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952880" y="3159000"/>
              <a:ext cx="95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8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Details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3-4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6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.drawString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licked @ [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xPos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,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yPos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]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xPos, yPos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MouseDetails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Details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inner class to handle mouse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ClickHandl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Adapt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mouse click event and determine which button was press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ouseClicked( Mouse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xPos = event.getX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yPos = event.getY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String title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licked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ClickCount()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 time(s)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isMetaDown() )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ight mouse button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title +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 with right mouse 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isAltDown() )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middle mouse button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title +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 with center mouse 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648320" y="2152800"/>
            <a:ext cx="4030560" cy="990000"/>
            <a:chOff x="4648320" y="2152800"/>
            <a:chExt cx="4030560" cy="990000"/>
          </a:xfrm>
        </p:grpSpPr>
        <p:sp>
          <p:nvSpPr>
            <p:cNvPr id="886" name=""/>
            <p:cNvSpPr/>
            <p:nvPr/>
          </p:nvSpPr>
          <p:spPr>
            <a:xfrm>
              <a:off x="5639040" y="2152800"/>
              <a:ext cx="3039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Click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user clicks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648320" y="2457360"/>
              <a:ext cx="990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895480" y="3048120"/>
            <a:ext cx="5181840" cy="580680"/>
            <a:chOff x="2895480" y="3048120"/>
            <a:chExt cx="5181840" cy="580680"/>
          </a:xfrm>
        </p:grpSpPr>
        <p:sp>
          <p:nvSpPr>
            <p:cNvPr id="889" name=""/>
            <p:cNvSpPr/>
            <p:nvPr/>
          </p:nvSpPr>
          <p:spPr>
            <a:xfrm>
              <a:off x="5257800" y="3048120"/>
              <a:ext cx="2819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 mouse-cursor coordinates where mouse was clic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95480" y="3352680"/>
              <a:ext cx="2362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791320" y="3581280"/>
            <a:ext cx="2895480" cy="580680"/>
            <a:chOff x="5791320" y="3581280"/>
            <a:chExt cx="2895480" cy="580680"/>
          </a:xfrm>
        </p:grpSpPr>
        <p:sp>
          <p:nvSpPr>
            <p:cNvPr id="892" name=""/>
            <p:cNvSpPr/>
            <p:nvPr/>
          </p:nvSpPr>
          <p:spPr>
            <a:xfrm>
              <a:off x="6172200" y="358128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number of times user has clicked m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91320" y="388584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52680" y="4286160"/>
            <a:ext cx="5105520" cy="580680"/>
            <a:chOff x="3352680" y="4286160"/>
            <a:chExt cx="5105520" cy="580680"/>
          </a:xfrm>
        </p:grpSpPr>
        <p:sp>
          <p:nvSpPr>
            <p:cNvPr id="895" name=""/>
            <p:cNvSpPr/>
            <p:nvPr/>
          </p:nvSpPr>
          <p:spPr>
            <a:xfrm>
              <a:off x="6172200" y="428616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user clicked right mous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352680" y="4590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657240" y="4876920"/>
            <a:ext cx="4648320" cy="580680"/>
            <a:chOff x="3657240" y="4876920"/>
            <a:chExt cx="4648320" cy="580680"/>
          </a:xfrm>
        </p:grpSpPr>
        <p:sp>
          <p:nvSpPr>
            <p:cNvPr id="898" name=""/>
            <p:cNvSpPr/>
            <p:nvPr/>
          </p:nvSpPr>
          <p:spPr>
            <a:xfrm>
              <a:off x="6019560" y="487692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rmine if user clicked middle mouse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657240" y="5181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8" dur="1" fill="hold"/>
                                  <p:tgtEl>
                                    <p:spTgt spid="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useDetails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516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left mouse button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title +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 with left mouse butto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setTitle( title )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title bar of window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repain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method mouseClicked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private inner class MouseClickHandl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MouseDetail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g. 13.21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nput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thods that help distinguish among left-, center- and right-mouse-button clicks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990720" y="2284560"/>
          <a:ext cx="6819840" cy="228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4560"/>
                    <a:ext cx="681984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4  Key Event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Key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ey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d when keys on keyboard are pressed and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rtual key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represents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KeyListener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keyboard press, releas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1123920" y="4191120"/>
            <a:ext cx="3429000" cy="9792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429000" cy="9792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3"/>
          <a:stretch/>
        </p:blipFill>
        <p:spPr>
          <a:xfrm>
            <a:off x="2895480" y="5486400"/>
            <a:ext cx="3429000" cy="9795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3429000" cy="97956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5"/>
          <a:stretch/>
        </p:blipFill>
        <p:spPr>
          <a:xfrm>
            <a:off x="4724280" y="1714680"/>
            <a:ext cx="3427560" cy="97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6"/>
          <a:stretch/>
        </p:blipFill>
        <p:spPr>
          <a:xfrm>
            <a:off x="1143000" y="2971800"/>
            <a:ext cx="3429000" cy="9795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7"/>
          <a:stretch/>
        </p:blipFill>
        <p:spPr>
          <a:xfrm>
            <a:off x="4724280" y="2971800"/>
            <a:ext cx="34290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tion keys and Modifier ke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, End, PageUp,  PageDown, Insert, 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 Lock, Caps 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Print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croll 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P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odifier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h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t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Key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2: Key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keystroke ev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line1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line2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line3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Area textArea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Demonstrating Keystroke Events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JTextAre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Area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TextArea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Area.setTex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Press any key on the keyboard...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Area.setEnabled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Area.setDisabledTextColor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olor.BLACK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etContentPane().add( textArea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ddKey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llow frame to process Key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742840" y="4800600"/>
            <a:ext cx="4648680" cy="337320"/>
            <a:chOff x="2742840" y="4800600"/>
            <a:chExt cx="4648680" cy="337320"/>
          </a:xfrm>
        </p:grpSpPr>
        <p:sp>
          <p:nvSpPr>
            <p:cNvPr id="921" name=""/>
            <p:cNvSpPr/>
            <p:nvPr/>
          </p:nvSpPr>
          <p:spPr>
            <a:xfrm>
              <a:off x="4511880" y="4800600"/>
              <a:ext cx="2879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key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2742840" y="49528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657600" y="4267080"/>
            <a:ext cx="4800240" cy="580680"/>
            <a:chOff x="3657600" y="4267080"/>
            <a:chExt cx="4800240" cy="580680"/>
          </a:xfrm>
        </p:grpSpPr>
        <p:sp>
          <p:nvSpPr>
            <p:cNvPr id="924" name=""/>
            <p:cNvSpPr/>
            <p:nvPr/>
          </p:nvSpPr>
          <p:spPr>
            <a:xfrm>
              <a:off x="5483880" y="4267080"/>
              <a:ext cx="2973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Area covers all part of the window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657600" y="4419360"/>
              <a:ext cx="181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2" dur="1" fill="hold"/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3  Common superclasses of many of the Swing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057400"/>
            <a:ext cx="624816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38360" y="2254320"/>
            <a:ext cx="1562040" cy="417600"/>
            <a:chOff x="1638360" y="2254320"/>
            <a:chExt cx="1562040" cy="417600"/>
          </a:xfrm>
        </p:grpSpPr>
        <p:sp>
          <p:nvSpPr>
            <p:cNvPr id="120" name=""/>
            <p:cNvSpPr/>
            <p:nvPr/>
          </p:nvSpPr>
          <p:spPr>
            <a:xfrm>
              <a:off x="1688400" y="2371680"/>
              <a:ext cx="14493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38360" y="2254320"/>
              <a:ext cx="1562040" cy="417600"/>
              <a:chOff x="1638360" y="2254320"/>
              <a:chExt cx="1562040" cy="417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8360" y="2254320"/>
                <a:ext cx="1562040" cy="41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38360" y="2254320"/>
                <a:ext cx="1562040" cy="41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2933640" y="2976480"/>
            <a:ext cx="1562040" cy="412920"/>
            <a:chOff x="2933640" y="2976480"/>
            <a:chExt cx="1562040" cy="412920"/>
          </a:xfrm>
        </p:grpSpPr>
        <p:sp>
          <p:nvSpPr>
            <p:cNvPr id="125" name=""/>
            <p:cNvSpPr/>
            <p:nvPr/>
          </p:nvSpPr>
          <p:spPr>
            <a:xfrm>
              <a:off x="2983680" y="3092400"/>
              <a:ext cx="144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933640" y="2976480"/>
              <a:ext cx="1562040" cy="412920"/>
              <a:chOff x="2933640" y="2976480"/>
              <a:chExt cx="1562040" cy="412920"/>
            </a:xfrm>
          </p:grpSpPr>
          <p:sp>
            <p:nvSpPr>
              <p:cNvPr id="127" name=""/>
              <p:cNvSpPr/>
              <p:nvPr/>
            </p:nvSpPr>
            <p:spPr>
              <a:xfrm>
                <a:off x="2933640" y="2976480"/>
                <a:ext cx="1562040" cy="41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33640" y="2976480"/>
                <a:ext cx="1562040" cy="41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4191120" y="3697200"/>
            <a:ext cx="1562040" cy="412920"/>
            <a:chOff x="4191120" y="3697200"/>
            <a:chExt cx="1562040" cy="412920"/>
          </a:xfrm>
        </p:grpSpPr>
        <p:sp>
          <p:nvSpPr>
            <p:cNvPr id="130" name=""/>
            <p:cNvSpPr/>
            <p:nvPr/>
          </p:nvSpPr>
          <p:spPr>
            <a:xfrm>
              <a:off x="4241160" y="3813120"/>
              <a:ext cx="144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Contai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191120" y="3697200"/>
              <a:ext cx="1562040" cy="412920"/>
              <a:chOff x="4191120" y="3697200"/>
              <a:chExt cx="1562040" cy="412920"/>
            </a:xfrm>
          </p:grpSpPr>
          <p:sp>
            <p:nvSpPr>
              <p:cNvPr id="132" name=""/>
              <p:cNvSpPr/>
              <p:nvPr/>
            </p:nvSpPr>
            <p:spPr>
              <a:xfrm>
                <a:off x="4191120" y="3697200"/>
                <a:ext cx="1562040" cy="41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3697200"/>
                <a:ext cx="1562040" cy="41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451480" y="4414680"/>
            <a:ext cx="1562040" cy="417600"/>
            <a:chOff x="5451480" y="4414680"/>
            <a:chExt cx="1562040" cy="417600"/>
          </a:xfrm>
        </p:grpSpPr>
        <p:sp>
          <p:nvSpPr>
            <p:cNvPr id="135" name=""/>
            <p:cNvSpPr/>
            <p:nvPr/>
          </p:nvSpPr>
          <p:spPr>
            <a:xfrm>
              <a:off x="5501520" y="4532040"/>
              <a:ext cx="14493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</a:rPr>
                <a:t>JCompon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51480" y="4414680"/>
              <a:ext cx="1562040" cy="417600"/>
              <a:chOff x="5451480" y="4414680"/>
              <a:chExt cx="1562040" cy="417600"/>
            </a:xfrm>
          </p:grpSpPr>
          <p:sp>
            <p:nvSpPr>
              <p:cNvPr id="137" name=""/>
              <p:cNvSpPr/>
              <p:nvPr/>
            </p:nvSpPr>
            <p:spPr>
              <a:xfrm>
                <a:off x="5451480" y="4414680"/>
                <a:ext cx="1562040" cy="41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51480" y="4414680"/>
                <a:ext cx="1562040" cy="41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5018040" y="4110120"/>
            <a:ext cx="432000" cy="49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2000" y="2671920"/>
            <a:ext cx="431640" cy="493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57680" y="3389400"/>
            <a:ext cx="430200" cy="496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3600" y="2330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7080" y="30160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5960" y="4464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6280" y="3778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Key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 and 4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5564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KeyDemo constructo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press of any ke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Pressed( Key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ne1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Key presse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KeyText( event.getKeyCode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Lines2and3( eve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release of any ke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Released( Key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ne1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Key release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KeyText( event.getKeyCode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Lines2and3( eve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press of an action key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Typed( Key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ne1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Key type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event.getKeyChar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Lines2and3( even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second and third lines of outp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etLines2and3( Key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267080" y="990720"/>
            <a:ext cx="3870360" cy="337320"/>
            <a:chOff x="4267080" y="990720"/>
            <a:chExt cx="3870360" cy="337320"/>
          </a:xfrm>
        </p:grpSpPr>
        <p:sp>
          <p:nvSpPr>
            <p:cNvPr id="929" name=""/>
            <p:cNvSpPr/>
            <p:nvPr/>
          </p:nvSpPr>
          <p:spPr>
            <a:xfrm>
              <a:off x="5486040" y="990720"/>
              <a:ext cx="2651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ed when user presses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267080" y="1143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486040" y="1676520"/>
            <a:ext cx="2972160" cy="1218960"/>
            <a:chOff x="5486040" y="1676520"/>
            <a:chExt cx="2972160" cy="1218960"/>
          </a:xfrm>
        </p:grpSpPr>
        <p:sp>
          <p:nvSpPr>
            <p:cNvPr id="932" name=""/>
            <p:cNvSpPr/>
            <p:nvPr/>
          </p:nvSpPr>
          <p:spPr>
            <a:xfrm>
              <a:off x="6005520" y="1981080"/>
              <a:ext cx="2452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virtual key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5562000" y="2133720"/>
              <a:ext cx="44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5486040" y="16765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657600" y="3048120"/>
            <a:ext cx="2286000" cy="848520"/>
            <a:chOff x="3657600" y="3048120"/>
            <a:chExt cx="2286000" cy="848520"/>
          </a:xfrm>
        </p:grpSpPr>
        <p:sp>
          <p:nvSpPr>
            <p:cNvPr id="936" name=""/>
            <p:cNvSpPr/>
            <p:nvPr/>
          </p:nvSpPr>
          <p:spPr>
            <a:xfrm>
              <a:off x="3657600" y="3559320"/>
              <a:ext cx="2286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vert it to 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4259160" y="3048120"/>
              <a:ext cx="48096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124080" y="4495320"/>
            <a:ext cx="3200040" cy="533880"/>
            <a:chOff x="3124080" y="4495320"/>
            <a:chExt cx="3200040" cy="533880"/>
          </a:xfrm>
        </p:grpSpPr>
        <p:sp>
          <p:nvSpPr>
            <p:cNvPr id="939" name=""/>
            <p:cNvSpPr/>
            <p:nvPr/>
          </p:nvSpPr>
          <p:spPr>
            <a:xfrm>
              <a:off x="3124080" y="4691880"/>
              <a:ext cx="3200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unicod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3965760" y="4495320"/>
              <a:ext cx="67356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6" dur="1" fill="hold"/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Key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373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ne2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his key is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( event.isActionKey() ?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not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 +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an action key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tring temp = event.getKeyModifiersText( event.getModifiers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ine3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Modifier keys pressed: 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( temp.equals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 ?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no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: temp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extArea.setText( line1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line2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+ line3 +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\n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Key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Key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Key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5333760" y="1066320"/>
            <a:ext cx="3581280" cy="1880280"/>
            <a:chOff x="5333760" y="1066320"/>
            <a:chExt cx="3581280" cy="1880280"/>
          </a:xfrm>
        </p:grpSpPr>
        <p:sp>
          <p:nvSpPr>
            <p:cNvPr id="944" name=""/>
            <p:cNvSpPr/>
            <p:nvPr/>
          </p:nvSpPr>
          <p:spPr>
            <a:xfrm flipH="1" flipV="1">
              <a:off x="5333760" y="1066320"/>
              <a:ext cx="1627560" cy="106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34120" y="2122560"/>
              <a:ext cx="35809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i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odifier keys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.g.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tr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ere used. If not, “” is return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61722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5" dur="1" fill="hold"/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5  Layout Mana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d for arranging GUI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basic layout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s layout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can concentrate on basic “look and feel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Layout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. 13.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yout mana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762120" y="1832040"/>
          <a:ext cx="7340400" cy="27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32040"/>
                    <a:ext cx="73404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5.1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low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basic layout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components placed in container from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lowLayout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ttons are used to set the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504960" cy="87624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505320" cy="8762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3504960" cy="8766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504960" cy="87624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5"/>
          <a:stretch/>
        </p:blipFill>
        <p:spPr>
          <a:xfrm>
            <a:off x="3124080" y="4648320"/>
            <a:ext cx="21495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Flow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7 and 2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182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4: FlowLayout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FlowLayout alignments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leftButton, centerButton, rightButton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ntainer contain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 layou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 and register button listener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FlowLayout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you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layou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leftButton and register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eft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Lef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left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123720" y="3657600"/>
            <a:ext cx="4632480" cy="685800"/>
            <a:chOff x="3123720" y="3657600"/>
            <a:chExt cx="4632480" cy="685800"/>
          </a:xfrm>
        </p:grpSpPr>
        <p:sp>
          <p:nvSpPr>
            <p:cNvPr id="964" name=""/>
            <p:cNvSpPr/>
            <p:nvPr/>
          </p:nvSpPr>
          <p:spPr>
            <a:xfrm>
              <a:off x="5105160" y="3886200"/>
              <a:ext cx="26510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layout a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lowLay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3123720" y="365760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428280" y="403848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4" dur="1" fill="hold"/>
                                  <p:tgtEl>
                                    <p:spTgt spid="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Flow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5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6021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eft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leftButton event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setAlignment( FlowLayou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LEF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align attached compon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layoutContainer( contain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all to addAction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centerButton and register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enter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Cente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center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enter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centerButton event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setAlignment( FlowLayou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952520" y="1832040"/>
            <a:ext cx="2895840" cy="1128600"/>
            <a:chOff x="4952520" y="1832040"/>
            <a:chExt cx="2895840" cy="1128600"/>
          </a:xfrm>
        </p:grpSpPr>
        <p:sp>
          <p:nvSpPr>
            <p:cNvPr id="970" name=""/>
            <p:cNvSpPr/>
            <p:nvPr/>
          </p:nvSpPr>
          <p:spPr>
            <a:xfrm>
              <a:off x="6095880" y="21366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lef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left align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4952520" y="183204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5181480" y="5410080"/>
            <a:ext cx="2743200" cy="824040"/>
            <a:chOff x="5181480" y="5410080"/>
            <a:chExt cx="2743200" cy="824040"/>
          </a:xfrm>
        </p:grpSpPr>
        <p:sp>
          <p:nvSpPr>
            <p:cNvPr id="973" name=""/>
            <p:cNvSpPr/>
            <p:nvPr/>
          </p:nvSpPr>
          <p:spPr>
            <a:xfrm flipH="1">
              <a:off x="5181480" y="5791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72200" y="541008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center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enter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8" dur="1" fill="hold"/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Flow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7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align attached compon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layoutContainer( contain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rightButton and register listener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ightButt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Righ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rightButton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rightButton.addActionListener(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5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() {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anonymous inner clas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rocess rightButton event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setAlignment( FlowLayout.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RIGH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align attached compon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   layout.layoutContainer( container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7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5029200" y="3203640"/>
            <a:ext cx="2743200" cy="824040"/>
            <a:chOff x="5029200" y="3203640"/>
            <a:chExt cx="2743200" cy="824040"/>
          </a:xfrm>
        </p:grpSpPr>
        <p:sp>
          <p:nvSpPr>
            <p:cNvPr id="978" name=""/>
            <p:cNvSpPr/>
            <p:nvPr/>
          </p:nvSpPr>
          <p:spPr>
            <a:xfrm flipH="1">
              <a:off x="5029200" y="3584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320364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user presses righ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right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7" dur="1" fill="hold"/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FlowLayout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135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Flow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FlowLayout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FlowLayout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Flow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13.3  </a:t>
            </a:r>
            <a:r>
              <a:rPr b="0" lang="en-US" sz="2600" spc="-1" strike="noStrike">
                <a:solidFill>
                  <a:srgbClr val="ff0000"/>
                </a:solidFill>
                <a:latin typeface="Lucida Console"/>
              </a:rPr>
              <a:t>JLabel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text on 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with 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Lab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ispl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line of read-only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5.2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rder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nges components into five reg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OR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op of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OU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ottom of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ft of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W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ight of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enter of contai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BorderLayout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 the button that is cli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order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8 and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5: BorderLayout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BorderLayou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orderLayout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button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names[] =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e North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e South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e Ea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e West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Hide Cente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orderLayout layout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 and event handling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orderLayout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BorderLayout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yout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order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5 pixel gap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layout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instantiate button objec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[ name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500280" y="3828960"/>
            <a:ext cx="5110200" cy="885600"/>
            <a:chOff x="3500280" y="3828960"/>
            <a:chExt cx="5110200" cy="885600"/>
          </a:xfrm>
        </p:grpSpPr>
        <p:sp>
          <p:nvSpPr>
            <p:cNvPr id="993" name=""/>
            <p:cNvSpPr/>
            <p:nvPr/>
          </p:nvSpPr>
          <p:spPr>
            <a:xfrm>
              <a:off x="5405400" y="4133880"/>
              <a:ext cx="3205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layout a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rder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5-pixel horizontal and vertical ga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3881160" y="382896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500280" y="4438800"/>
              <a:ext cx="1905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6" dur="1" fill="hold"/>
                                  <p:tgtEl>
                                    <p:spTgt spid="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order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3-3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50 and 5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count &lt; name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nam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s[ count ].addAction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place buttons in BorderLayout; order not importan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NOR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SOUTH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EAS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WES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add( buttons[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]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BorderLayout.CENT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Border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button even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count &lt; buttons.length; count++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event.getSource() == buttons[ count 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buttons[ count ].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al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   buttons[ count ].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5181480" y="1676520"/>
            <a:ext cx="3124080" cy="2167920"/>
            <a:chOff x="5181480" y="1676520"/>
            <a:chExt cx="3124080" cy="2167920"/>
          </a:xfrm>
        </p:grpSpPr>
        <p:sp>
          <p:nvSpPr>
            <p:cNvPr id="999" name=""/>
            <p:cNvSpPr/>
            <p:nvPr/>
          </p:nvSpPr>
          <p:spPr>
            <a:xfrm>
              <a:off x="5562360" y="1676520"/>
              <a:ext cx="2743200" cy="21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in regions specified by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rderLayou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f we add to the same region, it will cover any previous component on that reg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18148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4495680" y="4803840"/>
            <a:ext cx="3886200" cy="824040"/>
            <a:chOff x="4495680" y="4803840"/>
            <a:chExt cx="3886200" cy="824040"/>
          </a:xfrm>
        </p:grpSpPr>
        <p:sp>
          <p:nvSpPr>
            <p:cNvPr id="1002" name=""/>
            <p:cNvSpPr/>
            <p:nvPr/>
          </p:nvSpPr>
          <p:spPr>
            <a:xfrm>
              <a:off x="5410080" y="480384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 are “invisible,” they are not displayed on screen,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Border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ar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4572000" y="5032080"/>
              <a:ext cx="8380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495680" y="51843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0" dur="1" fill="hold"/>
                                  <p:tgtEl>
                                    <p:spTgt spid="1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BorderLayout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2592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re-layout the content pan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layout.layoutContainer( getContentPane()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orderLayout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BorderLayout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Border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13.15.3  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rid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rid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s container into grid of specified row an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nents are added starting at top-left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 left-to-fight until row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Lucida Console"/>
              </a:rPr>
              <a:t>GridLayout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row and column on button 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4114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id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Fig. 13.26: GridLayoutDemo.java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Demonstrating GridLayout.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.awt.event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avax.swing.*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Demo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xtend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Fram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mplemen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Listener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 buttons[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in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String names[] =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{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on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w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thre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four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five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six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}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boolean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toggle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ntainer container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rivat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 grid1, grid2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GUI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Demo(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upe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"GridLayout Demo"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up layou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rid1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rid2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get content pane and set its layout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 = getContentPan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setLayout( grid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809520" y="2819520"/>
            <a:ext cx="3885840" cy="1446840"/>
            <a:chOff x="3809520" y="2819520"/>
            <a:chExt cx="3885840" cy="1446840"/>
          </a:xfrm>
        </p:grpSpPr>
        <p:sp>
          <p:nvSpPr>
            <p:cNvPr id="1016" name=""/>
            <p:cNvSpPr/>
            <p:nvPr/>
          </p:nvSpPr>
          <p:spPr>
            <a:xfrm>
              <a:off x="4862160" y="2819520"/>
              <a:ext cx="283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2 rows , 3 columns, 5 horizontal and vertical gaps respectiv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809520" y="3542400"/>
              <a:ext cx="105228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3581280" y="4438800"/>
            <a:ext cx="4114800" cy="580680"/>
            <a:chOff x="3581280" y="4438800"/>
            <a:chExt cx="4114800" cy="580680"/>
          </a:xfrm>
        </p:grpSpPr>
        <p:sp>
          <p:nvSpPr>
            <p:cNvPr id="1019" name=""/>
            <p:cNvSpPr/>
            <p:nvPr/>
          </p:nvSpPr>
          <p:spPr>
            <a:xfrm>
              <a:off x="5029200" y="443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3 rows and 2 colum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581280" y="4591080"/>
              <a:ext cx="1447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4" dur="1" fill="hold"/>
                                  <p:tgtEl>
                                    <p:spTgt spid="1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idLayoutDemo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6 and 4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73080" y="226800"/>
            <a:ext cx="6937200" cy="5335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create and add button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buttons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[ names.length ]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for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n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count =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; count &lt; names.length; count++ )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s[ count ]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JButton( name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buttons[ count ].addActionListener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hi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container.add( buttons[ count ]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6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Size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30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150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setVisible(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onstructor Grid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handle button events by toggling between layouts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actionPerformed( ActionEvent event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( toggle )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container.setLayout( grid2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else                        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   container.setLayout( grid1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toggle = !toggle;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set toggle to opposite value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1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container.validate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2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3580920" y="3736800"/>
            <a:ext cx="2896200" cy="835200"/>
            <a:chOff x="3580920" y="3736800"/>
            <a:chExt cx="2896200" cy="835200"/>
          </a:xfrm>
        </p:grpSpPr>
        <p:sp>
          <p:nvSpPr>
            <p:cNvPr id="1024" name=""/>
            <p:cNvSpPr/>
            <p:nvPr/>
          </p:nvSpPr>
          <p:spPr>
            <a:xfrm flipH="1">
              <a:off x="3603600" y="4194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65720" y="3736800"/>
              <a:ext cx="21114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ggle current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idLay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user presses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3580920" y="4191120"/>
              <a:ext cx="784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666880" y="5181480"/>
            <a:ext cx="4114800" cy="337320"/>
            <a:chOff x="2666880" y="5181480"/>
            <a:chExt cx="4114800" cy="337320"/>
          </a:xfrm>
        </p:grpSpPr>
        <p:sp>
          <p:nvSpPr>
            <p:cNvPr id="1028" name=""/>
            <p:cNvSpPr/>
            <p:nvPr/>
          </p:nvSpPr>
          <p:spPr>
            <a:xfrm>
              <a:off x="4114800" y="5181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ormat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666880" y="5333760"/>
              <a:ext cx="1447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8" dur="1" fill="hold"/>
                                  <p:tgtEl>
                                    <p:spTgt spid="10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086240" y="838080"/>
            <a:ext cx="205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idLayoutDemo.ja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73080" y="227160"/>
            <a:ext cx="6937200" cy="175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3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4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stat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main( String args[] )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5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{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6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GridLayoutDemo application =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</a:rPr>
              <a:t>new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GridLayoutDemo(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7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   application.setDefaultCloseOperation( </a:t>
            </a:r>
            <a:r>
              <a:rPr b="1" lang="en-US" sz="1100" spc="-1" strike="noStrike">
                <a:solidFill>
                  <a:srgbClr val="0099ff"/>
                </a:solidFill>
                <a:latin typeface="Lucida Console"/>
              </a:rPr>
              <a:t>JFrame.EXIT_ON_CLO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8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   }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59    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5f5f"/>
                </a:solidFill>
                <a:latin typeface="Arial"/>
                <a:ea typeface="Arial"/>
              </a:rPr>
              <a:t>60    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</a:rPr>
              <a:t>// end class GridLayoutDemo</a:t>
            </a: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hnu</cp:lastModifiedBy>
  <dcterms:modified xsi:type="dcterms:W3CDTF">2004-05-29T06:41:44Z</dcterms:modified>
  <cp:revision>45</cp:revision>
  <dc:subject/>
  <dc:title>PowerPoint Presentation</dc:title>
</cp:coreProperties>
</file>