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10.png" ContentType="image/png"/>
  <Override PartName="/ppt/media/image27.png" ContentType="image/png"/>
  <Override PartName="/ppt/media/image30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</p:sldIdLst>
  <p:sldSz cx="9144000" cy="6858000"/>
  <p:notesSz cx="6858000" cy="9144000"/>
  <p:custShowLst>
    <p:custShow name="Custom Show 1" id="0">
      <p:sldLst>
        <p:sld r:id="rId4"/>
        <p:sld r:id="rId5"/>
        <p:sld r:id="rId6"/>
        <p:sld r:id="rId7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9"/>
        <p:sld r:id="rId20"/>
        <p:sld r:id="rId21"/>
        <p:sld r:id="rId22"/>
        <p:sld r:id="rId23"/>
        <p:sld r:id="rId24"/>
        <p:sld r:id="rId25"/>
        <p:sld r:id="rId26"/>
        <p:sld r:id="rId28"/>
        <p:sld r:id="rId29"/>
        <p:sld r:id="rId30"/>
        <p:sld r:id="rId31"/>
        <p:sld r:id="rId32"/>
        <p:sld r:id="rId33"/>
        <p:sld r:id="rId34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7"/>
        <p:sld r:id="rId48"/>
        <p:sld r:id="rId49"/>
        <p:sld r:id="rId50"/>
        <p:sld r:id="rId51"/>
        <p:sld r:id="rId53"/>
        <p:sld r:id="rId54"/>
        <p:sld r:id="rId55"/>
        <p:sld r:id="rId56"/>
        <p:sld r:id="rId57"/>
        <p:sld r:id="rId58"/>
        <p:sld r:id="rId60"/>
        <p:sld r:id="rId61"/>
        <p:sld r:id="rId62"/>
        <p:sld r:id="rId63"/>
        <p:sld r:id="rId64"/>
        <p:sld r:id="rId65"/>
        <p:sld r:id="rId66"/>
        <p:sld r:id="rId68"/>
        <p:sld r:id="rId69"/>
        <p:sld r:id="rId70"/>
        <p:sld r:id="rId71"/>
        <p:sld r:id="rId72"/>
        <p:sld r:id="rId76"/>
        <p:sld r:id="rId77"/>
        <p:sld r:id="rId78"/>
        <p:sld r:id="rId79"/>
        <p:sld r:id="rId80"/>
        <p:sld r:id="rId81"/>
        <p:sld r:id="rId82"/>
        <p:sld r:id="rId83"/>
        <p:sld r:id="rId84"/>
        <p:sld r:id="rId85"/>
        <p:sld r:id="rId86"/>
        <p:sld r:id="rId87"/>
        <p:sld r:id="rId88"/>
        <p:sld r:id="rId89"/>
        <p:sld r:id="rId90"/>
        <p:sld r:id="rId91"/>
        <p:sld r:id="rId92"/>
        <p:sld r:id="rId93"/>
        <p:sld r:id="rId94"/>
        <p:sld r:id="rId95"/>
        <p:sld r:id="rId96"/>
        <p:sld r:id="rId97"/>
        <p:sld r:id="rId98"/>
        <p:sld r:id="rId99"/>
        <p:sld r:id="rId100"/>
        <p:sld r:id="rId101"/>
        <p:sld r:id="rId102"/>
        <p:sld r:id="rId103"/>
        <p:sld r:id="rId104"/>
        <p:sld r:id="rId105"/>
        <p:sld r:id="rId106"/>
        <p:sld r:id="rId107"/>
        <p:sld r:id="rId108"/>
        <p:sld r:id="rId109"/>
        <p:sld r:id="rId110"/>
        <p:sld r:id="rId111"/>
        <p:sld r:id="rId112"/>
        <p:sld r:id="rId113"/>
        <p:sld r:id="rId114"/>
        <p:sld r:id="rId115"/>
        <p:sld r:id="rId116"/>
        <p:sld r:id="rId117"/>
        <p:sld r:id="rId118"/>
        <p:sld r:id="rId1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36486-E843-4B89-A73E-673C84910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78C5-D37B-4302-ADC9-33CA6D956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DCE3-42CA-4AB5-9B5E-255BD553D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865B-F0B5-44DE-AEC8-7BAF4C46F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66222-2136-4704-8D51-09DA77BE55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25A74-E478-454C-AC74-6E45AA65BF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70C1E-74FE-4FF9-AAEA-C44BEABF3A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D32CD-CFB3-4E8F-AF24-B85E6D3B9C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0EC38-4595-450A-8EBA-7E94A0C596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FEC03-E914-4DE1-A174-ABB29F1050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FBEB4-8648-405A-8E64-E92AFE2674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2BDA-3F63-4455-A781-D0AE988F5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4EC98-491A-4345-9533-27A15250F7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E947D-C7ED-454C-B9D0-55F533330B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61BA6-44C9-4AC2-BEF4-A16B688F2D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1623D-5342-4DE1-AE4E-FE8A50201C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85A95-D29B-47B4-A0E1-28099D03F7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4CE3-3676-48DD-BB4A-FAF4ED6C3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58C82-73C2-4287-80C1-935DF0B75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67AEB-E8A1-4D14-8A20-349DC9FC6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07141-408C-40D0-B311-EFA8C854CC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5ED1E-71AE-4C6A-8A5E-1FE57D7AD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A6A9-B21A-4D04-9B59-C452BA05F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3658-A634-4352-B538-F23D831FC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CD07-7E8E-4400-A12B-F0F0667941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9E55-C656-483B-8D7A-2ED12A25BD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ical User Components Part 2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Lucida Console"/>
              </a:rPr>
              <a:t>JTextAre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reating a Customized Subclass of </a:t>
            </a:r>
            <a:r>
              <a:rPr b="0" lang="en-US" sz="1800" spc="-1" strike="noStrike">
                <a:solidFill>
                  <a:srgbClr val="ff0000"/>
                </a:solidFill>
                <a:latin typeface="Lucida Console"/>
              </a:rPr>
              <a:t>JPane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Lucida Console"/>
              </a:rPr>
              <a:t>JPanel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Subclass that Handles Its Own Even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Lucida Console"/>
              </a:rPr>
              <a:t>JSlid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Windows: Additional Not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sing Menus with Fram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Lucida Console"/>
              </a:rPr>
              <a:t>JPopupMenu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luggable Look-and-Fee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Lucida Console"/>
              </a:rPr>
              <a:t>JDesktopPa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Lucida Console"/>
              </a:rPr>
              <a:t>JInternalFram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1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Lucida Console"/>
              </a:rPr>
              <a:t>JTabbedPa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1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Layout Managers: </a:t>
            </a:r>
            <a:r>
              <a:rPr b="0" lang="en-US" sz="1800" spc="-1" strike="noStrike">
                <a:solidFill>
                  <a:srgbClr val="ff0000"/>
                </a:solidFill>
                <a:latin typeface="Lucida Console"/>
              </a:rPr>
              <a:t>BoxLayou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Lucida Console"/>
              </a:rPr>
              <a:t>GridBagLayou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1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(Optional Case Study) Thinking About Objects: Model-View-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8320" y="1143000"/>
            <a:ext cx="22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ed from deitel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CustomPanel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7927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Fig. 14.2: CustomPanel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 customized JPanel class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ustomPanel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Panel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final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CIRCL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SQUAR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shape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use shape to draw an oval or rectangle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paintComponent( Graphics g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.paintComponent( g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f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shape =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CIRCL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g.fillOval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5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6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6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el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f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shape =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SQUAR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g.fillRec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5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6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6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shape value and repaint CustomPanel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draw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shapeToDraw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hape = shapeToDraw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repaint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-209520">
              <a:spcBef>
                <a:spcPts val="275"/>
              </a:spcBef>
              <a:buClr>
                <a:srgbClr val="000000"/>
              </a:buClr>
              <a:buFont typeface="Lucida Console"/>
              <a:buAutoNum type="arabicPlain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lass CustomPanel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marL="2095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209680" y="1467000"/>
            <a:ext cx="5562360" cy="580680"/>
            <a:chOff x="2209680" y="1467000"/>
            <a:chExt cx="5562360" cy="580680"/>
          </a:xfrm>
        </p:grpSpPr>
        <p:sp>
          <p:nvSpPr>
            <p:cNvPr id="133" name=""/>
            <p:cNvSpPr/>
            <p:nvPr/>
          </p:nvSpPr>
          <p:spPr>
            <a:xfrm flipH="1">
              <a:off x="2209680" y="1771920"/>
              <a:ext cx="321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27360" y="1467000"/>
              <a:ext cx="2344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integer representing shape to dra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038480" y="2425320"/>
            <a:ext cx="3048120" cy="1296360"/>
            <a:chOff x="4038480" y="2425320"/>
            <a:chExt cx="3048120" cy="1296360"/>
          </a:xfrm>
        </p:grpSpPr>
        <p:sp>
          <p:nvSpPr>
            <p:cNvPr id="136" name=""/>
            <p:cNvSpPr/>
            <p:nvPr/>
          </p:nvSpPr>
          <p:spPr>
            <a:xfrm flipH="1" flipV="1">
              <a:off x="4038480" y="242532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76560" y="2654280"/>
              <a:ext cx="22100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ride metho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paintCompon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las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Compon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draw oval or rect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828440" y="5029200"/>
            <a:ext cx="6553440" cy="824040"/>
            <a:chOff x="1828440" y="5029200"/>
            <a:chExt cx="6553440" cy="824040"/>
          </a:xfrm>
        </p:grpSpPr>
        <p:sp>
          <p:nvSpPr>
            <p:cNvPr id="139" name=""/>
            <p:cNvSpPr/>
            <p:nvPr/>
          </p:nvSpPr>
          <p:spPr>
            <a:xfrm>
              <a:off x="3733560" y="5029200"/>
              <a:ext cx="4648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repa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lls metho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paintComponent. The paint is only done for this pane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828440" y="518148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819520" y="2971800"/>
            <a:ext cx="3504600" cy="1360800"/>
            <a:chOff x="2819520" y="2971800"/>
            <a:chExt cx="3504600" cy="1360800"/>
          </a:xfrm>
        </p:grpSpPr>
        <p:sp>
          <p:nvSpPr>
            <p:cNvPr id="142" name=""/>
            <p:cNvSpPr/>
            <p:nvPr/>
          </p:nvSpPr>
          <p:spPr>
            <a:xfrm>
              <a:off x="4101840" y="3751920"/>
              <a:ext cx="2222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st always call this meth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2819520" y="2971800"/>
              <a:ext cx="1282320" cy="109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" dur="1" fill="hold"/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ElevatorConstants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2135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levatorConstants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onstants used between ElevatorModel and ElevatorView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ackag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m.deitel.jhtp5.elevator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 interfac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ElevatorConstants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 static final String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FIRST_FLOOR_NAME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firstFloor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 static final String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SECOND_FLOOR_NAME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secondFloor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 static final String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ELEVATOR_NAME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elevator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4.13  (Optional Case Study) Thinking About Objects: Model-View-Controll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classe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Eleva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lo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apac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 longer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g. 14.25  Modified class diagram showing generalization of superclas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Lo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nd subclasse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Eleva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Floor</a:t>
            </a:r>
            <a:endParaRPr b="1" lang="en-US" sz="20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1295280" y="1295280"/>
            <a:ext cx="6856560" cy="4748400"/>
            <a:chOff x="1295280" y="1295280"/>
            <a:chExt cx="6856560" cy="4748400"/>
          </a:xfrm>
        </p:grpSpPr>
        <p:sp>
          <p:nvSpPr>
            <p:cNvPr id="976" name=""/>
            <p:cNvSpPr/>
            <p:nvPr/>
          </p:nvSpPr>
          <p:spPr>
            <a:xfrm>
              <a:off x="1295280" y="1295280"/>
              <a:ext cx="6856560" cy="47484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151800" y="2670120"/>
              <a:ext cx="886320" cy="609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0" y="19969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480480" y="1413000"/>
              <a:ext cx="2500560" cy="1256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85"/>
                  </a:lnTo>
                  <a:lnTo>
                    <a:pt x="0" y="19985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488040" y="1413000"/>
              <a:ext cx="2493000" cy="1256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85"/>
                  </a:lnTo>
                  <a:lnTo>
                    <a:pt x="0" y="19985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487320" y="1870200"/>
              <a:ext cx="2493720" cy="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514680" y="1462680"/>
              <a:ext cx="246636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sz="1200" spc="-1" strike="noStrike">
                  <a:solidFill>
                    <a:srgbClr val="000000"/>
                  </a:solidFill>
                  <a:latin typeface="Arial"/>
                </a:rPr>
                <a:t>Lo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521520" y="1697760"/>
              <a:ext cx="245952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- locationName : St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504240" y="1919880"/>
              <a:ext cx="244404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# setLocationName( String ) : vo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+ getLocationName( ) : St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i="1" sz="1200" spc="-1" strike="noStrike">
                  <a:solidFill>
                    <a:srgbClr val="000000"/>
                  </a:solidFill>
                  <a:latin typeface="Arial"/>
                </a:rPr>
                <a:t>getButton( )</a:t>
              </a: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 : Butt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i="1" sz="1200" spc="-1" strike="noStrike">
                  <a:solidFill>
                    <a:srgbClr val="000000"/>
                  </a:solidFill>
                  <a:latin typeface="Arial"/>
                </a:rPr>
                <a:t>getDoor( )</a:t>
              </a: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 : Do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028840" y="3279600"/>
              <a:ext cx="2513520" cy="87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78"/>
                  </a:lnTo>
                  <a:lnTo>
                    <a:pt x="0" y="19978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028840" y="3279600"/>
              <a:ext cx="2513520" cy="87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78"/>
                  </a:lnTo>
                  <a:lnTo>
                    <a:pt x="0" y="19978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028840" y="3584160"/>
              <a:ext cx="2513520" cy="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028840" y="3774600"/>
              <a:ext cx="2513520" cy="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9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074200" y="3369240"/>
              <a:ext cx="246816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Arial"/>
                </a:rPr>
                <a:t>Flo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071680" y="3812760"/>
              <a:ext cx="247068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+ getButton( ) : Butt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+ getDoor( ) : Do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905480" y="3279600"/>
              <a:ext cx="2513880" cy="2628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93"/>
                  </a:lnTo>
                  <a:lnTo>
                    <a:pt x="0" y="19993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905480" y="3279600"/>
              <a:ext cx="2513880" cy="2628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93"/>
                  </a:lnTo>
                  <a:lnTo>
                    <a:pt x="0" y="19993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905480" y="3578400"/>
              <a:ext cx="2513880" cy="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905480" y="4574520"/>
              <a:ext cx="2513880" cy="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9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951200" y="3367080"/>
              <a:ext cx="246816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Arial"/>
                </a:rPr>
                <a:t>Elev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954080" y="3652920"/>
              <a:ext cx="2421360" cy="9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- moving : Boolean = fal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- summoned : Boolean = fal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- currentFloor : Lo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- destinationFloor : Lo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- travelTime : Integer =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942560" y="4612680"/>
              <a:ext cx="24764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+ ride( ) : vo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+ requestElevator( ) : vo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+ enterElevator( ) : vo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+ exitElevator( ) : vo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+ departElevator( ) : vo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+ getButton( ) : Butt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+ getDoor( ) : Do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409720" y="2670120"/>
              <a:ext cx="875880" cy="609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78" y="1996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496680" y="1641600"/>
              <a:ext cx="2484360" cy="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082840" y="3622320"/>
              <a:ext cx="2459520" cy="1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ElevatorCaseStudy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12-1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19-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1069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levatorCaseStudy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pplication with Elevator Model, View, and Controller (MVC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ackag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m.deitel.jhtp5.elevator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Java core package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Java extension package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Deitel package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m.deitel.jhtp5.elevator.model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m.deitel.jhtp5.elevator.view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m.deitel.jhtp5.elevator.controller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 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ElevatorCaseStudy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Frame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// model, view and controll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ElevatorSimulation model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ElevatorView view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ElevatorController controller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// constructor instantiates model, view, and controll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ElevatorCaseStudy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809520" y="2438280"/>
            <a:ext cx="3581640" cy="580680"/>
            <a:chOff x="3809520" y="2438280"/>
            <a:chExt cx="3581640" cy="580680"/>
          </a:xfrm>
        </p:grpSpPr>
        <p:sp>
          <p:nvSpPr>
            <p:cNvPr id="1003" name=""/>
            <p:cNvSpPr/>
            <p:nvPr/>
          </p:nvSpPr>
          <p:spPr>
            <a:xfrm>
              <a:off x="4937040" y="2438280"/>
              <a:ext cx="2454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ort package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ontrol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3809520" y="2743200"/>
              <a:ext cx="112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 flipV="1">
              <a:off x="3885840" y="2590560"/>
              <a:ext cx="10666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4343040" y="274320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819520" y="3429000"/>
            <a:ext cx="5562360" cy="1554120"/>
            <a:chOff x="2819520" y="3429000"/>
            <a:chExt cx="5562360" cy="1554120"/>
          </a:xfrm>
        </p:grpSpPr>
        <p:sp>
          <p:nvSpPr>
            <p:cNvPr id="1008" name=""/>
            <p:cNvSpPr/>
            <p:nvPr/>
          </p:nvSpPr>
          <p:spPr>
            <a:xfrm>
              <a:off x="5867280" y="3429000"/>
              <a:ext cx="251460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ElevatorCaseStud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ggregates one instance each of classe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ElevatorSimul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Elevator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ElevatorControl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2819520" y="419112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3885840" y="4191120"/>
              <a:ext cx="1981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 flipV="1">
              <a:off x="3428640" y="4038480"/>
              <a:ext cx="2438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32" dur="1" fill="hold"/>
                                  <p:tgtEl>
                                    <p:spTgt spid="10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ElevatorCaseStudy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3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37-3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259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Deitel Elevator Simulation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// instantiate model, view and controll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model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ElevatorSimulation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view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ElevatorView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troller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ElevatorController( model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// register View for Model even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model.setElevatorSimulationListener( view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// add view and controller to ElevatorCaseStudy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etContentPane().add( view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BorderLayout.CENT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etContentPane().add( controller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BorderLayout.SOUTH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ElevatorCaseStudy constructo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// main method starts program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 static void main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// instantiate ElevatorCaseStudy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ElevatorCaseStudy simul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ElevatorCaseStudy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imul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imulation.pack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imulation.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4647960" y="1676520"/>
            <a:ext cx="4191120" cy="580680"/>
            <a:chOff x="4647960" y="1676520"/>
            <a:chExt cx="4191120" cy="580680"/>
          </a:xfrm>
        </p:grpSpPr>
        <p:sp>
          <p:nvSpPr>
            <p:cNvPr id="1015" name=""/>
            <p:cNvSpPr/>
            <p:nvPr/>
          </p:nvSpPr>
          <p:spPr>
            <a:xfrm>
              <a:off x="5638680" y="167652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ElevatorSimul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listener 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Elevator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4647960" y="1981080"/>
              <a:ext cx="990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4800240" y="2669760"/>
            <a:ext cx="3607200" cy="1129320"/>
            <a:chOff x="4800240" y="2669760"/>
            <a:chExt cx="3607200" cy="1129320"/>
          </a:xfrm>
        </p:grpSpPr>
        <p:sp>
          <p:nvSpPr>
            <p:cNvPr id="1018" name=""/>
            <p:cNvSpPr/>
            <p:nvPr/>
          </p:nvSpPr>
          <p:spPr>
            <a:xfrm flipH="1" flipV="1">
              <a:off x="4800240" y="2895120"/>
              <a:ext cx="965160" cy="53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 flipV="1">
              <a:off x="5029200" y="2669760"/>
              <a:ext cx="727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715000" y="2975040"/>
              <a:ext cx="2692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ElevatorVi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Elevator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ElevatorCaseStud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46" dur="1" fill="hold"/>
                                  <p:tgtEl>
                                    <p:spTgt spid="10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14.14  (Optional) Discovering Design Patterns: Design Patterns Used in Packages </a:t>
            </a:r>
            <a:r>
              <a:rPr b="0" lang="en-US" sz="2000" spc="-1" strike="noStrike">
                <a:solidFill>
                  <a:srgbClr val="ff0000"/>
                </a:solidFill>
                <a:latin typeface="Lucida Console"/>
              </a:rPr>
              <a:t>java.awt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Lucida Console"/>
              </a:rPr>
              <a:t>javax.swing</a:t>
            </a:r>
            <a:endParaRPr b="1" lang="en-US" sz="2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design-patterns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 patterns associated with Java GUI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 components take advantage of design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4.14.1 Creational Design Patter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y Method desig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we design system that opens image from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image formats exist (e.g., GIF, JPEG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image format has different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reateIm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ompon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reate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Im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s (one for GIF image, one for JPEG im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reateIm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es parameter to determine proper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Im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class from which to instantiate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Im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reateImage( </a:t>
            </a:r>
            <a:r>
              <a:rPr b="0" lang="en-US" sz="1800" spc="-1" strike="noStrike">
                <a:solidFill>
                  <a:srgbClr val="0099ff"/>
                </a:solidFill>
                <a:latin typeface="Lucida Console"/>
              </a:rPr>
              <a:t>"image.gif"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Im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with GI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reateImage( </a:t>
            </a:r>
            <a:r>
              <a:rPr b="0" lang="en-US" sz="1800" spc="-1" strike="noStrike">
                <a:solidFill>
                  <a:srgbClr val="0099ff"/>
                </a:solidFill>
                <a:latin typeface="Lucida Console"/>
              </a:rPr>
              <a:t>"image.jpg"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Im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with JPE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reateIm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actory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s subclass to instantiate object at ru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4.14.2  Structural Design Patter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er desig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with objects with incompatible interf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these objects to collaborate with each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’s interfa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dap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nother object’s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adapter for plug on electrical de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ropean electrical sockets differ from those in United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plug will not work with European so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dap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pl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MouseAdap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that generate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MouseEv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dapts to objects that handle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MouseEv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4.14.2  Structural Design Patter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dge desig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 clas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Butt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Windows and Macintosh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contains button information (e.g.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b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classe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Win32Butt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Mac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 look-and-feel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 with this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ng clas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ImageButt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ubclass of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Butt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creating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Win32ImageButt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MacImage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 abstraction (i.e.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Butt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from implementation (i.e.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Win32Butt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MacButt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Butt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tains referenc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ButtonPe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les platform-specific implem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4.14.2  Structural Design Patter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ite desig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ganize components into hierarchical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node represents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nodes implement same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ymorphism ensures clients traverse all nodes uniform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by Swing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JContain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can contain GUI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mains unaware of component’s specific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CustomPanel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18-1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4954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Fig. 14.3: CustomPanelTest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Using a customized Panel object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ustomPanelTest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Frame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Panel buttonPanel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ustomPanel myPanel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Button circleButton, squareButton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GUI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ustomPanelTest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CustomPanel Test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reate custom drawing area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myPanel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ustomPanel();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myPanel.setBackground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Color.GREEN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squareButton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quareButt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Squar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quareButton.addActionListener(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276720" y="3505320"/>
            <a:ext cx="4486320" cy="580680"/>
            <a:chOff x="3276720" y="3505320"/>
            <a:chExt cx="4486320" cy="580680"/>
          </a:xfrm>
        </p:grpSpPr>
        <p:sp>
          <p:nvSpPr>
            <p:cNvPr id="147" name=""/>
            <p:cNvSpPr/>
            <p:nvPr/>
          </p:nvSpPr>
          <p:spPr>
            <a:xfrm flipH="1">
              <a:off x="3276720" y="38102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24640" y="3505320"/>
              <a:ext cx="3038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ustom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nd set background to gr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114800" y="381024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" dur="1" fill="hold"/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. 14.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heritance hierarchy for class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Pane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1066680" y="1892160"/>
            <a:ext cx="6782040" cy="3365640"/>
            <a:chOff x="1066680" y="1892160"/>
            <a:chExt cx="6782040" cy="3365640"/>
          </a:xfrm>
        </p:grpSpPr>
        <p:sp>
          <p:nvSpPr>
            <p:cNvPr id="1033" name=""/>
            <p:cNvSpPr/>
            <p:nvPr/>
          </p:nvSpPr>
          <p:spPr>
            <a:xfrm>
              <a:off x="1066680" y="1892160"/>
              <a:ext cx="6782040" cy="33656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403440" y="3463920"/>
              <a:ext cx="301680" cy="490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5"/>
                  </a:lnTo>
                  <a:lnTo>
                    <a:pt x="19938" y="19955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33840" y="4265640"/>
              <a:ext cx="300240" cy="490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5"/>
                  </a:lnTo>
                  <a:lnTo>
                    <a:pt x="19938" y="19955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236680" y="2660760"/>
              <a:ext cx="300240" cy="490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5"/>
                  </a:lnTo>
                  <a:lnTo>
                    <a:pt x="19938" y="19955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703680" y="3686040"/>
              <a:ext cx="2674800" cy="579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0"/>
                  </a:moveTo>
                  <a:lnTo>
                    <a:pt x="19993" y="19962"/>
                  </a:lnTo>
                  <a:lnTo>
                    <a:pt x="0" y="19962"/>
                  </a:lnTo>
                  <a:lnTo>
                    <a:pt x="0" y="0"/>
                  </a:lnTo>
                  <a:lnTo>
                    <a:pt x="19993" y="0"/>
                  </a:lnTo>
                  <a:close/>
                </a:path>
              </a:pathLst>
            </a:custGeom>
            <a:solidFill>
              <a:srgbClr val="4db3e6"/>
            </a:solidFill>
            <a:ln w="252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703680" y="3686040"/>
              <a:ext cx="2674800" cy="579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0"/>
                  </a:moveTo>
                  <a:lnTo>
                    <a:pt x="19993" y="19962"/>
                  </a:lnTo>
                  <a:lnTo>
                    <a:pt x="0" y="19962"/>
                  </a:lnTo>
                  <a:lnTo>
                    <a:pt x="0" y="0"/>
                  </a:lnTo>
                  <a:lnTo>
                    <a:pt x="19993" y="0"/>
                  </a:lnTo>
                  <a:close/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703680" y="3890880"/>
              <a:ext cx="26748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Lucida Console"/>
                </a:rPr>
                <a:t>javax.swing.JCompon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834080" y="4489560"/>
              <a:ext cx="2674800" cy="57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0"/>
                  </a:moveTo>
                  <a:lnTo>
                    <a:pt x="19993" y="19962"/>
                  </a:lnTo>
                  <a:lnTo>
                    <a:pt x="0" y="19962"/>
                  </a:lnTo>
                  <a:lnTo>
                    <a:pt x="0" y="0"/>
                  </a:lnTo>
                  <a:lnTo>
                    <a:pt x="19993" y="0"/>
                  </a:lnTo>
                  <a:close/>
                </a:path>
              </a:pathLst>
            </a:custGeom>
            <a:solidFill>
              <a:srgbClr val="4db3e6"/>
            </a:solidFill>
            <a:ln w="252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834080" y="4489560"/>
              <a:ext cx="2674800" cy="57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0"/>
                  </a:moveTo>
                  <a:lnTo>
                    <a:pt x="19993" y="19962"/>
                  </a:lnTo>
                  <a:lnTo>
                    <a:pt x="0" y="19962"/>
                  </a:lnTo>
                  <a:lnTo>
                    <a:pt x="0" y="0"/>
                  </a:lnTo>
                  <a:lnTo>
                    <a:pt x="19993" y="0"/>
                  </a:lnTo>
                  <a:close/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34080" y="4729320"/>
              <a:ext cx="26748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Lucida Console"/>
                </a:rPr>
                <a:t>javax.swing.JPa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538360" y="2884320"/>
              <a:ext cx="2673360" cy="579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0"/>
                  </a:moveTo>
                  <a:lnTo>
                    <a:pt x="19993" y="19962"/>
                  </a:lnTo>
                  <a:lnTo>
                    <a:pt x="0" y="19962"/>
                  </a:lnTo>
                  <a:lnTo>
                    <a:pt x="0" y="0"/>
                  </a:lnTo>
                  <a:lnTo>
                    <a:pt x="19993" y="0"/>
                  </a:lnTo>
                  <a:close/>
                </a:path>
              </a:pathLst>
            </a:custGeom>
            <a:solidFill>
              <a:srgbClr val="4db3e6"/>
            </a:solidFill>
            <a:ln w="252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538360" y="2884320"/>
              <a:ext cx="2673360" cy="579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0"/>
                  </a:moveTo>
                  <a:lnTo>
                    <a:pt x="19993" y="19962"/>
                  </a:lnTo>
                  <a:lnTo>
                    <a:pt x="0" y="19962"/>
                  </a:lnTo>
                  <a:lnTo>
                    <a:pt x="0" y="0"/>
                  </a:lnTo>
                  <a:lnTo>
                    <a:pt x="19993" y="0"/>
                  </a:lnTo>
                  <a:close/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536920" y="3129120"/>
              <a:ext cx="26748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Lucida Console"/>
                </a:rPr>
                <a:t>java.awt.Contai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407960" y="2081160"/>
              <a:ext cx="2673360" cy="579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0"/>
                  </a:moveTo>
                  <a:lnTo>
                    <a:pt x="19993" y="19962"/>
                  </a:lnTo>
                  <a:lnTo>
                    <a:pt x="0" y="19962"/>
                  </a:lnTo>
                  <a:lnTo>
                    <a:pt x="0" y="0"/>
                  </a:lnTo>
                  <a:lnTo>
                    <a:pt x="19993" y="0"/>
                  </a:lnTo>
                  <a:close/>
                </a:path>
              </a:pathLst>
            </a:custGeom>
            <a:solidFill>
              <a:srgbClr val="4db3e6"/>
            </a:solidFill>
            <a:ln w="252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407960" y="2081160"/>
              <a:ext cx="2673360" cy="579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0"/>
                  </a:moveTo>
                  <a:lnTo>
                    <a:pt x="19993" y="19962"/>
                  </a:lnTo>
                  <a:lnTo>
                    <a:pt x="0" y="19962"/>
                  </a:lnTo>
                  <a:lnTo>
                    <a:pt x="0" y="0"/>
                  </a:lnTo>
                  <a:lnTo>
                    <a:pt x="19993" y="0"/>
                  </a:lnTo>
                  <a:close/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406520" y="2290680"/>
              <a:ext cx="26748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Lucida Console"/>
                </a:rPr>
                <a:t>java.awt.Compon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4.14.3  Behavioral Design Patter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n-of-Responsibility desig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rmine object that handles message at ru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ee-line office-phone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line handles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first line is busy, second line handles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econd line is busy, third line handles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ssage sent through “chain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object in chain decides whether to handle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unable to handle message, that object sends message to next object in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processEv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Butt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le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AWTEv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sends to nex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4.14.3  Behavioral Design Patter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desig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lications provide several ways to perform same ta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nu with menu items for cutting and copying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lbar and popup menus may offer same 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apsulate functionality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in reusable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“cut text”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ality can then be added to menus, toolbar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rs code functionality only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4.14.3  Behavioral Design Patter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 desig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 program for viewing bank-account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BankStatement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ore bank-statemen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extDispl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lays data in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BarGraphDispl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lays data in bar-graph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PieChartDispl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lays data in pie-char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BankStatement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ubject) notifie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Displ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es (observers) to display data when it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ject notifies observers when subject changes st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s act in response to no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mot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ose cou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b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java.util.Obser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java.util.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. 14.2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is for the Observer design patter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1676520" y="2362320"/>
            <a:ext cx="6019560" cy="2286000"/>
            <a:chOff x="1676520" y="2362320"/>
            <a:chExt cx="6019560" cy="2286000"/>
          </a:xfrm>
        </p:grpSpPr>
        <p:sp>
          <p:nvSpPr>
            <p:cNvPr id="1057" name=""/>
            <p:cNvSpPr/>
            <p:nvPr/>
          </p:nvSpPr>
          <p:spPr>
            <a:xfrm>
              <a:off x="1676520" y="2362320"/>
              <a:ext cx="6019560" cy="22860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288040" y="4156200"/>
              <a:ext cx="2106360" cy="409320"/>
            </a:xfrm>
            <a:prstGeom prst="rect">
              <a:avLst/>
            </a:prstGeom>
            <a:solidFill>
              <a:srgbClr val="4db3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288040" y="3444840"/>
              <a:ext cx="2106360" cy="409680"/>
            </a:xfrm>
            <a:prstGeom prst="rect">
              <a:avLst/>
            </a:prstGeom>
            <a:solidFill>
              <a:srgbClr val="4db3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288040" y="2687760"/>
              <a:ext cx="2106360" cy="409320"/>
            </a:xfrm>
            <a:prstGeom prst="rect">
              <a:avLst/>
            </a:prstGeom>
            <a:solidFill>
              <a:srgbClr val="4db3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882960" y="3637080"/>
              <a:ext cx="13572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88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889440" y="2854440"/>
              <a:ext cx="1371600" cy="577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1"/>
                  </a:moveTo>
                  <a:lnTo>
                    <a:pt x="19988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889440" y="3807000"/>
              <a:ext cx="1371600" cy="57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88" y="19971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251240" y="3500280"/>
              <a:ext cx="46836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notif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754520" y="3490920"/>
              <a:ext cx="46080" cy="9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43" y="9818"/>
                  </a:moveTo>
                  <a:lnTo>
                    <a:pt x="357" y="0"/>
                  </a:lnTo>
                  <a:lnTo>
                    <a:pt x="0" y="19818"/>
                  </a:lnTo>
                  <a:lnTo>
                    <a:pt x="19643" y="9818"/>
                  </a:lnTo>
                  <a:close/>
                </a:path>
              </a:pathLst>
            </a:custGeom>
            <a:solidFill>
              <a:srgbClr val="000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20340000">
              <a:off x="4226040" y="3075120"/>
              <a:ext cx="4683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notif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rot="1260000">
              <a:off x="4224240" y="3903840"/>
              <a:ext cx="4701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notif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99080" y="3998880"/>
              <a:ext cx="61920" cy="87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730" y="13725"/>
                  </a:moveTo>
                  <a:lnTo>
                    <a:pt x="11622" y="0"/>
                  </a:lnTo>
                  <a:lnTo>
                    <a:pt x="0" y="19804"/>
                  </a:lnTo>
                  <a:lnTo>
                    <a:pt x="19730" y="13725"/>
                  </a:lnTo>
                  <a:close/>
                </a:path>
              </a:pathLst>
            </a:custGeom>
            <a:solidFill>
              <a:srgbClr val="000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776240" y="3403440"/>
              <a:ext cx="2106720" cy="408240"/>
            </a:xfrm>
            <a:prstGeom prst="rect">
              <a:avLst/>
            </a:prstGeom>
            <a:solidFill>
              <a:srgbClr val="4db3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044800" y="3544920"/>
              <a:ext cx="17445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Lucida Console"/>
                </a:rPr>
                <a:t>BankStatement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361120" y="2798640"/>
              <a:ext cx="193356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Lucida Console"/>
                </a:rPr>
                <a:t>TextDispl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361120" y="3559320"/>
              <a:ext cx="193356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Lucida Console"/>
                </a:rPr>
                <a:t>BarGraphDispl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361120" y="4316400"/>
              <a:ext cx="193356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Lucida Console"/>
                </a:rPr>
                <a:t>PieChartDispl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606760" y="3103560"/>
              <a:ext cx="6220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Su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854680" y="2467080"/>
              <a:ext cx="9460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Observ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rot="20340000">
              <a:off x="4697280" y="2954160"/>
              <a:ext cx="46080" cy="93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643" y="9818"/>
                  </a:moveTo>
                  <a:lnTo>
                    <a:pt x="357" y="0"/>
                  </a:lnTo>
                  <a:lnTo>
                    <a:pt x="0" y="19818"/>
                  </a:lnTo>
                  <a:lnTo>
                    <a:pt x="19643" y="9818"/>
                  </a:lnTo>
                  <a:close/>
                </a:path>
              </a:pathLst>
            </a:custGeom>
            <a:solidFill>
              <a:srgbClr val="000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4.14.3  Behavioral Design Patter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 desig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apsulates algorith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LayoutManag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are strategy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e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lowLay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BorderLay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GridLay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 interface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ayout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class uses method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addLayout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method implementation uses different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lowLay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dds components left-to-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BorderLay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dds components in five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GridLay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dds components in specified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ontain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ayoutMana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method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t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different layout manager at ru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4.14.3  Behavioral Design Patter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Method desig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 share single algorithm defined in super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der Fig.14.2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objects 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me algorith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cquire and display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statements from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BankStatement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se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superclas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BankStatement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methods that comprise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classes override “display” method, because each subclass displays data differ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CustomPanel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3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4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4878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ActionListener() {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nonymous inner class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draw a square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actionPerformed( Action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myPanel.draw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CustomPanel.SQUAR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anonymous inner cla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);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all to addActionListen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ircleButt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Circl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ircleButton.addActionListener(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ActionListener() {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nonymous inner class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draw a circle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actionPerformed( Action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myPanel.draw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CustomPanel.CIRCL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anonymous inner cla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);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all to addActionListen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571640" y="4495680"/>
            <a:ext cx="3962520" cy="809280"/>
            <a:chOff x="4571640" y="4495680"/>
            <a:chExt cx="3962520" cy="809280"/>
          </a:xfrm>
        </p:grpSpPr>
        <p:sp>
          <p:nvSpPr>
            <p:cNvPr id="153" name=""/>
            <p:cNvSpPr/>
            <p:nvPr/>
          </p:nvSpPr>
          <p:spPr>
            <a:xfrm>
              <a:off x="5181480" y="472428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presse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ircle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draw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ustomPa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4571640" y="4495680"/>
              <a:ext cx="6094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571640" y="1467000"/>
            <a:ext cx="3962520" cy="809280"/>
            <a:chOff x="4571640" y="1467000"/>
            <a:chExt cx="3962520" cy="809280"/>
          </a:xfrm>
        </p:grpSpPr>
        <p:sp>
          <p:nvSpPr>
            <p:cNvPr id="156" name=""/>
            <p:cNvSpPr/>
            <p:nvPr/>
          </p:nvSpPr>
          <p:spPr>
            <a:xfrm>
              <a:off x="5181480" y="169560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presse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square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draw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squ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ustomPa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4571640" y="1467000"/>
              <a:ext cx="6094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5" dur="1" fill="hold"/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CustomPanel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5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48020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panel containing button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buttonPanel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Panel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buttonPanel.setLayout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GridLayou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buttonPanel.add( circleButton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buttonPanel.add( squareButton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ttach button panel &amp; custom drawing area to content pane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tainer container = getContentPane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tainer.add( myPanel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BorderLayout.CENT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tainer.add( buttonPanel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BorderLayout.SOUTH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3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5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onstructor CustomPanelTes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ustomPanelTest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ustomPanelTest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lass CustomPanelTes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19360" y="872640"/>
            <a:ext cx="4496040" cy="414000"/>
            <a:chOff x="4419360" y="872640"/>
            <a:chExt cx="4496040" cy="414000"/>
          </a:xfrm>
        </p:grpSpPr>
        <p:sp>
          <p:nvSpPr>
            <p:cNvPr id="161" name=""/>
            <p:cNvSpPr/>
            <p:nvPr/>
          </p:nvSpPr>
          <p:spPr>
            <a:xfrm>
              <a:off x="5486400" y="949320"/>
              <a:ext cx="3429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GridLay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organize butt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4419360" y="87264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981080" y="5105520"/>
            <a:ext cx="31244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4.4  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JPanel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Subclass that Handles Its Own Ev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JPa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es not support conventional ev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events offered by buttons, text area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pable of recognizing lower-level ev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mouse events, key even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lf-contained pan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ens for its own mou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and drag to draw a resizable o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276720" cy="2184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343400" y="1905120"/>
            <a:ext cx="3276720" cy="2184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629080" y="4114800"/>
            <a:ext cx="32763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SelfContainedPanel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1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23-2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335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Fig. 14.4: SelfContainedPanel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 self-contained JPanel class that handles its own mouse events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ackag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m.deitel.jhtp5.ch14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SelfContainedPanel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Panel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x1, y1, x2, y2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mouse event handling for SelfContainedPanel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SelfContainedPanel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mouse listen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ddMouseListener(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ouseAdapter() {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nonymous inner class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handle mouse press even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ousePressed( Mouse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x1 = event.getX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y1 = event.getY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361960" y="2914560"/>
            <a:ext cx="4876560" cy="580680"/>
            <a:chOff x="2361960" y="2914560"/>
            <a:chExt cx="4876560" cy="580680"/>
          </a:xfrm>
        </p:grpSpPr>
        <p:sp>
          <p:nvSpPr>
            <p:cNvPr id="174" name=""/>
            <p:cNvSpPr/>
            <p:nvPr/>
          </p:nvSpPr>
          <p:spPr>
            <a:xfrm>
              <a:off x="4848120" y="2914560"/>
              <a:ext cx="239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lf-containe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listens 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Mouse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361960" y="3219480"/>
              <a:ext cx="24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276720" y="4591080"/>
            <a:ext cx="4343040" cy="1310760"/>
            <a:chOff x="3276720" y="4591080"/>
            <a:chExt cx="4343040" cy="1310760"/>
          </a:xfrm>
        </p:grpSpPr>
        <p:sp>
          <p:nvSpPr>
            <p:cNvPr id="177" name=""/>
            <p:cNvSpPr/>
            <p:nvPr/>
          </p:nvSpPr>
          <p:spPr>
            <a:xfrm>
              <a:off x="5101920" y="4591080"/>
              <a:ext cx="25178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ve coordinates where user pressed mouse button. Coordinates are from the top left hand corner of the pane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276720" y="4896000"/>
              <a:ext cx="182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5" dur="1" fill="hold"/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SelfContainedPanel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30-3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4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47-4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1069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handle mouse release even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ouseReleased( Mouse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x2 = event.getX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y2 = event.getY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repaint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anonymous inner cla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);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all to addMouseListen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mouse motion listen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ddMouseMotionListener(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ouseMotionAdapter() {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nonymous inner class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handle mouse drag even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ouseDragged( Mouse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x2 = event.getX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y2 = event.getY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repaint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200040" y="762120"/>
            <a:ext cx="5258160" cy="580680"/>
            <a:chOff x="3200040" y="762120"/>
            <a:chExt cx="5258160" cy="580680"/>
          </a:xfrm>
        </p:grpSpPr>
        <p:sp>
          <p:nvSpPr>
            <p:cNvPr id="182" name=""/>
            <p:cNvSpPr/>
            <p:nvPr/>
          </p:nvSpPr>
          <p:spPr>
            <a:xfrm>
              <a:off x="5181480" y="762120"/>
              <a:ext cx="3276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ve coordinates where user released mouse button, then re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200040" y="106704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895120" y="2514600"/>
            <a:ext cx="4800960" cy="580680"/>
            <a:chOff x="2895120" y="2514600"/>
            <a:chExt cx="4800960" cy="580680"/>
          </a:xfrm>
        </p:grpSpPr>
        <p:sp>
          <p:nvSpPr>
            <p:cNvPr id="185" name=""/>
            <p:cNvSpPr/>
            <p:nvPr/>
          </p:nvSpPr>
          <p:spPr>
            <a:xfrm>
              <a:off x="4952880" y="25146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lf-containe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listens for when mouse mo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2895120" y="2819520"/>
              <a:ext cx="2057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200400" y="4191120"/>
            <a:ext cx="4952880" cy="580680"/>
            <a:chOff x="3200400" y="4191120"/>
            <a:chExt cx="4952880" cy="580680"/>
          </a:xfrm>
        </p:grpSpPr>
        <p:sp>
          <p:nvSpPr>
            <p:cNvPr id="188" name=""/>
            <p:cNvSpPr/>
            <p:nvPr/>
          </p:nvSpPr>
          <p:spPr>
            <a:xfrm>
              <a:off x="5486400" y="4191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ve coordinates where user dragged mouse, then re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200400" y="44956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4" dur="1" fill="hold"/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SelfContainedPanel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69-7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45734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anonymous inner cla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);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all to addMouseMotionListen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onstructor SelfContainedPanel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return preferred width and height of SelfContainedPanel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Dimension getPreferredSize()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return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Dimens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5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paint an oval at the specified coordinate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paintComponent( Graphics g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.paintComponent( g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.drawOval( Math.min( x1, x2 ), Math.min( y1, y2 ),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Math.abs( x1 - x2 ), Math.abs( y1 - y2 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lass SelfContainedPanel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257800" y="3657600"/>
            <a:ext cx="1981080" cy="337320"/>
            <a:chOff x="5257800" y="3657600"/>
            <a:chExt cx="1981080" cy="337320"/>
          </a:xfrm>
        </p:grpSpPr>
        <p:sp>
          <p:nvSpPr>
            <p:cNvPr id="193" name=""/>
            <p:cNvSpPr/>
            <p:nvPr/>
          </p:nvSpPr>
          <p:spPr>
            <a:xfrm>
              <a:off x="6172200" y="3657600"/>
              <a:ext cx="1066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o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257800" y="3809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00400" y="3048120"/>
            <a:ext cx="4723560" cy="580680"/>
            <a:chOff x="3200400" y="3048120"/>
            <a:chExt cx="4723560" cy="580680"/>
          </a:xfrm>
        </p:grpSpPr>
        <p:sp>
          <p:nvSpPr>
            <p:cNvPr id="196" name=""/>
            <p:cNvSpPr/>
            <p:nvPr/>
          </p:nvSpPr>
          <p:spPr>
            <a:xfrm>
              <a:off x="5380560" y="3048120"/>
              <a:ext cx="2543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utomatically delete the old o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200400" y="3239280"/>
              <a:ext cx="218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3" dur="1" fill="hold"/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SelfContainedPanel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17-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4725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Fig. 14.5: SelfContainedPanelTest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reating a self-contained subclass of JPanel that processes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its own mouse events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m.deitel.jhtp5.ch14.SelfContainedPanel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SelfContainedPanelTest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Frame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SelfContainedPanel myPanel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GUI and mouse motion event handlers for application window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SelfContainedPanelTest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a SelfContainedPanel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myPanel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SelfContainedPanel();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myPanel.setBackground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Color.YELLO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tainer container = getContentPane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tainer.setLayout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FlowLayout(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tainer.add( myPanel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886200" y="3276720"/>
            <a:ext cx="4572000" cy="580680"/>
            <a:chOff x="3886200" y="3276720"/>
            <a:chExt cx="4572000" cy="580680"/>
          </a:xfrm>
        </p:grpSpPr>
        <p:sp>
          <p:nvSpPr>
            <p:cNvPr id="201" name=""/>
            <p:cNvSpPr/>
            <p:nvPr/>
          </p:nvSpPr>
          <p:spPr>
            <a:xfrm flipH="1" flipV="1">
              <a:off x="3886200" y="3580920"/>
              <a:ext cx="1168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114440" y="3581280"/>
              <a:ext cx="917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52880" y="3276720"/>
              <a:ext cx="350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SelfContainted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nd set background to yel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143000"/>
            <a:ext cx="77724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1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(Optional) Discovering Design Patterns: Design Patterns Used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 Packages </a:t>
            </a:r>
            <a:r>
              <a:rPr b="0" lang="en-US" sz="1800" spc="-1" strike="noStrike">
                <a:solidFill>
                  <a:srgbClr val="ff0000"/>
                </a:solidFill>
                <a:latin typeface="Lucida Console"/>
              </a:rPr>
              <a:t>java.aw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Lucida Console"/>
              </a:rPr>
              <a:t>javax.sw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14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reational Design Patter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14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uctural Design Patter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14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Behavioral Design Patter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14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ical User Components Part 2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SelfContainedPanel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2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30-4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564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mouse motion event handling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ddMouseMotionListener(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ouseMotionListener() {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nonymous inner cla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handle mouse drag even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ouseDragged( Mouse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setTitl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Dragging: x=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+ event.getX() +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; y=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+ event.getY(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handle mouse move even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ouseMoved( Mouse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setTitl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Moving: x=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+ event.getX() +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; y=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+ event.getY(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anonymous inner cla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);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all to addMouseMotionListen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3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onstructor SelfContainedPanelTes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895480" y="247680"/>
            <a:ext cx="5486400" cy="1310760"/>
            <a:chOff x="2895480" y="247680"/>
            <a:chExt cx="5486400" cy="1310760"/>
          </a:xfrm>
        </p:grpSpPr>
        <p:sp>
          <p:nvSpPr>
            <p:cNvPr id="207" name=""/>
            <p:cNvSpPr/>
            <p:nvPr/>
          </p:nvSpPr>
          <p:spPr>
            <a:xfrm>
              <a:off x="5028840" y="247680"/>
              <a:ext cx="33530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anonymous-inner-class object to handle mouse motion events. This window and the panel can listen to mouse move, but they react differently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2895480" y="55260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932000" y="1679400"/>
            <a:ext cx="3449880" cy="1204920"/>
            <a:chOff x="4932000" y="1679400"/>
            <a:chExt cx="3449880" cy="1204920"/>
          </a:xfrm>
        </p:grpSpPr>
        <p:sp>
          <p:nvSpPr>
            <p:cNvPr id="210" name=""/>
            <p:cNvSpPr/>
            <p:nvPr/>
          </p:nvSpPr>
          <p:spPr>
            <a:xfrm>
              <a:off x="5541840" y="2060280"/>
              <a:ext cx="2840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title bar indicating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-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ordinate where mouse-motion event occur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5084280" y="1679400"/>
              <a:ext cx="4366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932000" y="25174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3" dur="1" fill="hold"/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SelfContainedPanelTest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175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lfContainedPanelTest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SelfContainedPanelTest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lass SelfContainedPanelTes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3276720" cy="21844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00400" y="34290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40384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51460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f start dragging here, the drag event is sent to the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08640" y="4176720"/>
            <a:ext cx="237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f start dragging here, the drag event is sent to the pan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57200" y="4876920"/>
            <a:ext cx="1943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4.5  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JSlid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JSl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 users to select from range of integer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ral fea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ck marks (major and min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nap-to ti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entation (horizontal and vertic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ct arrow ke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/down and left/right = 1 unit m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gUp/PgDn = decrease/increase 0.1 of the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 = min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= max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setInvert(true) to switch min and 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. 14.6 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Sli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omponent with horizontal ori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90720" y="2971800"/>
            <a:ext cx="6811920" cy="660240"/>
            <a:chOff x="990720" y="2971800"/>
            <a:chExt cx="6811920" cy="66024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1752480" y="2971800"/>
              <a:ext cx="4967280" cy="63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6" name=""/>
            <p:cNvGrpSpPr/>
            <p:nvPr/>
          </p:nvGrpSpPr>
          <p:grpSpPr>
            <a:xfrm>
              <a:off x="990720" y="3276720"/>
              <a:ext cx="1036080" cy="233280"/>
              <a:chOff x="990720" y="3276720"/>
              <a:chExt cx="1036080" cy="233280"/>
            </a:xfrm>
          </p:grpSpPr>
          <p:sp>
            <p:nvSpPr>
              <p:cNvPr id="227" name=""/>
              <p:cNvSpPr/>
              <p:nvPr/>
            </p:nvSpPr>
            <p:spPr>
              <a:xfrm>
                <a:off x="990720" y="3308400"/>
                <a:ext cx="60912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Arial"/>
                  </a:rPr>
                  <a:t>thum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569960" y="3276720"/>
                <a:ext cx="456840" cy="1015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0" y="1987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400800" y="3429000"/>
              <a:ext cx="1401840" cy="203040"/>
              <a:chOff x="6400800" y="3429000"/>
              <a:chExt cx="1401840" cy="203040"/>
            </a:xfrm>
          </p:grpSpPr>
          <p:sp>
            <p:nvSpPr>
              <p:cNvPr id="230" name=""/>
              <p:cNvSpPr/>
              <p:nvPr/>
            </p:nvSpPr>
            <p:spPr>
              <a:xfrm>
                <a:off x="6894720" y="3429000"/>
                <a:ext cx="907920" cy="20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Arial"/>
                  </a:rPr>
                  <a:t>tick ma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00800" y="3504960"/>
                <a:ext cx="45720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Lucida Console"/>
              </a:rPr>
              <a:t>Jslider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 slider to resize a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2901960" cy="35607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29019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OvalPanel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1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4954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Fig. 14.7: OvalPanel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 customized JPanel class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OvalPanel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Panel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diameter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draw an oval of the specified diamet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paintComponent( Graphics g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.paintComponent( g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.fillOval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diameter, diameter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validate and set diameter, then repaint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setDiameter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newDiameter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if diameter invalid, default to 10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diameter = ( newDiameter &gt;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? newDiameter :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repaint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343400" y="2819520"/>
            <a:ext cx="3886200" cy="337320"/>
            <a:chOff x="4343400" y="2819520"/>
            <a:chExt cx="3886200" cy="337320"/>
          </a:xfrm>
        </p:grpSpPr>
        <p:sp>
          <p:nvSpPr>
            <p:cNvPr id="239" name=""/>
            <p:cNvSpPr/>
            <p:nvPr/>
          </p:nvSpPr>
          <p:spPr>
            <a:xfrm>
              <a:off x="5334120" y="281952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filled oval of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diame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343400" y="29718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191120" y="3616200"/>
            <a:ext cx="3886200" cy="337320"/>
            <a:chOff x="4191120" y="3616200"/>
            <a:chExt cx="3886200" cy="337320"/>
          </a:xfrm>
        </p:grpSpPr>
        <p:sp>
          <p:nvSpPr>
            <p:cNvPr id="242" name=""/>
            <p:cNvSpPr/>
            <p:nvPr/>
          </p:nvSpPr>
          <p:spPr>
            <a:xfrm>
              <a:off x="5181840" y="361620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diame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then re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4191120" y="376884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7" dur="1" fill="hold"/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OvalPanel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27446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used by layout manager to determine preferred size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Dimension getPreferredSize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return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Dimens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used by layout manager to determine minimum size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Dimension getMinimumSize()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return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getPreferredSize();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lass OvalPanel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657600" y="457200"/>
            <a:ext cx="3886200" cy="337320"/>
            <a:chOff x="3657600" y="457200"/>
            <a:chExt cx="3886200" cy="337320"/>
          </a:xfrm>
        </p:grpSpPr>
        <p:sp>
          <p:nvSpPr>
            <p:cNvPr id="247" name=""/>
            <p:cNvSpPr/>
            <p:nvPr/>
          </p:nvSpPr>
          <p:spPr>
            <a:xfrm>
              <a:off x="4648320" y="45720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ride the superclass ver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657600" y="6094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581280" y="1600200"/>
            <a:ext cx="3886200" cy="337320"/>
            <a:chOff x="3581280" y="1600200"/>
            <a:chExt cx="3886200" cy="337320"/>
          </a:xfrm>
        </p:grpSpPr>
        <p:sp>
          <p:nvSpPr>
            <p:cNvPr id="250" name=""/>
            <p:cNvSpPr/>
            <p:nvPr/>
          </p:nvSpPr>
          <p:spPr>
            <a:xfrm>
              <a:off x="4572000" y="160020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ride the superclass ver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3581280" y="17524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SliderDemo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18-1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22-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335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Fig. 14.8: SliderDemo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Using JSliders to size an oval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x.swing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SliderDemo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Frame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Slider diameterSlider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OvalPanel myPanel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GUI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SliderDemo()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Slider Demo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OvalPanel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myPanel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OvalPanel();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myPanel.setBackground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Color.YELLO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JSlider to control diameter value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diameterSlider =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Slider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SwingConstants.HORIZONTAL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diameterSlider.setMajorTickSpacing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diameterSlider.setPaintTicks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047760" y="2743200"/>
            <a:ext cx="4419720" cy="1143000"/>
            <a:chOff x="3047760" y="2743200"/>
            <a:chExt cx="4419720" cy="1143000"/>
          </a:xfrm>
        </p:grpSpPr>
        <p:sp>
          <p:nvSpPr>
            <p:cNvPr id="255" name=""/>
            <p:cNvSpPr/>
            <p:nvPr/>
          </p:nvSpPr>
          <p:spPr>
            <a:xfrm flipH="1">
              <a:off x="3047760" y="3048120"/>
              <a:ext cx="1523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72000" y="274320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Oval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and set background to yel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962160" y="3048120"/>
              <a:ext cx="6094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029200" y="3657600"/>
            <a:ext cx="3962520" cy="990720"/>
            <a:chOff x="5029200" y="3657600"/>
            <a:chExt cx="3962520" cy="990720"/>
          </a:xfrm>
        </p:grpSpPr>
        <p:sp>
          <p:nvSpPr>
            <p:cNvPr id="259" name=""/>
            <p:cNvSpPr/>
            <p:nvPr/>
          </p:nvSpPr>
          <p:spPr>
            <a:xfrm>
              <a:off x="5486400" y="3657600"/>
              <a:ext cx="3505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horizontal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with min. value of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max. value of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20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initial thumb location at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029200" y="4114800"/>
              <a:ext cx="457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114800" y="5029200"/>
            <a:ext cx="3886200" cy="337320"/>
            <a:chOff x="4114800" y="5029200"/>
            <a:chExt cx="3886200" cy="337320"/>
          </a:xfrm>
        </p:grpSpPr>
        <p:sp>
          <p:nvSpPr>
            <p:cNvPr id="262" name=""/>
            <p:cNvSpPr/>
            <p:nvPr/>
          </p:nvSpPr>
          <p:spPr>
            <a:xfrm>
              <a:off x="5105520" y="502920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lay the tick ma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114800" y="51814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1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SliderDemo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2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18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register JSlider event listener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diameterSlider.addChangeListener(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hangeListener() {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nonymous inner class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handle change in slider value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stateChanged( ChangeEvent e )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{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myPanel.setDiameter( diameterSlider.getValue(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}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anonymous inner class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);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all to addChangeListener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ttach components to content pane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tainer container = getContentPane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tainer.add( diameterSlider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BorderLayout.SOUTH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tainer.add( myPanel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BorderLayout.CENT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2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7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onstructor SliderDemo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733920" y="152280"/>
            <a:ext cx="3733200" cy="824040"/>
            <a:chOff x="3733920" y="152280"/>
            <a:chExt cx="3733200" cy="824040"/>
          </a:xfrm>
        </p:grpSpPr>
        <p:sp>
          <p:nvSpPr>
            <p:cNvPr id="267" name=""/>
            <p:cNvSpPr/>
            <p:nvPr/>
          </p:nvSpPr>
          <p:spPr>
            <a:xfrm>
              <a:off x="4952880" y="152280"/>
              <a:ext cx="2514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anonymou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hange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to handl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v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733920" y="533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952880" y="2057040"/>
            <a:ext cx="3657600" cy="1053000"/>
            <a:chOff x="4952880" y="2057040"/>
            <a:chExt cx="3657600" cy="1053000"/>
          </a:xfrm>
        </p:grpSpPr>
        <p:sp>
          <p:nvSpPr>
            <p:cNvPr id="270" name=""/>
            <p:cNvSpPr/>
            <p:nvPr/>
          </p:nvSpPr>
          <p:spPr>
            <a:xfrm flipH="1" flipV="1">
              <a:off x="4952880" y="2057040"/>
              <a:ext cx="914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38840" y="2286000"/>
              <a:ext cx="2771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accesse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et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Oval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diame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ccording to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Sli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5" dur="1" fill="hold"/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SliderDemo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152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liderDemo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SliderDemo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lass SliderDemo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295280" y="1143000"/>
            <a:ext cx="3657600" cy="2652840"/>
            <a:chOff x="1295280" y="1143000"/>
            <a:chExt cx="3657600" cy="2652840"/>
          </a:xfrm>
        </p:grpSpPr>
        <p:sp>
          <p:nvSpPr>
            <p:cNvPr id="275" name=""/>
            <p:cNvSpPr/>
            <p:nvPr/>
          </p:nvSpPr>
          <p:spPr>
            <a:xfrm flipV="1">
              <a:off x="3809880" y="1143000"/>
              <a:ext cx="114300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95280" y="2971800"/>
              <a:ext cx="2772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OSE_ON_CLOSE = clear memory for this one window on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105520" y="1143000"/>
            <a:ext cx="3200400" cy="2409480"/>
            <a:chOff x="5105520" y="1143000"/>
            <a:chExt cx="3200400" cy="2409480"/>
          </a:xfrm>
        </p:grpSpPr>
        <p:sp>
          <p:nvSpPr>
            <p:cNvPr id="278" name=""/>
            <p:cNvSpPr/>
            <p:nvPr/>
          </p:nvSpPr>
          <p:spPr>
            <a:xfrm flipH="1" flipV="1">
              <a:off x="5105520" y="1143000"/>
              <a:ext cx="45720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33920" y="2971800"/>
              <a:ext cx="2772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_NOTHING_ON_CLOSE = let the program dec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352680" y="3962520"/>
            <a:ext cx="19702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4.1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GUI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xt are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lid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n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Document Interface (MD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layout ma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BoxLay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GridBagLay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4.6  Windows: Additional No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J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ndows wit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itle b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class of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java.awt.Fr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class of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java.awt.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vyweight compon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ee operations when user closes wind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DISPOSE_ON_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DO_NOTHING_ON_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HIDE_ON_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4.7  Using Menus with Fram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for performing actions with cluttering GU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ed by menu b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JMenu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rised of menu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JMenu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enu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ing the text style according to the selected menu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6477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Menu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4954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Fig. 14.9: MenuTest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Demonstrating menu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enuTest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Frame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final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lor colorValues[] =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{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Color.BLACK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Color.BL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Color.RE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Color.GREEN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};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RadioButtonMenuItem colorItems[], fonts[]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CheckBoxMenuItem styleItems[]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Label displayLabel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ButtonGroup fontGroup, colorGroup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style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GUI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enuTest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Using JMenus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File menu and its menu item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Menu fileMenu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Menu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Fil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fileMenu.setMnemonic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'F'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038120" y="4454640"/>
            <a:ext cx="2594160" cy="337320"/>
            <a:chOff x="4038120" y="4454640"/>
            <a:chExt cx="2594160" cy="337320"/>
          </a:xfrm>
        </p:grpSpPr>
        <p:sp>
          <p:nvSpPr>
            <p:cNvPr id="291" name=""/>
            <p:cNvSpPr/>
            <p:nvPr/>
          </p:nvSpPr>
          <p:spPr>
            <a:xfrm flipH="1">
              <a:off x="4038120" y="46069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19360" y="4454640"/>
              <a:ext cx="2212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Men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987560" y="4876920"/>
            <a:ext cx="3803760" cy="1523880"/>
            <a:chOff x="1987560" y="4876920"/>
            <a:chExt cx="3803760" cy="1523880"/>
          </a:xfrm>
        </p:grpSpPr>
        <p:sp>
          <p:nvSpPr>
            <p:cNvPr id="294" name=""/>
            <p:cNvSpPr/>
            <p:nvPr/>
          </p:nvSpPr>
          <p:spPr>
            <a:xfrm>
              <a:off x="3352680" y="4876920"/>
              <a:ext cx="243864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52680" y="487692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290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2819160" y="4876920"/>
              <a:ext cx="75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87560" y="5334120"/>
              <a:ext cx="1407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hortcut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8128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81280" y="54100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37880" y="5105520"/>
              <a:ext cx="113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nui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4" dur="1" fill="hold"/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Menu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2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36-3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4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335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About... menu item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MenuItem aboutItem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MenuItem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About...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boutItem.setMnemonic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'A'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fileMenu.add( aboutItem );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boutItem.addActionListener(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ActionListener() {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nonymous inner cla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display message dialog when user selects About..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actionPerformed( Action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JOptionPane.showMessageDialog( MenuTest.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hi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This is an example\nof using menus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About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JOptionPane.PLAIN_MESSAG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}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anonymous inner cla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);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all to addActionListen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Exit menu item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MenuItem exitItem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MenuItem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Exit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exitItem.setMnemonic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'x'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fileMenu.add( exitItem );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exitItem.addActionListener(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657240" y="685800"/>
            <a:ext cx="3886560" cy="580680"/>
            <a:chOff x="3657240" y="685800"/>
            <a:chExt cx="3886560" cy="580680"/>
          </a:xfrm>
        </p:grpSpPr>
        <p:sp>
          <p:nvSpPr>
            <p:cNvPr id="305" name=""/>
            <p:cNvSpPr/>
            <p:nvPr/>
          </p:nvSpPr>
          <p:spPr>
            <a:xfrm>
              <a:off x="4343400" y="68580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bout…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MenuIte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be placed in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fileMen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3657240" y="68580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028840" y="2361960"/>
            <a:ext cx="3277080" cy="1844280"/>
            <a:chOff x="5028840" y="2361960"/>
            <a:chExt cx="3277080" cy="1844280"/>
          </a:xfrm>
        </p:grpSpPr>
        <p:sp>
          <p:nvSpPr>
            <p:cNvPr id="308" name=""/>
            <p:cNvSpPr/>
            <p:nvPr/>
          </p:nvSpPr>
          <p:spPr>
            <a:xfrm flipH="1" flipV="1">
              <a:off x="5486040" y="2361960"/>
              <a:ext cx="11430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62720" y="2895480"/>
              <a:ext cx="27432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selects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bout…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MenuIte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display message dialog with appropriate text, with MenuTest.this as the dialog’s parent wind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028840" y="2742840"/>
              <a:ext cx="1600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724280" y="4286160"/>
            <a:ext cx="3429000" cy="580680"/>
            <a:chOff x="4724280" y="4286160"/>
            <a:chExt cx="3429000" cy="580680"/>
          </a:xfrm>
        </p:grpSpPr>
        <p:sp>
          <p:nvSpPr>
            <p:cNvPr id="312" name=""/>
            <p:cNvSpPr/>
            <p:nvPr/>
          </p:nvSpPr>
          <p:spPr>
            <a:xfrm>
              <a:off x="5486040" y="428616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x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MenuIte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be placed in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fileMen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4724280" y="45910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352680" y="4876920"/>
            <a:ext cx="2438640" cy="1523880"/>
            <a:chOff x="3352680" y="4876920"/>
            <a:chExt cx="2438640" cy="1523880"/>
          </a:xfrm>
        </p:grpSpPr>
        <p:sp>
          <p:nvSpPr>
            <p:cNvPr id="315" name=""/>
            <p:cNvSpPr/>
            <p:nvPr/>
          </p:nvSpPr>
          <p:spPr>
            <a:xfrm>
              <a:off x="3352680" y="4876920"/>
              <a:ext cx="243864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52680" y="487692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90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3760" y="5181480"/>
              <a:ext cx="76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b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55200" y="548640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x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9000" y="5486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81280" y="5791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3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Menu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5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6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6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4954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ActionListener() {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nonymous inner cla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terminate application when user clicks exitItem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actionPerformed( Action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System.exi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}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anonymous inner cla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);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all to addActionListen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reate menu bar and attach it to MenuTest window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MenuBar bar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MenuBar();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JMenuBar( bar );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bar.add( fileMenu );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reate Format menu, its submenus and menu item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Menu formatMenu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Menu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Format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formatMenu.setMnemonic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'r'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reate Color submenu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tring colors[] = {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Black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Blu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Red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Green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}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123720" y="1066680"/>
            <a:ext cx="4115160" cy="733320"/>
            <a:chOff x="3123720" y="1066680"/>
            <a:chExt cx="4115160" cy="733320"/>
          </a:xfrm>
        </p:grpSpPr>
        <p:sp>
          <p:nvSpPr>
            <p:cNvPr id="325" name=""/>
            <p:cNvSpPr/>
            <p:nvPr/>
          </p:nvSpPr>
          <p:spPr>
            <a:xfrm>
              <a:off x="4876920" y="1219320"/>
              <a:ext cx="2361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selects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x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MenuIte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exit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3962520" y="106668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3123720" y="1371240"/>
              <a:ext cx="1752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429000" y="2914560"/>
            <a:ext cx="3047760" cy="580680"/>
            <a:chOff x="3429000" y="2914560"/>
            <a:chExt cx="3047760" cy="580680"/>
          </a:xfrm>
        </p:grpSpPr>
        <p:sp>
          <p:nvSpPr>
            <p:cNvPr id="329" name=""/>
            <p:cNvSpPr/>
            <p:nvPr/>
          </p:nvSpPr>
          <p:spPr>
            <a:xfrm>
              <a:off x="4343400" y="2914560"/>
              <a:ext cx="2133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MenuB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contain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Men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 flipV="1">
              <a:off x="3429000" y="299052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4343400" y="3844800"/>
            <a:ext cx="3429000" cy="2022480"/>
            <a:chOff x="4343400" y="3844800"/>
            <a:chExt cx="3429000" cy="2022480"/>
          </a:xfrm>
        </p:grpSpPr>
        <p:grpSp>
          <p:nvGrpSpPr>
            <p:cNvPr id="332" name=""/>
            <p:cNvGrpSpPr/>
            <p:nvPr/>
          </p:nvGrpSpPr>
          <p:grpSpPr>
            <a:xfrm>
              <a:off x="4343400" y="3844800"/>
              <a:ext cx="3429000" cy="337320"/>
              <a:chOff x="4343400" y="3844800"/>
              <a:chExt cx="3429000" cy="337320"/>
            </a:xfrm>
          </p:grpSpPr>
          <p:sp>
            <p:nvSpPr>
              <p:cNvPr id="333" name=""/>
              <p:cNvSpPr/>
              <p:nvPr/>
            </p:nvSpPr>
            <p:spPr>
              <a:xfrm flipH="1">
                <a:off x="4343400" y="3997080"/>
                <a:ext cx="95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237280" y="3844800"/>
                <a:ext cx="2535120" cy="3373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stantiate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orm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Lucida Console"/>
                    <a:ea typeface="Times New Roman"/>
                  </a:rPr>
                  <a:t>JMen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867280" y="4343400"/>
              <a:ext cx="914400" cy="1523880"/>
              <a:chOff x="5867280" y="4343400"/>
              <a:chExt cx="914400" cy="1523880"/>
            </a:xfrm>
          </p:grpSpPr>
          <p:sp>
            <p:nvSpPr>
              <p:cNvPr id="336" name=""/>
              <p:cNvSpPr/>
              <p:nvPr/>
            </p:nvSpPr>
            <p:spPr>
              <a:xfrm>
                <a:off x="5867280" y="4343400"/>
                <a:ext cx="838080" cy="1523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867280" y="4343400"/>
                <a:ext cx="91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orma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943600" y="464796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867280" y="4647960"/>
                <a:ext cx="184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867280" y="4952880"/>
                <a:ext cx="184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2" dur="1" fill="hold"/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Menu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7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78-7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9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0" y="228240"/>
            <a:ext cx="6937200" cy="5335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Menu colorMenu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Menu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Color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lorMenu.setMnemonic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'C'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lorItems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RadioButtonMenuItem[ colors.length ]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lorGroup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ButtonGroup();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ItemHandler itemHandler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ItemHandler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reate color radio button menu item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fo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unt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count &lt; colors.length; count++ )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colorItems[ count ] =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RadioButtonMenuItem( colors[ count ]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colorMenu.add( colorItems[ count ] );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colorGroup.add( colorItems[ count ] );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colorItems[ count ].addActionListener( itemHandler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lect first Color menu item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lorItems[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].setSelected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dd format menu to menu ba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formatMenu.add( colorMenu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formatMenu.addSeparator();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reate Font submenu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tring fontNames[] = {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Serif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Monospaced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SansSerif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}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0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504960" y="1066680"/>
            <a:ext cx="4952880" cy="1981800"/>
            <a:chOff x="3504960" y="1066680"/>
            <a:chExt cx="4952880" cy="1981800"/>
          </a:xfrm>
        </p:grpSpPr>
        <p:sp>
          <p:nvSpPr>
            <p:cNvPr id="344" name=""/>
            <p:cNvSpPr/>
            <p:nvPr/>
          </p:nvSpPr>
          <p:spPr>
            <a:xfrm flipH="1" flipV="1">
              <a:off x="5181480" y="1066680"/>
              <a:ext cx="15998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33760" y="1981080"/>
              <a:ext cx="3124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RadioButtonMenuIte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l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Men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ensure that only one menu item is selected at a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3504960" y="1142280"/>
              <a:ext cx="32763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190760" y="76320"/>
            <a:ext cx="3637080" cy="1752480"/>
            <a:chOff x="4190760" y="76320"/>
            <a:chExt cx="3637080" cy="1752480"/>
          </a:xfrm>
        </p:grpSpPr>
        <p:grpSp>
          <p:nvGrpSpPr>
            <p:cNvPr id="348" name=""/>
            <p:cNvGrpSpPr/>
            <p:nvPr/>
          </p:nvGrpSpPr>
          <p:grpSpPr>
            <a:xfrm>
              <a:off x="4190760" y="76320"/>
              <a:ext cx="3637080" cy="580680"/>
              <a:chOff x="4190760" y="76320"/>
              <a:chExt cx="3637080" cy="580680"/>
            </a:xfrm>
          </p:grpSpPr>
          <p:sp>
            <p:nvSpPr>
              <p:cNvPr id="349" name=""/>
              <p:cNvSpPr/>
              <p:nvPr/>
            </p:nvSpPr>
            <p:spPr>
              <a:xfrm flipH="1">
                <a:off x="4190760" y="380880"/>
                <a:ext cx="95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084640" y="76320"/>
                <a:ext cx="2743200" cy="5806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stantiate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lo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Lucida Console"/>
                    <a:ea typeface="Times New Roman"/>
                  </a:rPr>
                  <a:t>JMenu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(submenu of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orm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Lucida Console"/>
                    <a:ea typeface="Times New Roman"/>
                  </a:rPr>
                  <a:t>JMenu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6019920" y="762120"/>
              <a:ext cx="83808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19920" y="7621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l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95880" y="10666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647960" y="3200400"/>
            <a:ext cx="3575520" cy="1448640"/>
            <a:chOff x="4647960" y="3200400"/>
            <a:chExt cx="3575520" cy="1448640"/>
          </a:xfrm>
        </p:grpSpPr>
        <p:grpSp>
          <p:nvGrpSpPr>
            <p:cNvPr id="355" name=""/>
            <p:cNvGrpSpPr/>
            <p:nvPr/>
          </p:nvGrpSpPr>
          <p:grpSpPr>
            <a:xfrm>
              <a:off x="4647960" y="3200400"/>
              <a:ext cx="3575520" cy="1448640"/>
              <a:chOff x="4647960" y="3200400"/>
              <a:chExt cx="3575520" cy="1448640"/>
            </a:xfrm>
          </p:grpSpPr>
          <p:sp>
            <p:nvSpPr>
              <p:cNvPr id="356" name=""/>
              <p:cNvSpPr/>
              <p:nvPr/>
            </p:nvSpPr>
            <p:spPr>
              <a:xfrm>
                <a:off x="7315200" y="3200400"/>
                <a:ext cx="838080" cy="1447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317720" y="3200400"/>
                <a:ext cx="905760" cy="144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l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Helvetic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Bla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Helvetic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Blu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Helvetic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391520" y="35053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flipV="1">
                <a:off x="4647960" y="3276360"/>
                <a:ext cx="24382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7391520" y="36576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91520" y="4038480"/>
              <a:ext cx="15228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1520" y="441972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048120" y="4419720"/>
            <a:ext cx="4190760" cy="2022480"/>
            <a:chOff x="3048120" y="4419720"/>
            <a:chExt cx="4190760" cy="2022480"/>
          </a:xfrm>
        </p:grpSpPr>
        <p:grpSp>
          <p:nvGrpSpPr>
            <p:cNvPr id="364" name=""/>
            <p:cNvGrpSpPr/>
            <p:nvPr/>
          </p:nvGrpSpPr>
          <p:grpSpPr>
            <a:xfrm>
              <a:off x="3048120" y="4419720"/>
              <a:ext cx="3429000" cy="2022480"/>
              <a:chOff x="3048120" y="4419720"/>
              <a:chExt cx="3429000" cy="202248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3048120" y="4419720"/>
                <a:ext cx="3429000" cy="337320"/>
                <a:chOff x="3048120" y="4419720"/>
                <a:chExt cx="3429000" cy="337320"/>
              </a:xfrm>
            </p:grpSpPr>
            <p:sp>
              <p:nvSpPr>
                <p:cNvPr id="366" name=""/>
                <p:cNvSpPr/>
                <p:nvPr/>
              </p:nvSpPr>
              <p:spPr>
                <a:xfrm flipH="1">
                  <a:off x="3048120" y="4572000"/>
                  <a:ext cx="95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3942000" y="4419720"/>
                  <a:ext cx="2535120" cy="3373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dd separa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4572000" y="4918320"/>
                <a:ext cx="914400" cy="1523880"/>
                <a:chOff x="4572000" y="4918320"/>
                <a:chExt cx="914400" cy="152388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4572000" y="4918320"/>
                  <a:ext cx="838080" cy="1523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572000" y="4918320"/>
                  <a:ext cx="914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Forma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648320" y="5222880"/>
                  <a:ext cx="7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572000" y="5222880"/>
                  <a:ext cx="1843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572000" y="5527800"/>
                  <a:ext cx="1843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4" name=""/>
            <p:cNvSpPr/>
            <p:nvPr/>
          </p:nvSpPr>
          <p:spPr>
            <a:xfrm>
              <a:off x="5105520" y="4648320"/>
              <a:ext cx="2133360" cy="685800"/>
            </a:xfrm>
            <a:custGeom>
              <a:avLst/>
              <a:gdLst/>
              <a:ahLst/>
              <a:rect l="l" t="t" r="r" b="b"/>
              <a:pathLst>
                <a:path w="1344" h="432">
                  <a:moveTo>
                    <a:pt x="1344" y="0"/>
                  </a:moveTo>
                  <a:cubicBezTo>
                    <a:pt x="1216" y="132"/>
                    <a:pt x="1088" y="264"/>
                    <a:pt x="864" y="336"/>
                  </a:cubicBezTo>
                  <a:cubicBezTo>
                    <a:pt x="640" y="408"/>
                    <a:pt x="320" y="420"/>
                    <a:pt x="0" y="432"/>
                  </a:cubicBezTo>
                </a:path>
              </a:pathLst>
            </a:custGeom>
            <a:noFill/>
            <a:ln w="63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74160" y="525780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l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0" y="55627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2000" y="5638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Menu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10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104-105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18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1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Menu fontMenu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Menu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Font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2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fontMenu.setMnemonic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'n'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3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4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fonts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RadioButtonMenuItem[ fontNames.length ]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5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fontGroup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ButtonGroup();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6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7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reate Font radio button menu item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8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fo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unt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count &lt; fonts.length; count++ )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9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fonts[ count ]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RadioButtonMenuItem( fontNames[ count ]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0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fontMenu.add( fonts[ count ] ); 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1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fontGroup.add( fonts[ count ] );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2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fonts[ count ].addActionListener( itemHandler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3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4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5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lect first Font menu item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6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fonts[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].setSelected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7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8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fontMenu.addSeparator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9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0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style menu item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1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tring styleNames[] = {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Bold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Italic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}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2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3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tyleItems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CheckBoxMenuItem[ styleNames.length ]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4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tyleHandler styleHandler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StyleHandler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5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4038120" y="76320"/>
            <a:ext cx="3637080" cy="580680"/>
            <a:chOff x="4038120" y="76320"/>
            <a:chExt cx="3637080" cy="580680"/>
          </a:xfrm>
        </p:grpSpPr>
        <p:sp>
          <p:nvSpPr>
            <p:cNvPr id="381" name=""/>
            <p:cNvSpPr/>
            <p:nvPr/>
          </p:nvSpPr>
          <p:spPr>
            <a:xfrm flipH="1">
              <a:off x="4038120" y="380880"/>
              <a:ext cx="95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32000" y="763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Men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submenu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rm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Men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428640" y="1066320"/>
            <a:ext cx="5029560" cy="2210760"/>
            <a:chOff x="3428640" y="1066320"/>
            <a:chExt cx="5029560" cy="2210760"/>
          </a:xfrm>
        </p:grpSpPr>
        <p:sp>
          <p:nvSpPr>
            <p:cNvPr id="384" name=""/>
            <p:cNvSpPr/>
            <p:nvPr/>
          </p:nvSpPr>
          <p:spPr>
            <a:xfrm flipH="1" flipV="1">
              <a:off x="4723920" y="1066320"/>
              <a:ext cx="20574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333760" y="2209680"/>
              <a:ext cx="31244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RadioButtonMenuIte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Men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ensure that only one menu item is selected at a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3428640" y="1142640"/>
              <a:ext cx="33526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400800" y="3505320"/>
            <a:ext cx="907560" cy="2133360"/>
            <a:chOff x="6400800" y="3505320"/>
            <a:chExt cx="907560" cy="2133360"/>
          </a:xfrm>
        </p:grpSpPr>
        <p:grpSp>
          <p:nvGrpSpPr>
            <p:cNvPr id="388" name=""/>
            <p:cNvGrpSpPr/>
            <p:nvPr/>
          </p:nvGrpSpPr>
          <p:grpSpPr>
            <a:xfrm>
              <a:off x="6400800" y="3505320"/>
              <a:ext cx="907560" cy="2133360"/>
              <a:chOff x="6400800" y="3505320"/>
              <a:chExt cx="907560" cy="2133360"/>
            </a:xfrm>
          </p:grpSpPr>
          <p:sp>
            <p:nvSpPr>
              <p:cNvPr id="389" name=""/>
              <p:cNvSpPr/>
              <p:nvPr/>
            </p:nvSpPr>
            <p:spPr>
              <a:xfrm>
                <a:off x="6400800" y="3505320"/>
                <a:ext cx="838080" cy="2133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404040" y="3505320"/>
                <a:ext cx="904320" cy="144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o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Helvetic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eri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Helvetic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on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Helvetic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a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476760" y="380988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476760" y="3962160"/>
                <a:ext cx="15192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476760" y="4343400"/>
                <a:ext cx="151920" cy="15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476760" y="4724280"/>
                <a:ext cx="151920" cy="15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6400800" y="48769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40080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0" dur="1" fill="hold"/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MenuTest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564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6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reate style checkbox menu item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7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fo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unt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count &lt; styleNames.length; count++ )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8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styleItems[ count ] =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9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CheckBoxMenuItem( styleNames[ count ]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0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fontMenu.add( styleItems[ count ] );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1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styleItems[ count ].addItemListener( styleHandler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2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3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4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put Font menu in Format menu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5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formatMenu.add( fontMenu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6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7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dd Format menu to menu ba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8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bar.add( formatMenu );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9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0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label to display tex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1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displayLabel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Label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Sample Text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SwingConstants.CENT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2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displayLabel.setForeground( colorValues[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]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3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displayLabel.setFont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Fon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Serif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Font.PLAIN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72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4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5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etContentPane().setBackground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Color.CYAN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6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etContentPane().add( displayLabel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BorderLayout.CENT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7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8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5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9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0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1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onstructo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2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019920" y="685800"/>
            <a:ext cx="907560" cy="2166120"/>
            <a:chOff x="6019920" y="685800"/>
            <a:chExt cx="907560" cy="2166120"/>
          </a:xfrm>
        </p:grpSpPr>
        <p:grpSp>
          <p:nvGrpSpPr>
            <p:cNvPr id="400" name=""/>
            <p:cNvGrpSpPr/>
            <p:nvPr/>
          </p:nvGrpSpPr>
          <p:grpSpPr>
            <a:xfrm>
              <a:off x="6019920" y="685800"/>
              <a:ext cx="907560" cy="2133360"/>
              <a:chOff x="6019920" y="685800"/>
              <a:chExt cx="907560" cy="2133360"/>
            </a:xfrm>
          </p:grpSpPr>
          <p:grpSp>
            <p:nvGrpSpPr>
              <p:cNvPr id="401" name=""/>
              <p:cNvGrpSpPr/>
              <p:nvPr/>
            </p:nvGrpSpPr>
            <p:grpSpPr>
              <a:xfrm>
                <a:off x="6019920" y="685800"/>
                <a:ext cx="907560" cy="2133360"/>
                <a:chOff x="6019920" y="685800"/>
                <a:chExt cx="907560" cy="21333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6019920" y="685800"/>
                  <a:ext cx="838080" cy="2133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023160" y="685800"/>
                  <a:ext cx="904320" cy="14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Fo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Clr>
                      <a:srgbClr val="000000"/>
                    </a:buClr>
                    <a:buFont typeface="Helvetic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eri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Clr>
                      <a:srgbClr val="000000"/>
                    </a:buClr>
                    <a:buFont typeface="Helvetic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on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Clr>
                      <a:srgbClr val="000000"/>
                    </a:buClr>
                    <a:buFont typeface="Helvetic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an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095880" y="990360"/>
                  <a:ext cx="15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095880" y="1142640"/>
                  <a:ext cx="151920" cy="152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095880" y="1523880"/>
                  <a:ext cx="151920" cy="151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095880" y="1904760"/>
                  <a:ext cx="151920" cy="151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6019920" y="205740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019920" y="213336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6250680" y="213372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51760" y="251460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al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095880" y="2209680"/>
              <a:ext cx="152640" cy="152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95880" y="2590920"/>
              <a:ext cx="152640" cy="152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962520" y="1600200"/>
            <a:ext cx="914400" cy="1523880"/>
            <a:chOff x="3962520" y="1600200"/>
            <a:chExt cx="914400" cy="1523880"/>
          </a:xfrm>
        </p:grpSpPr>
        <p:grpSp>
          <p:nvGrpSpPr>
            <p:cNvPr id="415" name=""/>
            <p:cNvGrpSpPr/>
            <p:nvPr/>
          </p:nvGrpSpPr>
          <p:grpSpPr>
            <a:xfrm>
              <a:off x="3962520" y="1600200"/>
              <a:ext cx="914400" cy="1523880"/>
              <a:chOff x="3962520" y="1600200"/>
              <a:chExt cx="914400" cy="1523880"/>
            </a:xfrm>
          </p:grpSpPr>
          <p:sp>
            <p:nvSpPr>
              <p:cNvPr id="416" name=""/>
              <p:cNvSpPr/>
              <p:nvPr/>
            </p:nvSpPr>
            <p:spPr>
              <a:xfrm>
                <a:off x="3962520" y="1600200"/>
                <a:ext cx="838080" cy="1523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962520" y="1600200"/>
                <a:ext cx="91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orma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038840" y="190476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962520" y="1904760"/>
                <a:ext cx="184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962520" y="2209680"/>
                <a:ext cx="184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3964680" y="194004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l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62520" y="2362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62520" y="2286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65400" y="236232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4648320" y="2057040"/>
              <a:ext cx="152280" cy="152280"/>
              <a:chOff x="4648320" y="2057040"/>
              <a:chExt cx="152280" cy="152280"/>
            </a:xfrm>
          </p:grpSpPr>
          <p:sp>
            <p:nvSpPr>
              <p:cNvPr id="426" name=""/>
              <p:cNvSpPr/>
              <p:nvPr/>
            </p:nvSpPr>
            <p:spPr>
              <a:xfrm flipV="1">
                <a:off x="4648320" y="20570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4648320" y="2107800"/>
                <a:ext cx="15228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648320" y="2057400"/>
                <a:ext cx="15228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4648320" y="2438280"/>
              <a:ext cx="152280" cy="152640"/>
              <a:chOff x="4648320" y="2438280"/>
              <a:chExt cx="152280" cy="15264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4648320" y="24382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4648320" y="2489040"/>
                <a:ext cx="152280" cy="10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648320" y="2438640"/>
                <a:ext cx="15228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3" name=""/>
          <p:cNvGrpSpPr/>
          <p:nvPr/>
        </p:nvGrpSpPr>
        <p:grpSpPr>
          <a:xfrm>
            <a:off x="6705720" y="3048120"/>
            <a:ext cx="2133360" cy="1066680"/>
            <a:chOff x="6705720" y="3048120"/>
            <a:chExt cx="2133360" cy="1066680"/>
          </a:xfrm>
        </p:grpSpPr>
        <p:sp>
          <p:nvSpPr>
            <p:cNvPr id="434" name=""/>
            <p:cNvSpPr/>
            <p:nvPr/>
          </p:nvSpPr>
          <p:spPr>
            <a:xfrm>
              <a:off x="6705720" y="3048120"/>
              <a:ext cx="21333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08240" y="304812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42120" y="304812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rm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388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05720" y="3352680"/>
              <a:ext cx="53316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38880" y="3352680"/>
              <a:ext cx="76212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3048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Menu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16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168 and 17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169 and 177-17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7927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3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4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5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MenuTest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enuTest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6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7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8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9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inner class to handle action events from menu item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0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ItemHandler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lement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ActionListener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1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2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process color and font selection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3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actionPerformed( Action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4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5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process color selection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6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fo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unt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count &lt; colorItems.length; count++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7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8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f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colorItems[ count ].isSelected() )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9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displayLabel.setForeground( colorValues[ count ]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0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break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1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2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3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process font selection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4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fo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unt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count &lt; fonts.length; count++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5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6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f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event.getSource() == fonts[ count ] )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7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displayLabel.setFont(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8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Font( fonts[ count ].getText(), style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72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9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break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0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267080" y="1066680"/>
            <a:ext cx="3505320" cy="1218960"/>
            <a:chOff x="4267080" y="1066680"/>
            <a:chExt cx="3505320" cy="1218960"/>
          </a:xfrm>
        </p:grpSpPr>
        <p:sp>
          <p:nvSpPr>
            <p:cNvPr id="444" name=""/>
            <p:cNvSpPr/>
            <p:nvPr/>
          </p:nvSpPr>
          <p:spPr>
            <a:xfrm flipH="1">
              <a:off x="4851000" y="1295280"/>
              <a:ext cx="13874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267080" y="1066680"/>
              <a:ext cx="3505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d when user select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MenuI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191120" y="2209680"/>
            <a:ext cx="4017960" cy="2743200"/>
            <a:chOff x="4191120" y="2209680"/>
            <a:chExt cx="4017960" cy="2743200"/>
          </a:xfrm>
        </p:grpSpPr>
        <p:sp>
          <p:nvSpPr>
            <p:cNvPr id="447" name=""/>
            <p:cNvSpPr/>
            <p:nvPr/>
          </p:nvSpPr>
          <p:spPr>
            <a:xfrm flipH="1">
              <a:off x="4648320" y="2438280"/>
              <a:ext cx="914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191120" y="2438280"/>
              <a:ext cx="137160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22760" y="2209680"/>
              <a:ext cx="2686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rmine which font or color menu generated 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495680" y="3657600"/>
            <a:ext cx="4362480" cy="1676520"/>
            <a:chOff x="4495680" y="3657600"/>
            <a:chExt cx="4362480" cy="1676520"/>
          </a:xfrm>
        </p:grpSpPr>
        <p:sp>
          <p:nvSpPr>
            <p:cNvPr id="451" name=""/>
            <p:cNvSpPr/>
            <p:nvPr/>
          </p:nvSpPr>
          <p:spPr>
            <a:xfrm flipH="1" flipV="1">
              <a:off x="4495680" y="3657600"/>
              <a:ext cx="1694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72200" y="3886200"/>
              <a:ext cx="2685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font or color of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Lab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respective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028840" y="4191120"/>
              <a:ext cx="1143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4.2  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JTextAre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JText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ea for manipulating multiple lines of t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d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JTextCompon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Menu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19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197-20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18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1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2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repaint();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3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4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method actionPerformed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5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6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lass ItemHandl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7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8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inner class to handle item events from check box menu item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9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StyleHandler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lement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ItemListener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0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1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process font style selection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2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itemStateChanged( ItemEvent e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3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4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style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5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6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heck for bold selection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7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f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styleItems[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].isSelected()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8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style += Font.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BOL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9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0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heck for italic selection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1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f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styleItems[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].isSelected()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2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style += Font.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ITA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3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4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displayLabel.setFont(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5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Font( displayLabel.getFont().getName(), style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72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571640" y="1371600"/>
            <a:ext cx="2895840" cy="1219320"/>
            <a:chOff x="4571640" y="1371600"/>
            <a:chExt cx="2895840" cy="1219320"/>
          </a:xfrm>
        </p:grpSpPr>
        <p:sp>
          <p:nvSpPr>
            <p:cNvPr id="457" name=""/>
            <p:cNvSpPr/>
            <p:nvPr/>
          </p:nvSpPr>
          <p:spPr>
            <a:xfrm flipH="1">
              <a:off x="4571640" y="1905120"/>
              <a:ext cx="1676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05520" y="1371600"/>
              <a:ext cx="2361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d when user select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CheckBoxMenuI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114440" y="3657600"/>
            <a:ext cx="3429360" cy="685800"/>
            <a:chOff x="4114440" y="3657600"/>
            <a:chExt cx="3429360" cy="685800"/>
          </a:xfrm>
        </p:grpSpPr>
        <p:sp>
          <p:nvSpPr>
            <p:cNvPr id="460" name=""/>
            <p:cNvSpPr/>
            <p:nvPr/>
          </p:nvSpPr>
          <p:spPr>
            <a:xfrm>
              <a:off x="5181480" y="3809880"/>
              <a:ext cx="2362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rmine new font sty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 flipV="1">
              <a:off x="4114440" y="3657600"/>
              <a:ext cx="10666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4114440" y="3962160"/>
              <a:ext cx="10666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0" dur="1" fill="hold"/>
                                  <p:tgtEl>
                                    <p:spTgt spid="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MenuTest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152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6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7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repaint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8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9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0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lass StyleHandl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1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2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lass MenuTes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4762440" cy="19051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4762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4.8  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JPopupMenu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-sensitive popup m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JPopupMen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nu generated depending on which component is acces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Lucida Console"/>
              </a:rPr>
              <a:t>JPopupMenu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window background color according to the item selected in the pop-up me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4000680" cy="26668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4495680" y="2514600"/>
            <a:ext cx="400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Popup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18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Fig. 14.10: PopupTest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Demonstrating JPopupMenu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PopupTest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Frame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RadioButtonMenuItem items[]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final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lor colorValues[] =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{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Color.BL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Color.YELLO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 Color.RE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}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PopupMenu popupMenu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GUI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PopupTest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Using JPopupMenus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ItemHandler handler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ItemHandler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tring colors[] = {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Blu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Yellow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Red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}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popup menu and its item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ButtonGroup colorGroup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ButtonGroup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popupMenu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PopupMenu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items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RadioButtonMenuItem[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3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]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3429000" y="4606920"/>
            <a:ext cx="4813200" cy="337320"/>
            <a:chOff x="3429000" y="4606920"/>
            <a:chExt cx="4813200" cy="337320"/>
          </a:xfrm>
        </p:grpSpPr>
        <p:sp>
          <p:nvSpPr>
            <p:cNvPr id="476" name=""/>
            <p:cNvSpPr/>
            <p:nvPr/>
          </p:nvSpPr>
          <p:spPr>
            <a:xfrm flipH="1">
              <a:off x="3429000" y="47592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57800" y="4606920"/>
              <a:ext cx="2984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PopupMen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9" dur="1" fill="hold"/>
                                  <p:tgtEl>
                                    <p:spTgt spid="4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Popup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29-3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46 and 5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7164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onstruct each menu item and add to popup menu; also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able event handling for each menu item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fo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unt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count &lt; items.length; count++ )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items[ count ]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RadioButtonMenuItem( colors[ count ]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popupMenu.add( items[ count ]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colorGroup.add( items[ count ]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items[ count ].addActionListener( handler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etContentPane().setBackground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Color.WHI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declare a MouseListener for the window that display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 JPopupMenu when the popup trigger event occur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ddMouseListener(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ouseAdapter() {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nonymous inner cla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handle mouse press even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ousePressed( Mouse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{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checkForTriggerEvent( event );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}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handle mouse release even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ouseReleased( Mouse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{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checkForTriggerEvent( event );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}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962160" y="1066680"/>
            <a:ext cx="4496040" cy="733320"/>
            <a:chOff x="3962160" y="1066680"/>
            <a:chExt cx="4496040" cy="733320"/>
          </a:xfrm>
        </p:grpSpPr>
        <p:sp>
          <p:nvSpPr>
            <p:cNvPr id="481" name=""/>
            <p:cNvSpPr/>
            <p:nvPr/>
          </p:nvSpPr>
          <p:spPr>
            <a:xfrm flipH="1" flipV="1">
              <a:off x="4419720" y="1066680"/>
              <a:ext cx="69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3962160" y="1371240"/>
              <a:ext cx="1143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56200" y="1219320"/>
              <a:ext cx="3402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RadioButtonMenuIte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 to add to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PopupMen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4190760" y="4495320"/>
            <a:ext cx="4038840" cy="1296360"/>
            <a:chOff x="4190760" y="4495320"/>
            <a:chExt cx="4038840" cy="1296360"/>
          </a:xfrm>
        </p:grpSpPr>
        <p:sp>
          <p:nvSpPr>
            <p:cNvPr id="485" name=""/>
            <p:cNvSpPr/>
            <p:nvPr/>
          </p:nvSpPr>
          <p:spPr>
            <a:xfrm>
              <a:off x="5791320" y="4724280"/>
              <a:ext cx="24382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rmine whether popup-trigger event occurred when user presses or releases mouse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4190760" y="4495320"/>
              <a:ext cx="1600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4190760" y="5257800"/>
              <a:ext cx="1600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3" dur="1" fill="hold"/>
                                  <p:tgtEl>
                                    <p:spTgt spid="4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Popup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59-6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4954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determine whether event should trigger popup menu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heckForTriggerEvent( Mouse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f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event.isPopupTrigger() )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   popupMenu.show(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      event.getComponent(), event.getX(), event.getY(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anonymous inner cla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);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all to addMouseListen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3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onstructor PopupTes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PopupTest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PopupTest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257800" y="1676520"/>
            <a:ext cx="3200400" cy="900000"/>
            <a:chOff x="5257800" y="1676520"/>
            <a:chExt cx="3200400" cy="900000"/>
          </a:xfrm>
        </p:grpSpPr>
        <p:sp>
          <p:nvSpPr>
            <p:cNvPr id="491" name=""/>
            <p:cNvSpPr/>
            <p:nvPr/>
          </p:nvSpPr>
          <p:spPr>
            <a:xfrm>
              <a:off x="6172200" y="175248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w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PopupMen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popup-trigger (right-mouse click) occur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5257800" y="16765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2" dur="1" fill="hold"/>
                                  <p:tgtEl>
                                    <p:spTgt spid="4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Popup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8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8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358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private inner class to handle menu item even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ItemHandler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lement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ActionListener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process menu item selection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actionPerformed( Action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determine which menu item was selected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fo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i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i &lt; items.length; i++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f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event.getSource() == items[ i ] )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getContentPane().setBackground( colorValues[ i ]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return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private inner class ItemHandl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lass PopupTes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4952880" y="609480"/>
            <a:ext cx="3733920" cy="580680"/>
            <a:chOff x="4952880" y="609480"/>
            <a:chExt cx="3733920" cy="580680"/>
          </a:xfrm>
        </p:grpSpPr>
        <p:sp>
          <p:nvSpPr>
            <p:cNvPr id="496" name=""/>
            <p:cNvSpPr/>
            <p:nvPr/>
          </p:nvSpPr>
          <p:spPr>
            <a:xfrm flipH="1">
              <a:off x="4952880" y="914400"/>
              <a:ext cx="1059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13440" y="609480"/>
              <a:ext cx="2673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d when user select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RadioButtonMenuI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4648320" y="2285640"/>
            <a:ext cx="3809880" cy="1437120"/>
            <a:chOff x="4648320" y="2285640"/>
            <a:chExt cx="3809880" cy="1437120"/>
          </a:xfrm>
        </p:grpSpPr>
        <p:sp>
          <p:nvSpPr>
            <p:cNvPr id="499" name=""/>
            <p:cNvSpPr/>
            <p:nvPr/>
          </p:nvSpPr>
          <p:spPr>
            <a:xfrm>
              <a:off x="4648320" y="2898720"/>
              <a:ext cx="3809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rmine which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RadioButtonMenuIte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as selected, then set window background col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5638320" y="2285640"/>
              <a:ext cx="838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419040" y="4191120"/>
            <a:ext cx="2857680" cy="19047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3772080" y="4191120"/>
            <a:ext cx="2857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4.9  Pluggable Look-and-Fee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ggable look-and-f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 look-and-feel dynamic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Microsoft Windows look-and-feel to Motif look-and-fe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ing the look and feel by clicking on radio but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3276360" cy="218448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3"/>
          <a:stretch/>
        </p:blipFill>
        <p:spPr>
          <a:xfrm>
            <a:off x="4572000" y="4343400"/>
            <a:ext cx="3276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Lucida Console"/>
              </a:rPr>
              <a:t>JTextArea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ing selected text from one text area to another text area. An event comes from a but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4572000" cy="2151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52480" y="4343400"/>
            <a:ext cx="45720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LookAndFeelDemo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335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Fig. 14.11: LookAndFeelDemo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hanging the look and feel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LookAndFeelDemo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Frame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final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String strings[] = {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Metal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Motif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Windows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}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UIManager.LookAndFeelInfo looks[]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RadioButton radio[]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ButtonGroup group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Button button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Label label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ComboBox comboBox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GUI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LookAndFeelDemo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Look and Feel Demo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tainer container = getContentPane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panel for NORTH of BorderLayou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Panel northPanel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Panel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northPanel.setLayout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GridLayou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3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5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190760" y="2016000"/>
            <a:ext cx="4191120" cy="565920"/>
            <a:chOff x="4190760" y="2016000"/>
            <a:chExt cx="4191120" cy="565920"/>
          </a:xfrm>
        </p:grpSpPr>
        <p:sp>
          <p:nvSpPr>
            <p:cNvPr id="513" name=""/>
            <p:cNvSpPr/>
            <p:nvPr/>
          </p:nvSpPr>
          <p:spPr>
            <a:xfrm>
              <a:off x="4800600" y="2244600"/>
              <a:ext cx="3581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ld installed look-and-feel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flipV="1">
              <a:off x="4190760" y="201600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2" dur="1" fill="hold"/>
                                  <p:tgtEl>
                                    <p:spTgt spid="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LookAndFeelDemo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4878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label for NORTH panel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label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Label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This is a Metal look-and-feel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 SwingConstants.CENT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northPanel.add( label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button for NORTH panel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butt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JButton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northPanel.add( button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combo box for NORTH panel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mboBox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ComboBox( strings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northPanel.add( comboBox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reate array for radio button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radio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RadioButton[ strings.length ]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panel for SOUTH of BorderLayou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Panel southPanel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Panel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outhPanel.setLayout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GridLayou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radio.length 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radio buttons for SOUTH panel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roup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ButtonGroup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ItemHandler handler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ItemHandler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LookAndFeelDemo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4954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fo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unt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count &lt; radio.length; count++ )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radio[ count ]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RadioButton( strings[ count ]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radio[ count ].addItemListener( handler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group.add( radio[ count ]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southPanel.add( radio[ count ]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ttach NORTH and SOUTH panels to content pane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tainer.add( northPanel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BorderLayout.NORTH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tainer.add( southPanel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BorderLayout.SOUTH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get installed look-and-feel information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looks = UIManager.getInstalledLookAndFeels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3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radio[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].setSelected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onstructor LookAndFeelDemo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use UIManager to change look-and-feel of GUI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hangeTheLookAndFeel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value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3962160" y="2895480"/>
            <a:ext cx="4191120" cy="809280"/>
            <a:chOff x="3962160" y="2895480"/>
            <a:chExt cx="4191120" cy="809280"/>
          </a:xfrm>
        </p:grpSpPr>
        <p:sp>
          <p:nvSpPr>
            <p:cNvPr id="520" name=""/>
            <p:cNvSpPr/>
            <p:nvPr/>
          </p:nvSpPr>
          <p:spPr>
            <a:xfrm>
              <a:off x="4572000" y="3124080"/>
              <a:ext cx="3581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 array of objects that describes each look-and-feel available on your syste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>
              <a:off x="3962160" y="289548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2742840" y="4952880"/>
            <a:ext cx="4191120" cy="809280"/>
            <a:chOff x="2742840" y="4952880"/>
            <a:chExt cx="4191120" cy="809280"/>
          </a:xfrm>
        </p:grpSpPr>
        <p:sp>
          <p:nvSpPr>
            <p:cNvPr id="523" name=""/>
            <p:cNvSpPr/>
            <p:nvPr/>
          </p:nvSpPr>
          <p:spPr>
            <a:xfrm>
              <a:off x="3352680" y="5181480"/>
              <a:ext cx="3581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will be called when we press a radio butt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flipV="1">
              <a:off x="2742840" y="495288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LookAndFeelDemo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77-7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335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hange look and feel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y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UIManager.setLookAndFeel( looks[ value ].getClassName(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SwingUtilities.updateComponentTreeUI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hi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process problems changing look and feel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catch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Exception exception )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exception.printStackTrace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LookAndFeelDemo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LookAndFeelDemo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private inner class to handle radio button even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ItemHandler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lement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ItemListener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process user's look-and-feel selection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itemStateChanged( Item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fo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unt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count &lt; radio.length; count++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0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028840" y="914400"/>
            <a:ext cx="3124440" cy="1204920"/>
            <a:chOff x="5028840" y="914400"/>
            <a:chExt cx="3124440" cy="1204920"/>
          </a:xfrm>
        </p:grpSpPr>
        <p:sp>
          <p:nvSpPr>
            <p:cNvPr id="528" name=""/>
            <p:cNvSpPr/>
            <p:nvPr/>
          </p:nvSpPr>
          <p:spPr>
            <a:xfrm>
              <a:off x="6172200" y="1295280"/>
              <a:ext cx="1981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nge look-and-fee, choosing from the contents of looks[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flipV="1">
              <a:off x="5028840" y="91440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114440" y="1828800"/>
            <a:ext cx="4191120" cy="1052640"/>
            <a:chOff x="4114440" y="1828800"/>
            <a:chExt cx="4191120" cy="1052640"/>
          </a:xfrm>
        </p:grpSpPr>
        <p:sp>
          <p:nvSpPr>
            <p:cNvPr id="531" name=""/>
            <p:cNvSpPr/>
            <p:nvPr/>
          </p:nvSpPr>
          <p:spPr>
            <a:xfrm>
              <a:off x="4724280" y="2057400"/>
              <a:ext cx="3581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ed to handle exception because it may try to change to the non-existing look-and-fe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flipV="1">
              <a:off x="4114440" y="182880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LookAndFeelDemo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23637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1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f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radio[ count ].isSelected() )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2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label.setTex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This is a 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+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3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   strings[ count ] +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 look-and-feel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4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comboBox.setSelectedIndex( count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5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changeTheLookAndFeel( count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6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7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8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9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private inner class ItemHandl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0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1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lass LookAndFeelDemo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3809880" y="26668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2095560" y="472428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4.10  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JDesktopPan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JInternalFram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document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in (parent) wind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ild windo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witch freely among doc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 child window with a random image in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752480" y="1752480"/>
            <a:ext cx="5410080" cy="4724280"/>
            <a:chOff x="1752480" y="1752480"/>
            <a:chExt cx="5410080" cy="472428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1752480" y="2018520"/>
              <a:ext cx="5011200" cy="38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1886040" y="3381120"/>
              <a:ext cx="427464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620800" y="1752480"/>
              <a:ext cx="1001880" cy="1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Internal Fr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42800" y="1929600"/>
              <a:ext cx="45720" cy="421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759" y="1997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42800" y="1929600"/>
              <a:ext cx="1348200" cy="415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19973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088440" y="5916960"/>
              <a:ext cx="360" cy="193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4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426280" y="1819080"/>
              <a:ext cx="534240" cy="1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Minim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94080" y="1819080"/>
              <a:ext cx="578520" cy="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Maxim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61880" y="1819080"/>
              <a:ext cx="4006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20120" y="6144480"/>
              <a:ext cx="1536120" cy="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Minimized internal fr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25080" y="6011280"/>
              <a:ext cx="23374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Position the mouse over any corner of a child window to resize the window (if resizing is allowed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26960" y="5567760"/>
              <a:ext cx="701280" cy="443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4" y="0"/>
                  </a:moveTo>
                  <a:lnTo>
                    <a:pt x="0" y="1996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693400" y="1963080"/>
              <a:ext cx="407520" cy="454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3" y="19976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18360" y="1996200"/>
              <a:ext cx="42840" cy="421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4"/>
                  </a:moveTo>
                  <a:lnTo>
                    <a:pt x="1974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600600" y="1957680"/>
              <a:ext cx="353160" cy="460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6"/>
                  </a:moveTo>
                  <a:lnTo>
                    <a:pt x="1996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88440" y="5878080"/>
              <a:ext cx="556560" cy="255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0" y="0"/>
                  </a:moveTo>
                  <a:lnTo>
                    <a:pt x="0" y="1995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82680" y="5911560"/>
              <a:ext cx="1408320" cy="216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0" y="1994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Desktop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564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Fig. 14.12: DesktopTest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Demonstrating JDesktopPane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DesktopTest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Frame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DesktopPane theDesktop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GUI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DesktopTest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Using a JDesktopPan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reate menu bar, menu and menu item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MenuBar bar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MenuBar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Menu addMenu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Menu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Add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MenuItem newFrame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MenuItem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Internal Fram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ddMenu.add( newFrame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bar.add( addMenu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JMenuBar( bar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desktop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theDesktop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DesktopPane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etContentPane().add( theDesktop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3352680" y="1467000"/>
            <a:ext cx="4495680" cy="580680"/>
            <a:chOff x="3352680" y="1467000"/>
            <a:chExt cx="4495680" cy="580680"/>
          </a:xfrm>
        </p:grpSpPr>
        <p:sp>
          <p:nvSpPr>
            <p:cNvPr id="563" name=""/>
            <p:cNvSpPr/>
            <p:nvPr/>
          </p:nvSpPr>
          <p:spPr>
            <a:xfrm>
              <a:off x="4343400" y="1467000"/>
              <a:ext cx="3504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age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hild windows displayed in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DesktopP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3352680" y="17719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3809880" y="3962520"/>
            <a:ext cx="2133720" cy="1066680"/>
            <a:chOff x="3809880" y="3962520"/>
            <a:chExt cx="2133720" cy="1066680"/>
          </a:xfrm>
        </p:grpSpPr>
        <p:sp>
          <p:nvSpPr>
            <p:cNvPr id="566" name=""/>
            <p:cNvSpPr/>
            <p:nvPr/>
          </p:nvSpPr>
          <p:spPr>
            <a:xfrm>
              <a:off x="3809880" y="3962520"/>
              <a:ext cx="21337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12400" y="396252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687920" y="39625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410080" y="3962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09880" y="4267080"/>
              <a:ext cx="16002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560" y="4267080"/>
              <a:ext cx="157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ernal 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7" dur="1" fill="hold"/>
                                  <p:tgtEl>
                                    <p:spTgt spid="5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Desktop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3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3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38-3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43-4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4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564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listener for newFrame menu item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newFrame.addActionListener(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ActionListener() {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nonymous inner cla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display new internal window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actionPerformed( ActionEvent event )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reate internal frame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JInternalFrame frame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InternalFrame(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Internal Fram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ttach panel to internal frame content pane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Container container = frame.getContentPane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MyJPanel panel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yJPanel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container.add( panel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BorderLayout.CENT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size internal frame to size of its conten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frame.pack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ttach internal frame to desktop and show i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theDesktop.add( frame );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frame.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anonymous inner cla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3200400" y="457200"/>
            <a:ext cx="3657600" cy="580680"/>
            <a:chOff x="3200400" y="457200"/>
            <a:chExt cx="3657600" cy="580680"/>
          </a:xfrm>
        </p:grpSpPr>
        <p:sp>
          <p:nvSpPr>
            <p:cNvPr id="575" name=""/>
            <p:cNvSpPr/>
            <p:nvPr/>
          </p:nvSpPr>
          <p:spPr>
            <a:xfrm>
              <a:off x="4648320" y="45720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ndle event when user select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MenuI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3200400" y="7617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5638680" y="1447920"/>
            <a:ext cx="2590920" cy="580680"/>
            <a:chOff x="5638680" y="1447920"/>
            <a:chExt cx="2590920" cy="580680"/>
          </a:xfrm>
        </p:grpSpPr>
        <p:sp>
          <p:nvSpPr>
            <p:cNvPr id="578" name=""/>
            <p:cNvSpPr/>
            <p:nvPr/>
          </p:nvSpPr>
          <p:spPr>
            <a:xfrm flipH="1">
              <a:off x="5638680" y="1752480"/>
              <a:ext cx="67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318360" y="1447920"/>
              <a:ext cx="1911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d when user select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MenuI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562360" y="2438280"/>
            <a:ext cx="3124080" cy="337320"/>
            <a:chOff x="5562360" y="2438280"/>
            <a:chExt cx="3124080" cy="337320"/>
          </a:xfrm>
        </p:grpSpPr>
        <p:sp>
          <p:nvSpPr>
            <p:cNvPr id="581" name=""/>
            <p:cNvSpPr/>
            <p:nvPr/>
          </p:nvSpPr>
          <p:spPr>
            <a:xfrm>
              <a:off x="6172200" y="2438280"/>
              <a:ext cx="2514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Internal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5562360" y="2590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2743200" y="3886200"/>
            <a:ext cx="5257800" cy="580680"/>
            <a:chOff x="2743200" y="3886200"/>
            <a:chExt cx="5257800" cy="580680"/>
          </a:xfrm>
        </p:grpSpPr>
        <p:sp>
          <p:nvSpPr>
            <p:cNvPr id="584" name=""/>
            <p:cNvSpPr/>
            <p:nvPr/>
          </p:nvSpPr>
          <p:spPr>
            <a:xfrm>
              <a:off x="6477120" y="3886200"/>
              <a:ext cx="1523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preferred size for wind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2743200" y="4191120"/>
              <a:ext cx="373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333760" y="2990880"/>
            <a:ext cx="3581280" cy="824040"/>
            <a:chOff x="5333760" y="2990880"/>
            <a:chExt cx="3581280" cy="824040"/>
          </a:xfrm>
        </p:grpSpPr>
        <p:sp>
          <p:nvSpPr>
            <p:cNvPr id="587" name=""/>
            <p:cNvSpPr/>
            <p:nvPr/>
          </p:nvSpPr>
          <p:spPr>
            <a:xfrm>
              <a:off x="6181200" y="2990880"/>
              <a:ext cx="2733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(we use it to contain the random picture) can be added to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Internal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333760" y="3295440"/>
              <a:ext cx="826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312408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siz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648320" y="26668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miz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114800" y="25146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xmiz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657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lo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733560" y="4724280"/>
            <a:ext cx="3733560" cy="824040"/>
            <a:chOff x="3733560" y="4724280"/>
            <a:chExt cx="3733560" cy="824040"/>
          </a:xfrm>
        </p:grpSpPr>
        <p:sp>
          <p:nvSpPr>
            <p:cNvPr id="594" name=""/>
            <p:cNvSpPr/>
            <p:nvPr/>
          </p:nvSpPr>
          <p:spPr>
            <a:xfrm>
              <a:off x="6385320" y="4724280"/>
              <a:ext cx="108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st also set visi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3733560" y="5029200"/>
              <a:ext cx="265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6" dur="1" fill="hold"/>
                                  <p:tgtEl>
                                    <p:spTgt spid="5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DesktopTest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1069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);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all to addActionListen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6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46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onstructo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DesktopTest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DesktopTest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lass DesktopTes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1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lass to display an ImageIcon on a panel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2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yJPanel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Panel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ImageIcon imageIcon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String[] images = {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yellowflowers.png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purpleflowers.png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redflowers.png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redflowers2.png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lavenderflowers.png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}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load image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yJPanel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TextAreaDemo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1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18-2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18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Fig. 14.1: TextAreaDemo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opying selected text from one textarea to another.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TextAreaDemo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Frame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TextArea textArea1, textArea2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Button copyButton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GUI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TextAreaDemo()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TextArea Demo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Box box = Box.createHorizontalBox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tring string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This is a demo string to\n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+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illustrate copying text\nfrom one textarea to \n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+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another textarea using an\nexternal event\n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textArea1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textArea1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TextArea( string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5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box.add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ScrollPane( textArea1 ) );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886200" y="2286000"/>
            <a:ext cx="3995640" cy="990720"/>
            <a:chOff x="3886200" y="2286000"/>
            <a:chExt cx="3995640" cy="990720"/>
          </a:xfrm>
        </p:grpSpPr>
        <p:sp>
          <p:nvSpPr>
            <p:cNvPr id="103" name=""/>
            <p:cNvSpPr/>
            <p:nvPr/>
          </p:nvSpPr>
          <p:spPr>
            <a:xfrm flipH="1">
              <a:off x="3886200" y="2590920"/>
              <a:ext cx="1295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81480" y="2286000"/>
              <a:ext cx="2700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er for organizing GUI compon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571640" y="4495680"/>
            <a:ext cx="3353040" cy="732960"/>
            <a:chOff x="4571640" y="4495680"/>
            <a:chExt cx="3353040" cy="732960"/>
          </a:xfrm>
        </p:grpSpPr>
        <p:sp>
          <p:nvSpPr>
            <p:cNvPr id="106" name=""/>
            <p:cNvSpPr/>
            <p:nvPr/>
          </p:nvSpPr>
          <p:spPr>
            <a:xfrm flipH="1">
              <a:off x="4571640" y="4952880"/>
              <a:ext cx="7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49960" y="4647960"/>
              <a:ext cx="2574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pul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Tex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then add to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4571640" y="449568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343400" y="4952520"/>
            <a:ext cx="3200040" cy="850680"/>
            <a:chOff x="4343400" y="4952520"/>
            <a:chExt cx="3200040" cy="850680"/>
          </a:xfrm>
        </p:grpSpPr>
        <p:sp>
          <p:nvSpPr>
            <p:cNvPr id="110" name=""/>
            <p:cNvSpPr/>
            <p:nvPr/>
          </p:nvSpPr>
          <p:spPr>
            <a:xfrm flipH="1" flipV="1">
              <a:off x="4343400" y="4952520"/>
              <a:ext cx="879840" cy="85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3240" y="5208120"/>
              <a:ext cx="232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w and column respective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514240" y="5181480"/>
            <a:ext cx="4114440" cy="1161360"/>
            <a:chOff x="2514240" y="5181480"/>
            <a:chExt cx="4114440" cy="1161360"/>
          </a:xfrm>
        </p:grpSpPr>
        <p:sp>
          <p:nvSpPr>
            <p:cNvPr id="113" name=""/>
            <p:cNvSpPr/>
            <p:nvPr/>
          </p:nvSpPr>
          <p:spPr>
            <a:xfrm>
              <a:off x="4019760" y="5762160"/>
              <a:ext cx="2608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crollbar only shows up if need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2514240" y="5181480"/>
              <a:ext cx="1505160" cy="81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" dur="1" fill="hold"/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DesktopTest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45734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randomNumber = 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 ( Math.random() *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5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imageIc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ImageIcon( images[ randomNumber ]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display imageIcon on panel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paintComponent( Graphics g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all superclass paintComponent method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.paintComponent( g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display icon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imageIcon.paintIcon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hi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g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return image dimension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Dimension getPreferredSize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return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Dimension( imageIcon.getIconWidth(),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imageIcon.getIconHeight() );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0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1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lass MyJPanel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DesktopTest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304920" y="533520"/>
            <a:ext cx="6705000" cy="5943240"/>
            <a:chOff x="304920" y="533520"/>
            <a:chExt cx="6705000" cy="5943240"/>
          </a:xfrm>
        </p:grpSpPr>
        <p:pic>
          <p:nvPicPr>
            <p:cNvPr id="602" name="" descr=""/>
            <p:cNvPicPr/>
            <p:nvPr/>
          </p:nvPicPr>
          <p:blipFill>
            <a:blip r:embed="rId1"/>
            <a:stretch/>
          </p:blipFill>
          <p:spPr>
            <a:xfrm>
              <a:off x="304920" y="868320"/>
              <a:ext cx="6210360" cy="485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70520" y="2582280"/>
              <a:ext cx="5297760" cy="38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380960" y="533520"/>
              <a:ext cx="124164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Internal Fr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027880" y="756360"/>
              <a:ext cx="56520" cy="530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759" y="1997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027880" y="756360"/>
              <a:ext cx="1671120" cy="523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19973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60560" y="5772600"/>
              <a:ext cx="360" cy="243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4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57840" y="617040"/>
              <a:ext cx="66204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Minim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685840" y="617040"/>
              <a:ext cx="717120" cy="1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Maxim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513480" y="617040"/>
              <a:ext cx="4964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84520" y="6058440"/>
              <a:ext cx="190368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Minimized internal fr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13000" y="5891040"/>
              <a:ext cx="28969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Position the mouse over any corner of a child window to resize the window (if resizing is allowed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54640" y="5333040"/>
              <a:ext cx="869400" cy="558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4" y="0"/>
                  </a:moveTo>
                  <a:lnTo>
                    <a:pt x="0" y="1996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189040" y="798480"/>
              <a:ext cx="505080" cy="57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3" y="19976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63400" y="840240"/>
              <a:ext cx="52920" cy="530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4"/>
                  </a:moveTo>
                  <a:lnTo>
                    <a:pt x="1974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13680" y="791640"/>
              <a:ext cx="437760" cy="578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6"/>
                  </a:moveTo>
                  <a:lnTo>
                    <a:pt x="1996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60560" y="5723640"/>
              <a:ext cx="689760" cy="321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0" y="0"/>
                  </a:moveTo>
                  <a:lnTo>
                    <a:pt x="0" y="1995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953720" y="5765400"/>
              <a:ext cx="1745280" cy="271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0" y="1994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DesktopTest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5716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4.11  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JTabbedPan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UI components into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layer visible at a ti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each layer via a tab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JTabbedPa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Lucida Console"/>
              </a:rPr>
              <a:t>JTabbedPane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3371760" cy="269712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3371760" cy="269712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3"/>
          <a:stretch/>
        </p:blipFill>
        <p:spPr>
          <a:xfrm>
            <a:off x="2743200" y="3733920"/>
            <a:ext cx="337176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TabbedPaneDemo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1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2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2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564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Fig. 14.13: JTabbedPaneDemo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Demonstrating JTabbedPane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5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6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TabbedPaneDemo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Frame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7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GUI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9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TabbedPaneDemo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1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JTabbedPane Demo "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1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13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// create JTabbedPane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1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TabbedPane tabbedPane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TabbedPane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1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16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// set up pane11 and add it to JTabbedPane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1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Label label1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Label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panel on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SwingConstants.CENT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1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Panel panel1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Panel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1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panel1.add( label1 );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2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tabbedPane.addTab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Tab On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ull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panel1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First Panel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22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// set up panel2 and add it to JTabbedPane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2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Label label2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Label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panel two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SwingConstants.CENT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2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Panel panel2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Panel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panel2.setBackground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Color.YELLO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2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panel2.add( label2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Times New Roman"/>
              </a:rPr>
              <a:t>2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tabbedPane.addTab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Tab Two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ull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panel2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Second Panel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495320" y="2666880"/>
            <a:ext cx="3429360" cy="580680"/>
            <a:chOff x="4495320" y="2666880"/>
            <a:chExt cx="3429360" cy="580680"/>
          </a:xfrm>
        </p:grpSpPr>
        <p:sp>
          <p:nvSpPr>
            <p:cNvPr id="631" name=""/>
            <p:cNvSpPr/>
            <p:nvPr/>
          </p:nvSpPr>
          <p:spPr>
            <a:xfrm flipH="1" flipV="1">
              <a:off x="4495320" y="2971800"/>
              <a:ext cx="176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248520" y="2666880"/>
              <a:ext cx="1676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TabbedP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4495320" y="3540240"/>
            <a:ext cx="3657960" cy="574560"/>
            <a:chOff x="4495320" y="3540240"/>
            <a:chExt cx="3657960" cy="574560"/>
          </a:xfrm>
        </p:grpSpPr>
        <p:sp>
          <p:nvSpPr>
            <p:cNvPr id="634" name=""/>
            <p:cNvSpPr/>
            <p:nvPr/>
          </p:nvSpPr>
          <p:spPr>
            <a:xfrm flipH="1">
              <a:off x="4495320" y="3735360"/>
              <a:ext cx="176076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248520" y="3540240"/>
              <a:ext cx="19047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the first pa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19720" y="4952880"/>
            <a:ext cx="3809880" cy="533520"/>
            <a:chOff x="4419720" y="4952880"/>
            <a:chExt cx="3809880" cy="533520"/>
          </a:xfrm>
        </p:grpSpPr>
        <p:sp>
          <p:nvSpPr>
            <p:cNvPr id="637" name=""/>
            <p:cNvSpPr/>
            <p:nvPr/>
          </p:nvSpPr>
          <p:spPr>
            <a:xfrm flipH="1">
              <a:off x="4419720" y="5181480"/>
              <a:ext cx="1752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172200" y="495288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the second pa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2286360" y="426708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xt on t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200760" y="426708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ab 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581640" y="4191120"/>
            <a:ext cx="130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to dis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02760" y="4191120"/>
            <a:ext cx="73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ol t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95" dur="1" fill="hold"/>
                                  <p:tgtEl>
                                    <p:spTgt spid="6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TabbedPaneDemo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3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564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// set up panel3 and add it to JTabbedPane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Label label3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Label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panel thre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Panel panel3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Panel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panel3.setLayout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BorderLayout() );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panel3.add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North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BorderLayout.NORTH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panel3.add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West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BorderLayout.WEST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panel3.add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East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BorderLayout.EAS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panel3.add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South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BorderLayout.SOUTH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panel3.add( label3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BorderLayout.CENT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tabbedPane.addTab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Tab Thre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ull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panel3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Third Panel"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// add JTabbedPane to contain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etContentPane().add( tabbedPane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5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onstructo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TabbedPaneDemo tabbedPaneDemo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TabbedPaneDemo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tabbedPaneDemo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lass CardDeck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419720" y="2514240"/>
            <a:ext cx="3962160" cy="448920"/>
            <a:chOff x="4419720" y="2514240"/>
            <a:chExt cx="3962160" cy="448920"/>
          </a:xfrm>
        </p:grpSpPr>
        <p:sp>
          <p:nvSpPr>
            <p:cNvPr id="646" name=""/>
            <p:cNvSpPr/>
            <p:nvPr/>
          </p:nvSpPr>
          <p:spPr>
            <a:xfrm flipH="1" flipV="1">
              <a:off x="4419720" y="2514240"/>
              <a:ext cx="1828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248520" y="2625840"/>
              <a:ext cx="21333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the third pa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4.12  Layout Managers: 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BoxLayou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ridBagLayo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yout Ma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BoxLay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GridBagLay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. 14.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ditional layout manag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990720" y="2286000"/>
          <a:ext cx="6773760" cy="182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0"/>
                    <a:ext cx="677376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BoxLayou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Layout Manag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Box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nges GUI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izontally along x-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tically along y-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TextAreaDemo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3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44-4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335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copyButton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pyButt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Copy &gt;&gt;&gt;"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box.add( copyButton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pyButton.addActionListener(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ActionListener() {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nonymous inner class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text in textArea2 to selected text from textArea1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actionPerformed( Action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textArea2.setText( textArea1.getSelectedText(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anonymous inner cla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);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all to addActionListen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textArea2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textArea2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TextArea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5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textArea2.setEdita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fal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box.add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ScrollPane( textArea2 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dd box to content pane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tainer container = getContentPane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tainer.add( box );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place in BorderLayout.CENT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892760" y="2473200"/>
            <a:ext cx="3657600" cy="2193480"/>
            <a:chOff x="4892760" y="2473200"/>
            <a:chExt cx="3657600" cy="2193480"/>
          </a:xfrm>
        </p:grpSpPr>
        <p:sp>
          <p:nvSpPr>
            <p:cNvPr id="118" name=""/>
            <p:cNvSpPr/>
            <p:nvPr/>
          </p:nvSpPr>
          <p:spPr>
            <a:xfrm flipH="1" flipV="1">
              <a:off x="4892760" y="2473200"/>
              <a:ext cx="861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54600" y="2625840"/>
              <a:ext cx="279576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presse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textArea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s highlighted text is copied into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textArea2. Since there is no way to tell if the selection has finished, we must use button ev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514240" y="5181120"/>
            <a:ext cx="4114440" cy="1405080"/>
            <a:chOff x="2514240" y="5181120"/>
            <a:chExt cx="4114440" cy="1405080"/>
          </a:xfrm>
        </p:grpSpPr>
        <p:sp>
          <p:nvSpPr>
            <p:cNvPr id="121" name=""/>
            <p:cNvSpPr/>
            <p:nvPr/>
          </p:nvSpPr>
          <p:spPr>
            <a:xfrm>
              <a:off x="4019760" y="5762160"/>
              <a:ext cx="2608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will be placed at the center of border layout by defau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2514240" y="5181120"/>
              <a:ext cx="1505160" cy="81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Lucida Console"/>
              </a:rPr>
              <a:t>BoxLayout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3809880" cy="2095560"/>
          </a:xfrm>
          <a:prstGeom prst="rect">
            <a:avLst/>
          </a:prstGeom>
          <a:ln w="0">
            <a:noFill/>
          </a:ln>
        </p:spPr>
      </p:pic>
      <p:grpSp>
        <p:nvGrpSpPr>
          <p:cNvPr id="657" name=""/>
          <p:cNvGrpSpPr/>
          <p:nvPr/>
        </p:nvGrpSpPr>
        <p:grpSpPr>
          <a:xfrm>
            <a:off x="685800" y="3886200"/>
            <a:ext cx="6858000" cy="2095560"/>
            <a:chOff x="685800" y="3886200"/>
            <a:chExt cx="6858000" cy="209556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tretch/>
          </p:blipFill>
          <p:spPr>
            <a:xfrm>
              <a:off x="685800" y="3886200"/>
              <a:ext cx="38098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1581120" y="4765680"/>
              <a:ext cx="166680" cy="282600"/>
            </a:xfrm>
            <a:custGeom>
              <a:avLst/>
              <a:gdLst/>
              <a:ahLst/>
              <a:rect l="l" t="t" r="r" b="b"/>
              <a:pathLst>
                <a:path w="105" h="178">
                  <a:moveTo>
                    <a:pt x="4" y="6"/>
                  </a:moveTo>
                  <a:cubicBezTo>
                    <a:pt x="20" y="9"/>
                    <a:pt x="45" y="0"/>
                    <a:pt x="53" y="14"/>
                  </a:cubicBezTo>
                  <a:cubicBezTo>
                    <a:pt x="105" y="108"/>
                    <a:pt x="0" y="66"/>
                    <a:pt x="70" y="88"/>
                  </a:cubicBezTo>
                  <a:cubicBezTo>
                    <a:pt x="67" y="96"/>
                    <a:pt x="65" y="105"/>
                    <a:pt x="61" y="113"/>
                  </a:cubicBezTo>
                  <a:cubicBezTo>
                    <a:pt x="57" y="122"/>
                    <a:pt x="49" y="128"/>
                    <a:pt x="45" y="137"/>
                  </a:cubicBezTo>
                  <a:cubicBezTo>
                    <a:pt x="32" y="168"/>
                    <a:pt x="43" y="178"/>
                    <a:pt x="4" y="1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371600" y="4724280"/>
              <a:ext cx="6172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ut is a distance that does not change even when the component is resiz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Lucida Console"/>
              </a:rPr>
              <a:t>BoxLayout example cont.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3809880" cy="209556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1973160" y="2455920"/>
            <a:ext cx="457200" cy="125280"/>
          </a:xfrm>
          <a:custGeom>
            <a:avLst/>
            <a:gdLst/>
            <a:ahLst/>
            <a:rect l="l" t="t" r="r" b="b"/>
            <a:pathLst>
              <a:path w="288" h="79">
                <a:moveTo>
                  <a:pt x="0" y="0"/>
                </a:moveTo>
                <a:cubicBezTo>
                  <a:pt x="16" y="51"/>
                  <a:pt x="44" y="43"/>
                  <a:pt x="98" y="49"/>
                </a:cubicBezTo>
                <a:cubicBezTo>
                  <a:pt x="126" y="77"/>
                  <a:pt x="131" y="66"/>
                  <a:pt x="156" y="41"/>
                </a:cubicBezTo>
                <a:cubicBezTo>
                  <a:pt x="202" y="44"/>
                  <a:pt x="288" y="79"/>
                  <a:pt x="288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0880" y="2590920"/>
            <a:ext cx="7391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lue help spreading out the space. Glue will change size when the component is resiz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ut the component between glue will remain the same siz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3809880" cy="209556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1763640" y="4467240"/>
            <a:ext cx="104760" cy="130320"/>
          </a:xfrm>
          <a:custGeom>
            <a:avLst/>
            <a:gdLst/>
            <a:ahLst/>
            <a:rect l="l" t="t" r="r" b="b"/>
            <a:pathLst>
              <a:path w="66" h="82">
                <a:moveTo>
                  <a:pt x="0" y="0"/>
                </a:moveTo>
                <a:cubicBezTo>
                  <a:pt x="11" y="3"/>
                  <a:pt x="24" y="1"/>
                  <a:pt x="33" y="8"/>
                </a:cubicBezTo>
                <a:cubicBezTo>
                  <a:pt x="40" y="13"/>
                  <a:pt x="35" y="27"/>
                  <a:pt x="41" y="33"/>
                </a:cubicBezTo>
                <a:cubicBezTo>
                  <a:pt x="47" y="39"/>
                  <a:pt x="58" y="38"/>
                  <a:pt x="66" y="41"/>
                </a:cubicBezTo>
                <a:cubicBezTo>
                  <a:pt x="32" y="53"/>
                  <a:pt x="37" y="68"/>
                  <a:pt x="8" y="8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074320" y="4419720"/>
            <a:ext cx="45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igid  area always has fixed width and he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38102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BoxLayoutDemo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15-1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2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18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Fig. 14.15: BoxLayoutDemo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Demonstrating BoxLayout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BoxLayoutDemo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Frame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GUI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BoxLayoutDemo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Demostrating BoxLayout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reate Box containers with BoxLayou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Box horizontal1 = Box.createHorizontalBox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Box vertical1 = Box.createVerticalBox();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Box horizontal2 = Box.createHorizontalBox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Box vertical2 = Box.createVerticalBox();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final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SIZ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3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number of buttons on each Box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dd buttons to Box horizontal1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fo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unt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count &lt;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SIZ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count++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horizontal1.add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Button 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+ count 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4648320" y="3006720"/>
            <a:ext cx="4038480" cy="337320"/>
            <a:chOff x="4648320" y="3006720"/>
            <a:chExt cx="4038480" cy="337320"/>
          </a:xfrm>
        </p:grpSpPr>
        <p:sp>
          <p:nvSpPr>
            <p:cNvPr id="674" name=""/>
            <p:cNvSpPr/>
            <p:nvPr/>
          </p:nvSpPr>
          <p:spPr>
            <a:xfrm>
              <a:off x="6477120" y="300672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4648320" y="32004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5334120" y="4191120"/>
            <a:ext cx="2971800" cy="685800"/>
            <a:chOff x="5334120" y="4191120"/>
            <a:chExt cx="2971800" cy="685800"/>
          </a:xfrm>
        </p:grpSpPr>
        <p:sp>
          <p:nvSpPr>
            <p:cNvPr id="677" name=""/>
            <p:cNvSpPr/>
            <p:nvPr/>
          </p:nvSpPr>
          <p:spPr>
            <a:xfrm>
              <a:off x="6095880" y="419112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thre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o horizontal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5334120" y="4496040"/>
              <a:ext cx="761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5" dur="1" fill="hold"/>
                                  <p:tgtEl>
                                    <p:spTgt spid="6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BoxLayoutDemo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27-3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2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33-3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3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39-4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4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564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reate strut and add buttons to Box vertical1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fo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unt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count &lt;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SIZ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count++ )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vertical1.add( Box.createVerticalStru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5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 );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vertical1.add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Button 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+ count 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reate horizontal glue and add buttons to Box horizontal2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fo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unt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count &lt;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SIZ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count++ )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horizontal2.add( Box.createHorizontalGlue() );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horizontal2.add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Button 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+ count 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reate rigid area and add buttons to Box vertical2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fo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unt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count &lt;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SIZ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count++ )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vertical2.add( Box.createRigidArea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Dimens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2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8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 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vertical2.add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Button 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+ count ) );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reate vertical glue and add buttons to panel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Panel panel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Panel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panel.setLayout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BoxLayout( panel, BoxLayout.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Y_AXI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fo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unt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count &lt;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SIZ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count++ )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panel.add( Box.createGlue() );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panel.add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Button 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+ count 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4876920" y="152280"/>
            <a:ext cx="3809880" cy="337320"/>
            <a:chOff x="4876920" y="152280"/>
            <a:chExt cx="3809880" cy="337320"/>
          </a:xfrm>
        </p:grpSpPr>
        <p:sp>
          <p:nvSpPr>
            <p:cNvPr id="682" name=""/>
            <p:cNvSpPr/>
            <p:nvPr/>
          </p:nvSpPr>
          <p:spPr>
            <a:xfrm>
              <a:off x="5334120" y="152280"/>
              <a:ext cx="3352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thre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o vertical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4876920" y="30492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5105160" y="628560"/>
            <a:ext cx="3047760" cy="580680"/>
            <a:chOff x="5105160" y="628560"/>
            <a:chExt cx="3047760" cy="580680"/>
          </a:xfrm>
        </p:grpSpPr>
        <p:sp>
          <p:nvSpPr>
            <p:cNvPr id="685" name=""/>
            <p:cNvSpPr/>
            <p:nvPr/>
          </p:nvSpPr>
          <p:spPr>
            <a:xfrm>
              <a:off x="6095880" y="628560"/>
              <a:ext cx="2057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ut guarantees space between compon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 flipV="1">
              <a:off x="5105160" y="780840"/>
              <a:ext cx="9903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4800240" y="1371600"/>
            <a:ext cx="3505680" cy="580680"/>
            <a:chOff x="4800240" y="1371600"/>
            <a:chExt cx="3505680" cy="580680"/>
          </a:xfrm>
        </p:grpSpPr>
        <p:sp>
          <p:nvSpPr>
            <p:cNvPr id="688" name=""/>
            <p:cNvSpPr/>
            <p:nvPr/>
          </p:nvSpPr>
          <p:spPr>
            <a:xfrm>
              <a:off x="6096240" y="137160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thre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o horizontal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4800240" y="1676160"/>
              <a:ext cx="12956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028840" y="2000160"/>
            <a:ext cx="3657960" cy="656640"/>
            <a:chOff x="5028840" y="2000160"/>
            <a:chExt cx="3657960" cy="656640"/>
          </a:xfrm>
        </p:grpSpPr>
        <p:sp>
          <p:nvSpPr>
            <p:cNvPr id="691" name=""/>
            <p:cNvSpPr/>
            <p:nvPr/>
          </p:nvSpPr>
          <p:spPr>
            <a:xfrm>
              <a:off x="6172200" y="20761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lue guarantees expandable space between compon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 flipV="1">
              <a:off x="5028840" y="200016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4800240" y="2895480"/>
            <a:ext cx="3657960" cy="337320"/>
            <a:chOff x="4800240" y="2895480"/>
            <a:chExt cx="3657960" cy="337320"/>
          </a:xfrm>
        </p:grpSpPr>
        <p:sp>
          <p:nvSpPr>
            <p:cNvPr id="694" name=""/>
            <p:cNvSpPr/>
            <p:nvPr/>
          </p:nvSpPr>
          <p:spPr>
            <a:xfrm>
              <a:off x="5105520" y="2895480"/>
              <a:ext cx="3352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thre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o vertical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4800240" y="29718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647960" y="3276720"/>
            <a:ext cx="3200760" cy="657000"/>
            <a:chOff x="4647960" y="3276720"/>
            <a:chExt cx="3200760" cy="657000"/>
          </a:xfrm>
        </p:grpSpPr>
        <p:sp>
          <p:nvSpPr>
            <p:cNvPr id="697" name=""/>
            <p:cNvSpPr/>
            <p:nvPr/>
          </p:nvSpPr>
          <p:spPr>
            <a:xfrm>
              <a:off x="5791320" y="335304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igid area guarantees fixed componen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4647960" y="3276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9" dur="1" fill="hold"/>
                                  <p:tgtEl>
                                    <p:spTgt spid="6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BoxLayoutDemo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54-5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18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reate a JTabbedPane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TabbedPane tabs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TabbedPane(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JTabbedPane.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TOP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JTabbedPane.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SCROLL_TAB_LAYOU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place each container on tabbed pane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tabs.addTab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Horizontal Box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horizontal1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tabs.addTab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Vertical Box with Struts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vertical1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tabs.addTab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Horizontal Box with Glu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horizontal2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tabs.addTab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Vertical Box with Rigid Areas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vertical2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tabs.addTab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Vertical Box with Glu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panel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etContentPane().add( tabs );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place tabbed pane on content pane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4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2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onstructo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BoxLayoutDemo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BoxLayoutDemo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lass BoxLayoutDemo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885840" y="304920"/>
            <a:ext cx="4419720" cy="580680"/>
            <a:chOff x="3885840" y="304920"/>
            <a:chExt cx="4419720" cy="580680"/>
          </a:xfrm>
        </p:grpSpPr>
        <p:sp>
          <p:nvSpPr>
            <p:cNvPr id="702" name=""/>
            <p:cNvSpPr/>
            <p:nvPr/>
          </p:nvSpPr>
          <p:spPr>
            <a:xfrm>
              <a:off x="5867280" y="30492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TabbedPa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hold th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3885840" y="5335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GridBagLayout</a:t>
            </a:r>
            <a:r>
              <a:rPr b="0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ayout Manag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GridBag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lexible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GridBagLay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can vary in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can occupy multiple rows and 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can be added in any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GridBagConstrai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s how component is placed in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GridBag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. 14.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ing a GUI that will use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ridBagLayo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762120" y="1752480"/>
            <a:ext cx="7162200" cy="2742480"/>
            <a:chOff x="762120" y="1752480"/>
            <a:chExt cx="7162200" cy="2742480"/>
          </a:xfrm>
        </p:grpSpPr>
        <p:pic>
          <p:nvPicPr>
            <p:cNvPr id="708" name="" descr=""/>
            <p:cNvPicPr/>
            <p:nvPr/>
          </p:nvPicPr>
          <p:blipFill>
            <a:blip r:embed="rId1"/>
            <a:stretch/>
          </p:blipFill>
          <p:spPr>
            <a:xfrm>
              <a:off x="2878200" y="2971800"/>
              <a:ext cx="2857320" cy="142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9" name=""/>
            <p:cNvGrpSpPr/>
            <p:nvPr/>
          </p:nvGrpSpPr>
          <p:grpSpPr>
            <a:xfrm>
              <a:off x="762120" y="1752480"/>
              <a:ext cx="7162200" cy="2742480"/>
              <a:chOff x="762120" y="1752480"/>
              <a:chExt cx="7162200" cy="2742480"/>
            </a:xfrm>
          </p:grpSpPr>
          <p:sp>
            <p:nvSpPr>
              <p:cNvPr id="710" name=""/>
              <p:cNvSpPr/>
              <p:nvPr/>
            </p:nvSpPr>
            <p:spPr>
              <a:xfrm>
                <a:off x="762120" y="2252520"/>
                <a:ext cx="7162200" cy="22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80920" y="3477960"/>
                <a:ext cx="39960" cy="7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706560" y="1752480"/>
                <a:ext cx="42120" cy="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716840" y="3434040"/>
                <a:ext cx="5491080" cy="2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6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716840" y="4049280"/>
                <a:ext cx="5491080" cy="2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6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711800" y="3811320"/>
                <a:ext cx="549108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6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960480" y="3502800"/>
                <a:ext cx="3978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000" spc="-1" strike="noStrike">
                    <a:solidFill>
                      <a:srgbClr val="000000"/>
                    </a:solidFill>
                    <a:latin typeface="Arial"/>
                  </a:rPr>
                  <a:t>Ro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584520" y="2213280"/>
                <a:ext cx="755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000" spc="-1" strike="noStrike">
                    <a:solidFill>
                      <a:srgbClr val="000000"/>
                    </a:solidFill>
                    <a:latin typeface="Arial"/>
                  </a:rPr>
                  <a:t>Colum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836360" y="2262240"/>
                <a:ext cx="39240" cy="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865600" y="2431080"/>
                <a:ext cx="161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080" y="2431080"/>
                <a:ext cx="1612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865400" y="2431080"/>
                <a:ext cx="1612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482840" y="3046680"/>
                <a:ext cx="1594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482840" y="3301560"/>
                <a:ext cx="15948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482840" y="3654720"/>
                <a:ext cx="15948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482840" y="3877560"/>
                <a:ext cx="1594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716840" y="3201120"/>
                <a:ext cx="5491080" cy="25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6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7" name=""/>
              <p:cNvGrpSpPr/>
              <p:nvPr/>
            </p:nvGrpSpPr>
            <p:grpSpPr>
              <a:xfrm>
                <a:off x="2905560" y="2686320"/>
                <a:ext cx="2021400" cy="1765080"/>
                <a:chOff x="2905560" y="2686320"/>
                <a:chExt cx="2021400" cy="176508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4926240" y="2686320"/>
                  <a:ext cx="720" cy="17650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9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2905560" y="2686320"/>
                  <a:ext cx="1080" cy="17575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9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3961080" y="2686320"/>
                  <a:ext cx="720" cy="17650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9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. 14.1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ridBagConstrai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iel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732" name=""/>
          <p:cNvGraphicFramePr/>
          <p:nvPr/>
        </p:nvGraphicFramePr>
        <p:xfrm>
          <a:off x="914400" y="1606680"/>
          <a:ext cx="6791400" cy="319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6680"/>
                    <a:ext cx="6791400" cy="31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. 14.1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ridBagLay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ith the weights set to zer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2895480" y="2714760"/>
            <a:ext cx="28576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TextAreaDemo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2592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425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onstructor TextAreaDemo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TextAreaDemo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TextAreaDemo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lass TextAreaDemo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76520" y="3352680"/>
            <a:ext cx="457200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ridBagDemo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1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4878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Fig. 14.19: GridBagDemo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Demonstrating GridBagLayout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GridBagDemo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Frame {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ntainer container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GridBagLayout layout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GridBagConstraints constraints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GUI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GridBagDemo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GridBagLayout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tainer = getContentPane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layout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GridBagLayout();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tainer.setLayout( layout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instantiate gridbag constrain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straints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GridBagConstraints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reate GUI componen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TextArea textArea1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TextArea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TextArea1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5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TextArea textArea2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TextArea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TextArea2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3428640" y="3657600"/>
            <a:ext cx="4243680" cy="580680"/>
            <a:chOff x="3428640" y="3657600"/>
            <a:chExt cx="4243680" cy="580680"/>
          </a:xfrm>
        </p:grpSpPr>
        <p:sp>
          <p:nvSpPr>
            <p:cNvPr id="739" name=""/>
            <p:cNvSpPr/>
            <p:nvPr/>
          </p:nvSpPr>
          <p:spPr>
            <a:xfrm>
              <a:off x="5562360" y="3657600"/>
              <a:ext cx="2109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GridBagLay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layout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3428640" y="3962160"/>
              <a:ext cx="212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4190760" y="4343400"/>
            <a:ext cx="3886560" cy="824040"/>
            <a:chOff x="4190760" y="4343400"/>
            <a:chExt cx="3886560" cy="824040"/>
          </a:xfrm>
        </p:grpSpPr>
        <p:sp>
          <p:nvSpPr>
            <p:cNvPr id="742" name=""/>
            <p:cNvSpPr/>
            <p:nvPr/>
          </p:nvSpPr>
          <p:spPr>
            <a:xfrm>
              <a:off x="6248520" y="4343400"/>
              <a:ext cx="1828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d to determine component location and size in gr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 flipV="1">
              <a:off x="4190760" y="4571640"/>
              <a:ext cx="2057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9" dur="1" fill="hold"/>
                                  <p:tgtEl>
                                    <p:spTgt spid="7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ridBagDemo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3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3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42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4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5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4878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tring names[] = {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Iron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Steel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Brass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}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ComboBox comboBox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ComboBox( names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TextField textField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TextField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TextField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Button button1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Button 1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Button button2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Button 2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Button button3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Button 3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weightx and weighty for textArea1 are both 0: the defaul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nchor for all components is CENTER: the defaul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straints.fill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GridBagConstraints.BOTH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ddComponent( textArea1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3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weightx and weighty for button1 are both 0: the defaul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straints.fill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GridBagConstraints.HORIZONTAL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ddComponent( button1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weightx and weighty for comboBox are both 0: the defaul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fill is HORIZONTAL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ddComponent( comboBox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button2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straints.weightx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0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an grow wider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straints.weighty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an grow tall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straints.fill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GridBagConstraints.BOTH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ddComponent( button2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4114440" y="1676520"/>
            <a:ext cx="4115160" cy="914400"/>
            <a:chOff x="4114440" y="1676520"/>
            <a:chExt cx="4115160" cy="914400"/>
          </a:xfrm>
        </p:grpSpPr>
        <p:sp>
          <p:nvSpPr>
            <p:cNvPr id="747" name=""/>
            <p:cNvSpPr/>
            <p:nvPr/>
          </p:nvSpPr>
          <p:spPr>
            <a:xfrm flipH="1">
              <a:off x="4114440" y="1981440"/>
              <a:ext cx="1676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91320" y="167652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rst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Tex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pans one row and three colum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4495680" y="762120"/>
            <a:ext cx="3962520" cy="1600200"/>
            <a:chOff x="4495680" y="762120"/>
            <a:chExt cx="3962520" cy="1600200"/>
          </a:xfrm>
        </p:grpSpPr>
        <p:sp>
          <p:nvSpPr>
            <p:cNvPr id="750" name=""/>
            <p:cNvSpPr/>
            <p:nvPr/>
          </p:nvSpPr>
          <p:spPr>
            <a:xfrm>
              <a:off x="5867280" y="762120"/>
              <a:ext cx="259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user resize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ontai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first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Tex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filled entire allocated area in gr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4495680" y="1219320"/>
              <a:ext cx="13716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3962160" y="3048120"/>
            <a:ext cx="4419360" cy="580680"/>
            <a:chOff x="3962160" y="3048120"/>
            <a:chExt cx="4419360" cy="580680"/>
          </a:xfrm>
        </p:grpSpPr>
        <p:sp>
          <p:nvSpPr>
            <p:cNvPr id="753" name=""/>
            <p:cNvSpPr/>
            <p:nvPr/>
          </p:nvSpPr>
          <p:spPr>
            <a:xfrm flipH="1">
              <a:off x="3962160" y="33526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943600" y="3048120"/>
              <a:ext cx="2437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rst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pans two rows and one colum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5029200" y="2286000"/>
            <a:ext cx="3200400" cy="914400"/>
            <a:chOff x="5029200" y="2286000"/>
            <a:chExt cx="3200400" cy="914400"/>
          </a:xfrm>
        </p:grpSpPr>
        <p:sp>
          <p:nvSpPr>
            <p:cNvPr id="756" name=""/>
            <p:cNvSpPr/>
            <p:nvPr/>
          </p:nvSpPr>
          <p:spPr>
            <a:xfrm flipH="1">
              <a:off x="5029200" y="274320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105520" y="228600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user resize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ontai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first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ills horizontally in gr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2971800" y="4038480"/>
            <a:ext cx="5257800" cy="914400"/>
            <a:chOff x="2971800" y="4038480"/>
            <a:chExt cx="5257800" cy="914400"/>
          </a:xfrm>
        </p:grpSpPr>
        <p:sp>
          <p:nvSpPr>
            <p:cNvPr id="759" name=""/>
            <p:cNvSpPr/>
            <p:nvPr/>
          </p:nvSpPr>
          <p:spPr>
            <a:xfrm>
              <a:off x="5181480" y="403848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user resize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ontai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econ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ills extra sp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2971800" y="4343400"/>
              <a:ext cx="22096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8" dur="1" fill="hold"/>
                                  <p:tgtEl>
                                    <p:spTgt spid="7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ridBagDemo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4954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fill is BOTH for button3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straints.weightx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straints.weighty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ddComponent( button3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weightx and weighty for textField are both 0, fill is BOTH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ddComponent( textField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3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weightx and weighty for textArea2 are both 0, fill is BOTH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ddComponent( textArea2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3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3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5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onstructor GridBagDemo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method to set constraints on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addComponent( Component component,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row,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lumn,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width,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heigh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gridx and gridy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straints.gridx = column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straints.gridy = row;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ridBagDemo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33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gridwidth and gridheigh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straints.gridwidth = width;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straints.gridheight = height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constraints and add componen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layout.setConstraints( component, constraints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tainer.add( component );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ridBagDemo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GridBagDemo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lass GridBagDemo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1943280" y="4362480"/>
            <a:ext cx="2857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ridBagDemo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3686400" cy="261936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4790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Lucida Console"/>
                <a:ea typeface="Times New Roman"/>
              </a:rPr>
              <a:t>GridBagConstraint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 Constants </a:t>
            </a:r>
            <a:r>
              <a:rPr b="0" lang="en-US" sz="2800" spc="-1" strike="noStrike">
                <a:solidFill>
                  <a:srgbClr val="ff3300"/>
                </a:solidFill>
                <a:latin typeface="Lucida Console"/>
                <a:ea typeface="Times New Roman"/>
              </a:rPr>
              <a:t>RELATIV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 and </a:t>
            </a:r>
            <a:r>
              <a:rPr b="0" lang="en-US" sz="2800" spc="-1" strike="noStrike">
                <a:solidFill>
                  <a:srgbClr val="ff3300"/>
                </a:solidFill>
                <a:latin typeface="Lucida Console"/>
                <a:ea typeface="Times New Roman"/>
              </a:rPr>
              <a:t>REMAINDE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s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MA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in place of variable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grid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gri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REL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s next-to-last component placement in row or 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 should be placed next to one previously ad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REMA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s component as last component in row or 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ridBagDemo2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18-1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564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Fig. 14.20: GridBagDemo2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Demonstrating GridBagLayout constants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GridBagDemo2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Frame {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GridBagLayout layout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GridBagConstraints constraints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ntainer container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up GUI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GridBagDemo2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GridBagLayout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tainer = getContentPane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layout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GridBagLayout();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tainer.setLayout( layout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instantiate gridbag constrain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straints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GridBagConstraints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reate GUI componen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tring metals[] = {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Copper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Aluminum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Silver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}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ComboBox comboBox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ComboBox( metals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3376080" y="3505320"/>
            <a:ext cx="4243680" cy="580680"/>
            <a:chOff x="3376080" y="3505320"/>
            <a:chExt cx="4243680" cy="580680"/>
          </a:xfrm>
        </p:grpSpPr>
        <p:sp>
          <p:nvSpPr>
            <p:cNvPr id="774" name=""/>
            <p:cNvSpPr/>
            <p:nvPr/>
          </p:nvSpPr>
          <p:spPr>
            <a:xfrm>
              <a:off x="5509800" y="3505320"/>
              <a:ext cx="2109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GridBagLay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layout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3376080" y="3809880"/>
              <a:ext cx="212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190760" y="4343400"/>
            <a:ext cx="3886560" cy="824040"/>
            <a:chOff x="4190760" y="4343400"/>
            <a:chExt cx="3886560" cy="824040"/>
          </a:xfrm>
        </p:grpSpPr>
        <p:sp>
          <p:nvSpPr>
            <p:cNvPr id="777" name=""/>
            <p:cNvSpPr/>
            <p:nvPr/>
          </p:nvSpPr>
          <p:spPr>
            <a:xfrm>
              <a:off x="6248520" y="4343400"/>
              <a:ext cx="1828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d to determine component location and size in gr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4190760" y="4571640"/>
              <a:ext cx="2057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2" dur="1" fill="hold"/>
                                  <p:tgtEl>
                                    <p:spTgt spid="7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ridBagDemo2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4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4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5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259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TextField textField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TextField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TextField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tring fonts[] = {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Serif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Monospaced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}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List list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List( fonts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tring names[] = {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zero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on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two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thre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four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}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JButton buttons[]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Button[ names.length ]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fo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unt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count &lt; buttons.length; count++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buttons[ count ]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Button( names[ count ]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define GUI component constraints for textField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straints.weightx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straints.weighty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straints.fill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GridBagConstraints.BOTH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straints.gridwidth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GridBagConstraints.REMAIND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ddComponent( textField );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buttons[0] -- weightx and weighty are 1: fill is BOTH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straints.gridwidth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ddComponent( buttons[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]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buttons[1] -- weightx and weighty are 1: fill is BOTH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straints.gridwidth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GridBagConstraints.RELATIV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ddComponent( buttons[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] );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257800" y="2362320"/>
            <a:ext cx="2666880" cy="990360"/>
            <a:chOff x="5257800" y="2362320"/>
            <a:chExt cx="2666880" cy="990360"/>
          </a:xfrm>
        </p:grpSpPr>
        <p:sp>
          <p:nvSpPr>
            <p:cNvPr id="782" name=""/>
            <p:cNvSpPr/>
            <p:nvPr/>
          </p:nvSpPr>
          <p:spPr>
            <a:xfrm flipH="1">
              <a:off x="5333760" y="2895480"/>
              <a:ext cx="1523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257800" y="23623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last (only) component in first r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3352320" y="4057560"/>
            <a:ext cx="5258160" cy="580680"/>
            <a:chOff x="3352320" y="4057560"/>
            <a:chExt cx="5258160" cy="580680"/>
          </a:xfrm>
        </p:grpSpPr>
        <p:sp>
          <p:nvSpPr>
            <p:cNvPr id="785" name=""/>
            <p:cNvSpPr/>
            <p:nvPr/>
          </p:nvSpPr>
          <p:spPr>
            <a:xfrm>
              <a:off x="6171840" y="405756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c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button[0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first component in second r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3352320" y="43621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3352320" y="4896000"/>
            <a:ext cx="4953600" cy="580680"/>
            <a:chOff x="3352320" y="4896000"/>
            <a:chExt cx="4953600" cy="580680"/>
          </a:xfrm>
        </p:grpSpPr>
        <p:sp>
          <p:nvSpPr>
            <p:cNvPr id="788" name=""/>
            <p:cNvSpPr/>
            <p:nvPr/>
          </p:nvSpPr>
          <p:spPr>
            <a:xfrm>
              <a:off x="6019920" y="489600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c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button[1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ight next to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button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3352320" y="520092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31" dur="1" fill="hold"/>
                                  <p:tgtEl>
                                    <p:spTgt spid="7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ridBagDemo2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5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6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6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7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7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564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buttons[2] -- weightx and weighty are 1: fill is BOTH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straints.gridwidth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GridBagConstraints.REMAIND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ddComponent( buttons[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] );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omboBox -- weightx is 1: fill is BOTH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straints.weighty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straints.gridwidth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GridBagConstraints.REMAIND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ddComponent( comboBox );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buttons[3] -- weightx is 1: fill is BOTH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straints.weighty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straints.gridwidth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GridBagConstraints.REMAIND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ddComponent( buttons[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3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] );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buttons[4] -- weightx and weighty are 1: fill is BOTH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straints.gridwidth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GridBagConstraints.RELATIV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ddComponent( buttons[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4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] );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list -- weightx and weighty are 1: fill is BOTH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straints.gridwidth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GridBagConstraints.REMAIND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ddComponent( list );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3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onstructo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3352680" y="476280"/>
            <a:ext cx="4952880" cy="580680"/>
            <a:chOff x="3352680" y="476280"/>
            <a:chExt cx="4952880" cy="580680"/>
          </a:xfrm>
        </p:grpSpPr>
        <p:sp>
          <p:nvSpPr>
            <p:cNvPr id="793" name=""/>
            <p:cNvSpPr/>
            <p:nvPr/>
          </p:nvSpPr>
          <p:spPr>
            <a:xfrm>
              <a:off x="6019560" y="4762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c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button[2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ight next to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button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3352680" y="78084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2971800" y="1467000"/>
            <a:ext cx="5410080" cy="580680"/>
            <a:chOff x="2971800" y="1467000"/>
            <a:chExt cx="5410080" cy="580680"/>
          </a:xfrm>
        </p:grpSpPr>
        <p:sp>
          <p:nvSpPr>
            <p:cNvPr id="796" name=""/>
            <p:cNvSpPr/>
            <p:nvPr/>
          </p:nvSpPr>
          <p:spPr>
            <a:xfrm>
              <a:off x="5715000" y="1467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ombo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last (only) component in third r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2971800" y="177156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3352320" y="2457360"/>
            <a:ext cx="5181840" cy="580680"/>
            <a:chOff x="3352320" y="2457360"/>
            <a:chExt cx="5181840" cy="580680"/>
          </a:xfrm>
        </p:grpSpPr>
        <p:sp>
          <p:nvSpPr>
            <p:cNvPr id="799" name=""/>
            <p:cNvSpPr/>
            <p:nvPr/>
          </p:nvSpPr>
          <p:spPr>
            <a:xfrm>
              <a:off x="5714640" y="245736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buttons[3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last (only) component in fourth r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3352320" y="276192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3352320" y="3276720"/>
            <a:ext cx="4953240" cy="580680"/>
            <a:chOff x="3352320" y="3276720"/>
            <a:chExt cx="4953240" cy="580680"/>
          </a:xfrm>
        </p:grpSpPr>
        <p:sp>
          <p:nvSpPr>
            <p:cNvPr id="802" name=""/>
            <p:cNvSpPr/>
            <p:nvPr/>
          </p:nvSpPr>
          <p:spPr>
            <a:xfrm>
              <a:off x="5867280" y="327672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c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button[4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first component in fifth r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352320" y="35812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2666880" y="4114800"/>
            <a:ext cx="5410440" cy="580680"/>
            <a:chOff x="2666880" y="4114800"/>
            <a:chExt cx="5410440" cy="580680"/>
          </a:xfrm>
        </p:grpSpPr>
        <p:sp>
          <p:nvSpPr>
            <p:cNvPr id="805" name=""/>
            <p:cNvSpPr/>
            <p:nvPr/>
          </p:nvSpPr>
          <p:spPr>
            <a:xfrm>
              <a:off x="5943600" y="411480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y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last component in fifth r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2666880" y="441972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0" dur="1" fill="hold"/>
                                  <p:tgtEl>
                                    <p:spTgt spid="8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ridBagDemo2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2973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dd a Component to the contain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addComponent( Component component )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layout.setConstraints( component, constraints );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tainer.add( component );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dd componen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ridBagDemo2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GridBagDemo2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}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lass GridBagDemo2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1943280" y="3733920"/>
            <a:ext cx="2857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4.3  Creating a Customized Subclass of 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JPane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JPan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reate new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dicated drawing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J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71680" y="3200400"/>
            <a:ext cx="3771720" cy="1886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95680" y="3200400"/>
            <a:ext cx="37720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4.13  (Optional Case Study) Thinking About Objects: Model-View-Controll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View-Contr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chitectural pattern for building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vide system responsibilities into three pa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ains program data and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 representation of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es user input and modifies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ep by ste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uses controller to change data i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then informs view of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 changes visual presentation to reflect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odel-View-Controller Elevator Simula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View-Controller in elevator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press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J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er add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notifies view of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 display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lo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response to no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. 14.2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 diagram of the elevator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1295280" y="743040"/>
            <a:ext cx="6856200" cy="4824720"/>
            <a:chOff x="1295280" y="743040"/>
            <a:chExt cx="6856200" cy="4824720"/>
          </a:xfrm>
        </p:grpSpPr>
        <p:sp>
          <p:nvSpPr>
            <p:cNvPr id="816" name=""/>
            <p:cNvSpPr/>
            <p:nvPr/>
          </p:nvSpPr>
          <p:spPr>
            <a:xfrm>
              <a:off x="1295280" y="1513800"/>
              <a:ext cx="6856200" cy="36176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2700000">
              <a:off x="3550680" y="1591560"/>
              <a:ext cx="1428120" cy="916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9"/>
                  </a:moveTo>
                  <a:lnTo>
                    <a:pt x="12813" y="0"/>
                  </a:lnTo>
                  <a:lnTo>
                    <a:pt x="19987" y="11185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546800" y="3527640"/>
              <a:ext cx="360" cy="380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370480" y="2219040"/>
              <a:ext cx="761760" cy="390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5" y="0"/>
                  </a:moveTo>
                  <a:lnTo>
                    <a:pt x="0" y="19951"/>
                  </a:lnTo>
                </a:path>
              </a:pathLst>
            </a:custGeom>
            <a:solidFill>
              <a:srgbClr val="000000"/>
            </a:solidFill>
            <a:ln w="252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732560" y="4213080"/>
              <a:ext cx="360" cy="533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64"/>
                  </a:lnTo>
                </a:path>
              </a:pathLst>
            </a:custGeom>
            <a:solidFill>
              <a:srgbClr val="000000"/>
            </a:solidFill>
            <a:ln w="252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787360" y="2744640"/>
              <a:ext cx="1106640" cy="1425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987"/>
                  </a:moveTo>
                  <a:lnTo>
                    <a:pt x="19983" y="19987"/>
                  </a:lnTo>
                  <a:lnTo>
                    <a:pt x="19983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133000" y="3330360"/>
              <a:ext cx="3744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590200" y="3677760"/>
              <a:ext cx="1303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vantGarde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570840" y="2792160"/>
              <a:ext cx="131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789520" y="2792160"/>
              <a:ext cx="131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23080" y="2923200"/>
              <a:ext cx="161640" cy="161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9882" y="0"/>
                  </a:moveTo>
                  <a:lnTo>
                    <a:pt x="19882" y="10000"/>
                  </a:lnTo>
                  <a:lnTo>
                    <a:pt x="9882" y="19882"/>
                  </a:lnTo>
                  <a:lnTo>
                    <a:pt x="0" y="10000"/>
                  </a:lnTo>
                  <a:lnTo>
                    <a:pt x="988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637440" y="2673360"/>
              <a:ext cx="161640" cy="161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9882" y="0"/>
                  </a:moveTo>
                  <a:lnTo>
                    <a:pt x="19882" y="10000"/>
                  </a:lnTo>
                  <a:lnTo>
                    <a:pt x="9882" y="19882"/>
                  </a:lnTo>
                  <a:lnTo>
                    <a:pt x="0" y="10000"/>
                  </a:lnTo>
                  <a:lnTo>
                    <a:pt x="988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627520" y="2663640"/>
              <a:ext cx="161640" cy="161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9882" y="0"/>
                  </a:moveTo>
                  <a:lnTo>
                    <a:pt x="19882" y="10000"/>
                  </a:lnTo>
                  <a:lnTo>
                    <a:pt x="9882" y="19882"/>
                  </a:lnTo>
                  <a:lnTo>
                    <a:pt x="0" y="10000"/>
                  </a:lnTo>
                  <a:lnTo>
                    <a:pt x="988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2700000">
              <a:off x="4767840" y="3227760"/>
              <a:ext cx="669240" cy="66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1997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2700000">
              <a:off x="2336760" y="2245680"/>
              <a:ext cx="868320" cy="1661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8" y="19989"/>
                  </a:moveTo>
                  <a:lnTo>
                    <a:pt x="19978" y="19989"/>
                  </a:lnTo>
                  <a:lnTo>
                    <a:pt x="0" y="9559"/>
                  </a:lnTo>
                  <a:lnTo>
                    <a:pt x="1831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08480" y="2928240"/>
              <a:ext cx="1310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799440" y="2542320"/>
              <a:ext cx="1827720" cy="380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0" y="0"/>
                  </a:moveTo>
                  <a:lnTo>
                    <a:pt x="19990" y="19950"/>
                  </a:lnTo>
                  <a:lnTo>
                    <a:pt x="0" y="19950"/>
                  </a:lnTo>
                  <a:lnTo>
                    <a:pt x="0" y="0"/>
                  </a:lnTo>
                  <a:lnTo>
                    <a:pt x="19990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799440" y="2542320"/>
              <a:ext cx="1827720" cy="380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0" y="0"/>
                  </a:moveTo>
                  <a:lnTo>
                    <a:pt x="19990" y="19950"/>
                  </a:lnTo>
                  <a:lnTo>
                    <a:pt x="0" y="19950"/>
                  </a:lnTo>
                  <a:lnTo>
                    <a:pt x="0" y="0"/>
                  </a:lnTo>
                  <a:lnTo>
                    <a:pt x="1999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808800" y="2656440"/>
              <a:ext cx="18284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ElevatorCaseStu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1410120" y="2952000"/>
              <a:ext cx="2207520" cy="2207520"/>
              <a:chOff x="1410120" y="2952000"/>
              <a:chExt cx="2207520" cy="2207520"/>
            </a:xfrm>
          </p:grpSpPr>
          <p:sp>
            <p:nvSpPr>
              <p:cNvPr id="836" name=""/>
              <p:cNvSpPr/>
              <p:nvPr/>
            </p:nvSpPr>
            <p:spPr>
              <a:xfrm rot="2700000">
                <a:off x="1733400" y="3274920"/>
                <a:ext cx="1560600" cy="1561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6537" y="0"/>
                    </a:moveTo>
                    <a:lnTo>
                      <a:pt x="19988" y="3451"/>
                    </a:lnTo>
                    <a:lnTo>
                      <a:pt x="3451" y="19988"/>
                    </a:lnTo>
                    <a:lnTo>
                      <a:pt x="0" y="16537"/>
                    </a:lnTo>
                    <a:lnTo>
                      <a:pt x="16537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2700000">
                <a:off x="1733400" y="3274920"/>
                <a:ext cx="1560600" cy="1561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6537" y="0"/>
                    </a:moveTo>
                    <a:lnTo>
                      <a:pt x="19988" y="3451"/>
                    </a:lnTo>
                    <a:lnTo>
                      <a:pt x="3451" y="19988"/>
                    </a:lnTo>
                    <a:lnTo>
                      <a:pt x="0" y="16537"/>
                    </a:lnTo>
                    <a:lnTo>
                      <a:pt x="1653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8" name=""/>
            <p:cNvSpPr/>
            <p:nvPr/>
          </p:nvSpPr>
          <p:spPr>
            <a:xfrm>
              <a:off x="1609200" y="3980160"/>
              <a:ext cx="1827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ElevatorSim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3619080" y="2956320"/>
              <a:ext cx="2207880" cy="2207880"/>
              <a:chOff x="3619080" y="2956320"/>
              <a:chExt cx="2207880" cy="2207880"/>
            </a:xfrm>
          </p:grpSpPr>
          <p:sp>
            <p:nvSpPr>
              <p:cNvPr id="840" name=""/>
              <p:cNvSpPr/>
              <p:nvPr/>
            </p:nvSpPr>
            <p:spPr>
              <a:xfrm rot="2700000">
                <a:off x="3942360" y="3279240"/>
                <a:ext cx="1560960" cy="1561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6537" y="0"/>
                    </a:moveTo>
                    <a:lnTo>
                      <a:pt x="19988" y="3451"/>
                    </a:lnTo>
                    <a:lnTo>
                      <a:pt x="3451" y="19988"/>
                    </a:lnTo>
                    <a:lnTo>
                      <a:pt x="0" y="16537"/>
                    </a:lnTo>
                    <a:lnTo>
                      <a:pt x="16537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2700000">
                <a:off x="3942360" y="3279240"/>
                <a:ext cx="1560960" cy="1561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6537" y="0"/>
                    </a:moveTo>
                    <a:lnTo>
                      <a:pt x="19988" y="3451"/>
                    </a:lnTo>
                    <a:lnTo>
                      <a:pt x="3451" y="19988"/>
                    </a:lnTo>
                    <a:lnTo>
                      <a:pt x="0" y="16537"/>
                    </a:lnTo>
                    <a:lnTo>
                      <a:pt x="1653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2" name=""/>
            <p:cNvSpPr/>
            <p:nvPr/>
          </p:nvSpPr>
          <p:spPr>
            <a:xfrm>
              <a:off x="3818520" y="3984840"/>
              <a:ext cx="18284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Elevator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2700000">
              <a:off x="2023560" y="4320720"/>
              <a:ext cx="297360" cy="297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36" y="19936"/>
                  </a:move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51280" y="1961280"/>
              <a:ext cx="1140480" cy="304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938"/>
                  </a:moveTo>
                  <a:lnTo>
                    <a:pt x="19983" y="7188"/>
                  </a:lnTo>
                  <a:lnTo>
                    <a:pt x="18043" y="0"/>
                  </a:lnTo>
                  <a:lnTo>
                    <a:pt x="0" y="0"/>
                  </a:lnTo>
                  <a:lnTo>
                    <a:pt x="0" y="19938"/>
                  </a:lnTo>
                  <a:lnTo>
                    <a:pt x="19983" y="19938"/>
                  </a:lnTo>
                  <a:close/>
                </a:path>
              </a:pathLst>
            </a:custGeom>
            <a:solidFill>
              <a:srgbClr val="4db3e6"/>
            </a:solidFill>
            <a:ln w="252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601600" y="2059200"/>
              <a:ext cx="113508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2700000">
              <a:off x="5684040" y="1679400"/>
              <a:ext cx="1020960" cy="942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2926"/>
                  </a:moveTo>
                  <a:lnTo>
                    <a:pt x="17276" y="0"/>
                  </a:lnTo>
                  <a:lnTo>
                    <a:pt x="14235" y="20"/>
                  </a:lnTo>
                  <a:lnTo>
                    <a:pt x="0" y="15419"/>
                  </a:lnTo>
                  <a:lnTo>
                    <a:pt x="4216" y="19980"/>
                  </a:lnTo>
                  <a:lnTo>
                    <a:pt x="19981" y="2926"/>
                  </a:lnTo>
                  <a:close/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2700000">
              <a:off x="6607800" y="2016720"/>
              <a:ext cx="154800" cy="78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877" y="482"/>
                  </a:moveTo>
                  <a:lnTo>
                    <a:pt x="10061" y="19759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8" name=""/>
            <p:cNvGrpSpPr/>
            <p:nvPr/>
          </p:nvGrpSpPr>
          <p:grpSpPr>
            <a:xfrm>
              <a:off x="6507000" y="4174200"/>
              <a:ext cx="1384200" cy="1384560"/>
              <a:chOff x="6507000" y="4174200"/>
              <a:chExt cx="1384200" cy="1384560"/>
            </a:xfrm>
          </p:grpSpPr>
          <p:sp>
            <p:nvSpPr>
              <p:cNvPr id="849" name=""/>
              <p:cNvSpPr/>
              <p:nvPr/>
            </p:nvSpPr>
            <p:spPr>
              <a:xfrm rot="2700000">
                <a:off x="6690960" y="4395240"/>
                <a:ext cx="1015920" cy="942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2929"/>
                    </a:moveTo>
                    <a:lnTo>
                      <a:pt x="17292" y="20"/>
                    </a:lnTo>
                    <a:lnTo>
                      <a:pt x="14230" y="0"/>
                    </a:lnTo>
                    <a:lnTo>
                      <a:pt x="0" y="15414"/>
                    </a:lnTo>
                    <a:lnTo>
                      <a:pt x="4220" y="19980"/>
                    </a:lnTo>
                    <a:lnTo>
                      <a:pt x="19981" y="2929"/>
                    </a:lnTo>
                    <a:close/>
                  </a:path>
                </a:pathLst>
              </a:custGeom>
              <a:solidFill>
                <a:srgbClr val="4db3e6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2700000">
                <a:off x="6690960" y="4395240"/>
                <a:ext cx="1015920" cy="942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2929"/>
                    </a:moveTo>
                    <a:lnTo>
                      <a:pt x="17292" y="20"/>
                    </a:lnTo>
                    <a:lnTo>
                      <a:pt x="14230" y="0"/>
                    </a:lnTo>
                    <a:lnTo>
                      <a:pt x="0" y="15414"/>
                    </a:lnTo>
                    <a:lnTo>
                      <a:pt x="4220" y="19980"/>
                    </a:lnTo>
                    <a:lnTo>
                      <a:pt x="19981" y="2929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6627600" y="4775040"/>
              <a:ext cx="113292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rot="2700000">
              <a:off x="7632000" y="4731840"/>
              <a:ext cx="154080" cy="78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877" y="723"/>
                  </a:moveTo>
                  <a:lnTo>
                    <a:pt x="10123" y="19759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"/>
            <p:cNvGrpSpPr/>
            <p:nvPr/>
          </p:nvGrpSpPr>
          <p:grpSpPr>
            <a:xfrm>
              <a:off x="4042080" y="4181400"/>
              <a:ext cx="1386000" cy="1386360"/>
              <a:chOff x="4042080" y="4181400"/>
              <a:chExt cx="1386000" cy="1386360"/>
            </a:xfrm>
          </p:grpSpPr>
          <p:sp>
            <p:nvSpPr>
              <p:cNvPr id="854" name=""/>
              <p:cNvSpPr/>
              <p:nvPr/>
            </p:nvSpPr>
            <p:spPr>
              <a:xfrm rot="2700000">
                <a:off x="4225680" y="4403160"/>
                <a:ext cx="1018440" cy="942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2926"/>
                    </a:moveTo>
                    <a:lnTo>
                      <a:pt x="17276" y="0"/>
                    </a:lnTo>
                    <a:lnTo>
                      <a:pt x="14235" y="20"/>
                    </a:lnTo>
                    <a:lnTo>
                      <a:pt x="0" y="15419"/>
                    </a:lnTo>
                    <a:lnTo>
                      <a:pt x="4216" y="19980"/>
                    </a:lnTo>
                    <a:lnTo>
                      <a:pt x="19981" y="2926"/>
                    </a:lnTo>
                    <a:close/>
                  </a:path>
                </a:pathLst>
              </a:custGeom>
              <a:solidFill>
                <a:srgbClr val="4db3e6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2700000">
                <a:off x="4225680" y="4403160"/>
                <a:ext cx="1018440" cy="942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2926"/>
                    </a:moveTo>
                    <a:lnTo>
                      <a:pt x="17276" y="0"/>
                    </a:lnTo>
                    <a:lnTo>
                      <a:pt x="14235" y="20"/>
                    </a:lnTo>
                    <a:lnTo>
                      <a:pt x="0" y="15419"/>
                    </a:lnTo>
                    <a:lnTo>
                      <a:pt x="4216" y="19980"/>
                    </a:lnTo>
                    <a:lnTo>
                      <a:pt x="19981" y="2926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4163400" y="4782240"/>
              <a:ext cx="113580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rot="2700000">
              <a:off x="5169960" y="4739400"/>
              <a:ext cx="154800" cy="78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877" y="482"/>
                  </a:moveTo>
                  <a:lnTo>
                    <a:pt x="10061" y="19759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1516320" y="4174560"/>
              <a:ext cx="1386000" cy="1386000"/>
              <a:chOff x="1516320" y="4174560"/>
              <a:chExt cx="1386000" cy="1386000"/>
            </a:xfrm>
          </p:grpSpPr>
          <p:sp>
            <p:nvSpPr>
              <p:cNvPr id="859" name=""/>
              <p:cNvSpPr/>
              <p:nvPr/>
            </p:nvSpPr>
            <p:spPr>
              <a:xfrm rot="2700000">
                <a:off x="1699920" y="4396320"/>
                <a:ext cx="1018080" cy="942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2929"/>
                    </a:moveTo>
                    <a:lnTo>
                      <a:pt x="17292" y="20"/>
                    </a:lnTo>
                    <a:lnTo>
                      <a:pt x="14230" y="0"/>
                    </a:lnTo>
                    <a:lnTo>
                      <a:pt x="0" y="15414"/>
                    </a:lnTo>
                    <a:lnTo>
                      <a:pt x="4220" y="19980"/>
                    </a:lnTo>
                    <a:lnTo>
                      <a:pt x="19981" y="2929"/>
                    </a:lnTo>
                    <a:close/>
                  </a:path>
                </a:pathLst>
              </a:custGeom>
              <a:solidFill>
                <a:srgbClr val="4db3e6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2700000">
                <a:off x="1699920" y="4396320"/>
                <a:ext cx="1018080" cy="942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2929"/>
                    </a:moveTo>
                    <a:lnTo>
                      <a:pt x="17292" y="20"/>
                    </a:lnTo>
                    <a:lnTo>
                      <a:pt x="14230" y="0"/>
                    </a:lnTo>
                    <a:lnTo>
                      <a:pt x="0" y="15414"/>
                    </a:lnTo>
                    <a:lnTo>
                      <a:pt x="4220" y="19980"/>
                    </a:lnTo>
                    <a:lnTo>
                      <a:pt x="19981" y="2929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>
              <a:off x="1638000" y="4775040"/>
              <a:ext cx="113508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MVC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2700000">
              <a:off x="2644560" y="4731840"/>
              <a:ext cx="154080" cy="78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877" y="723"/>
                  </a:moveTo>
                  <a:lnTo>
                    <a:pt x="10123" y="19759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1410120" y="743040"/>
              <a:ext cx="2207880" cy="2207880"/>
              <a:chOff x="1410120" y="743040"/>
              <a:chExt cx="2207880" cy="2207880"/>
            </a:xfrm>
          </p:grpSpPr>
          <p:sp>
            <p:nvSpPr>
              <p:cNvPr id="864" name=""/>
              <p:cNvSpPr/>
              <p:nvPr/>
            </p:nvSpPr>
            <p:spPr>
              <a:xfrm rot="2700000">
                <a:off x="1733400" y="1065960"/>
                <a:ext cx="1560960" cy="1561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6537" y="0"/>
                    </a:moveTo>
                    <a:lnTo>
                      <a:pt x="19988" y="3451"/>
                    </a:lnTo>
                    <a:lnTo>
                      <a:pt x="3451" y="19988"/>
                    </a:lnTo>
                    <a:lnTo>
                      <a:pt x="0" y="16537"/>
                    </a:lnTo>
                    <a:lnTo>
                      <a:pt x="16537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2700000">
                <a:off x="1733400" y="1065960"/>
                <a:ext cx="1560960" cy="1561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6537" y="0"/>
                    </a:moveTo>
                    <a:lnTo>
                      <a:pt x="19988" y="3451"/>
                    </a:lnTo>
                    <a:lnTo>
                      <a:pt x="3451" y="19988"/>
                    </a:lnTo>
                    <a:lnTo>
                      <a:pt x="0" y="16537"/>
                    </a:lnTo>
                    <a:lnTo>
                      <a:pt x="1653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6" name=""/>
            <p:cNvSpPr/>
            <p:nvPr/>
          </p:nvSpPr>
          <p:spPr>
            <a:xfrm>
              <a:off x="1609200" y="1771560"/>
              <a:ext cx="182772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Arial"/>
                </a:rPr>
                <a:t>javax.swing.J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5819040" y="2952000"/>
              <a:ext cx="2207520" cy="2207520"/>
              <a:chOff x="5819040" y="2952000"/>
              <a:chExt cx="2207520" cy="2207520"/>
            </a:xfrm>
          </p:grpSpPr>
          <p:sp>
            <p:nvSpPr>
              <p:cNvPr id="868" name=""/>
              <p:cNvSpPr/>
              <p:nvPr/>
            </p:nvSpPr>
            <p:spPr>
              <a:xfrm rot="2700000">
                <a:off x="6142320" y="3274920"/>
                <a:ext cx="1560600" cy="1561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6537" y="0"/>
                    </a:moveTo>
                    <a:lnTo>
                      <a:pt x="19988" y="3451"/>
                    </a:lnTo>
                    <a:lnTo>
                      <a:pt x="3451" y="19988"/>
                    </a:lnTo>
                    <a:lnTo>
                      <a:pt x="0" y="16537"/>
                    </a:lnTo>
                    <a:lnTo>
                      <a:pt x="16537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2700000">
                <a:off x="6142320" y="3274920"/>
                <a:ext cx="1560600" cy="1561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6537" y="0"/>
                    </a:moveTo>
                    <a:lnTo>
                      <a:pt x="19988" y="3451"/>
                    </a:lnTo>
                    <a:lnTo>
                      <a:pt x="3451" y="19988"/>
                    </a:lnTo>
                    <a:lnTo>
                      <a:pt x="0" y="16537"/>
                    </a:lnTo>
                    <a:lnTo>
                      <a:pt x="1653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6018480" y="3980160"/>
              <a:ext cx="1827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Elevator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2700000">
              <a:off x="7047000" y="4305960"/>
              <a:ext cx="297360" cy="297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36" y="19936"/>
                  </a:move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75720" y="3673080"/>
              <a:ext cx="1281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70520" y="3668040"/>
              <a:ext cx="131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880720" y="3168360"/>
              <a:ext cx="2202120" cy="15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vantGarde"/>
                </a:rPr>
                <a:t>ElevatorSimulationListe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399200" y="3318480"/>
              <a:ext cx="304200" cy="304200"/>
            </a:xfrm>
            <a:prstGeom prst="ellipse">
              <a:avLst/>
            </a:prstGeom>
            <a:solidFill>
              <a:srgbClr val="4db3e6"/>
            </a:solidFill>
            <a:ln w="2520">
              <a:solidFill>
                <a:srgbClr val="4db3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399200" y="3318480"/>
              <a:ext cx="304200" cy="304200"/>
            </a:xfrm>
            <a:prstGeom prst="ellipse">
              <a:avLst/>
            </a:prstGeom>
            <a:noFill/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4.13  (Optional Case Study) Thinking About Objects: Model-View-Controll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 diagram (U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s “pieces” (components) used by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.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le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.jav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les, images, packag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are represented as “plug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ages are represented as “folder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tted arrows indic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endenc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mong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one component requires changing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. 14.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tifacts of the elevator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1143000" y="1066680"/>
            <a:ext cx="6856200" cy="5278320"/>
            <a:chOff x="1143000" y="1066680"/>
            <a:chExt cx="6856200" cy="5278320"/>
          </a:xfrm>
        </p:grpSpPr>
        <p:sp>
          <p:nvSpPr>
            <p:cNvPr id="881" name=""/>
            <p:cNvSpPr/>
            <p:nvPr/>
          </p:nvSpPr>
          <p:spPr>
            <a:xfrm>
              <a:off x="1143000" y="1066680"/>
              <a:ext cx="6856200" cy="527832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887640" y="1916280"/>
              <a:ext cx="1102320" cy="2233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91"/>
                  </a:moveTo>
                  <a:lnTo>
                    <a:pt x="8799" y="19991"/>
                  </a:lnTo>
                  <a:lnTo>
                    <a:pt x="8799" y="0"/>
                  </a:lnTo>
                  <a:lnTo>
                    <a:pt x="19983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prstDash val="sys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882600" y="4416480"/>
              <a:ext cx="1107000" cy="2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83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prstDash val="sys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87640" y="4633200"/>
              <a:ext cx="1102320" cy="1082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8799" y="0"/>
                  </a:lnTo>
                  <a:lnTo>
                    <a:pt x="8799" y="19982"/>
                  </a:lnTo>
                  <a:lnTo>
                    <a:pt x="19983" y="19982"/>
                  </a:lnTo>
                </a:path>
              </a:pathLst>
            </a:custGeom>
            <a:noFill/>
            <a:ln w="2520">
              <a:solidFill>
                <a:srgbClr val="000000"/>
              </a:solidFill>
              <a:prstDash val="sys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623240" y="1289880"/>
              <a:ext cx="2261880" cy="647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71"/>
                  </a:lnTo>
                  <a:lnTo>
                    <a:pt x="0" y="19971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solidFill>
              <a:srgbClr val="4db3e6"/>
            </a:solidFill>
            <a:ln w="252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623240" y="1289880"/>
              <a:ext cx="2261880" cy="647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71"/>
                  </a:lnTo>
                  <a:lnTo>
                    <a:pt x="0" y="19971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878120" y="1671120"/>
              <a:ext cx="181656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ElevatorCaseStudy.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361240" y="1947600"/>
              <a:ext cx="360" cy="212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91"/>
                  </a:move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prstDash val="sysDash"/>
              <a:round/>
              <a:head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989960" y="3490200"/>
              <a:ext cx="799200" cy="190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6" y="0"/>
                  </a:moveTo>
                  <a:lnTo>
                    <a:pt x="19976" y="19900"/>
                  </a:lnTo>
                  <a:lnTo>
                    <a:pt x="0" y="19900"/>
                  </a:lnTo>
                  <a:lnTo>
                    <a:pt x="0" y="0"/>
                  </a:lnTo>
                  <a:lnTo>
                    <a:pt x="19976" y="0"/>
                  </a:lnTo>
                  <a:close/>
                </a:path>
              </a:pathLst>
            </a:custGeom>
            <a:solidFill>
              <a:srgbClr val="4db3e6"/>
            </a:solidFill>
            <a:ln w="252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989960" y="3681000"/>
              <a:ext cx="2551680" cy="106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0"/>
                  </a:moveTo>
                  <a:lnTo>
                    <a:pt x="19993" y="19982"/>
                  </a:lnTo>
                  <a:lnTo>
                    <a:pt x="0" y="19982"/>
                  </a:lnTo>
                  <a:lnTo>
                    <a:pt x="0" y="0"/>
                  </a:lnTo>
                  <a:lnTo>
                    <a:pt x="19993" y="0"/>
                  </a:lnTo>
                  <a:close/>
                </a:path>
              </a:pathLst>
            </a:custGeom>
            <a:solidFill>
              <a:srgbClr val="4db3e6"/>
            </a:solidFill>
            <a:ln w="252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989960" y="3681000"/>
              <a:ext cx="2551680" cy="106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0"/>
                  </a:moveTo>
                  <a:lnTo>
                    <a:pt x="19993" y="19982"/>
                  </a:lnTo>
                  <a:lnTo>
                    <a:pt x="0" y="19982"/>
                  </a:lnTo>
                  <a:lnTo>
                    <a:pt x="0" y="0"/>
                  </a:lnTo>
                  <a:lnTo>
                    <a:pt x="19993" y="0"/>
                  </a:lnTo>
                  <a:close/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989960" y="3490200"/>
              <a:ext cx="799200" cy="190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6" y="0"/>
                  </a:moveTo>
                  <a:lnTo>
                    <a:pt x="19976" y="19900"/>
                  </a:lnTo>
                  <a:lnTo>
                    <a:pt x="0" y="19900"/>
                  </a:lnTo>
                  <a:lnTo>
                    <a:pt x="0" y="0"/>
                  </a:lnTo>
                  <a:lnTo>
                    <a:pt x="19976" y="0"/>
                  </a:lnTo>
                  <a:close/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027760" y="3528720"/>
              <a:ext cx="79992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89960" y="4976280"/>
              <a:ext cx="799200" cy="190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6" y="0"/>
                  </a:moveTo>
                  <a:lnTo>
                    <a:pt x="19976" y="19900"/>
                  </a:lnTo>
                  <a:lnTo>
                    <a:pt x="0" y="19900"/>
                  </a:lnTo>
                  <a:lnTo>
                    <a:pt x="0" y="0"/>
                  </a:lnTo>
                  <a:lnTo>
                    <a:pt x="19976" y="0"/>
                  </a:lnTo>
                  <a:close/>
                </a:path>
              </a:pathLst>
            </a:custGeom>
            <a:solidFill>
              <a:srgbClr val="4db3e6"/>
            </a:solidFill>
            <a:ln w="252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989960" y="5166720"/>
              <a:ext cx="2551680" cy="106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0"/>
                  </a:moveTo>
                  <a:lnTo>
                    <a:pt x="19993" y="19982"/>
                  </a:lnTo>
                  <a:lnTo>
                    <a:pt x="0" y="19982"/>
                  </a:lnTo>
                  <a:lnTo>
                    <a:pt x="0" y="0"/>
                  </a:lnTo>
                  <a:lnTo>
                    <a:pt x="19993" y="0"/>
                  </a:lnTo>
                  <a:close/>
                </a:path>
              </a:pathLst>
            </a:custGeom>
            <a:solidFill>
              <a:srgbClr val="4db3e6"/>
            </a:solidFill>
            <a:ln w="252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89960" y="5166720"/>
              <a:ext cx="2551680" cy="106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0"/>
                  </a:moveTo>
                  <a:lnTo>
                    <a:pt x="19993" y="19982"/>
                  </a:lnTo>
                  <a:lnTo>
                    <a:pt x="0" y="19982"/>
                  </a:lnTo>
                  <a:lnTo>
                    <a:pt x="0" y="0"/>
                  </a:lnTo>
                  <a:lnTo>
                    <a:pt x="19993" y="0"/>
                  </a:lnTo>
                  <a:close/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989960" y="4976280"/>
              <a:ext cx="799200" cy="190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6" y="0"/>
                  </a:moveTo>
                  <a:lnTo>
                    <a:pt x="19976" y="19900"/>
                  </a:lnTo>
                  <a:lnTo>
                    <a:pt x="0" y="19900"/>
                  </a:lnTo>
                  <a:lnTo>
                    <a:pt x="0" y="0"/>
                  </a:lnTo>
                  <a:lnTo>
                    <a:pt x="19976" y="0"/>
                  </a:lnTo>
                  <a:close/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027760" y="5014080"/>
              <a:ext cx="799920" cy="1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989960" y="1176120"/>
              <a:ext cx="799200" cy="190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6" y="0"/>
                  </a:moveTo>
                  <a:lnTo>
                    <a:pt x="19976" y="19900"/>
                  </a:lnTo>
                  <a:lnTo>
                    <a:pt x="0" y="19900"/>
                  </a:lnTo>
                  <a:lnTo>
                    <a:pt x="0" y="0"/>
                  </a:lnTo>
                  <a:lnTo>
                    <a:pt x="19976" y="0"/>
                  </a:lnTo>
                  <a:close/>
                </a:path>
              </a:pathLst>
            </a:custGeom>
            <a:solidFill>
              <a:srgbClr val="4db3e6"/>
            </a:solidFill>
            <a:ln w="252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989960" y="1366560"/>
              <a:ext cx="2551680" cy="106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0"/>
                  </a:moveTo>
                  <a:lnTo>
                    <a:pt x="19993" y="19982"/>
                  </a:lnTo>
                  <a:lnTo>
                    <a:pt x="0" y="19982"/>
                  </a:lnTo>
                  <a:lnTo>
                    <a:pt x="0" y="0"/>
                  </a:lnTo>
                  <a:lnTo>
                    <a:pt x="19993" y="0"/>
                  </a:lnTo>
                  <a:close/>
                </a:path>
              </a:pathLst>
            </a:custGeom>
            <a:solidFill>
              <a:srgbClr val="4db3e6"/>
            </a:solidFill>
            <a:ln w="252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989960" y="1366560"/>
              <a:ext cx="2551680" cy="106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0"/>
                  </a:moveTo>
                  <a:lnTo>
                    <a:pt x="19993" y="19982"/>
                  </a:lnTo>
                  <a:lnTo>
                    <a:pt x="0" y="19982"/>
                  </a:lnTo>
                  <a:lnTo>
                    <a:pt x="0" y="0"/>
                  </a:lnTo>
                  <a:lnTo>
                    <a:pt x="19993" y="0"/>
                  </a:lnTo>
                  <a:close/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989960" y="1176120"/>
              <a:ext cx="799200" cy="190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6" y="0"/>
                  </a:moveTo>
                  <a:lnTo>
                    <a:pt x="19976" y="19900"/>
                  </a:lnTo>
                  <a:lnTo>
                    <a:pt x="0" y="19900"/>
                  </a:lnTo>
                  <a:lnTo>
                    <a:pt x="0" y="0"/>
                  </a:lnTo>
                  <a:lnTo>
                    <a:pt x="19976" y="0"/>
                  </a:lnTo>
                  <a:close/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027760" y="1213920"/>
              <a:ext cx="7999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623240" y="4073400"/>
              <a:ext cx="2261880" cy="647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71"/>
                  </a:lnTo>
                  <a:lnTo>
                    <a:pt x="0" y="19971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solidFill>
              <a:srgbClr val="4db3e6"/>
            </a:solidFill>
            <a:ln w="252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623240" y="4073400"/>
              <a:ext cx="2261880" cy="647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71"/>
                  </a:lnTo>
                  <a:lnTo>
                    <a:pt x="0" y="19971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904760" y="4454640"/>
              <a:ext cx="1789920" cy="1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ElevatorCaseStudy.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440080" y="2250000"/>
              <a:ext cx="1259280" cy="1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compilation</a:t>
              </a:r>
              <a:r>
                <a:rPr b="0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866240" y="1366560"/>
              <a:ext cx="125712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executabl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04760" y="4150080"/>
              <a:ext cx="609480" cy="1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lt;&lt;</a:t>
              </a: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gt;&gt;</a:t>
              </a: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204160" y="1595160"/>
              <a:ext cx="2261520" cy="647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71"/>
                  </a:lnTo>
                  <a:lnTo>
                    <a:pt x="0" y="19971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solidFill>
              <a:srgbClr val="4db3e6"/>
            </a:solidFill>
            <a:ln w="252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204160" y="1595160"/>
              <a:ext cx="2261520" cy="647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71"/>
                  </a:lnTo>
                  <a:lnTo>
                    <a:pt x="0" y="19971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458680" y="1975680"/>
              <a:ext cx="18352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ElevatorSimulation.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461200" y="1671120"/>
              <a:ext cx="6094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lt;&lt;</a:t>
              </a: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gt;&gt;</a:t>
              </a: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204160" y="3909240"/>
              <a:ext cx="2261520" cy="647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71"/>
                  </a:lnTo>
                  <a:lnTo>
                    <a:pt x="0" y="19971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solidFill>
              <a:srgbClr val="4db3e6"/>
            </a:solidFill>
            <a:ln w="252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04160" y="3909240"/>
              <a:ext cx="2261520" cy="647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71"/>
                  </a:lnTo>
                  <a:lnTo>
                    <a:pt x="0" y="19971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458680" y="4290480"/>
              <a:ext cx="1625760" cy="1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ElevatorView.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463360" y="3985560"/>
              <a:ext cx="6094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gt;&gt;</a:t>
              </a: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204160" y="5395320"/>
              <a:ext cx="2261520" cy="647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71"/>
                  </a:lnTo>
                  <a:lnTo>
                    <a:pt x="0" y="19971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solidFill>
              <a:srgbClr val="4db3e6"/>
            </a:solidFill>
            <a:ln w="252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204160" y="5395320"/>
              <a:ext cx="2261520" cy="647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71"/>
                  </a:lnTo>
                  <a:lnTo>
                    <a:pt x="0" y="19971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458680" y="5775840"/>
              <a:ext cx="1778760" cy="1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ElevatorController.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461200" y="5471280"/>
              <a:ext cx="611640" cy="1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gt;&gt;</a:t>
              </a: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465680" y="1887840"/>
              <a:ext cx="304200" cy="3816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38" y="0"/>
                  </a:lnTo>
                  <a:lnTo>
                    <a:pt x="19938" y="19995"/>
                  </a:lnTo>
                  <a:lnTo>
                    <a:pt x="0" y="19995"/>
                  </a:lnTo>
                </a:path>
              </a:pathLst>
            </a:custGeom>
            <a:noFill/>
            <a:ln w="2520">
              <a:solidFill>
                <a:srgbClr val="000000"/>
              </a:solidFill>
              <a:prstDash val="sysDash"/>
              <a:round/>
              <a:head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044320" y="2887560"/>
              <a:ext cx="141876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ElevatorSimulatio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Liste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494400" y="2897280"/>
              <a:ext cx="304200" cy="304920"/>
            </a:xfrm>
            <a:prstGeom prst="ellipse">
              <a:avLst/>
            </a:prstGeom>
            <a:solidFill>
              <a:srgbClr val="4db3e6"/>
            </a:solidFill>
            <a:ln w="2520">
              <a:solidFill>
                <a:srgbClr val="4db3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94400" y="2897280"/>
              <a:ext cx="304200" cy="304920"/>
            </a:xfrm>
            <a:prstGeom prst="ellipse">
              <a:avLst/>
            </a:prstGeom>
            <a:noFill/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648840" y="2259360"/>
              <a:ext cx="360" cy="637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0"/>
                  </a:move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prstDash val="sysDash"/>
              <a:round/>
              <a:head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648840" y="3197520"/>
              <a:ext cx="360" cy="726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4"/>
                  </a:move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549600" y="2923920"/>
              <a:ext cx="771120" cy="1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r>
                <a:rPr b="0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147200" y="4228560"/>
              <a:ext cx="773280" cy="1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r>
                <a:rPr b="0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87320" y="5312160"/>
              <a:ext cx="77328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r>
                <a:rPr b="0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ElevatorController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1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19-2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4878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levatorController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ontroller for Elevator Simulation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ackag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m.deitel.jhtp5.elevator.controller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Deitel package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m.deitel.jhtp5.elevator.model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m.deitel.jhtp5.elevator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com.deitel.jhtp5.elevator.ElevatorConstants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 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ElevatorController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Panel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lement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ElevatorConstants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// controller contains two JButton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Button firstControllerButton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Button secondControllerButton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// reference to ElevatorSimulation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ElevatorSimulation elevatorSimulation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4266720" y="2895480"/>
            <a:ext cx="3734280" cy="580680"/>
            <a:chOff x="4266720" y="2895480"/>
            <a:chExt cx="3734280" cy="580680"/>
          </a:xfrm>
        </p:grpSpPr>
        <p:sp>
          <p:nvSpPr>
            <p:cNvPr id="934" name=""/>
            <p:cNvSpPr/>
            <p:nvPr/>
          </p:nvSpPr>
          <p:spPr>
            <a:xfrm>
              <a:off x="5410080" y="289548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ElevatorControl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GUI for elevator sim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4266720" y="3200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3885840" y="3733920"/>
            <a:ext cx="3277080" cy="580680"/>
            <a:chOff x="3885840" y="3733920"/>
            <a:chExt cx="3277080" cy="580680"/>
          </a:xfrm>
        </p:grpSpPr>
        <p:sp>
          <p:nvSpPr>
            <p:cNvPr id="937" name=""/>
            <p:cNvSpPr/>
            <p:nvPr/>
          </p:nvSpPr>
          <p:spPr>
            <a:xfrm>
              <a:off x="5029200" y="373392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creating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Pers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on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Flo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3885840" y="40384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74" dur="1" fill="hold"/>
                                  <p:tgtEl>
                                    <p:spTgt spid="9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ElevatorController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4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47-4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18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ElevatorController( ElevatorSimulation simulation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elevatorSimulation = simulation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Background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Color.WHI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// add first button to controll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firstControllerButt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First Floor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dd( firstControllerButton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// add second button to controll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condControllerButt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Second Floor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dd( secondControllerButton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// anonymous inner class registers to receive ActionEven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// from first Controller JButton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firstControllerButton.addActionListener(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ActionListener()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      // invoked when a JButton has been pressed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 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actionPerformed( Action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         // place Person on first Floo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elevatorSimulation.addPerson(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FIRST_FLOOR_NAM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4267080" y="2975040"/>
            <a:ext cx="4648320" cy="824040"/>
            <a:chOff x="4267080" y="2975040"/>
            <a:chExt cx="4648320" cy="824040"/>
          </a:xfrm>
        </p:grpSpPr>
        <p:sp>
          <p:nvSpPr>
            <p:cNvPr id="942" name=""/>
            <p:cNvSpPr/>
            <p:nvPr/>
          </p:nvSpPr>
          <p:spPr>
            <a:xfrm>
              <a:off x="6629400" y="297504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with separate anonymou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Action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4267080" y="33555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4114440" y="4346640"/>
            <a:ext cx="4572360" cy="824040"/>
            <a:chOff x="4114440" y="4346640"/>
            <a:chExt cx="4572360" cy="824040"/>
          </a:xfrm>
        </p:grpSpPr>
        <p:sp>
          <p:nvSpPr>
            <p:cNvPr id="945" name=""/>
            <p:cNvSpPr/>
            <p:nvPr/>
          </p:nvSpPr>
          <p:spPr>
            <a:xfrm>
              <a:off x="6172200" y="434664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Pers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spectiv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Flo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depending on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user 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4114440" y="480348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88" dur="1" fill="hold"/>
                                  <p:tgtEl>
                                    <p:spTgt spid="9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ElevatorController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5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65-6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51 and 6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4878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         // disable user inpu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firstControllerButton.setEnabled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fal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anonymous inner cla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// anonymous inner class registers to receive ActionEven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// from second Controller JButton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condControllerButton.addActionListener(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ActionListener()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1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      // invoked when a JButton has been pressed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 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actionPerformed( Action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4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         // place Person on second Floo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elevatorSimulation.addPerson(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SECOND_FLOOR_NAM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8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         // disable user inpu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secondControllerButton.setEnabled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fal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anonymous inner cla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4571640" y="609120"/>
            <a:ext cx="4115160" cy="4712760"/>
            <a:chOff x="4571640" y="609120"/>
            <a:chExt cx="4115160" cy="4712760"/>
          </a:xfrm>
        </p:grpSpPr>
        <p:sp>
          <p:nvSpPr>
            <p:cNvPr id="950" name=""/>
            <p:cNvSpPr/>
            <p:nvPr/>
          </p:nvSpPr>
          <p:spPr>
            <a:xfrm>
              <a:off x="6172200" y="425448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abl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fter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Pers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created (so user cannot create more than on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Pers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Flo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 flipV="1">
              <a:off x="4571640" y="609120"/>
              <a:ext cx="1600200" cy="410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4952520" y="4266720"/>
              <a:ext cx="121932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4343400" y="1600200"/>
            <a:ext cx="4343400" cy="824040"/>
            <a:chOff x="4343400" y="1600200"/>
            <a:chExt cx="4343400" cy="824040"/>
          </a:xfrm>
        </p:grpSpPr>
        <p:sp>
          <p:nvSpPr>
            <p:cNvPr id="954" name=""/>
            <p:cNvSpPr/>
            <p:nvPr/>
          </p:nvSpPr>
          <p:spPr>
            <a:xfrm>
              <a:off x="6248520" y="160020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with separate anonymou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Action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4343400" y="19810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4114440" y="2898720"/>
            <a:ext cx="4572360" cy="824040"/>
            <a:chOff x="4114440" y="2898720"/>
            <a:chExt cx="4572360" cy="824040"/>
          </a:xfrm>
        </p:grpSpPr>
        <p:sp>
          <p:nvSpPr>
            <p:cNvPr id="957" name=""/>
            <p:cNvSpPr/>
            <p:nvPr/>
          </p:nvSpPr>
          <p:spPr>
            <a:xfrm>
              <a:off x="6172200" y="28987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Pers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spectiv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Flo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depending on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at user 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4114440" y="33559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07" dur="1" fill="hold"/>
                                  <p:tgtEl>
                                    <p:spTgt spid="9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ElevatorController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7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89 and 9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564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4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// anonymous inner class enables user input on Floor if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5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// Person enters Elevator on that Floo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elevatorSimulation.addPersonMoveListener(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PersonMoveListener()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9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      // invoked when Person has entered Elevato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 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personEntered(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PersonMove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3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         // get Floor of departure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String location =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   event.getLocation().getLocationName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7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         // enable first JButton if first Floor departure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f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location.equals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FIRST_FLOOR_NAM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   firstControllerButton.setEnabled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1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         // enable second JButton if second Floo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else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   secondControllerButton.setEnabled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method personEntered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7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           // other methods implementing PersonMoveListen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 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personCreated(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PersonMoveEvent event ) {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0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4343040" y="762120"/>
            <a:ext cx="4496040" cy="1052280"/>
            <a:chOff x="4343040" y="762120"/>
            <a:chExt cx="4496040" cy="1052280"/>
          </a:xfrm>
        </p:grpSpPr>
        <p:sp>
          <p:nvSpPr>
            <p:cNvPr id="962" name=""/>
            <p:cNvSpPr/>
            <p:nvPr/>
          </p:nvSpPr>
          <p:spPr>
            <a:xfrm>
              <a:off x="6400800" y="99036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ElevatorMod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istener 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PersonMove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 flipV="1">
              <a:off x="4343040" y="762120"/>
              <a:ext cx="205740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5337000" y="3429000"/>
            <a:ext cx="3197520" cy="1814760"/>
            <a:chOff x="5337000" y="3429000"/>
            <a:chExt cx="3197520" cy="1814760"/>
          </a:xfrm>
        </p:grpSpPr>
        <p:sp>
          <p:nvSpPr>
            <p:cNvPr id="965" name=""/>
            <p:cNvSpPr/>
            <p:nvPr/>
          </p:nvSpPr>
          <p:spPr>
            <a:xfrm>
              <a:off x="5641920" y="4419720"/>
              <a:ext cx="2892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fter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Pers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nter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Elev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so user can create another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Pers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 flipV="1">
              <a:off x="5337000" y="3429000"/>
              <a:ext cx="1494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 flipV="1">
              <a:off x="5409720" y="4190760"/>
              <a:ext cx="1451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ElevatorController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33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1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 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personArrived(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2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PersonMoveEvent event ) {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3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4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 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personExited(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5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PersonMoveEvent event ) {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6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7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 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personDeparted(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8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PersonMoveEvent event ) {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9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0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 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personPressedButton(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1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PersonMoveEvent event ) {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2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3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anonymous inner cla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4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5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ElevatorController constructo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6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shnu</cp:lastModifiedBy>
  <dcterms:modified xsi:type="dcterms:W3CDTF">2004-05-29T06:33:19Z</dcterms:modified>
  <cp:revision>57</cp:revision>
  <dc:subject/>
  <dc:title>PowerPoint Presentation</dc:title>
</cp:coreProperties>
</file>