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288-240B-4476-84B5-70B8ADB9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119-C6CC-4D1C-8143-35BD4782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737-D97C-4A26-BD79-CF4F9D21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A04-44A6-4175-A529-CBEF8EEC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BA05-C4D8-456E-AEE2-19923588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8390-1DFA-4E57-B7D4-64C2C5F9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5318-CD62-4258-A146-9511FF1E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7BCD-5436-408A-AF6B-90B9DC8E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8454-3D34-45AA-8DF2-4506B6A6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AFE1-193E-4679-8570-8A5AAC3F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ABEE-AE0D-4158-B2C3-56B5D458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B5B-54E7-4E12-BB0B-4AF74C01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FD0E-02CB-480B-A0C6-5B42FFE6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BA7E-C4F2-4018-807E-33425518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4995-3A37-4DF7-B499-2FF3F152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3B70-D2C1-4B21-BC4B-F544F079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2FED-B329-4069-8677-D203DD47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74A-5E4A-403E-89AB-DB95DFC5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5EC-9082-4EE6-8415-EC830AE4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3E9-6092-421A-9B3D-7C9C78EB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727-9698-4040-8283-7BB47ED9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683-92D3-40FB-B776-54618F06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D6C-3F40-47F5-80E8-1E7B065A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26E-889D-49C6-A8B6-62B708B4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DB88-B6DC-4BA5-AC8C-FA2C01E76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228600"/>
            <a:ext cx="8229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B2E3-76F8-43A8-BD73-1687BF4F5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Layout Manager Summary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GridBagLayout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800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GridBagLayou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s a sophisticated, flexible layout manager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t aligns components by placing them within a grid of cells, allowing some components to span more than one cell. The rows in the grid can have different heights, and grid columns can have different widths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9" name="" descr="A picture of a GUI that uses GridBagLayout"/>
          <p:cNvPicPr/>
          <p:nvPr/>
        </p:nvPicPr>
        <p:blipFill>
          <a:blip r:embed="rId1"/>
          <a:stretch/>
        </p:blipFill>
        <p:spPr>
          <a:xfrm>
            <a:off x="4475160" y="2127240"/>
            <a:ext cx="4400640" cy="28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9A3-3912-4FE6-A106-24FF5B3C04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GridLayout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Lucida Console"/>
              </a:rPr>
              <a:t>GridLayou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simply makes a bunch of components equal in size and displays them in the requested number of rows and colum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2" name="" descr="A picture of a GUI that uses GridLayout"/>
          <p:cNvPicPr/>
          <p:nvPr/>
        </p:nvPicPr>
        <p:blipFill>
          <a:blip r:embed="rId1"/>
          <a:stretch/>
        </p:blipFill>
        <p:spPr>
          <a:xfrm>
            <a:off x="1487520" y="3989520"/>
            <a:ext cx="591336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40B-09D0-4F17-BD3F-820440B914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3000" y="190440"/>
            <a:ext cx="8672400" cy="64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333-8086-4307-8335-E520342051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Using Layout Managers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layout manager is an object that implements the </a:t>
            </a:r>
            <a:r>
              <a:rPr b="0" lang="en-US" sz="2800" spc="-1" strike="noStrike">
                <a:solidFill>
                  <a:srgbClr val="0000ff"/>
                </a:solidFill>
                <a:latin typeface="Lucida Console"/>
              </a:rPr>
              <a:t>LayoutManag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terface and determines the size and position of the components within a contain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tting the Layout Manager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dding Components to a Container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viding Size and Alignment Hint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tting Space Between Component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tting the Container's Orientation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0E8-86D3-4DC7-8DCB-7E8C1D3572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SpringLayout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SpringLayout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is a flexible layout manager designed for use by GUI builders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t lets you specify precise relationships between the edges of components under its control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r example, you might define that the left edge of one component is a certain distance (which can be dynamically calculated) from the right edge of a second component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9" name="" descr="Another GUI that uses SpringLayout"/>
          <p:cNvPicPr/>
          <p:nvPr/>
        </p:nvPicPr>
        <p:blipFill>
          <a:blip r:embed="rId1"/>
          <a:stretch/>
        </p:blipFill>
        <p:spPr>
          <a:xfrm>
            <a:off x="3605040" y="4681440"/>
            <a:ext cx="2368800" cy="1763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A picture of a GUI that uses SpringLayout"/>
          <p:cNvPicPr/>
          <p:nvPr/>
        </p:nvPicPr>
        <p:blipFill>
          <a:blip r:embed="rId2"/>
          <a:stretch/>
        </p:blipFill>
        <p:spPr>
          <a:xfrm>
            <a:off x="1482840" y="3581280"/>
            <a:ext cx="6443640" cy="94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DA7-C6CC-4575-A70F-3DCF7C067F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Setting the Layout Manager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only containers whose layout managers you need to worry about are 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JPanels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and 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content panes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ach JPanel object is initialized to use a FlowLayout, unless you specify differently when creating the JPanel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ntent panes use BorderLayout by default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f you don't like the default layout manager that a panel or content pane uses, you're free to change it to a different one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o set a panel's layout manager using the JPanel constructor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JPanel panel = new JPanel(new BorderLayout());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fter a container has been created, you can set its layout manager using the setLayout method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Container contentPane = frame.getContentPane()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contentPane.setLayout(new FlowLayout());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668-20B4-4E02-AAF4-D77E653C2A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Adding Components to a Container</a:t>
            </a:r>
            <a:endParaRPr b="1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en you add components to a panel or content pane, the arguments you specify to the add method depend on the layout manager that the panel or content pane is using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 example, </a:t>
            </a:r>
            <a:r>
              <a:rPr b="0" lang="en-US" sz="3200" spc="-1" strike="noStrike">
                <a:solidFill>
                  <a:srgbClr val="0000ff"/>
                </a:solidFill>
                <a:latin typeface="Lucida Console"/>
              </a:rPr>
              <a:t>BorderLayou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s that you specify the area to which the component should be adde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pane.add(aComponent, BorderLayout.PAGE_START);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35C-8B16-4D54-BEAA-B4E4612FB2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Providing Size and Alignment hints</a:t>
            </a:r>
            <a:endParaRPr b="1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pecifying one or more of the minimum, preferred, and maximum sizes of the component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setMinimumSize, setPreferredSize, and setMaximumSiz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r you can create a subclass of the component that overrides the appropriate getter methods —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getMinimumSize, getPreferredSize,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 getMaximumSiz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ere is an example of making a component's maximum size unlimited: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component.setMaximumSize(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097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new Dimension(Integer.MAX_VALUE, Integer.MAX_VALUE));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ny layout managers don't pay attention to a component's requested maximum size. However, BoxLayout and SpringLayout do.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You set alignment hints either by invoking the component's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setAlignmentX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setAlignmentY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methods, or by overriding the component's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getAlignmentX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getAlignmentY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methods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lthough most layout managers ignore alignment hints,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BoxLayout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honors them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B6A-470A-4BC1-BE94-F5505543A6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Putting Space Between Components</a:t>
            </a:r>
            <a:endParaRPr b="1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ree factors influence the amount of space between visible components in a container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layout manager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ome layout managers automatically put space between components; others don't. Some let you specify the amount of space between components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visible component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You can create lightweight components that perform no painting, but that can take up space in the GUI. Often, you use invisible components in containers controlled by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BoxLayout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mpty border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 matter what the layout manager, you can affect the apparent amount of space between components by adding empty borders to components, such as panels and labels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9B0-AC1F-4D05-8B1D-5C57A77E53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Setting the Container’s Orientation</a:t>
            </a:r>
            <a:endParaRPr b="1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componentOrientation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property provides a way of indicating that a particular component should use something different from the default left-to-right, top-to-bottom orientation.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To set a container's orientation, you can use either the Component-defined method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setComponentOrientation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or, to set the orientation on the container's children as well,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pplyComponentOrientation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The argument to either method can be a constant such as: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omponentOrientation.RIGHT_TO_LEFT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or it can be a call to the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omponentOrientation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method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getOrientation(Locale)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or example, the following code causes all JComponents to be initialized with an Arabic-language locale, and then sets the orientation of the content pane and all components inside it accordingly: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JComponent.setDefaultLocale(new Locale("ar"))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JFrame frame = new JFrame();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...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ontainer contentPane = frame.getContentPane();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ontentPane.applyComponentOrientation( ComponentOrientation.getOrientation(contentPane.getLocale()));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The standard layout managers that support component orientation are FlowLayout, BorderLayout, BoxLayout, GridBagLayout, and GridLayout.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AFA-7DB5-4D0A-9488-98CA381AB6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Layout Managers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rderLayou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xLayou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rdLayou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lowLayou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ridBagLayou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ridLayou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pringLayou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023-9A49-4162-9402-CDE16F23B4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Setting the Container’s Orientation</a:t>
            </a:r>
            <a:endParaRPr b="1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2" name="" descr="FlowLayoutDemo with default, left-to-right orientation"/>
          <p:cNvPicPr/>
          <p:nvPr/>
        </p:nvPicPr>
        <p:blipFill>
          <a:blip r:embed="rId1"/>
          <a:stretch/>
        </p:blipFill>
        <p:spPr>
          <a:xfrm>
            <a:off x="687240" y="1790640"/>
            <a:ext cx="7631280" cy="1096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FlowLayoutDemo with right-to-left orientation"/>
          <p:cNvPicPr/>
          <p:nvPr/>
        </p:nvPicPr>
        <p:blipFill>
          <a:blip r:embed="rId2"/>
          <a:stretch/>
        </p:blipFill>
        <p:spPr>
          <a:xfrm>
            <a:off x="690480" y="4098960"/>
            <a:ext cx="7718400" cy="1109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56840" y="322416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left-to-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9080" y="53722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to-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11E-2BB8-4BA8-90F6-E1092B5211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Setting event (summary)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e next pag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7CA-900B-412E-85CD-42482C314E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0280" y="203040"/>
            <a:ext cx="8621640" cy="6450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52280" y="2971800"/>
            <a:ext cx="457200" cy="1219320"/>
          </a:xfrm>
          <a:custGeom>
            <a:avLst/>
            <a:gdLst/>
            <a:ahLst/>
            <a:rect l="l" t="t" r="r" b="b"/>
            <a:pathLst>
              <a:path w="288" h="768">
                <a:moveTo>
                  <a:pt x="288" y="0"/>
                </a:moveTo>
                <a:cubicBezTo>
                  <a:pt x="144" y="200"/>
                  <a:pt x="0" y="400"/>
                  <a:pt x="0" y="528"/>
                </a:cubicBezTo>
                <a:cubicBezTo>
                  <a:pt x="0" y="656"/>
                  <a:pt x="144" y="712"/>
                  <a:pt x="288" y="76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038480"/>
            <a:ext cx="4648320" cy="2438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A9F-DC7B-4D0A-A6D8-BAE53AFC6D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4160" y="228600"/>
            <a:ext cx="8634240" cy="6399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3886200"/>
            <a:ext cx="5105520" cy="2666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C42-47A3-4D4D-B474-6E5D752F60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BorderLayout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9160" y="1600200"/>
            <a:ext cx="819468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has five areas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se areas are specified by the BorderLayout constants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GE_START, PAGE_END, LINE_START, LINE_END,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 (Previously NORTH, SOUTH, EAST, WEST and CENTER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1" name="" descr="A snapshot of BorderLayoutDemo"/>
          <p:cNvPicPr/>
          <p:nvPr/>
        </p:nvPicPr>
        <p:blipFill>
          <a:blip r:embed="rId1"/>
          <a:stretch/>
        </p:blipFill>
        <p:spPr>
          <a:xfrm>
            <a:off x="1330200" y="3625920"/>
            <a:ext cx="6416640" cy="247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CB9-BB07-4165-8BA1-B927FE26C6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9440" y="355680"/>
            <a:ext cx="8383680" cy="614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A5F4-26AB-4AA6-99FB-E7F5CC572F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BoxLayout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8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Lucida Console"/>
              </a:rPr>
              <a:t>BoxLayout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ass puts components in a single row or column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t respects the components' requested maximum sizes and also lets you align component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5" name="" descr="A picture of a GUI that uses BoxLayout"/>
          <p:cNvPicPr/>
          <p:nvPr/>
        </p:nvPicPr>
        <p:blipFill>
          <a:blip r:embed="rId1"/>
          <a:stretch/>
        </p:blipFill>
        <p:spPr>
          <a:xfrm>
            <a:off x="4670280" y="2025720"/>
            <a:ext cx="3727440" cy="308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FEB-334C-4F19-A14D-DF8A9CDAF9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CardLayout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9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CardLayou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class lets you implement an area that contains different components at different times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CardLayou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s often controlled by a combo box, with the state of the combo box determining which panel (group of components) the </a:t>
            </a: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CardLayou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displays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8" name="" descr="Another picture of the same layout"/>
          <p:cNvPicPr/>
          <p:nvPr/>
        </p:nvPicPr>
        <p:blipFill>
          <a:blip r:embed="rId1"/>
          <a:stretch/>
        </p:blipFill>
        <p:spPr>
          <a:xfrm>
            <a:off x="4338720" y="4373640"/>
            <a:ext cx="4340160" cy="1654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A picture of a GUI that uses CardLayout"/>
          <p:cNvPicPr/>
          <p:nvPr/>
        </p:nvPicPr>
        <p:blipFill>
          <a:blip r:embed="rId2"/>
          <a:stretch/>
        </p:blipFill>
        <p:spPr>
          <a:xfrm>
            <a:off x="4317840" y="1698480"/>
            <a:ext cx="4334040" cy="165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F02-AA32-49FE-88F3-5A94F0C938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FlowLayout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Lucida Console"/>
              </a:rPr>
              <a:t>FlowLayout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the default layout manager for every </a:t>
            </a:r>
            <a:r>
              <a:rPr b="0" lang="en-US" sz="3200" spc="-1" strike="noStrike">
                <a:solidFill>
                  <a:srgbClr val="0000ff"/>
                </a:solidFill>
                <a:latin typeface="Lucida Console"/>
              </a:rPr>
              <a:t>JPanel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t simply lays out components in a single row, starting a new row if its container isn't sufficiently wide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2" name="" descr="A picture of a GUI that uses FlowLayout"/>
          <p:cNvPicPr/>
          <p:nvPr/>
        </p:nvPicPr>
        <p:blipFill>
          <a:blip r:embed="rId1"/>
          <a:stretch/>
        </p:blipFill>
        <p:spPr>
          <a:xfrm>
            <a:off x="457200" y="4621320"/>
            <a:ext cx="8172360" cy="11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43C-08A9-4A64-900E-39C09FC780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17520" y="604800"/>
            <a:ext cx="8432640" cy="57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D24-7FCB-4027-85D8-BC2736B287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1960" y="406440"/>
            <a:ext cx="8529840" cy="61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CE5-C3DD-4E50-ABB8-944F3DB157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04:43:56Z</dcterms:created>
  <dc:creator>user</dc:creator>
  <dc:description/>
  <dc:language>en-US</dc:language>
  <cp:lastModifiedBy>BenQ</cp:lastModifiedBy>
  <dcterms:modified xsi:type="dcterms:W3CDTF">2005-06-01T15:57:49Z</dcterms:modified>
  <cp:revision>9</cp:revision>
  <dc:subject/>
  <dc:title>Layout Manager</dc:title>
</cp:coreProperties>
</file>