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391-4848-445A-948C-871E29A3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D55-61BA-4A6A-ABA8-405A54B4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642-05B1-4FE2-B16D-AB79D1AA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4BA0-9788-4FB6-B9FB-7BE035CE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60FC-FB2A-4D0F-B18D-D934BEDC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12CC-0357-4F5F-A3B3-A1EADD0E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EBAD-B5D4-413F-967C-417BFDAD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6F86-BD0E-4DF9-95B7-0F8BD877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41A3-6D52-4BE6-8996-78EA2D4B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CE5B-F9ED-4B1A-B693-7BE3C4FF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7B07-1289-413A-9847-EE507710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AB1-FE5C-4292-A5C0-A6FF6AF0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EE2A-0A4F-4572-8BA9-FD0DB95E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808D-7589-4842-8AD3-2690EC85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4AE5-5223-4D94-BB26-019D94F2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4BD6-4CEF-4A02-89C7-65DBB53F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5638-1024-4B81-B8E1-B2F1B8D5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8A2-8373-4A5D-AC24-98F48F4E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816-2322-4E46-9FA5-D2C19154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353-7698-42D7-937A-67E6521C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054-60C6-4EEB-BFCB-67B853B2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C60-4322-4F6C-964C-E2204422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152-A09C-4BF1-8650-709A6F7E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1CD-B461-4335-9325-CA8D5232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2772-669C-4A8B-879B-34B56696A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8172-C4C9-4473-9A42-388C1CAE3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ating a GUI with JFC/Sw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of ac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31880" y="1890720"/>
          <a:ext cx="7054920" cy="3889440"/>
        </p:xfrm>
        <a:graphic>
          <a:graphicData uri="http://schemas.openxmlformats.org/drawingml/2006/table">
            <a:tbl>
              <a:tblPr/>
              <a:tblGrid>
                <a:gridCol w="4373640"/>
                <a:gridCol w="268128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 that results in the ev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ener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clicks a button, presses Return while typing in a text field, or chooses a menu i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Liste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closes a frame (main windo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dowListe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presses a mouse button while the cursor is over a compon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Liste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moves the mouse over a compon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MotionListe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How to implement an event handler 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new class that either implements a listener interface or extends a class that implements a listener interface (adapter cla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Listener implements ActionListen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How to implement an event handler 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 an instance of the event handler class as a listener upon one or mor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meComponent.addActionListener(anInstanceOfMyListen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How to implement an event handler 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all methods in the listener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actionPerformed(ActionEvent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de that reacts to the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Program App3 with event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 t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6.1. Register an event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Button.addActionListener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yExitButtonListener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1.addActionListener(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yButtonListener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1066680" y="380880"/>
            <a:ext cx="75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New classes that implement Action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yExitButtonListener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ActionEvent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yButtonListener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Performed(ActionEvent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p2.text.setText("A JButton has been pressed "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+count + " times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2666880" y="4267080"/>
            <a:ext cx="5257800" cy="893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2666880" y="5638680"/>
            <a:ext cx="5257800" cy="8938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050840" y="5375160"/>
            <a:ext cx="77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2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1828800" y="586728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1066680" y="5334120"/>
            <a:ext cx="762120" cy="99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inner clas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defined inside any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ble to access instance variables from the enclosing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event-handling code close to where event occ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event-handling class can inherit from other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y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er load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memory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620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Program App4 with event handling using inner 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yExitButtonListener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ctionPerformed(ActionEvent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yButtonListener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ctionListen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code for event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6.1. Register an event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Button.addActionListener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yExitButtonListener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1.addActionListener(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yButtonListener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620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Program App5 with event handling us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  anonymous inner 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6.1. Register an event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Button.addActionListener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ctionListene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ctionPerformed(ActionEvent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1.addActionListener(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ctionPerformed(ActionEvent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code for event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riting Event Listen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vent-listener methods should execute quickly.  Because all event-handling and drawing methods are executed in the same thr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action that need to be performed will take a long time, initialize as required and perform the rest in a new thread  (will cover lat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What are the JFC and Swing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F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Foundation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a group of features to help people build graphical user interfaces (GUI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for G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se Swing, you have to import javax.swing pack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Getting Event Info.: Event Object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Object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the root class of all event st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imes New Roman"/>
              </a:rPr>
              <a:t>get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Object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etSource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The object on which the Event initially occur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imes New Roman"/>
              </a:rPr>
              <a:t>to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ring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String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imes New Roman"/>
              </a:rPr>
              <a:t>Overri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toString in 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imes New Roman"/>
              </a:rPr>
              <a:t>Retu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A a String representation of this Event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isteners supported by Sw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nent liste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hanges in the component’s size, position, or visi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cus liste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whether the component gained or list the ability to receive keyboard in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ey liste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keypresses; key events are fired only by the component that has the current keyboard foc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use ev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ouse clicks and movement into or out of the component’s drawing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use-motion ev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hanges in the cursor’s position over the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Common Event-Handling Problem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nent does not generate the events it shou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 you register the right kind of listener to detect the ev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 you register the listener to the right obj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 you implement the event handler correct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calculator application that has buttons for 0 – 9, +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= signs.   It should have a display are that shows the res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y the program from (1) to have more functions such as, *, /, %, or handle real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221304"/>
                </a:solidFill>
                <a:latin typeface="Times New Roman"/>
              </a:rPr>
              <a:t>มาดูการวาดรูปกัน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หลักๆคือ สร้าง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 object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แล้วเติมมันลงไปในเฟ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เพราะฉะนั้น สิ่งที่ทำได้ง่ายๆ คื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เขียนคลาสซึ่ง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s 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จา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066320" y="457200"/>
            <a:ext cx="7620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 class RectangleComponent extends Jcomponent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override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ของเก่าตรงเมธอดนี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เมธอดนี้ถูกเรียกเมื่อ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ถูกใช้ครั้งแรก ถู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resize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หรือถูกแสดงหลังจา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paintComponent(Graphics g)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Straight Arrow Connector 4"/>
          <p:cNvCxnSpPr/>
          <p:nvPr/>
        </p:nvCxnSpPr>
        <p:spPr>
          <a:xfrm flipH="1">
            <a:off x="6705000" y="3809880"/>
            <a:ext cx="7668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5" name="TextBox 5"/>
          <p:cNvSpPr/>
          <p:nvPr/>
        </p:nvSpPr>
        <p:spPr>
          <a:xfrm>
            <a:off x="5791320" y="44197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ของการวาด เช่น สี ฟ้อนต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066320" y="304560"/>
            <a:ext cx="7620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void paintComponent(Graphics g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เวลาใช้จริง ต้องเป็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s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ใช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ting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เข้ามาช่ว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s2D g2 = (Graphics2D) g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angle box = new Rectangle(5,10,20,3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2.draw(bo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x.translate(15,2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2.draw(bo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221304"/>
                </a:solidFill>
                <a:latin typeface="Times New Roman"/>
              </a:rPr>
              <a:t>โค้ดในการใช้งาน 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in </a:t>
            </a:r>
            <a:r>
              <a:rPr b="0" lang="th-TH" sz="4400" spc="-1" strike="noStrike">
                <a:solidFill>
                  <a:srgbClr val="221304"/>
                </a:solidFill>
                <a:latin typeface="Times New Roman"/>
              </a:rPr>
              <a:t>จะเป็นดังนี้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36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Frame frame = new JFram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.setSize(300,40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.setDefaultCloseOperation(Jframe.EXIT_ON_CLOS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tangleComponent component = newRectangleComponen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.add(componen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.setVisible(tru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362480" cy="2800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What are the objects in an application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057400" y="2438280"/>
            <a:ext cx="4495680" cy="2971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505320" y="281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143000" y="1676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– the top-level contain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135160" y="2897280"/>
            <a:ext cx="4341960" cy="301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6018480" y="167652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u Bar -- 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105520" y="541008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 Pane – contains the visible components in the top-level container’s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447920" y="1981080"/>
            <a:ext cx="60948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 flipH="1">
            <a:off x="5105520" y="2057400"/>
            <a:ext cx="13716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7"/>
          <p:cNvSpPr/>
          <p:nvPr/>
        </p:nvSpPr>
        <p:spPr>
          <a:xfrm flipH="1" flipV="1">
            <a:off x="4876920" y="4648320"/>
            <a:ext cx="8380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How to make frames (main windows)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rame, an instance of the JFrame, is a window that typically has decorations such as a border, a title, and a buttons for closing and iconifying the wind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GUI components must be put into a contai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UI components can be contained only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rame has a content pane that contains the visibl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tional menu bar can be added to a top-level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990720" y="533520"/>
            <a:ext cx="76960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aw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x.swing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1. Optional: Specify who draws the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orations.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efault: native window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.setDefaultLookAndFeelDecorated(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2. Create a top-level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Frame("Application 1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3. Optional: What happens when the frame clos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(JFrame.EXIT_ON_CLOS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4. Optional: How the components are put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ram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er cp = frame.getContentPa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p.setLayout(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Layout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990720" y="609480"/>
            <a:ext cx="7696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 Create GUI/Swing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utton1 =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"A JButto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exitButton =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Button("  Exit 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TextField text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TextField("This is a text field.", 2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6. Put the components in th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p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add(button1, BorderLayout.W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p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add(text, BorderLayout.CENT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p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add(exitButton, BorderLayout.EA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 Set frame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   frame.setSize(int width, int hiegh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 Show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7011720" cy="1096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1447920" y="5181480"/>
            <a:ext cx="7175520" cy="10969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1373040" y="1981080"/>
            <a:ext cx="6886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.setDefaultLookAndFeelDecorated(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406520" y="4267080"/>
            <a:ext cx="6886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.setDefaultLookAndFeelDecorated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urier New"/>
                <a:ea typeface="Courier New"/>
              </a:rPr>
              <a:t>frame.pack()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4724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Courier New"/>
                <a:ea typeface="Courier New"/>
              </a:rPr>
              <a:t>frame.setSize(450, 200);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380988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4191120" y="4038480"/>
            <a:ext cx="2685960" cy="21495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4038480" y="3429000"/>
            <a:ext cx="4724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Courier New"/>
                <a:ea typeface="Courier New"/>
              </a:rPr>
              <a:t>frame.setSize(250, 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914400" y="2285640"/>
            <a:ext cx="7924680" cy="2133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un the applic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click on a button, or type in a text field and press enter, an event is gen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ing happen,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ke the program response to an action, you need to create a listener object that waits for a particular event to handle and modified the correspondence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05:30:21Z</dcterms:created>
  <dc:creator> AAAA</dc:creator>
  <dc:description/>
  <dc:language>en-US</dc:language>
  <cp:lastModifiedBy>Vishnu Kotrajaras</cp:lastModifiedBy>
  <dcterms:modified xsi:type="dcterms:W3CDTF">2010-08-11T01:46:31Z</dcterms:modified>
  <cp:revision>18</cp:revision>
  <dc:subject/>
  <dc:title>Creating a GUI with JFC/Swing</dc:title>
</cp:coreProperties>
</file>